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Steel 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C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ortique%20courant.ppt" TargetMode="External"/><Relationship Id="rId2" Type="http://schemas.openxmlformats.org/officeDocument/2006/relationships/hyperlink" Target="file:///Panne%20sabli&#232;re.ppt" TargetMode="External"/><Relationship Id="rId3" Type="http://schemas.openxmlformats.org/officeDocument/2006/relationships/hyperlink" Target="file:///Panne%20faiti&#232;re.ppt" TargetMode="External"/><Relationship Id="rId4" Type="http://schemas.openxmlformats.org/officeDocument/2006/relationships/hyperlink" Target="file:///Panne%20courante.ppt" TargetMode="External"/><Relationship Id="rId5" Type="http://schemas.openxmlformats.org/officeDocument/2006/relationships/hyperlink" Target="file:///Lisse%20de%20bardage.ppt" TargetMode="External"/><Relationship Id="rId6" Type="http://schemas.openxmlformats.org/officeDocument/2006/relationships/hyperlink" Target="file:///Potelets.ppt" TargetMode="External"/><Relationship Id="rId7" Type="http://schemas.openxmlformats.org/officeDocument/2006/relationships/hyperlink" Target="file:///Pal&#233;e%20de%20stabilit&#233;.ppt" TargetMode="External"/><Relationship Id="rId8" Type="http://schemas.openxmlformats.org/officeDocument/2006/relationships/hyperlink" Target="file:///Poutre%20au%20vent.ppt" TargetMode="External"/><Relationship Id="rId9" Type="http://schemas.openxmlformats.org/officeDocument/2006/relationships/slide" Target="slide2.xml"/><Relationship Id="rId10" Type="http://schemas.openxmlformats.org/officeDocument/2006/relationships/hyperlink" Target="file:///Portique%20de%20rive.ppt" TargetMode="External"/><Relationship Id="rId11" Type="http://schemas.openxmlformats.org/officeDocument/2006/relationships/hyperlink" Target="file:///Bardage.ppt" TargetMode="External"/><Relationship Id="rId12" Type="http://schemas.openxmlformats.org/officeDocument/2006/relationships/hyperlink" Target="file:///Bretelles.ppt" TargetMode="External"/><Relationship Id="rId13" Type="http://schemas.openxmlformats.org/officeDocument/2006/relationships/hyperlink" Target="file:///Tendeur%20de%20lisse.ppt" TargetMode="External"/><Relationship Id="rId14" Type="http://schemas.openxmlformats.org/officeDocument/2006/relationships/hyperlink" Target="file:///Liernes.ppt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1071720" y="1136520"/>
            <a:ext cx="3112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Eléments princip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5100480" y="1136520"/>
            <a:ext cx="311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Eléments second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147680" y="1082520"/>
            <a:ext cx="2960640" cy="530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5544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hoix du module à étud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655640" y="2468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/>
          </p:cNvPr>
          <p:cNvSpPr/>
          <p:nvPr/>
        </p:nvSpPr>
        <p:spPr>
          <a:xfrm>
            <a:off x="1717560" y="2535120"/>
            <a:ext cx="182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55640" y="2900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2"/>
          </p:cNvPr>
          <p:cNvSpPr/>
          <p:nvPr/>
        </p:nvSpPr>
        <p:spPr>
          <a:xfrm>
            <a:off x="1717560" y="2967120"/>
            <a:ext cx="182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55640" y="3332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3"/>
          </p:cNvPr>
          <p:cNvSpPr/>
          <p:nvPr/>
        </p:nvSpPr>
        <p:spPr>
          <a:xfrm>
            <a:off x="1717560" y="3398760"/>
            <a:ext cx="182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55640" y="37656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4"/>
          </p:cNvPr>
          <p:cNvSpPr/>
          <p:nvPr/>
        </p:nvSpPr>
        <p:spPr>
          <a:xfrm>
            <a:off x="1717560" y="3832200"/>
            <a:ext cx="182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55640" y="41972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5"/>
          </p:cNvPr>
          <p:cNvSpPr/>
          <p:nvPr/>
        </p:nvSpPr>
        <p:spPr>
          <a:xfrm>
            <a:off x="1717560" y="4264200"/>
            <a:ext cx="18208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55640" y="46292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6"/>
          </p:cNvPr>
          <p:cNvSpPr/>
          <p:nvPr/>
        </p:nvSpPr>
        <p:spPr>
          <a:xfrm>
            <a:off x="1717560" y="4695840"/>
            <a:ext cx="182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55640" y="5060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7"/>
          </p:cNvPr>
          <p:cNvSpPr/>
          <p:nvPr/>
        </p:nvSpPr>
        <p:spPr>
          <a:xfrm>
            <a:off x="1717560" y="5127480"/>
            <a:ext cx="182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55640" y="5492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8"/>
          </p:cNvPr>
          <p:cNvSpPr/>
          <p:nvPr/>
        </p:nvSpPr>
        <p:spPr>
          <a:xfrm>
            <a:off x="1717560" y="5559480"/>
            <a:ext cx="182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55640" y="16095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9" action="ppaction://hlinksldjump"/>
          </p:cNvPr>
          <p:cNvSpPr/>
          <p:nvPr/>
        </p:nvSpPr>
        <p:spPr>
          <a:xfrm>
            <a:off x="1681200" y="1677960"/>
            <a:ext cx="1893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55640" y="2036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0"/>
          </p:cNvPr>
          <p:cNvSpPr/>
          <p:nvPr/>
        </p:nvSpPr>
        <p:spPr>
          <a:xfrm>
            <a:off x="1681200" y="2109960"/>
            <a:ext cx="18939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55640" y="59310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1"/>
          </p:cNvPr>
          <p:cNvSpPr/>
          <p:nvPr/>
        </p:nvSpPr>
        <p:spPr>
          <a:xfrm>
            <a:off x="1717560" y="5997600"/>
            <a:ext cx="1820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84760" y="24843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2"/>
          </p:cNvPr>
          <p:cNvSpPr/>
          <p:nvPr/>
        </p:nvSpPr>
        <p:spPr>
          <a:xfrm>
            <a:off x="5740560" y="2550960"/>
            <a:ext cx="183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et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84760" y="2917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6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40560" y="2984400"/>
            <a:ext cx="183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84760" y="33512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40560" y="3417840"/>
            <a:ext cx="183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Susp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84760" y="37861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3"/>
          </p:cNvPr>
          <p:cNvSpPr/>
          <p:nvPr/>
        </p:nvSpPr>
        <p:spPr>
          <a:xfrm>
            <a:off x="5740560" y="3852720"/>
            <a:ext cx="183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ndeur de l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84760" y="16095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4"/>
          </p:cNvPr>
          <p:cNvSpPr/>
          <p:nvPr/>
        </p:nvSpPr>
        <p:spPr>
          <a:xfrm>
            <a:off x="5703840" y="1677960"/>
            <a:ext cx="1906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e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84760" y="204300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03840" y="2116080"/>
            <a:ext cx="1906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Poutre de 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76800" y="1082520"/>
            <a:ext cx="2960640" cy="321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758880"/>
            <a:ext cx="914400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liquer sur le bouton du module à étu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endshow"/>
          </p:cNvPr>
          <p:cNvSpPr/>
          <p:nvPr/>
        </p:nvSpPr>
        <p:spPr>
          <a:xfrm>
            <a:off x="8636040" y="63500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15120" y="6429240"/>
            <a:ext cx="1449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Arrêt de Steel</a:t>
            </a:r>
            <a:r>
              <a:rPr b="1" lang="fr-FR" sz="1600" spc="-1" strike="noStrike" baseline="-25000">
                <a:solidFill>
                  <a:srgbClr val="00cc99"/>
                </a:solidFill>
                <a:latin typeface="Arial"/>
              </a:rPr>
              <a:t>C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3000" y="6272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8520" y="661032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4481640"/>
            <a:ext cx="2692440" cy="923760"/>
          </a:xfrm>
          <a:custGeom>
            <a:avLst/>
            <a:gdLst>
              <a:gd name="textAreaLeft" fmla="*/ 59760 w 2692440"/>
              <a:gd name="textAreaRight" fmla="*/ 2632680 w 2692440"/>
              <a:gd name="textAreaTop" fmla="*/ 59760 h 923760"/>
              <a:gd name="textAreaBottom" fmla="*/ 864000 h 923760"/>
            </a:gdLst>
            <a:ahLst/>
            <a:rect l="textAreaLeft" t="textAreaTop" r="textAreaRight" b="textAreaBottom"/>
            <a:pathLst>
              <a:path w="62940" h="21600">
                <a:moveTo>
                  <a:pt x="0" y="0"/>
                </a:moveTo>
                <a:lnTo>
                  <a:pt x="62940" y="0"/>
                </a:lnTo>
                <a:lnTo>
                  <a:pt x="62940" y="21600"/>
                </a:lnTo>
                <a:lnTo>
                  <a:pt x="0" y="21600"/>
                </a:lnTo>
                <a:close/>
              </a:path>
              <a:path fill="lightenLess" w="62940" h="21600">
                <a:moveTo>
                  <a:pt x="0" y="0"/>
                </a:moveTo>
                <a:lnTo>
                  <a:pt x="62940" y="0"/>
                </a:lnTo>
                <a:lnTo>
                  <a:pt x="61540" y="1400"/>
                </a:lnTo>
                <a:lnTo>
                  <a:pt x="1400" y="1400"/>
                </a:lnTo>
                <a:close/>
              </a:path>
              <a:path fill="darken" w="62940" h="21600">
                <a:moveTo>
                  <a:pt x="62940" y="0"/>
                </a:moveTo>
                <a:lnTo>
                  <a:pt x="62940" y="21600"/>
                </a:lnTo>
                <a:lnTo>
                  <a:pt x="61540" y="20200"/>
                </a:lnTo>
                <a:lnTo>
                  <a:pt x="61540" y="1400"/>
                </a:lnTo>
                <a:close/>
              </a:path>
              <a:path fill="darkenLess" w="62940" h="21600">
                <a:moveTo>
                  <a:pt x="629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40" y="20200"/>
                </a:lnTo>
                <a:close/>
              </a:path>
              <a:path fill="lighten" w="629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51400" y="4545000"/>
            <a:ext cx="2575080" cy="78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Terminologie des différents élé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71640" y="1844640"/>
            <a:ext cx="70200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odule non disponible actuellem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ésolé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8531280" y="6237360"/>
            <a:ext cx="439560" cy="439560"/>
          </a:xfrm>
          <a:custGeom>
            <a:avLst/>
            <a:gdLst>
              <a:gd name="textAreaLeft" fmla="*/ 28440 w 439560"/>
              <a:gd name="textAreaRight" fmla="*/ 411120 w 439560"/>
              <a:gd name="textAreaTop" fmla="*/ 28440 h 439560"/>
              <a:gd name="textAreaBottom" fmla="*/ 411120 h 43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hoix du module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10:47:34Z</dcterms:created>
  <dc:creator>Jean-Pierre Muzeau</dc:creator>
  <dc:description/>
  <dc:language>en-US</dc:language>
  <cp:lastModifiedBy>Muzeau Jean-Pierre</cp:lastModifiedBy>
  <dcterms:modified xsi:type="dcterms:W3CDTF">2003-10-21T20:58:06Z</dcterms:modified>
  <cp:revision>132</cp:revision>
  <dc:subject/>
  <dc:title>Présentation générale</dc:title>
</cp:coreProperties>
</file>