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2.gif" ContentType="image/gif"/>
  <Override PartName="/ppt/media/image10.png" ContentType="image/png"/>
  <Override PartName="/ppt/media/image5.wmf" ContentType="image/x-wmf"/>
  <Override PartName="/ppt/media/image13.wmf" ContentType="image/x-wmf"/>
  <Override PartName="/ppt/media/image18.wmf" ContentType="image/x-wmf"/>
  <Override PartName="/ppt/media/image14.gif" ContentType="image/gif"/>
  <Override PartName="/ppt/media/image1.wmf" ContentType="image/x-wmf"/>
  <Override PartName="/ppt/media/image2.jpeg" ContentType="image/jpeg"/>
  <Override PartName="/ppt/media/image3.gif" ContentType="image/gif"/>
  <Override PartName="/ppt/media/image7.png" ContentType="image/png"/>
  <Override PartName="/ppt/media/image15.wmf" ContentType="image/x-wmf"/>
  <Override PartName="/ppt/media/image4.gif" ContentType="image/gif"/>
  <Override PartName="/ppt/media/image8.png" ContentType="image/png"/>
  <Override PartName="/ppt/media/image16.wmf" ContentType="image/x-wmf"/>
  <Override PartName="/ppt/media/image11.gif" ContentType="image/gif"/>
  <Override PartName="/ppt/media/image9.png" ContentType="image/png"/>
  <Override PartName="/ppt/media/image17.wmf" ContentType="image/x-wmf"/>
  <Override PartName="/ppt/media/image6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89550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Poutre au vent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Steel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Comic Sans MS"/>
              </a:rPr>
              <a:t>CU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" Target="slide38.xml"/><Relationship Id="rId3" Type="http://schemas.openxmlformats.org/officeDocument/2006/relationships/slide" Target="slide42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" Target="slide14.xml"/><Relationship Id="rId3" Type="http://schemas.openxmlformats.org/officeDocument/2006/relationships/slide" Target="slide38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" Target="slide38.xml"/><Relationship Id="rId3" Type="http://schemas.openxmlformats.org/officeDocument/2006/relationships/slide" Target="slide39.xml"/><Relationship Id="rId4" Type="http://schemas.openxmlformats.org/officeDocument/2006/relationships/slide" Target="slide41.xml"/><Relationship Id="rId5" Type="http://schemas.openxmlformats.org/officeDocument/2006/relationships/slide" Target="slide36.xml"/><Relationship Id="rId6" Type="http://schemas.openxmlformats.org/officeDocument/2006/relationships/slide" Target="slide35.xml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slide" Target="slide18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18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18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" Target="slide38.xml"/><Relationship Id="rId3" Type="http://schemas.openxmlformats.org/officeDocument/2006/relationships/slide" Target="slide39.xml"/><Relationship Id="rId4" Type="http://schemas.openxmlformats.org/officeDocument/2006/relationships/slide" Target="slide40.xml"/><Relationship Id="rId5" Type="http://schemas.openxmlformats.org/officeDocument/2006/relationships/slide" Target="slide41.xml"/><Relationship Id="rId6" Type="http://schemas.openxmlformats.org/officeDocument/2006/relationships/slide" Target="slide42.xml"/><Relationship Id="rId7" Type="http://schemas.openxmlformats.org/officeDocument/2006/relationships/slide" Target="slide44.xml"/><Relationship Id="rId8" Type="http://schemas.openxmlformats.org/officeDocument/2006/relationships/slide" Target="slide35.xml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" Target="slide19.xml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18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" Target="slide19.xml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" Target="slide18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18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19.xml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" Target="slide19.xml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" Target="slide19.xml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18.xml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" Target="slide38.xml"/><Relationship Id="rId3" Type="http://schemas.openxmlformats.org/officeDocument/2006/relationships/slide" Target="slide39.xml"/><Relationship Id="rId4" Type="http://schemas.openxmlformats.org/officeDocument/2006/relationships/slide" Target="slide40.xml"/><Relationship Id="rId5" Type="http://schemas.openxmlformats.org/officeDocument/2006/relationships/slide" Target="slide41.xml"/><Relationship Id="rId6" Type="http://schemas.openxmlformats.org/officeDocument/2006/relationships/slide" Target="slide43.xml"/><Relationship Id="rId7" Type="http://schemas.openxmlformats.org/officeDocument/2006/relationships/slide" Target="slide44.xml"/><Relationship Id="rId8" Type="http://schemas.openxmlformats.org/officeDocument/2006/relationships/slide" Target="slide35.xml"/><Relationship Id="rId9" Type="http://schemas.openxmlformats.org/officeDocument/2006/relationships/slide" Target="slide36.xml"/><Relationship Id="rId10" Type="http://schemas.openxmlformats.org/officeDocument/2006/relationships/slide" Target="slide45.xml"/><Relationship Id="rId1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343836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POUTRE AU V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" name=""/>
          <p:cNvGraphicFramePr/>
          <p:nvPr/>
        </p:nvGraphicFramePr>
        <p:xfrm>
          <a:off x="3751200" y="4998960"/>
          <a:ext cx="1559160" cy="81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51200" y="4998960"/>
                    <a:ext cx="1559160" cy="817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40186" dir="1096358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40" name=""/>
          <p:cNvSpPr/>
          <p:nvPr/>
        </p:nvSpPr>
        <p:spPr>
          <a:xfrm>
            <a:off x="0" y="6651720"/>
            <a:ext cx="9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Scénario </a:t>
            </a: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: Jean-Pierre Muzeau</a:t>
            </a:r>
            <a:r>
              <a:rPr b="1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                                                    Mise sous forme PowerPoint </a:t>
            </a: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: Cédric Brassier  (CUST - Promo 2003) et Jean-Pierre Muzea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>
            <a:hlinkClick r:id="" action="ppaction://hlinkshowjump?jump=nextslide"/>
          </p:cNvPr>
          <p:cNvSpPr/>
          <p:nvPr/>
        </p:nvSpPr>
        <p:spPr>
          <a:xfrm>
            <a:off x="8659800" y="61228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9200" y="615636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Dép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350040" y="0"/>
            <a:ext cx="2793960" cy="11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r" pos="89550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fr-FR" sz="3600" spc="-1" strike="noStrike">
                <a:solidFill>
                  <a:srgbClr val="3333cc"/>
                </a:solidFill>
                <a:latin typeface="Comic Sans MS"/>
              </a:rPr>
              <a:t>Steel</a:t>
            </a:r>
            <a:r>
              <a:rPr b="0" lang="fr-FR" sz="4800" spc="-1" strike="noStrike" baseline="-25000">
                <a:solidFill>
                  <a:srgbClr val="3333cc"/>
                </a:solidFill>
                <a:latin typeface="Comic Sans MS"/>
              </a:rPr>
              <a:t>CU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rcRect l="11665" t="17804" r="33332" b="45786"/>
          <a:stretch/>
        </p:blipFill>
        <p:spPr>
          <a:xfrm>
            <a:off x="2178000" y="1028880"/>
            <a:ext cx="4788000" cy="2076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6" name=""/>
          <p:cNvSpPr/>
          <p:nvPr/>
        </p:nvSpPr>
        <p:spPr>
          <a:xfrm flipV="1">
            <a:off x="0" y="6566040"/>
            <a:ext cx="9144000" cy="2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"/>
          <p:cNvSpPr/>
          <p:nvPr/>
        </p:nvSpPr>
        <p:spPr>
          <a:xfrm>
            <a:off x="1149480" y="324000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ent longitud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4954680" y="334332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4983120" y="3408480"/>
            <a:ext cx="693720" cy="2156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1185840" y="757080"/>
            <a:ext cx="662616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eul type de charges repris par une poutre au vent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628560" y="661176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Suiv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>
            <a:hlinkClick r:id="" action="ppaction://hlinkshowjump?jump=nextslide"/>
          </p:cNvPr>
          <p:cNvSpPr/>
          <p:nvPr/>
        </p:nvSpPr>
        <p:spPr>
          <a:xfrm>
            <a:off x="765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3" name=""/>
          <p:cNvGrpSpPr/>
          <p:nvPr/>
        </p:nvGrpSpPr>
        <p:grpSpPr>
          <a:xfrm>
            <a:off x="5487840" y="4856040"/>
            <a:ext cx="3341520" cy="1968480"/>
            <a:chOff x="5487840" y="4856040"/>
            <a:chExt cx="3341520" cy="1968480"/>
          </a:xfrm>
        </p:grpSpPr>
        <p:grpSp>
          <p:nvGrpSpPr>
            <p:cNvPr id="1484" name=""/>
            <p:cNvGrpSpPr/>
            <p:nvPr/>
          </p:nvGrpSpPr>
          <p:grpSpPr>
            <a:xfrm>
              <a:off x="6340320" y="4986360"/>
              <a:ext cx="2466360" cy="1428840"/>
              <a:chOff x="6340320" y="4986360"/>
              <a:chExt cx="2466360" cy="1428840"/>
            </a:xfrm>
          </p:grpSpPr>
          <p:grpSp>
            <p:nvGrpSpPr>
              <p:cNvPr id="1485" name=""/>
              <p:cNvGrpSpPr/>
              <p:nvPr/>
            </p:nvGrpSpPr>
            <p:grpSpPr>
              <a:xfrm>
                <a:off x="7220520" y="4986360"/>
                <a:ext cx="1586160" cy="534960"/>
                <a:chOff x="7220520" y="4986360"/>
                <a:chExt cx="1586160" cy="534960"/>
              </a:xfrm>
            </p:grpSpPr>
            <p:sp>
              <p:nvSpPr>
                <p:cNvPr id="1486" name=""/>
                <p:cNvSpPr/>
                <p:nvPr/>
              </p:nvSpPr>
              <p:spPr>
                <a:xfrm>
                  <a:off x="7236360" y="4986360"/>
                  <a:ext cx="1570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7" name=""/>
                <p:cNvSpPr/>
                <p:nvPr/>
              </p:nvSpPr>
              <p:spPr>
                <a:xfrm>
                  <a:off x="7232400" y="5142600"/>
                  <a:ext cx="1570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8" name=""/>
                <p:cNvSpPr/>
                <p:nvPr/>
              </p:nvSpPr>
              <p:spPr>
                <a:xfrm>
                  <a:off x="7226640" y="5399640"/>
                  <a:ext cx="15778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9" name=""/>
                <p:cNvSpPr/>
                <p:nvPr/>
              </p:nvSpPr>
              <p:spPr>
                <a:xfrm>
                  <a:off x="7232760" y="5271120"/>
                  <a:ext cx="15717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0" name=""/>
                <p:cNvSpPr/>
                <p:nvPr/>
              </p:nvSpPr>
              <p:spPr>
                <a:xfrm>
                  <a:off x="7220520" y="5521320"/>
                  <a:ext cx="1570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1" name=""/>
              <p:cNvGrpSpPr/>
              <p:nvPr/>
            </p:nvGrpSpPr>
            <p:grpSpPr>
              <a:xfrm>
                <a:off x="6340320" y="5871960"/>
                <a:ext cx="1578960" cy="543240"/>
                <a:chOff x="6340320" y="5871960"/>
                <a:chExt cx="1578960" cy="543240"/>
              </a:xfrm>
            </p:grpSpPr>
            <p:sp>
              <p:nvSpPr>
                <p:cNvPr id="1492" name=""/>
                <p:cNvSpPr/>
                <p:nvPr/>
              </p:nvSpPr>
              <p:spPr>
                <a:xfrm>
                  <a:off x="7403760" y="6415200"/>
                  <a:ext cx="5112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3" name=""/>
                <p:cNvSpPr/>
                <p:nvPr/>
              </p:nvSpPr>
              <p:spPr>
                <a:xfrm>
                  <a:off x="6348600" y="5871960"/>
                  <a:ext cx="15706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4" name=""/>
                <p:cNvSpPr/>
                <p:nvPr/>
              </p:nvSpPr>
              <p:spPr>
                <a:xfrm>
                  <a:off x="6344280" y="6028200"/>
                  <a:ext cx="15706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5" name=""/>
                <p:cNvSpPr/>
                <p:nvPr/>
              </p:nvSpPr>
              <p:spPr>
                <a:xfrm>
                  <a:off x="7401240" y="6285240"/>
                  <a:ext cx="5155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6" name=""/>
                <p:cNvSpPr/>
                <p:nvPr/>
              </p:nvSpPr>
              <p:spPr>
                <a:xfrm>
                  <a:off x="6340320" y="6156720"/>
                  <a:ext cx="517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7" name=""/>
                <p:cNvSpPr/>
                <p:nvPr/>
              </p:nvSpPr>
              <p:spPr>
                <a:xfrm>
                  <a:off x="7401240" y="6156720"/>
                  <a:ext cx="5155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8" name=""/>
                <p:cNvSpPr/>
                <p:nvPr/>
              </p:nvSpPr>
              <p:spPr>
                <a:xfrm>
                  <a:off x="6344280" y="6285240"/>
                  <a:ext cx="517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9" name=""/>
                <p:cNvSpPr/>
                <p:nvPr/>
              </p:nvSpPr>
              <p:spPr>
                <a:xfrm>
                  <a:off x="6344280" y="6412320"/>
                  <a:ext cx="5112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00" name=""/>
            <p:cNvGrpSpPr/>
            <p:nvPr/>
          </p:nvGrpSpPr>
          <p:grpSpPr>
            <a:xfrm>
              <a:off x="6297480" y="5532480"/>
              <a:ext cx="2531880" cy="968400"/>
              <a:chOff x="6297480" y="5532480"/>
              <a:chExt cx="2531880" cy="968400"/>
            </a:xfrm>
          </p:grpSpPr>
          <p:grpSp>
            <p:nvGrpSpPr>
              <p:cNvPr id="1501" name=""/>
              <p:cNvGrpSpPr/>
              <p:nvPr/>
            </p:nvGrpSpPr>
            <p:grpSpPr>
              <a:xfrm>
                <a:off x="6449760" y="5700600"/>
                <a:ext cx="664560" cy="655920"/>
                <a:chOff x="6449760" y="5700600"/>
                <a:chExt cx="664560" cy="655920"/>
              </a:xfrm>
            </p:grpSpPr>
            <p:sp>
              <p:nvSpPr>
                <p:cNvPr id="1502" name=""/>
                <p:cNvSpPr/>
                <p:nvPr/>
              </p:nvSpPr>
              <p:spPr>
                <a:xfrm>
                  <a:off x="7041600" y="5700600"/>
                  <a:ext cx="7272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3" name=""/>
                <p:cNvSpPr/>
                <p:nvPr/>
              </p:nvSpPr>
              <p:spPr>
                <a:xfrm>
                  <a:off x="6890400" y="5838120"/>
                  <a:ext cx="72720" cy="73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4" name=""/>
                <p:cNvSpPr/>
                <p:nvPr/>
              </p:nvSpPr>
              <p:spPr>
                <a:xfrm>
                  <a:off x="6745680" y="5981040"/>
                  <a:ext cx="7272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5" name=""/>
                <p:cNvSpPr/>
                <p:nvPr/>
              </p:nvSpPr>
              <p:spPr>
                <a:xfrm>
                  <a:off x="6596280" y="6129360"/>
                  <a:ext cx="7308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6" name=""/>
                <p:cNvSpPr/>
                <p:nvPr/>
              </p:nvSpPr>
              <p:spPr>
                <a:xfrm>
                  <a:off x="6449760" y="6283800"/>
                  <a:ext cx="7272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7" name=""/>
              <p:cNvGrpSpPr/>
              <p:nvPr/>
            </p:nvGrpSpPr>
            <p:grpSpPr>
              <a:xfrm>
                <a:off x="8026560" y="5688720"/>
                <a:ext cx="654120" cy="663120"/>
                <a:chOff x="8026560" y="5688720"/>
                <a:chExt cx="654120" cy="663120"/>
              </a:xfrm>
            </p:grpSpPr>
            <p:sp>
              <p:nvSpPr>
                <p:cNvPr id="1508" name=""/>
                <p:cNvSpPr/>
                <p:nvPr/>
              </p:nvSpPr>
              <p:spPr>
                <a:xfrm>
                  <a:off x="8607960" y="5688720"/>
                  <a:ext cx="7272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9" name=""/>
                <p:cNvSpPr/>
                <p:nvPr/>
              </p:nvSpPr>
              <p:spPr>
                <a:xfrm>
                  <a:off x="8461800" y="5833440"/>
                  <a:ext cx="7308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0" name=""/>
                <p:cNvSpPr/>
                <p:nvPr/>
              </p:nvSpPr>
              <p:spPr>
                <a:xfrm>
                  <a:off x="8317080" y="5976000"/>
                  <a:ext cx="7272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1" name=""/>
                <p:cNvSpPr/>
                <p:nvPr/>
              </p:nvSpPr>
              <p:spPr>
                <a:xfrm>
                  <a:off x="8164440" y="6124320"/>
                  <a:ext cx="7488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2" name=""/>
                <p:cNvSpPr/>
                <p:nvPr/>
              </p:nvSpPr>
              <p:spPr>
                <a:xfrm>
                  <a:off x="8026560" y="6279120"/>
                  <a:ext cx="7272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3" name=""/>
              <p:cNvGrpSpPr/>
              <p:nvPr/>
            </p:nvGrpSpPr>
            <p:grpSpPr>
              <a:xfrm>
                <a:off x="7181640" y="5532480"/>
                <a:ext cx="1647720" cy="74880"/>
                <a:chOff x="7181640" y="5532480"/>
                <a:chExt cx="1647720" cy="74880"/>
              </a:xfrm>
            </p:grpSpPr>
            <p:sp>
              <p:nvSpPr>
                <p:cNvPr id="1514" name=""/>
                <p:cNvSpPr/>
                <p:nvPr/>
              </p:nvSpPr>
              <p:spPr>
                <a:xfrm>
                  <a:off x="8756640" y="553428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5" name=""/>
                <p:cNvSpPr/>
                <p:nvPr/>
              </p:nvSpPr>
              <p:spPr>
                <a:xfrm>
                  <a:off x="7181640" y="5532480"/>
                  <a:ext cx="7308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>
                  <a:off x="8241840" y="5532480"/>
                  <a:ext cx="7308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"/>
                <p:cNvSpPr/>
                <p:nvPr/>
              </p:nvSpPr>
              <p:spPr>
                <a:xfrm>
                  <a:off x="7448040" y="553248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8" name=""/>
                <p:cNvSpPr/>
                <p:nvPr/>
              </p:nvSpPr>
              <p:spPr>
                <a:xfrm>
                  <a:off x="7694640" y="553248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9" name=""/>
                <p:cNvSpPr/>
                <p:nvPr/>
              </p:nvSpPr>
              <p:spPr>
                <a:xfrm>
                  <a:off x="7957440" y="553248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0" name=""/>
                <p:cNvSpPr/>
                <p:nvPr/>
              </p:nvSpPr>
              <p:spPr>
                <a:xfrm>
                  <a:off x="8505360" y="553248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1" name=""/>
              <p:cNvGrpSpPr/>
              <p:nvPr/>
            </p:nvGrpSpPr>
            <p:grpSpPr>
              <a:xfrm>
                <a:off x="6297480" y="6427800"/>
                <a:ext cx="1644480" cy="73080"/>
                <a:chOff x="6297480" y="6427800"/>
                <a:chExt cx="1644480" cy="73080"/>
              </a:xfrm>
            </p:grpSpPr>
            <p:sp>
              <p:nvSpPr>
                <p:cNvPr id="1522" name=""/>
                <p:cNvSpPr/>
                <p:nvPr/>
              </p:nvSpPr>
              <p:spPr>
                <a:xfrm>
                  <a:off x="7868880" y="6427800"/>
                  <a:ext cx="7308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3" name=""/>
                <p:cNvSpPr/>
                <p:nvPr/>
              </p:nvSpPr>
              <p:spPr>
                <a:xfrm>
                  <a:off x="6297480" y="642780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4" name=""/>
                <p:cNvSpPr/>
                <p:nvPr/>
              </p:nvSpPr>
              <p:spPr>
                <a:xfrm>
                  <a:off x="6561720" y="642780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5" name=""/>
                <p:cNvSpPr/>
                <p:nvPr/>
              </p:nvSpPr>
              <p:spPr>
                <a:xfrm>
                  <a:off x="6813720" y="642780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6" name=""/>
                <p:cNvSpPr/>
                <p:nvPr/>
              </p:nvSpPr>
              <p:spPr>
                <a:xfrm>
                  <a:off x="7360200" y="642780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7" name=""/>
                <p:cNvSpPr/>
                <p:nvPr/>
              </p:nvSpPr>
              <p:spPr>
                <a:xfrm>
                  <a:off x="7612560" y="642780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28" name=""/>
            <p:cNvGrpSpPr/>
            <p:nvPr/>
          </p:nvGrpSpPr>
          <p:grpSpPr>
            <a:xfrm>
              <a:off x="6338880" y="4856040"/>
              <a:ext cx="2462040" cy="1555920"/>
              <a:chOff x="6338880" y="4856040"/>
              <a:chExt cx="2462040" cy="1555920"/>
            </a:xfrm>
          </p:grpSpPr>
          <p:sp>
            <p:nvSpPr>
              <p:cNvPr id="1529" name=""/>
              <p:cNvSpPr/>
              <p:nvPr/>
            </p:nvSpPr>
            <p:spPr>
              <a:xfrm>
                <a:off x="7130160" y="5754600"/>
                <a:ext cx="0" cy="2710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30" name=""/>
              <p:cNvGrpSpPr/>
              <p:nvPr/>
            </p:nvGrpSpPr>
            <p:grpSpPr>
              <a:xfrm>
                <a:off x="6338880" y="4856040"/>
                <a:ext cx="2462040" cy="1555920"/>
                <a:chOff x="6338880" y="4856040"/>
                <a:chExt cx="2462040" cy="1555920"/>
              </a:xfrm>
            </p:grpSpPr>
            <p:grpSp>
              <p:nvGrpSpPr>
                <p:cNvPr id="1531" name=""/>
                <p:cNvGrpSpPr/>
                <p:nvPr/>
              </p:nvGrpSpPr>
              <p:grpSpPr>
                <a:xfrm>
                  <a:off x="7229880" y="4856040"/>
                  <a:ext cx="1571040" cy="662400"/>
                  <a:chOff x="7229880" y="4856040"/>
                  <a:chExt cx="1571040" cy="662400"/>
                </a:xfrm>
              </p:grpSpPr>
              <p:sp>
                <p:nvSpPr>
                  <p:cNvPr id="1532" name=""/>
                  <p:cNvSpPr/>
                  <p:nvPr/>
                </p:nvSpPr>
                <p:spPr>
                  <a:xfrm>
                    <a:off x="8549640" y="4938120"/>
                    <a:ext cx="0" cy="5803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3" name=""/>
                  <p:cNvSpPr/>
                  <p:nvPr/>
                </p:nvSpPr>
                <p:spPr>
                  <a:xfrm>
                    <a:off x="8800920" y="4981680"/>
                    <a:ext cx="0" cy="5367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4" name=""/>
                  <p:cNvSpPr/>
                  <p:nvPr/>
                </p:nvSpPr>
                <p:spPr>
                  <a:xfrm>
                    <a:off x="8287200" y="4903560"/>
                    <a:ext cx="0" cy="614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5" name=""/>
                  <p:cNvSpPr/>
                  <p:nvPr/>
                </p:nvSpPr>
                <p:spPr>
                  <a:xfrm>
                    <a:off x="8015760" y="4856040"/>
                    <a:ext cx="0" cy="6624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6" name=""/>
                  <p:cNvSpPr/>
                  <p:nvPr/>
                </p:nvSpPr>
                <p:spPr>
                  <a:xfrm>
                    <a:off x="7743240" y="4897800"/>
                    <a:ext cx="0" cy="6206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7" name=""/>
                  <p:cNvSpPr/>
                  <p:nvPr/>
                </p:nvSpPr>
                <p:spPr>
                  <a:xfrm>
                    <a:off x="7229880" y="4979160"/>
                    <a:ext cx="0" cy="5392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8" name=""/>
                  <p:cNvSpPr/>
                  <p:nvPr/>
                </p:nvSpPr>
                <p:spPr>
                  <a:xfrm>
                    <a:off x="7492320" y="4942080"/>
                    <a:ext cx="0" cy="576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39" name=""/>
                <p:cNvGrpSpPr/>
                <p:nvPr/>
              </p:nvGrpSpPr>
              <p:grpSpPr>
                <a:xfrm>
                  <a:off x="6338880" y="5788440"/>
                  <a:ext cx="1576080" cy="623520"/>
                  <a:chOff x="6338880" y="5788440"/>
                  <a:chExt cx="1576080" cy="623520"/>
                </a:xfrm>
              </p:grpSpPr>
              <p:sp>
                <p:nvSpPr>
                  <p:cNvPr id="1540" name=""/>
                  <p:cNvSpPr/>
                  <p:nvPr/>
                </p:nvSpPr>
                <p:spPr>
                  <a:xfrm>
                    <a:off x="7663680" y="5828760"/>
                    <a:ext cx="0" cy="583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1" name=""/>
                  <p:cNvSpPr/>
                  <p:nvPr/>
                </p:nvSpPr>
                <p:spPr>
                  <a:xfrm>
                    <a:off x="7914960" y="5869800"/>
                    <a:ext cx="0" cy="5367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2" name=""/>
                  <p:cNvSpPr/>
                  <p:nvPr/>
                </p:nvSpPr>
                <p:spPr>
                  <a:xfrm>
                    <a:off x="7401600" y="5791680"/>
                    <a:ext cx="0" cy="6177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3" name=""/>
                  <p:cNvSpPr/>
                  <p:nvPr/>
                </p:nvSpPr>
                <p:spPr>
                  <a:xfrm>
                    <a:off x="6857640" y="5788440"/>
                    <a:ext cx="0" cy="621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4" name=""/>
                  <p:cNvSpPr/>
                  <p:nvPr/>
                </p:nvSpPr>
                <p:spPr>
                  <a:xfrm flipH="1">
                    <a:off x="6338880" y="5867280"/>
                    <a:ext cx="5040" cy="5446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5" name=""/>
                  <p:cNvSpPr/>
                  <p:nvPr/>
                </p:nvSpPr>
                <p:spPr>
                  <a:xfrm>
                    <a:off x="6606720" y="5832720"/>
                    <a:ext cx="0" cy="5763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546" name=""/>
            <p:cNvGrpSpPr/>
            <p:nvPr/>
          </p:nvGrpSpPr>
          <p:grpSpPr>
            <a:xfrm>
              <a:off x="6342120" y="4857480"/>
              <a:ext cx="2461680" cy="1009800"/>
              <a:chOff x="6342120" y="4857480"/>
              <a:chExt cx="2461680" cy="1009800"/>
            </a:xfrm>
          </p:grpSpPr>
          <p:grpSp>
            <p:nvGrpSpPr>
              <p:cNvPr id="1547" name=""/>
              <p:cNvGrpSpPr/>
              <p:nvPr/>
            </p:nvGrpSpPr>
            <p:grpSpPr>
              <a:xfrm>
                <a:off x="6342120" y="5596920"/>
                <a:ext cx="1717560" cy="270360"/>
                <a:chOff x="6342120" y="5596920"/>
                <a:chExt cx="1717560" cy="270360"/>
              </a:xfrm>
            </p:grpSpPr>
            <p:sp>
              <p:nvSpPr>
                <p:cNvPr id="1548" name=""/>
                <p:cNvSpPr/>
                <p:nvPr/>
              </p:nvSpPr>
              <p:spPr>
                <a:xfrm flipH="1" flipV="1">
                  <a:off x="7274520" y="5598720"/>
                  <a:ext cx="133560" cy="188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9" name=""/>
                <p:cNvSpPr/>
                <p:nvPr/>
              </p:nvSpPr>
              <p:spPr>
                <a:xfrm flipH="1">
                  <a:off x="6849720" y="5598720"/>
                  <a:ext cx="424800" cy="188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0" name=""/>
                <p:cNvSpPr/>
                <p:nvPr/>
              </p:nvSpPr>
              <p:spPr>
                <a:xfrm flipH="1" flipV="1">
                  <a:off x="7790760" y="5670720"/>
                  <a:ext cx="120600" cy="196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1" name=""/>
                <p:cNvSpPr/>
                <p:nvPr/>
              </p:nvSpPr>
              <p:spPr>
                <a:xfrm flipV="1">
                  <a:off x="7660080" y="5718240"/>
                  <a:ext cx="399600" cy="111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 flipH="1" flipV="1">
                  <a:off x="7538040" y="5642640"/>
                  <a:ext cx="121320" cy="1868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 flipH="1">
                  <a:off x="7398360" y="5676840"/>
                  <a:ext cx="414000" cy="110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4" name=""/>
                <p:cNvSpPr/>
                <p:nvPr/>
              </p:nvSpPr>
              <p:spPr>
                <a:xfrm flipH="1">
                  <a:off x="7148160" y="5643000"/>
                  <a:ext cx="390240" cy="100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 flipH="1" flipV="1">
                  <a:off x="6998040" y="5634360"/>
                  <a:ext cx="149400" cy="109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 flipH="1" flipV="1">
                  <a:off x="6751800" y="5676840"/>
                  <a:ext cx="102960" cy="113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 flipH="1">
                  <a:off x="6603120" y="5643000"/>
                  <a:ext cx="395280" cy="1868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 flipH="1" flipV="1">
                  <a:off x="6490080" y="5718240"/>
                  <a:ext cx="114480" cy="106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 flipH="1">
                  <a:off x="6342120" y="5676840"/>
                  <a:ext cx="409680" cy="19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 flipV="1">
                  <a:off x="7909200" y="571824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1" name=""/>
                <p:cNvSpPr/>
                <p:nvPr/>
              </p:nvSpPr>
              <p:spPr>
                <a:xfrm flipV="1">
                  <a:off x="7137720" y="559692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 flipV="1">
                  <a:off x="7401960" y="563904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 flipV="1">
                  <a:off x="6344640" y="571572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 flipV="1">
                  <a:off x="6608880" y="567612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 flipV="1">
                  <a:off x="6857640" y="563904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 flipV="1">
                  <a:off x="6487560" y="5599800"/>
                  <a:ext cx="79020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 flipV="1">
                  <a:off x="6344640" y="5747760"/>
                  <a:ext cx="79020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>
                  <a:off x="7134840" y="5747760"/>
                  <a:ext cx="76896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" name=""/>
                <p:cNvSpPr/>
                <p:nvPr/>
              </p:nvSpPr>
              <p:spPr>
                <a:xfrm>
                  <a:off x="7280280" y="5599800"/>
                  <a:ext cx="76896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" name=""/>
                <p:cNvSpPr/>
                <p:nvPr/>
              </p:nvSpPr>
              <p:spPr>
                <a:xfrm flipV="1">
                  <a:off x="7652880" y="568404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1" name=""/>
              <p:cNvGrpSpPr/>
              <p:nvPr/>
            </p:nvGrpSpPr>
            <p:grpSpPr>
              <a:xfrm>
                <a:off x="7086240" y="4857480"/>
                <a:ext cx="1717560" cy="270360"/>
                <a:chOff x="7086240" y="4857480"/>
                <a:chExt cx="1717560" cy="270360"/>
              </a:xfrm>
            </p:grpSpPr>
            <p:sp>
              <p:nvSpPr>
                <p:cNvPr id="1572" name=""/>
                <p:cNvSpPr/>
                <p:nvPr/>
              </p:nvSpPr>
              <p:spPr>
                <a:xfrm flipH="1" flipV="1">
                  <a:off x="8018640" y="4859280"/>
                  <a:ext cx="133560" cy="188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" name=""/>
                <p:cNvSpPr/>
                <p:nvPr/>
              </p:nvSpPr>
              <p:spPr>
                <a:xfrm flipH="1">
                  <a:off x="7593840" y="4859280"/>
                  <a:ext cx="424800" cy="188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" name=""/>
                <p:cNvSpPr/>
                <p:nvPr/>
              </p:nvSpPr>
              <p:spPr>
                <a:xfrm flipH="1" flipV="1">
                  <a:off x="8534880" y="4931280"/>
                  <a:ext cx="120600" cy="196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" name=""/>
                <p:cNvSpPr/>
                <p:nvPr/>
              </p:nvSpPr>
              <p:spPr>
                <a:xfrm flipV="1">
                  <a:off x="8404200" y="4978800"/>
                  <a:ext cx="399600" cy="111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" name=""/>
                <p:cNvSpPr/>
                <p:nvPr/>
              </p:nvSpPr>
              <p:spPr>
                <a:xfrm flipH="1" flipV="1">
                  <a:off x="8282160" y="4903200"/>
                  <a:ext cx="121320" cy="1868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 flipH="1">
                  <a:off x="8142480" y="4937400"/>
                  <a:ext cx="414000" cy="110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" name=""/>
                <p:cNvSpPr/>
                <p:nvPr/>
              </p:nvSpPr>
              <p:spPr>
                <a:xfrm flipH="1">
                  <a:off x="7892280" y="4903560"/>
                  <a:ext cx="390240" cy="100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" name=""/>
                <p:cNvSpPr/>
                <p:nvPr/>
              </p:nvSpPr>
              <p:spPr>
                <a:xfrm flipH="1" flipV="1">
                  <a:off x="7742160" y="4894920"/>
                  <a:ext cx="149400" cy="109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 flipH="1" flipV="1">
                  <a:off x="7495920" y="4937400"/>
                  <a:ext cx="102960" cy="113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 flipH="1">
                  <a:off x="7347240" y="4903560"/>
                  <a:ext cx="395280" cy="1868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 flipH="1" flipV="1">
                  <a:off x="7234200" y="4978800"/>
                  <a:ext cx="114480" cy="106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 flipH="1">
                  <a:off x="7086240" y="4937400"/>
                  <a:ext cx="409680" cy="19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 flipV="1">
                  <a:off x="8653320" y="497880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 flipV="1">
                  <a:off x="7881840" y="485748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 flipV="1">
                  <a:off x="8146080" y="489960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 flipV="1">
                  <a:off x="7088760" y="497628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 flipV="1">
                  <a:off x="7353000" y="493668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 flipV="1">
                  <a:off x="7601760" y="489960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 flipV="1">
                  <a:off x="7231680" y="4860360"/>
                  <a:ext cx="79020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 flipV="1">
                  <a:off x="7088760" y="5008320"/>
                  <a:ext cx="79020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>
                  <a:off x="7878960" y="5008320"/>
                  <a:ext cx="76896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" name=""/>
                <p:cNvSpPr/>
                <p:nvPr/>
              </p:nvSpPr>
              <p:spPr>
                <a:xfrm>
                  <a:off x="8024400" y="4860360"/>
                  <a:ext cx="76896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" name=""/>
                <p:cNvSpPr/>
                <p:nvPr/>
              </p:nvSpPr>
              <p:spPr>
                <a:xfrm flipV="1">
                  <a:off x="8397000" y="494460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95" name=""/>
            <p:cNvGrpSpPr/>
            <p:nvPr/>
          </p:nvGrpSpPr>
          <p:grpSpPr>
            <a:xfrm>
              <a:off x="6339960" y="4976280"/>
              <a:ext cx="2460960" cy="1440360"/>
              <a:chOff x="6339960" y="4976280"/>
              <a:chExt cx="2460960" cy="1440360"/>
            </a:xfrm>
          </p:grpSpPr>
          <p:grpSp>
            <p:nvGrpSpPr>
              <p:cNvPr id="1596" name=""/>
              <p:cNvGrpSpPr/>
              <p:nvPr/>
            </p:nvGrpSpPr>
            <p:grpSpPr>
              <a:xfrm>
                <a:off x="7909920" y="5716080"/>
                <a:ext cx="151200" cy="695160"/>
                <a:chOff x="7909920" y="5716080"/>
                <a:chExt cx="151200" cy="695160"/>
              </a:xfrm>
            </p:grpSpPr>
            <p:sp>
              <p:nvSpPr>
                <p:cNvPr id="1597" name=""/>
                <p:cNvSpPr/>
                <p:nvPr/>
              </p:nvSpPr>
              <p:spPr>
                <a:xfrm flipV="1">
                  <a:off x="7912800" y="6006600"/>
                  <a:ext cx="147960" cy="404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" name=""/>
                <p:cNvSpPr/>
                <p:nvPr/>
              </p:nvSpPr>
              <p:spPr>
                <a:xfrm flipH="1" flipV="1">
                  <a:off x="7909920" y="5863680"/>
                  <a:ext cx="150840" cy="142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" name=""/>
                <p:cNvSpPr/>
                <p:nvPr/>
              </p:nvSpPr>
              <p:spPr>
                <a:xfrm flipH="1" flipV="1">
                  <a:off x="7912440" y="6146640"/>
                  <a:ext cx="147960" cy="116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" name=""/>
                <p:cNvSpPr/>
                <p:nvPr/>
              </p:nvSpPr>
              <p:spPr>
                <a:xfrm flipV="1">
                  <a:off x="7912800" y="5718600"/>
                  <a:ext cx="147960" cy="429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" name=""/>
                <p:cNvSpPr/>
                <p:nvPr/>
              </p:nvSpPr>
              <p:spPr>
                <a:xfrm flipV="1">
                  <a:off x="7910280" y="571608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" name=""/>
                <p:cNvSpPr/>
                <p:nvPr/>
              </p:nvSpPr>
              <p:spPr>
                <a:xfrm>
                  <a:off x="7912800" y="586440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" name=""/>
                <p:cNvSpPr/>
                <p:nvPr/>
              </p:nvSpPr>
              <p:spPr>
                <a:xfrm flipV="1">
                  <a:off x="7912800" y="600408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" name=""/>
                <p:cNvSpPr/>
                <p:nvPr/>
              </p:nvSpPr>
              <p:spPr>
                <a:xfrm>
                  <a:off x="8061120" y="572148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5" name=""/>
              <p:cNvGrpSpPr/>
              <p:nvPr/>
            </p:nvGrpSpPr>
            <p:grpSpPr>
              <a:xfrm>
                <a:off x="6339960" y="5721480"/>
                <a:ext cx="151200" cy="695160"/>
                <a:chOff x="6339960" y="5721480"/>
                <a:chExt cx="151200" cy="695160"/>
              </a:xfrm>
            </p:grpSpPr>
            <p:sp>
              <p:nvSpPr>
                <p:cNvPr id="1606" name=""/>
                <p:cNvSpPr/>
                <p:nvPr/>
              </p:nvSpPr>
              <p:spPr>
                <a:xfrm flipV="1">
                  <a:off x="6342840" y="6012000"/>
                  <a:ext cx="147960" cy="404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7" name=""/>
                <p:cNvSpPr/>
                <p:nvPr/>
              </p:nvSpPr>
              <p:spPr>
                <a:xfrm flipH="1" flipV="1">
                  <a:off x="6339960" y="5869080"/>
                  <a:ext cx="150840" cy="142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" name=""/>
                <p:cNvSpPr/>
                <p:nvPr/>
              </p:nvSpPr>
              <p:spPr>
                <a:xfrm flipH="1" flipV="1">
                  <a:off x="6342480" y="6152040"/>
                  <a:ext cx="147960" cy="116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" name=""/>
                <p:cNvSpPr/>
                <p:nvPr/>
              </p:nvSpPr>
              <p:spPr>
                <a:xfrm flipV="1">
                  <a:off x="6342840" y="5724000"/>
                  <a:ext cx="147960" cy="429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 flipV="1">
                  <a:off x="6340320" y="572148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" name=""/>
                <p:cNvSpPr/>
                <p:nvPr/>
              </p:nvSpPr>
              <p:spPr>
                <a:xfrm>
                  <a:off x="6342840" y="586980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 flipV="1">
                  <a:off x="6342840" y="600948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>
                  <a:off x="6491160" y="572688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4" name=""/>
              <p:cNvGrpSpPr/>
              <p:nvPr/>
            </p:nvGrpSpPr>
            <p:grpSpPr>
              <a:xfrm>
                <a:off x="8649720" y="4976280"/>
                <a:ext cx="151200" cy="695160"/>
                <a:chOff x="8649720" y="4976280"/>
                <a:chExt cx="151200" cy="695160"/>
              </a:xfrm>
            </p:grpSpPr>
            <p:sp>
              <p:nvSpPr>
                <p:cNvPr id="1615" name=""/>
                <p:cNvSpPr/>
                <p:nvPr/>
              </p:nvSpPr>
              <p:spPr>
                <a:xfrm flipV="1">
                  <a:off x="8652600" y="5266800"/>
                  <a:ext cx="147960" cy="404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 flipH="1" flipV="1">
                  <a:off x="8649720" y="5123880"/>
                  <a:ext cx="150840" cy="142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 flipH="1" flipV="1">
                  <a:off x="8652240" y="5406840"/>
                  <a:ext cx="147960" cy="116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" name=""/>
                <p:cNvSpPr/>
                <p:nvPr/>
              </p:nvSpPr>
              <p:spPr>
                <a:xfrm flipV="1">
                  <a:off x="8652600" y="4978800"/>
                  <a:ext cx="147960" cy="429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" name=""/>
                <p:cNvSpPr/>
                <p:nvPr/>
              </p:nvSpPr>
              <p:spPr>
                <a:xfrm flipV="1">
                  <a:off x="8650080" y="497628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" name=""/>
                <p:cNvSpPr/>
                <p:nvPr/>
              </p:nvSpPr>
              <p:spPr>
                <a:xfrm>
                  <a:off x="8652600" y="512460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" name=""/>
                <p:cNvSpPr/>
                <p:nvPr/>
              </p:nvSpPr>
              <p:spPr>
                <a:xfrm flipV="1">
                  <a:off x="8652600" y="526428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" name=""/>
                <p:cNvSpPr/>
                <p:nvPr/>
              </p:nvSpPr>
              <p:spPr>
                <a:xfrm>
                  <a:off x="8800920" y="498168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3" name=""/>
              <p:cNvGrpSpPr/>
              <p:nvPr/>
            </p:nvGrpSpPr>
            <p:grpSpPr>
              <a:xfrm>
                <a:off x="7079760" y="4983840"/>
                <a:ext cx="151200" cy="695160"/>
                <a:chOff x="7079760" y="4983840"/>
                <a:chExt cx="151200" cy="695160"/>
              </a:xfrm>
            </p:grpSpPr>
            <p:sp>
              <p:nvSpPr>
                <p:cNvPr id="1624" name=""/>
                <p:cNvSpPr/>
                <p:nvPr/>
              </p:nvSpPr>
              <p:spPr>
                <a:xfrm flipV="1">
                  <a:off x="7082640" y="5274360"/>
                  <a:ext cx="147960" cy="404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" name=""/>
                <p:cNvSpPr/>
                <p:nvPr/>
              </p:nvSpPr>
              <p:spPr>
                <a:xfrm flipH="1" flipV="1">
                  <a:off x="7079760" y="5131440"/>
                  <a:ext cx="150840" cy="142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" name=""/>
                <p:cNvSpPr/>
                <p:nvPr/>
              </p:nvSpPr>
              <p:spPr>
                <a:xfrm flipH="1" flipV="1">
                  <a:off x="7082280" y="5414400"/>
                  <a:ext cx="147960" cy="116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" name=""/>
                <p:cNvSpPr/>
                <p:nvPr/>
              </p:nvSpPr>
              <p:spPr>
                <a:xfrm flipV="1">
                  <a:off x="7082640" y="4986360"/>
                  <a:ext cx="147960" cy="429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" name=""/>
                <p:cNvSpPr/>
                <p:nvPr/>
              </p:nvSpPr>
              <p:spPr>
                <a:xfrm flipV="1">
                  <a:off x="7080120" y="498384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" name=""/>
                <p:cNvSpPr/>
                <p:nvPr/>
              </p:nvSpPr>
              <p:spPr>
                <a:xfrm>
                  <a:off x="7082640" y="513216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" name=""/>
                <p:cNvSpPr/>
                <p:nvPr/>
              </p:nvSpPr>
              <p:spPr>
                <a:xfrm flipV="1">
                  <a:off x="7082640" y="527184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" name=""/>
                <p:cNvSpPr/>
                <p:nvPr/>
              </p:nvSpPr>
              <p:spPr>
                <a:xfrm>
                  <a:off x="7230960" y="498924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32" name=""/>
            <p:cNvGrpSpPr/>
            <p:nvPr/>
          </p:nvGrpSpPr>
          <p:grpSpPr>
            <a:xfrm>
              <a:off x="6491160" y="5006520"/>
              <a:ext cx="2162160" cy="1255680"/>
              <a:chOff x="6491160" y="5006520"/>
              <a:chExt cx="2162160" cy="1255680"/>
            </a:xfrm>
          </p:grpSpPr>
          <p:grpSp>
            <p:nvGrpSpPr>
              <p:cNvPr id="1633" name=""/>
              <p:cNvGrpSpPr/>
              <p:nvPr/>
            </p:nvGrpSpPr>
            <p:grpSpPr>
              <a:xfrm>
                <a:off x="6491160" y="5598360"/>
                <a:ext cx="1570320" cy="663840"/>
                <a:chOff x="6491160" y="5598360"/>
                <a:chExt cx="1570320" cy="663840"/>
              </a:xfrm>
            </p:grpSpPr>
            <p:sp>
              <p:nvSpPr>
                <p:cNvPr id="1634" name=""/>
                <p:cNvSpPr/>
                <p:nvPr/>
              </p:nvSpPr>
              <p:spPr>
                <a:xfrm flipV="1">
                  <a:off x="6491160" y="571896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" name=""/>
                <p:cNvSpPr/>
                <p:nvPr/>
              </p:nvSpPr>
              <p:spPr>
                <a:xfrm flipV="1">
                  <a:off x="6491160" y="559836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" name=""/>
                <p:cNvSpPr/>
                <p:nvPr/>
              </p:nvSpPr>
              <p:spPr>
                <a:xfrm flipV="1">
                  <a:off x="8061480" y="571896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" name=""/>
                <p:cNvSpPr/>
                <p:nvPr/>
              </p:nvSpPr>
              <p:spPr>
                <a:xfrm flipH="1" flipV="1">
                  <a:off x="7275960" y="559836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8" name=""/>
              <p:cNvGrpSpPr/>
              <p:nvPr/>
            </p:nvGrpSpPr>
            <p:grpSpPr>
              <a:xfrm>
                <a:off x="6639120" y="5450400"/>
                <a:ext cx="1570320" cy="663840"/>
                <a:chOff x="6639120" y="5450400"/>
                <a:chExt cx="1570320" cy="663840"/>
              </a:xfrm>
            </p:grpSpPr>
            <p:sp>
              <p:nvSpPr>
                <p:cNvPr id="1639" name=""/>
                <p:cNvSpPr/>
                <p:nvPr/>
              </p:nvSpPr>
              <p:spPr>
                <a:xfrm flipV="1">
                  <a:off x="6639120" y="557100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" name=""/>
                <p:cNvSpPr/>
                <p:nvPr/>
              </p:nvSpPr>
              <p:spPr>
                <a:xfrm flipV="1">
                  <a:off x="6639120" y="545040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" name=""/>
                <p:cNvSpPr/>
                <p:nvPr/>
              </p:nvSpPr>
              <p:spPr>
                <a:xfrm flipV="1">
                  <a:off x="8209440" y="557100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" name=""/>
                <p:cNvSpPr/>
                <p:nvPr/>
              </p:nvSpPr>
              <p:spPr>
                <a:xfrm flipH="1" flipV="1">
                  <a:off x="7423920" y="545040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3" name=""/>
              <p:cNvGrpSpPr/>
              <p:nvPr/>
            </p:nvGrpSpPr>
            <p:grpSpPr>
              <a:xfrm>
                <a:off x="6787080" y="5302440"/>
                <a:ext cx="1570320" cy="663840"/>
                <a:chOff x="6787080" y="5302440"/>
                <a:chExt cx="1570320" cy="663840"/>
              </a:xfrm>
            </p:grpSpPr>
            <p:sp>
              <p:nvSpPr>
                <p:cNvPr id="1644" name=""/>
                <p:cNvSpPr/>
                <p:nvPr/>
              </p:nvSpPr>
              <p:spPr>
                <a:xfrm flipV="1">
                  <a:off x="6787080" y="542304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" name=""/>
                <p:cNvSpPr/>
                <p:nvPr/>
              </p:nvSpPr>
              <p:spPr>
                <a:xfrm flipV="1">
                  <a:off x="6787080" y="530244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" name=""/>
                <p:cNvSpPr/>
                <p:nvPr/>
              </p:nvSpPr>
              <p:spPr>
                <a:xfrm flipV="1">
                  <a:off x="8357400" y="542304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" name=""/>
                <p:cNvSpPr/>
                <p:nvPr/>
              </p:nvSpPr>
              <p:spPr>
                <a:xfrm flipH="1" flipV="1">
                  <a:off x="7571880" y="530244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8" name=""/>
              <p:cNvGrpSpPr/>
              <p:nvPr/>
            </p:nvGrpSpPr>
            <p:grpSpPr>
              <a:xfrm>
                <a:off x="6935040" y="5154120"/>
                <a:ext cx="1570320" cy="663840"/>
                <a:chOff x="6935040" y="5154120"/>
                <a:chExt cx="1570320" cy="663840"/>
              </a:xfrm>
            </p:grpSpPr>
            <p:sp>
              <p:nvSpPr>
                <p:cNvPr id="1649" name=""/>
                <p:cNvSpPr/>
                <p:nvPr/>
              </p:nvSpPr>
              <p:spPr>
                <a:xfrm flipV="1">
                  <a:off x="6935040" y="527472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0" name=""/>
                <p:cNvSpPr/>
                <p:nvPr/>
              </p:nvSpPr>
              <p:spPr>
                <a:xfrm flipV="1">
                  <a:off x="6935040" y="515412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1" name=""/>
                <p:cNvSpPr/>
                <p:nvPr/>
              </p:nvSpPr>
              <p:spPr>
                <a:xfrm flipV="1">
                  <a:off x="8505360" y="527472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2" name=""/>
                <p:cNvSpPr/>
                <p:nvPr/>
              </p:nvSpPr>
              <p:spPr>
                <a:xfrm flipH="1" flipV="1">
                  <a:off x="7719840" y="515412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3" name=""/>
              <p:cNvGrpSpPr/>
              <p:nvPr/>
            </p:nvGrpSpPr>
            <p:grpSpPr>
              <a:xfrm>
                <a:off x="7083000" y="5006520"/>
                <a:ext cx="1570320" cy="663840"/>
                <a:chOff x="7083000" y="5006520"/>
                <a:chExt cx="1570320" cy="663840"/>
              </a:xfrm>
            </p:grpSpPr>
            <p:sp>
              <p:nvSpPr>
                <p:cNvPr id="1654" name=""/>
                <p:cNvSpPr/>
                <p:nvPr/>
              </p:nvSpPr>
              <p:spPr>
                <a:xfrm flipV="1">
                  <a:off x="7083000" y="512712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5" name=""/>
                <p:cNvSpPr/>
                <p:nvPr/>
              </p:nvSpPr>
              <p:spPr>
                <a:xfrm flipV="1">
                  <a:off x="7083000" y="500652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6" name=""/>
                <p:cNvSpPr/>
                <p:nvPr/>
              </p:nvSpPr>
              <p:spPr>
                <a:xfrm flipV="1">
                  <a:off x="8653320" y="512712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7" name=""/>
                <p:cNvSpPr/>
                <p:nvPr/>
              </p:nvSpPr>
              <p:spPr>
                <a:xfrm flipH="1" flipV="1">
                  <a:off x="7867800" y="500652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8" name=""/>
            <p:cNvGrpSpPr/>
            <p:nvPr/>
          </p:nvGrpSpPr>
          <p:grpSpPr>
            <a:xfrm>
              <a:off x="6342120" y="5130360"/>
              <a:ext cx="2458800" cy="1283040"/>
              <a:chOff x="6342120" y="5130360"/>
              <a:chExt cx="2458800" cy="1283040"/>
            </a:xfrm>
          </p:grpSpPr>
          <p:grpSp>
            <p:nvGrpSpPr>
              <p:cNvPr id="1659" name=""/>
              <p:cNvGrpSpPr/>
              <p:nvPr/>
            </p:nvGrpSpPr>
            <p:grpSpPr>
              <a:xfrm>
                <a:off x="6342120" y="5139000"/>
                <a:ext cx="888120" cy="1274400"/>
                <a:chOff x="6342120" y="5139000"/>
                <a:chExt cx="888120" cy="1274400"/>
              </a:xfrm>
            </p:grpSpPr>
            <p:sp>
              <p:nvSpPr>
                <p:cNvPr id="1660" name=""/>
                <p:cNvSpPr/>
                <p:nvPr/>
              </p:nvSpPr>
              <p:spPr>
                <a:xfrm flipV="1">
                  <a:off x="6342120" y="5139000"/>
                  <a:ext cx="888120" cy="887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1" name=""/>
                <p:cNvSpPr/>
                <p:nvPr/>
              </p:nvSpPr>
              <p:spPr>
                <a:xfrm flipV="1">
                  <a:off x="6342120" y="5275080"/>
                  <a:ext cx="888120" cy="887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2" name=""/>
                <p:cNvSpPr/>
                <p:nvPr/>
              </p:nvSpPr>
              <p:spPr>
                <a:xfrm flipV="1">
                  <a:off x="6342120" y="5395680"/>
                  <a:ext cx="888120" cy="887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3" name=""/>
                <p:cNvSpPr/>
                <p:nvPr/>
              </p:nvSpPr>
              <p:spPr>
                <a:xfrm flipV="1">
                  <a:off x="6342120" y="5525640"/>
                  <a:ext cx="888120" cy="887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4" name=""/>
              <p:cNvGrpSpPr/>
              <p:nvPr/>
            </p:nvGrpSpPr>
            <p:grpSpPr>
              <a:xfrm>
                <a:off x="7912800" y="5130360"/>
                <a:ext cx="888120" cy="1282680"/>
                <a:chOff x="7912800" y="5130360"/>
                <a:chExt cx="888120" cy="1282680"/>
              </a:xfrm>
            </p:grpSpPr>
            <p:sp>
              <p:nvSpPr>
                <p:cNvPr id="1665" name=""/>
                <p:cNvSpPr/>
                <p:nvPr/>
              </p:nvSpPr>
              <p:spPr>
                <a:xfrm flipV="1">
                  <a:off x="7912800" y="5525640"/>
                  <a:ext cx="888120" cy="887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6" name=""/>
                <p:cNvSpPr/>
                <p:nvPr/>
              </p:nvSpPr>
              <p:spPr>
                <a:xfrm flipV="1">
                  <a:off x="7912800" y="5130360"/>
                  <a:ext cx="888120" cy="887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7" name=""/>
                <p:cNvSpPr/>
                <p:nvPr/>
              </p:nvSpPr>
              <p:spPr>
                <a:xfrm flipV="1">
                  <a:off x="7912800" y="5266080"/>
                  <a:ext cx="888120" cy="887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8" name=""/>
                <p:cNvSpPr/>
                <p:nvPr/>
              </p:nvSpPr>
              <p:spPr>
                <a:xfrm flipV="1">
                  <a:off x="7912800" y="5396400"/>
                  <a:ext cx="888120" cy="887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69" name=""/>
            <p:cNvSpPr/>
            <p:nvPr/>
          </p:nvSpPr>
          <p:spPr>
            <a:xfrm flipV="1">
              <a:off x="7129440" y="4863600"/>
              <a:ext cx="890640" cy="8874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0" name=""/>
            <p:cNvGrpSpPr/>
            <p:nvPr/>
          </p:nvGrpSpPr>
          <p:grpSpPr>
            <a:xfrm>
              <a:off x="6342120" y="4979520"/>
              <a:ext cx="2457000" cy="887400"/>
              <a:chOff x="6342120" y="4979520"/>
              <a:chExt cx="2457000" cy="887400"/>
            </a:xfrm>
          </p:grpSpPr>
          <p:sp>
            <p:nvSpPr>
              <p:cNvPr id="1671" name=""/>
              <p:cNvSpPr/>
              <p:nvPr/>
            </p:nvSpPr>
            <p:spPr>
              <a:xfrm flipV="1">
                <a:off x="7908480" y="4979520"/>
                <a:ext cx="890640" cy="887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 flipV="1">
                <a:off x="6342120" y="4979520"/>
                <a:ext cx="888120" cy="887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3" name=""/>
            <p:cNvGrpSpPr/>
            <p:nvPr/>
          </p:nvGrpSpPr>
          <p:grpSpPr>
            <a:xfrm>
              <a:off x="6459480" y="4878360"/>
              <a:ext cx="2216160" cy="973080"/>
              <a:chOff x="6459480" y="4878360"/>
              <a:chExt cx="2216160" cy="973080"/>
            </a:xfrm>
          </p:grpSpPr>
          <p:sp>
            <p:nvSpPr>
              <p:cNvPr id="1674" name=""/>
              <p:cNvSpPr/>
              <p:nvPr/>
            </p:nvSpPr>
            <p:spPr>
              <a:xfrm flipV="1">
                <a:off x="7275960" y="4881960"/>
                <a:ext cx="89064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 flipV="1">
                <a:off x="7409880" y="4893840"/>
                <a:ext cx="89064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 flipV="1">
                <a:off x="7661520" y="4937400"/>
                <a:ext cx="89064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 flipV="1">
                <a:off x="7785000" y="4962960"/>
                <a:ext cx="89064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 flipV="1">
                <a:off x="6459480" y="4962960"/>
                <a:ext cx="87876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 flipV="1">
                <a:off x="6605640" y="4942440"/>
                <a:ext cx="87876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 flipV="1">
                <a:off x="6855840" y="4902480"/>
                <a:ext cx="87876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 flipV="1">
                <a:off x="6990840" y="4878360"/>
                <a:ext cx="88200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 flipV="1">
                <a:off x="6726960" y="4923000"/>
                <a:ext cx="87876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 flipV="1">
                <a:off x="7520760" y="4917960"/>
                <a:ext cx="890640" cy="894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4" name=""/>
            <p:cNvGrpSpPr/>
            <p:nvPr/>
          </p:nvGrpSpPr>
          <p:grpSpPr>
            <a:xfrm>
              <a:off x="6343560" y="4858920"/>
              <a:ext cx="2457360" cy="1553040"/>
              <a:chOff x="6343560" y="4858920"/>
              <a:chExt cx="2457360" cy="1553040"/>
            </a:xfrm>
          </p:grpSpPr>
          <p:sp>
            <p:nvSpPr>
              <p:cNvPr id="1685" name=""/>
              <p:cNvSpPr/>
              <p:nvPr/>
            </p:nvSpPr>
            <p:spPr>
              <a:xfrm flipV="1">
                <a:off x="6343560" y="5747040"/>
                <a:ext cx="784800" cy="12060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 flipH="1" flipV="1">
                <a:off x="7128360" y="5747040"/>
                <a:ext cx="784800" cy="12060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 flipV="1">
                <a:off x="7231320" y="4858920"/>
                <a:ext cx="784800" cy="12060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88" name=""/>
              <p:cNvGrpSpPr/>
              <p:nvPr/>
            </p:nvGrpSpPr>
            <p:grpSpPr>
              <a:xfrm>
                <a:off x="6343560" y="4979880"/>
                <a:ext cx="2457360" cy="1432080"/>
                <a:chOff x="6343560" y="4979880"/>
                <a:chExt cx="2457360" cy="1432080"/>
              </a:xfrm>
            </p:grpSpPr>
            <p:sp>
              <p:nvSpPr>
                <p:cNvPr id="1689" name=""/>
                <p:cNvSpPr/>
                <p:nvPr/>
              </p:nvSpPr>
              <p:spPr>
                <a:xfrm flipV="1">
                  <a:off x="6343560" y="5868360"/>
                  <a:ext cx="0" cy="54360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0" name=""/>
                <p:cNvSpPr/>
                <p:nvPr/>
              </p:nvSpPr>
              <p:spPr>
                <a:xfrm flipV="1">
                  <a:off x="7913160" y="5868360"/>
                  <a:ext cx="0" cy="54360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1" name=""/>
                <p:cNvSpPr/>
                <p:nvPr/>
              </p:nvSpPr>
              <p:spPr>
                <a:xfrm flipV="1">
                  <a:off x="7231320" y="4979880"/>
                  <a:ext cx="0" cy="54360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2" name=""/>
                <p:cNvSpPr/>
                <p:nvPr/>
              </p:nvSpPr>
              <p:spPr>
                <a:xfrm flipV="1">
                  <a:off x="8800920" y="4979880"/>
                  <a:ext cx="0" cy="54360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3" name=""/>
              <p:cNvSpPr/>
              <p:nvPr/>
            </p:nvSpPr>
            <p:spPr>
              <a:xfrm flipH="1" flipV="1">
                <a:off x="8016120" y="4858920"/>
                <a:ext cx="784800" cy="12060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4" name=""/>
            <p:cNvSpPr/>
            <p:nvPr/>
          </p:nvSpPr>
          <p:spPr>
            <a:xfrm>
              <a:off x="5487840" y="6561000"/>
              <a:ext cx="134784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ffcc"/>
                  </a:solidFill>
                  <a:latin typeface="Arial"/>
                </a:rPr>
                <a:t>Vent longitudi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 rot="8034000">
              <a:off x="6746040" y="6285600"/>
              <a:ext cx="564840" cy="334800"/>
            </a:xfrm>
            <a:prstGeom prst="leftArrow">
              <a:avLst>
                <a:gd name="adj1" fmla="val 50000"/>
                <a:gd name="adj2" fmla="val 4217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"/>
          <p:cNvSpPr/>
          <p:nvPr/>
        </p:nvSpPr>
        <p:spPr>
          <a:xfrm flipV="1">
            <a:off x="5238720" y="3955680"/>
            <a:ext cx="0" cy="10112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 flipV="1">
            <a:off x="4137120" y="5057280"/>
            <a:ext cx="0" cy="10112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 flipV="1">
            <a:off x="4411800" y="4781160"/>
            <a:ext cx="0" cy="10112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 flipV="1">
            <a:off x="4687920" y="4506480"/>
            <a:ext cx="0" cy="10112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 flipV="1">
            <a:off x="4962600" y="4230360"/>
            <a:ext cx="0" cy="10112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1" name=""/>
          <p:cNvGrpSpPr/>
          <p:nvPr/>
        </p:nvGrpSpPr>
        <p:grpSpPr>
          <a:xfrm>
            <a:off x="5233680" y="3688920"/>
            <a:ext cx="281160" cy="1292400"/>
            <a:chOff x="5233680" y="3688920"/>
            <a:chExt cx="281160" cy="1292400"/>
          </a:xfrm>
        </p:grpSpPr>
        <p:sp>
          <p:nvSpPr>
            <p:cNvPr id="1702" name=""/>
            <p:cNvSpPr/>
            <p:nvPr/>
          </p:nvSpPr>
          <p:spPr>
            <a:xfrm flipV="1">
              <a:off x="5238720" y="4228560"/>
              <a:ext cx="275760" cy="7527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 flipH="1" flipV="1">
              <a:off x="5233680" y="3964320"/>
              <a:ext cx="280440" cy="2642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 flipH="1" flipV="1">
              <a:off x="5238720" y="4489560"/>
              <a:ext cx="275760" cy="2167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 flipV="1">
              <a:off x="5238720" y="3693240"/>
              <a:ext cx="275760" cy="7981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 flipV="1">
              <a:off x="5234040" y="3688920"/>
              <a:ext cx="270720" cy="2703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5239080" y="3964680"/>
              <a:ext cx="0" cy="10126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 flipV="1">
              <a:off x="5239080" y="4224600"/>
              <a:ext cx="270720" cy="2703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5514840" y="3699000"/>
              <a:ext cx="0" cy="10126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0" name=""/>
          <p:cNvGrpSpPr/>
          <p:nvPr/>
        </p:nvGrpSpPr>
        <p:grpSpPr>
          <a:xfrm>
            <a:off x="3857400" y="5060520"/>
            <a:ext cx="281160" cy="1292400"/>
            <a:chOff x="3857400" y="5060520"/>
            <a:chExt cx="281160" cy="1292400"/>
          </a:xfrm>
        </p:grpSpPr>
        <p:sp>
          <p:nvSpPr>
            <p:cNvPr id="1711" name=""/>
            <p:cNvSpPr/>
            <p:nvPr/>
          </p:nvSpPr>
          <p:spPr>
            <a:xfrm flipV="1">
              <a:off x="3862440" y="5600160"/>
              <a:ext cx="275760" cy="7527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 flipH="1" flipV="1">
              <a:off x="3857400" y="5335920"/>
              <a:ext cx="280440" cy="2642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 flipH="1" flipV="1">
              <a:off x="3862440" y="5861160"/>
              <a:ext cx="275760" cy="2167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 flipV="1">
              <a:off x="3862440" y="5064840"/>
              <a:ext cx="275760" cy="7981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 flipV="1">
              <a:off x="3857760" y="5060520"/>
              <a:ext cx="270720" cy="2703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3862800" y="5336280"/>
              <a:ext cx="0" cy="10126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 flipV="1">
              <a:off x="3862800" y="5596200"/>
              <a:ext cx="270720" cy="2703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4138560" y="5070600"/>
              <a:ext cx="0" cy="10126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9" name=""/>
          <p:cNvGrpSpPr/>
          <p:nvPr/>
        </p:nvGrpSpPr>
        <p:grpSpPr>
          <a:xfrm>
            <a:off x="3862440" y="3976560"/>
            <a:ext cx="1650960" cy="2371320"/>
            <a:chOff x="3862440" y="3976560"/>
            <a:chExt cx="1650960" cy="2371320"/>
          </a:xfrm>
        </p:grpSpPr>
        <p:sp>
          <p:nvSpPr>
            <p:cNvPr id="1720" name=""/>
            <p:cNvSpPr/>
            <p:nvPr/>
          </p:nvSpPr>
          <p:spPr>
            <a:xfrm flipV="1">
              <a:off x="3862440" y="3976560"/>
              <a:ext cx="1650960" cy="16516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 flipV="1">
              <a:off x="3862440" y="4229640"/>
              <a:ext cx="1650960" cy="16516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 flipV="1">
              <a:off x="3862440" y="4454280"/>
              <a:ext cx="1650960" cy="16516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 flipV="1">
              <a:off x="3862440" y="4696200"/>
              <a:ext cx="1650960" cy="16516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4" name=""/>
          <p:cNvSpPr/>
          <p:nvPr/>
        </p:nvSpPr>
        <p:spPr>
          <a:xfrm>
            <a:off x="5526000" y="3692520"/>
            <a:ext cx="291960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5518080" y="3983040"/>
            <a:ext cx="291960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5506920" y="4460760"/>
            <a:ext cx="293364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5519880" y="4222800"/>
            <a:ext cx="292068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5495760" y="4687920"/>
            <a:ext cx="291960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7966080" y="3603600"/>
            <a:ext cx="0" cy="10796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8432640" y="3684600"/>
            <a:ext cx="0" cy="9986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7478640" y="3540240"/>
            <a:ext cx="0" cy="11430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6973920" y="3451320"/>
            <a:ext cx="0" cy="123192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6467400" y="3529080"/>
            <a:ext cx="0" cy="115416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5513400" y="3679920"/>
            <a:ext cx="0" cy="100332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6002280" y="3611520"/>
            <a:ext cx="0" cy="107172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6" name=""/>
          <p:cNvGrpSpPr/>
          <p:nvPr/>
        </p:nvGrpSpPr>
        <p:grpSpPr>
          <a:xfrm>
            <a:off x="4062240" y="5022720"/>
            <a:ext cx="1235160" cy="1219320"/>
            <a:chOff x="4062240" y="5022720"/>
            <a:chExt cx="1235160" cy="1219320"/>
          </a:xfrm>
        </p:grpSpPr>
        <p:sp>
          <p:nvSpPr>
            <p:cNvPr id="1737" name=""/>
            <p:cNvSpPr/>
            <p:nvPr/>
          </p:nvSpPr>
          <p:spPr>
            <a:xfrm>
              <a:off x="5162040" y="5022720"/>
              <a:ext cx="135360" cy="13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4880880" y="5278680"/>
              <a:ext cx="135360" cy="13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4612320" y="5543640"/>
              <a:ext cx="135360" cy="135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4334760" y="5819760"/>
              <a:ext cx="136080" cy="135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4062240" y="6106680"/>
              <a:ext cx="135360" cy="135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2" name=""/>
          <p:cNvGrpSpPr/>
          <p:nvPr/>
        </p:nvGrpSpPr>
        <p:grpSpPr>
          <a:xfrm>
            <a:off x="6993000" y="5000760"/>
            <a:ext cx="1216080" cy="1233360"/>
            <a:chOff x="6993000" y="5000760"/>
            <a:chExt cx="1216080" cy="1233360"/>
          </a:xfrm>
        </p:grpSpPr>
        <p:sp>
          <p:nvSpPr>
            <p:cNvPr id="1743" name=""/>
            <p:cNvSpPr/>
            <p:nvPr/>
          </p:nvSpPr>
          <p:spPr>
            <a:xfrm>
              <a:off x="8073720" y="5000760"/>
              <a:ext cx="135360" cy="135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7802280" y="5270040"/>
              <a:ext cx="135720" cy="13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7533360" y="5535360"/>
              <a:ext cx="135360" cy="135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7249320" y="5811120"/>
              <a:ext cx="138960" cy="135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6993000" y="6098400"/>
              <a:ext cx="135360" cy="135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8" name=""/>
          <p:cNvGrpSpPr/>
          <p:nvPr/>
        </p:nvGrpSpPr>
        <p:grpSpPr>
          <a:xfrm>
            <a:off x="5423040" y="4710240"/>
            <a:ext cx="3063240" cy="139680"/>
            <a:chOff x="5423040" y="4710240"/>
            <a:chExt cx="3063240" cy="139680"/>
          </a:xfrm>
        </p:grpSpPr>
        <p:sp>
          <p:nvSpPr>
            <p:cNvPr id="1749" name=""/>
            <p:cNvSpPr/>
            <p:nvPr/>
          </p:nvSpPr>
          <p:spPr>
            <a:xfrm>
              <a:off x="8350920" y="4713840"/>
              <a:ext cx="135360" cy="13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5423040" y="4710240"/>
              <a:ext cx="135720" cy="13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7394400" y="4710240"/>
              <a:ext cx="135720" cy="13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5918400" y="4710600"/>
              <a:ext cx="135360" cy="13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6377040" y="4710600"/>
              <a:ext cx="135360" cy="13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6865200" y="4710600"/>
              <a:ext cx="135360" cy="13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7884360" y="4710600"/>
              <a:ext cx="135360" cy="13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6" name=""/>
          <p:cNvGrpSpPr/>
          <p:nvPr/>
        </p:nvGrpSpPr>
        <p:grpSpPr>
          <a:xfrm>
            <a:off x="3778200" y="6373800"/>
            <a:ext cx="3057120" cy="136440"/>
            <a:chOff x="3778200" y="6373800"/>
            <a:chExt cx="3057120" cy="136440"/>
          </a:xfrm>
        </p:grpSpPr>
        <p:sp>
          <p:nvSpPr>
            <p:cNvPr id="1757" name=""/>
            <p:cNvSpPr/>
            <p:nvPr/>
          </p:nvSpPr>
          <p:spPr>
            <a:xfrm>
              <a:off x="6699600" y="6373800"/>
              <a:ext cx="135720" cy="13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3778200" y="6373800"/>
              <a:ext cx="135360" cy="13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4269600" y="6373800"/>
              <a:ext cx="135360" cy="13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4738320" y="6373800"/>
              <a:ext cx="135360" cy="13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5754240" y="6373800"/>
              <a:ext cx="135360" cy="13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6222960" y="6373800"/>
              <a:ext cx="135360" cy="13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3" name=""/>
          <p:cNvSpPr/>
          <p:nvPr/>
        </p:nvSpPr>
        <p:spPr>
          <a:xfrm>
            <a:off x="3860640" y="4280040"/>
            <a:ext cx="3746520" cy="1047600"/>
          </a:xfrm>
          <a:custGeom>
            <a:avLst/>
            <a:gdLst/>
            <a:ahLst/>
            <a:rect l="l" t="t" r="r" b="b"/>
            <a:pathLst>
              <a:path w="2360" h="660">
                <a:moveTo>
                  <a:pt x="0" y="656"/>
                </a:moveTo>
                <a:lnTo>
                  <a:pt x="516" y="144"/>
                </a:lnTo>
                <a:lnTo>
                  <a:pt x="1440" y="0"/>
                </a:lnTo>
                <a:lnTo>
                  <a:pt x="2360" y="144"/>
                </a:lnTo>
                <a:lnTo>
                  <a:pt x="1832" y="660"/>
                </a:lnTo>
                <a:lnTo>
                  <a:pt x="924" y="524"/>
                </a:lnTo>
                <a:lnTo>
                  <a:pt x="0" y="656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3860640" y="5105520"/>
            <a:ext cx="2921040" cy="761760"/>
          </a:xfrm>
          <a:custGeom>
            <a:avLst/>
            <a:gdLst/>
            <a:ahLst/>
            <a:rect l="l" t="t" r="r" b="b"/>
            <a:pathLst>
              <a:path w="1840" h="480">
                <a:moveTo>
                  <a:pt x="0" y="480"/>
                </a:moveTo>
                <a:lnTo>
                  <a:pt x="1840" y="480"/>
                </a:lnTo>
                <a:lnTo>
                  <a:pt x="1840" y="144"/>
                </a:lnTo>
                <a:lnTo>
                  <a:pt x="924" y="0"/>
                </a:lnTo>
                <a:lnTo>
                  <a:pt x="0" y="140"/>
                </a:lnTo>
                <a:lnTo>
                  <a:pt x="0" y="48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1452600" y="168120"/>
            <a:ext cx="59832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le est la zone d’action d’une poutre au ven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5835600" y="6350040"/>
            <a:ext cx="95112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3875040" y="5338800"/>
            <a:ext cx="291960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3867120" y="5629320"/>
            <a:ext cx="291960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5830920" y="6107040"/>
            <a:ext cx="95868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3859200" y="5869080"/>
            <a:ext cx="96192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5830920" y="5869080"/>
            <a:ext cx="95868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3867120" y="6107040"/>
            <a:ext cx="96192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3867120" y="6343560"/>
            <a:ext cx="95112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5327640" y="5122800"/>
            <a:ext cx="0" cy="50472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6319800" y="5261040"/>
            <a:ext cx="0" cy="108432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6786720" y="5337000"/>
            <a:ext cx="0" cy="9986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5832360" y="5192640"/>
            <a:ext cx="0" cy="114768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4821120" y="5186520"/>
            <a:ext cx="0" cy="11538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 flipH="1">
            <a:off x="3855600" y="5332320"/>
            <a:ext cx="9720" cy="10130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4354560" y="5268960"/>
            <a:ext cx="0" cy="107136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1" name=""/>
          <p:cNvGrpSpPr/>
          <p:nvPr/>
        </p:nvGrpSpPr>
        <p:grpSpPr>
          <a:xfrm>
            <a:off x="5244840" y="3454200"/>
            <a:ext cx="3195360" cy="501840"/>
            <a:chOff x="5244840" y="3454200"/>
            <a:chExt cx="3195360" cy="501840"/>
          </a:xfrm>
        </p:grpSpPr>
        <p:sp>
          <p:nvSpPr>
            <p:cNvPr id="1782" name=""/>
            <p:cNvSpPr/>
            <p:nvPr/>
          </p:nvSpPr>
          <p:spPr>
            <a:xfrm flipH="1" flipV="1">
              <a:off x="6980400" y="3457080"/>
              <a:ext cx="248400" cy="350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 flipH="1">
              <a:off x="6189480" y="3457440"/>
              <a:ext cx="790560" cy="350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 flipH="1" flipV="1">
              <a:off x="7940520" y="3591000"/>
              <a:ext cx="224280" cy="364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 flipV="1">
              <a:off x="7696800" y="3679560"/>
              <a:ext cx="743400" cy="207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 flipH="1" flipV="1">
              <a:off x="7470720" y="3539520"/>
              <a:ext cx="226080" cy="347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 flipH="1">
              <a:off x="7209720" y="3602520"/>
              <a:ext cx="770040" cy="204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 flipH="1">
              <a:off x="6744960" y="3539520"/>
              <a:ext cx="725760" cy="187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 flipH="1" flipV="1">
              <a:off x="6465960" y="3523320"/>
              <a:ext cx="278280" cy="203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 flipH="1" flipV="1">
              <a:off x="6007320" y="3602160"/>
              <a:ext cx="191520" cy="209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 flipH="1">
              <a:off x="5730480" y="3539520"/>
              <a:ext cx="735480" cy="347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 flipH="1" flipV="1">
              <a:off x="5520240" y="3679920"/>
              <a:ext cx="213120" cy="197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 flipH="1">
              <a:off x="5244840" y="3602520"/>
              <a:ext cx="762120" cy="35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 flipV="1">
              <a:off x="8160840" y="3679560"/>
              <a:ext cx="270360" cy="269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 flipV="1">
              <a:off x="6725160" y="3454200"/>
              <a:ext cx="270360" cy="269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 flipV="1">
              <a:off x="7216920" y="3532680"/>
              <a:ext cx="270360" cy="269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 flipV="1">
              <a:off x="5250240" y="3674880"/>
              <a:ext cx="270360" cy="269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 flipV="1">
              <a:off x="5742000" y="3601080"/>
              <a:ext cx="270360" cy="269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 flipV="1">
              <a:off x="6203880" y="3532680"/>
              <a:ext cx="270360" cy="269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 flipV="1">
              <a:off x="5515560" y="3458880"/>
              <a:ext cx="1469880" cy="220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 flipV="1">
              <a:off x="5250240" y="3733560"/>
              <a:ext cx="1469880" cy="220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6720120" y="3733920"/>
              <a:ext cx="1430280" cy="220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6990480" y="3459240"/>
              <a:ext cx="1430640" cy="220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 flipV="1">
              <a:off x="7683840" y="3615840"/>
              <a:ext cx="270360" cy="269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5" name=""/>
          <p:cNvGrpSpPr/>
          <p:nvPr/>
        </p:nvGrpSpPr>
        <p:grpSpPr>
          <a:xfrm>
            <a:off x="6777000" y="5051160"/>
            <a:ext cx="281160" cy="1292040"/>
            <a:chOff x="6777000" y="5051160"/>
            <a:chExt cx="281160" cy="1292040"/>
          </a:xfrm>
        </p:grpSpPr>
        <p:sp>
          <p:nvSpPr>
            <p:cNvPr id="1806" name=""/>
            <p:cNvSpPr/>
            <p:nvPr/>
          </p:nvSpPr>
          <p:spPr>
            <a:xfrm flipV="1">
              <a:off x="6781680" y="5590440"/>
              <a:ext cx="276120" cy="7527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 flipH="1" flipV="1">
              <a:off x="6777000" y="5326200"/>
              <a:ext cx="280800" cy="2642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 flipH="1" flipV="1">
              <a:off x="6781320" y="5851440"/>
              <a:ext cx="276120" cy="2167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 flipV="1">
              <a:off x="6781680" y="5055840"/>
              <a:ext cx="276120" cy="7977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 flipV="1">
              <a:off x="6777000" y="5051160"/>
              <a:ext cx="271080" cy="2703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6782040" y="5326560"/>
              <a:ext cx="0" cy="10126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 flipV="1">
              <a:off x="6782040" y="5586840"/>
              <a:ext cx="271080" cy="2703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7058160" y="5061240"/>
              <a:ext cx="0" cy="10126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4" name=""/>
          <p:cNvGrpSpPr/>
          <p:nvPr/>
        </p:nvGrpSpPr>
        <p:grpSpPr>
          <a:xfrm>
            <a:off x="8153280" y="3674880"/>
            <a:ext cx="281160" cy="1292040"/>
            <a:chOff x="8153280" y="3674880"/>
            <a:chExt cx="281160" cy="1292040"/>
          </a:xfrm>
        </p:grpSpPr>
        <p:sp>
          <p:nvSpPr>
            <p:cNvPr id="1815" name=""/>
            <p:cNvSpPr/>
            <p:nvPr/>
          </p:nvSpPr>
          <p:spPr>
            <a:xfrm flipV="1">
              <a:off x="8157960" y="4214160"/>
              <a:ext cx="276120" cy="7527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 flipH="1" flipV="1">
              <a:off x="8153280" y="3949920"/>
              <a:ext cx="280800" cy="2642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 flipH="1" flipV="1">
              <a:off x="8157600" y="4475160"/>
              <a:ext cx="276120" cy="2167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 flipV="1">
              <a:off x="8157960" y="3679560"/>
              <a:ext cx="276120" cy="7977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 flipV="1">
              <a:off x="8153280" y="3674880"/>
              <a:ext cx="271080" cy="2703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8158320" y="3950280"/>
              <a:ext cx="0" cy="10126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 flipV="1">
              <a:off x="8158320" y="4210560"/>
              <a:ext cx="271080" cy="2703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8434440" y="3684960"/>
              <a:ext cx="0" cy="10126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3" name=""/>
          <p:cNvSpPr/>
          <p:nvPr/>
        </p:nvSpPr>
        <p:spPr>
          <a:xfrm flipV="1">
            <a:off x="4137120" y="4832280"/>
            <a:ext cx="1460520" cy="22536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 flipV="1">
            <a:off x="7058160" y="5057280"/>
            <a:ext cx="0" cy="10112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 flipH="1" flipV="1">
            <a:off x="5597280" y="4832280"/>
            <a:ext cx="1460520" cy="22536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 flipV="1">
            <a:off x="4411800" y="4557600"/>
            <a:ext cx="1461960" cy="22392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 flipV="1">
            <a:off x="7334280" y="4781160"/>
            <a:ext cx="0" cy="10112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 flipH="1" flipV="1">
            <a:off x="5873400" y="4557600"/>
            <a:ext cx="1460520" cy="22392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 flipV="1">
            <a:off x="4687920" y="4281480"/>
            <a:ext cx="1460520" cy="22536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 flipV="1">
            <a:off x="7608960" y="4506480"/>
            <a:ext cx="0" cy="10112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 flipH="1" flipV="1">
            <a:off x="6148080" y="4281480"/>
            <a:ext cx="1460520" cy="22536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 flipV="1">
            <a:off x="4962600" y="4006800"/>
            <a:ext cx="1461960" cy="22392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 flipV="1">
            <a:off x="7885080" y="4230360"/>
            <a:ext cx="0" cy="10112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 flipH="1" flipV="1">
            <a:off x="6424200" y="4006800"/>
            <a:ext cx="1460520" cy="22392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 flipV="1">
            <a:off x="5238720" y="3730680"/>
            <a:ext cx="1460520" cy="22536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 flipV="1">
            <a:off x="8159760" y="3955680"/>
            <a:ext cx="0" cy="10112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 flipH="1" flipV="1">
            <a:off x="6698880" y="3730680"/>
            <a:ext cx="1460520" cy="22536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8" name=""/>
          <p:cNvGrpSpPr/>
          <p:nvPr/>
        </p:nvGrpSpPr>
        <p:grpSpPr>
          <a:xfrm>
            <a:off x="6781680" y="3960720"/>
            <a:ext cx="1650960" cy="2387160"/>
            <a:chOff x="6781680" y="3960720"/>
            <a:chExt cx="1650960" cy="2387160"/>
          </a:xfrm>
        </p:grpSpPr>
        <p:sp>
          <p:nvSpPr>
            <p:cNvPr id="1839" name=""/>
            <p:cNvSpPr/>
            <p:nvPr/>
          </p:nvSpPr>
          <p:spPr>
            <a:xfrm flipV="1">
              <a:off x="6781680" y="4696200"/>
              <a:ext cx="1650960" cy="16516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 flipV="1">
              <a:off x="6781680" y="3960720"/>
              <a:ext cx="1650960" cy="16516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 flipV="1">
              <a:off x="6781680" y="4213800"/>
              <a:ext cx="1650960" cy="16516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 flipV="1">
              <a:off x="6781680" y="4456080"/>
              <a:ext cx="1650960" cy="16516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3" name=""/>
          <p:cNvSpPr/>
          <p:nvPr/>
        </p:nvSpPr>
        <p:spPr>
          <a:xfrm flipV="1">
            <a:off x="6775560" y="3681360"/>
            <a:ext cx="1655640" cy="165096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 flipV="1">
            <a:off x="3862440" y="3681360"/>
            <a:ext cx="1650960" cy="165096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 flipV="1">
            <a:off x="5599080" y="3497400"/>
            <a:ext cx="1655640" cy="16524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 flipV="1">
            <a:off x="5846760" y="3519000"/>
            <a:ext cx="1657440" cy="165276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 flipV="1">
            <a:off x="6315120" y="3600000"/>
            <a:ext cx="1657440" cy="165276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 flipV="1">
            <a:off x="6545160" y="3648240"/>
            <a:ext cx="1656000" cy="16524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 flipV="1">
            <a:off x="4079880" y="3648240"/>
            <a:ext cx="1633680" cy="16524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 flipV="1">
            <a:off x="4351320" y="3610080"/>
            <a:ext cx="1635120" cy="16524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 flipV="1">
            <a:off x="4816440" y="3534840"/>
            <a:ext cx="1635120" cy="165276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 flipV="1">
            <a:off x="5067360" y="3490560"/>
            <a:ext cx="1641240" cy="165276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 flipV="1">
            <a:off x="4578480" y="3575160"/>
            <a:ext cx="1633320" cy="165096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 flipV="1">
            <a:off x="6053040" y="3565440"/>
            <a:ext cx="1657440" cy="166392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 flipV="1">
            <a:off x="3862440" y="5331960"/>
            <a:ext cx="0" cy="101124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 flipV="1">
            <a:off x="6781680" y="5331960"/>
            <a:ext cx="0" cy="101124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 flipV="1">
            <a:off x="5513400" y="3681000"/>
            <a:ext cx="0" cy="101124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 flipV="1">
            <a:off x="8432640" y="3681000"/>
            <a:ext cx="0" cy="101124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 flipV="1">
            <a:off x="3862440" y="5108400"/>
            <a:ext cx="1460520" cy="2239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 flipH="1" flipV="1">
            <a:off x="5322960" y="5108400"/>
            <a:ext cx="1458720" cy="2239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 flipV="1">
            <a:off x="5513400" y="3456000"/>
            <a:ext cx="1460520" cy="22536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 flipH="1" flipV="1">
            <a:off x="6973920" y="3456000"/>
            <a:ext cx="1458720" cy="22536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5100480" y="6046920"/>
            <a:ext cx="419400" cy="419040"/>
          </a:xfrm>
          <a:prstGeom prst="wedgeEllipseCallout">
            <a:avLst>
              <a:gd name="adj1" fmla="val 82574"/>
              <a:gd name="adj2" fmla="val -1185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8042400" y="5900760"/>
            <a:ext cx="419040" cy="419040"/>
          </a:xfrm>
          <a:prstGeom prst="wedgeEllipseCallout">
            <a:avLst>
              <a:gd name="adj1" fmla="val -352273"/>
              <a:gd name="adj2" fmla="val -287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>
            <a:hlinkClick r:id="" action="ppaction://hlinkshowjump?jump=previousslide"/>
          </p:cNvPr>
          <p:cNvSpPr/>
          <p:nvPr/>
        </p:nvSpPr>
        <p:spPr>
          <a:xfrm>
            <a:off x="243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128520" y="6613560"/>
            <a:ext cx="58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Arriè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7799400" y="1700280"/>
            <a:ext cx="420840" cy="345960"/>
          </a:xfrm>
          <a:custGeom>
            <a:avLst/>
            <a:gdLst>
              <a:gd name="textAreaLeft" fmla="*/ 22320 w 420840"/>
              <a:gd name="textAreaRight" fmla="*/ 398520 w 42084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26270" h="21600">
                <a:moveTo>
                  <a:pt x="0" y="0"/>
                </a:moveTo>
                <a:lnTo>
                  <a:pt x="26270" y="0"/>
                </a:lnTo>
                <a:lnTo>
                  <a:pt x="26270" y="21600"/>
                </a:lnTo>
                <a:lnTo>
                  <a:pt x="0" y="21600"/>
                </a:lnTo>
                <a:close/>
              </a:path>
              <a:path fill="lightenLess" w="26270" h="21600">
                <a:moveTo>
                  <a:pt x="0" y="0"/>
                </a:moveTo>
                <a:lnTo>
                  <a:pt x="26270" y="0"/>
                </a:lnTo>
                <a:lnTo>
                  <a:pt x="24870" y="1400"/>
                </a:lnTo>
                <a:lnTo>
                  <a:pt x="1400" y="1400"/>
                </a:lnTo>
                <a:close/>
              </a:path>
              <a:path fill="darken" w="26270" h="21600">
                <a:moveTo>
                  <a:pt x="26270" y="0"/>
                </a:moveTo>
                <a:lnTo>
                  <a:pt x="26270" y="21600"/>
                </a:lnTo>
                <a:lnTo>
                  <a:pt x="24870" y="20200"/>
                </a:lnTo>
                <a:lnTo>
                  <a:pt x="24870" y="1400"/>
                </a:lnTo>
                <a:close/>
              </a:path>
              <a:path fill="darkenLess" w="26270" h="21600">
                <a:moveTo>
                  <a:pt x="26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70" y="20200"/>
                </a:lnTo>
                <a:close/>
              </a:path>
              <a:path fill="lighten" w="26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>
            <a:hlinkClick r:id="rId1" action="ppaction://hlinksldjump"/>
          </p:cNvPr>
          <p:cNvSpPr/>
          <p:nvPr/>
        </p:nvSpPr>
        <p:spPr>
          <a:xfrm>
            <a:off x="7815240" y="1765440"/>
            <a:ext cx="38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6404040" y="1700280"/>
            <a:ext cx="420480" cy="345960"/>
          </a:xfrm>
          <a:custGeom>
            <a:avLst/>
            <a:gdLst>
              <a:gd name="textAreaLeft" fmla="*/ 22320 w 420480"/>
              <a:gd name="textAreaRight" fmla="*/ 398160 w 42048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26248" h="21600">
                <a:moveTo>
                  <a:pt x="0" y="0"/>
                </a:moveTo>
                <a:lnTo>
                  <a:pt x="26248" y="0"/>
                </a:lnTo>
                <a:lnTo>
                  <a:pt x="26248" y="21600"/>
                </a:lnTo>
                <a:lnTo>
                  <a:pt x="0" y="21600"/>
                </a:lnTo>
                <a:close/>
              </a:path>
              <a:path fill="lightenLess" w="26248" h="21600">
                <a:moveTo>
                  <a:pt x="0" y="0"/>
                </a:moveTo>
                <a:lnTo>
                  <a:pt x="26248" y="0"/>
                </a:lnTo>
                <a:lnTo>
                  <a:pt x="24848" y="1400"/>
                </a:lnTo>
                <a:lnTo>
                  <a:pt x="1400" y="1400"/>
                </a:lnTo>
                <a:close/>
              </a:path>
              <a:path fill="darken" w="26248" h="21600">
                <a:moveTo>
                  <a:pt x="26248" y="0"/>
                </a:moveTo>
                <a:lnTo>
                  <a:pt x="26248" y="21600"/>
                </a:lnTo>
                <a:lnTo>
                  <a:pt x="24848" y="20200"/>
                </a:lnTo>
                <a:lnTo>
                  <a:pt x="24848" y="1400"/>
                </a:lnTo>
                <a:close/>
              </a:path>
              <a:path fill="darkenLess" w="26248" h="21600">
                <a:moveTo>
                  <a:pt x="26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48" y="20200"/>
                </a:lnTo>
                <a:close/>
              </a:path>
              <a:path fill="lighten" w="26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6419880" y="1765440"/>
            <a:ext cx="38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7101000" y="1700280"/>
            <a:ext cx="420480" cy="345960"/>
          </a:xfrm>
          <a:custGeom>
            <a:avLst/>
            <a:gdLst>
              <a:gd name="textAreaLeft" fmla="*/ 22320 w 420480"/>
              <a:gd name="textAreaRight" fmla="*/ 398160 w 42048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26248" h="21600">
                <a:moveTo>
                  <a:pt x="0" y="0"/>
                </a:moveTo>
                <a:lnTo>
                  <a:pt x="26248" y="0"/>
                </a:lnTo>
                <a:lnTo>
                  <a:pt x="26248" y="21600"/>
                </a:lnTo>
                <a:lnTo>
                  <a:pt x="0" y="21600"/>
                </a:lnTo>
                <a:close/>
              </a:path>
              <a:path fill="lightenLess" w="26248" h="21600">
                <a:moveTo>
                  <a:pt x="0" y="0"/>
                </a:moveTo>
                <a:lnTo>
                  <a:pt x="26248" y="0"/>
                </a:lnTo>
                <a:lnTo>
                  <a:pt x="24848" y="1400"/>
                </a:lnTo>
                <a:lnTo>
                  <a:pt x="1400" y="1400"/>
                </a:lnTo>
                <a:close/>
              </a:path>
              <a:path fill="darken" w="26248" h="21600">
                <a:moveTo>
                  <a:pt x="26248" y="0"/>
                </a:moveTo>
                <a:lnTo>
                  <a:pt x="26248" y="21600"/>
                </a:lnTo>
                <a:lnTo>
                  <a:pt x="24848" y="20200"/>
                </a:lnTo>
                <a:lnTo>
                  <a:pt x="24848" y="1400"/>
                </a:lnTo>
                <a:close/>
              </a:path>
              <a:path fill="darkenLess" w="26248" h="21600">
                <a:moveTo>
                  <a:pt x="26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48" y="20200"/>
                </a:lnTo>
                <a:close/>
              </a:path>
              <a:path fill="lighten" w="26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>
            <a:hlinkClick r:id="rId2" action="ppaction://hlinksldjump"/>
          </p:cNvPr>
          <p:cNvSpPr/>
          <p:nvPr/>
        </p:nvSpPr>
        <p:spPr>
          <a:xfrm>
            <a:off x="7116840" y="1765440"/>
            <a:ext cx="38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7799400" y="2205000"/>
            <a:ext cx="420840" cy="345960"/>
          </a:xfrm>
          <a:custGeom>
            <a:avLst/>
            <a:gdLst>
              <a:gd name="textAreaLeft" fmla="*/ 22320 w 420840"/>
              <a:gd name="textAreaRight" fmla="*/ 398520 w 42084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26270" h="21600">
                <a:moveTo>
                  <a:pt x="0" y="0"/>
                </a:moveTo>
                <a:lnTo>
                  <a:pt x="26270" y="0"/>
                </a:lnTo>
                <a:lnTo>
                  <a:pt x="26270" y="21600"/>
                </a:lnTo>
                <a:lnTo>
                  <a:pt x="0" y="21600"/>
                </a:lnTo>
                <a:close/>
              </a:path>
              <a:path fill="lightenLess" w="26270" h="21600">
                <a:moveTo>
                  <a:pt x="0" y="0"/>
                </a:moveTo>
                <a:lnTo>
                  <a:pt x="26270" y="0"/>
                </a:lnTo>
                <a:lnTo>
                  <a:pt x="24870" y="1400"/>
                </a:lnTo>
                <a:lnTo>
                  <a:pt x="1400" y="1400"/>
                </a:lnTo>
                <a:close/>
              </a:path>
              <a:path fill="darken" w="26270" h="21600">
                <a:moveTo>
                  <a:pt x="26270" y="0"/>
                </a:moveTo>
                <a:lnTo>
                  <a:pt x="26270" y="21600"/>
                </a:lnTo>
                <a:lnTo>
                  <a:pt x="24870" y="20200"/>
                </a:lnTo>
                <a:lnTo>
                  <a:pt x="24870" y="1400"/>
                </a:lnTo>
                <a:close/>
              </a:path>
              <a:path fill="darkenLess" w="26270" h="21600">
                <a:moveTo>
                  <a:pt x="26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70" y="20200"/>
                </a:lnTo>
                <a:close/>
              </a:path>
              <a:path fill="lighten" w="26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>
            <a:hlinkClick r:id="" action="ppaction://hlinkshowjump?jump=nextslide"/>
          </p:cNvPr>
          <p:cNvSpPr/>
          <p:nvPr/>
        </p:nvSpPr>
        <p:spPr>
          <a:xfrm>
            <a:off x="7815240" y="2270160"/>
            <a:ext cx="388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6404040" y="2205000"/>
            <a:ext cx="420480" cy="345960"/>
          </a:xfrm>
          <a:custGeom>
            <a:avLst/>
            <a:gdLst>
              <a:gd name="textAreaLeft" fmla="*/ 22320 w 420480"/>
              <a:gd name="textAreaRight" fmla="*/ 398160 w 42048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26248" h="21600">
                <a:moveTo>
                  <a:pt x="0" y="0"/>
                </a:moveTo>
                <a:lnTo>
                  <a:pt x="26248" y="0"/>
                </a:lnTo>
                <a:lnTo>
                  <a:pt x="26248" y="21600"/>
                </a:lnTo>
                <a:lnTo>
                  <a:pt x="0" y="21600"/>
                </a:lnTo>
                <a:close/>
              </a:path>
              <a:path fill="lightenLess" w="26248" h="21600">
                <a:moveTo>
                  <a:pt x="0" y="0"/>
                </a:moveTo>
                <a:lnTo>
                  <a:pt x="26248" y="0"/>
                </a:lnTo>
                <a:lnTo>
                  <a:pt x="24848" y="1400"/>
                </a:lnTo>
                <a:lnTo>
                  <a:pt x="1400" y="1400"/>
                </a:lnTo>
                <a:close/>
              </a:path>
              <a:path fill="darken" w="26248" h="21600">
                <a:moveTo>
                  <a:pt x="26248" y="0"/>
                </a:moveTo>
                <a:lnTo>
                  <a:pt x="26248" y="21600"/>
                </a:lnTo>
                <a:lnTo>
                  <a:pt x="24848" y="20200"/>
                </a:lnTo>
                <a:lnTo>
                  <a:pt x="24848" y="1400"/>
                </a:lnTo>
                <a:close/>
              </a:path>
              <a:path fill="darkenLess" w="26248" h="21600">
                <a:moveTo>
                  <a:pt x="26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48" y="20200"/>
                </a:lnTo>
                <a:close/>
              </a:path>
              <a:path fill="lighten" w="26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>
            <a:hlinkClick r:id="rId3" action="ppaction://hlinksldjump"/>
          </p:cNvPr>
          <p:cNvSpPr/>
          <p:nvPr/>
        </p:nvSpPr>
        <p:spPr>
          <a:xfrm>
            <a:off x="6419880" y="2270160"/>
            <a:ext cx="388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7101000" y="2205000"/>
            <a:ext cx="420480" cy="345960"/>
          </a:xfrm>
          <a:custGeom>
            <a:avLst/>
            <a:gdLst>
              <a:gd name="textAreaLeft" fmla="*/ 22320 w 420480"/>
              <a:gd name="textAreaRight" fmla="*/ 398160 w 42048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26248" h="21600">
                <a:moveTo>
                  <a:pt x="0" y="0"/>
                </a:moveTo>
                <a:lnTo>
                  <a:pt x="26248" y="0"/>
                </a:lnTo>
                <a:lnTo>
                  <a:pt x="26248" y="21600"/>
                </a:lnTo>
                <a:lnTo>
                  <a:pt x="0" y="21600"/>
                </a:lnTo>
                <a:close/>
              </a:path>
              <a:path fill="lightenLess" w="26248" h="21600">
                <a:moveTo>
                  <a:pt x="0" y="0"/>
                </a:moveTo>
                <a:lnTo>
                  <a:pt x="26248" y="0"/>
                </a:lnTo>
                <a:lnTo>
                  <a:pt x="24848" y="1400"/>
                </a:lnTo>
                <a:lnTo>
                  <a:pt x="1400" y="1400"/>
                </a:lnTo>
                <a:close/>
              </a:path>
              <a:path fill="darken" w="26248" h="21600">
                <a:moveTo>
                  <a:pt x="26248" y="0"/>
                </a:moveTo>
                <a:lnTo>
                  <a:pt x="26248" y="21600"/>
                </a:lnTo>
                <a:lnTo>
                  <a:pt x="24848" y="20200"/>
                </a:lnTo>
                <a:lnTo>
                  <a:pt x="24848" y="1400"/>
                </a:lnTo>
                <a:close/>
              </a:path>
              <a:path fill="darkenLess" w="26248" h="21600">
                <a:moveTo>
                  <a:pt x="26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48" y="20200"/>
                </a:lnTo>
                <a:close/>
              </a:path>
              <a:path fill="lighten" w="26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7116840" y="2270160"/>
            <a:ext cx="388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6216480" y="276228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0" name=""/>
          <p:cNvGrpSpPr/>
          <p:nvPr/>
        </p:nvGrpSpPr>
        <p:grpSpPr>
          <a:xfrm>
            <a:off x="311040" y="3159000"/>
            <a:ext cx="4708800" cy="1800360"/>
            <a:chOff x="311040" y="3159000"/>
            <a:chExt cx="4708800" cy="1800360"/>
          </a:xfrm>
        </p:grpSpPr>
        <p:grpSp>
          <p:nvGrpSpPr>
            <p:cNvPr id="1881" name=""/>
            <p:cNvGrpSpPr/>
            <p:nvPr/>
          </p:nvGrpSpPr>
          <p:grpSpPr>
            <a:xfrm>
              <a:off x="594360" y="3471480"/>
              <a:ext cx="1236240" cy="1219680"/>
              <a:chOff x="594360" y="3471480"/>
              <a:chExt cx="1236240" cy="1219680"/>
            </a:xfrm>
          </p:grpSpPr>
          <p:sp>
            <p:nvSpPr>
              <p:cNvPr id="1882" name=""/>
              <p:cNvSpPr/>
              <p:nvPr/>
            </p:nvSpPr>
            <p:spPr>
              <a:xfrm>
                <a:off x="1694880" y="3471480"/>
                <a:ext cx="135720" cy="135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1413720" y="3727440"/>
                <a:ext cx="135360" cy="13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1144800" y="3992760"/>
                <a:ext cx="135360" cy="135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867240" y="4268520"/>
                <a:ext cx="136080" cy="135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594360" y="4555800"/>
                <a:ext cx="135720" cy="135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7" name=""/>
            <p:cNvGrpSpPr/>
            <p:nvPr/>
          </p:nvGrpSpPr>
          <p:grpSpPr>
            <a:xfrm>
              <a:off x="3526200" y="3449880"/>
              <a:ext cx="1216080" cy="1232280"/>
              <a:chOff x="3526200" y="3449880"/>
              <a:chExt cx="1216080" cy="1232280"/>
            </a:xfrm>
          </p:grpSpPr>
          <p:sp>
            <p:nvSpPr>
              <p:cNvPr id="1888" name=""/>
              <p:cNvSpPr/>
              <p:nvPr/>
            </p:nvSpPr>
            <p:spPr>
              <a:xfrm>
                <a:off x="4606920" y="3449880"/>
                <a:ext cx="135360" cy="135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4335480" y="3719160"/>
                <a:ext cx="135720" cy="136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4066560" y="3984120"/>
                <a:ext cx="135720" cy="135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3782520" y="4259520"/>
                <a:ext cx="138960" cy="13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3526200" y="4546800"/>
                <a:ext cx="135360" cy="135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3" name=""/>
            <p:cNvGrpSpPr/>
            <p:nvPr/>
          </p:nvGrpSpPr>
          <p:grpSpPr>
            <a:xfrm>
              <a:off x="1955520" y="3159000"/>
              <a:ext cx="3064320" cy="138960"/>
              <a:chOff x="1955520" y="3159000"/>
              <a:chExt cx="3064320" cy="138960"/>
            </a:xfrm>
          </p:grpSpPr>
          <p:sp>
            <p:nvSpPr>
              <p:cNvPr id="1894" name=""/>
              <p:cNvSpPr/>
              <p:nvPr/>
            </p:nvSpPr>
            <p:spPr>
              <a:xfrm>
                <a:off x="4884120" y="3162600"/>
                <a:ext cx="135720" cy="135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1955520" y="3159000"/>
                <a:ext cx="135720" cy="13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3927600" y="3159000"/>
                <a:ext cx="135720" cy="13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2450880" y="3159360"/>
                <a:ext cx="135720" cy="135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2909880" y="3159360"/>
                <a:ext cx="135720" cy="135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3398040" y="3159360"/>
                <a:ext cx="135360" cy="135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4417560" y="3159360"/>
                <a:ext cx="135360" cy="135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1" name=""/>
            <p:cNvGrpSpPr/>
            <p:nvPr/>
          </p:nvGrpSpPr>
          <p:grpSpPr>
            <a:xfrm>
              <a:off x="311040" y="4823640"/>
              <a:ext cx="3057480" cy="135720"/>
              <a:chOff x="311040" y="4823640"/>
              <a:chExt cx="3057480" cy="135720"/>
            </a:xfrm>
          </p:grpSpPr>
          <p:sp>
            <p:nvSpPr>
              <p:cNvPr id="1902" name=""/>
              <p:cNvSpPr/>
              <p:nvPr/>
            </p:nvSpPr>
            <p:spPr>
              <a:xfrm>
                <a:off x="3232800" y="4823640"/>
                <a:ext cx="135720" cy="13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311040" y="4823640"/>
                <a:ext cx="135720" cy="135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802440" y="4823640"/>
                <a:ext cx="135360" cy="135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1271160" y="4823640"/>
                <a:ext cx="135720" cy="135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2287440" y="4823640"/>
                <a:ext cx="135360" cy="135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2756160" y="4823640"/>
                <a:ext cx="135360" cy="135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08" name=""/>
          <p:cNvGrpSpPr/>
          <p:nvPr/>
        </p:nvGrpSpPr>
        <p:grpSpPr>
          <a:xfrm>
            <a:off x="380880" y="1482840"/>
            <a:ext cx="5308560" cy="3741480"/>
            <a:chOff x="380880" y="1482840"/>
            <a:chExt cx="5308560" cy="3741480"/>
          </a:xfrm>
        </p:grpSpPr>
        <p:sp>
          <p:nvSpPr>
            <p:cNvPr id="1909" name=""/>
            <p:cNvSpPr/>
            <p:nvPr/>
          </p:nvSpPr>
          <p:spPr>
            <a:xfrm flipV="1">
              <a:off x="2046240" y="2130120"/>
              <a:ext cx="0" cy="10112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 flipV="1">
              <a:off x="1771560" y="2404800"/>
              <a:ext cx="0" cy="10112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 flipV="1">
              <a:off x="1495440" y="2679480"/>
              <a:ext cx="0" cy="10112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 flipV="1">
              <a:off x="669960" y="3504960"/>
              <a:ext cx="0" cy="10112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 flipV="1">
              <a:off x="944640" y="3230280"/>
              <a:ext cx="0" cy="10112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 flipV="1">
              <a:off x="1220760" y="2955960"/>
              <a:ext cx="0" cy="1009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5" name=""/>
            <p:cNvGrpSpPr/>
            <p:nvPr/>
          </p:nvGrpSpPr>
          <p:grpSpPr>
            <a:xfrm>
              <a:off x="1766880" y="2138040"/>
              <a:ext cx="281160" cy="1292040"/>
              <a:chOff x="1766880" y="2138040"/>
              <a:chExt cx="281160" cy="1292040"/>
            </a:xfrm>
          </p:grpSpPr>
          <p:sp>
            <p:nvSpPr>
              <p:cNvPr id="1916" name=""/>
              <p:cNvSpPr/>
              <p:nvPr/>
            </p:nvSpPr>
            <p:spPr>
              <a:xfrm flipV="1">
                <a:off x="1771560" y="2677320"/>
                <a:ext cx="276120" cy="752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 flipH="1" flipV="1">
                <a:off x="1766880" y="2413080"/>
                <a:ext cx="280800" cy="2642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 flipH="1" flipV="1">
                <a:off x="1771200" y="2938320"/>
                <a:ext cx="276120" cy="2167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 flipV="1">
                <a:off x="1771560" y="2142720"/>
                <a:ext cx="276120" cy="797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 flipV="1">
                <a:off x="1766880" y="2138040"/>
                <a:ext cx="271080" cy="270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1771920" y="2413440"/>
                <a:ext cx="0" cy="10126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 flipV="1">
                <a:off x="1771920" y="2673720"/>
                <a:ext cx="271080" cy="270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2048040" y="2148120"/>
                <a:ext cx="0" cy="10126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4" name=""/>
            <p:cNvGrpSpPr/>
            <p:nvPr/>
          </p:nvGrpSpPr>
          <p:grpSpPr>
            <a:xfrm>
              <a:off x="390240" y="3509640"/>
              <a:ext cx="281160" cy="1292040"/>
              <a:chOff x="390240" y="3509640"/>
              <a:chExt cx="281160" cy="1292040"/>
            </a:xfrm>
          </p:grpSpPr>
          <p:sp>
            <p:nvSpPr>
              <p:cNvPr id="1925" name=""/>
              <p:cNvSpPr/>
              <p:nvPr/>
            </p:nvSpPr>
            <p:spPr>
              <a:xfrm flipV="1">
                <a:off x="395280" y="4048920"/>
                <a:ext cx="275760" cy="752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 flipH="1" flipV="1">
                <a:off x="390240" y="3784680"/>
                <a:ext cx="280440" cy="2642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 flipH="1" flipV="1">
                <a:off x="395280" y="4309920"/>
                <a:ext cx="275760" cy="2167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 flipV="1">
                <a:off x="395280" y="3514320"/>
                <a:ext cx="275760" cy="797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 flipV="1">
                <a:off x="390600" y="3509640"/>
                <a:ext cx="270720" cy="270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395640" y="3785040"/>
                <a:ext cx="0" cy="10126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 flipV="1">
                <a:off x="395640" y="4045320"/>
                <a:ext cx="270720" cy="270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671400" y="3519720"/>
                <a:ext cx="0" cy="10126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3" name=""/>
            <p:cNvGrpSpPr/>
            <p:nvPr/>
          </p:nvGrpSpPr>
          <p:grpSpPr>
            <a:xfrm>
              <a:off x="395280" y="2426760"/>
              <a:ext cx="1650960" cy="2369880"/>
              <a:chOff x="395280" y="2426760"/>
              <a:chExt cx="1650960" cy="2369880"/>
            </a:xfrm>
          </p:grpSpPr>
          <p:sp>
            <p:nvSpPr>
              <p:cNvPr id="1934" name=""/>
              <p:cNvSpPr/>
              <p:nvPr/>
            </p:nvSpPr>
            <p:spPr>
              <a:xfrm flipV="1">
                <a:off x="395280" y="2426760"/>
                <a:ext cx="1650960" cy="1650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 flipV="1">
                <a:off x="395280" y="2679840"/>
                <a:ext cx="1650960" cy="1650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 flipV="1">
                <a:off x="395280" y="2904120"/>
                <a:ext cx="1650960" cy="1650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 flipV="1">
                <a:off x="395280" y="3146040"/>
                <a:ext cx="1650960" cy="1650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8" name=""/>
            <p:cNvGrpSpPr/>
            <p:nvPr/>
          </p:nvGrpSpPr>
          <p:grpSpPr>
            <a:xfrm>
              <a:off x="2028960" y="2141640"/>
              <a:ext cx="2949480" cy="995400"/>
              <a:chOff x="2028960" y="2141640"/>
              <a:chExt cx="2949480" cy="995400"/>
            </a:xfrm>
          </p:grpSpPr>
          <p:sp>
            <p:nvSpPr>
              <p:cNvPr id="1939" name=""/>
              <p:cNvSpPr/>
              <p:nvPr/>
            </p:nvSpPr>
            <p:spPr>
              <a:xfrm>
                <a:off x="2058840" y="2141640"/>
                <a:ext cx="29196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2050920" y="2432520"/>
                <a:ext cx="29196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2040120" y="2910600"/>
                <a:ext cx="293328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2052000" y="2671560"/>
                <a:ext cx="292176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2028960" y="3137040"/>
                <a:ext cx="29196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4" name=""/>
            <p:cNvGrpSpPr/>
            <p:nvPr/>
          </p:nvGrpSpPr>
          <p:grpSpPr>
            <a:xfrm>
              <a:off x="2046240" y="1900080"/>
              <a:ext cx="2919600" cy="1231920"/>
              <a:chOff x="2046240" y="1900080"/>
              <a:chExt cx="2919600" cy="1231920"/>
            </a:xfrm>
          </p:grpSpPr>
          <p:sp>
            <p:nvSpPr>
              <p:cNvPr id="1945" name=""/>
              <p:cNvSpPr/>
              <p:nvPr/>
            </p:nvSpPr>
            <p:spPr>
              <a:xfrm>
                <a:off x="4498560" y="2052720"/>
                <a:ext cx="0" cy="10792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4965840" y="2134080"/>
                <a:ext cx="0" cy="997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4011480" y="1988640"/>
                <a:ext cx="0" cy="1143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3506760" y="1900080"/>
                <a:ext cx="0" cy="1231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3000600" y="1977480"/>
                <a:ext cx="0" cy="11545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2046240" y="2129040"/>
                <a:ext cx="0" cy="1002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2534400" y="2060640"/>
                <a:ext cx="0" cy="1071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2" name=""/>
            <p:cNvSpPr/>
            <p:nvPr/>
          </p:nvSpPr>
          <p:spPr>
            <a:xfrm>
              <a:off x="4140360" y="2120760"/>
              <a:ext cx="831600" cy="1854360"/>
            </a:xfrm>
            <a:custGeom>
              <a:avLst/>
              <a:gdLst/>
              <a:ahLst/>
              <a:rect l="l" t="t" r="r" b="b"/>
              <a:pathLst>
                <a:path w="524" h="1156">
                  <a:moveTo>
                    <a:pt x="0" y="516"/>
                  </a:moveTo>
                  <a:lnTo>
                    <a:pt x="0" y="1156"/>
                  </a:lnTo>
                  <a:lnTo>
                    <a:pt x="520" y="640"/>
                  </a:lnTo>
                  <a:lnTo>
                    <a:pt x="524" y="0"/>
                  </a:lnTo>
                  <a:lnTo>
                    <a:pt x="0" y="516"/>
                  </a:ln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393840" y="2730600"/>
              <a:ext cx="2292120" cy="1041480"/>
            </a:xfrm>
            <a:custGeom>
              <a:avLst/>
              <a:gdLst/>
              <a:ahLst/>
              <a:rect l="l" t="t" r="r" b="b"/>
              <a:pathLst>
                <a:path w="1444" h="656">
                  <a:moveTo>
                    <a:pt x="0" y="656"/>
                  </a:moveTo>
                  <a:lnTo>
                    <a:pt x="924" y="520"/>
                  </a:lnTo>
                  <a:lnTo>
                    <a:pt x="1444" y="0"/>
                  </a:lnTo>
                  <a:lnTo>
                    <a:pt x="520" y="140"/>
                  </a:lnTo>
                  <a:lnTo>
                    <a:pt x="0" y="656"/>
                  </a:lnTo>
                  <a:close/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1860480" y="1911240"/>
              <a:ext cx="3098880" cy="1866960"/>
            </a:xfrm>
            <a:custGeom>
              <a:avLst/>
              <a:gdLst/>
              <a:ahLst/>
              <a:rect l="l" t="t" r="r" b="b"/>
              <a:pathLst>
                <a:path w="1952" h="1176">
                  <a:moveTo>
                    <a:pt x="916" y="1176"/>
                  </a:moveTo>
                  <a:lnTo>
                    <a:pt x="1952" y="136"/>
                  </a:lnTo>
                  <a:lnTo>
                    <a:pt x="1040" y="0"/>
                  </a:lnTo>
                  <a:lnTo>
                    <a:pt x="0" y="1040"/>
                  </a:lnTo>
                  <a:lnTo>
                    <a:pt x="916" y="1176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393840" y="3556080"/>
              <a:ext cx="2921040" cy="1244520"/>
            </a:xfrm>
            <a:custGeom>
              <a:avLst/>
              <a:gdLst/>
              <a:ahLst/>
              <a:rect l="l" t="t" r="r" b="b"/>
              <a:pathLst>
                <a:path w="1840" h="784">
                  <a:moveTo>
                    <a:pt x="0" y="780"/>
                  </a:moveTo>
                  <a:lnTo>
                    <a:pt x="0" y="140"/>
                  </a:lnTo>
                  <a:lnTo>
                    <a:pt x="924" y="0"/>
                  </a:lnTo>
                  <a:lnTo>
                    <a:pt x="1840" y="140"/>
                  </a:lnTo>
                  <a:lnTo>
                    <a:pt x="1840" y="784"/>
                  </a:lnTo>
                  <a:lnTo>
                    <a:pt x="0" y="78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6" name=""/>
            <p:cNvGrpSpPr/>
            <p:nvPr/>
          </p:nvGrpSpPr>
          <p:grpSpPr>
            <a:xfrm>
              <a:off x="392040" y="3787920"/>
              <a:ext cx="2935080" cy="1011240"/>
              <a:chOff x="392040" y="3787920"/>
              <a:chExt cx="2935080" cy="1011240"/>
            </a:xfrm>
          </p:grpSpPr>
          <p:sp>
            <p:nvSpPr>
              <p:cNvPr id="1957" name=""/>
              <p:cNvSpPr/>
              <p:nvPr/>
            </p:nvSpPr>
            <p:spPr>
              <a:xfrm>
                <a:off x="2369160" y="4799160"/>
                <a:ext cx="9504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407520" y="3787920"/>
                <a:ext cx="29196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399600" y="4078800"/>
                <a:ext cx="29196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2364120" y="4556880"/>
                <a:ext cx="95832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392040" y="4318200"/>
                <a:ext cx="96156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2364120" y="4318200"/>
                <a:ext cx="95832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399600" y="4556880"/>
                <a:ext cx="96156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399600" y="4793400"/>
                <a:ext cx="9504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65" name=""/>
            <p:cNvSpPr/>
            <p:nvPr/>
          </p:nvSpPr>
          <p:spPr>
            <a:xfrm>
              <a:off x="1860480" y="3571920"/>
              <a:ext cx="0" cy="5047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6" name=""/>
            <p:cNvGrpSpPr/>
            <p:nvPr/>
          </p:nvGrpSpPr>
          <p:grpSpPr>
            <a:xfrm>
              <a:off x="390240" y="3635280"/>
              <a:ext cx="2929320" cy="1158840"/>
              <a:chOff x="390240" y="3635280"/>
              <a:chExt cx="2929320" cy="1158840"/>
            </a:xfrm>
          </p:grpSpPr>
          <p:sp>
            <p:nvSpPr>
              <p:cNvPr id="1967" name=""/>
              <p:cNvSpPr/>
              <p:nvPr/>
            </p:nvSpPr>
            <p:spPr>
              <a:xfrm>
                <a:off x="2852280" y="3710160"/>
                <a:ext cx="0" cy="1083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3319560" y="3786480"/>
                <a:ext cx="0" cy="9975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2365200" y="3641400"/>
                <a:ext cx="0" cy="11476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1354680" y="3635280"/>
                <a:ext cx="0" cy="11541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 flipH="1">
                <a:off x="390240" y="3781440"/>
                <a:ext cx="9720" cy="10123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888480" y="3718080"/>
                <a:ext cx="0" cy="1071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3" name=""/>
            <p:cNvGrpSpPr/>
            <p:nvPr/>
          </p:nvGrpSpPr>
          <p:grpSpPr>
            <a:xfrm>
              <a:off x="3309840" y="3499920"/>
              <a:ext cx="281160" cy="1292400"/>
              <a:chOff x="3309840" y="3499920"/>
              <a:chExt cx="281160" cy="1292400"/>
            </a:xfrm>
          </p:grpSpPr>
          <p:sp>
            <p:nvSpPr>
              <p:cNvPr id="1974" name=""/>
              <p:cNvSpPr/>
              <p:nvPr/>
            </p:nvSpPr>
            <p:spPr>
              <a:xfrm flipV="1">
                <a:off x="3314520" y="4039560"/>
                <a:ext cx="276120" cy="752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 flipH="1" flipV="1">
                <a:off x="3309840" y="3775320"/>
                <a:ext cx="280800" cy="2642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 flipH="1" flipV="1">
                <a:off x="3314160" y="4300560"/>
                <a:ext cx="276120" cy="2167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 flipV="1">
                <a:off x="3314520" y="3504240"/>
                <a:ext cx="276120" cy="798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 flipV="1">
                <a:off x="3309840" y="3499920"/>
                <a:ext cx="271080" cy="270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3314880" y="3775680"/>
                <a:ext cx="0" cy="10126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 flipV="1">
                <a:off x="3314880" y="4035600"/>
                <a:ext cx="271080" cy="270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3591000" y="3510000"/>
                <a:ext cx="0" cy="10126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2" name=""/>
            <p:cNvGrpSpPr/>
            <p:nvPr/>
          </p:nvGrpSpPr>
          <p:grpSpPr>
            <a:xfrm>
              <a:off x="4686120" y="2123640"/>
              <a:ext cx="281160" cy="1292400"/>
              <a:chOff x="4686120" y="2123640"/>
              <a:chExt cx="281160" cy="1292400"/>
            </a:xfrm>
          </p:grpSpPr>
          <p:sp>
            <p:nvSpPr>
              <p:cNvPr id="1983" name=""/>
              <p:cNvSpPr/>
              <p:nvPr/>
            </p:nvSpPr>
            <p:spPr>
              <a:xfrm flipV="1">
                <a:off x="4691160" y="2663280"/>
                <a:ext cx="275760" cy="752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 flipH="1" flipV="1">
                <a:off x="4686120" y="2399040"/>
                <a:ext cx="280440" cy="2642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 flipH="1" flipV="1">
                <a:off x="4691160" y="2924280"/>
                <a:ext cx="275760" cy="2167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 flipV="1">
                <a:off x="4691160" y="2127960"/>
                <a:ext cx="275760" cy="798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 flipV="1">
                <a:off x="4686480" y="2123640"/>
                <a:ext cx="270720" cy="270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4691520" y="2399400"/>
                <a:ext cx="0" cy="10126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 flipV="1">
                <a:off x="4691520" y="2659320"/>
                <a:ext cx="270720" cy="270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4967280" y="2133720"/>
                <a:ext cx="0" cy="10126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1" name=""/>
            <p:cNvSpPr/>
            <p:nvPr/>
          </p:nvSpPr>
          <p:spPr>
            <a:xfrm flipV="1">
              <a:off x="669960" y="3281400"/>
              <a:ext cx="1460520" cy="2239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 flipV="1">
              <a:off x="3589200" y="3504960"/>
              <a:ext cx="0" cy="10112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 flipH="1" flipV="1">
              <a:off x="2130480" y="3281400"/>
              <a:ext cx="1458720" cy="2239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 flipV="1">
              <a:off x="944640" y="3006720"/>
              <a:ext cx="1460520" cy="2239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 flipV="1">
              <a:off x="3865680" y="3230280"/>
              <a:ext cx="0" cy="10112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 flipH="1" flipV="1">
              <a:off x="2404800" y="3006720"/>
              <a:ext cx="1460520" cy="2239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 flipV="1">
              <a:off x="1220760" y="2732040"/>
              <a:ext cx="1460520" cy="2239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 flipV="1">
              <a:off x="4140360" y="2955960"/>
              <a:ext cx="0" cy="1009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 flipH="1" flipV="1">
              <a:off x="2680920" y="2732040"/>
              <a:ext cx="1459080" cy="2239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 flipV="1">
              <a:off x="1495440" y="2455920"/>
              <a:ext cx="1460520" cy="2239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 flipV="1">
              <a:off x="4416480" y="2679480"/>
              <a:ext cx="0" cy="10112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 flipH="1" flipV="1">
              <a:off x="2955600" y="2455920"/>
              <a:ext cx="1460520" cy="2239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 flipV="1">
              <a:off x="1771560" y="2181240"/>
              <a:ext cx="1460520" cy="2239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 flipV="1">
              <a:off x="4691160" y="2404800"/>
              <a:ext cx="0" cy="10112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 flipH="1" flipV="1">
              <a:off x="3231720" y="2181240"/>
              <a:ext cx="1459080" cy="2239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6" name=""/>
            <p:cNvGrpSpPr/>
            <p:nvPr/>
          </p:nvGrpSpPr>
          <p:grpSpPr>
            <a:xfrm>
              <a:off x="3316320" y="2411280"/>
              <a:ext cx="1650960" cy="2386080"/>
              <a:chOff x="3316320" y="2411280"/>
              <a:chExt cx="1650960" cy="2386080"/>
            </a:xfrm>
          </p:grpSpPr>
          <p:sp>
            <p:nvSpPr>
              <p:cNvPr id="2007" name=""/>
              <p:cNvSpPr/>
              <p:nvPr/>
            </p:nvSpPr>
            <p:spPr>
              <a:xfrm flipV="1">
                <a:off x="3316320" y="3146400"/>
                <a:ext cx="1650960" cy="1650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 flipV="1">
                <a:off x="3316320" y="2411280"/>
                <a:ext cx="1650960" cy="1650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 flipV="1">
                <a:off x="3316320" y="2664000"/>
                <a:ext cx="1650960" cy="1650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 flipV="1">
                <a:off x="3316320" y="2906280"/>
                <a:ext cx="1650960" cy="1650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1" name=""/>
            <p:cNvSpPr/>
            <p:nvPr/>
          </p:nvSpPr>
          <p:spPr>
            <a:xfrm flipV="1">
              <a:off x="1859040" y="1914480"/>
              <a:ext cx="1655640" cy="1650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12" name=""/>
            <p:cNvGrpSpPr/>
            <p:nvPr/>
          </p:nvGrpSpPr>
          <p:grpSpPr>
            <a:xfrm>
              <a:off x="395280" y="2130480"/>
              <a:ext cx="4568760" cy="1650960"/>
              <a:chOff x="395280" y="2130480"/>
              <a:chExt cx="4568760" cy="1650960"/>
            </a:xfrm>
          </p:grpSpPr>
          <p:sp>
            <p:nvSpPr>
              <p:cNvPr id="2013" name=""/>
              <p:cNvSpPr/>
              <p:nvPr/>
            </p:nvSpPr>
            <p:spPr>
              <a:xfrm flipV="1">
                <a:off x="3307680" y="2130480"/>
                <a:ext cx="1656360" cy="1650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 flipV="1">
                <a:off x="395280" y="2130480"/>
                <a:ext cx="1651680" cy="1650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5" name=""/>
            <p:cNvGrpSpPr/>
            <p:nvPr/>
          </p:nvGrpSpPr>
          <p:grpSpPr>
            <a:xfrm>
              <a:off x="612720" y="1941120"/>
              <a:ext cx="4119480" cy="1809720"/>
              <a:chOff x="612720" y="1941120"/>
              <a:chExt cx="4119480" cy="1809720"/>
            </a:xfrm>
          </p:grpSpPr>
          <p:sp>
            <p:nvSpPr>
              <p:cNvPr id="2016" name=""/>
              <p:cNvSpPr/>
              <p:nvPr/>
            </p:nvSpPr>
            <p:spPr>
              <a:xfrm flipV="1">
                <a:off x="2130840" y="1947960"/>
                <a:ext cx="1655640" cy="1652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 flipV="1">
                <a:off x="2378880" y="1970280"/>
                <a:ext cx="1655640" cy="1652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 flipV="1">
                <a:off x="2847240" y="2050920"/>
                <a:ext cx="1655640" cy="1652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 flipV="1">
                <a:off x="3076560" y="2098800"/>
                <a:ext cx="1655640" cy="1652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 flipV="1">
                <a:off x="612720" y="2098440"/>
                <a:ext cx="1633320" cy="1652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 flipV="1">
                <a:off x="884520" y="2060280"/>
                <a:ext cx="1633320" cy="1652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 flipV="1">
                <a:off x="1349640" y="1986120"/>
                <a:ext cx="1633320" cy="1652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 flipV="1">
                <a:off x="1600200" y="1941120"/>
                <a:ext cx="1639440" cy="1652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 flipV="1">
                <a:off x="1110240" y="2024280"/>
                <a:ext cx="1633320" cy="1652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 flipV="1">
                <a:off x="2585520" y="2016000"/>
                <a:ext cx="1655640" cy="1663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6" name=""/>
            <p:cNvSpPr/>
            <p:nvPr/>
          </p:nvSpPr>
          <p:spPr>
            <a:xfrm flipV="1">
              <a:off x="395280" y="3557520"/>
              <a:ext cx="1460520" cy="2239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H="1" flipV="1">
              <a:off x="1855440" y="3557520"/>
              <a:ext cx="1460520" cy="2239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 flipV="1">
              <a:off x="2046240" y="1905120"/>
              <a:ext cx="1460520" cy="2253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 flipV="1">
              <a:off x="395280" y="3781080"/>
              <a:ext cx="0" cy="10112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 flipV="1">
              <a:off x="3316320" y="3781080"/>
              <a:ext cx="0" cy="10112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 flipV="1">
              <a:off x="4967280" y="2130120"/>
              <a:ext cx="0" cy="10112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 flipH="1" flipV="1">
              <a:off x="3506400" y="1905120"/>
              <a:ext cx="1460520" cy="2253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3" name=""/>
            <p:cNvGrpSpPr/>
            <p:nvPr/>
          </p:nvGrpSpPr>
          <p:grpSpPr>
            <a:xfrm>
              <a:off x="395280" y="1901520"/>
              <a:ext cx="4578480" cy="1879920"/>
              <a:chOff x="395280" y="1901520"/>
              <a:chExt cx="4578480" cy="1879920"/>
            </a:xfrm>
          </p:grpSpPr>
          <p:grpSp>
            <p:nvGrpSpPr>
              <p:cNvPr id="2034" name=""/>
              <p:cNvGrpSpPr/>
              <p:nvPr/>
            </p:nvGrpSpPr>
            <p:grpSpPr>
              <a:xfrm>
                <a:off x="395280" y="3278160"/>
                <a:ext cx="3194280" cy="503280"/>
                <a:chOff x="395280" y="3278160"/>
                <a:chExt cx="3194280" cy="503280"/>
              </a:xfrm>
            </p:grpSpPr>
            <p:sp>
              <p:nvSpPr>
                <p:cNvPr id="2035" name=""/>
                <p:cNvSpPr/>
                <p:nvPr/>
              </p:nvSpPr>
              <p:spPr>
                <a:xfrm flipH="1" flipV="1">
                  <a:off x="2129760" y="3281400"/>
                  <a:ext cx="248040" cy="3513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 flipH="1">
                  <a:off x="1339560" y="3281400"/>
                  <a:ext cx="790560" cy="3513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 flipH="1" flipV="1">
                  <a:off x="3089520" y="3415680"/>
                  <a:ext cx="224280" cy="3657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 flipV="1">
                  <a:off x="2846160" y="3504240"/>
                  <a:ext cx="743400" cy="2073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 flipH="1" flipV="1">
                  <a:off x="2620080" y="3363120"/>
                  <a:ext cx="226080" cy="3481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 flipH="1">
                  <a:off x="2359440" y="3426840"/>
                  <a:ext cx="769680" cy="205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 flipH="1">
                  <a:off x="1893960" y="3363480"/>
                  <a:ext cx="725400" cy="1882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 flipH="1" flipV="1">
                  <a:off x="1615680" y="3348000"/>
                  <a:ext cx="278280" cy="2037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 flipH="1" flipV="1">
                  <a:off x="1157040" y="3426480"/>
                  <a:ext cx="191520" cy="2106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 flipH="1">
                  <a:off x="880560" y="3363480"/>
                  <a:ext cx="735120" cy="3481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 flipH="1" flipV="1">
                  <a:off x="670320" y="3504240"/>
                  <a:ext cx="213120" cy="1980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 flipH="1">
                  <a:off x="395280" y="3426840"/>
                  <a:ext cx="761760" cy="3546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 flipV="1">
                  <a:off x="3309840" y="3504240"/>
                  <a:ext cx="270000" cy="2703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 flipV="1">
                  <a:off x="1874880" y="3278160"/>
                  <a:ext cx="270000" cy="2703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 flipV="1">
                  <a:off x="2366280" y="3356640"/>
                  <a:ext cx="270000" cy="2703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 flipV="1">
                  <a:off x="400320" y="3499200"/>
                  <a:ext cx="270000" cy="2703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 flipV="1">
                  <a:off x="891720" y="3425400"/>
                  <a:ext cx="270000" cy="2703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 flipV="1">
                  <a:off x="1353960" y="3356640"/>
                  <a:ext cx="270000" cy="2703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 flipV="1">
                  <a:off x="665640" y="3283200"/>
                  <a:ext cx="1469520" cy="221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 flipV="1">
                  <a:off x="400320" y="3558600"/>
                  <a:ext cx="1469520" cy="2214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>
                  <a:off x="1869840" y="3558960"/>
                  <a:ext cx="1429920" cy="2214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>
                  <a:off x="2140200" y="3283200"/>
                  <a:ext cx="1429920" cy="221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 flipV="1">
                  <a:off x="2833200" y="3440520"/>
                  <a:ext cx="270000" cy="2703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8" name=""/>
              <p:cNvGrpSpPr/>
              <p:nvPr/>
            </p:nvGrpSpPr>
            <p:grpSpPr>
              <a:xfrm>
                <a:off x="1779480" y="1901520"/>
                <a:ext cx="3194280" cy="503280"/>
                <a:chOff x="1779480" y="1901520"/>
                <a:chExt cx="3194280" cy="503280"/>
              </a:xfrm>
            </p:grpSpPr>
            <p:sp>
              <p:nvSpPr>
                <p:cNvPr id="2059" name=""/>
                <p:cNvSpPr/>
                <p:nvPr/>
              </p:nvSpPr>
              <p:spPr>
                <a:xfrm flipH="1" flipV="1">
                  <a:off x="3513960" y="1904760"/>
                  <a:ext cx="248040" cy="3513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 flipH="1">
                  <a:off x="2723760" y="1904760"/>
                  <a:ext cx="790560" cy="3513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 flipH="1" flipV="1">
                  <a:off x="4473720" y="2039040"/>
                  <a:ext cx="224280" cy="3657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 flipV="1">
                  <a:off x="4230360" y="2127600"/>
                  <a:ext cx="743400" cy="2073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 flipH="1" flipV="1">
                  <a:off x="4004280" y="1986480"/>
                  <a:ext cx="226080" cy="3481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 flipH="1">
                  <a:off x="3743640" y="2050200"/>
                  <a:ext cx="769680" cy="205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 flipH="1">
                  <a:off x="3278160" y="1986840"/>
                  <a:ext cx="725400" cy="1882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 flipH="1" flipV="1">
                  <a:off x="2999880" y="1971360"/>
                  <a:ext cx="278280" cy="2037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 flipH="1" flipV="1">
                  <a:off x="2541240" y="2049840"/>
                  <a:ext cx="191520" cy="2106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 flipH="1">
                  <a:off x="2264760" y="1986840"/>
                  <a:ext cx="735120" cy="3481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 flipH="1" flipV="1">
                  <a:off x="2054520" y="2127600"/>
                  <a:ext cx="213120" cy="1980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 flipH="1">
                  <a:off x="1779480" y="2050200"/>
                  <a:ext cx="761760" cy="3546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 flipV="1">
                  <a:off x="4694040" y="2127600"/>
                  <a:ext cx="270000" cy="2703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 flipV="1">
                  <a:off x="3259080" y="1901520"/>
                  <a:ext cx="270000" cy="2703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 flipV="1">
                  <a:off x="3750480" y="1980000"/>
                  <a:ext cx="270000" cy="2703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 flipV="1">
                  <a:off x="1784520" y="2122560"/>
                  <a:ext cx="270000" cy="2703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 flipV="1">
                  <a:off x="2275920" y="2048760"/>
                  <a:ext cx="270000" cy="2703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 flipV="1">
                  <a:off x="2738160" y="1980000"/>
                  <a:ext cx="270000" cy="2703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 flipV="1">
                  <a:off x="2049840" y="1906560"/>
                  <a:ext cx="1469520" cy="221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 flipV="1">
                  <a:off x="1784520" y="2181960"/>
                  <a:ext cx="1469520" cy="2214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9" name=""/>
                <p:cNvSpPr/>
                <p:nvPr/>
              </p:nvSpPr>
              <p:spPr>
                <a:xfrm>
                  <a:off x="3254040" y="2182320"/>
                  <a:ext cx="1429920" cy="2214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0" name=""/>
                <p:cNvSpPr/>
                <p:nvPr/>
              </p:nvSpPr>
              <p:spPr>
                <a:xfrm>
                  <a:off x="3524400" y="1906560"/>
                  <a:ext cx="1429920" cy="221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 flipV="1">
                  <a:off x="4217400" y="2063880"/>
                  <a:ext cx="270000" cy="2703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82" name=""/>
            <p:cNvSpPr/>
            <p:nvPr/>
          </p:nvSpPr>
          <p:spPr>
            <a:xfrm>
              <a:off x="5283360" y="2330280"/>
              <a:ext cx="406080" cy="432000"/>
            </a:xfrm>
            <a:prstGeom prst="wedgeEllipseCallout">
              <a:avLst>
                <a:gd name="adj1" fmla="val -162888"/>
                <a:gd name="adj2" fmla="val 4668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1506600" y="4805280"/>
              <a:ext cx="419040" cy="419040"/>
            </a:xfrm>
            <a:prstGeom prst="wedgeEllipseCallout">
              <a:avLst>
                <a:gd name="adj1" fmla="val 82574"/>
                <a:gd name="adj2" fmla="val -11856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380880" y="2612880"/>
              <a:ext cx="406440" cy="432000"/>
            </a:xfrm>
            <a:prstGeom prst="wedgeEllipseCallout">
              <a:avLst>
                <a:gd name="adj1" fmla="val 195314"/>
                <a:gd name="adj2" fmla="val 10514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2120760" y="1482840"/>
              <a:ext cx="406440" cy="431640"/>
            </a:xfrm>
            <a:prstGeom prst="wedgeEllipseCallout">
              <a:avLst>
                <a:gd name="adj1" fmla="val 257032"/>
                <a:gd name="adj2" fmla="val 24926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6" name=""/>
          <p:cNvGrpSpPr/>
          <p:nvPr/>
        </p:nvGrpSpPr>
        <p:grpSpPr>
          <a:xfrm>
            <a:off x="3860280" y="4830480"/>
            <a:ext cx="3196080" cy="501840"/>
            <a:chOff x="3860280" y="4830480"/>
            <a:chExt cx="3196080" cy="501840"/>
          </a:xfrm>
        </p:grpSpPr>
        <p:sp>
          <p:nvSpPr>
            <p:cNvPr id="2087" name=""/>
            <p:cNvSpPr/>
            <p:nvPr/>
          </p:nvSpPr>
          <p:spPr>
            <a:xfrm flipH="1" flipV="1">
              <a:off x="5596200" y="4833360"/>
              <a:ext cx="248400" cy="350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 flipH="1">
              <a:off x="4805280" y="4833720"/>
              <a:ext cx="790560" cy="350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 flipH="1" flipV="1">
              <a:off x="6556320" y="4967280"/>
              <a:ext cx="224280" cy="364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 flipV="1">
              <a:off x="6312600" y="5055840"/>
              <a:ext cx="743760" cy="207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 flipH="1" flipV="1">
              <a:off x="6086520" y="4915800"/>
              <a:ext cx="226080" cy="347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 flipH="1">
              <a:off x="5825160" y="4978800"/>
              <a:ext cx="770040" cy="204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 flipH="1">
              <a:off x="5360400" y="4915800"/>
              <a:ext cx="725760" cy="187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 flipH="1" flipV="1">
              <a:off x="5081400" y="4899600"/>
              <a:ext cx="278280" cy="203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 flipH="1" flipV="1">
              <a:off x="4622760" y="4978440"/>
              <a:ext cx="191520" cy="209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 flipH="1">
              <a:off x="4345920" y="4915800"/>
              <a:ext cx="735480" cy="347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 flipH="1" flipV="1">
              <a:off x="4135680" y="5056200"/>
              <a:ext cx="213120" cy="197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 flipH="1">
              <a:off x="3860280" y="4978800"/>
              <a:ext cx="762120" cy="35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 flipV="1">
              <a:off x="6776640" y="5055840"/>
              <a:ext cx="270360" cy="269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 flipV="1">
              <a:off x="5340600" y="4830480"/>
              <a:ext cx="270360" cy="269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 flipV="1">
              <a:off x="5832360" y="4908960"/>
              <a:ext cx="270360" cy="269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 flipV="1">
              <a:off x="3865680" y="5051160"/>
              <a:ext cx="270360" cy="269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 flipV="1">
              <a:off x="4357440" y="4977360"/>
              <a:ext cx="270360" cy="269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 flipV="1">
              <a:off x="4819680" y="4908960"/>
              <a:ext cx="270360" cy="269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 flipV="1">
              <a:off x="4131360" y="4835160"/>
              <a:ext cx="1469880" cy="220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 flipV="1">
              <a:off x="3865680" y="5109840"/>
              <a:ext cx="1469880" cy="220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5335920" y="5110200"/>
              <a:ext cx="1430640" cy="220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5606280" y="4835520"/>
              <a:ext cx="1430640" cy="220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 flipV="1">
              <a:off x="6299640" y="4992120"/>
              <a:ext cx="270360" cy="269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0" name=""/>
          <p:cNvSpPr/>
          <p:nvPr/>
        </p:nvSpPr>
        <p:spPr>
          <a:xfrm flipV="1">
            <a:off x="5326200" y="3463560"/>
            <a:ext cx="1655640" cy="165276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"/>
          <p:cNvSpPr/>
          <p:nvPr/>
        </p:nvSpPr>
        <p:spPr>
          <a:xfrm>
            <a:off x="628560" y="661176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Suiv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>
            <a:hlinkClick r:id="" action="ppaction://hlinkshowjump?jump=nextslide"/>
          </p:cNvPr>
          <p:cNvSpPr/>
          <p:nvPr/>
        </p:nvSpPr>
        <p:spPr>
          <a:xfrm>
            <a:off x="765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109440" y="425520"/>
            <a:ext cx="878220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BONNE RÉPO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4" name=""/>
          <p:cNvGrpSpPr/>
          <p:nvPr/>
        </p:nvGrpSpPr>
        <p:grpSpPr>
          <a:xfrm>
            <a:off x="1521000" y="2117880"/>
            <a:ext cx="5871960" cy="3814200"/>
            <a:chOff x="1521000" y="2117880"/>
            <a:chExt cx="5871960" cy="3814200"/>
          </a:xfrm>
        </p:grpSpPr>
        <p:sp>
          <p:nvSpPr>
            <p:cNvPr id="2115" name=""/>
            <p:cNvSpPr/>
            <p:nvPr/>
          </p:nvSpPr>
          <p:spPr>
            <a:xfrm flipV="1">
              <a:off x="3341520" y="2747880"/>
              <a:ext cx="0" cy="12600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 flipV="1">
              <a:off x="1968480" y="4120560"/>
              <a:ext cx="0" cy="12603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 flipV="1">
              <a:off x="2311560" y="3776040"/>
              <a:ext cx="0" cy="12603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 flipV="1">
              <a:off x="2655720" y="3433320"/>
              <a:ext cx="0" cy="12618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 flipV="1">
              <a:off x="2997360" y="3088800"/>
              <a:ext cx="0" cy="12618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20" name=""/>
            <p:cNvGrpSpPr/>
            <p:nvPr/>
          </p:nvGrpSpPr>
          <p:grpSpPr>
            <a:xfrm>
              <a:off x="3336480" y="2414520"/>
              <a:ext cx="349560" cy="1610640"/>
              <a:chOff x="3336480" y="2414520"/>
              <a:chExt cx="349560" cy="1610640"/>
            </a:xfrm>
          </p:grpSpPr>
          <p:sp>
            <p:nvSpPr>
              <p:cNvPr id="2121" name=""/>
              <p:cNvSpPr/>
              <p:nvPr/>
            </p:nvSpPr>
            <p:spPr>
              <a:xfrm flipV="1">
                <a:off x="3342600" y="3086640"/>
                <a:ext cx="342720" cy="9385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 flipH="1" flipV="1">
                <a:off x="3336480" y="2757240"/>
                <a:ext cx="348840" cy="329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 flipH="1" flipV="1">
                <a:off x="3342600" y="3411360"/>
                <a:ext cx="342720" cy="270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 flipV="1">
                <a:off x="3342600" y="2419920"/>
                <a:ext cx="342720" cy="995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 flipV="1">
                <a:off x="3337200" y="2414520"/>
                <a:ext cx="336600" cy="336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3343320" y="2757600"/>
                <a:ext cx="0" cy="12625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 flipV="1">
                <a:off x="3343320" y="3082320"/>
                <a:ext cx="336600" cy="336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3686040" y="2426760"/>
                <a:ext cx="0" cy="12625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9" name=""/>
            <p:cNvGrpSpPr/>
            <p:nvPr/>
          </p:nvGrpSpPr>
          <p:grpSpPr>
            <a:xfrm>
              <a:off x="1618920" y="4123800"/>
              <a:ext cx="351000" cy="1612440"/>
              <a:chOff x="1618920" y="4123800"/>
              <a:chExt cx="351000" cy="1612440"/>
            </a:xfrm>
          </p:grpSpPr>
          <p:sp>
            <p:nvSpPr>
              <p:cNvPr id="2130" name=""/>
              <p:cNvSpPr/>
              <p:nvPr/>
            </p:nvSpPr>
            <p:spPr>
              <a:xfrm flipV="1">
                <a:off x="1625400" y="4797000"/>
                <a:ext cx="344160" cy="9392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 flipH="1" flipV="1">
                <a:off x="1618920" y="4467240"/>
                <a:ext cx="350280" cy="329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 flipH="1" flipV="1">
                <a:off x="1625400" y="5122440"/>
                <a:ext cx="344160" cy="2707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 flipV="1">
                <a:off x="1625400" y="4129560"/>
                <a:ext cx="344160" cy="995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 flipV="1">
                <a:off x="1619640" y="4123800"/>
                <a:ext cx="338040" cy="3373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1625760" y="4467600"/>
                <a:ext cx="0" cy="1263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 flipV="1">
                <a:off x="1625760" y="4792320"/>
                <a:ext cx="338040" cy="3373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1969920" y="4136400"/>
                <a:ext cx="0" cy="1263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8" name=""/>
            <p:cNvGrpSpPr/>
            <p:nvPr/>
          </p:nvGrpSpPr>
          <p:grpSpPr>
            <a:xfrm>
              <a:off x="1625760" y="2772720"/>
              <a:ext cx="2058840" cy="2957040"/>
              <a:chOff x="1625760" y="2772720"/>
              <a:chExt cx="2058840" cy="2957040"/>
            </a:xfrm>
          </p:grpSpPr>
          <p:sp>
            <p:nvSpPr>
              <p:cNvPr id="2139" name=""/>
              <p:cNvSpPr/>
              <p:nvPr/>
            </p:nvSpPr>
            <p:spPr>
              <a:xfrm flipV="1">
                <a:off x="1625760" y="2772720"/>
                <a:ext cx="2058840" cy="20595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 flipV="1">
                <a:off x="1625760" y="3088440"/>
                <a:ext cx="2058840" cy="20595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 flipV="1">
                <a:off x="1625760" y="3368520"/>
                <a:ext cx="2058840" cy="20595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 flipV="1">
                <a:off x="1625760" y="3670200"/>
                <a:ext cx="2058840" cy="20595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3" name=""/>
            <p:cNvSpPr/>
            <p:nvPr/>
          </p:nvSpPr>
          <p:spPr>
            <a:xfrm>
              <a:off x="3700440" y="2419200"/>
              <a:ext cx="364176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3691080" y="2781000"/>
              <a:ext cx="363996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3676680" y="3376440"/>
              <a:ext cx="365904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3692520" y="3079440"/>
              <a:ext cx="364320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3662280" y="3659040"/>
              <a:ext cx="364176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6743880" y="2307960"/>
              <a:ext cx="0" cy="13460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7326360" y="2408040"/>
              <a:ext cx="0" cy="12459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6135840" y="2228760"/>
              <a:ext cx="0" cy="14252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5505480" y="2117880"/>
              <a:ext cx="0" cy="15364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4875120" y="2214360"/>
              <a:ext cx="0" cy="14396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3684600" y="2403360"/>
              <a:ext cx="0" cy="12506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4294080" y="2317680"/>
              <a:ext cx="0" cy="13363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5" name=""/>
            <p:cNvGrpSpPr/>
            <p:nvPr/>
          </p:nvGrpSpPr>
          <p:grpSpPr>
            <a:xfrm>
              <a:off x="1874880" y="4078080"/>
              <a:ext cx="1541520" cy="1518840"/>
              <a:chOff x="1874880" y="4078080"/>
              <a:chExt cx="1541520" cy="1518840"/>
            </a:xfrm>
          </p:grpSpPr>
          <p:sp>
            <p:nvSpPr>
              <p:cNvPr id="2156" name=""/>
              <p:cNvSpPr/>
              <p:nvPr/>
            </p:nvSpPr>
            <p:spPr>
              <a:xfrm>
                <a:off x="3247200" y="4078080"/>
                <a:ext cx="169200" cy="168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2896560" y="4397040"/>
                <a:ext cx="168840" cy="169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2561400" y="4727160"/>
                <a:ext cx="168840" cy="168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2215080" y="5070600"/>
                <a:ext cx="169920" cy="168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1874880" y="5428080"/>
                <a:ext cx="169200" cy="168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1" name=""/>
            <p:cNvGrpSpPr/>
            <p:nvPr/>
          </p:nvGrpSpPr>
          <p:grpSpPr>
            <a:xfrm>
              <a:off x="5529240" y="4049640"/>
              <a:ext cx="1517760" cy="1537920"/>
              <a:chOff x="5529240" y="4049640"/>
              <a:chExt cx="1517760" cy="1537920"/>
            </a:xfrm>
          </p:grpSpPr>
          <p:sp>
            <p:nvSpPr>
              <p:cNvPr id="2162" name=""/>
              <p:cNvSpPr/>
              <p:nvPr/>
            </p:nvSpPr>
            <p:spPr>
              <a:xfrm>
                <a:off x="6877800" y="4049640"/>
                <a:ext cx="169200" cy="168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6539040" y="4385520"/>
                <a:ext cx="169560" cy="169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6203520" y="4716000"/>
                <a:ext cx="169200" cy="168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5849280" y="5059800"/>
                <a:ext cx="173520" cy="169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5529240" y="5418360"/>
                <a:ext cx="168840" cy="169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7" name=""/>
            <p:cNvGrpSpPr/>
            <p:nvPr/>
          </p:nvGrpSpPr>
          <p:grpSpPr>
            <a:xfrm>
              <a:off x="3571920" y="3687480"/>
              <a:ext cx="3821040" cy="174240"/>
              <a:chOff x="3571920" y="3687480"/>
              <a:chExt cx="3821040" cy="174240"/>
            </a:xfrm>
          </p:grpSpPr>
          <p:sp>
            <p:nvSpPr>
              <p:cNvPr id="2168" name=""/>
              <p:cNvSpPr/>
              <p:nvPr/>
            </p:nvSpPr>
            <p:spPr>
              <a:xfrm>
                <a:off x="7223760" y="3691800"/>
                <a:ext cx="169200" cy="169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3571920" y="3687480"/>
                <a:ext cx="169560" cy="170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6030720" y="3687480"/>
                <a:ext cx="169560" cy="170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4189680" y="3687840"/>
                <a:ext cx="169200" cy="169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4761720" y="3687840"/>
                <a:ext cx="169200" cy="169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5370840" y="3687840"/>
                <a:ext cx="168840" cy="169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6642000" y="3687840"/>
                <a:ext cx="168840" cy="169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5" name=""/>
            <p:cNvGrpSpPr/>
            <p:nvPr/>
          </p:nvGrpSpPr>
          <p:grpSpPr>
            <a:xfrm>
              <a:off x="1521000" y="5762520"/>
              <a:ext cx="3813120" cy="169560"/>
              <a:chOff x="1521000" y="5762520"/>
              <a:chExt cx="3813120" cy="169560"/>
            </a:xfrm>
          </p:grpSpPr>
          <p:sp>
            <p:nvSpPr>
              <p:cNvPr id="2176" name=""/>
              <p:cNvSpPr/>
              <p:nvPr/>
            </p:nvSpPr>
            <p:spPr>
              <a:xfrm>
                <a:off x="5164560" y="5762520"/>
                <a:ext cx="169560" cy="169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1521000" y="5762880"/>
                <a:ext cx="169200" cy="169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2134080" y="5762880"/>
                <a:ext cx="168840" cy="169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2718360" y="5762880"/>
                <a:ext cx="169200" cy="169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3985560" y="5762880"/>
                <a:ext cx="168840" cy="169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4569840" y="5762880"/>
                <a:ext cx="168840" cy="169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82" name=""/>
            <p:cNvSpPr/>
            <p:nvPr/>
          </p:nvSpPr>
          <p:spPr>
            <a:xfrm>
              <a:off x="1623960" y="4179600"/>
              <a:ext cx="3643200" cy="950760"/>
            </a:xfrm>
            <a:custGeom>
              <a:avLst/>
              <a:gdLst/>
              <a:ahLst/>
              <a:rect l="l" t="t" r="r" b="b"/>
              <a:pathLst>
                <a:path w="1840" h="480">
                  <a:moveTo>
                    <a:pt x="0" y="480"/>
                  </a:moveTo>
                  <a:lnTo>
                    <a:pt x="1840" y="480"/>
                  </a:lnTo>
                  <a:lnTo>
                    <a:pt x="1840" y="144"/>
                  </a:lnTo>
                  <a:lnTo>
                    <a:pt x="924" y="0"/>
                  </a:lnTo>
                  <a:lnTo>
                    <a:pt x="0" y="140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4086360" y="5732280"/>
              <a:ext cx="118584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1641600" y="4471920"/>
              <a:ext cx="364176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1631880" y="4833720"/>
              <a:ext cx="364032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4081320" y="5429160"/>
              <a:ext cx="119556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1622520" y="5132160"/>
              <a:ext cx="119844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4081320" y="5132160"/>
              <a:ext cx="119556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1631880" y="5429160"/>
              <a:ext cx="120024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1631880" y="5724360"/>
              <a:ext cx="118584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3452760" y="4201920"/>
              <a:ext cx="0" cy="6300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4691160" y="4375080"/>
              <a:ext cx="0" cy="13503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5272200" y="4468680"/>
              <a:ext cx="0" cy="12459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4083120" y="4289400"/>
              <a:ext cx="0" cy="14313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2820960" y="4281480"/>
              <a:ext cx="0" cy="14392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 flipH="1">
              <a:off x="1617480" y="4464000"/>
              <a:ext cx="12600" cy="1261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2239920" y="4384440"/>
              <a:ext cx="0" cy="13363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98" name=""/>
            <p:cNvGrpSpPr/>
            <p:nvPr/>
          </p:nvGrpSpPr>
          <p:grpSpPr>
            <a:xfrm>
              <a:off x="3349440" y="2120760"/>
              <a:ext cx="3985920" cy="626760"/>
              <a:chOff x="3349440" y="2120760"/>
              <a:chExt cx="3985920" cy="626760"/>
            </a:xfrm>
          </p:grpSpPr>
          <p:sp>
            <p:nvSpPr>
              <p:cNvPr id="2199" name=""/>
              <p:cNvSpPr/>
              <p:nvPr/>
            </p:nvSpPr>
            <p:spPr>
              <a:xfrm flipH="1" flipV="1">
                <a:off x="5514480" y="2124360"/>
                <a:ext cx="309600" cy="437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 flipH="1">
                <a:off x="4528080" y="2124360"/>
                <a:ext cx="986400" cy="437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 flipH="1" flipV="1">
                <a:off x="6712200" y="2291760"/>
                <a:ext cx="280080" cy="455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 flipV="1">
                <a:off x="6408000" y="2402280"/>
                <a:ext cx="927360" cy="258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 flipH="1" flipV="1">
                <a:off x="6125760" y="2226600"/>
                <a:ext cx="281880" cy="433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 flipH="1">
                <a:off x="5800680" y="2305800"/>
                <a:ext cx="960480" cy="255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 flipH="1">
                <a:off x="5220000" y="2226960"/>
                <a:ext cx="905400" cy="234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 flipH="1" flipV="1">
                <a:off x="4872600" y="2207160"/>
                <a:ext cx="347400" cy="2541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 flipH="1" flipV="1">
                <a:off x="4300560" y="2305800"/>
                <a:ext cx="239040" cy="262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 flipH="1">
                <a:off x="3955320" y="2226960"/>
                <a:ext cx="917280" cy="433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 flipH="1" flipV="1">
                <a:off x="3692520" y="2401920"/>
                <a:ext cx="266040" cy="246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 flipH="1">
                <a:off x="3349440" y="2305800"/>
                <a:ext cx="950760" cy="441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 flipV="1">
                <a:off x="6986520" y="2402640"/>
                <a:ext cx="336960" cy="336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 flipV="1">
                <a:off x="5195880" y="2120760"/>
                <a:ext cx="336960" cy="336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 flipV="1">
                <a:off x="5809320" y="2218680"/>
                <a:ext cx="336960" cy="336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 flipV="1">
                <a:off x="3356280" y="2396520"/>
                <a:ext cx="336960" cy="336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 flipV="1">
                <a:off x="3969360" y="2304360"/>
                <a:ext cx="336960" cy="336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 flipV="1">
                <a:off x="4545720" y="2218680"/>
                <a:ext cx="336960" cy="336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 flipV="1">
                <a:off x="3687120" y="2126520"/>
                <a:ext cx="1833480" cy="275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 flipV="1">
                <a:off x="3356280" y="2469960"/>
                <a:ext cx="1833480" cy="275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5189760" y="2469960"/>
                <a:ext cx="1784520" cy="275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5527080" y="2126520"/>
                <a:ext cx="1784520" cy="275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 flipV="1">
                <a:off x="6391800" y="2323080"/>
                <a:ext cx="336960" cy="336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2" name=""/>
            <p:cNvGrpSpPr/>
            <p:nvPr/>
          </p:nvGrpSpPr>
          <p:grpSpPr>
            <a:xfrm>
              <a:off x="5260680" y="4113000"/>
              <a:ext cx="351000" cy="1610640"/>
              <a:chOff x="5260680" y="4113000"/>
              <a:chExt cx="351000" cy="1610640"/>
            </a:xfrm>
          </p:grpSpPr>
          <p:sp>
            <p:nvSpPr>
              <p:cNvPr id="2223" name=""/>
              <p:cNvSpPr/>
              <p:nvPr/>
            </p:nvSpPr>
            <p:spPr>
              <a:xfrm flipV="1">
                <a:off x="5267160" y="4785120"/>
                <a:ext cx="344160" cy="9385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 flipH="1" flipV="1">
                <a:off x="5260680" y="4455720"/>
                <a:ext cx="350280" cy="329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 flipH="1" flipV="1">
                <a:off x="5267160" y="5109840"/>
                <a:ext cx="344160" cy="270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 flipV="1">
                <a:off x="5267160" y="4118400"/>
                <a:ext cx="344160" cy="995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 flipV="1">
                <a:off x="5261400" y="4113000"/>
                <a:ext cx="338040" cy="336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5267520" y="4456080"/>
                <a:ext cx="0" cy="12625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 flipV="1">
                <a:off x="5267520" y="4780800"/>
                <a:ext cx="338040" cy="336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5611680" y="4125240"/>
                <a:ext cx="0" cy="12625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1" name=""/>
            <p:cNvGrpSpPr/>
            <p:nvPr/>
          </p:nvGrpSpPr>
          <p:grpSpPr>
            <a:xfrm>
              <a:off x="6976800" y="2396880"/>
              <a:ext cx="351000" cy="1610640"/>
              <a:chOff x="6976800" y="2396880"/>
              <a:chExt cx="351000" cy="1610640"/>
            </a:xfrm>
          </p:grpSpPr>
          <p:sp>
            <p:nvSpPr>
              <p:cNvPr id="2232" name=""/>
              <p:cNvSpPr/>
              <p:nvPr/>
            </p:nvSpPr>
            <p:spPr>
              <a:xfrm flipV="1">
                <a:off x="6983280" y="3069000"/>
                <a:ext cx="344160" cy="9385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 flipH="1" flipV="1">
                <a:off x="6976800" y="2739600"/>
                <a:ext cx="350280" cy="329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 flipH="1" flipV="1">
                <a:off x="6983280" y="3393720"/>
                <a:ext cx="344160" cy="270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 flipV="1">
                <a:off x="6983280" y="2402280"/>
                <a:ext cx="344160" cy="995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 flipV="1">
                <a:off x="6977520" y="2396880"/>
                <a:ext cx="338040" cy="336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6983640" y="2739960"/>
                <a:ext cx="0" cy="12625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 flipV="1">
                <a:off x="6983640" y="3064680"/>
                <a:ext cx="338040" cy="336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7327800" y="2409120"/>
                <a:ext cx="0" cy="12625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0" name=""/>
            <p:cNvSpPr/>
            <p:nvPr/>
          </p:nvSpPr>
          <p:spPr>
            <a:xfrm flipV="1">
              <a:off x="1968480" y="3839760"/>
              <a:ext cx="1820880" cy="280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 flipV="1">
              <a:off x="5611680" y="4120560"/>
              <a:ext cx="0" cy="12603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 flipH="1" flipV="1">
              <a:off x="3789360" y="3839760"/>
              <a:ext cx="1822320" cy="280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 flipV="1">
              <a:off x="2311560" y="3496680"/>
              <a:ext cx="1822320" cy="2790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 flipV="1">
              <a:off x="5956200" y="3776040"/>
              <a:ext cx="0" cy="12603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 flipH="1" flipV="1">
              <a:off x="4133880" y="3496680"/>
              <a:ext cx="1822320" cy="2790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 flipV="1">
              <a:off x="2655720" y="3152520"/>
              <a:ext cx="1820880" cy="2808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 flipV="1">
              <a:off x="6297480" y="3433320"/>
              <a:ext cx="0" cy="12618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 flipH="1" flipV="1">
              <a:off x="4476600" y="3152520"/>
              <a:ext cx="1820880" cy="2808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 flipV="1">
              <a:off x="2997360" y="2809440"/>
              <a:ext cx="1823760" cy="2790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 flipV="1">
              <a:off x="6642000" y="3088800"/>
              <a:ext cx="0" cy="12618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 flipH="1" flipV="1">
              <a:off x="4821120" y="2809440"/>
              <a:ext cx="1820880" cy="2790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 flipV="1">
              <a:off x="3341520" y="2465280"/>
              <a:ext cx="1822680" cy="2822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 flipV="1">
              <a:off x="6985080" y="2747880"/>
              <a:ext cx="0" cy="12600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 flipH="1" flipV="1">
              <a:off x="5164200" y="2465280"/>
              <a:ext cx="1820880" cy="2822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5" name=""/>
            <p:cNvGrpSpPr/>
            <p:nvPr/>
          </p:nvGrpSpPr>
          <p:grpSpPr>
            <a:xfrm>
              <a:off x="5267160" y="2752200"/>
              <a:ext cx="2059200" cy="2977920"/>
              <a:chOff x="5267160" y="2752200"/>
              <a:chExt cx="2059200" cy="2977920"/>
            </a:xfrm>
          </p:grpSpPr>
          <p:sp>
            <p:nvSpPr>
              <p:cNvPr id="2256" name=""/>
              <p:cNvSpPr/>
              <p:nvPr/>
            </p:nvSpPr>
            <p:spPr>
              <a:xfrm flipV="1">
                <a:off x="5267160" y="3669840"/>
                <a:ext cx="2059200" cy="20602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 flipV="1">
                <a:off x="5267160" y="2752200"/>
                <a:ext cx="2059200" cy="20602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 flipV="1">
                <a:off x="5267160" y="3067920"/>
                <a:ext cx="2059200" cy="20602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 flipV="1">
                <a:off x="5267160" y="3370320"/>
                <a:ext cx="2059200" cy="20602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0" name=""/>
            <p:cNvSpPr/>
            <p:nvPr/>
          </p:nvSpPr>
          <p:spPr>
            <a:xfrm flipV="1">
              <a:off x="3451320" y="2133000"/>
              <a:ext cx="2065320" cy="2060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 flipV="1">
              <a:off x="5259240" y="2404440"/>
              <a:ext cx="2063880" cy="20588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 flipV="1">
              <a:off x="1625760" y="2404440"/>
              <a:ext cx="2058840" cy="20588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 flipV="1">
              <a:off x="3790800" y="2174400"/>
              <a:ext cx="2065320" cy="20602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 flipV="1">
              <a:off x="4100400" y="2202840"/>
              <a:ext cx="2067120" cy="20602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 flipV="1">
              <a:off x="4684680" y="2302920"/>
              <a:ext cx="2067120" cy="20602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 flipV="1">
              <a:off x="4971960" y="2363760"/>
              <a:ext cx="2065320" cy="20599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 flipV="1">
              <a:off x="1897200" y="2363760"/>
              <a:ext cx="2036520" cy="20599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 flipV="1">
              <a:off x="2235240" y="2315520"/>
              <a:ext cx="2039760" cy="20602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 flipV="1">
              <a:off x="2816280" y="2221920"/>
              <a:ext cx="2038320" cy="20602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 flipV="1">
              <a:off x="3129120" y="2166480"/>
              <a:ext cx="2046240" cy="20602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 flipV="1">
              <a:off x="2519280" y="2271600"/>
              <a:ext cx="2036880" cy="20584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 flipV="1">
              <a:off x="4357800" y="2260080"/>
              <a:ext cx="2066760" cy="20746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 flipV="1">
              <a:off x="1625760" y="4464000"/>
              <a:ext cx="0" cy="126000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 flipV="1">
              <a:off x="5267160" y="4464000"/>
              <a:ext cx="0" cy="126000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 flipV="1">
              <a:off x="3684600" y="2404440"/>
              <a:ext cx="0" cy="12603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 flipV="1">
              <a:off x="7326360" y="2404440"/>
              <a:ext cx="0" cy="12603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 flipV="1">
              <a:off x="1625760" y="4184280"/>
              <a:ext cx="1820880" cy="27900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 flipH="1" flipV="1">
              <a:off x="3446280" y="4184280"/>
              <a:ext cx="1820520" cy="27900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 flipV="1">
              <a:off x="3684600" y="2123640"/>
              <a:ext cx="1820880" cy="2804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 flipH="1" flipV="1">
              <a:off x="5505480" y="2123640"/>
              <a:ext cx="1820880" cy="2804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81" name=""/>
            <p:cNvGrpSpPr/>
            <p:nvPr/>
          </p:nvGrpSpPr>
          <p:grpSpPr>
            <a:xfrm>
              <a:off x="1623960" y="3838320"/>
              <a:ext cx="3984840" cy="625320"/>
              <a:chOff x="1623960" y="3838320"/>
              <a:chExt cx="3984840" cy="625320"/>
            </a:xfrm>
          </p:grpSpPr>
          <p:sp>
            <p:nvSpPr>
              <p:cNvPr id="2282" name=""/>
              <p:cNvSpPr/>
              <p:nvPr/>
            </p:nvSpPr>
            <p:spPr>
              <a:xfrm flipH="1" flipV="1">
                <a:off x="3787920" y="3841560"/>
                <a:ext cx="309600" cy="436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 flipH="1">
                <a:off x="2801520" y="3841920"/>
                <a:ext cx="986040" cy="436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 flipH="1" flipV="1">
                <a:off x="4985280" y="4008600"/>
                <a:ext cx="279720" cy="454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 flipV="1">
                <a:off x="4681440" y="4118760"/>
                <a:ext cx="927360" cy="2581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 flipH="1" flipV="1">
                <a:off x="4399200" y="3943800"/>
                <a:ext cx="281880" cy="433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 flipH="1">
                <a:off x="4074120" y="4023000"/>
                <a:ext cx="960480" cy="255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 flipH="1">
                <a:off x="3494160" y="3944160"/>
                <a:ext cx="905040" cy="234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 flipH="1" flipV="1">
                <a:off x="3146760" y="3924720"/>
                <a:ext cx="347040" cy="253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 flipH="1" flipV="1">
                <a:off x="2574360" y="4022640"/>
                <a:ext cx="239040" cy="261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 flipH="1">
                <a:off x="2229120" y="3944160"/>
                <a:ext cx="916920" cy="433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 flipH="1" flipV="1">
                <a:off x="1966680" y="4119120"/>
                <a:ext cx="266040" cy="2462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 flipH="1">
                <a:off x="1623960" y="4023000"/>
                <a:ext cx="950400" cy="440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 flipV="1">
                <a:off x="5259960" y="4119480"/>
                <a:ext cx="336960" cy="3362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 flipV="1">
                <a:off x="3469680" y="3838320"/>
                <a:ext cx="336960" cy="3362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 flipV="1">
                <a:off x="4082760" y="3935880"/>
                <a:ext cx="336960" cy="3362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 flipV="1">
                <a:off x="1630440" y="4113360"/>
                <a:ext cx="336960" cy="3362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 flipV="1">
                <a:off x="2243520" y="4021560"/>
                <a:ext cx="336960" cy="3362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 flipV="1">
                <a:off x="2819880" y="3935880"/>
                <a:ext cx="336960" cy="3362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 flipV="1">
                <a:off x="1961280" y="3844080"/>
                <a:ext cx="1833120" cy="275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 flipV="1">
                <a:off x="1630440" y="4186800"/>
                <a:ext cx="1833120" cy="275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3463560" y="4186800"/>
                <a:ext cx="1783800" cy="275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3800520" y="3844080"/>
                <a:ext cx="1783800" cy="275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 flipV="1">
                <a:off x="4665240" y="4039920"/>
                <a:ext cx="336960" cy="3362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5" name=""/>
            <p:cNvSpPr/>
            <p:nvPr/>
          </p:nvSpPr>
          <p:spPr>
            <a:xfrm>
              <a:off x="3036960" y="5244840"/>
              <a:ext cx="419040" cy="418680"/>
            </a:xfrm>
            <a:prstGeom prst="wedgeEllipseCallout">
              <a:avLst>
                <a:gd name="adj1" fmla="val 82574"/>
                <a:gd name="adj2" fmla="val -11856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06" name="" descr=""/>
          <p:cNvPicPr/>
          <p:nvPr/>
        </p:nvPicPr>
        <p:blipFill>
          <a:blip r:embed="rId1"/>
          <a:stretch/>
        </p:blipFill>
        <p:spPr>
          <a:xfrm>
            <a:off x="6750000" y="679320"/>
            <a:ext cx="1373400" cy="11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"/>
          <p:cNvSpPr/>
          <p:nvPr/>
        </p:nvSpPr>
        <p:spPr>
          <a:xfrm>
            <a:off x="210960" y="376200"/>
            <a:ext cx="871236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 est le schéma d’efforts d’un cas de vent longitudinal sur les poutres au ven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8" name=""/>
          <p:cNvGrpSpPr/>
          <p:nvPr/>
        </p:nvGrpSpPr>
        <p:grpSpPr>
          <a:xfrm>
            <a:off x="343080" y="2957400"/>
            <a:ext cx="3482280" cy="1332000"/>
            <a:chOff x="343080" y="2957400"/>
            <a:chExt cx="3482280" cy="1332000"/>
          </a:xfrm>
        </p:grpSpPr>
        <p:grpSp>
          <p:nvGrpSpPr>
            <p:cNvPr id="2309" name=""/>
            <p:cNvGrpSpPr/>
            <p:nvPr/>
          </p:nvGrpSpPr>
          <p:grpSpPr>
            <a:xfrm>
              <a:off x="552600" y="3188520"/>
              <a:ext cx="914040" cy="902160"/>
              <a:chOff x="552600" y="3188520"/>
              <a:chExt cx="914040" cy="902160"/>
            </a:xfrm>
          </p:grpSpPr>
          <p:sp>
            <p:nvSpPr>
              <p:cNvPr id="2310" name=""/>
              <p:cNvSpPr/>
              <p:nvPr/>
            </p:nvSpPr>
            <p:spPr>
              <a:xfrm>
                <a:off x="1366560" y="3188520"/>
                <a:ext cx="100080" cy="100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1158480" y="3377880"/>
                <a:ext cx="100080" cy="100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959760" y="3574080"/>
                <a:ext cx="100080" cy="100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754200" y="3778200"/>
                <a:ext cx="100800" cy="100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552600" y="3990600"/>
                <a:ext cx="100080" cy="100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5" name=""/>
            <p:cNvGrpSpPr/>
            <p:nvPr/>
          </p:nvGrpSpPr>
          <p:grpSpPr>
            <a:xfrm>
              <a:off x="2720880" y="3172320"/>
              <a:ext cx="899640" cy="911880"/>
              <a:chOff x="2720880" y="3172320"/>
              <a:chExt cx="899640" cy="911880"/>
            </a:xfrm>
          </p:grpSpPr>
          <p:sp>
            <p:nvSpPr>
              <p:cNvPr id="2316" name=""/>
              <p:cNvSpPr/>
              <p:nvPr/>
            </p:nvSpPr>
            <p:spPr>
              <a:xfrm>
                <a:off x="3520440" y="3172320"/>
                <a:ext cx="100080" cy="100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3319560" y="3371400"/>
                <a:ext cx="100440" cy="100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3120480" y="3567600"/>
                <a:ext cx="100080" cy="100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2910600" y="3771360"/>
                <a:ext cx="102960" cy="10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2720880" y="3984120"/>
                <a:ext cx="100080" cy="100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1" name=""/>
            <p:cNvGrpSpPr/>
            <p:nvPr/>
          </p:nvGrpSpPr>
          <p:grpSpPr>
            <a:xfrm>
              <a:off x="1559160" y="2957400"/>
              <a:ext cx="2266200" cy="102960"/>
              <a:chOff x="1559160" y="2957400"/>
              <a:chExt cx="2266200" cy="102960"/>
            </a:xfrm>
          </p:grpSpPr>
          <p:sp>
            <p:nvSpPr>
              <p:cNvPr id="2322" name=""/>
              <p:cNvSpPr/>
              <p:nvPr/>
            </p:nvSpPr>
            <p:spPr>
              <a:xfrm>
                <a:off x="3725280" y="2959920"/>
                <a:ext cx="100080" cy="10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1559160" y="2957400"/>
                <a:ext cx="100440" cy="100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3017520" y="2957400"/>
                <a:ext cx="100440" cy="100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1925640" y="2957400"/>
                <a:ext cx="100080" cy="10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2264760" y="2957400"/>
                <a:ext cx="100080" cy="10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2626200" y="2957400"/>
                <a:ext cx="100080" cy="10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3380040" y="2957400"/>
                <a:ext cx="100080" cy="10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9" name=""/>
            <p:cNvGrpSpPr/>
            <p:nvPr/>
          </p:nvGrpSpPr>
          <p:grpSpPr>
            <a:xfrm>
              <a:off x="343080" y="4188960"/>
              <a:ext cx="2261520" cy="100440"/>
              <a:chOff x="343080" y="4188960"/>
              <a:chExt cx="2261520" cy="100440"/>
            </a:xfrm>
          </p:grpSpPr>
          <p:sp>
            <p:nvSpPr>
              <p:cNvPr id="2330" name=""/>
              <p:cNvSpPr/>
              <p:nvPr/>
            </p:nvSpPr>
            <p:spPr>
              <a:xfrm>
                <a:off x="2504160" y="4188960"/>
                <a:ext cx="100440" cy="10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343080" y="4188960"/>
                <a:ext cx="100080" cy="10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706680" y="4188960"/>
                <a:ext cx="100080" cy="10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1053000" y="4188960"/>
                <a:ext cx="100080" cy="10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1804680" y="4188960"/>
                <a:ext cx="100080" cy="10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2151360" y="4188960"/>
                <a:ext cx="100080" cy="10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36" name=""/>
          <p:cNvGrpSpPr/>
          <p:nvPr/>
        </p:nvGrpSpPr>
        <p:grpSpPr>
          <a:xfrm>
            <a:off x="403200" y="2205000"/>
            <a:ext cx="3392640" cy="1965240"/>
            <a:chOff x="403200" y="2205000"/>
            <a:chExt cx="3392640" cy="1965240"/>
          </a:xfrm>
        </p:grpSpPr>
        <p:grpSp>
          <p:nvGrpSpPr>
            <p:cNvPr id="2337" name=""/>
            <p:cNvGrpSpPr/>
            <p:nvPr/>
          </p:nvGrpSpPr>
          <p:grpSpPr>
            <a:xfrm>
              <a:off x="1613880" y="2205000"/>
              <a:ext cx="2181960" cy="735840"/>
              <a:chOff x="1613880" y="2205000"/>
              <a:chExt cx="2181960" cy="735840"/>
            </a:xfrm>
          </p:grpSpPr>
          <p:sp>
            <p:nvSpPr>
              <p:cNvPr id="2338" name=""/>
              <p:cNvSpPr/>
              <p:nvPr/>
            </p:nvSpPr>
            <p:spPr>
              <a:xfrm>
                <a:off x="1635840" y="2205000"/>
                <a:ext cx="21600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1630080" y="2420280"/>
                <a:ext cx="21600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1622160" y="2773440"/>
                <a:ext cx="217008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1630800" y="2597040"/>
                <a:ext cx="216144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1613880" y="2940840"/>
                <a:ext cx="21600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3" name=""/>
            <p:cNvGrpSpPr/>
            <p:nvPr/>
          </p:nvGrpSpPr>
          <p:grpSpPr>
            <a:xfrm>
              <a:off x="403200" y="3422880"/>
              <a:ext cx="2171160" cy="747360"/>
              <a:chOff x="403200" y="3422880"/>
              <a:chExt cx="2171160" cy="747360"/>
            </a:xfrm>
          </p:grpSpPr>
          <p:sp>
            <p:nvSpPr>
              <p:cNvPr id="2344" name=""/>
              <p:cNvSpPr/>
              <p:nvPr/>
            </p:nvSpPr>
            <p:spPr>
              <a:xfrm>
                <a:off x="1865520" y="4170240"/>
                <a:ext cx="70308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414720" y="3422880"/>
                <a:ext cx="215964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408960" y="3637800"/>
                <a:ext cx="215964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1861920" y="3991320"/>
                <a:ext cx="70884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403200" y="3814560"/>
                <a:ext cx="7110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1861920" y="3814560"/>
                <a:ext cx="70884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408960" y="3991320"/>
                <a:ext cx="7110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408960" y="4165920"/>
                <a:ext cx="70308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52" name=""/>
          <p:cNvGrpSpPr/>
          <p:nvPr/>
        </p:nvGrpSpPr>
        <p:grpSpPr>
          <a:xfrm>
            <a:off x="401760" y="2027160"/>
            <a:ext cx="3384360" cy="2140200"/>
            <a:chOff x="401760" y="2027160"/>
            <a:chExt cx="3384360" cy="2140200"/>
          </a:xfrm>
        </p:grpSpPr>
        <p:sp>
          <p:nvSpPr>
            <p:cNvPr id="2353" name=""/>
            <p:cNvSpPr/>
            <p:nvPr/>
          </p:nvSpPr>
          <p:spPr>
            <a:xfrm>
              <a:off x="1489320" y="3263400"/>
              <a:ext cx="0" cy="3729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54" name=""/>
            <p:cNvGrpSpPr/>
            <p:nvPr/>
          </p:nvGrpSpPr>
          <p:grpSpPr>
            <a:xfrm>
              <a:off x="401760" y="2027160"/>
              <a:ext cx="3384360" cy="2140200"/>
              <a:chOff x="401760" y="2027160"/>
              <a:chExt cx="3384360" cy="2140200"/>
            </a:xfrm>
          </p:grpSpPr>
          <p:grpSp>
            <p:nvGrpSpPr>
              <p:cNvPr id="2355" name=""/>
              <p:cNvGrpSpPr/>
              <p:nvPr/>
            </p:nvGrpSpPr>
            <p:grpSpPr>
              <a:xfrm>
                <a:off x="1626840" y="2027160"/>
                <a:ext cx="2159280" cy="911160"/>
                <a:chOff x="1626840" y="2027160"/>
                <a:chExt cx="2159280" cy="911160"/>
              </a:xfrm>
            </p:grpSpPr>
            <p:sp>
              <p:nvSpPr>
                <p:cNvPr id="2356" name=""/>
                <p:cNvSpPr/>
                <p:nvPr/>
              </p:nvSpPr>
              <p:spPr>
                <a:xfrm>
                  <a:off x="3440520" y="2139840"/>
                  <a:ext cx="0" cy="7984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7" name=""/>
                <p:cNvSpPr/>
                <p:nvPr/>
              </p:nvSpPr>
              <p:spPr>
                <a:xfrm>
                  <a:off x="3786120" y="2199960"/>
                  <a:ext cx="0" cy="738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8" name=""/>
                <p:cNvSpPr/>
                <p:nvPr/>
              </p:nvSpPr>
              <p:spPr>
                <a:xfrm>
                  <a:off x="3080160" y="2092680"/>
                  <a:ext cx="0" cy="845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9" name=""/>
                <p:cNvSpPr/>
                <p:nvPr/>
              </p:nvSpPr>
              <p:spPr>
                <a:xfrm>
                  <a:off x="2707200" y="2027160"/>
                  <a:ext cx="0" cy="911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0" name=""/>
                <p:cNvSpPr/>
                <p:nvPr/>
              </p:nvSpPr>
              <p:spPr>
                <a:xfrm>
                  <a:off x="2332800" y="2084400"/>
                  <a:ext cx="0" cy="853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1" name=""/>
                <p:cNvSpPr/>
                <p:nvPr/>
              </p:nvSpPr>
              <p:spPr>
                <a:xfrm>
                  <a:off x="1626840" y="2196360"/>
                  <a:ext cx="0" cy="741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2" name=""/>
                <p:cNvSpPr/>
                <p:nvPr/>
              </p:nvSpPr>
              <p:spPr>
                <a:xfrm>
                  <a:off x="1987920" y="2145600"/>
                  <a:ext cx="0" cy="792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3" name=""/>
              <p:cNvGrpSpPr/>
              <p:nvPr/>
            </p:nvGrpSpPr>
            <p:grpSpPr>
              <a:xfrm>
                <a:off x="401760" y="3309840"/>
                <a:ext cx="2166480" cy="857520"/>
                <a:chOff x="401760" y="3309840"/>
                <a:chExt cx="2166480" cy="857520"/>
              </a:xfrm>
            </p:grpSpPr>
            <p:sp>
              <p:nvSpPr>
                <p:cNvPr id="2364" name=""/>
                <p:cNvSpPr/>
                <p:nvPr/>
              </p:nvSpPr>
              <p:spPr>
                <a:xfrm>
                  <a:off x="2222640" y="3365280"/>
                  <a:ext cx="0" cy="802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5" name=""/>
                <p:cNvSpPr/>
                <p:nvPr/>
              </p:nvSpPr>
              <p:spPr>
                <a:xfrm>
                  <a:off x="2568240" y="3421800"/>
                  <a:ext cx="0" cy="738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6" name=""/>
                <p:cNvSpPr/>
                <p:nvPr/>
              </p:nvSpPr>
              <p:spPr>
                <a:xfrm>
                  <a:off x="1862280" y="3314160"/>
                  <a:ext cx="0" cy="849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7" name=""/>
                <p:cNvSpPr/>
                <p:nvPr/>
              </p:nvSpPr>
              <p:spPr>
                <a:xfrm>
                  <a:off x="1114920" y="3309840"/>
                  <a:ext cx="0" cy="853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8" name=""/>
                <p:cNvSpPr/>
                <p:nvPr/>
              </p:nvSpPr>
              <p:spPr>
                <a:xfrm flipH="1">
                  <a:off x="401760" y="3418200"/>
                  <a:ext cx="7200" cy="749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9" name=""/>
                <p:cNvSpPr/>
                <p:nvPr/>
              </p:nvSpPr>
              <p:spPr>
                <a:xfrm>
                  <a:off x="770040" y="3371040"/>
                  <a:ext cx="0" cy="7927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370" name=""/>
          <p:cNvGrpSpPr/>
          <p:nvPr/>
        </p:nvGrpSpPr>
        <p:grpSpPr>
          <a:xfrm>
            <a:off x="404640" y="2028600"/>
            <a:ext cx="3387960" cy="1389240"/>
            <a:chOff x="404640" y="2028600"/>
            <a:chExt cx="3387960" cy="1389240"/>
          </a:xfrm>
        </p:grpSpPr>
        <p:grpSp>
          <p:nvGrpSpPr>
            <p:cNvPr id="2371" name=""/>
            <p:cNvGrpSpPr/>
            <p:nvPr/>
          </p:nvGrpSpPr>
          <p:grpSpPr>
            <a:xfrm>
              <a:off x="404640" y="3045960"/>
              <a:ext cx="2363760" cy="371880"/>
              <a:chOff x="404640" y="3045960"/>
              <a:chExt cx="2363760" cy="371880"/>
            </a:xfrm>
          </p:grpSpPr>
          <p:sp>
            <p:nvSpPr>
              <p:cNvPr id="2372" name=""/>
              <p:cNvSpPr/>
              <p:nvPr/>
            </p:nvSpPr>
            <p:spPr>
              <a:xfrm flipH="1" flipV="1">
                <a:off x="1688400" y="3047760"/>
                <a:ext cx="183600" cy="2595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 flipH="1">
                <a:off x="1103040" y="3048120"/>
                <a:ext cx="585000" cy="2595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 flipH="1" flipV="1">
                <a:off x="2398320" y="3147840"/>
                <a:ext cx="165960" cy="2700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 flipV="1">
                <a:off x="2218320" y="3213000"/>
                <a:ext cx="550080" cy="153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 flipH="1" flipV="1">
                <a:off x="2050920" y="3108600"/>
                <a:ext cx="167040" cy="257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 flipH="1">
                <a:off x="1857960" y="3155760"/>
                <a:ext cx="569520" cy="151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 flipH="1">
                <a:off x="1513800" y="3108960"/>
                <a:ext cx="536760" cy="1389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 flipH="1" flipV="1">
                <a:off x="1307880" y="3097440"/>
                <a:ext cx="205920" cy="150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 flipH="1" flipV="1">
                <a:off x="968400" y="3155760"/>
                <a:ext cx="141840" cy="155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 flipH="1">
                <a:off x="763560" y="3108960"/>
                <a:ext cx="543960" cy="257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 flipH="1" flipV="1">
                <a:off x="608040" y="3213000"/>
                <a:ext cx="157680" cy="146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 flipH="1">
                <a:off x="404640" y="3155760"/>
                <a:ext cx="563760" cy="261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 flipV="1">
                <a:off x="2561400" y="3213000"/>
                <a:ext cx="199800" cy="199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 flipV="1">
                <a:off x="1499400" y="3045960"/>
                <a:ext cx="199800" cy="199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 flipV="1">
                <a:off x="1863000" y="3103920"/>
                <a:ext cx="199800" cy="199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 flipV="1">
                <a:off x="408240" y="3209400"/>
                <a:ext cx="199800" cy="199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 flipV="1">
                <a:off x="772200" y="3154680"/>
                <a:ext cx="199800" cy="199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 flipV="1">
                <a:off x="1113840" y="3103920"/>
                <a:ext cx="199800" cy="199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 flipV="1">
                <a:off x="604800" y="3049920"/>
                <a:ext cx="1087200" cy="163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 flipV="1">
                <a:off x="408240" y="3253320"/>
                <a:ext cx="1087200" cy="163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1495800" y="3253320"/>
                <a:ext cx="1058040" cy="163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1695960" y="3049920"/>
                <a:ext cx="1058040" cy="163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 flipV="1">
                <a:off x="2208600" y="3165840"/>
                <a:ext cx="199800" cy="199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5" name=""/>
            <p:cNvGrpSpPr/>
            <p:nvPr/>
          </p:nvGrpSpPr>
          <p:grpSpPr>
            <a:xfrm>
              <a:off x="1428840" y="2028600"/>
              <a:ext cx="2363760" cy="371880"/>
              <a:chOff x="1428840" y="2028600"/>
              <a:chExt cx="2363760" cy="371880"/>
            </a:xfrm>
          </p:grpSpPr>
          <p:sp>
            <p:nvSpPr>
              <p:cNvPr id="2396" name=""/>
              <p:cNvSpPr/>
              <p:nvPr/>
            </p:nvSpPr>
            <p:spPr>
              <a:xfrm flipH="1" flipV="1">
                <a:off x="2712600" y="2030400"/>
                <a:ext cx="183600" cy="2595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 flipH="1">
                <a:off x="2127240" y="2030760"/>
                <a:ext cx="585000" cy="2595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 flipH="1" flipV="1">
                <a:off x="3422520" y="2130480"/>
                <a:ext cx="165960" cy="2700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 flipV="1">
                <a:off x="3242520" y="2195640"/>
                <a:ext cx="550080" cy="153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 flipH="1" flipV="1">
                <a:off x="3075120" y="2091240"/>
                <a:ext cx="167040" cy="257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 flipH="1">
                <a:off x="2882160" y="2138400"/>
                <a:ext cx="569520" cy="151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 flipH="1">
                <a:off x="2538000" y="2091600"/>
                <a:ext cx="536760" cy="1389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 flipH="1" flipV="1">
                <a:off x="2332080" y="2080080"/>
                <a:ext cx="205920" cy="150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 flipH="1" flipV="1">
                <a:off x="1992600" y="2138400"/>
                <a:ext cx="141840" cy="155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 flipH="1">
                <a:off x="1787760" y="2091600"/>
                <a:ext cx="543960" cy="257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 flipH="1" flipV="1">
                <a:off x="1632240" y="2195640"/>
                <a:ext cx="157680" cy="146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 flipH="1">
                <a:off x="1428840" y="2138400"/>
                <a:ext cx="563760" cy="261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 flipV="1">
                <a:off x="3585600" y="2195640"/>
                <a:ext cx="199800" cy="199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 flipV="1">
                <a:off x="2523600" y="2028600"/>
                <a:ext cx="199800" cy="199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 flipV="1">
                <a:off x="2887200" y="2086560"/>
                <a:ext cx="199800" cy="199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 flipV="1">
                <a:off x="1432440" y="2192040"/>
                <a:ext cx="199800" cy="199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 flipV="1">
                <a:off x="1796400" y="2137320"/>
                <a:ext cx="199800" cy="199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 flipV="1">
                <a:off x="2138040" y="2086560"/>
                <a:ext cx="199800" cy="199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 flipV="1">
                <a:off x="1629000" y="2032560"/>
                <a:ext cx="1087200" cy="163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 flipV="1">
                <a:off x="1432440" y="2235960"/>
                <a:ext cx="1087200" cy="163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2520000" y="2235960"/>
                <a:ext cx="1058040" cy="163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2720160" y="2032560"/>
                <a:ext cx="1058040" cy="163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 flipV="1">
                <a:off x="3232800" y="2148480"/>
                <a:ext cx="199800" cy="199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19" name=""/>
          <p:cNvGrpSpPr/>
          <p:nvPr/>
        </p:nvGrpSpPr>
        <p:grpSpPr>
          <a:xfrm>
            <a:off x="401760" y="2192040"/>
            <a:ext cx="3386160" cy="1981080"/>
            <a:chOff x="401760" y="2192040"/>
            <a:chExt cx="3386160" cy="1981080"/>
          </a:xfrm>
        </p:grpSpPr>
        <p:grpSp>
          <p:nvGrpSpPr>
            <p:cNvPr id="2420" name=""/>
            <p:cNvGrpSpPr/>
            <p:nvPr/>
          </p:nvGrpSpPr>
          <p:grpSpPr>
            <a:xfrm>
              <a:off x="2562120" y="3210120"/>
              <a:ext cx="207360" cy="955800"/>
              <a:chOff x="2562120" y="3210120"/>
              <a:chExt cx="207360" cy="955800"/>
            </a:xfrm>
          </p:grpSpPr>
          <p:sp>
            <p:nvSpPr>
              <p:cNvPr id="2421" name=""/>
              <p:cNvSpPr/>
              <p:nvPr/>
            </p:nvSpPr>
            <p:spPr>
              <a:xfrm flipV="1">
                <a:off x="2565720" y="3609000"/>
                <a:ext cx="203400" cy="556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 flipH="1" flipV="1">
                <a:off x="2562120" y="3413520"/>
                <a:ext cx="207360" cy="195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 flipH="1" flipV="1">
                <a:off x="2565360" y="3801960"/>
                <a:ext cx="203400" cy="1602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 flipV="1">
                <a:off x="2565720" y="3213720"/>
                <a:ext cx="203400" cy="590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 flipV="1">
                <a:off x="2562120" y="3210120"/>
                <a:ext cx="200160" cy="1998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2565720" y="3413880"/>
                <a:ext cx="0" cy="7491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 flipV="1">
                <a:off x="2565720" y="3606480"/>
                <a:ext cx="199800" cy="1998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2769480" y="3217680"/>
                <a:ext cx="0" cy="7491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9" name=""/>
            <p:cNvGrpSpPr/>
            <p:nvPr/>
          </p:nvGrpSpPr>
          <p:grpSpPr>
            <a:xfrm>
              <a:off x="401760" y="3217320"/>
              <a:ext cx="207360" cy="955800"/>
              <a:chOff x="401760" y="3217320"/>
              <a:chExt cx="207360" cy="955800"/>
            </a:xfrm>
          </p:grpSpPr>
          <p:sp>
            <p:nvSpPr>
              <p:cNvPr id="2430" name=""/>
              <p:cNvSpPr/>
              <p:nvPr/>
            </p:nvSpPr>
            <p:spPr>
              <a:xfrm flipV="1">
                <a:off x="405360" y="3616200"/>
                <a:ext cx="203400" cy="556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 flipH="1" flipV="1">
                <a:off x="401760" y="3420720"/>
                <a:ext cx="207360" cy="195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 flipH="1" flipV="1">
                <a:off x="405000" y="3809160"/>
                <a:ext cx="203400" cy="1602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 flipV="1">
                <a:off x="405360" y="3220920"/>
                <a:ext cx="203400" cy="590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 flipV="1">
                <a:off x="401760" y="3217320"/>
                <a:ext cx="200160" cy="1998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405360" y="3421080"/>
                <a:ext cx="0" cy="7491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 flipV="1">
                <a:off x="405360" y="3613680"/>
                <a:ext cx="199800" cy="1998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609120" y="3224880"/>
                <a:ext cx="0" cy="7491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8" name=""/>
            <p:cNvGrpSpPr/>
            <p:nvPr/>
          </p:nvGrpSpPr>
          <p:grpSpPr>
            <a:xfrm>
              <a:off x="3580560" y="2192040"/>
              <a:ext cx="207360" cy="955800"/>
              <a:chOff x="3580560" y="2192040"/>
              <a:chExt cx="207360" cy="955800"/>
            </a:xfrm>
          </p:grpSpPr>
          <p:sp>
            <p:nvSpPr>
              <p:cNvPr id="2439" name=""/>
              <p:cNvSpPr/>
              <p:nvPr/>
            </p:nvSpPr>
            <p:spPr>
              <a:xfrm flipV="1">
                <a:off x="3584160" y="2590920"/>
                <a:ext cx="203400" cy="556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 flipH="1" flipV="1">
                <a:off x="3580560" y="2395440"/>
                <a:ext cx="207360" cy="195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 flipH="1" flipV="1">
                <a:off x="3583800" y="2783880"/>
                <a:ext cx="203400" cy="1602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 flipV="1">
                <a:off x="3584160" y="2195640"/>
                <a:ext cx="203400" cy="590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 flipV="1">
                <a:off x="3580560" y="2192040"/>
                <a:ext cx="200160" cy="1998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3584160" y="2395800"/>
                <a:ext cx="0" cy="7491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 flipV="1">
                <a:off x="3584160" y="2588400"/>
                <a:ext cx="199800" cy="1998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3787920" y="2199600"/>
                <a:ext cx="0" cy="7491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7" name=""/>
            <p:cNvGrpSpPr/>
            <p:nvPr/>
          </p:nvGrpSpPr>
          <p:grpSpPr>
            <a:xfrm>
              <a:off x="1419840" y="2202840"/>
              <a:ext cx="207360" cy="955800"/>
              <a:chOff x="1419840" y="2202840"/>
              <a:chExt cx="207360" cy="955800"/>
            </a:xfrm>
          </p:grpSpPr>
          <p:sp>
            <p:nvSpPr>
              <p:cNvPr id="2448" name=""/>
              <p:cNvSpPr/>
              <p:nvPr/>
            </p:nvSpPr>
            <p:spPr>
              <a:xfrm flipV="1">
                <a:off x="1423440" y="2601720"/>
                <a:ext cx="203400" cy="556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 flipH="1" flipV="1">
                <a:off x="1419840" y="2406240"/>
                <a:ext cx="207360" cy="195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 flipH="1" flipV="1">
                <a:off x="1423080" y="2794680"/>
                <a:ext cx="203400" cy="1602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 flipV="1">
                <a:off x="1423440" y="2206440"/>
                <a:ext cx="203400" cy="590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 flipV="1">
                <a:off x="1419840" y="2202840"/>
                <a:ext cx="200160" cy="1998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1423440" y="2406600"/>
                <a:ext cx="0" cy="7491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 flipV="1">
                <a:off x="1423440" y="2599200"/>
                <a:ext cx="199800" cy="1998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1627200" y="2210400"/>
                <a:ext cx="0" cy="7491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56" name=""/>
          <p:cNvGrpSpPr/>
          <p:nvPr/>
        </p:nvGrpSpPr>
        <p:grpSpPr>
          <a:xfrm>
            <a:off x="608040" y="2234880"/>
            <a:ext cx="2974680" cy="1727640"/>
            <a:chOff x="608040" y="2234880"/>
            <a:chExt cx="2974680" cy="1727640"/>
          </a:xfrm>
        </p:grpSpPr>
        <p:grpSp>
          <p:nvGrpSpPr>
            <p:cNvPr id="2457" name=""/>
            <p:cNvGrpSpPr/>
            <p:nvPr/>
          </p:nvGrpSpPr>
          <p:grpSpPr>
            <a:xfrm>
              <a:off x="608040" y="3048840"/>
              <a:ext cx="2160360" cy="913680"/>
              <a:chOff x="608040" y="3048840"/>
              <a:chExt cx="2160360" cy="913680"/>
            </a:xfrm>
          </p:grpSpPr>
          <p:sp>
            <p:nvSpPr>
              <p:cNvPr id="2458" name=""/>
              <p:cNvSpPr/>
              <p:nvPr/>
            </p:nvSpPr>
            <p:spPr>
              <a:xfrm flipV="1">
                <a:off x="608040" y="3215160"/>
                <a:ext cx="0" cy="747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 flipV="1">
                <a:off x="608040" y="3048840"/>
                <a:ext cx="1080360" cy="165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 flipV="1">
                <a:off x="2768400" y="3215160"/>
                <a:ext cx="0" cy="747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 flipH="1" flipV="1">
                <a:off x="1688400" y="3048840"/>
                <a:ext cx="1080000" cy="165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2" name=""/>
            <p:cNvGrpSpPr/>
            <p:nvPr/>
          </p:nvGrpSpPr>
          <p:grpSpPr>
            <a:xfrm>
              <a:off x="811440" y="2845440"/>
              <a:ext cx="2160720" cy="913680"/>
              <a:chOff x="811440" y="2845440"/>
              <a:chExt cx="2160720" cy="913680"/>
            </a:xfrm>
          </p:grpSpPr>
          <p:sp>
            <p:nvSpPr>
              <p:cNvPr id="2463" name=""/>
              <p:cNvSpPr/>
              <p:nvPr/>
            </p:nvSpPr>
            <p:spPr>
              <a:xfrm flipV="1">
                <a:off x="811440" y="3011760"/>
                <a:ext cx="0" cy="747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 flipV="1">
                <a:off x="811440" y="2845440"/>
                <a:ext cx="1080360" cy="165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 flipV="1">
                <a:off x="2972160" y="3011760"/>
                <a:ext cx="0" cy="747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 flipH="1" flipV="1">
                <a:off x="1891440" y="2845440"/>
                <a:ext cx="1080360" cy="165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7" name=""/>
            <p:cNvGrpSpPr/>
            <p:nvPr/>
          </p:nvGrpSpPr>
          <p:grpSpPr>
            <a:xfrm>
              <a:off x="1015200" y="2641680"/>
              <a:ext cx="2160720" cy="913680"/>
              <a:chOff x="1015200" y="2641680"/>
              <a:chExt cx="2160720" cy="913680"/>
            </a:xfrm>
          </p:grpSpPr>
          <p:sp>
            <p:nvSpPr>
              <p:cNvPr id="2468" name=""/>
              <p:cNvSpPr/>
              <p:nvPr/>
            </p:nvSpPr>
            <p:spPr>
              <a:xfrm flipV="1">
                <a:off x="1015200" y="2808000"/>
                <a:ext cx="0" cy="747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 flipV="1">
                <a:off x="1015200" y="2641680"/>
                <a:ext cx="1080360" cy="165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 flipV="1">
                <a:off x="3175920" y="2808000"/>
                <a:ext cx="0" cy="747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 flipH="1" flipV="1">
                <a:off x="2095200" y="2641680"/>
                <a:ext cx="1080360" cy="165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2" name=""/>
            <p:cNvGrpSpPr/>
            <p:nvPr/>
          </p:nvGrpSpPr>
          <p:grpSpPr>
            <a:xfrm>
              <a:off x="1218960" y="2438280"/>
              <a:ext cx="2160360" cy="913680"/>
              <a:chOff x="1218960" y="2438280"/>
              <a:chExt cx="2160360" cy="913680"/>
            </a:xfrm>
          </p:grpSpPr>
          <p:sp>
            <p:nvSpPr>
              <p:cNvPr id="2473" name=""/>
              <p:cNvSpPr/>
              <p:nvPr/>
            </p:nvSpPr>
            <p:spPr>
              <a:xfrm flipV="1">
                <a:off x="1218960" y="2604600"/>
                <a:ext cx="0" cy="747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 flipV="1">
                <a:off x="1218960" y="2438280"/>
                <a:ext cx="1080000" cy="165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 flipV="1">
                <a:off x="3379320" y="2604600"/>
                <a:ext cx="0" cy="747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 flipH="1" flipV="1">
                <a:off x="2298600" y="2438280"/>
                <a:ext cx="1080360" cy="165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7" name=""/>
            <p:cNvGrpSpPr/>
            <p:nvPr/>
          </p:nvGrpSpPr>
          <p:grpSpPr>
            <a:xfrm>
              <a:off x="1422360" y="2234880"/>
              <a:ext cx="2160360" cy="913680"/>
              <a:chOff x="1422360" y="2234880"/>
              <a:chExt cx="2160360" cy="913680"/>
            </a:xfrm>
          </p:grpSpPr>
          <p:sp>
            <p:nvSpPr>
              <p:cNvPr id="2478" name=""/>
              <p:cNvSpPr/>
              <p:nvPr/>
            </p:nvSpPr>
            <p:spPr>
              <a:xfrm flipV="1">
                <a:off x="1422360" y="2401200"/>
                <a:ext cx="0" cy="747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 flipV="1">
                <a:off x="1422360" y="2234880"/>
                <a:ext cx="1080000" cy="165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 flipV="1">
                <a:off x="3582720" y="2401200"/>
                <a:ext cx="0" cy="747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 flipH="1" flipV="1">
                <a:off x="2502000" y="2234880"/>
                <a:ext cx="1080360" cy="165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82" name=""/>
          <p:cNvGrpSpPr/>
          <p:nvPr/>
        </p:nvGrpSpPr>
        <p:grpSpPr>
          <a:xfrm>
            <a:off x="404640" y="2405160"/>
            <a:ext cx="3383280" cy="1765080"/>
            <a:chOff x="404640" y="2405160"/>
            <a:chExt cx="3383280" cy="1765080"/>
          </a:xfrm>
        </p:grpSpPr>
        <p:grpSp>
          <p:nvGrpSpPr>
            <p:cNvPr id="2483" name=""/>
            <p:cNvGrpSpPr/>
            <p:nvPr/>
          </p:nvGrpSpPr>
          <p:grpSpPr>
            <a:xfrm>
              <a:off x="404640" y="2416320"/>
              <a:ext cx="1222200" cy="1753560"/>
              <a:chOff x="404640" y="2416320"/>
              <a:chExt cx="1222200" cy="1753560"/>
            </a:xfrm>
          </p:grpSpPr>
          <p:sp>
            <p:nvSpPr>
              <p:cNvPr id="2484" name=""/>
              <p:cNvSpPr/>
              <p:nvPr/>
            </p:nvSpPr>
            <p:spPr>
              <a:xfrm flipV="1">
                <a:off x="404640" y="2416320"/>
                <a:ext cx="1222200" cy="1221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 flipV="1">
                <a:off x="404640" y="2603520"/>
                <a:ext cx="1222200" cy="1221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 flipV="1">
                <a:off x="404640" y="2769480"/>
                <a:ext cx="1222200" cy="1221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 flipV="1">
                <a:off x="404640" y="2948400"/>
                <a:ext cx="1222200" cy="1221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8" name=""/>
            <p:cNvGrpSpPr/>
            <p:nvPr/>
          </p:nvGrpSpPr>
          <p:grpSpPr>
            <a:xfrm>
              <a:off x="2565720" y="2405160"/>
              <a:ext cx="1222200" cy="1765080"/>
              <a:chOff x="2565720" y="2405160"/>
              <a:chExt cx="1222200" cy="1765080"/>
            </a:xfrm>
          </p:grpSpPr>
          <p:sp>
            <p:nvSpPr>
              <p:cNvPr id="2489" name=""/>
              <p:cNvSpPr/>
              <p:nvPr/>
            </p:nvSpPr>
            <p:spPr>
              <a:xfrm flipV="1">
                <a:off x="2565720" y="2949120"/>
                <a:ext cx="1222200" cy="1221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 flipV="1">
                <a:off x="2565720" y="2405160"/>
                <a:ext cx="1222200" cy="1221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 flipV="1">
                <a:off x="2565720" y="2592000"/>
                <a:ext cx="1222200" cy="1221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 flipV="1">
                <a:off x="2565720" y="2771280"/>
                <a:ext cx="1222200" cy="1221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93" name=""/>
          <p:cNvSpPr/>
          <p:nvPr/>
        </p:nvSpPr>
        <p:spPr>
          <a:xfrm flipV="1">
            <a:off x="1487520" y="2037960"/>
            <a:ext cx="1225440" cy="122076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4" name=""/>
          <p:cNvGrpSpPr/>
          <p:nvPr/>
        </p:nvGrpSpPr>
        <p:grpSpPr>
          <a:xfrm>
            <a:off x="404640" y="2196720"/>
            <a:ext cx="3380040" cy="1220760"/>
            <a:chOff x="404640" y="2196720"/>
            <a:chExt cx="3380040" cy="1220760"/>
          </a:xfrm>
        </p:grpSpPr>
        <p:sp>
          <p:nvSpPr>
            <p:cNvPr id="2495" name=""/>
            <p:cNvSpPr/>
            <p:nvPr/>
          </p:nvSpPr>
          <p:spPr>
            <a:xfrm flipV="1">
              <a:off x="2559240" y="2196720"/>
              <a:ext cx="1225440" cy="12207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 flipV="1">
              <a:off x="404640" y="2196720"/>
              <a:ext cx="1221840" cy="12207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7" name=""/>
          <p:cNvGrpSpPr/>
          <p:nvPr/>
        </p:nvGrpSpPr>
        <p:grpSpPr>
          <a:xfrm>
            <a:off x="566640" y="2057040"/>
            <a:ext cx="3046680" cy="1338120"/>
            <a:chOff x="566640" y="2057040"/>
            <a:chExt cx="3046680" cy="1338120"/>
          </a:xfrm>
        </p:grpSpPr>
        <p:sp>
          <p:nvSpPr>
            <p:cNvPr id="2498" name=""/>
            <p:cNvSpPr/>
            <p:nvPr/>
          </p:nvSpPr>
          <p:spPr>
            <a:xfrm flipV="1">
              <a:off x="1689480" y="2062080"/>
              <a:ext cx="1224360" cy="12214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 flipV="1">
              <a:off x="1873080" y="2078640"/>
              <a:ext cx="1224360" cy="12214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 flipV="1">
              <a:off x="2219040" y="2138040"/>
              <a:ext cx="1224360" cy="12214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 flipV="1">
              <a:off x="2388960" y="2173680"/>
              <a:ext cx="1224360" cy="12214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 flipV="1">
              <a:off x="566640" y="2173320"/>
              <a:ext cx="1208160" cy="12214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 flipV="1">
              <a:off x="767520" y="2145240"/>
              <a:ext cx="1208160" cy="12214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 flipV="1">
              <a:off x="1111680" y="2090160"/>
              <a:ext cx="1208160" cy="12214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 flipV="1">
              <a:off x="1297080" y="2057040"/>
              <a:ext cx="1212480" cy="12214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 flipV="1">
              <a:off x="934560" y="2118600"/>
              <a:ext cx="1208160" cy="12214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 flipV="1">
              <a:off x="2025720" y="2112480"/>
              <a:ext cx="1224360" cy="12304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8" name=""/>
          <p:cNvGrpSpPr/>
          <p:nvPr/>
        </p:nvGrpSpPr>
        <p:grpSpPr>
          <a:xfrm>
            <a:off x="404640" y="2030040"/>
            <a:ext cx="3383280" cy="2135160"/>
            <a:chOff x="404640" y="2030040"/>
            <a:chExt cx="3383280" cy="2135160"/>
          </a:xfrm>
        </p:grpSpPr>
        <p:sp>
          <p:nvSpPr>
            <p:cNvPr id="2509" name=""/>
            <p:cNvSpPr/>
            <p:nvPr/>
          </p:nvSpPr>
          <p:spPr>
            <a:xfrm flipV="1">
              <a:off x="404640" y="3251520"/>
              <a:ext cx="1080360" cy="1659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 flipH="1" flipV="1">
              <a:off x="1484640" y="3251520"/>
              <a:ext cx="1080360" cy="1659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 flipV="1">
              <a:off x="1626840" y="2030040"/>
              <a:ext cx="1080360" cy="1659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12" name=""/>
            <p:cNvGrpSpPr/>
            <p:nvPr/>
          </p:nvGrpSpPr>
          <p:grpSpPr>
            <a:xfrm>
              <a:off x="404640" y="2196000"/>
              <a:ext cx="3383280" cy="1969200"/>
              <a:chOff x="404640" y="2196000"/>
              <a:chExt cx="3383280" cy="1969200"/>
            </a:xfrm>
          </p:grpSpPr>
          <p:sp>
            <p:nvSpPr>
              <p:cNvPr id="2513" name=""/>
              <p:cNvSpPr/>
              <p:nvPr/>
            </p:nvSpPr>
            <p:spPr>
              <a:xfrm flipV="1">
                <a:off x="404640" y="3417480"/>
                <a:ext cx="0" cy="74772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 flipV="1">
                <a:off x="2565720" y="3417480"/>
                <a:ext cx="0" cy="74772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 flipV="1">
                <a:off x="1626840" y="2196000"/>
                <a:ext cx="0" cy="74772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 flipV="1">
                <a:off x="3787920" y="2196000"/>
                <a:ext cx="0" cy="74772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17" name=""/>
            <p:cNvSpPr/>
            <p:nvPr/>
          </p:nvSpPr>
          <p:spPr>
            <a:xfrm flipH="1" flipV="1">
              <a:off x="2707200" y="2030040"/>
              <a:ext cx="1080360" cy="1659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8" name=""/>
          <p:cNvGrpSpPr/>
          <p:nvPr/>
        </p:nvGrpSpPr>
        <p:grpSpPr>
          <a:xfrm>
            <a:off x="5189400" y="2825640"/>
            <a:ext cx="3482640" cy="1332000"/>
            <a:chOff x="5189400" y="2825640"/>
            <a:chExt cx="3482640" cy="1332000"/>
          </a:xfrm>
        </p:grpSpPr>
        <p:grpSp>
          <p:nvGrpSpPr>
            <p:cNvPr id="2519" name=""/>
            <p:cNvGrpSpPr/>
            <p:nvPr/>
          </p:nvGrpSpPr>
          <p:grpSpPr>
            <a:xfrm>
              <a:off x="5398920" y="3056760"/>
              <a:ext cx="914040" cy="902160"/>
              <a:chOff x="5398920" y="3056760"/>
              <a:chExt cx="914040" cy="902160"/>
            </a:xfrm>
          </p:grpSpPr>
          <p:sp>
            <p:nvSpPr>
              <p:cNvPr id="2520" name=""/>
              <p:cNvSpPr/>
              <p:nvPr/>
            </p:nvSpPr>
            <p:spPr>
              <a:xfrm>
                <a:off x="6212880" y="3056760"/>
                <a:ext cx="100080" cy="100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6005160" y="3246120"/>
                <a:ext cx="100080" cy="100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5806080" y="3442320"/>
                <a:ext cx="100080" cy="100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5600880" y="3646440"/>
                <a:ext cx="100800" cy="100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5398920" y="3858840"/>
                <a:ext cx="100080" cy="100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5" name=""/>
            <p:cNvGrpSpPr/>
            <p:nvPr/>
          </p:nvGrpSpPr>
          <p:grpSpPr>
            <a:xfrm>
              <a:off x="7567560" y="3040560"/>
              <a:ext cx="899640" cy="911880"/>
              <a:chOff x="7567560" y="3040560"/>
              <a:chExt cx="899640" cy="911880"/>
            </a:xfrm>
          </p:grpSpPr>
          <p:sp>
            <p:nvSpPr>
              <p:cNvPr id="2526" name=""/>
              <p:cNvSpPr/>
              <p:nvPr/>
            </p:nvSpPr>
            <p:spPr>
              <a:xfrm>
                <a:off x="8367120" y="3040560"/>
                <a:ext cx="100080" cy="100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8166240" y="3239640"/>
                <a:ext cx="100440" cy="100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7967160" y="3435840"/>
                <a:ext cx="100080" cy="100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7757280" y="3639600"/>
                <a:ext cx="102960" cy="10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7567560" y="3852360"/>
                <a:ext cx="100080" cy="100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1" name=""/>
            <p:cNvGrpSpPr/>
            <p:nvPr/>
          </p:nvGrpSpPr>
          <p:grpSpPr>
            <a:xfrm>
              <a:off x="6405840" y="2825640"/>
              <a:ext cx="2266200" cy="102960"/>
              <a:chOff x="6405840" y="2825640"/>
              <a:chExt cx="2266200" cy="102960"/>
            </a:xfrm>
          </p:grpSpPr>
          <p:sp>
            <p:nvSpPr>
              <p:cNvPr id="2532" name=""/>
              <p:cNvSpPr/>
              <p:nvPr/>
            </p:nvSpPr>
            <p:spPr>
              <a:xfrm>
                <a:off x="8571960" y="2828160"/>
                <a:ext cx="100080" cy="10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6405840" y="2825640"/>
                <a:ext cx="100440" cy="100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7864560" y="2825640"/>
                <a:ext cx="100440" cy="100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6772320" y="2825640"/>
                <a:ext cx="100080" cy="10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7111800" y="2825640"/>
                <a:ext cx="100080" cy="10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7472880" y="2825640"/>
                <a:ext cx="100080" cy="10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8227080" y="2825640"/>
                <a:ext cx="100080" cy="10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9" name=""/>
            <p:cNvGrpSpPr/>
            <p:nvPr/>
          </p:nvGrpSpPr>
          <p:grpSpPr>
            <a:xfrm>
              <a:off x="5189400" y="4057200"/>
              <a:ext cx="2261880" cy="100440"/>
              <a:chOff x="5189400" y="4057200"/>
              <a:chExt cx="2261880" cy="100440"/>
            </a:xfrm>
          </p:grpSpPr>
          <p:sp>
            <p:nvSpPr>
              <p:cNvPr id="2540" name=""/>
              <p:cNvSpPr/>
              <p:nvPr/>
            </p:nvSpPr>
            <p:spPr>
              <a:xfrm>
                <a:off x="7350840" y="4057200"/>
                <a:ext cx="100440" cy="10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5189400" y="4057200"/>
                <a:ext cx="100080" cy="10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5553000" y="4057200"/>
                <a:ext cx="100080" cy="10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5899680" y="4057200"/>
                <a:ext cx="100080" cy="10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6651360" y="4057200"/>
                <a:ext cx="100080" cy="10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6998040" y="4057200"/>
                <a:ext cx="100080" cy="10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46" name=""/>
          <p:cNvGrpSpPr/>
          <p:nvPr/>
        </p:nvGrpSpPr>
        <p:grpSpPr>
          <a:xfrm>
            <a:off x="5249880" y="2073240"/>
            <a:ext cx="3392640" cy="1965240"/>
            <a:chOff x="5249880" y="2073240"/>
            <a:chExt cx="3392640" cy="1965240"/>
          </a:xfrm>
        </p:grpSpPr>
        <p:grpSp>
          <p:nvGrpSpPr>
            <p:cNvPr id="2547" name=""/>
            <p:cNvGrpSpPr/>
            <p:nvPr/>
          </p:nvGrpSpPr>
          <p:grpSpPr>
            <a:xfrm>
              <a:off x="6460560" y="2073240"/>
              <a:ext cx="2181960" cy="735840"/>
              <a:chOff x="6460560" y="2073240"/>
              <a:chExt cx="2181960" cy="735840"/>
            </a:xfrm>
          </p:grpSpPr>
          <p:sp>
            <p:nvSpPr>
              <p:cNvPr id="2548" name=""/>
              <p:cNvSpPr/>
              <p:nvPr/>
            </p:nvSpPr>
            <p:spPr>
              <a:xfrm>
                <a:off x="6482520" y="2073240"/>
                <a:ext cx="21600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6476760" y="2288520"/>
                <a:ext cx="21600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6468840" y="2641680"/>
                <a:ext cx="217008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6477480" y="2465280"/>
                <a:ext cx="216144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6460560" y="2809080"/>
                <a:ext cx="21600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3" name=""/>
            <p:cNvGrpSpPr/>
            <p:nvPr/>
          </p:nvGrpSpPr>
          <p:grpSpPr>
            <a:xfrm>
              <a:off x="5249880" y="3291120"/>
              <a:ext cx="2171160" cy="747360"/>
              <a:chOff x="5249880" y="3291120"/>
              <a:chExt cx="2171160" cy="747360"/>
            </a:xfrm>
          </p:grpSpPr>
          <p:sp>
            <p:nvSpPr>
              <p:cNvPr id="2554" name=""/>
              <p:cNvSpPr/>
              <p:nvPr/>
            </p:nvSpPr>
            <p:spPr>
              <a:xfrm>
                <a:off x="6712200" y="4038480"/>
                <a:ext cx="70308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5261400" y="3291120"/>
                <a:ext cx="215964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5255640" y="3506040"/>
                <a:ext cx="215964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6708600" y="3859560"/>
                <a:ext cx="70884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5249880" y="3682800"/>
                <a:ext cx="7110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6708600" y="3682800"/>
                <a:ext cx="70884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5255640" y="3859560"/>
                <a:ext cx="7110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5255640" y="4034160"/>
                <a:ext cx="70308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62" name=""/>
          <p:cNvGrpSpPr/>
          <p:nvPr/>
        </p:nvGrpSpPr>
        <p:grpSpPr>
          <a:xfrm>
            <a:off x="5248440" y="1895400"/>
            <a:ext cx="3384360" cy="2140200"/>
            <a:chOff x="5248440" y="1895400"/>
            <a:chExt cx="3384360" cy="2140200"/>
          </a:xfrm>
        </p:grpSpPr>
        <p:sp>
          <p:nvSpPr>
            <p:cNvPr id="2563" name=""/>
            <p:cNvSpPr/>
            <p:nvPr/>
          </p:nvSpPr>
          <p:spPr>
            <a:xfrm>
              <a:off x="6336000" y="3131640"/>
              <a:ext cx="0" cy="3729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64" name=""/>
            <p:cNvGrpSpPr/>
            <p:nvPr/>
          </p:nvGrpSpPr>
          <p:grpSpPr>
            <a:xfrm>
              <a:off x="5248440" y="1895400"/>
              <a:ext cx="3384360" cy="2140200"/>
              <a:chOff x="5248440" y="1895400"/>
              <a:chExt cx="3384360" cy="2140200"/>
            </a:xfrm>
          </p:grpSpPr>
          <p:grpSp>
            <p:nvGrpSpPr>
              <p:cNvPr id="2565" name=""/>
              <p:cNvGrpSpPr/>
              <p:nvPr/>
            </p:nvGrpSpPr>
            <p:grpSpPr>
              <a:xfrm>
                <a:off x="6473520" y="1895400"/>
                <a:ext cx="2159280" cy="911160"/>
                <a:chOff x="6473520" y="1895400"/>
                <a:chExt cx="2159280" cy="911160"/>
              </a:xfrm>
            </p:grpSpPr>
            <p:sp>
              <p:nvSpPr>
                <p:cNvPr id="2566" name=""/>
                <p:cNvSpPr/>
                <p:nvPr/>
              </p:nvSpPr>
              <p:spPr>
                <a:xfrm>
                  <a:off x="8287200" y="2008080"/>
                  <a:ext cx="0" cy="7984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7" name=""/>
                <p:cNvSpPr/>
                <p:nvPr/>
              </p:nvSpPr>
              <p:spPr>
                <a:xfrm>
                  <a:off x="8632800" y="2068200"/>
                  <a:ext cx="0" cy="738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8" name=""/>
                <p:cNvSpPr/>
                <p:nvPr/>
              </p:nvSpPr>
              <p:spPr>
                <a:xfrm>
                  <a:off x="7926840" y="1960920"/>
                  <a:ext cx="0" cy="845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9" name=""/>
                <p:cNvSpPr/>
                <p:nvPr/>
              </p:nvSpPr>
              <p:spPr>
                <a:xfrm>
                  <a:off x="7553880" y="1895400"/>
                  <a:ext cx="0" cy="911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0" name=""/>
                <p:cNvSpPr/>
                <p:nvPr/>
              </p:nvSpPr>
              <p:spPr>
                <a:xfrm>
                  <a:off x="7179480" y="1952640"/>
                  <a:ext cx="0" cy="853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1" name=""/>
                <p:cNvSpPr/>
                <p:nvPr/>
              </p:nvSpPr>
              <p:spPr>
                <a:xfrm>
                  <a:off x="6473520" y="2064600"/>
                  <a:ext cx="0" cy="741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2" name=""/>
                <p:cNvSpPr/>
                <p:nvPr/>
              </p:nvSpPr>
              <p:spPr>
                <a:xfrm>
                  <a:off x="6834600" y="2013840"/>
                  <a:ext cx="0" cy="792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3" name=""/>
              <p:cNvGrpSpPr/>
              <p:nvPr/>
            </p:nvGrpSpPr>
            <p:grpSpPr>
              <a:xfrm>
                <a:off x="5248440" y="3178080"/>
                <a:ext cx="2166480" cy="857520"/>
                <a:chOff x="5248440" y="3178080"/>
                <a:chExt cx="2166480" cy="857520"/>
              </a:xfrm>
            </p:grpSpPr>
            <p:sp>
              <p:nvSpPr>
                <p:cNvPr id="2574" name=""/>
                <p:cNvSpPr/>
                <p:nvPr/>
              </p:nvSpPr>
              <p:spPr>
                <a:xfrm>
                  <a:off x="7069320" y="3233520"/>
                  <a:ext cx="0" cy="802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5" name=""/>
                <p:cNvSpPr/>
                <p:nvPr/>
              </p:nvSpPr>
              <p:spPr>
                <a:xfrm>
                  <a:off x="7414920" y="3290040"/>
                  <a:ext cx="0" cy="738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6" name=""/>
                <p:cNvSpPr/>
                <p:nvPr/>
              </p:nvSpPr>
              <p:spPr>
                <a:xfrm>
                  <a:off x="6708960" y="3182400"/>
                  <a:ext cx="0" cy="849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7" name=""/>
                <p:cNvSpPr/>
                <p:nvPr/>
              </p:nvSpPr>
              <p:spPr>
                <a:xfrm>
                  <a:off x="5961600" y="3178080"/>
                  <a:ext cx="0" cy="853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8" name=""/>
                <p:cNvSpPr/>
                <p:nvPr/>
              </p:nvSpPr>
              <p:spPr>
                <a:xfrm flipH="1">
                  <a:off x="5248440" y="3286440"/>
                  <a:ext cx="7200" cy="749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9" name=""/>
                <p:cNvSpPr/>
                <p:nvPr/>
              </p:nvSpPr>
              <p:spPr>
                <a:xfrm>
                  <a:off x="5616720" y="3239280"/>
                  <a:ext cx="0" cy="7927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580" name=""/>
          <p:cNvGrpSpPr/>
          <p:nvPr/>
        </p:nvGrpSpPr>
        <p:grpSpPr>
          <a:xfrm>
            <a:off x="5251320" y="1896840"/>
            <a:ext cx="3387960" cy="1389240"/>
            <a:chOff x="5251320" y="1896840"/>
            <a:chExt cx="3387960" cy="1389240"/>
          </a:xfrm>
        </p:grpSpPr>
        <p:grpSp>
          <p:nvGrpSpPr>
            <p:cNvPr id="2581" name=""/>
            <p:cNvGrpSpPr/>
            <p:nvPr/>
          </p:nvGrpSpPr>
          <p:grpSpPr>
            <a:xfrm>
              <a:off x="5251320" y="2914200"/>
              <a:ext cx="2363760" cy="371880"/>
              <a:chOff x="5251320" y="2914200"/>
              <a:chExt cx="2363760" cy="371880"/>
            </a:xfrm>
          </p:grpSpPr>
          <p:sp>
            <p:nvSpPr>
              <p:cNvPr id="2582" name=""/>
              <p:cNvSpPr/>
              <p:nvPr/>
            </p:nvSpPr>
            <p:spPr>
              <a:xfrm flipH="1" flipV="1">
                <a:off x="6535080" y="2916000"/>
                <a:ext cx="183600" cy="2595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 flipH="1">
                <a:off x="5949720" y="2916360"/>
                <a:ext cx="585000" cy="2595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 flipH="1" flipV="1">
                <a:off x="7245000" y="3016080"/>
                <a:ext cx="165960" cy="2700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 flipV="1">
                <a:off x="7065000" y="3081240"/>
                <a:ext cx="550080" cy="153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 flipH="1" flipV="1">
                <a:off x="6897600" y="2976840"/>
                <a:ext cx="167040" cy="257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 flipH="1">
                <a:off x="6704640" y="3024000"/>
                <a:ext cx="569520" cy="151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 flipH="1">
                <a:off x="6360480" y="2977200"/>
                <a:ext cx="536760" cy="1389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 flipH="1" flipV="1">
                <a:off x="6154560" y="2965680"/>
                <a:ext cx="205920" cy="150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 flipH="1" flipV="1">
                <a:off x="5815080" y="3024000"/>
                <a:ext cx="141840" cy="155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 flipH="1">
                <a:off x="5610240" y="2977200"/>
                <a:ext cx="543960" cy="257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 flipH="1" flipV="1">
                <a:off x="5454720" y="3081240"/>
                <a:ext cx="157680" cy="146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 flipH="1">
                <a:off x="5251320" y="3024000"/>
                <a:ext cx="563760" cy="261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 flipV="1">
                <a:off x="7408080" y="3081240"/>
                <a:ext cx="199800" cy="199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 flipV="1">
                <a:off x="6346080" y="2914200"/>
                <a:ext cx="199800" cy="199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 flipV="1">
                <a:off x="6709680" y="2972160"/>
                <a:ext cx="199800" cy="199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 flipV="1">
                <a:off x="5254920" y="3077640"/>
                <a:ext cx="199800" cy="199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 flipV="1">
                <a:off x="5618880" y="3022920"/>
                <a:ext cx="199800" cy="199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 flipV="1">
                <a:off x="5960520" y="2972160"/>
                <a:ext cx="199800" cy="199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 flipV="1">
                <a:off x="5451480" y="2918160"/>
                <a:ext cx="1087200" cy="163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 flipV="1">
                <a:off x="5254920" y="3121560"/>
                <a:ext cx="1087200" cy="163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6342480" y="3121560"/>
                <a:ext cx="1058040" cy="163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6542640" y="2918160"/>
                <a:ext cx="1058040" cy="163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 flipV="1">
                <a:off x="7055280" y="3034080"/>
                <a:ext cx="199800" cy="199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5" name=""/>
            <p:cNvGrpSpPr/>
            <p:nvPr/>
          </p:nvGrpSpPr>
          <p:grpSpPr>
            <a:xfrm>
              <a:off x="6275520" y="1896840"/>
              <a:ext cx="2363760" cy="371880"/>
              <a:chOff x="6275520" y="1896840"/>
              <a:chExt cx="2363760" cy="371880"/>
            </a:xfrm>
          </p:grpSpPr>
          <p:sp>
            <p:nvSpPr>
              <p:cNvPr id="2606" name=""/>
              <p:cNvSpPr/>
              <p:nvPr/>
            </p:nvSpPr>
            <p:spPr>
              <a:xfrm flipH="1" flipV="1">
                <a:off x="7559280" y="1898640"/>
                <a:ext cx="183600" cy="2595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 flipH="1">
                <a:off x="6973920" y="1899000"/>
                <a:ext cx="585000" cy="2595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 flipH="1" flipV="1">
                <a:off x="8269200" y="1998720"/>
                <a:ext cx="165960" cy="2700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 flipV="1">
                <a:off x="8089200" y="2063880"/>
                <a:ext cx="550080" cy="153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 flipH="1" flipV="1">
                <a:off x="7921800" y="1959480"/>
                <a:ext cx="167040" cy="257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 flipH="1">
                <a:off x="7728840" y="2006640"/>
                <a:ext cx="569520" cy="151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 flipH="1">
                <a:off x="7384680" y="1959840"/>
                <a:ext cx="536760" cy="1389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 flipH="1" flipV="1">
                <a:off x="7178760" y="1948320"/>
                <a:ext cx="205920" cy="150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 flipH="1" flipV="1">
                <a:off x="6839280" y="2006640"/>
                <a:ext cx="141840" cy="155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 flipH="1">
                <a:off x="6634440" y="1959840"/>
                <a:ext cx="543960" cy="257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 flipH="1" flipV="1">
                <a:off x="6478920" y="2063880"/>
                <a:ext cx="157680" cy="146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 flipH="1">
                <a:off x="6275520" y="2006640"/>
                <a:ext cx="563760" cy="261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 flipV="1">
                <a:off x="8432280" y="2063880"/>
                <a:ext cx="199800" cy="199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 flipV="1">
                <a:off x="7370280" y="1896840"/>
                <a:ext cx="199800" cy="199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 flipV="1">
                <a:off x="7733880" y="1954800"/>
                <a:ext cx="199800" cy="199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 flipV="1">
                <a:off x="6279120" y="2060280"/>
                <a:ext cx="199800" cy="199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 flipV="1">
                <a:off x="6643080" y="2005560"/>
                <a:ext cx="199800" cy="199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 flipV="1">
                <a:off x="6984720" y="1954800"/>
                <a:ext cx="199800" cy="199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 flipV="1">
                <a:off x="6475680" y="1900800"/>
                <a:ext cx="1087200" cy="163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 flipV="1">
                <a:off x="6279120" y="2104200"/>
                <a:ext cx="1087200" cy="163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7366680" y="2104200"/>
                <a:ext cx="1058040" cy="163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7566840" y="1900800"/>
                <a:ext cx="1058040" cy="163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 flipV="1">
                <a:off x="8079480" y="2016720"/>
                <a:ext cx="199800" cy="199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29" name=""/>
          <p:cNvGrpSpPr/>
          <p:nvPr/>
        </p:nvGrpSpPr>
        <p:grpSpPr>
          <a:xfrm>
            <a:off x="5248440" y="2060280"/>
            <a:ext cx="3385800" cy="1981080"/>
            <a:chOff x="5248440" y="2060280"/>
            <a:chExt cx="3385800" cy="1981080"/>
          </a:xfrm>
        </p:grpSpPr>
        <p:grpSp>
          <p:nvGrpSpPr>
            <p:cNvPr id="2630" name=""/>
            <p:cNvGrpSpPr/>
            <p:nvPr/>
          </p:nvGrpSpPr>
          <p:grpSpPr>
            <a:xfrm>
              <a:off x="7408440" y="3078360"/>
              <a:ext cx="207360" cy="955800"/>
              <a:chOff x="7408440" y="3078360"/>
              <a:chExt cx="207360" cy="955800"/>
            </a:xfrm>
          </p:grpSpPr>
          <p:sp>
            <p:nvSpPr>
              <p:cNvPr id="2631" name=""/>
              <p:cNvSpPr/>
              <p:nvPr/>
            </p:nvSpPr>
            <p:spPr>
              <a:xfrm flipV="1">
                <a:off x="7412040" y="3477240"/>
                <a:ext cx="203400" cy="556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 flipH="1" flipV="1">
                <a:off x="7408440" y="3281760"/>
                <a:ext cx="207360" cy="195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 flipH="1" flipV="1">
                <a:off x="7411680" y="3670200"/>
                <a:ext cx="203400" cy="1602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 flipV="1">
                <a:off x="7412040" y="3081960"/>
                <a:ext cx="203400" cy="590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 flipV="1">
                <a:off x="7408440" y="3078360"/>
                <a:ext cx="200160" cy="1998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7412040" y="3282120"/>
                <a:ext cx="0" cy="7491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 flipV="1">
                <a:off x="7412040" y="3474720"/>
                <a:ext cx="199800" cy="1998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7615800" y="3085920"/>
                <a:ext cx="0" cy="7491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9" name=""/>
            <p:cNvGrpSpPr/>
            <p:nvPr/>
          </p:nvGrpSpPr>
          <p:grpSpPr>
            <a:xfrm>
              <a:off x="5248440" y="3085560"/>
              <a:ext cx="207360" cy="955800"/>
              <a:chOff x="5248440" y="3085560"/>
              <a:chExt cx="207360" cy="955800"/>
            </a:xfrm>
          </p:grpSpPr>
          <p:sp>
            <p:nvSpPr>
              <p:cNvPr id="2640" name=""/>
              <p:cNvSpPr/>
              <p:nvPr/>
            </p:nvSpPr>
            <p:spPr>
              <a:xfrm flipV="1">
                <a:off x="5252040" y="3484440"/>
                <a:ext cx="203400" cy="556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 flipH="1" flipV="1">
                <a:off x="5248440" y="3288960"/>
                <a:ext cx="207360" cy="195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 flipH="1" flipV="1">
                <a:off x="5251680" y="3677400"/>
                <a:ext cx="203400" cy="1602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 flipV="1">
                <a:off x="5252040" y="3089160"/>
                <a:ext cx="203400" cy="590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 flipV="1">
                <a:off x="5248440" y="3085560"/>
                <a:ext cx="200160" cy="1998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5252040" y="3289320"/>
                <a:ext cx="0" cy="7491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 flipV="1">
                <a:off x="5252040" y="3481920"/>
                <a:ext cx="199800" cy="1998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5455800" y="3093120"/>
                <a:ext cx="0" cy="7491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8" name=""/>
            <p:cNvGrpSpPr/>
            <p:nvPr/>
          </p:nvGrpSpPr>
          <p:grpSpPr>
            <a:xfrm>
              <a:off x="8426880" y="2060280"/>
              <a:ext cx="207360" cy="955800"/>
              <a:chOff x="8426880" y="2060280"/>
              <a:chExt cx="207360" cy="955800"/>
            </a:xfrm>
          </p:grpSpPr>
          <p:sp>
            <p:nvSpPr>
              <p:cNvPr id="2649" name=""/>
              <p:cNvSpPr/>
              <p:nvPr/>
            </p:nvSpPr>
            <p:spPr>
              <a:xfrm flipV="1">
                <a:off x="8430480" y="2459160"/>
                <a:ext cx="203400" cy="556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 flipH="1" flipV="1">
                <a:off x="8426880" y="2263680"/>
                <a:ext cx="207360" cy="195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 flipH="1" flipV="1">
                <a:off x="8430120" y="2652120"/>
                <a:ext cx="203400" cy="1602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 flipV="1">
                <a:off x="8430480" y="2063880"/>
                <a:ext cx="203400" cy="590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 flipV="1">
                <a:off x="8426880" y="2060280"/>
                <a:ext cx="200160" cy="1998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8430480" y="2264040"/>
                <a:ext cx="0" cy="7491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 flipV="1">
                <a:off x="8430480" y="2456640"/>
                <a:ext cx="199800" cy="1998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8634240" y="2067840"/>
                <a:ext cx="0" cy="7491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7" name=""/>
            <p:cNvGrpSpPr/>
            <p:nvPr/>
          </p:nvGrpSpPr>
          <p:grpSpPr>
            <a:xfrm>
              <a:off x="6266520" y="2071080"/>
              <a:ext cx="207360" cy="955800"/>
              <a:chOff x="6266520" y="2071080"/>
              <a:chExt cx="207360" cy="955800"/>
            </a:xfrm>
          </p:grpSpPr>
          <p:sp>
            <p:nvSpPr>
              <p:cNvPr id="2658" name=""/>
              <p:cNvSpPr/>
              <p:nvPr/>
            </p:nvSpPr>
            <p:spPr>
              <a:xfrm flipV="1">
                <a:off x="6270120" y="2469960"/>
                <a:ext cx="203400" cy="556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 flipH="1" flipV="1">
                <a:off x="6266520" y="2274480"/>
                <a:ext cx="207360" cy="195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 flipH="1" flipV="1">
                <a:off x="6269760" y="2662920"/>
                <a:ext cx="203400" cy="1602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 flipV="1">
                <a:off x="6270120" y="2074680"/>
                <a:ext cx="203400" cy="590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 flipV="1">
                <a:off x="6266520" y="2071080"/>
                <a:ext cx="200160" cy="1998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6270120" y="2274840"/>
                <a:ext cx="0" cy="7491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 flipV="1">
                <a:off x="6270120" y="2467440"/>
                <a:ext cx="199800" cy="1998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6473880" y="2078640"/>
                <a:ext cx="0" cy="7491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66" name=""/>
          <p:cNvGrpSpPr/>
          <p:nvPr/>
        </p:nvGrpSpPr>
        <p:grpSpPr>
          <a:xfrm>
            <a:off x="5454720" y="2103120"/>
            <a:ext cx="2974680" cy="1727640"/>
            <a:chOff x="5454720" y="2103120"/>
            <a:chExt cx="2974680" cy="1727640"/>
          </a:xfrm>
        </p:grpSpPr>
        <p:grpSp>
          <p:nvGrpSpPr>
            <p:cNvPr id="2667" name=""/>
            <p:cNvGrpSpPr/>
            <p:nvPr/>
          </p:nvGrpSpPr>
          <p:grpSpPr>
            <a:xfrm>
              <a:off x="5454720" y="2917080"/>
              <a:ext cx="2160360" cy="913680"/>
              <a:chOff x="5454720" y="2917080"/>
              <a:chExt cx="2160360" cy="913680"/>
            </a:xfrm>
          </p:grpSpPr>
          <p:sp>
            <p:nvSpPr>
              <p:cNvPr id="2668" name=""/>
              <p:cNvSpPr/>
              <p:nvPr/>
            </p:nvSpPr>
            <p:spPr>
              <a:xfrm flipV="1">
                <a:off x="5454720" y="3083400"/>
                <a:ext cx="0" cy="747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 flipV="1">
                <a:off x="5454720" y="2917080"/>
                <a:ext cx="1080360" cy="165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 flipV="1">
                <a:off x="7615080" y="3083400"/>
                <a:ext cx="0" cy="747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 flipH="1" flipV="1">
                <a:off x="6535080" y="2917080"/>
                <a:ext cx="1080000" cy="165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2" name=""/>
            <p:cNvGrpSpPr/>
            <p:nvPr/>
          </p:nvGrpSpPr>
          <p:grpSpPr>
            <a:xfrm>
              <a:off x="5658120" y="2713680"/>
              <a:ext cx="2160720" cy="913680"/>
              <a:chOff x="5658120" y="2713680"/>
              <a:chExt cx="2160720" cy="913680"/>
            </a:xfrm>
          </p:grpSpPr>
          <p:sp>
            <p:nvSpPr>
              <p:cNvPr id="2673" name=""/>
              <p:cNvSpPr/>
              <p:nvPr/>
            </p:nvSpPr>
            <p:spPr>
              <a:xfrm flipV="1">
                <a:off x="5658120" y="2880000"/>
                <a:ext cx="0" cy="747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 flipV="1">
                <a:off x="5658120" y="2713680"/>
                <a:ext cx="1080360" cy="165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 flipV="1">
                <a:off x="7818840" y="2880000"/>
                <a:ext cx="0" cy="747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 flipH="1" flipV="1">
                <a:off x="6738120" y="2713680"/>
                <a:ext cx="1080360" cy="165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7" name=""/>
            <p:cNvGrpSpPr/>
            <p:nvPr/>
          </p:nvGrpSpPr>
          <p:grpSpPr>
            <a:xfrm>
              <a:off x="5861880" y="2509920"/>
              <a:ext cx="2160720" cy="913680"/>
              <a:chOff x="5861880" y="2509920"/>
              <a:chExt cx="2160720" cy="913680"/>
            </a:xfrm>
          </p:grpSpPr>
          <p:sp>
            <p:nvSpPr>
              <p:cNvPr id="2678" name=""/>
              <p:cNvSpPr/>
              <p:nvPr/>
            </p:nvSpPr>
            <p:spPr>
              <a:xfrm flipV="1">
                <a:off x="5861880" y="2676240"/>
                <a:ext cx="0" cy="747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 flipV="1">
                <a:off x="5861880" y="2509920"/>
                <a:ext cx="1080360" cy="165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 flipV="1">
                <a:off x="8022600" y="2676240"/>
                <a:ext cx="0" cy="747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 flipH="1" flipV="1">
                <a:off x="6941880" y="2509920"/>
                <a:ext cx="1080360" cy="165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2" name=""/>
            <p:cNvGrpSpPr/>
            <p:nvPr/>
          </p:nvGrpSpPr>
          <p:grpSpPr>
            <a:xfrm>
              <a:off x="6065640" y="2306520"/>
              <a:ext cx="2160360" cy="913680"/>
              <a:chOff x="6065640" y="2306520"/>
              <a:chExt cx="2160360" cy="913680"/>
            </a:xfrm>
          </p:grpSpPr>
          <p:sp>
            <p:nvSpPr>
              <p:cNvPr id="2683" name=""/>
              <p:cNvSpPr/>
              <p:nvPr/>
            </p:nvSpPr>
            <p:spPr>
              <a:xfrm flipV="1">
                <a:off x="6065640" y="2472840"/>
                <a:ext cx="0" cy="747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 flipV="1">
                <a:off x="6065640" y="2306520"/>
                <a:ext cx="1080000" cy="165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 flipV="1">
                <a:off x="8226000" y="2472840"/>
                <a:ext cx="0" cy="747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 flipH="1" flipV="1">
                <a:off x="7145280" y="2306520"/>
                <a:ext cx="1080360" cy="165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7" name=""/>
            <p:cNvGrpSpPr/>
            <p:nvPr/>
          </p:nvGrpSpPr>
          <p:grpSpPr>
            <a:xfrm>
              <a:off x="6269040" y="2103120"/>
              <a:ext cx="2160360" cy="913680"/>
              <a:chOff x="6269040" y="2103120"/>
              <a:chExt cx="2160360" cy="913680"/>
            </a:xfrm>
          </p:grpSpPr>
          <p:sp>
            <p:nvSpPr>
              <p:cNvPr id="2688" name=""/>
              <p:cNvSpPr/>
              <p:nvPr/>
            </p:nvSpPr>
            <p:spPr>
              <a:xfrm flipV="1">
                <a:off x="6269040" y="2269440"/>
                <a:ext cx="0" cy="747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 flipV="1">
                <a:off x="6269040" y="2103120"/>
                <a:ext cx="1080000" cy="165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 flipV="1">
                <a:off x="8429400" y="2269440"/>
                <a:ext cx="0" cy="747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 flipH="1" flipV="1">
                <a:off x="7348680" y="2103120"/>
                <a:ext cx="1080360" cy="165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92" name=""/>
          <p:cNvGrpSpPr/>
          <p:nvPr/>
        </p:nvGrpSpPr>
        <p:grpSpPr>
          <a:xfrm>
            <a:off x="5251320" y="2273400"/>
            <a:ext cx="3382560" cy="1765080"/>
            <a:chOff x="5251320" y="2273400"/>
            <a:chExt cx="3382560" cy="1765080"/>
          </a:xfrm>
        </p:grpSpPr>
        <p:grpSp>
          <p:nvGrpSpPr>
            <p:cNvPr id="2693" name=""/>
            <p:cNvGrpSpPr/>
            <p:nvPr/>
          </p:nvGrpSpPr>
          <p:grpSpPr>
            <a:xfrm>
              <a:off x="5251320" y="2284560"/>
              <a:ext cx="1221840" cy="1753560"/>
              <a:chOff x="5251320" y="2284560"/>
              <a:chExt cx="1221840" cy="1753560"/>
            </a:xfrm>
          </p:grpSpPr>
          <p:sp>
            <p:nvSpPr>
              <p:cNvPr id="2694" name=""/>
              <p:cNvSpPr/>
              <p:nvPr/>
            </p:nvSpPr>
            <p:spPr>
              <a:xfrm flipV="1">
                <a:off x="5251320" y="2284560"/>
                <a:ext cx="1221840" cy="1221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 flipV="1">
                <a:off x="5251320" y="2471760"/>
                <a:ext cx="1221840" cy="1221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 flipV="1">
                <a:off x="5251320" y="2637720"/>
                <a:ext cx="1221840" cy="1221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 flipV="1">
                <a:off x="5251320" y="2816640"/>
                <a:ext cx="1221840" cy="1221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8" name=""/>
            <p:cNvGrpSpPr/>
            <p:nvPr/>
          </p:nvGrpSpPr>
          <p:grpSpPr>
            <a:xfrm>
              <a:off x="7412040" y="2273400"/>
              <a:ext cx="1221840" cy="1765080"/>
              <a:chOff x="7412040" y="2273400"/>
              <a:chExt cx="1221840" cy="1765080"/>
            </a:xfrm>
          </p:grpSpPr>
          <p:sp>
            <p:nvSpPr>
              <p:cNvPr id="2699" name=""/>
              <p:cNvSpPr/>
              <p:nvPr/>
            </p:nvSpPr>
            <p:spPr>
              <a:xfrm flipV="1">
                <a:off x="7412040" y="2817360"/>
                <a:ext cx="1221840" cy="1221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 flipV="1">
                <a:off x="7412040" y="2273400"/>
                <a:ext cx="1221840" cy="1221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 flipV="1">
                <a:off x="7412040" y="2460240"/>
                <a:ext cx="1221840" cy="1221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 flipV="1">
                <a:off x="7412040" y="2639520"/>
                <a:ext cx="1221840" cy="1221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03" name=""/>
          <p:cNvSpPr/>
          <p:nvPr/>
        </p:nvSpPr>
        <p:spPr>
          <a:xfrm flipV="1">
            <a:off x="6334200" y="1906200"/>
            <a:ext cx="1225440" cy="122076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4" name=""/>
          <p:cNvGrpSpPr/>
          <p:nvPr/>
        </p:nvGrpSpPr>
        <p:grpSpPr>
          <a:xfrm>
            <a:off x="5251320" y="2064960"/>
            <a:ext cx="3380040" cy="1220760"/>
            <a:chOff x="5251320" y="2064960"/>
            <a:chExt cx="3380040" cy="1220760"/>
          </a:xfrm>
        </p:grpSpPr>
        <p:sp>
          <p:nvSpPr>
            <p:cNvPr id="2705" name=""/>
            <p:cNvSpPr/>
            <p:nvPr/>
          </p:nvSpPr>
          <p:spPr>
            <a:xfrm flipV="1">
              <a:off x="7405920" y="2064960"/>
              <a:ext cx="1225440" cy="12207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 flipV="1">
              <a:off x="5251320" y="2064960"/>
              <a:ext cx="1221840" cy="12207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7" name=""/>
          <p:cNvGrpSpPr/>
          <p:nvPr/>
        </p:nvGrpSpPr>
        <p:grpSpPr>
          <a:xfrm>
            <a:off x="5413320" y="1925280"/>
            <a:ext cx="3046320" cy="1338120"/>
            <a:chOff x="5413320" y="1925280"/>
            <a:chExt cx="3046320" cy="1338120"/>
          </a:xfrm>
        </p:grpSpPr>
        <p:sp>
          <p:nvSpPr>
            <p:cNvPr id="2708" name=""/>
            <p:cNvSpPr/>
            <p:nvPr/>
          </p:nvSpPr>
          <p:spPr>
            <a:xfrm flipV="1">
              <a:off x="6535800" y="1930320"/>
              <a:ext cx="1224360" cy="12214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 flipV="1">
              <a:off x="6719400" y="1946880"/>
              <a:ext cx="1224360" cy="12214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 flipV="1">
              <a:off x="7065720" y="2006280"/>
              <a:ext cx="1224360" cy="12214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 flipV="1">
              <a:off x="7235280" y="2041920"/>
              <a:ext cx="1224360" cy="12214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 flipV="1">
              <a:off x="5413320" y="2041560"/>
              <a:ext cx="1207800" cy="12214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 flipV="1">
              <a:off x="5614200" y="2013480"/>
              <a:ext cx="1207800" cy="12214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 flipV="1">
              <a:off x="5958000" y="1958400"/>
              <a:ext cx="1207800" cy="12214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 flipV="1">
              <a:off x="6143400" y="1925280"/>
              <a:ext cx="1212120" cy="12214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 flipV="1">
              <a:off x="5781240" y="1986840"/>
              <a:ext cx="1207800" cy="12214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 flipV="1">
              <a:off x="6872040" y="1980720"/>
              <a:ext cx="1224360" cy="12304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8" name=""/>
          <p:cNvGrpSpPr/>
          <p:nvPr/>
        </p:nvGrpSpPr>
        <p:grpSpPr>
          <a:xfrm>
            <a:off x="5251320" y="1898280"/>
            <a:ext cx="3382920" cy="2135160"/>
            <a:chOff x="5251320" y="1898280"/>
            <a:chExt cx="3382920" cy="2135160"/>
          </a:xfrm>
        </p:grpSpPr>
        <p:sp>
          <p:nvSpPr>
            <p:cNvPr id="2719" name=""/>
            <p:cNvSpPr/>
            <p:nvPr/>
          </p:nvSpPr>
          <p:spPr>
            <a:xfrm flipV="1">
              <a:off x="5251320" y="3119760"/>
              <a:ext cx="1080360" cy="1659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 flipH="1" flipV="1">
              <a:off x="6331320" y="3119760"/>
              <a:ext cx="1080360" cy="1659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 flipV="1">
              <a:off x="6473160" y="1898280"/>
              <a:ext cx="1080360" cy="1659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2" name=""/>
            <p:cNvGrpSpPr/>
            <p:nvPr/>
          </p:nvGrpSpPr>
          <p:grpSpPr>
            <a:xfrm>
              <a:off x="5251320" y="2064240"/>
              <a:ext cx="3382920" cy="1969200"/>
              <a:chOff x="5251320" y="2064240"/>
              <a:chExt cx="3382920" cy="1969200"/>
            </a:xfrm>
          </p:grpSpPr>
          <p:sp>
            <p:nvSpPr>
              <p:cNvPr id="2723" name=""/>
              <p:cNvSpPr/>
              <p:nvPr/>
            </p:nvSpPr>
            <p:spPr>
              <a:xfrm flipV="1">
                <a:off x="5251320" y="3285720"/>
                <a:ext cx="0" cy="74772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 flipV="1">
                <a:off x="7412040" y="3285720"/>
                <a:ext cx="0" cy="74772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 flipV="1">
                <a:off x="6473160" y="2064240"/>
                <a:ext cx="0" cy="74772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 flipV="1">
                <a:off x="8634240" y="2064240"/>
                <a:ext cx="0" cy="74772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7" name=""/>
            <p:cNvSpPr/>
            <p:nvPr/>
          </p:nvSpPr>
          <p:spPr>
            <a:xfrm flipH="1" flipV="1">
              <a:off x="7553520" y="1898280"/>
              <a:ext cx="1080360" cy="1659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8" name=""/>
          <p:cNvGrpSpPr/>
          <p:nvPr/>
        </p:nvGrpSpPr>
        <p:grpSpPr>
          <a:xfrm>
            <a:off x="1681200" y="5045040"/>
            <a:ext cx="3482640" cy="1332000"/>
            <a:chOff x="1681200" y="5045040"/>
            <a:chExt cx="3482640" cy="1332000"/>
          </a:xfrm>
        </p:grpSpPr>
        <p:grpSp>
          <p:nvGrpSpPr>
            <p:cNvPr id="2729" name=""/>
            <p:cNvGrpSpPr/>
            <p:nvPr/>
          </p:nvGrpSpPr>
          <p:grpSpPr>
            <a:xfrm>
              <a:off x="1890720" y="5276160"/>
              <a:ext cx="914040" cy="902160"/>
              <a:chOff x="1890720" y="5276160"/>
              <a:chExt cx="914040" cy="902160"/>
            </a:xfrm>
          </p:grpSpPr>
          <p:sp>
            <p:nvSpPr>
              <p:cNvPr id="2730" name=""/>
              <p:cNvSpPr/>
              <p:nvPr/>
            </p:nvSpPr>
            <p:spPr>
              <a:xfrm>
                <a:off x="2704680" y="5276160"/>
                <a:ext cx="100080" cy="100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2496960" y="5465520"/>
                <a:ext cx="100080" cy="100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2297880" y="5661720"/>
                <a:ext cx="100080" cy="100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2092680" y="5865840"/>
                <a:ext cx="100800" cy="100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1890720" y="6078240"/>
                <a:ext cx="100080" cy="100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5" name=""/>
            <p:cNvGrpSpPr/>
            <p:nvPr/>
          </p:nvGrpSpPr>
          <p:grpSpPr>
            <a:xfrm>
              <a:off x="4059360" y="5259960"/>
              <a:ext cx="899640" cy="911880"/>
              <a:chOff x="4059360" y="5259960"/>
              <a:chExt cx="899640" cy="911880"/>
            </a:xfrm>
          </p:grpSpPr>
          <p:sp>
            <p:nvSpPr>
              <p:cNvPr id="2736" name=""/>
              <p:cNvSpPr/>
              <p:nvPr/>
            </p:nvSpPr>
            <p:spPr>
              <a:xfrm>
                <a:off x="4858920" y="5259960"/>
                <a:ext cx="100080" cy="100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4658040" y="5459040"/>
                <a:ext cx="100440" cy="100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4458960" y="5655240"/>
                <a:ext cx="100080" cy="100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4249080" y="5859000"/>
                <a:ext cx="102960" cy="10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4059360" y="6071760"/>
                <a:ext cx="100080" cy="100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1" name=""/>
            <p:cNvGrpSpPr/>
            <p:nvPr/>
          </p:nvGrpSpPr>
          <p:grpSpPr>
            <a:xfrm>
              <a:off x="2897640" y="5045040"/>
              <a:ext cx="2266200" cy="102960"/>
              <a:chOff x="2897640" y="5045040"/>
              <a:chExt cx="2266200" cy="102960"/>
            </a:xfrm>
          </p:grpSpPr>
          <p:sp>
            <p:nvSpPr>
              <p:cNvPr id="2742" name=""/>
              <p:cNvSpPr/>
              <p:nvPr/>
            </p:nvSpPr>
            <p:spPr>
              <a:xfrm>
                <a:off x="5063760" y="5047560"/>
                <a:ext cx="100080" cy="10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2897640" y="5045040"/>
                <a:ext cx="100440" cy="100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4356360" y="5045040"/>
                <a:ext cx="100440" cy="100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3264120" y="5045040"/>
                <a:ext cx="100080" cy="10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3603600" y="5045040"/>
                <a:ext cx="100080" cy="10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3964680" y="5045040"/>
                <a:ext cx="100080" cy="10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4718880" y="5045040"/>
                <a:ext cx="100080" cy="10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9" name=""/>
            <p:cNvGrpSpPr/>
            <p:nvPr/>
          </p:nvGrpSpPr>
          <p:grpSpPr>
            <a:xfrm>
              <a:off x="1681200" y="6276600"/>
              <a:ext cx="2261880" cy="100440"/>
              <a:chOff x="1681200" y="6276600"/>
              <a:chExt cx="2261880" cy="100440"/>
            </a:xfrm>
          </p:grpSpPr>
          <p:sp>
            <p:nvSpPr>
              <p:cNvPr id="2750" name=""/>
              <p:cNvSpPr/>
              <p:nvPr/>
            </p:nvSpPr>
            <p:spPr>
              <a:xfrm>
                <a:off x="3842640" y="6276600"/>
                <a:ext cx="100440" cy="10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1681200" y="6276600"/>
                <a:ext cx="100080" cy="10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2044800" y="6276600"/>
                <a:ext cx="100080" cy="10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2391480" y="6276600"/>
                <a:ext cx="100080" cy="10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3143160" y="6276600"/>
                <a:ext cx="100080" cy="10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3489840" y="6276600"/>
                <a:ext cx="100080" cy="10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56" name=""/>
          <p:cNvGrpSpPr/>
          <p:nvPr/>
        </p:nvGrpSpPr>
        <p:grpSpPr>
          <a:xfrm>
            <a:off x="1741320" y="4292640"/>
            <a:ext cx="3392640" cy="1965240"/>
            <a:chOff x="1741320" y="4292640"/>
            <a:chExt cx="3392640" cy="1965240"/>
          </a:xfrm>
        </p:grpSpPr>
        <p:grpSp>
          <p:nvGrpSpPr>
            <p:cNvPr id="2757" name=""/>
            <p:cNvGrpSpPr/>
            <p:nvPr/>
          </p:nvGrpSpPr>
          <p:grpSpPr>
            <a:xfrm>
              <a:off x="2952000" y="4292640"/>
              <a:ext cx="2181960" cy="735840"/>
              <a:chOff x="2952000" y="4292640"/>
              <a:chExt cx="2181960" cy="735840"/>
            </a:xfrm>
          </p:grpSpPr>
          <p:sp>
            <p:nvSpPr>
              <p:cNvPr id="2758" name=""/>
              <p:cNvSpPr/>
              <p:nvPr/>
            </p:nvSpPr>
            <p:spPr>
              <a:xfrm>
                <a:off x="2973960" y="4292640"/>
                <a:ext cx="21600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2968200" y="4507920"/>
                <a:ext cx="21600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2960280" y="4861080"/>
                <a:ext cx="217008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2968920" y="4684680"/>
                <a:ext cx="216144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2952000" y="5028480"/>
                <a:ext cx="21600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3" name=""/>
            <p:cNvGrpSpPr/>
            <p:nvPr/>
          </p:nvGrpSpPr>
          <p:grpSpPr>
            <a:xfrm>
              <a:off x="1741320" y="5510520"/>
              <a:ext cx="2171160" cy="747360"/>
              <a:chOff x="1741320" y="5510520"/>
              <a:chExt cx="2171160" cy="747360"/>
            </a:xfrm>
          </p:grpSpPr>
          <p:sp>
            <p:nvSpPr>
              <p:cNvPr id="2764" name=""/>
              <p:cNvSpPr/>
              <p:nvPr/>
            </p:nvSpPr>
            <p:spPr>
              <a:xfrm>
                <a:off x="3203640" y="6257880"/>
                <a:ext cx="70308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1752840" y="5510520"/>
                <a:ext cx="215964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1747080" y="5725440"/>
                <a:ext cx="215964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3200040" y="6078960"/>
                <a:ext cx="70884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1741320" y="5902200"/>
                <a:ext cx="7110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3200040" y="5902200"/>
                <a:ext cx="70884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1747080" y="6078960"/>
                <a:ext cx="7110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1747080" y="6253560"/>
                <a:ext cx="70308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72" name=""/>
          <p:cNvGrpSpPr/>
          <p:nvPr/>
        </p:nvGrpSpPr>
        <p:grpSpPr>
          <a:xfrm>
            <a:off x="1739880" y="4114800"/>
            <a:ext cx="3384720" cy="2139840"/>
            <a:chOff x="1739880" y="4114800"/>
            <a:chExt cx="3384720" cy="2139840"/>
          </a:xfrm>
        </p:grpSpPr>
        <p:sp>
          <p:nvSpPr>
            <p:cNvPr id="2773" name=""/>
            <p:cNvSpPr/>
            <p:nvPr/>
          </p:nvSpPr>
          <p:spPr>
            <a:xfrm>
              <a:off x="2827440" y="5350680"/>
              <a:ext cx="0" cy="3729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4" name=""/>
            <p:cNvGrpSpPr/>
            <p:nvPr/>
          </p:nvGrpSpPr>
          <p:grpSpPr>
            <a:xfrm>
              <a:off x="1739880" y="4114800"/>
              <a:ext cx="3384720" cy="2139840"/>
              <a:chOff x="1739880" y="4114800"/>
              <a:chExt cx="3384720" cy="2139840"/>
            </a:xfrm>
          </p:grpSpPr>
          <p:grpSp>
            <p:nvGrpSpPr>
              <p:cNvPr id="2775" name=""/>
              <p:cNvGrpSpPr/>
              <p:nvPr/>
            </p:nvGrpSpPr>
            <p:grpSpPr>
              <a:xfrm>
                <a:off x="2964960" y="4114800"/>
                <a:ext cx="2159640" cy="911160"/>
                <a:chOff x="2964960" y="4114800"/>
                <a:chExt cx="2159640" cy="911160"/>
              </a:xfrm>
            </p:grpSpPr>
            <p:sp>
              <p:nvSpPr>
                <p:cNvPr id="2776" name=""/>
                <p:cNvSpPr/>
                <p:nvPr/>
              </p:nvSpPr>
              <p:spPr>
                <a:xfrm>
                  <a:off x="4779000" y="4227480"/>
                  <a:ext cx="0" cy="7984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7" name=""/>
                <p:cNvSpPr/>
                <p:nvPr/>
              </p:nvSpPr>
              <p:spPr>
                <a:xfrm>
                  <a:off x="5124600" y="4287600"/>
                  <a:ext cx="0" cy="738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8" name=""/>
                <p:cNvSpPr/>
                <p:nvPr/>
              </p:nvSpPr>
              <p:spPr>
                <a:xfrm>
                  <a:off x="4418640" y="4180320"/>
                  <a:ext cx="0" cy="845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9" name=""/>
                <p:cNvSpPr/>
                <p:nvPr/>
              </p:nvSpPr>
              <p:spPr>
                <a:xfrm>
                  <a:off x="4045320" y="4114800"/>
                  <a:ext cx="0" cy="911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0" name=""/>
                <p:cNvSpPr/>
                <p:nvPr/>
              </p:nvSpPr>
              <p:spPr>
                <a:xfrm>
                  <a:off x="3670920" y="4172040"/>
                  <a:ext cx="0" cy="853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1" name=""/>
                <p:cNvSpPr/>
                <p:nvPr/>
              </p:nvSpPr>
              <p:spPr>
                <a:xfrm>
                  <a:off x="2964960" y="4284000"/>
                  <a:ext cx="0" cy="741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2" name=""/>
                <p:cNvSpPr/>
                <p:nvPr/>
              </p:nvSpPr>
              <p:spPr>
                <a:xfrm>
                  <a:off x="3326040" y="4233240"/>
                  <a:ext cx="0" cy="792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3" name=""/>
              <p:cNvGrpSpPr/>
              <p:nvPr/>
            </p:nvGrpSpPr>
            <p:grpSpPr>
              <a:xfrm>
                <a:off x="1739880" y="5397120"/>
                <a:ext cx="2166840" cy="857520"/>
                <a:chOff x="1739880" y="5397120"/>
                <a:chExt cx="2166840" cy="857520"/>
              </a:xfrm>
            </p:grpSpPr>
            <p:sp>
              <p:nvSpPr>
                <p:cNvPr id="2784" name=""/>
                <p:cNvSpPr/>
                <p:nvPr/>
              </p:nvSpPr>
              <p:spPr>
                <a:xfrm>
                  <a:off x="3561120" y="5452560"/>
                  <a:ext cx="0" cy="802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5" name=""/>
                <p:cNvSpPr/>
                <p:nvPr/>
              </p:nvSpPr>
              <p:spPr>
                <a:xfrm>
                  <a:off x="3906720" y="5509080"/>
                  <a:ext cx="0" cy="738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6" name=""/>
                <p:cNvSpPr/>
                <p:nvPr/>
              </p:nvSpPr>
              <p:spPr>
                <a:xfrm>
                  <a:off x="3200760" y="5401440"/>
                  <a:ext cx="0" cy="849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7" name=""/>
                <p:cNvSpPr/>
                <p:nvPr/>
              </p:nvSpPr>
              <p:spPr>
                <a:xfrm>
                  <a:off x="2453040" y="5397120"/>
                  <a:ext cx="0" cy="853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8" name=""/>
                <p:cNvSpPr/>
                <p:nvPr/>
              </p:nvSpPr>
              <p:spPr>
                <a:xfrm flipH="1">
                  <a:off x="1739880" y="5505480"/>
                  <a:ext cx="7200" cy="749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9" name=""/>
                <p:cNvSpPr/>
                <p:nvPr/>
              </p:nvSpPr>
              <p:spPr>
                <a:xfrm>
                  <a:off x="2108160" y="5458320"/>
                  <a:ext cx="0" cy="7927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790" name=""/>
          <p:cNvGrpSpPr/>
          <p:nvPr/>
        </p:nvGrpSpPr>
        <p:grpSpPr>
          <a:xfrm>
            <a:off x="1743120" y="4115880"/>
            <a:ext cx="3387600" cy="1389600"/>
            <a:chOff x="1743120" y="4115880"/>
            <a:chExt cx="3387600" cy="1389600"/>
          </a:xfrm>
        </p:grpSpPr>
        <p:grpSp>
          <p:nvGrpSpPr>
            <p:cNvPr id="2791" name=""/>
            <p:cNvGrpSpPr/>
            <p:nvPr/>
          </p:nvGrpSpPr>
          <p:grpSpPr>
            <a:xfrm>
              <a:off x="1743120" y="5133600"/>
              <a:ext cx="2363400" cy="371880"/>
              <a:chOff x="1743120" y="5133600"/>
              <a:chExt cx="2363400" cy="371880"/>
            </a:xfrm>
          </p:grpSpPr>
          <p:sp>
            <p:nvSpPr>
              <p:cNvPr id="2792" name=""/>
              <p:cNvSpPr/>
              <p:nvPr/>
            </p:nvSpPr>
            <p:spPr>
              <a:xfrm flipH="1" flipV="1">
                <a:off x="3026520" y="5135400"/>
                <a:ext cx="183600" cy="2595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 flipH="1">
                <a:off x="2441520" y="5135760"/>
                <a:ext cx="584640" cy="2595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 flipH="1" flipV="1">
                <a:off x="3736440" y="5235480"/>
                <a:ext cx="165960" cy="2700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 flipV="1">
                <a:off x="3556440" y="5300640"/>
                <a:ext cx="550080" cy="153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 flipH="1" flipV="1">
                <a:off x="3389400" y="5196240"/>
                <a:ext cx="167040" cy="257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 flipH="1">
                <a:off x="3196440" y="5243400"/>
                <a:ext cx="569520" cy="151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 flipH="1">
                <a:off x="2851920" y="5196600"/>
                <a:ext cx="536760" cy="1389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 flipH="1" flipV="1">
                <a:off x="2646360" y="5185080"/>
                <a:ext cx="205920" cy="150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 flipH="1" flipV="1">
                <a:off x="2306520" y="5243400"/>
                <a:ext cx="141480" cy="155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 flipH="1">
                <a:off x="2101680" y="5196600"/>
                <a:ext cx="543960" cy="257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 flipH="1" flipV="1">
                <a:off x="1946520" y="5300640"/>
                <a:ext cx="157680" cy="146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 flipH="1">
                <a:off x="1743120" y="5243400"/>
                <a:ext cx="563760" cy="261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 flipV="1">
                <a:off x="3899520" y="5300640"/>
                <a:ext cx="199800" cy="199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 flipV="1">
                <a:off x="2837880" y="5133600"/>
                <a:ext cx="199800" cy="199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 flipV="1">
                <a:off x="3201480" y="5191560"/>
                <a:ext cx="199800" cy="199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 flipV="1">
                <a:off x="1746720" y="5297040"/>
                <a:ext cx="199800" cy="199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 flipV="1">
                <a:off x="2110320" y="5242320"/>
                <a:ext cx="199800" cy="199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 flipV="1">
                <a:off x="2452320" y="5191560"/>
                <a:ext cx="199800" cy="199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 flipV="1">
                <a:off x="1943280" y="5137560"/>
                <a:ext cx="1087200" cy="163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 flipV="1">
                <a:off x="1746720" y="5340960"/>
                <a:ext cx="1087200" cy="163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2834280" y="5340960"/>
                <a:ext cx="1058040" cy="163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3034080" y="5137560"/>
                <a:ext cx="1058040" cy="163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 flipV="1">
                <a:off x="3546720" y="5253480"/>
                <a:ext cx="199800" cy="199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5" name=""/>
            <p:cNvGrpSpPr/>
            <p:nvPr/>
          </p:nvGrpSpPr>
          <p:grpSpPr>
            <a:xfrm>
              <a:off x="2767320" y="4115880"/>
              <a:ext cx="2363400" cy="371880"/>
              <a:chOff x="2767320" y="4115880"/>
              <a:chExt cx="2363400" cy="371880"/>
            </a:xfrm>
          </p:grpSpPr>
          <p:sp>
            <p:nvSpPr>
              <p:cNvPr id="2816" name=""/>
              <p:cNvSpPr/>
              <p:nvPr/>
            </p:nvSpPr>
            <p:spPr>
              <a:xfrm flipH="1" flipV="1">
                <a:off x="4050720" y="4117680"/>
                <a:ext cx="183600" cy="2595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 flipH="1">
                <a:off x="3465720" y="4118040"/>
                <a:ext cx="584640" cy="2595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 flipH="1" flipV="1">
                <a:off x="4760640" y="4217760"/>
                <a:ext cx="165960" cy="2700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 flipV="1">
                <a:off x="4580640" y="4282920"/>
                <a:ext cx="550080" cy="153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 flipH="1" flipV="1">
                <a:off x="4413600" y="4178520"/>
                <a:ext cx="167040" cy="257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 flipH="1">
                <a:off x="4220640" y="4225680"/>
                <a:ext cx="569520" cy="151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 flipH="1">
                <a:off x="3876120" y="4178880"/>
                <a:ext cx="536760" cy="1389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 flipH="1" flipV="1">
                <a:off x="3670560" y="4167360"/>
                <a:ext cx="205920" cy="150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 flipH="1" flipV="1">
                <a:off x="3330720" y="4225680"/>
                <a:ext cx="141480" cy="155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 flipH="1">
                <a:off x="3125880" y="4178880"/>
                <a:ext cx="543960" cy="257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 flipH="1" flipV="1">
                <a:off x="2970720" y="4282920"/>
                <a:ext cx="157680" cy="146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 flipH="1">
                <a:off x="2767320" y="4225680"/>
                <a:ext cx="563760" cy="261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 flipV="1">
                <a:off x="4923720" y="4282920"/>
                <a:ext cx="199800" cy="199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 flipV="1">
                <a:off x="3862080" y="4115880"/>
                <a:ext cx="199800" cy="199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 flipV="1">
                <a:off x="4225680" y="4173840"/>
                <a:ext cx="199800" cy="199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 flipV="1">
                <a:off x="2770920" y="4279320"/>
                <a:ext cx="199800" cy="199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 flipV="1">
                <a:off x="3134520" y="4224600"/>
                <a:ext cx="199800" cy="199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 flipV="1">
                <a:off x="3476520" y="4173840"/>
                <a:ext cx="199800" cy="199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 flipV="1">
                <a:off x="2967480" y="4119840"/>
                <a:ext cx="1087200" cy="163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 flipV="1">
                <a:off x="2770920" y="4323240"/>
                <a:ext cx="1087200" cy="163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3858480" y="4323240"/>
                <a:ext cx="1058040" cy="163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4058280" y="4119840"/>
                <a:ext cx="1058040" cy="163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 flipV="1">
                <a:off x="4570920" y="4235760"/>
                <a:ext cx="199800" cy="199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39" name=""/>
          <p:cNvGrpSpPr/>
          <p:nvPr/>
        </p:nvGrpSpPr>
        <p:grpSpPr>
          <a:xfrm>
            <a:off x="1739880" y="4279680"/>
            <a:ext cx="3386160" cy="1981080"/>
            <a:chOff x="1739880" y="4279680"/>
            <a:chExt cx="3386160" cy="1981080"/>
          </a:xfrm>
        </p:grpSpPr>
        <p:grpSp>
          <p:nvGrpSpPr>
            <p:cNvPr id="2840" name=""/>
            <p:cNvGrpSpPr/>
            <p:nvPr/>
          </p:nvGrpSpPr>
          <p:grpSpPr>
            <a:xfrm>
              <a:off x="3900240" y="5297760"/>
              <a:ext cx="207360" cy="955800"/>
              <a:chOff x="3900240" y="5297760"/>
              <a:chExt cx="207360" cy="955800"/>
            </a:xfrm>
          </p:grpSpPr>
          <p:sp>
            <p:nvSpPr>
              <p:cNvPr id="2841" name=""/>
              <p:cNvSpPr/>
              <p:nvPr/>
            </p:nvSpPr>
            <p:spPr>
              <a:xfrm flipV="1">
                <a:off x="3903840" y="5696640"/>
                <a:ext cx="203400" cy="556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 flipH="1" flipV="1">
                <a:off x="3900240" y="5501160"/>
                <a:ext cx="207360" cy="195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 flipH="1" flipV="1">
                <a:off x="3903480" y="5889600"/>
                <a:ext cx="203400" cy="1602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 flipV="1">
                <a:off x="3903840" y="5301360"/>
                <a:ext cx="203400" cy="590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 flipV="1">
                <a:off x="3900240" y="5297760"/>
                <a:ext cx="200160" cy="1998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3903840" y="5501520"/>
                <a:ext cx="0" cy="7491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 flipV="1">
                <a:off x="3903840" y="5694120"/>
                <a:ext cx="199800" cy="1998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4107600" y="5305320"/>
                <a:ext cx="0" cy="7491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9" name=""/>
            <p:cNvGrpSpPr/>
            <p:nvPr/>
          </p:nvGrpSpPr>
          <p:grpSpPr>
            <a:xfrm>
              <a:off x="1739880" y="5304960"/>
              <a:ext cx="207360" cy="955800"/>
              <a:chOff x="1739880" y="5304960"/>
              <a:chExt cx="207360" cy="955800"/>
            </a:xfrm>
          </p:grpSpPr>
          <p:sp>
            <p:nvSpPr>
              <p:cNvPr id="2850" name=""/>
              <p:cNvSpPr/>
              <p:nvPr/>
            </p:nvSpPr>
            <p:spPr>
              <a:xfrm flipV="1">
                <a:off x="1743480" y="5703840"/>
                <a:ext cx="203400" cy="556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 flipH="1" flipV="1">
                <a:off x="1739880" y="5508360"/>
                <a:ext cx="207360" cy="195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 flipH="1" flipV="1">
                <a:off x="1743120" y="5896800"/>
                <a:ext cx="203400" cy="1602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 flipV="1">
                <a:off x="1743480" y="5308560"/>
                <a:ext cx="203400" cy="590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 flipV="1">
                <a:off x="1739880" y="5304960"/>
                <a:ext cx="200160" cy="1998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1743480" y="5508720"/>
                <a:ext cx="0" cy="7491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 flipV="1">
                <a:off x="1743480" y="5701320"/>
                <a:ext cx="199800" cy="1998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1947240" y="5312520"/>
                <a:ext cx="0" cy="7491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8" name=""/>
            <p:cNvGrpSpPr/>
            <p:nvPr/>
          </p:nvGrpSpPr>
          <p:grpSpPr>
            <a:xfrm>
              <a:off x="4918680" y="4279680"/>
              <a:ext cx="207360" cy="955800"/>
              <a:chOff x="4918680" y="4279680"/>
              <a:chExt cx="207360" cy="955800"/>
            </a:xfrm>
          </p:grpSpPr>
          <p:sp>
            <p:nvSpPr>
              <p:cNvPr id="2859" name=""/>
              <p:cNvSpPr/>
              <p:nvPr/>
            </p:nvSpPr>
            <p:spPr>
              <a:xfrm flipV="1">
                <a:off x="4922280" y="4678560"/>
                <a:ext cx="203400" cy="556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 flipH="1" flipV="1">
                <a:off x="4918680" y="4483080"/>
                <a:ext cx="207360" cy="195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 flipH="1" flipV="1">
                <a:off x="4921920" y="4871520"/>
                <a:ext cx="203400" cy="1602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 flipV="1">
                <a:off x="4922280" y="4283280"/>
                <a:ext cx="203400" cy="590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 flipV="1">
                <a:off x="4918680" y="4279680"/>
                <a:ext cx="200160" cy="1998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4922280" y="4483440"/>
                <a:ext cx="0" cy="7491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 flipV="1">
                <a:off x="4922280" y="4676040"/>
                <a:ext cx="199800" cy="1998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5126040" y="4287240"/>
                <a:ext cx="0" cy="7491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67" name=""/>
            <p:cNvGrpSpPr/>
            <p:nvPr/>
          </p:nvGrpSpPr>
          <p:grpSpPr>
            <a:xfrm>
              <a:off x="2757960" y="4290480"/>
              <a:ext cx="207360" cy="955800"/>
              <a:chOff x="2757960" y="4290480"/>
              <a:chExt cx="207360" cy="955800"/>
            </a:xfrm>
          </p:grpSpPr>
          <p:sp>
            <p:nvSpPr>
              <p:cNvPr id="2868" name=""/>
              <p:cNvSpPr/>
              <p:nvPr/>
            </p:nvSpPr>
            <p:spPr>
              <a:xfrm flipV="1">
                <a:off x="2761560" y="4689360"/>
                <a:ext cx="203400" cy="556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 flipH="1" flipV="1">
                <a:off x="2757960" y="4493880"/>
                <a:ext cx="207360" cy="195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 flipH="1" flipV="1">
                <a:off x="2761200" y="4882320"/>
                <a:ext cx="203400" cy="1602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 flipV="1">
                <a:off x="2761560" y="4294080"/>
                <a:ext cx="203400" cy="590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 flipV="1">
                <a:off x="2757960" y="4290480"/>
                <a:ext cx="200160" cy="1998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2761560" y="4494240"/>
                <a:ext cx="0" cy="7491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 flipV="1">
                <a:off x="2761560" y="4686840"/>
                <a:ext cx="199800" cy="1998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2965320" y="4298040"/>
                <a:ext cx="0" cy="7491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76" name=""/>
          <p:cNvGrpSpPr/>
          <p:nvPr/>
        </p:nvGrpSpPr>
        <p:grpSpPr>
          <a:xfrm>
            <a:off x="1946160" y="4322520"/>
            <a:ext cx="2974680" cy="1726560"/>
            <a:chOff x="1946160" y="4322520"/>
            <a:chExt cx="2974680" cy="1726560"/>
          </a:xfrm>
        </p:grpSpPr>
        <p:grpSp>
          <p:nvGrpSpPr>
            <p:cNvPr id="2877" name=""/>
            <p:cNvGrpSpPr/>
            <p:nvPr/>
          </p:nvGrpSpPr>
          <p:grpSpPr>
            <a:xfrm>
              <a:off x="1946160" y="5136120"/>
              <a:ext cx="2160360" cy="912960"/>
              <a:chOff x="1946160" y="5136120"/>
              <a:chExt cx="2160360" cy="912960"/>
            </a:xfrm>
          </p:grpSpPr>
          <p:sp>
            <p:nvSpPr>
              <p:cNvPr id="2878" name=""/>
              <p:cNvSpPr/>
              <p:nvPr/>
            </p:nvSpPr>
            <p:spPr>
              <a:xfrm flipV="1">
                <a:off x="1946160" y="5302080"/>
                <a:ext cx="0" cy="747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 flipV="1">
                <a:off x="1946160" y="5136120"/>
                <a:ext cx="1080360" cy="165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 flipV="1">
                <a:off x="4106520" y="5302080"/>
                <a:ext cx="0" cy="747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 flipH="1" flipV="1">
                <a:off x="3026520" y="5136120"/>
                <a:ext cx="1080000" cy="165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2" name=""/>
            <p:cNvGrpSpPr/>
            <p:nvPr/>
          </p:nvGrpSpPr>
          <p:grpSpPr>
            <a:xfrm>
              <a:off x="2149560" y="4932720"/>
              <a:ext cx="2160720" cy="912960"/>
              <a:chOff x="2149560" y="4932720"/>
              <a:chExt cx="2160720" cy="912960"/>
            </a:xfrm>
          </p:grpSpPr>
          <p:sp>
            <p:nvSpPr>
              <p:cNvPr id="2883" name=""/>
              <p:cNvSpPr/>
              <p:nvPr/>
            </p:nvSpPr>
            <p:spPr>
              <a:xfrm flipV="1">
                <a:off x="2149560" y="5098680"/>
                <a:ext cx="0" cy="747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 flipV="1">
                <a:off x="2149560" y="4932720"/>
                <a:ext cx="1080360" cy="165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 flipV="1">
                <a:off x="4310280" y="5098680"/>
                <a:ext cx="0" cy="747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 flipH="1" flipV="1">
                <a:off x="3229560" y="4932720"/>
                <a:ext cx="1080360" cy="165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7" name=""/>
            <p:cNvGrpSpPr/>
            <p:nvPr/>
          </p:nvGrpSpPr>
          <p:grpSpPr>
            <a:xfrm>
              <a:off x="2353320" y="4729320"/>
              <a:ext cx="2160720" cy="912960"/>
              <a:chOff x="2353320" y="4729320"/>
              <a:chExt cx="2160720" cy="912960"/>
            </a:xfrm>
          </p:grpSpPr>
          <p:sp>
            <p:nvSpPr>
              <p:cNvPr id="2888" name=""/>
              <p:cNvSpPr/>
              <p:nvPr/>
            </p:nvSpPr>
            <p:spPr>
              <a:xfrm flipV="1">
                <a:off x="2353320" y="4895280"/>
                <a:ext cx="0" cy="747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 flipV="1">
                <a:off x="2353320" y="4729320"/>
                <a:ext cx="1080360" cy="165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 flipV="1">
                <a:off x="4514040" y="4895280"/>
                <a:ext cx="0" cy="747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 flipH="1" flipV="1">
                <a:off x="3433320" y="4729320"/>
                <a:ext cx="1080360" cy="165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92" name=""/>
            <p:cNvGrpSpPr/>
            <p:nvPr/>
          </p:nvGrpSpPr>
          <p:grpSpPr>
            <a:xfrm>
              <a:off x="2557080" y="4525920"/>
              <a:ext cx="2160360" cy="912960"/>
              <a:chOff x="2557080" y="4525920"/>
              <a:chExt cx="2160360" cy="912960"/>
            </a:xfrm>
          </p:grpSpPr>
          <p:sp>
            <p:nvSpPr>
              <p:cNvPr id="2893" name=""/>
              <p:cNvSpPr/>
              <p:nvPr/>
            </p:nvSpPr>
            <p:spPr>
              <a:xfrm flipV="1">
                <a:off x="2557080" y="4691880"/>
                <a:ext cx="0" cy="747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 flipV="1">
                <a:off x="2557080" y="4525920"/>
                <a:ext cx="1080000" cy="165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 flipV="1">
                <a:off x="4717440" y="4691880"/>
                <a:ext cx="0" cy="747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 flipH="1" flipV="1">
                <a:off x="3636720" y="4525920"/>
                <a:ext cx="1080360" cy="165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97" name=""/>
            <p:cNvGrpSpPr/>
            <p:nvPr/>
          </p:nvGrpSpPr>
          <p:grpSpPr>
            <a:xfrm>
              <a:off x="2760480" y="4322520"/>
              <a:ext cx="2160360" cy="912960"/>
              <a:chOff x="2760480" y="4322520"/>
              <a:chExt cx="2160360" cy="912960"/>
            </a:xfrm>
          </p:grpSpPr>
          <p:sp>
            <p:nvSpPr>
              <p:cNvPr id="2898" name=""/>
              <p:cNvSpPr/>
              <p:nvPr/>
            </p:nvSpPr>
            <p:spPr>
              <a:xfrm flipV="1">
                <a:off x="2760480" y="4488480"/>
                <a:ext cx="0" cy="747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 flipV="1">
                <a:off x="2760480" y="4322520"/>
                <a:ext cx="1080000" cy="165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 flipV="1">
                <a:off x="4920840" y="4488480"/>
                <a:ext cx="0" cy="747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 flipH="1" flipV="1">
                <a:off x="3840120" y="4322520"/>
                <a:ext cx="1080360" cy="165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02" name=""/>
          <p:cNvGrpSpPr/>
          <p:nvPr/>
        </p:nvGrpSpPr>
        <p:grpSpPr>
          <a:xfrm>
            <a:off x="1743120" y="4492800"/>
            <a:ext cx="3382560" cy="1765080"/>
            <a:chOff x="1743120" y="4492800"/>
            <a:chExt cx="3382560" cy="1765080"/>
          </a:xfrm>
        </p:grpSpPr>
        <p:grpSp>
          <p:nvGrpSpPr>
            <p:cNvPr id="2903" name=""/>
            <p:cNvGrpSpPr/>
            <p:nvPr/>
          </p:nvGrpSpPr>
          <p:grpSpPr>
            <a:xfrm>
              <a:off x="1743120" y="4503960"/>
              <a:ext cx="1221840" cy="1753560"/>
              <a:chOff x="1743120" y="4503960"/>
              <a:chExt cx="1221840" cy="1753560"/>
            </a:xfrm>
          </p:grpSpPr>
          <p:sp>
            <p:nvSpPr>
              <p:cNvPr id="2904" name=""/>
              <p:cNvSpPr/>
              <p:nvPr/>
            </p:nvSpPr>
            <p:spPr>
              <a:xfrm flipV="1">
                <a:off x="1743120" y="4503960"/>
                <a:ext cx="1221840" cy="1221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 flipV="1">
                <a:off x="1743120" y="4691160"/>
                <a:ext cx="1221840" cy="1221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 flipV="1">
                <a:off x="1743120" y="4857120"/>
                <a:ext cx="1221840" cy="1221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 flipV="1">
                <a:off x="1743120" y="5036040"/>
                <a:ext cx="1221840" cy="1221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8" name=""/>
            <p:cNvGrpSpPr/>
            <p:nvPr/>
          </p:nvGrpSpPr>
          <p:grpSpPr>
            <a:xfrm>
              <a:off x="3903840" y="4492800"/>
              <a:ext cx="1221840" cy="1765080"/>
              <a:chOff x="3903840" y="4492800"/>
              <a:chExt cx="1221840" cy="1765080"/>
            </a:xfrm>
          </p:grpSpPr>
          <p:sp>
            <p:nvSpPr>
              <p:cNvPr id="2909" name=""/>
              <p:cNvSpPr/>
              <p:nvPr/>
            </p:nvSpPr>
            <p:spPr>
              <a:xfrm flipV="1">
                <a:off x="3903840" y="5036760"/>
                <a:ext cx="1221840" cy="1221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 flipV="1">
                <a:off x="3903840" y="4492800"/>
                <a:ext cx="1221840" cy="1221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 flipV="1">
                <a:off x="3903840" y="4679640"/>
                <a:ext cx="1221840" cy="1221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 flipV="1">
                <a:off x="3903840" y="4858920"/>
                <a:ext cx="1221840" cy="1221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13" name=""/>
          <p:cNvSpPr/>
          <p:nvPr/>
        </p:nvSpPr>
        <p:spPr>
          <a:xfrm flipV="1">
            <a:off x="2825640" y="4125600"/>
            <a:ext cx="1225800" cy="122076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4" name=""/>
          <p:cNvGrpSpPr/>
          <p:nvPr/>
        </p:nvGrpSpPr>
        <p:grpSpPr>
          <a:xfrm>
            <a:off x="1743120" y="4284360"/>
            <a:ext cx="3379680" cy="1220760"/>
            <a:chOff x="1743120" y="4284360"/>
            <a:chExt cx="3379680" cy="1220760"/>
          </a:xfrm>
        </p:grpSpPr>
        <p:sp>
          <p:nvSpPr>
            <p:cNvPr id="2915" name=""/>
            <p:cNvSpPr/>
            <p:nvPr/>
          </p:nvSpPr>
          <p:spPr>
            <a:xfrm flipV="1">
              <a:off x="3897720" y="4284360"/>
              <a:ext cx="1225080" cy="12207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 flipV="1">
              <a:off x="1743120" y="4284360"/>
              <a:ext cx="1221840" cy="12207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7" name=""/>
          <p:cNvGrpSpPr/>
          <p:nvPr/>
        </p:nvGrpSpPr>
        <p:grpSpPr>
          <a:xfrm>
            <a:off x="1905120" y="4144680"/>
            <a:ext cx="3046320" cy="1338120"/>
            <a:chOff x="1905120" y="4144680"/>
            <a:chExt cx="3046320" cy="1338120"/>
          </a:xfrm>
        </p:grpSpPr>
        <p:sp>
          <p:nvSpPr>
            <p:cNvPr id="2918" name=""/>
            <p:cNvSpPr/>
            <p:nvPr/>
          </p:nvSpPr>
          <p:spPr>
            <a:xfrm flipV="1">
              <a:off x="3027600" y="4149720"/>
              <a:ext cx="1224360" cy="12214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 flipV="1">
              <a:off x="3211200" y="4166280"/>
              <a:ext cx="1224360" cy="12214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 flipV="1">
              <a:off x="3557520" y="4225680"/>
              <a:ext cx="1224360" cy="12214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 flipV="1">
              <a:off x="3727080" y="4261320"/>
              <a:ext cx="1224360" cy="12214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 flipV="1">
              <a:off x="1905120" y="4260960"/>
              <a:ext cx="1207800" cy="12214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 flipV="1">
              <a:off x="2106000" y="4232880"/>
              <a:ext cx="1207800" cy="12214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 flipV="1">
              <a:off x="2449800" y="4177800"/>
              <a:ext cx="1207800" cy="12214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 flipV="1">
              <a:off x="2635200" y="4144680"/>
              <a:ext cx="1212120" cy="12214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 flipV="1">
              <a:off x="2273040" y="4206240"/>
              <a:ext cx="1207800" cy="12214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 flipV="1">
              <a:off x="3363840" y="4200120"/>
              <a:ext cx="1224360" cy="12304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8" name=""/>
          <p:cNvGrpSpPr/>
          <p:nvPr/>
        </p:nvGrpSpPr>
        <p:grpSpPr>
          <a:xfrm>
            <a:off x="1743120" y="4117680"/>
            <a:ext cx="3382920" cy="2135160"/>
            <a:chOff x="1743120" y="4117680"/>
            <a:chExt cx="3382920" cy="2135160"/>
          </a:xfrm>
        </p:grpSpPr>
        <p:sp>
          <p:nvSpPr>
            <p:cNvPr id="2929" name=""/>
            <p:cNvSpPr/>
            <p:nvPr/>
          </p:nvSpPr>
          <p:spPr>
            <a:xfrm flipV="1">
              <a:off x="1743120" y="5339160"/>
              <a:ext cx="1080360" cy="1659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 flipH="1" flipV="1">
              <a:off x="2823120" y="5339160"/>
              <a:ext cx="1080360" cy="1659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 flipV="1">
              <a:off x="2964960" y="4117680"/>
              <a:ext cx="1080360" cy="1659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32" name=""/>
            <p:cNvGrpSpPr/>
            <p:nvPr/>
          </p:nvGrpSpPr>
          <p:grpSpPr>
            <a:xfrm>
              <a:off x="1743120" y="4283640"/>
              <a:ext cx="3382920" cy="1969200"/>
              <a:chOff x="1743120" y="4283640"/>
              <a:chExt cx="3382920" cy="1969200"/>
            </a:xfrm>
          </p:grpSpPr>
          <p:sp>
            <p:nvSpPr>
              <p:cNvPr id="2933" name=""/>
              <p:cNvSpPr/>
              <p:nvPr/>
            </p:nvSpPr>
            <p:spPr>
              <a:xfrm flipV="1">
                <a:off x="1743120" y="5505120"/>
                <a:ext cx="0" cy="74772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 flipV="1">
                <a:off x="3903840" y="5505120"/>
                <a:ext cx="0" cy="74772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 flipV="1">
                <a:off x="2964960" y="4283640"/>
                <a:ext cx="0" cy="74772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 flipV="1">
                <a:off x="5126040" y="4283640"/>
                <a:ext cx="0" cy="74772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7" name=""/>
            <p:cNvSpPr/>
            <p:nvPr/>
          </p:nvSpPr>
          <p:spPr>
            <a:xfrm flipH="1" flipV="1">
              <a:off x="4045320" y="4117680"/>
              <a:ext cx="1080360" cy="1659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8" name=""/>
          <p:cNvSpPr/>
          <p:nvPr/>
        </p:nvSpPr>
        <p:spPr>
          <a:xfrm flipV="1">
            <a:off x="1874880" y="3360600"/>
            <a:ext cx="339840" cy="34128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9" name=""/>
          <p:cNvSpPr/>
          <p:nvPr/>
        </p:nvSpPr>
        <p:spPr>
          <a:xfrm flipV="1">
            <a:off x="476280" y="3362400"/>
            <a:ext cx="339840" cy="34128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0" name=""/>
          <p:cNvSpPr/>
          <p:nvPr/>
        </p:nvSpPr>
        <p:spPr>
          <a:xfrm flipV="1">
            <a:off x="819000" y="3311640"/>
            <a:ext cx="339840" cy="34128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1" name=""/>
          <p:cNvSpPr/>
          <p:nvPr/>
        </p:nvSpPr>
        <p:spPr>
          <a:xfrm flipV="1">
            <a:off x="1189080" y="3260880"/>
            <a:ext cx="339840" cy="34128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2" name=""/>
          <p:cNvSpPr/>
          <p:nvPr/>
        </p:nvSpPr>
        <p:spPr>
          <a:xfrm flipV="1">
            <a:off x="1533600" y="3303720"/>
            <a:ext cx="339480" cy="34128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3" name=""/>
          <p:cNvSpPr/>
          <p:nvPr/>
        </p:nvSpPr>
        <p:spPr>
          <a:xfrm flipV="1">
            <a:off x="2327400" y="3419640"/>
            <a:ext cx="231480" cy="21888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4" name=""/>
          <p:cNvSpPr/>
          <p:nvPr/>
        </p:nvSpPr>
        <p:spPr>
          <a:xfrm flipV="1">
            <a:off x="179280" y="3421080"/>
            <a:ext cx="231840" cy="21888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5" name=""/>
          <p:cNvSpPr/>
          <p:nvPr/>
        </p:nvSpPr>
        <p:spPr>
          <a:xfrm flipV="1">
            <a:off x="3429000" y="1771560"/>
            <a:ext cx="339840" cy="34128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6" name=""/>
          <p:cNvSpPr/>
          <p:nvPr/>
        </p:nvSpPr>
        <p:spPr>
          <a:xfrm flipV="1">
            <a:off x="2003400" y="1773360"/>
            <a:ext cx="339840" cy="34128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7" name=""/>
          <p:cNvSpPr/>
          <p:nvPr/>
        </p:nvSpPr>
        <p:spPr>
          <a:xfrm flipV="1">
            <a:off x="2373480" y="1722600"/>
            <a:ext cx="339480" cy="34128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8" name=""/>
          <p:cNvSpPr/>
          <p:nvPr/>
        </p:nvSpPr>
        <p:spPr>
          <a:xfrm flipV="1">
            <a:off x="2716200" y="1671120"/>
            <a:ext cx="339840" cy="34164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9" name=""/>
          <p:cNvSpPr/>
          <p:nvPr/>
        </p:nvSpPr>
        <p:spPr>
          <a:xfrm flipV="1">
            <a:off x="3087720" y="1714680"/>
            <a:ext cx="339840" cy="34128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0" name=""/>
          <p:cNvSpPr/>
          <p:nvPr/>
        </p:nvSpPr>
        <p:spPr>
          <a:xfrm flipV="1">
            <a:off x="3786120" y="1952280"/>
            <a:ext cx="231840" cy="21924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"/>
          <p:cNvSpPr/>
          <p:nvPr/>
        </p:nvSpPr>
        <p:spPr>
          <a:xfrm flipV="1">
            <a:off x="1650960" y="1940040"/>
            <a:ext cx="231840" cy="21888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2" name=""/>
          <p:cNvSpPr/>
          <p:nvPr/>
        </p:nvSpPr>
        <p:spPr>
          <a:xfrm flipV="1">
            <a:off x="6724800" y="3203640"/>
            <a:ext cx="339480" cy="34128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3" name=""/>
          <p:cNvSpPr/>
          <p:nvPr/>
        </p:nvSpPr>
        <p:spPr>
          <a:xfrm flipV="1">
            <a:off x="5326200" y="3205080"/>
            <a:ext cx="339480" cy="34128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4" name=""/>
          <p:cNvSpPr/>
          <p:nvPr/>
        </p:nvSpPr>
        <p:spPr>
          <a:xfrm flipV="1">
            <a:off x="5668920" y="3154320"/>
            <a:ext cx="339840" cy="34128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5" name=""/>
          <p:cNvSpPr/>
          <p:nvPr/>
        </p:nvSpPr>
        <p:spPr>
          <a:xfrm flipV="1">
            <a:off x="6039000" y="3103560"/>
            <a:ext cx="339480" cy="34128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6" name=""/>
          <p:cNvSpPr/>
          <p:nvPr/>
        </p:nvSpPr>
        <p:spPr>
          <a:xfrm flipV="1">
            <a:off x="6383160" y="3146400"/>
            <a:ext cx="339840" cy="34128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7" name=""/>
          <p:cNvSpPr/>
          <p:nvPr/>
        </p:nvSpPr>
        <p:spPr>
          <a:xfrm flipV="1">
            <a:off x="7176960" y="3261960"/>
            <a:ext cx="231840" cy="21924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8" name=""/>
          <p:cNvSpPr/>
          <p:nvPr/>
        </p:nvSpPr>
        <p:spPr>
          <a:xfrm flipV="1">
            <a:off x="5029200" y="3263400"/>
            <a:ext cx="231840" cy="21924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9" name=""/>
          <p:cNvSpPr/>
          <p:nvPr/>
        </p:nvSpPr>
        <p:spPr>
          <a:xfrm flipV="1">
            <a:off x="3200400" y="5448240"/>
            <a:ext cx="339840" cy="34128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0" name=""/>
          <p:cNvSpPr/>
          <p:nvPr/>
        </p:nvSpPr>
        <p:spPr>
          <a:xfrm flipV="1">
            <a:off x="1801800" y="5450040"/>
            <a:ext cx="339840" cy="34128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1" name=""/>
          <p:cNvSpPr/>
          <p:nvPr/>
        </p:nvSpPr>
        <p:spPr>
          <a:xfrm flipV="1">
            <a:off x="2144880" y="5398560"/>
            <a:ext cx="339480" cy="34164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2" name=""/>
          <p:cNvSpPr/>
          <p:nvPr/>
        </p:nvSpPr>
        <p:spPr>
          <a:xfrm flipV="1">
            <a:off x="2514600" y="5348160"/>
            <a:ext cx="339840" cy="34128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3" name=""/>
          <p:cNvSpPr/>
          <p:nvPr/>
        </p:nvSpPr>
        <p:spPr>
          <a:xfrm flipV="1">
            <a:off x="2859120" y="5390640"/>
            <a:ext cx="339840" cy="34164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4" name=""/>
          <p:cNvSpPr/>
          <p:nvPr/>
        </p:nvSpPr>
        <p:spPr>
          <a:xfrm flipV="1">
            <a:off x="3652920" y="5506560"/>
            <a:ext cx="231840" cy="21924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5" name=""/>
          <p:cNvSpPr/>
          <p:nvPr/>
        </p:nvSpPr>
        <p:spPr>
          <a:xfrm flipV="1">
            <a:off x="1504800" y="5508720"/>
            <a:ext cx="231840" cy="21888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6" name=""/>
          <p:cNvSpPr/>
          <p:nvPr/>
        </p:nvSpPr>
        <p:spPr>
          <a:xfrm flipH="1">
            <a:off x="7551720" y="1579680"/>
            <a:ext cx="326880" cy="32544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7" name=""/>
          <p:cNvSpPr/>
          <p:nvPr/>
        </p:nvSpPr>
        <p:spPr>
          <a:xfrm flipH="1">
            <a:off x="7907400" y="1623960"/>
            <a:ext cx="326880" cy="32544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8" name=""/>
          <p:cNvSpPr/>
          <p:nvPr/>
        </p:nvSpPr>
        <p:spPr>
          <a:xfrm flipH="1">
            <a:off x="8249760" y="1679400"/>
            <a:ext cx="327240" cy="32544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9" name=""/>
          <p:cNvSpPr/>
          <p:nvPr/>
        </p:nvSpPr>
        <p:spPr>
          <a:xfrm flipH="1">
            <a:off x="7165440" y="1627200"/>
            <a:ext cx="327240" cy="32544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0" name=""/>
          <p:cNvSpPr/>
          <p:nvPr/>
        </p:nvSpPr>
        <p:spPr>
          <a:xfrm flipH="1">
            <a:off x="6786720" y="1684440"/>
            <a:ext cx="326880" cy="32544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1" name=""/>
          <p:cNvSpPr/>
          <p:nvPr/>
        </p:nvSpPr>
        <p:spPr>
          <a:xfrm flipH="1">
            <a:off x="8615520" y="1868400"/>
            <a:ext cx="204480" cy="20340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2" name=""/>
          <p:cNvSpPr/>
          <p:nvPr/>
        </p:nvSpPr>
        <p:spPr>
          <a:xfrm flipH="1">
            <a:off x="6453360" y="1871640"/>
            <a:ext cx="204480" cy="20340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3" name=""/>
          <p:cNvSpPr/>
          <p:nvPr/>
        </p:nvSpPr>
        <p:spPr>
          <a:xfrm rot="8034000">
            <a:off x="587520" y="4005720"/>
            <a:ext cx="850680" cy="741240"/>
          </a:xfrm>
          <a:prstGeom prst="leftArrow">
            <a:avLst>
              <a:gd name="adj1" fmla="val 50000"/>
              <a:gd name="adj2" fmla="val 28691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4" name=""/>
          <p:cNvSpPr/>
          <p:nvPr/>
        </p:nvSpPr>
        <p:spPr>
          <a:xfrm rot="8034000">
            <a:off x="1965600" y="5871240"/>
            <a:ext cx="851040" cy="741240"/>
          </a:xfrm>
          <a:prstGeom prst="leftArrow">
            <a:avLst>
              <a:gd name="adj1" fmla="val 50000"/>
              <a:gd name="adj2" fmla="val 28703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5" name=""/>
          <p:cNvSpPr/>
          <p:nvPr/>
        </p:nvSpPr>
        <p:spPr>
          <a:xfrm rot="8034000">
            <a:off x="5519880" y="3801240"/>
            <a:ext cx="851040" cy="741240"/>
          </a:xfrm>
          <a:prstGeom prst="leftArrow">
            <a:avLst>
              <a:gd name="adj1" fmla="val 50000"/>
              <a:gd name="adj2" fmla="val 28703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6" name=""/>
          <p:cNvSpPr/>
          <p:nvPr/>
        </p:nvSpPr>
        <p:spPr>
          <a:xfrm flipH="1">
            <a:off x="2747520" y="2889360"/>
            <a:ext cx="327240" cy="32544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7" name=""/>
          <p:cNvSpPr/>
          <p:nvPr/>
        </p:nvSpPr>
        <p:spPr>
          <a:xfrm flipH="1">
            <a:off x="601200" y="2876400"/>
            <a:ext cx="327240" cy="32544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8" name=""/>
          <p:cNvSpPr/>
          <p:nvPr/>
        </p:nvSpPr>
        <p:spPr>
          <a:xfrm flipH="1">
            <a:off x="1108080" y="2401920"/>
            <a:ext cx="326880" cy="32544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9" name=""/>
          <p:cNvSpPr/>
          <p:nvPr/>
        </p:nvSpPr>
        <p:spPr>
          <a:xfrm flipH="1">
            <a:off x="3244320" y="2403360"/>
            <a:ext cx="327240" cy="32544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0" name=""/>
          <p:cNvSpPr/>
          <p:nvPr/>
        </p:nvSpPr>
        <p:spPr>
          <a:xfrm flipH="1">
            <a:off x="1941480" y="4962600"/>
            <a:ext cx="326880" cy="32544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1" name=""/>
          <p:cNvSpPr/>
          <p:nvPr/>
        </p:nvSpPr>
        <p:spPr>
          <a:xfrm flipH="1">
            <a:off x="5438880" y="2730600"/>
            <a:ext cx="326880" cy="32544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2" name=""/>
          <p:cNvSpPr/>
          <p:nvPr/>
        </p:nvSpPr>
        <p:spPr>
          <a:xfrm flipH="1">
            <a:off x="7587720" y="2744640"/>
            <a:ext cx="327240" cy="32544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3" name=""/>
          <p:cNvSpPr/>
          <p:nvPr/>
        </p:nvSpPr>
        <p:spPr>
          <a:xfrm flipH="1">
            <a:off x="4088880" y="4978440"/>
            <a:ext cx="327240" cy="32544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4" name=""/>
          <p:cNvSpPr/>
          <p:nvPr/>
        </p:nvSpPr>
        <p:spPr>
          <a:xfrm flipV="1">
            <a:off x="5961240" y="2258640"/>
            <a:ext cx="312480" cy="31428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5" name=""/>
          <p:cNvSpPr/>
          <p:nvPr/>
        </p:nvSpPr>
        <p:spPr>
          <a:xfrm flipV="1">
            <a:off x="8113680" y="2274480"/>
            <a:ext cx="312840" cy="31428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6" name=""/>
          <p:cNvSpPr/>
          <p:nvPr/>
        </p:nvSpPr>
        <p:spPr>
          <a:xfrm>
            <a:off x="523800" y="2289240"/>
            <a:ext cx="473040" cy="471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540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7" name=""/>
          <p:cNvSpPr/>
          <p:nvPr/>
        </p:nvSpPr>
        <p:spPr>
          <a:xfrm>
            <a:off x="442800" y="2282760"/>
            <a:ext cx="63504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4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8" name=""/>
          <p:cNvSpPr/>
          <p:nvPr/>
        </p:nvSpPr>
        <p:spPr>
          <a:xfrm>
            <a:off x="1049400" y="4491000"/>
            <a:ext cx="89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9" name=""/>
          <p:cNvSpPr/>
          <p:nvPr/>
        </p:nvSpPr>
        <p:spPr>
          <a:xfrm>
            <a:off x="5800680" y="4440240"/>
            <a:ext cx="89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0" name=""/>
          <p:cNvSpPr/>
          <p:nvPr/>
        </p:nvSpPr>
        <p:spPr>
          <a:xfrm>
            <a:off x="2400480" y="6400800"/>
            <a:ext cx="8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1" name="">
            <a:hlinkClick r:id="" action="ppaction://hlinkshowjump?jump=previousslide"/>
          </p:cNvPr>
          <p:cNvSpPr/>
          <p:nvPr/>
        </p:nvSpPr>
        <p:spPr>
          <a:xfrm>
            <a:off x="243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2" name=""/>
          <p:cNvSpPr/>
          <p:nvPr/>
        </p:nvSpPr>
        <p:spPr>
          <a:xfrm>
            <a:off x="128520" y="6613560"/>
            <a:ext cx="58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Arriè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3" name=""/>
          <p:cNvSpPr/>
          <p:nvPr/>
        </p:nvSpPr>
        <p:spPr>
          <a:xfrm>
            <a:off x="7759800" y="5635800"/>
            <a:ext cx="420480" cy="345960"/>
          </a:xfrm>
          <a:custGeom>
            <a:avLst/>
            <a:gdLst>
              <a:gd name="textAreaLeft" fmla="*/ 22320 w 420480"/>
              <a:gd name="textAreaRight" fmla="*/ 398160 w 42048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26248" h="21600">
                <a:moveTo>
                  <a:pt x="0" y="0"/>
                </a:moveTo>
                <a:lnTo>
                  <a:pt x="26248" y="0"/>
                </a:lnTo>
                <a:lnTo>
                  <a:pt x="26248" y="21600"/>
                </a:lnTo>
                <a:lnTo>
                  <a:pt x="0" y="21600"/>
                </a:lnTo>
                <a:close/>
              </a:path>
              <a:path fill="lightenLess" w="26248" h="21600">
                <a:moveTo>
                  <a:pt x="0" y="0"/>
                </a:moveTo>
                <a:lnTo>
                  <a:pt x="26248" y="0"/>
                </a:lnTo>
                <a:lnTo>
                  <a:pt x="24848" y="1400"/>
                </a:lnTo>
                <a:lnTo>
                  <a:pt x="1400" y="1400"/>
                </a:lnTo>
                <a:close/>
              </a:path>
              <a:path fill="darken" w="26248" h="21600">
                <a:moveTo>
                  <a:pt x="26248" y="0"/>
                </a:moveTo>
                <a:lnTo>
                  <a:pt x="26248" y="21600"/>
                </a:lnTo>
                <a:lnTo>
                  <a:pt x="24848" y="20200"/>
                </a:lnTo>
                <a:lnTo>
                  <a:pt x="24848" y="1400"/>
                </a:lnTo>
                <a:close/>
              </a:path>
              <a:path fill="darkenLess" w="26248" h="21600">
                <a:moveTo>
                  <a:pt x="26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48" y="20200"/>
                </a:lnTo>
                <a:close/>
              </a:path>
              <a:path fill="lighten" w="26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4" name="">
            <a:hlinkClick r:id="rId1" action="ppaction://hlinksldjump"/>
          </p:cNvPr>
          <p:cNvSpPr/>
          <p:nvPr/>
        </p:nvSpPr>
        <p:spPr>
          <a:xfrm>
            <a:off x="7775640" y="5700600"/>
            <a:ext cx="388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5" name=""/>
          <p:cNvSpPr/>
          <p:nvPr/>
        </p:nvSpPr>
        <p:spPr>
          <a:xfrm>
            <a:off x="6364440" y="5635800"/>
            <a:ext cx="420480" cy="345960"/>
          </a:xfrm>
          <a:custGeom>
            <a:avLst/>
            <a:gdLst>
              <a:gd name="textAreaLeft" fmla="*/ 22320 w 420480"/>
              <a:gd name="textAreaRight" fmla="*/ 398160 w 42048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26248" h="21600">
                <a:moveTo>
                  <a:pt x="0" y="0"/>
                </a:moveTo>
                <a:lnTo>
                  <a:pt x="26248" y="0"/>
                </a:lnTo>
                <a:lnTo>
                  <a:pt x="26248" y="21600"/>
                </a:lnTo>
                <a:lnTo>
                  <a:pt x="0" y="21600"/>
                </a:lnTo>
                <a:close/>
              </a:path>
              <a:path fill="lightenLess" w="26248" h="21600">
                <a:moveTo>
                  <a:pt x="0" y="0"/>
                </a:moveTo>
                <a:lnTo>
                  <a:pt x="26248" y="0"/>
                </a:lnTo>
                <a:lnTo>
                  <a:pt x="24848" y="1400"/>
                </a:lnTo>
                <a:lnTo>
                  <a:pt x="1400" y="1400"/>
                </a:lnTo>
                <a:close/>
              </a:path>
              <a:path fill="darken" w="26248" h="21600">
                <a:moveTo>
                  <a:pt x="26248" y="0"/>
                </a:moveTo>
                <a:lnTo>
                  <a:pt x="26248" y="21600"/>
                </a:lnTo>
                <a:lnTo>
                  <a:pt x="24848" y="20200"/>
                </a:lnTo>
                <a:lnTo>
                  <a:pt x="24848" y="1400"/>
                </a:lnTo>
                <a:close/>
              </a:path>
              <a:path fill="darkenLess" w="26248" h="21600">
                <a:moveTo>
                  <a:pt x="26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48" y="20200"/>
                </a:lnTo>
                <a:close/>
              </a:path>
              <a:path fill="lighten" w="26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6" name="">
            <a:hlinkClick r:id="rId2" action="ppaction://hlinksldjump"/>
          </p:cNvPr>
          <p:cNvSpPr/>
          <p:nvPr/>
        </p:nvSpPr>
        <p:spPr>
          <a:xfrm>
            <a:off x="6380280" y="5700600"/>
            <a:ext cx="388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7" name=""/>
          <p:cNvSpPr/>
          <p:nvPr/>
        </p:nvSpPr>
        <p:spPr>
          <a:xfrm>
            <a:off x="7061040" y="5635800"/>
            <a:ext cx="420840" cy="345960"/>
          </a:xfrm>
          <a:custGeom>
            <a:avLst/>
            <a:gdLst>
              <a:gd name="textAreaLeft" fmla="*/ 22320 w 420840"/>
              <a:gd name="textAreaRight" fmla="*/ 398520 w 42084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26270" h="21600">
                <a:moveTo>
                  <a:pt x="0" y="0"/>
                </a:moveTo>
                <a:lnTo>
                  <a:pt x="26270" y="0"/>
                </a:lnTo>
                <a:lnTo>
                  <a:pt x="26270" y="21600"/>
                </a:lnTo>
                <a:lnTo>
                  <a:pt x="0" y="21600"/>
                </a:lnTo>
                <a:close/>
              </a:path>
              <a:path fill="lightenLess" w="26270" h="21600">
                <a:moveTo>
                  <a:pt x="0" y="0"/>
                </a:moveTo>
                <a:lnTo>
                  <a:pt x="26270" y="0"/>
                </a:lnTo>
                <a:lnTo>
                  <a:pt x="24870" y="1400"/>
                </a:lnTo>
                <a:lnTo>
                  <a:pt x="1400" y="1400"/>
                </a:lnTo>
                <a:close/>
              </a:path>
              <a:path fill="darken" w="26270" h="21600">
                <a:moveTo>
                  <a:pt x="26270" y="0"/>
                </a:moveTo>
                <a:lnTo>
                  <a:pt x="26270" y="21600"/>
                </a:lnTo>
                <a:lnTo>
                  <a:pt x="24870" y="20200"/>
                </a:lnTo>
                <a:lnTo>
                  <a:pt x="24870" y="1400"/>
                </a:lnTo>
                <a:close/>
              </a:path>
              <a:path fill="darkenLess" w="26270" h="21600">
                <a:moveTo>
                  <a:pt x="26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70" y="20200"/>
                </a:lnTo>
                <a:close/>
              </a:path>
              <a:path fill="lighten" w="26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8" name="">
            <a:hlinkClick r:id="rId3" action="ppaction://hlinksldjump"/>
          </p:cNvPr>
          <p:cNvSpPr/>
          <p:nvPr/>
        </p:nvSpPr>
        <p:spPr>
          <a:xfrm>
            <a:off x="7077240" y="5700600"/>
            <a:ext cx="388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9" name=""/>
          <p:cNvSpPr/>
          <p:nvPr/>
        </p:nvSpPr>
        <p:spPr>
          <a:xfrm>
            <a:off x="6186600" y="615168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"/>
          <p:cNvSpPr/>
          <p:nvPr/>
        </p:nvSpPr>
        <p:spPr>
          <a:xfrm>
            <a:off x="7977240" y="3807000"/>
            <a:ext cx="473040" cy="47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540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"/>
          <p:cNvSpPr/>
          <p:nvPr/>
        </p:nvSpPr>
        <p:spPr>
          <a:xfrm>
            <a:off x="7896240" y="3800520"/>
            <a:ext cx="63504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4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2" name=""/>
          <p:cNvSpPr/>
          <p:nvPr/>
        </p:nvSpPr>
        <p:spPr>
          <a:xfrm>
            <a:off x="4532400" y="5900760"/>
            <a:ext cx="473040" cy="471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540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3" name=""/>
          <p:cNvSpPr/>
          <p:nvPr/>
        </p:nvSpPr>
        <p:spPr>
          <a:xfrm>
            <a:off x="4451400" y="5894280"/>
            <a:ext cx="63504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4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4" name=""/>
          <p:cNvSpPr/>
          <p:nvPr/>
        </p:nvSpPr>
        <p:spPr>
          <a:xfrm>
            <a:off x="181080" y="442800"/>
            <a:ext cx="87818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RÉPONSE CORREC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5" name=""/>
          <p:cNvGrpSpPr/>
          <p:nvPr/>
        </p:nvGrpSpPr>
        <p:grpSpPr>
          <a:xfrm>
            <a:off x="3381480" y="3519360"/>
            <a:ext cx="5503320" cy="3106080"/>
            <a:chOff x="3381480" y="3519360"/>
            <a:chExt cx="5503320" cy="3106080"/>
          </a:xfrm>
        </p:grpSpPr>
        <p:grpSp>
          <p:nvGrpSpPr>
            <p:cNvPr id="3006" name=""/>
            <p:cNvGrpSpPr/>
            <p:nvPr/>
          </p:nvGrpSpPr>
          <p:grpSpPr>
            <a:xfrm>
              <a:off x="3783240" y="3519360"/>
              <a:ext cx="4735080" cy="842040"/>
              <a:chOff x="3783240" y="3519360"/>
              <a:chExt cx="4735080" cy="842040"/>
            </a:xfrm>
          </p:grpSpPr>
          <p:sp>
            <p:nvSpPr>
              <p:cNvPr id="3007" name=""/>
              <p:cNvSpPr/>
              <p:nvPr/>
            </p:nvSpPr>
            <p:spPr>
              <a:xfrm>
                <a:off x="3783240" y="3947400"/>
                <a:ext cx="0" cy="40788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4557600" y="3537360"/>
                <a:ext cx="0" cy="81792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5352120" y="3533400"/>
                <a:ext cx="0" cy="81792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6134760" y="3519360"/>
                <a:ext cx="1800" cy="83628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6933240" y="3533400"/>
                <a:ext cx="0" cy="81792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7728120" y="3543480"/>
                <a:ext cx="0" cy="81792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8518320" y="3941640"/>
                <a:ext cx="0" cy="40752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4" name=""/>
            <p:cNvSpPr/>
            <p:nvPr/>
          </p:nvSpPr>
          <p:spPr>
            <a:xfrm>
              <a:off x="8146800" y="5391000"/>
              <a:ext cx="73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15" name=""/>
            <p:cNvGrpSpPr/>
            <p:nvPr/>
          </p:nvGrpSpPr>
          <p:grpSpPr>
            <a:xfrm>
              <a:off x="3381480" y="5152680"/>
              <a:ext cx="5502960" cy="496440"/>
              <a:chOff x="3381480" y="5152680"/>
              <a:chExt cx="5502960" cy="496440"/>
            </a:xfrm>
          </p:grpSpPr>
          <p:sp>
            <p:nvSpPr>
              <p:cNvPr id="3016" name=""/>
              <p:cNvSpPr/>
              <p:nvPr/>
            </p:nvSpPr>
            <p:spPr>
              <a:xfrm>
                <a:off x="3524760" y="5157360"/>
                <a:ext cx="487440" cy="2430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3381480" y="5395680"/>
                <a:ext cx="747360" cy="142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8275320" y="5152680"/>
                <a:ext cx="487800" cy="2430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8137440" y="5506920"/>
                <a:ext cx="747000" cy="142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8168760" y="5389920"/>
                <a:ext cx="122040" cy="121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8460000" y="5389920"/>
                <a:ext cx="122040" cy="121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8746200" y="5395680"/>
                <a:ext cx="122040" cy="121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3" name=""/>
            <p:cNvGrpSpPr/>
            <p:nvPr/>
          </p:nvGrpSpPr>
          <p:grpSpPr>
            <a:xfrm>
              <a:off x="3783240" y="5479920"/>
              <a:ext cx="4729320" cy="1145520"/>
              <a:chOff x="3783240" y="5479920"/>
              <a:chExt cx="4729320" cy="1145520"/>
            </a:xfrm>
          </p:grpSpPr>
          <p:sp>
            <p:nvSpPr>
              <p:cNvPr id="3024" name=""/>
              <p:cNvSpPr/>
              <p:nvPr/>
            </p:nvSpPr>
            <p:spPr>
              <a:xfrm>
                <a:off x="3783240" y="5479920"/>
                <a:ext cx="0" cy="986760"/>
              </a:xfrm>
              <a:prstGeom prst="line">
                <a:avLst/>
              </a:prstGeom>
              <a:ln w="76320">
                <a:solidFill>
                  <a:srgbClr val="ff9933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8512560" y="5638680"/>
                <a:ext cx="0" cy="986760"/>
              </a:xfrm>
              <a:prstGeom prst="line">
                <a:avLst/>
              </a:prstGeom>
              <a:ln w="76320">
                <a:solidFill>
                  <a:srgbClr val="ff9933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6" name=""/>
            <p:cNvGrpSpPr/>
            <p:nvPr/>
          </p:nvGrpSpPr>
          <p:grpSpPr>
            <a:xfrm>
              <a:off x="3704400" y="4349880"/>
              <a:ext cx="4878720" cy="874800"/>
              <a:chOff x="3704400" y="4349880"/>
              <a:chExt cx="4878720" cy="874800"/>
            </a:xfrm>
          </p:grpSpPr>
          <p:sp>
            <p:nvSpPr>
              <p:cNvPr id="3027" name=""/>
              <p:cNvSpPr/>
              <p:nvPr/>
            </p:nvSpPr>
            <p:spPr>
              <a:xfrm flipH="1">
                <a:off x="5362200" y="4428720"/>
                <a:ext cx="776160" cy="700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 flipH="1">
                <a:off x="4567680" y="4428720"/>
                <a:ext cx="776160" cy="700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 flipH="1">
                <a:off x="3777120" y="4428720"/>
                <a:ext cx="776160" cy="700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7734960" y="4422600"/>
                <a:ext cx="786960" cy="720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6940080" y="4422600"/>
                <a:ext cx="786960" cy="720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32" name=""/>
              <p:cNvGrpSpPr/>
              <p:nvPr/>
            </p:nvGrpSpPr>
            <p:grpSpPr>
              <a:xfrm>
                <a:off x="3769920" y="4422600"/>
                <a:ext cx="4752720" cy="723960"/>
                <a:chOff x="3769920" y="4422600"/>
                <a:chExt cx="4752720" cy="723960"/>
              </a:xfrm>
            </p:grpSpPr>
            <p:sp>
              <p:nvSpPr>
                <p:cNvPr id="3033" name=""/>
                <p:cNvSpPr/>
                <p:nvPr/>
              </p:nvSpPr>
              <p:spPr>
                <a:xfrm>
                  <a:off x="5355360" y="4425840"/>
                  <a:ext cx="791640" cy="720720"/>
                </a:xfrm>
                <a:prstGeom prst="rect">
                  <a:avLst/>
                </a:pr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4" name=""/>
                <p:cNvSpPr/>
                <p:nvPr/>
              </p:nvSpPr>
              <p:spPr>
                <a:xfrm>
                  <a:off x="5358600" y="4422600"/>
                  <a:ext cx="786960" cy="720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5" name=""/>
                <p:cNvSpPr/>
                <p:nvPr/>
              </p:nvSpPr>
              <p:spPr>
                <a:xfrm>
                  <a:off x="4560120" y="4425840"/>
                  <a:ext cx="791640" cy="720720"/>
                </a:xfrm>
                <a:prstGeom prst="rect">
                  <a:avLst/>
                </a:pr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6" name=""/>
                <p:cNvSpPr/>
                <p:nvPr/>
              </p:nvSpPr>
              <p:spPr>
                <a:xfrm>
                  <a:off x="4563720" y="4422600"/>
                  <a:ext cx="786960" cy="720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7" name=""/>
                <p:cNvSpPr/>
                <p:nvPr/>
              </p:nvSpPr>
              <p:spPr>
                <a:xfrm>
                  <a:off x="3769920" y="4425840"/>
                  <a:ext cx="791640" cy="720720"/>
                </a:xfrm>
                <a:prstGeom prst="rect">
                  <a:avLst/>
                </a:pr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8" name=""/>
                <p:cNvSpPr/>
                <p:nvPr/>
              </p:nvSpPr>
              <p:spPr>
                <a:xfrm>
                  <a:off x="3773160" y="4422600"/>
                  <a:ext cx="786960" cy="720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9" name=""/>
                <p:cNvSpPr/>
                <p:nvPr/>
              </p:nvSpPr>
              <p:spPr>
                <a:xfrm>
                  <a:off x="7731000" y="4425840"/>
                  <a:ext cx="791640" cy="720720"/>
                </a:xfrm>
                <a:prstGeom prst="rect">
                  <a:avLst/>
                </a:pr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0" name=""/>
                <p:cNvSpPr/>
                <p:nvPr/>
              </p:nvSpPr>
              <p:spPr>
                <a:xfrm flipH="1">
                  <a:off x="7738200" y="4428720"/>
                  <a:ext cx="776160" cy="7002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1" name=""/>
                <p:cNvSpPr/>
                <p:nvPr/>
              </p:nvSpPr>
              <p:spPr>
                <a:xfrm>
                  <a:off x="6936120" y="4425840"/>
                  <a:ext cx="791640" cy="720720"/>
                </a:xfrm>
                <a:prstGeom prst="rect">
                  <a:avLst/>
                </a:pr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2" name=""/>
                <p:cNvSpPr/>
                <p:nvPr/>
              </p:nvSpPr>
              <p:spPr>
                <a:xfrm flipH="1">
                  <a:off x="6943320" y="4428720"/>
                  <a:ext cx="776160" cy="7002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3" name=""/>
                <p:cNvSpPr/>
                <p:nvPr/>
              </p:nvSpPr>
              <p:spPr>
                <a:xfrm>
                  <a:off x="6145560" y="4425840"/>
                  <a:ext cx="791640" cy="720720"/>
                </a:xfrm>
                <a:prstGeom prst="rect">
                  <a:avLst/>
                </a:pr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4" name=""/>
                <p:cNvSpPr/>
                <p:nvPr/>
              </p:nvSpPr>
              <p:spPr>
                <a:xfrm flipH="1">
                  <a:off x="6152760" y="4428720"/>
                  <a:ext cx="776160" cy="7002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45" name=""/>
              <p:cNvSpPr/>
              <p:nvPr/>
            </p:nvSpPr>
            <p:spPr>
              <a:xfrm>
                <a:off x="6149520" y="4422600"/>
                <a:ext cx="786960" cy="720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3704400" y="436608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4489920" y="436032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5279760" y="434988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6080760" y="436608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>
                <a:off x="6860160" y="437148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7660800" y="435528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8445600" y="436104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3714840" y="509184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4500360" y="508608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5290200" y="507564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6091560" y="509184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6870600" y="509760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7671240" y="508140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8456040" y="508680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60" name=""/>
          <p:cNvSpPr/>
          <p:nvPr/>
        </p:nvSpPr>
        <p:spPr>
          <a:xfrm>
            <a:off x="4813200" y="1433520"/>
            <a:ext cx="3994200" cy="1618560"/>
          </a:xfrm>
          <a:prstGeom prst="rect">
            <a:avLst/>
          </a:prstGeom>
          <a:solidFill>
            <a:srgbClr val="00cc99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 diagonales comprimées sont susceptibles de flamb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les ne sont donc généralement pas prises en compte dans le calcu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1" name="">
            <a:hlinkClick r:id="rId1" action="ppaction://hlinksldjump"/>
          </p:cNvPr>
          <p:cNvSpPr/>
          <p:nvPr/>
        </p:nvSpPr>
        <p:spPr>
          <a:xfrm>
            <a:off x="5872320" y="4884840"/>
            <a:ext cx="163440" cy="163440"/>
          </a:xfrm>
          <a:custGeom>
            <a:avLst/>
            <a:gdLst>
              <a:gd name="textAreaLeft" fmla="*/ 10440 w 163440"/>
              <a:gd name="textAreaRight" fmla="*/ 153000 w 163440"/>
              <a:gd name="textAreaTop" fmla="*/ 10440 h 163440"/>
              <a:gd name="textAreaBottom" fmla="*/ 153000 h 16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2" name="">
            <a:hlinkClick r:id="" action="ppaction://hlinkshowjump?jump=nextslide"/>
          </p:cNvPr>
          <p:cNvSpPr/>
          <p:nvPr/>
        </p:nvSpPr>
        <p:spPr>
          <a:xfrm>
            <a:off x="5456160" y="4884840"/>
            <a:ext cx="163440" cy="163440"/>
          </a:xfrm>
          <a:custGeom>
            <a:avLst/>
            <a:gdLst>
              <a:gd name="textAreaLeft" fmla="*/ 10440 w 163440"/>
              <a:gd name="textAreaRight" fmla="*/ 153000 w 163440"/>
              <a:gd name="textAreaTop" fmla="*/ 10440 h 163440"/>
              <a:gd name="textAreaBottom" fmla="*/ 153000 h 16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3" name="">
            <a:hlinkClick r:id="rId2" action="ppaction://hlinksldjump"/>
          </p:cNvPr>
          <p:cNvSpPr/>
          <p:nvPr/>
        </p:nvSpPr>
        <p:spPr>
          <a:xfrm>
            <a:off x="6248520" y="4884840"/>
            <a:ext cx="163440" cy="163440"/>
          </a:xfrm>
          <a:custGeom>
            <a:avLst/>
            <a:gdLst>
              <a:gd name="textAreaLeft" fmla="*/ 10440 w 163440"/>
              <a:gd name="textAreaRight" fmla="*/ 153000 w 163440"/>
              <a:gd name="textAreaTop" fmla="*/ 10440 h 163440"/>
              <a:gd name="textAreaBottom" fmla="*/ 153000 h 16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4" name="">
            <a:hlinkClick r:id="rId3" action="ppaction://hlinksldjump"/>
          </p:cNvPr>
          <p:cNvSpPr/>
          <p:nvPr/>
        </p:nvSpPr>
        <p:spPr>
          <a:xfrm>
            <a:off x="7035840" y="4884840"/>
            <a:ext cx="163440" cy="163440"/>
          </a:xfrm>
          <a:custGeom>
            <a:avLst/>
            <a:gdLst>
              <a:gd name="textAreaLeft" fmla="*/ 10440 w 163440"/>
              <a:gd name="textAreaRight" fmla="*/ 153000 w 163440"/>
              <a:gd name="textAreaTop" fmla="*/ 10440 h 163440"/>
              <a:gd name="textAreaBottom" fmla="*/ 153000 h 16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5" name="">
            <a:hlinkClick r:id="" action="ppaction://hlinkshowjump?jump=nextslide"/>
          </p:cNvPr>
          <p:cNvSpPr/>
          <p:nvPr/>
        </p:nvSpPr>
        <p:spPr>
          <a:xfrm>
            <a:off x="6657840" y="4884840"/>
            <a:ext cx="163800" cy="163440"/>
          </a:xfrm>
          <a:custGeom>
            <a:avLst/>
            <a:gdLst>
              <a:gd name="textAreaLeft" fmla="*/ 10440 w 163800"/>
              <a:gd name="textAreaRight" fmla="*/ 153360 w 163800"/>
              <a:gd name="textAreaTop" fmla="*/ 10440 h 163440"/>
              <a:gd name="textAreaBottom" fmla="*/ 153000 h 163440"/>
            </a:gdLst>
            <a:ahLst/>
            <a:rect l="textAreaLeft" t="textAreaTop" r="textAreaRight" b="textAreaBottom"/>
            <a:pathLst>
              <a:path w="21647" h="21600">
                <a:moveTo>
                  <a:pt x="0" y="0"/>
                </a:moveTo>
                <a:lnTo>
                  <a:pt x="21647" y="0"/>
                </a:lnTo>
                <a:lnTo>
                  <a:pt x="21647" y="21600"/>
                </a:lnTo>
                <a:lnTo>
                  <a:pt x="0" y="21600"/>
                </a:lnTo>
                <a:close/>
              </a:path>
              <a:path fill="lightenLess" w="21647" h="21600">
                <a:moveTo>
                  <a:pt x="0" y="0"/>
                </a:moveTo>
                <a:lnTo>
                  <a:pt x="21647" y="0"/>
                </a:lnTo>
                <a:lnTo>
                  <a:pt x="20248" y="1400"/>
                </a:lnTo>
                <a:lnTo>
                  <a:pt x="1400" y="1400"/>
                </a:lnTo>
                <a:close/>
              </a:path>
              <a:path fill="darken" w="21647" h="21600">
                <a:moveTo>
                  <a:pt x="21647" y="0"/>
                </a:moveTo>
                <a:lnTo>
                  <a:pt x="21647" y="21600"/>
                </a:lnTo>
                <a:lnTo>
                  <a:pt x="20248" y="20200"/>
                </a:lnTo>
                <a:lnTo>
                  <a:pt x="20248" y="1400"/>
                </a:lnTo>
                <a:close/>
              </a:path>
              <a:path fill="darkenLess" w="21647" h="21600">
                <a:moveTo>
                  <a:pt x="216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8" y="20200"/>
                </a:lnTo>
                <a:close/>
              </a:path>
              <a:path fill="lighten" w="216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6" name="">
            <a:hlinkClick r:id="" action="ppaction://hlinkshowjump?jump=nextslide"/>
          </p:cNvPr>
          <p:cNvSpPr/>
          <p:nvPr/>
        </p:nvSpPr>
        <p:spPr>
          <a:xfrm>
            <a:off x="7456320" y="4884840"/>
            <a:ext cx="163800" cy="163440"/>
          </a:xfrm>
          <a:custGeom>
            <a:avLst/>
            <a:gdLst>
              <a:gd name="textAreaLeft" fmla="*/ 10440 w 163800"/>
              <a:gd name="textAreaRight" fmla="*/ 153360 w 163800"/>
              <a:gd name="textAreaTop" fmla="*/ 10440 h 163440"/>
              <a:gd name="textAreaBottom" fmla="*/ 153000 h 163440"/>
            </a:gdLst>
            <a:ahLst/>
            <a:rect l="textAreaLeft" t="textAreaTop" r="textAreaRight" b="textAreaBottom"/>
            <a:pathLst>
              <a:path w="21647" h="21600">
                <a:moveTo>
                  <a:pt x="0" y="0"/>
                </a:moveTo>
                <a:lnTo>
                  <a:pt x="21647" y="0"/>
                </a:lnTo>
                <a:lnTo>
                  <a:pt x="21647" y="21600"/>
                </a:lnTo>
                <a:lnTo>
                  <a:pt x="0" y="21600"/>
                </a:lnTo>
                <a:close/>
              </a:path>
              <a:path fill="lightenLess" w="21647" h="21600">
                <a:moveTo>
                  <a:pt x="0" y="0"/>
                </a:moveTo>
                <a:lnTo>
                  <a:pt x="21647" y="0"/>
                </a:lnTo>
                <a:lnTo>
                  <a:pt x="20248" y="1400"/>
                </a:lnTo>
                <a:lnTo>
                  <a:pt x="1400" y="1400"/>
                </a:lnTo>
                <a:close/>
              </a:path>
              <a:path fill="darken" w="21647" h="21600">
                <a:moveTo>
                  <a:pt x="21647" y="0"/>
                </a:moveTo>
                <a:lnTo>
                  <a:pt x="21647" y="21600"/>
                </a:lnTo>
                <a:lnTo>
                  <a:pt x="20248" y="20200"/>
                </a:lnTo>
                <a:lnTo>
                  <a:pt x="20248" y="1400"/>
                </a:lnTo>
                <a:close/>
              </a:path>
              <a:path fill="darkenLess" w="21647" h="21600">
                <a:moveTo>
                  <a:pt x="216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8" y="20200"/>
                </a:lnTo>
                <a:close/>
              </a:path>
              <a:path fill="lighten" w="216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7" name="">
            <a:hlinkClick r:id="rId4" action="ppaction://hlinksldjump"/>
          </p:cNvPr>
          <p:cNvSpPr/>
          <p:nvPr/>
        </p:nvSpPr>
        <p:spPr>
          <a:xfrm>
            <a:off x="7831080" y="4884840"/>
            <a:ext cx="163440" cy="163440"/>
          </a:xfrm>
          <a:custGeom>
            <a:avLst/>
            <a:gdLst>
              <a:gd name="textAreaLeft" fmla="*/ 10440 w 163440"/>
              <a:gd name="textAreaRight" fmla="*/ 153000 w 163440"/>
              <a:gd name="textAreaTop" fmla="*/ 10440 h 163440"/>
              <a:gd name="textAreaBottom" fmla="*/ 153000 h 16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8" name="">
            <a:hlinkClick r:id="" action="ppaction://hlinkshowjump?jump=nextslide"/>
          </p:cNvPr>
          <p:cNvSpPr/>
          <p:nvPr/>
        </p:nvSpPr>
        <p:spPr>
          <a:xfrm>
            <a:off x="8251920" y="4884840"/>
            <a:ext cx="163440" cy="163440"/>
          </a:xfrm>
          <a:custGeom>
            <a:avLst/>
            <a:gdLst>
              <a:gd name="textAreaLeft" fmla="*/ 10440 w 163440"/>
              <a:gd name="textAreaRight" fmla="*/ 153000 w 163440"/>
              <a:gd name="textAreaTop" fmla="*/ 10440 h 163440"/>
              <a:gd name="textAreaBottom" fmla="*/ 153000 h 16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9" name=""/>
          <p:cNvGrpSpPr/>
          <p:nvPr/>
        </p:nvGrpSpPr>
        <p:grpSpPr>
          <a:xfrm>
            <a:off x="217440" y="1506240"/>
            <a:ext cx="4290480" cy="3796920"/>
            <a:chOff x="217440" y="1506240"/>
            <a:chExt cx="4290480" cy="3796920"/>
          </a:xfrm>
        </p:grpSpPr>
        <p:grpSp>
          <p:nvGrpSpPr>
            <p:cNvPr id="3070" name=""/>
            <p:cNvGrpSpPr/>
            <p:nvPr/>
          </p:nvGrpSpPr>
          <p:grpSpPr>
            <a:xfrm>
              <a:off x="217440" y="1506240"/>
              <a:ext cx="4290480" cy="3654720"/>
              <a:chOff x="217440" y="1506240"/>
              <a:chExt cx="4290480" cy="3654720"/>
            </a:xfrm>
          </p:grpSpPr>
          <p:grpSp>
            <p:nvGrpSpPr>
              <p:cNvPr id="3071" name=""/>
              <p:cNvGrpSpPr/>
              <p:nvPr/>
            </p:nvGrpSpPr>
            <p:grpSpPr>
              <a:xfrm>
                <a:off x="400320" y="2944080"/>
                <a:ext cx="3893040" cy="1488960"/>
                <a:chOff x="400320" y="2944080"/>
                <a:chExt cx="3893040" cy="1488960"/>
              </a:xfrm>
            </p:grpSpPr>
            <p:grpSp>
              <p:nvGrpSpPr>
                <p:cNvPr id="3072" name=""/>
                <p:cNvGrpSpPr/>
                <p:nvPr/>
              </p:nvGrpSpPr>
              <p:grpSpPr>
                <a:xfrm>
                  <a:off x="634680" y="3202560"/>
                  <a:ext cx="1022040" cy="1008720"/>
                  <a:chOff x="634680" y="3202560"/>
                  <a:chExt cx="1022040" cy="1008720"/>
                </a:xfrm>
              </p:grpSpPr>
              <p:sp>
                <p:nvSpPr>
                  <p:cNvPr id="3073" name=""/>
                  <p:cNvSpPr/>
                  <p:nvPr/>
                </p:nvSpPr>
                <p:spPr>
                  <a:xfrm>
                    <a:off x="1544760" y="3202560"/>
                    <a:ext cx="111960" cy="1116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4" name=""/>
                  <p:cNvSpPr/>
                  <p:nvPr/>
                </p:nvSpPr>
                <p:spPr>
                  <a:xfrm>
                    <a:off x="1312200" y="3414240"/>
                    <a:ext cx="111960" cy="11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5" name=""/>
                  <p:cNvSpPr/>
                  <p:nvPr/>
                </p:nvSpPr>
                <p:spPr>
                  <a:xfrm>
                    <a:off x="1089720" y="3633480"/>
                    <a:ext cx="111960" cy="1119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6" name=""/>
                  <p:cNvSpPr/>
                  <p:nvPr/>
                </p:nvSpPr>
                <p:spPr>
                  <a:xfrm>
                    <a:off x="860400" y="3861720"/>
                    <a:ext cx="112680" cy="1119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7" name=""/>
                  <p:cNvSpPr/>
                  <p:nvPr/>
                </p:nvSpPr>
                <p:spPr>
                  <a:xfrm>
                    <a:off x="634680" y="4099320"/>
                    <a:ext cx="111960" cy="1119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78" name=""/>
                <p:cNvGrpSpPr/>
                <p:nvPr/>
              </p:nvGrpSpPr>
              <p:grpSpPr>
                <a:xfrm>
                  <a:off x="3058200" y="3184560"/>
                  <a:ext cx="1005840" cy="1019520"/>
                  <a:chOff x="3058200" y="3184560"/>
                  <a:chExt cx="1005840" cy="1019520"/>
                </a:xfrm>
              </p:grpSpPr>
              <p:sp>
                <p:nvSpPr>
                  <p:cNvPr id="3079" name=""/>
                  <p:cNvSpPr/>
                  <p:nvPr/>
                </p:nvSpPr>
                <p:spPr>
                  <a:xfrm>
                    <a:off x="3952080" y="3184560"/>
                    <a:ext cx="111960" cy="1116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0" name=""/>
                  <p:cNvSpPr/>
                  <p:nvPr/>
                </p:nvSpPr>
                <p:spPr>
                  <a:xfrm>
                    <a:off x="3727440" y="3407040"/>
                    <a:ext cx="112320" cy="11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1" name=""/>
                  <p:cNvSpPr/>
                  <p:nvPr/>
                </p:nvSpPr>
                <p:spPr>
                  <a:xfrm>
                    <a:off x="3504960" y="3626280"/>
                    <a:ext cx="111960" cy="1116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2" name=""/>
                  <p:cNvSpPr/>
                  <p:nvPr/>
                </p:nvSpPr>
                <p:spPr>
                  <a:xfrm>
                    <a:off x="3270240" y="3854160"/>
                    <a:ext cx="114840" cy="11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3" name=""/>
                  <p:cNvSpPr/>
                  <p:nvPr/>
                </p:nvSpPr>
                <p:spPr>
                  <a:xfrm>
                    <a:off x="3058200" y="4092120"/>
                    <a:ext cx="111960" cy="1119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84" name=""/>
                <p:cNvGrpSpPr/>
                <p:nvPr/>
              </p:nvGrpSpPr>
              <p:grpSpPr>
                <a:xfrm>
                  <a:off x="1760040" y="2944080"/>
                  <a:ext cx="2533320" cy="114840"/>
                  <a:chOff x="1760040" y="2944080"/>
                  <a:chExt cx="2533320" cy="114840"/>
                </a:xfrm>
              </p:grpSpPr>
              <p:sp>
                <p:nvSpPr>
                  <p:cNvPr id="3085" name=""/>
                  <p:cNvSpPr/>
                  <p:nvPr/>
                </p:nvSpPr>
                <p:spPr>
                  <a:xfrm>
                    <a:off x="4181400" y="2946960"/>
                    <a:ext cx="111960" cy="1119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6" name=""/>
                  <p:cNvSpPr/>
                  <p:nvPr/>
                </p:nvSpPr>
                <p:spPr>
                  <a:xfrm>
                    <a:off x="1760040" y="2944080"/>
                    <a:ext cx="112320" cy="11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7" name=""/>
                  <p:cNvSpPr/>
                  <p:nvPr/>
                </p:nvSpPr>
                <p:spPr>
                  <a:xfrm>
                    <a:off x="3390120" y="2944080"/>
                    <a:ext cx="112320" cy="11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8" name=""/>
                  <p:cNvSpPr/>
                  <p:nvPr/>
                </p:nvSpPr>
                <p:spPr>
                  <a:xfrm>
                    <a:off x="2169720" y="2944080"/>
                    <a:ext cx="111960" cy="1119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9" name=""/>
                  <p:cNvSpPr/>
                  <p:nvPr/>
                </p:nvSpPr>
                <p:spPr>
                  <a:xfrm>
                    <a:off x="2548800" y="2944080"/>
                    <a:ext cx="111960" cy="1119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0" name=""/>
                  <p:cNvSpPr/>
                  <p:nvPr/>
                </p:nvSpPr>
                <p:spPr>
                  <a:xfrm>
                    <a:off x="2952720" y="2944080"/>
                    <a:ext cx="111960" cy="1119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1" name=""/>
                  <p:cNvSpPr/>
                  <p:nvPr/>
                </p:nvSpPr>
                <p:spPr>
                  <a:xfrm>
                    <a:off x="3795480" y="2944080"/>
                    <a:ext cx="111960" cy="1119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92" name=""/>
                <p:cNvGrpSpPr/>
                <p:nvPr/>
              </p:nvGrpSpPr>
              <p:grpSpPr>
                <a:xfrm>
                  <a:off x="400320" y="4320720"/>
                  <a:ext cx="2527920" cy="112320"/>
                  <a:chOff x="400320" y="4320720"/>
                  <a:chExt cx="2527920" cy="112320"/>
                </a:xfrm>
              </p:grpSpPr>
              <p:sp>
                <p:nvSpPr>
                  <p:cNvPr id="3093" name=""/>
                  <p:cNvSpPr/>
                  <p:nvPr/>
                </p:nvSpPr>
                <p:spPr>
                  <a:xfrm>
                    <a:off x="2815920" y="4320720"/>
                    <a:ext cx="112320" cy="11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4" name=""/>
                  <p:cNvSpPr/>
                  <p:nvPr/>
                </p:nvSpPr>
                <p:spPr>
                  <a:xfrm>
                    <a:off x="400320" y="4320720"/>
                    <a:ext cx="111960" cy="11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5" name=""/>
                  <p:cNvSpPr/>
                  <p:nvPr/>
                </p:nvSpPr>
                <p:spPr>
                  <a:xfrm>
                    <a:off x="806760" y="4320720"/>
                    <a:ext cx="111960" cy="11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6" name=""/>
                  <p:cNvSpPr/>
                  <p:nvPr/>
                </p:nvSpPr>
                <p:spPr>
                  <a:xfrm>
                    <a:off x="1194120" y="4320720"/>
                    <a:ext cx="111960" cy="11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7" name=""/>
                  <p:cNvSpPr/>
                  <p:nvPr/>
                </p:nvSpPr>
                <p:spPr>
                  <a:xfrm>
                    <a:off x="2034000" y="4320720"/>
                    <a:ext cx="111960" cy="11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8" name=""/>
                  <p:cNvSpPr/>
                  <p:nvPr/>
                </p:nvSpPr>
                <p:spPr>
                  <a:xfrm>
                    <a:off x="2421720" y="4320720"/>
                    <a:ext cx="111960" cy="11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99" name=""/>
              <p:cNvGrpSpPr/>
              <p:nvPr/>
            </p:nvGrpSpPr>
            <p:grpSpPr>
              <a:xfrm>
                <a:off x="467640" y="2103120"/>
                <a:ext cx="3792240" cy="2197080"/>
                <a:chOff x="467640" y="2103120"/>
                <a:chExt cx="3792240" cy="2197080"/>
              </a:xfrm>
            </p:grpSpPr>
            <p:grpSp>
              <p:nvGrpSpPr>
                <p:cNvPr id="3100" name=""/>
                <p:cNvGrpSpPr/>
                <p:nvPr/>
              </p:nvGrpSpPr>
              <p:grpSpPr>
                <a:xfrm>
                  <a:off x="1820880" y="2103120"/>
                  <a:ext cx="2439000" cy="822600"/>
                  <a:chOff x="1820880" y="2103120"/>
                  <a:chExt cx="2439000" cy="822600"/>
                </a:xfrm>
              </p:grpSpPr>
              <p:sp>
                <p:nvSpPr>
                  <p:cNvPr id="3101" name=""/>
                  <p:cNvSpPr/>
                  <p:nvPr/>
                </p:nvSpPr>
                <p:spPr>
                  <a:xfrm>
                    <a:off x="1845720" y="2103120"/>
                    <a:ext cx="241416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2" name=""/>
                  <p:cNvSpPr/>
                  <p:nvPr/>
                </p:nvSpPr>
                <p:spPr>
                  <a:xfrm>
                    <a:off x="1838880" y="2343600"/>
                    <a:ext cx="241416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3" name=""/>
                  <p:cNvSpPr/>
                  <p:nvPr/>
                </p:nvSpPr>
                <p:spPr>
                  <a:xfrm>
                    <a:off x="1830240" y="2738880"/>
                    <a:ext cx="242568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4" name=""/>
                  <p:cNvSpPr/>
                  <p:nvPr/>
                </p:nvSpPr>
                <p:spPr>
                  <a:xfrm>
                    <a:off x="1839960" y="2541240"/>
                    <a:ext cx="241596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5" name=""/>
                  <p:cNvSpPr/>
                  <p:nvPr/>
                </p:nvSpPr>
                <p:spPr>
                  <a:xfrm>
                    <a:off x="1820880" y="2925720"/>
                    <a:ext cx="241416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06" name=""/>
                <p:cNvGrpSpPr/>
                <p:nvPr/>
              </p:nvGrpSpPr>
              <p:grpSpPr>
                <a:xfrm>
                  <a:off x="467640" y="3464640"/>
                  <a:ext cx="2427120" cy="835560"/>
                  <a:chOff x="467640" y="3464640"/>
                  <a:chExt cx="2427120" cy="835560"/>
                </a:xfrm>
              </p:grpSpPr>
              <p:sp>
                <p:nvSpPr>
                  <p:cNvPr id="3107" name=""/>
                  <p:cNvSpPr/>
                  <p:nvPr/>
                </p:nvSpPr>
                <p:spPr>
                  <a:xfrm>
                    <a:off x="2102400" y="4300200"/>
                    <a:ext cx="78588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8" name=""/>
                  <p:cNvSpPr/>
                  <p:nvPr/>
                </p:nvSpPr>
                <p:spPr>
                  <a:xfrm>
                    <a:off x="480600" y="3464640"/>
                    <a:ext cx="241416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9" name=""/>
                  <p:cNvSpPr/>
                  <p:nvPr/>
                </p:nvSpPr>
                <p:spPr>
                  <a:xfrm>
                    <a:off x="474120" y="3705120"/>
                    <a:ext cx="241416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0" name=""/>
                  <p:cNvSpPr/>
                  <p:nvPr/>
                </p:nvSpPr>
                <p:spPr>
                  <a:xfrm>
                    <a:off x="2098440" y="4100040"/>
                    <a:ext cx="79236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1" name=""/>
                  <p:cNvSpPr/>
                  <p:nvPr/>
                </p:nvSpPr>
                <p:spPr>
                  <a:xfrm>
                    <a:off x="467640" y="3902760"/>
                    <a:ext cx="79488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2" name=""/>
                  <p:cNvSpPr/>
                  <p:nvPr/>
                </p:nvSpPr>
                <p:spPr>
                  <a:xfrm>
                    <a:off x="2098440" y="3902760"/>
                    <a:ext cx="79236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3" name=""/>
                  <p:cNvSpPr/>
                  <p:nvPr/>
                </p:nvSpPr>
                <p:spPr>
                  <a:xfrm>
                    <a:off x="474120" y="4100040"/>
                    <a:ext cx="79488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4" name=""/>
                  <p:cNvSpPr/>
                  <p:nvPr/>
                </p:nvSpPr>
                <p:spPr>
                  <a:xfrm>
                    <a:off x="474120" y="4295520"/>
                    <a:ext cx="78588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15" name=""/>
              <p:cNvGrpSpPr/>
              <p:nvPr/>
            </p:nvGrpSpPr>
            <p:grpSpPr>
              <a:xfrm>
                <a:off x="465840" y="1904040"/>
                <a:ext cx="3783240" cy="2392920"/>
                <a:chOff x="465840" y="1904040"/>
                <a:chExt cx="3783240" cy="2392920"/>
              </a:xfrm>
            </p:grpSpPr>
            <p:sp>
              <p:nvSpPr>
                <p:cNvPr id="3116" name=""/>
                <p:cNvSpPr/>
                <p:nvPr/>
              </p:nvSpPr>
              <p:spPr>
                <a:xfrm>
                  <a:off x="1681560" y="3286080"/>
                  <a:ext cx="0" cy="417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17" name=""/>
                <p:cNvGrpSpPr/>
                <p:nvPr/>
              </p:nvGrpSpPr>
              <p:grpSpPr>
                <a:xfrm>
                  <a:off x="465840" y="1904040"/>
                  <a:ext cx="3783240" cy="2392920"/>
                  <a:chOff x="465840" y="1904040"/>
                  <a:chExt cx="3783240" cy="2392920"/>
                </a:xfrm>
              </p:grpSpPr>
              <p:grpSp>
                <p:nvGrpSpPr>
                  <p:cNvPr id="3118" name=""/>
                  <p:cNvGrpSpPr/>
                  <p:nvPr/>
                </p:nvGrpSpPr>
                <p:grpSpPr>
                  <a:xfrm>
                    <a:off x="1835280" y="1904040"/>
                    <a:ext cx="2413800" cy="1018800"/>
                    <a:chOff x="1835280" y="1904040"/>
                    <a:chExt cx="2413800" cy="1018800"/>
                  </a:xfrm>
                </p:grpSpPr>
                <p:sp>
                  <p:nvSpPr>
                    <p:cNvPr id="3119" name=""/>
                    <p:cNvSpPr/>
                    <p:nvPr/>
                  </p:nvSpPr>
                  <p:spPr>
                    <a:xfrm>
                      <a:off x="3862800" y="2030040"/>
                      <a:ext cx="0" cy="8924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20" name=""/>
                    <p:cNvSpPr/>
                    <p:nvPr/>
                  </p:nvSpPr>
                  <p:spPr>
                    <a:xfrm>
                      <a:off x="4249080" y="2097360"/>
                      <a:ext cx="0" cy="8254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21" name=""/>
                    <p:cNvSpPr/>
                    <p:nvPr/>
                  </p:nvSpPr>
                  <p:spPr>
                    <a:xfrm>
                      <a:off x="3459960" y="1977480"/>
                      <a:ext cx="0" cy="9453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22" name=""/>
                    <p:cNvSpPr/>
                    <p:nvPr/>
                  </p:nvSpPr>
                  <p:spPr>
                    <a:xfrm>
                      <a:off x="3043080" y="1904040"/>
                      <a:ext cx="0" cy="10188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23" name=""/>
                    <p:cNvSpPr/>
                    <p:nvPr/>
                  </p:nvSpPr>
                  <p:spPr>
                    <a:xfrm>
                      <a:off x="2624400" y="1968120"/>
                      <a:ext cx="0" cy="9547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24" name=""/>
                    <p:cNvSpPr/>
                    <p:nvPr/>
                  </p:nvSpPr>
                  <p:spPr>
                    <a:xfrm>
                      <a:off x="1835280" y="2093400"/>
                      <a:ext cx="0" cy="8294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25" name=""/>
                    <p:cNvSpPr/>
                    <p:nvPr/>
                  </p:nvSpPr>
                  <p:spPr>
                    <a:xfrm>
                      <a:off x="2238840" y="2036520"/>
                      <a:ext cx="0" cy="8859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26" name=""/>
                  <p:cNvGrpSpPr/>
                  <p:nvPr/>
                </p:nvGrpSpPr>
                <p:grpSpPr>
                  <a:xfrm>
                    <a:off x="465840" y="3338280"/>
                    <a:ext cx="2422080" cy="958680"/>
                    <a:chOff x="465840" y="3338280"/>
                    <a:chExt cx="2422080" cy="958680"/>
                  </a:xfrm>
                </p:grpSpPr>
                <p:sp>
                  <p:nvSpPr>
                    <p:cNvPr id="3127" name=""/>
                    <p:cNvSpPr/>
                    <p:nvPr/>
                  </p:nvSpPr>
                  <p:spPr>
                    <a:xfrm>
                      <a:off x="2501640" y="3400200"/>
                      <a:ext cx="0" cy="8967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28" name=""/>
                    <p:cNvSpPr/>
                    <p:nvPr/>
                  </p:nvSpPr>
                  <p:spPr>
                    <a:xfrm>
                      <a:off x="2887920" y="3463200"/>
                      <a:ext cx="0" cy="8254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29" name=""/>
                    <p:cNvSpPr/>
                    <p:nvPr/>
                  </p:nvSpPr>
                  <p:spPr>
                    <a:xfrm>
                      <a:off x="2098800" y="3343320"/>
                      <a:ext cx="0" cy="9496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30" name=""/>
                    <p:cNvSpPr/>
                    <p:nvPr/>
                  </p:nvSpPr>
                  <p:spPr>
                    <a:xfrm>
                      <a:off x="1263240" y="3338280"/>
                      <a:ext cx="0" cy="9547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31" name=""/>
                    <p:cNvSpPr/>
                    <p:nvPr/>
                  </p:nvSpPr>
                  <p:spPr>
                    <a:xfrm flipH="1">
                      <a:off x="465840" y="3459240"/>
                      <a:ext cx="7920" cy="8377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32" name=""/>
                    <p:cNvSpPr/>
                    <p:nvPr/>
                  </p:nvSpPr>
                  <p:spPr>
                    <a:xfrm>
                      <a:off x="877680" y="3406680"/>
                      <a:ext cx="0" cy="8863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3133" name=""/>
              <p:cNvGrpSpPr/>
              <p:nvPr/>
            </p:nvGrpSpPr>
            <p:grpSpPr>
              <a:xfrm>
                <a:off x="468720" y="1905840"/>
                <a:ext cx="3787560" cy="1552680"/>
                <a:chOff x="468720" y="1905840"/>
                <a:chExt cx="3787560" cy="1552680"/>
              </a:xfrm>
            </p:grpSpPr>
            <p:grpSp>
              <p:nvGrpSpPr>
                <p:cNvPr id="3134" name=""/>
                <p:cNvGrpSpPr/>
                <p:nvPr/>
              </p:nvGrpSpPr>
              <p:grpSpPr>
                <a:xfrm>
                  <a:off x="468720" y="3043080"/>
                  <a:ext cx="2642760" cy="415440"/>
                  <a:chOff x="468720" y="3043080"/>
                  <a:chExt cx="2642760" cy="415440"/>
                </a:xfrm>
              </p:grpSpPr>
              <p:sp>
                <p:nvSpPr>
                  <p:cNvPr id="3135" name=""/>
                  <p:cNvSpPr/>
                  <p:nvPr/>
                </p:nvSpPr>
                <p:spPr>
                  <a:xfrm flipH="1" flipV="1">
                    <a:off x="1904040" y="3045600"/>
                    <a:ext cx="205200" cy="2901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6" name=""/>
                  <p:cNvSpPr/>
                  <p:nvPr/>
                </p:nvSpPr>
                <p:spPr>
                  <a:xfrm flipH="1">
                    <a:off x="1249920" y="3045600"/>
                    <a:ext cx="653760" cy="2901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7" name=""/>
                  <p:cNvSpPr/>
                  <p:nvPr/>
                </p:nvSpPr>
                <p:spPr>
                  <a:xfrm flipH="1" flipV="1">
                    <a:off x="2697840" y="3156480"/>
                    <a:ext cx="185400" cy="302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8" name=""/>
                  <p:cNvSpPr/>
                  <p:nvPr/>
                </p:nvSpPr>
                <p:spPr>
                  <a:xfrm flipV="1">
                    <a:off x="2496600" y="3229920"/>
                    <a:ext cx="614880" cy="171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9" name=""/>
                  <p:cNvSpPr/>
                  <p:nvPr/>
                </p:nvSpPr>
                <p:spPr>
                  <a:xfrm flipH="1" flipV="1">
                    <a:off x="2309040" y="3113280"/>
                    <a:ext cx="186840" cy="2876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0" name=""/>
                  <p:cNvSpPr/>
                  <p:nvPr/>
                </p:nvSpPr>
                <p:spPr>
                  <a:xfrm flipH="1">
                    <a:off x="2093400" y="3165840"/>
                    <a:ext cx="636840" cy="1699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1" name=""/>
                  <p:cNvSpPr/>
                  <p:nvPr/>
                </p:nvSpPr>
                <p:spPr>
                  <a:xfrm flipH="1">
                    <a:off x="1708920" y="3113640"/>
                    <a:ext cx="600120" cy="1555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2" name=""/>
                  <p:cNvSpPr/>
                  <p:nvPr/>
                </p:nvSpPr>
                <p:spPr>
                  <a:xfrm flipH="1" flipV="1">
                    <a:off x="1478520" y="3100680"/>
                    <a:ext cx="230040" cy="1684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3" name=""/>
                  <p:cNvSpPr/>
                  <p:nvPr/>
                </p:nvSpPr>
                <p:spPr>
                  <a:xfrm flipH="1" flipV="1">
                    <a:off x="1099440" y="3165480"/>
                    <a:ext cx="158400" cy="1738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4" name=""/>
                  <p:cNvSpPr/>
                  <p:nvPr/>
                </p:nvSpPr>
                <p:spPr>
                  <a:xfrm flipH="1">
                    <a:off x="870120" y="3113640"/>
                    <a:ext cx="608040" cy="2876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5" name=""/>
                  <p:cNvSpPr/>
                  <p:nvPr/>
                </p:nvSpPr>
                <p:spPr>
                  <a:xfrm flipH="1" flipV="1">
                    <a:off x="696600" y="3229920"/>
                    <a:ext cx="176400" cy="163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6" name=""/>
                  <p:cNvSpPr/>
                  <p:nvPr/>
                </p:nvSpPr>
                <p:spPr>
                  <a:xfrm flipH="1">
                    <a:off x="468720" y="3165840"/>
                    <a:ext cx="630360" cy="292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7" name=""/>
                  <p:cNvSpPr/>
                  <p:nvPr/>
                </p:nvSpPr>
                <p:spPr>
                  <a:xfrm flipV="1">
                    <a:off x="2880000" y="3229920"/>
                    <a:ext cx="223560" cy="2235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8" name=""/>
                  <p:cNvSpPr/>
                  <p:nvPr/>
                </p:nvSpPr>
                <p:spPr>
                  <a:xfrm flipV="1">
                    <a:off x="1693080" y="3043080"/>
                    <a:ext cx="223560" cy="2235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9" name=""/>
                  <p:cNvSpPr/>
                  <p:nvPr/>
                </p:nvSpPr>
                <p:spPr>
                  <a:xfrm flipV="1">
                    <a:off x="2099520" y="3107880"/>
                    <a:ext cx="223560" cy="2235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0" name=""/>
                  <p:cNvSpPr/>
                  <p:nvPr/>
                </p:nvSpPr>
                <p:spPr>
                  <a:xfrm flipV="1">
                    <a:off x="473040" y="3225960"/>
                    <a:ext cx="223560" cy="2235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1" name=""/>
                  <p:cNvSpPr/>
                  <p:nvPr/>
                </p:nvSpPr>
                <p:spPr>
                  <a:xfrm flipV="1">
                    <a:off x="879840" y="3164760"/>
                    <a:ext cx="223560" cy="2235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2" name=""/>
                  <p:cNvSpPr/>
                  <p:nvPr/>
                </p:nvSpPr>
                <p:spPr>
                  <a:xfrm flipV="1">
                    <a:off x="1262160" y="3107880"/>
                    <a:ext cx="223560" cy="2235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3" name=""/>
                  <p:cNvSpPr/>
                  <p:nvPr/>
                </p:nvSpPr>
                <p:spPr>
                  <a:xfrm flipV="1">
                    <a:off x="692640" y="3047400"/>
                    <a:ext cx="1215360" cy="1828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4" name=""/>
                  <p:cNvSpPr/>
                  <p:nvPr/>
                </p:nvSpPr>
                <p:spPr>
                  <a:xfrm flipV="1">
                    <a:off x="473040" y="3274920"/>
                    <a:ext cx="1215360" cy="1828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5" name=""/>
                  <p:cNvSpPr/>
                  <p:nvPr/>
                </p:nvSpPr>
                <p:spPr>
                  <a:xfrm>
                    <a:off x="1688760" y="3274920"/>
                    <a:ext cx="1182960" cy="1828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6" name=""/>
                  <p:cNvSpPr/>
                  <p:nvPr/>
                </p:nvSpPr>
                <p:spPr>
                  <a:xfrm>
                    <a:off x="1912320" y="3047400"/>
                    <a:ext cx="1182960" cy="1828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7" name=""/>
                  <p:cNvSpPr/>
                  <p:nvPr/>
                </p:nvSpPr>
                <p:spPr>
                  <a:xfrm flipV="1">
                    <a:off x="2485800" y="3177000"/>
                    <a:ext cx="223560" cy="2235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58" name=""/>
                <p:cNvGrpSpPr/>
                <p:nvPr/>
              </p:nvGrpSpPr>
              <p:grpSpPr>
                <a:xfrm>
                  <a:off x="1613520" y="1905840"/>
                  <a:ext cx="2642760" cy="415440"/>
                  <a:chOff x="1613520" y="1905840"/>
                  <a:chExt cx="2642760" cy="415440"/>
                </a:xfrm>
              </p:grpSpPr>
              <p:sp>
                <p:nvSpPr>
                  <p:cNvPr id="3159" name=""/>
                  <p:cNvSpPr/>
                  <p:nvPr/>
                </p:nvSpPr>
                <p:spPr>
                  <a:xfrm flipH="1" flipV="1">
                    <a:off x="3048840" y="1908360"/>
                    <a:ext cx="205200" cy="2901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0" name=""/>
                  <p:cNvSpPr/>
                  <p:nvPr/>
                </p:nvSpPr>
                <p:spPr>
                  <a:xfrm flipH="1">
                    <a:off x="2394720" y="1908360"/>
                    <a:ext cx="653760" cy="2901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1" name=""/>
                  <p:cNvSpPr/>
                  <p:nvPr/>
                </p:nvSpPr>
                <p:spPr>
                  <a:xfrm flipH="1" flipV="1">
                    <a:off x="3842640" y="2019240"/>
                    <a:ext cx="185400" cy="302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2" name=""/>
                  <p:cNvSpPr/>
                  <p:nvPr/>
                </p:nvSpPr>
                <p:spPr>
                  <a:xfrm flipV="1">
                    <a:off x="3641400" y="2092680"/>
                    <a:ext cx="614880" cy="171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3" name=""/>
                  <p:cNvSpPr/>
                  <p:nvPr/>
                </p:nvSpPr>
                <p:spPr>
                  <a:xfrm flipH="1" flipV="1">
                    <a:off x="3453840" y="1976040"/>
                    <a:ext cx="186840" cy="2876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4" name=""/>
                  <p:cNvSpPr/>
                  <p:nvPr/>
                </p:nvSpPr>
                <p:spPr>
                  <a:xfrm flipH="1">
                    <a:off x="3238200" y="2028600"/>
                    <a:ext cx="636840" cy="1699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5" name=""/>
                  <p:cNvSpPr/>
                  <p:nvPr/>
                </p:nvSpPr>
                <p:spPr>
                  <a:xfrm flipH="1">
                    <a:off x="2853720" y="1976400"/>
                    <a:ext cx="600120" cy="1555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6" name=""/>
                  <p:cNvSpPr/>
                  <p:nvPr/>
                </p:nvSpPr>
                <p:spPr>
                  <a:xfrm flipH="1" flipV="1">
                    <a:off x="2623320" y="1963440"/>
                    <a:ext cx="230040" cy="1684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7" name=""/>
                  <p:cNvSpPr/>
                  <p:nvPr/>
                </p:nvSpPr>
                <p:spPr>
                  <a:xfrm flipH="1" flipV="1">
                    <a:off x="2244240" y="2028240"/>
                    <a:ext cx="158400" cy="1738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8" name=""/>
                  <p:cNvSpPr/>
                  <p:nvPr/>
                </p:nvSpPr>
                <p:spPr>
                  <a:xfrm flipH="1">
                    <a:off x="2014920" y="1976400"/>
                    <a:ext cx="608040" cy="2876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9" name=""/>
                  <p:cNvSpPr/>
                  <p:nvPr/>
                </p:nvSpPr>
                <p:spPr>
                  <a:xfrm flipH="1" flipV="1">
                    <a:off x="1841400" y="2092680"/>
                    <a:ext cx="176400" cy="163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0" name=""/>
                  <p:cNvSpPr/>
                  <p:nvPr/>
                </p:nvSpPr>
                <p:spPr>
                  <a:xfrm flipH="1">
                    <a:off x="1613520" y="2028600"/>
                    <a:ext cx="630360" cy="292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1" name=""/>
                  <p:cNvSpPr/>
                  <p:nvPr/>
                </p:nvSpPr>
                <p:spPr>
                  <a:xfrm flipV="1">
                    <a:off x="4024800" y="2092680"/>
                    <a:ext cx="223560" cy="2235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2" name=""/>
                  <p:cNvSpPr/>
                  <p:nvPr/>
                </p:nvSpPr>
                <p:spPr>
                  <a:xfrm flipV="1">
                    <a:off x="2837880" y="1905840"/>
                    <a:ext cx="223560" cy="2235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3" name=""/>
                  <p:cNvSpPr/>
                  <p:nvPr/>
                </p:nvSpPr>
                <p:spPr>
                  <a:xfrm flipV="1">
                    <a:off x="3244320" y="1970640"/>
                    <a:ext cx="223560" cy="2235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4" name=""/>
                  <p:cNvSpPr/>
                  <p:nvPr/>
                </p:nvSpPr>
                <p:spPr>
                  <a:xfrm flipV="1">
                    <a:off x="1617840" y="2088720"/>
                    <a:ext cx="223560" cy="2235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5" name=""/>
                  <p:cNvSpPr/>
                  <p:nvPr/>
                </p:nvSpPr>
                <p:spPr>
                  <a:xfrm flipV="1">
                    <a:off x="2024640" y="2027520"/>
                    <a:ext cx="223560" cy="2235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6" name=""/>
                  <p:cNvSpPr/>
                  <p:nvPr/>
                </p:nvSpPr>
                <p:spPr>
                  <a:xfrm flipV="1">
                    <a:off x="2406960" y="1970640"/>
                    <a:ext cx="223560" cy="2235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7" name=""/>
                  <p:cNvSpPr/>
                  <p:nvPr/>
                </p:nvSpPr>
                <p:spPr>
                  <a:xfrm flipV="1">
                    <a:off x="1837440" y="1910160"/>
                    <a:ext cx="1215360" cy="1828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8" name=""/>
                  <p:cNvSpPr/>
                  <p:nvPr/>
                </p:nvSpPr>
                <p:spPr>
                  <a:xfrm flipV="1">
                    <a:off x="1617840" y="2137680"/>
                    <a:ext cx="1215360" cy="1828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9" name=""/>
                  <p:cNvSpPr/>
                  <p:nvPr/>
                </p:nvSpPr>
                <p:spPr>
                  <a:xfrm>
                    <a:off x="2833560" y="2137680"/>
                    <a:ext cx="1182960" cy="1828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0" name=""/>
                  <p:cNvSpPr/>
                  <p:nvPr/>
                </p:nvSpPr>
                <p:spPr>
                  <a:xfrm>
                    <a:off x="3057120" y="1910160"/>
                    <a:ext cx="1182960" cy="1828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1" name=""/>
                  <p:cNvSpPr/>
                  <p:nvPr/>
                </p:nvSpPr>
                <p:spPr>
                  <a:xfrm flipV="1">
                    <a:off x="3630600" y="2039760"/>
                    <a:ext cx="223560" cy="2235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82" name=""/>
              <p:cNvGrpSpPr/>
              <p:nvPr/>
            </p:nvGrpSpPr>
            <p:grpSpPr>
              <a:xfrm>
                <a:off x="465480" y="2088360"/>
                <a:ext cx="3785400" cy="2214720"/>
                <a:chOff x="465480" y="2088360"/>
                <a:chExt cx="3785400" cy="2214720"/>
              </a:xfrm>
            </p:grpSpPr>
            <p:grpSp>
              <p:nvGrpSpPr>
                <p:cNvPr id="3183" name=""/>
                <p:cNvGrpSpPr/>
                <p:nvPr/>
              </p:nvGrpSpPr>
              <p:grpSpPr>
                <a:xfrm>
                  <a:off x="2880360" y="3226320"/>
                  <a:ext cx="232200" cy="1068480"/>
                  <a:chOff x="2880360" y="3226320"/>
                  <a:chExt cx="232200" cy="1068480"/>
                </a:xfrm>
              </p:grpSpPr>
              <p:sp>
                <p:nvSpPr>
                  <p:cNvPr id="3184" name=""/>
                  <p:cNvSpPr/>
                  <p:nvPr/>
                </p:nvSpPr>
                <p:spPr>
                  <a:xfrm flipV="1">
                    <a:off x="2884680" y="3672360"/>
                    <a:ext cx="227520" cy="622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5" name=""/>
                  <p:cNvSpPr/>
                  <p:nvPr/>
                </p:nvSpPr>
                <p:spPr>
                  <a:xfrm flipH="1" flipV="1">
                    <a:off x="2880360" y="3453480"/>
                    <a:ext cx="231480" cy="218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6" name=""/>
                  <p:cNvSpPr/>
                  <p:nvPr/>
                </p:nvSpPr>
                <p:spPr>
                  <a:xfrm flipH="1" flipV="1">
                    <a:off x="2884680" y="3888360"/>
                    <a:ext cx="227520" cy="1792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7" name=""/>
                  <p:cNvSpPr/>
                  <p:nvPr/>
                </p:nvSpPr>
                <p:spPr>
                  <a:xfrm flipV="1">
                    <a:off x="2884680" y="3229920"/>
                    <a:ext cx="227520" cy="659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8" name=""/>
                  <p:cNvSpPr/>
                  <p:nvPr/>
                </p:nvSpPr>
                <p:spPr>
                  <a:xfrm flipV="1">
                    <a:off x="2880720" y="3226320"/>
                    <a:ext cx="223560" cy="223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9" name=""/>
                  <p:cNvSpPr/>
                  <p:nvPr/>
                </p:nvSpPr>
                <p:spPr>
                  <a:xfrm>
                    <a:off x="2885040" y="3454200"/>
                    <a:ext cx="0" cy="8373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0" name=""/>
                  <p:cNvSpPr/>
                  <p:nvPr/>
                </p:nvSpPr>
                <p:spPr>
                  <a:xfrm flipV="1">
                    <a:off x="2885040" y="3669480"/>
                    <a:ext cx="223560" cy="223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1" name=""/>
                  <p:cNvSpPr/>
                  <p:nvPr/>
                </p:nvSpPr>
                <p:spPr>
                  <a:xfrm>
                    <a:off x="3112560" y="3234600"/>
                    <a:ext cx="0" cy="8373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92" name=""/>
                <p:cNvGrpSpPr/>
                <p:nvPr/>
              </p:nvGrpSpPr>
              <p:grpSpPr>
                <a:xfrm>
                  <a:off x="465480" y="3234600"/>
                  <a:ext cx="232200" cy="1068480"/>
                  <a:chOff x="465480" y="3234600"/>
                  <a:chExt cx="232200" cy="1068480"/>
                </a:xfrm>
              </p:grpSpPr>
              <p:sp>
                <p:nvSpPr>
                  <p:cNvPr id="3193" name=""/>
                  <p:cNvSpPr/>
                  <p:nvPr/>
                </p:nvSpPr>
                <p:spPr>
                  <a:xfrm flipV="1">
                    <a:off x="469800" y="3680640"/>
                    <a:ext cx="227520" cy="622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4" name=""/>
                  <p:cNvSpPr/>
                  <p:nvPr/>
                </p:nvSpPr>
                <p:spPr>
                  <a:xfrm flipH="1" flipV="1">
                    <a:off x="465480" y="3461760"/>
                    <a:ext cx="231480" cy="218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5" name=""/>
                  <p:cNvSpPr/>
                  <p:nvPr/>
                </p:nvSpPr>
                <p:spPr>
                  <a:xfrm flipH="1" flipV="1">
                    <a:off x="469800" y="3896640"/>
                    <a:ext cx="227520" cy="1792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6" name=""/>
                  <p:cNvSpPr/>
                  <p:nvPr/>
                </p:nvSpPr>
                <p:spPr>
                  <a:xfrm flipV="1">
                    <a:off x="469800" y="3238200"/>
                    <a:ext cx="227520" cy="659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7" name=""/>
                  <p:cNvSpPr/>
                  <p:nvPr/>
                </p:nvSpPr>
                <p:spPr>
                  <a:xfrm flipV="1">
                    <a:off x="465840" y="3234600"/>
                    <a:ext cx="223560" cy="223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8" name=""/>
                  <p:cNvSpPr/>
                  <p:nvPr/>
                </p:nvSpPr>
                <p:spPr>
                  <a:xfrm>
                    <a:off x="470160" y="3462480"/>
                    <a:ext cx="0" cy="8373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9" name=""/>
                  <p:cNvSpPr/>
                  <p:nvPr/>
                </p:nvSpPr>
                <p:spPr>
                  <a:xfrm flipV="1">
                    <a:off x="470160" y="3677760"/>
                    <a:ext cx="223560" cy="223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0" name=""/>
                  <p:cNvSpPr/>
                  <p:nvPr/>
                </p:nvSpPr>
                <p:spPr>
                  <a:xfrm>
                    <a:off x="697680" y="3242880"/>
                    <a:ext cx="0" cy="8373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01" name=""/>
                <p:cNvGrpSpPr/>
                <p:nvPr/>
              </p:nvGrpSpPr>
              <p:grpSpPr>
                <a:xfrm>
                  <a:off x="4018680" y="2088360"/>
                  <a:ext cx="232200" cy="1068480"/>
                  <a:chOff x="4018680" y="2088360"/>
                  <a:chExt cx="232200" cy="1068480"/>
                </a:xfrm>
              </p:grpSpPr>
              <p:sp>
                <p:nvSpPr>
                  <p:cNvPr id="3202" name=""/>
                  <p:cNvSpPr/>
                  <p:nvPr/>
                </p:nvSpPr>
                <p:spPr>
                  <a:xfrm flipV="1">
                    <a:off x="4023000" y="2534400"/>
                    <a:ext cx="227520" cy="622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3" name=""/>
                  <p:cNvSpPr/>
                  <p:nvPr/>
                </p:nvSpPr>
                <p:spPr>
                  <a:xfrm flipH="1" flipV="1">
                    <a:off x="4018680" y="2315520"/>
                    <a:ext cx="231480" cy="218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4" name=""/>
                  <p:cNvSpPr/>
                  <p:nvPr/>
                </p:nvSpPr>
                <p:spPr>
                  <a:xfrm flipH="1" flipV="1">
                    <a:off x="4023000" y="2750400"/>
                    <a:ext cx="227520" cy="1792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5" name=""/>
                  <p:cNvSpPr/>
                  <p:nvPr/>
                </p:nvSpPr>
                <p:spPr>
                  <a:xfrm flipV="1">
                    <a:off x="4023000" y="2091960"/>
                    <a:ext cx="227520" cy="659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6" name=""/>
                  <p:cNvSpPr/>
                  <p:nvPr/>
                </p:nvSpPr>
                <p:spPr>
                  <a:xfrm flipV="1">
                    <a:off x="4019040" y="2088360"/>
                    <a:ext cx="223560" cy="223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7" name=""/>
                  <p:cNvSpPr/>
                  <p:nvPr/>
                </p:nvSpPr>
                <p:spPr>
                  <a:xfrm>
                    <a:off x="4023360" y="2316240"/>
                    <a:ext cx="0" cy="8373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8" name=""/>
                  <p:cNvSpPr/>
                  <p:nvPr/>
                </p:nvSpPr>
                <p:spPr>
                  <a:xfrm flipV="1">
                    <a:off x="4023360" y="2531520"/>
                    <a:ext cx="223560" cy="223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9" name=""/>
                  <p:cNvSpPr/>
                  <p:nvPr/>
                </p:nvSpPr>
                <p:spPr>
                  <a:xfrm>
                    <a:off x="4250880" y="2096640"/>
                    <a:ext cx="0" cy="8373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10" name=""/>
                <p:cNvGrpSpPr/>
                <p:nvPr/>
              </p:nvGrpSpPr>
              <p:grpSpPr>
                <a:xfrm>
                  <a:off x="1603800" y="2100240"/>
                  <a:ext cx="232200" cy="1068480"/>
                  <a:chOff x="1603800" y="2100240"/>
                  <a:chExt cx="232200" cy="1068480"/>
                </a:xfrm>
              </p:grpSpPr>
              <p:sp>
                <p:nvSpPr>
                  <p:cNvPr id="3211" name=""/>
                  <p:cNvSpPr/>
                  <p:nvPr/>
                </p:nvSpPr>
                <p:spPr>
                  <a:xfrm flipV="1">
                    <a:off x="1608120" y="2546280"/>
                    <a:ext cx="227520" cy="622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2" name=""/>
                  <p:cNvSpPr/>
                  <p:nvPr/>
                </p:nvSpPr>
                <p:spPr>
                  <a:xfrm flipH="1" flipV="1">
                    <a:off x="1603800" y="2327400"/>
                    <a:ext cx="231480" cy="218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3" name=""/>
                  <p:cNvSpPr/>
                  <p:nvPr/>
                </p:nvSpPr>
                <p:spPr>
                  <a:xfrm flipH="1" flipV="1">
                    <a:off x="1608120" y="2762280"/>
                    <a:ext cx="227520" cy="1792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4" name=""/>
                  <p:cNvSpPr/>
                  <p:nvPr/>
                </p:nvSpPr>
                <p:spPr>
                  <a:xfrm flipV="1">
                    <a:off x="1608120" y="2103840"/>
                    <a:ext cx="227520" cy="659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5" name=""/>
                  <p:cNvSpPr/>
                  <p:nvPr/>
                </p:nvSpPr>
                <p:spPr>
                  <a:xfrm flipV="1">
                    <a:off x="1604160" y="2100240"/>
                    <a:ext cx="223560" cy="223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6" name=""/>
                  <p:cNvSpPr/>
                  <p:nvPr/>
                </p:nvSpPr>
                <p:spPr>
                  <a:xfrm>
                    <a:off x="1608480" y="2328120"/>
                    <a:ext cx="0" cy="8373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7" name=""/>
                  <p:cNvSpPr/>
                  <p:nvPr/>
                </p:nvSpPr>
                <p:spPr>
                  <a:xfrm flipV="1">
                    <a:off x="1608480" y="2543400"/>
                    <a:ext cx="223560" cy="223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8" name=""/>
                  <p:cNvSpPr/>
                  <p:nvPr/>
                </p:nvSpPr>
                <p:spPr>
                  <a:xfrm>
                    <a:off x="1836000" y="2108520"/>
                    <a:ext cx="0" cy="8373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19" name=""/>
              <p:cNvGrpSpPr/>
              <p:nvPr/>
            </p:nvGrpSpPr>
            <p:grpSpPr>
              <a:xfrm>
                <a:off x="696600" y="2136240"/>
                <a:ext cx="3325680" cy="1931040"/>
                <a:chOff x="696600" y="2136240"/>
                <a:chExt cx="3325680" cy="1931040"/>
              </a:xfrm>
            </p:grpSpPr>
            <p:grpSp>
              <p:nvGrpSpPr>
                <p:cNvPr id="3220" name=""/>
                <p:cNvGrpSpPr/>
                <p:nvPr/>
              </p:nvGrpSpPr>
              <p:grpSpPr>
                <a:xfrm>
                  <a:off x="696600" y="3046320"/>
                  <a:ext cx="2415240" cy="1020960"/>
                  <a:chOff x="696600" y="3046320"/>
                  <a:chExt cx="2415240" cy="1020960"/>
                </a:xfrm>
              </p:grpSpPr>
              <p:sp>
                <p:nvSpPr>
                  <p:cNvPr id="3221" name=""/>
                  <p:cNvSpPr/>
                  <p:nvPr/>
                </p:nvSpPr>
                <p:spPr>
                  <a:xfrm flipV="1">
                    <a:off x="696600" y="3232080"/>
                    <a:ext cx="0" cy="835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2" name=""/>
                  <p:cNvSpPr/>
                  <p:nvPr/>
                </p:nvSpPr>
                <p:spPr>
                  <a:xfrm flipV="1">
                    <a:off x="696600" y="3046320"/>
                    <a:ext cx="1207800" cy="1854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3" name=""/>
                  <p:cNvSpPr/>
                  <p:nvPr/>
                </p:nvSpPr>
                <p:spPr>
                  <a:xfrm flipV="1">
                    <a:off x="3111840" y="3232080"/>
                    <a:ext cx="0" cy="835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4" name=""/>
                  <p:cNvSpPr/>
                  <p:nvPr/>
                </p:nvSpPr>
                <p:spPr>
                  <a:xfrm flipH="1" flipV="1">
                    <a:off x="1904400" y="3046320"/>
                    <a:ext cx="1207440" cy="1854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25" name=""/>
                <p:cNvGrpSpPr/>
                <p:nvPr/>
              </p:nvGrpSpPr>
              <p:grpSpPr>
                <a:xfrm>
                  <a:off x="924120" y="2818800"/>
                  <a:ext cx="2415240" cy="1020960"/>
                  <a:chOff x="924120" y="2818800"/>
                  <a:chExt cx="2415240" cy="1020960"/>
                </a:xfrm>
              </p:grpSpPr>
              <p:sp>
                <p:nvSpPr>
                  <p:cNvPr id="3226" name=""/>
                  <p:cNvSpPr/>
                  <p:nvPr/>
                </p:nvSpPr>
                <p:spPr>
                  <a:xfrm flipV="1">
                    <a:off x="924120" y="3004560"/>
                    <a:ext cx="0" cy="835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7" name=""/>
                  <p:cNvSpPr/>
                  <p:nvPr/>
                </p:nvSpPr>
                <p:spPr>
                  <a:xfrm flipV="1">
                    <a:off x="924120" y="2818800"/>
                    <a:ext cx="1207440" cy="1854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8" name=""/>
                  <p:cNvSpPr/>
                  <p:nvPr/>
                </p:nvSpPr>
                <p:spPr>
                  <a:xfrm flipV="1">
                    <a:off x="3339360" y="3004560"/>
                    <a:ext cx="0" cy="835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9" name=""/>
                  <p:cNvSpPr/>
                  <p:nvPr/>
                </p:nvSpPr>
                <p:spPr>
                  <a:xfrm flipH="1" flipV="1">
                    <a:off x="2131560" y="2818800"/>
                    <a:ext cx="1207440" cy="1854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30" name=""/>
                <p:cNvGrpSpPr/>
                <p:nvPr/>
              </p:nvGrpSpPr>
              <p:grpSpPr>
                <a:xfrm>
                  <a:off x="1151640" y="2591280"/>
                  <a:ext cx="2415240" cy="1020960"/>
                  <a:chOff x="1151640" y="2591280"/>
                  <a:chExt cx="2415240" cy="1020960"/>
                </a:xfrm>
              </p:grpSpPr>
              <p:sp>
                <p:nvSpPr>
                  <p:cNvPr id="3231" name=""/>
                  <p:cNvSpPr/>
                  <p:nvPr/>
                </p:nvSpPr>
                <p:spPr>
                  <a:xfrm flipV="1">
                    <a:off x="1151640" y="2776680"/>
                    <a:ext cx="0" cy="835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2" name=""/>
                  <p:cNvSpPr/>
                  <p:nvPr/>
                </p:nvSpPr>
                <p:spPr>
                  <a:xfrm flipV="1">
                    <a:off x="1151640" y="2591280"/>
                    <a:ext cx="1207440" cy="1854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3" name=""/>
                  <p:cNvSpPr/>
                  <p:nvPr/>
                </p:nvSpPr>
                <p:spPr>
                  <a:xfrm flipV="1">
                    <a:off x="3566880" y="2776680"/>
                    <a:ext cx="0" cy="835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4" name=""/>
                  <p:cNvSpPr/>
                  <p:nvPr/>
                </p:nvSpPr>
                <p:spPr>
                  <a:xfrm flipH="1" flipV="1">
                    <a:off x="2359080" y="2591280"/>
                    <a:ext cx="1207440" cy="1854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35" name=""/>
                <p:cNvGrpSpPr/>
                <p:nvPr/>
              </p:nvGrpSpPr>
              <p:grpSpPr>
                <a:xfrm>
                  <a:off x="1379520" y="2363400"/>
                  <a:ext cx="2415240" cy="1020960"/>
                  <a:chOff x="1379520" y="2363400"/>
                  <a:chExt cx="2415240" cy="1020960"/>
                </a:xfrm>
              </p:grpSpPr>
              <p:sp>
                <p:nvSpPr>
                  <p:cNvPr id="3236" name=""/>
                  <p:cNvSpPr/>
                  <p:nvPr/>
                </p:nvSpPr>
                <p:spPr>
                  <a:xfrm flipV="1">
                    <a:off x="1379520" y="2549160"/>
                    <a:ext cx="0" cy="835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7" name=""/>
                  <p:cNvSpPr/>
                  <p:nvPr/>
                </p:nvSpPr>
                <p:spPr>
                  <a:xfrm flipV="1">
                    <a:off x="1379520" y="2363400"/>
                    <a:ext cx="1207440" cy="1854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8" name=""/>
                  <p:cNvSpPr/>
                  <p:nvPr/>
                </p:nvSpPr>
                <p:spPr>
                  <a:xfrm flipV="1">
                    <a:off x="3794760" y="2549160"/>
                    <a:ext cx="0" cy="835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9" name=""/>
                  <p:cNvSpPr/>
                  <p:nvPr/>
                </p:nvSpPr>
                <p:spPr>
                  <a:xfrm flipH="1" flipV="1">
                    <a:off x="2586600" y="2363400"/>
                    <a:ext cx="1207800" cy="1854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40" name=""/>
                <p:cNvGrpSpPr/>
                <p:nvPr/>
              </p:nvGrpSpPr>
              <p:grpSpPr>
                <a:xfrm>
                  <a:off x="1607040" y="2136240"/>
                  <a:ext cx="2415240" cy="1020960"/>
                  <a:chOff x="1607040" y="2136240"/>
                  <a:chExt cx="2415240" cy="1020960"/>
                </a:xfrm>
              </p:grpSpPr>
              <p:sp>
                <p:nvSpPr>
                  <p:cNvPr id="3241" name=""/>
                  <p:cNvSpPr/>
                  <p:nvPr/>
                </p:nvSpPr>
                <p:spPr>
                  <a:xfrm flipV="1">
                    <a:off x="1607040" y="2322000"/>
                    <a:ext cx="0" cy="835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2" name=""/>
                  <p:cNvSpPr/>
                  <p:nvPr/>
                </p:nvSpPr>
                <p:spPr>
                  <a:xfrm flipV="1">
                    <a:off x="1607040" y="2136240"/>
                    <a:ext cx="1207440" cy="1854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3" name=""/>
                  <p:cNvSpPr/>
                  <p:nvPr/>
                </p:nvSpPr>
                <p:spPr>
                  <a:xfrm flipV="1">
                    <a:off x="4022280" y="2322000"/>
                    <a:ext cx="0" cy="835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4" name=""/>
                  <p:cNvSpPr/>
                  <p:nvPr/>
                </p:nvSpPr>
                <p:spPr>
                  <a:xfrm flipH="1" flipV="1">
                    <a:off x="2814120" y="2136240"/>
                    <a:ext cx="1207800" cy="1854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45" name=""/>
              <p:cNvGrpSpPr/>
              <p:nvPr/>
            </p:nvGrpSpPr>
            <p:grpSpPr>
              <a:xfrm>
                <a:off x="469080" y="2326680"/>
                <a:ext cx="3781800" cy="1973160"/>
                <a:chOff x="469080" y="2326680"/>
                <a:chExt cx="3781800" cy="1973160"/>
              </a:xfrm>
            </p:grpSpPr>
            <p:grpSp>
              <p:nvGrpSpPr>
                <p:cNvPr id="3246" name=""/>
                <p:cNvGrpSpPr/>
                <p:nvPr/>
              </p:nvGrpSpPr>
              <p:grpSpPr>
                <a:xfrm>
                  <a:off x="469080" y="2339640"/>
                  <a:ext cx="1366200" cy="1960200"/>
                  <a:chOff x="469080" y="2339640"/>
                  <a:chExt cx="1366200" cy="1960200"/>
                </a:xfrm>
              </p:grpSpPr>
              <p:sp>
                <p:nvSpPr>
                  <p:cNvPr id="3247" name=""/>
                  <p:cNvSpPr/>
                  <p:nvPr/>
                </p:nvSpPr>
                <p:spPr>
                  <a:xfrm flipV="1">
                    <a:off x="469080" y="2339640"/>
                    <a:ext cx="1366200" cy="1365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8" name=""/>
                  <p:cNvSpPr/>
                  <p:nvPr/>
                </p:nvSpPr>
                <p:spPr>
                  <a:xfrm flipV="1">
                    <a:off x="469080" y="2548800"/>
                    <a:ext cx="1366200" cy="1365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9" name=""/>
                  <p:cNvSpPr/>
                  <p:nvPr/>
                </p:nvSpPr>
                <p:spPr>
                  <a:xfrm flipV="1">
                    <a:off x="469080" y="2734560"/>
                    <a:ext cx="1366200" cy="1365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0" name=""/>
                  <p:cNvSpPr/>
                  <p:nvPr/>
                </p:nvSpPr>
                <p:spPr>
                  <a:xfrm flipV="1">
                    <a:off x="469080" y="2934720"/>
                    <a:ext cx="1366200" cy="1365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51" name=""/>
                <p:cNvGrpSpPr/>
                <p:nvPr/>
              </p:nvGrpSpPr>
              <p:grpSpPr>
                <a:xfrm>
                  <a:off x="2884680" y="2326680"/>
                  <a:ext cx="1366200" cy="1973160"/>
                  <a:chOff x="2884680" y="2326680"/>
                  <a:chExt cx="1366200" cy="1973160"/>
                </a:xfrm>
              </p:grpSpPr>
              <p:sp>
                <p:nvSpPr>
                  <p:cNvPr id="3252" name=""/>
                  <p:cNvSpPr/>
                  <p:nvPr/>
                </p:nvSpPr>
                <p:spPr>
                  <a:xfrm flipV="1">
                    <a:off x="2884680" y="2934720"/>
                    <a:ext cx="1366200" cy="1365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3" name=""/>
                  <p:cNvSpPr/>
                  <p:nvPr/>
                </p:nvSpPr>
                <p:spPr>
                  <a:xfrm flipV="1">
                    <a:off x="2884680" y="2326680"/>
                    <a:ext cx="1366200" cy="1365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4" name=""/>
                  <p:cNvSpPr/>
                  <p:nvPr/>
                </p:nvSpPr>
                <p:spPr>
                  <a:xfrm flipV="1">
                    <a:off x="2884680" y="2535840"/>
                    <a:ext cx="1366200" cy="1365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5" name=""/>
                  <p:cNvSpPr/>
                  <p:nvPr/>
                </p:nvSpPr>
                <p:spPr>
                  <a:xfrm flipV="1">
                    <a:off x="2884680" y="2736000"/>
                    <a:ext cx="1366200" cy="1365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256" name=""/>
              <p:cNvSpPr/>
              <p:nvPr/>
            </p:nvSpPr>
            <p:spPr>
              <a:xfrm flipV="1">
                <a:off x="1679760" y="1916280"/>
                <a:ext cx="1369800" cy="13647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57" name=""/>
              <p:cNvGrpSpPr/>
              <p:nvPr/>
            </p:nvGrpSpPr>
            <p:grpSpPr>
              <a:xfrm>
                <a:off x="469080" y="2093760"/>
                <a:ext cx="3778200" cy="1364760"/>
                <a:chOff x="469080" y="2093760"/>
                <a:chExt cx="3778200" cy="1364760"/>
              </a:xfrm>
            </p:grpSpPr>
            <p:sp>
              <p:nvSpPr>
                <p:cNvPr id="3258" name=""/>
                <p:cNvSpPr/>
                <p:nvPr/>
              </p:nvSpPr>
              <p:spPr>
                <a:xfrm flipV="1">
                  <a:off x="2877480" y="2093760"/>
                  <a:ext cx="1369800" cy="1364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9" name=""/>
                <p:cNvSpPr/>
                <p:nvPr/>
              </p:nvSpPr>
              <p:spPr>
                <a:xfrm flipV="1">
                  <a:off x="469080" y="2093760"/>
                  <a:ext cx="1365840" cy="1364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0" name=""/>
              <p:cNvGrpSpPr/>
              <p:nvPr/>
            </p:nvGrpSpPr>
            <p:grpSpPr>
              <a:xfrm>
                <a:off x="650160" y="1937520"/>
                <a:ext cx="3405600" cy="1495800"/>
                <a:chOff x="650160" y="1937520"/>
                <a:chExt cx="3405600" cy="1495800"/>
              </a:xfrm>
            </p:grpSpPr>
            <p:sp>
              <p:nvSpPr>
                <p:cNvPr id="3261" name=""/>
                <p:cNvSpPr/>
                <p:nvPr/>
              </p:nvSpPr>
              <p:spPr>
                <a:xfrm flipV="1">
                  <a:off x="1905120" y="1943280"/>
                  <a:ext cx="1368720" cy="13654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2" name=""/>
                <p:cNvSpPr/>
                <p:nvPr/>
              </p:nvSpPr>
              <p:spPr>
                <a:xfrm flipV="1">
                  <a:off x="2110320" y="1961640"/>
                  <a:ext cx="1368720" cy="13654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3" name=""/>
                <p:cNvSpPr/>
                <p:nvPr/>
              </p:nvSpPr>
              <p:spPr>
                <a:xfrm flipV="1">
                  <a:off x="2497320" y="2028240"/>
                  <a:ext cx="1368720" cy="13654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4" name=""/>
                <p:cNvSpPr/>
                <p:nvPr/>
              </p:nvSpPr>
              <p:spPr>
                <a:xfrm flipV="1">
                  <a:off x="2687040" y="2067840"/>
                  <a:ext cx="1368720" cy="13654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5" name=""/>
                <p:cNvSpPr/>
                <p:nvPr/>
              </p:nvSpPr>
              <p:spPr>
                <a:xfrm flipV="1">
                  <a:off x="650160" y="2067480"/>
                  <a:ext cx="1350360" cy="13654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6" name=""/>
                <p:cNvSpPr/>
                <p:nvPr/>
              </p:nvSpPr>
              <p:spPr>
                <a:xfrm flipV="1">
                  <a:off x="874800" y="2036160"/>
                  <a:ext cx="1350360" cy="13654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7" name=""/>
                <p:cNvSpPr/>
                <p:nvPr/>
              </p:nvSpPr>
              <p:spPr>
                <a:xfrm flipV="1">
                  <a:off x="1259280" y="1974600"/>
                  <a:ext cx="1350360" cy="13654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8" name=""/>
                <p:cNvSpPr/>
                <p:nvPr/>
              </p:nvSpPr>
              <p:spPr>
                <a:xfrm flipV="1">
                  <a:off x="1466640" y="1937520"/>
                  <a:ext cx="1355400" cy="13654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9" name=""/>
                <p:cNvSpPr/>
                <p:nvPr/>
              </p:nvSpPr>
              <p:spPr>
                <a:xfrm flipV="1">
                  <a:off x="1061640" y="2006280"/>
                  <a:ext cx="1350360" cy="13654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0" name=""/>
                <p:cNvSpPr/>
                <p:nvPr/>
              </p:nvSpPr>
              <p:spPr>
                <a:xfrm flipV="1">
                  <a:off x="2280960" y="1999440"/>
                  <a:ext cx="1368720" cy="1375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1" name=""/>
              <p:cNvGrpSpPr/>
              <p:nvPr/>
            </p:nvGrpSpPr>
            <p:grpSpPr>
              <a:xfrm>
                <a:off x="469080" y="1907640"/>
                <a:ext cx="3781800" cy="2387160"/>
                <a:chOff x="469080" y="1907640"/>
                <a:chExt cx="3781800" cy="2387160"/>
              </a:xfrm>
            </p:grpSpPr>
            <p:sp>
              <p:nvSpPr>
                <p:cNvPr id="3272" name=""/>
                <p:cNvSpPr/>
                <p:nvPr/>
              </p:nvSpPr>
              <p:spPr>
                <a:xfrm flipV="1">
                  <a:off x="469080" y="3273120"/>
                  <a:ext cx="1207800" cy="1857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3" name=""/>
                <p:cNvSpPr/>
                <p:nvPr/>
              </p:nvSpPr>
              <p:spPr>
                <a:xfrm flipH="1" flipV="1">
                  <a:off x="1676520" y="3273120"/>
                  <a:ext cx="1207800" cy="1857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4" name=""/>
                <p:cNvSpPr/>
                <p:nvPr/>
              </p:nvSpPr>
              <p:spPr>
                <a:xfrm flipV="1">
                  <a:off x="1835280" y="1907640"/>
                  <a:ext cx="1207800" cy="1857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75" name=""/>
                <p:cNvGrpSpPr/>
                <p:nvPr/>
              </p:nvGrpSpPr>
              <p:grpSpPr>
                <a:xfrm>
                  <a:off x="469080" y="2093400"/>
                  <a:ext cx="3781800" cy="2201400"/>
                  <a:chOff x="469080" y="2093400"/>
                  <a:chExt cx="3781800" cy="2201400"/>
                </a:xfrm>
              </p:grpSpPr>
              <p:sp>
                <p:nvSpPr>
                  <p:cNvPr id="3276" name=""/>
                  <p:cNvSpPr/>
                  <p:nvPr/>
                </p:nvSpPr>
                <p:spPr>
                  <a:xfrm flipV="1">
                    <a:off x="469080" y="3458880"/>
                    <a:ext cx="0" cy="83592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7" name=""/>
                  <p:cNvSpPr/>
                  <p:nvPr/>
                </p:nvSpPr>
                <p:spPr>
                  <a:xfrm flipV="1">
                    <a:off x="2884680" y="3458880"/>
                    <a:ext cx="0" cy="83592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8" name=""/>
                  <p:cNvSpPr/>
                  <p:nvPr/>
                </p:nvSpPr>
                <p:spPr>
                  <a:xfrm flipV="1">
                    <a:off x="1835280" y="2093400"/>
                    <a:ext cx="0" cy="83592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9" name=""/>
                  <p:cNvSpPr/>
                  <p:nvPr/>
                </p:nvSpPr>
                <p:spPr>
                  <a:xfrm flipV="1">
                    <a:off x="4250880" y="2093400"/>
                    <a:ext cx="0" cy="83592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80" name=""/>
                <p:cNvSpPr/>
                <p:nvPr/>
              </p:nvSpPr>
              <p:spPr>
                <a:xfrm flipH="1" flipV="1">
                  <a:off x="3042720" y="1907640"/>
                  <a:ext cx="1207800" cy="1857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81" name=""/>
              <p:cNvSpPr/>
              <p:nvPr/>
            </p:nvSpPr>
            <p:spPr>
              <a:xfrm flipV="1">
                <a:off x="2112840" y="3394800"/>
                <a:ext cx="379800" cy="38124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2" name=""/>
              <p:cNvSpPr/>
              <p:nvPr/>
            </p:nvSpPr>
            <p:spPr>
              <a:xfrm flipV="1">
                <a:off x="549360" y="3396600"/>
                <a:ext cx="379800" cy="38124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3" name=""/>
              <p:cNvSpPr/>
              <p:nvPr/>
            </p:nvSpPr>
            <p:spPr>
              <a:xfrm flipV="1">
                <a:off x="932400" y="3340080"/>
                <a:ext cx="379800" cy="38124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4" name=""/>
              <p:cNvSpPr/>
              <p:nvPr/>
            </p:nvSpPr>
            <p:spPr>
              <a:xfrm flipV="1">
                <a:off x="1346040" y="3283200"/>
                <a:ext cx="379800" cy="38124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5" name=""/>
              <p:cNvSpPr/>
              <p:nvPr/>
            </p:nvSpPr>
            <p:spPr>
              <a:xfrm flipV="1">
                <a:off x="1731240" y="3331080"/>
                <a:ext cx="379440" cy="38124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6" name=""/>
              <p:cNvSpPr/>
              <p:nvPr/>
            </p:nvSpPr>
            <p:spPr>
              <a:xfrm flipV="1">
                <a:off x="2618640" y="3460680"/>
                <a:ext cx="258480" cy="24444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7" name=""/>
              <p:cNvSpPr/>
              <p:nvPr/>
            </p:nvSpPr>
            <p:spPr>
              <a:xfrm flipV="1">
                <a:off x="217440" y="3462120"/>
                <a:ext cx="258840" cy="24444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8" name=""/>
              <p:cNvSpPr/>
              <p:nvPr/>
            </p:nvSpPr>
            <p:spPr>
              <a:xfrm flipV="1">
                <a:off x="3850200" y="1617840"/>
                <a:ext cx="379800" cy="38124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9" name=""/>
              <p:cNvSpPr/>
              <p:nvPr/>
            </p:nvSpPr>
            <p:spPr>
              <a:xfrm flipV="1">
                <a:off x="2256480" y="1620000"/>
                <a:ext cx="379800" cy="38124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0" name=""/>
              <p:cNvSpPr/>
              <p:nvPr/>
            </p:nvSpPr>
            <p:spPr>
              <a:xfrm flipV="1">
                <a:off x="2670120" y="1563120"/>
                <a:ext cx="379440" cy="38124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1" name=""/>
              <p:cNvSpPr/>
              <p:nvPr/>
            </p:nvSpPr>
            <p:spPr>
              <a:xfrm flipV="1">
                <a:off x="3053160" y="1506240"/>
                <a:ext cx="379800" cy="38196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 flipV="1">
                <a:off x="3468600" y="1554480"/>
                <a:ext cx="379800" cy="38124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3" name=""/>
              <p:cNvSpPr/>
              <p:nvPr/>
            </p:nvSpPr>
            <p:spPr>
              <a:xfrm flipV="1">
                <a:off x="4249080" y="1820880"/>
                <a:ext cx="258840" cy="24480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4" name=""/>
              <p:cNvSpPr/>
              <p:nvPr/>
            </p:nvSpPr>
            <p:spPr>
              <a:xfrm flipV="1">
                <a:off x="1862280" y="1806480"/>
                <a:ext cx="258840" cy="24444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5" name=""/>
              <p:cNvSpPr/>
              <p:nvPr/>
            </p:nvSpPr>
            <p:spPr>
              <a:xfrm rot="8034000">
                <a:off x="673920" y="4116600"/>
                <a:ext cx="951120" cy="828360"/>
              </a:xfrm>
              <a:prstGeom prst="leftArrow">
                <a:avLst>
                  <a:gd name="adj1" fmla="val 50000"/>
                  <a:gd name="adj2" fmla="val 28705"/>
                </a:avLst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6" name=""/>
              <p:cNvSpPr/>
              <p:nvPr/>
            </p:nvSpPr>
            <p:spPr>
              <a:xfrm flipH="1">
                <a:off x="3088800" y="2868120"/>
                <a:ext cx="365760" cy="363600"/>
              </a:xfrm>
              <a:prstGeom prst="line">
                <a:avLst/>
              </a:prstGeom>
              <a:ln w="3816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7" name=""/>
              <p:cNvSpPr/>
              <p:nvPr/>
            </p:nvSpPr>
            <p:spPr>
              <a:xfrm flipH="1">
                <a:off x="689400" y="2853720"/>
                <a:ext cx="365760" cy="363600"/>
              </a:xfrm>
              <a:prstGeom prst="line">
                <a:avLst/>
              </a:prstGeom>
              <a:ln w="3816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8" name=""/>
              <p:cNvSpPr/>
              <p:nvPr/>
            </p:nvSpPr>
            <p:spPr>
              <a:xfrm flipH="1">
                <a:off x="1255320" y="2323080"/>
                <a:ext cx="365400" cy="363600"/>
              </a:xfrm>
              <a:prstGeom prst="line">
                <a:avLst/>
              </a:prstGeom>
              <a:ln w="3816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9" name=""/>
              <p:cNvSpPr/>
              <p:nvPr/>
            </p:nvSpPr>
            <p:spPr>
              <a:xfrm flipH="1">
                <a:off x="3643920" y="2324880"/>
                <a:ext cx="365760" cy="363600"/>
              </a:xfrm>
              <a:prstGeom prst="line">
                <a:avLst/>
              </a:prstGeom>
              <a:ln w="3816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0" name=""/>
            <p:cNvSpPr/>
            <p:nvPr/>
          </p:nvSpPr>
          <p:spPr>
            <a:xfrm>
              <a:off x="1076400" y="4843440"/>
              <a:ext cx="89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V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1" name="">
            <a:hlinkClick r:id="rId5" action="ppaction://hlinksldjump"/>
          </p:cNvPr>
          <p:cNvSpPr/>
          <p:nvPr/>
        </p:nvSpPr>
        <p:spPr>
          <a:xfrm>
            <a:off x="5084640" y="4886280"/>
            <a:ext cx="163800" cy="163440"/>
          </a:xfrm>
          <a:custGeom>
            <a:avLst/>
            <a:gdLst>
              <a:gd name="textAreaLeft" fmla="*/ 10440 w 163800"/>
              <a:gd name="textAreaRight" fmla="*/ 153360 w 163800"/>
              <a:gd name="textAreaTop" fmla="*/ 10440 h 163440"/>
              <a:gd name="textAreaBottom" fmla="*/ 153000 h 163440"/>
            </a:gdLst>
            <a:ahLst/>
            <a:rect l="textAreaLeft" t="textAreaTop" r="textAreaRight" b="textAreaBottom"/>
            <a:pathLst>
              <a:path w="21647" h="21600">
                <a:moveTo>
                  <a:pt x="0" y="0"/>
                </a:moveTo>
                <a:lnTo>
                  <a:pt x="21647" y="0"/>
                </a:lnTo>
                <a:lnTo>
                  <a:pt x="21647" y="21600"/>
                </a:lnTo>
                <a:lnTo>
                  <a:pt x="0" y="21600"/>
                </a:lnTo>
                <a:close/>
              </a:path>
              <a:path fill="lightenLess" w="21647" h="21600">
                <a:moveTo>
                  <a:pt x="0" y="0"/>
                </a:moveTo>
                <a:lnTo>
                  <a:pt x="21647" y="0"/>
                </a:lnTo>
                <a:lnTo>
                  <a:pt x="20248" y="1400"/>
                </a:lnTo>
                <a:lnTo>
                  <a:pt x="1400" y="1400"/>
                </a:lnTo>
                <a:close/>
              </a:path>
              <a:path fill="darken" w="21647" h="21600">
                <a:moveTo>
                  <a:pt x="21647" y="0"/>
                </a:moveTo>
                <a:lnTo>
                  <a:pt x="21647" y="21600"/>
                </a:lnTo>
                <a:lnTo>
                  <a:pt x="20248" y="20200"/>
                </a:lnTo>
                <a:lnTo>
                  <a:pt x="20248" y="1400"/>
                </a:lnTo>
                <a:close/>
              </a:path>
              <a:path fill="darkenLess" w="21647" h="21600">
                <a:moveTo>
                  <a:pt x="216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8" y="20200"/>
                </a:lnTo>
                <a:close/>
              </a:path>
              <a:path fill="lighten" w="216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2" name="">
            <a:hlinkClick r:id="" action="ppaction://hlinkshowjump?jump=nextslide"/>
          </p:cNvPr>
          <p:cNvSpPr/>
          <p:nvPr/>
        </p:nvSpPr>
        <p:spPr>
          <a:xfrm>
            <a:off x="4657680" y="4886280"/>
            <a:ext cx="163440" cy="163440"/>
          </a:xfrm>
          <a:custGeom>
            <a:avLst/>
            <a:gdLst>
              <a:gd name="textAreaLeft" fmla="*/ 10440 w 163440"/>
              <a:gd name="textAreaRight" fmla="*/ 153000 w 163440"/>
              <a:gd name="textAreaTop" fmla="*/ 10440 h 163440"/>
              <a:gd name="textAreaBottom" fmla="*/ 153000 h 16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3" name="">
            <a:hlinkClick r:id="rId6" action="ppaction://hlinksldjump"/>
          </p:cNvPr>
          <p:cNvSpPr/>
          <p:nvPr/>
        </p:nvSpPr>
        <p:spPr>
          <a:xfrm>
            <a:off x="4278240" y="4886280"/>
            <a:ext cx="163440" cy="163440"/>
          </a:xfrm>
          <a:custGeom>
            <a:avLst/>
            <a:gdLst>
              <a:gd name="textAreaLeft" fmla="*/ 10440 w 163440"/>
              <a:gd name="textAreaRight" fmla="*/ 153000 w 163440"/>
              <a:gd name="textAreaTop" fmla="*/ 10440 h 163440"/>
              <a:gd name="textAreaBottom" fmla="*/ 153000 h 16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4" name="">
            <a:hlinkClick r:id="" action="ppaction://hlinkshowjump?jump=nextslide"/>
          </p:cNvPr>
          <p:cNvSpPr/>
          <p:nvPr/>
        </p:nvSpPr>
        <p:spPr>
          <a:xfrm>
            <a:off x="3862440" y="4886280"/>
            <a:ext cx="163440" cy="163440"/>
          </a:xfrm>
          <a:custGeom>
            <a:avLst/>
            <a:gdLst>
              <a:gd name="textAreaLeft" fmla="*/ 10440 w 163440"/>
              <a:gd name="textAreaRight" fmla="*/ 153000 w 163440"/>
              <a:gd name="textAreaTop" fmla="*/ 10440 h 163440"/>
              <a:gd name="textAreaBottom" fmla="*/ 153000 h 16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5" name=""/>
          <p:cNvSpPr/>
          <p:nvPr/>
        </p:nvSpPr>
        <p:spPr>
          <a:xfrm>
            <a:off x="4363920" y="5805360"/>
            <a:ext cx="3551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un carré d’une des barres comprim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6" name=""/>
          <p:cNvSpPr/>
          <p:nvPr/>
        </p:nvSpPr>
        <p:spPr>
          <a:xfrm>
            <a:off x="628560" y="661176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Suiv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7" name="">
            <a:hlinkClick r:id="" action="ppaction://hlinkshowjump?jump=nextslide"/>
          </p:cNvPr>
          <p:cNvSpPr/>
          <p:nvPr/>
        </p:nvSpPr>
        <p:spPr>
          <a:xfrm>
            <a:off x="765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8" name=""/>
          <p:cNvGrpSpPr/>
          <p:nvPr/>
        </p:nvGrpSpPr>
        <p:grpSpPr>
          <a:xfrm>
            <a:off x="217440" y="1506240"/>
            <a:ext cx="4290480" cy="3796920"/>
            <a:chOff x="217440" y="1506240"/>
            <a:chExt cx="4290480" cy="3796920"/>
          </a:xfrm>
        </p:grpSpPr>
        <p:grpSp>
          <p:nvGrpSpPr>
            <p:cNvPr id="3309" name=""/>
            <p:cNvGrpSpPr/>
            <p:nvPr/>
          </p:nvGrpSpPr>
          <p:grpSpPr>
            <a:xfrm>
              <a:off x="217440" y="1506240"/>
              <a:ext cx="4290480" cy="3654720"/>
              <a:chOff x="217440" y="1506240"/>
              <a:chExt cx="4290480" cy="3654720"/>
            </a:xfrm>
          </p:grpSpPr>
          <p:grpSp>
            <p:nvGrpSpPr>
              <p:cNvPr id="3310" name=""/>
              <p:cNvGrpSpPr/>
              <p:nvPr/>
            </p:nvGrpSpPr>
            <p:grpSpPr>
              <a:xfrm>
                <a:off x="400320" y="2944080"/>
                <a:ext cx="3893040" cy="1488960"/>
                <a:chOff x="400320" y="2944080"/>
                <a:chExt cx="3893040" cy="1488960"/>
              </a:xfrm>
            </p:grpSpPr>
            <p:grpSp>
              <p:nvGrpSpPr>
                <p:cNvPr id="3311" name=""/>
                <p:cNvGrpSpPr/>
                <p:nvPr/>
              </p:nvGrpSpPr>
              <p:grpSpPr>
                <a:xfrm>
                  <a:off x="634680" y="3202560"/>
                  <a:ext cx="1022040" cy="1008720"/>
                  <a:chOff x="634680" y="3202560"/>
                  <a:chExt cx="1022040" cy="1008720"/>
                </a:xfrm>
              </p:grpSpPr>
              <p:sp>
                <p:nvSpPr>
                  <p:cNvPr id="3312" name=""/>
                  <p:cNvSpPr/>
                  <p:nvPr/>
                </p:nvSpPr>
                <p:spPr>
                  <a:xfrm>
                    <a:off x="1544760" y="3202560"/>
                    <a:ext cx="111960" cy="1116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3" name=""/>
                  <p:cNvSpPr/>
                  <p:nvPr/>
                </p:nvSpPr>
                <p:spPr>
                  <a:xfrm>
                    <a:off x="1312200" y="3414240"/>
                    <a:ext cx="111960" cy="11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4" name=""/>
                  <p:cNvSpPr/>
                  <p:nvPr/>
                </p:nvSpPr>
                <p:spPr>
                  <a:xfrm>
                    <a:off x="1089720" y="3633480"/>
                    <a:ext cx="111960" cy="1119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5" name=""/>
                  <p:cNvSpPr/>
                  <p:nvPr/>
                </p:nvSpPr>
                <p:spPr>
                  <a:xfrm>
                    <a:off x="860400" y="3861720"/>
                    <a:ext cx="112680" cy="1119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6" name=""/>
                  <p:cNvSpPr/>
                  <p:nvPr/>
                </p:nvSpPr>
                <p:spPr>
                  <a:xfrm>
                    <a:off x="634680" y="4099320"/>
                    <a:ext cx="111960" cy="1119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17" name=""/>
                <p:cNvGrpSpPr/>
                <p:nvPr/>
              </p:nvGrpSpPr>
              <p:grpSpPr>
                <a:xfrm>
                  <a:off x="3058200" y="3184560"/>
                  <a:ext cx="1005840" cy="1019520"/>
                  <a:chOff x="3058200" y="3184560"/>
                  <a:chExt cx="1005840" cy="1019520"/>
                </a:xfrm>
              </p:grpSpPr>
              <p:sp>
                <p:nvSpPr>
                  <p:cNvPr id="3318" name=""/>
                  <p:cNvSpPr/>
                  <p:nvPr/>
                </p:nvSpPr>
                <p:spPr>
                  <a:xfrm>
                    <a:off x="3952080" y="3184560"/>
                    <a:ext cx="111960" cy="1116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9" name=""/>
                  <p:cNvSpPr/>
                  <p:nvPr/>
                </p:nvSpPr>
                <p:spPr>
                  <a:xfrm>
                    <a:off x="3727440" y="3407040"/>
                    <a:ext cx="112320" cy="11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0" name=""/>
                  <p:cNvSpPr/>
                  <p:nvPr/>
                </p:nvSpPr>
                <p:spPr>
                  <a:xfrm>
                    <a:off x="3504960" y="3626280"/>
                    <a:ext cx="111960" cy="1116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1" name=""/>
                  <p:cNvSpPr/>
                  <p:nvPr/>
                </p:nvSpPr>
                <p:spPr>
                  <a:xfrm>
                    <a:off x="3270240" y="3854160"/>
                    <a:ext cx="114840" cy="11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2" name=""/>
                  <p:cNvSpPr/>
                  <p:nvPr/>
                </p:nvSpPr>
                <p:spPr>
                  <a:xfrm>
                    <a:off x="3058200" y="4092120"/>
                    <a:ext cx="111960" cy="1119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3" name=""/>
                <p:cNvGrpSpPr/>
                <p:nvPr/>
              </p:nvGrpSpPr>
              <p:grpSpPr>
                <a:xfrm>
                  <a:off x="1760040" y="2944080"/>
                  <a:ext cx="2533320" cy="114840"/>
                  <a:chOff x="1760040" y="2944080"/>
                  <a:chExt cx="2533320" cy="114840"/>
                </a:xfrm>
              </p:grpSpPr>
              <p:sp>
                <p:nvSpPr>
                  <p:cNvPr id="3324" name=""/>
                  <p:cNvSpPr/>
                  <p:nvPr/>
                </p:nvSpPr>
                <p:spPr>
                  <a:xfrm>
                    <a:off x="4181400" y="2946960"/>
                    <a:ext cx="111960" cy="1119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5" name=""/>
                  <p:cNvSpPr/>
                  <p:nvPr/>
                </p:nvSpPr>
                <p:spPr>
                  <a:xfrm>
                    <a:off x="1760040" y="2944080"/>
                    <a:ext cx="112320" cy="11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6" name=""/>
                  <p:cNvSpPr/>
                  <p:nvPr/>
                </p:nvSpPr>
                <p:spPr>
                  <a:xfrm>
                    <a:off x="3390120" y="2944080"/>
                    <a:ext cx="112320" cy="11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7" name=""/>
                  <p:cNvSpPr/>
                  <p:nvPr/>
                </p:nvSpPr>
                <p:spPr>
                  <a:xfrm>
                    <a:off x="2169720" y="2944080"/>
                    <a:ext cx="111960" cy="1119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8" name=""/>
                  <p:cNvSpPr/>
                  <p:nvPr/>
                </p:nvSpPr>
                <p:spPr>
                  <a:xfrm>
                    <a:off x="2548800" y="2944080"/>
                    <a:ext cx="111960" cy="1119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9" name=""/>
                  <p:cNvSpPr/>
                  <p:nvPr/>
                </p:nvSpPr>
                <p:spPr>
                  <a:xfrm>
                    <a:off x="2952720" y="2944080"/>
                    <a:ext cx="111960" cy="1119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0" name=""/>
                  <p:cNvSpPr/>
                  <p:nvPr/>
                </p:nvSpPr>
                <p:spPr>
                  <a:xfrm>
                    <a:off x="3795480" y="2944080"/>
                    <a:ext cx="111960" cy="1119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31" name=""/>
                <p:cNvGrpSpPr/>
                <p:nvPr/>
              </p:nvGrpSpPr>
              <p:grpSpPr>
                <a:xfrm>
                  <a:off x="400320" y="4320720"/>
                  <a:ext cx="2527920" cy="112320"/>
                  <a:chOff x="400320" y="4320720"/>
                  <a:chExt cx="2527920" cy="112320"/>
                </a:xfrm>
              </p:grpSpPr>
              <p:sp>
                <p:nvSpPr>
                  <p:cNvPr id="3332" name=""/>
                  <p:cNvSpPr/>
                  <p:nvPr/>
                </p:nvSpPr>
                <p:spPr>
                  <a:xfrm>
                    <a:off x="2815920" y="4320720"/>
                    <a:ext cx="112320" cy="11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3" name=""/>
                  <p:cNvSpPr/>
                  <p:nvPr/>
                </p:nvSpPr>
                <p:spPr>
                  <a:xfrm>
                    <a:off x="400320" y="4320720"/>
                    <a:ext cx="111960" cy="11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4" name=""/>
                  <p:cNvSpPr/>
                  <p:nvPr/>
                </p:nvSpPr>
                <p:spPr>
                  <a:xfrm>
                    <a:off x="806760" y="4320720"/>
                    <a:ext cx="111960" cy="11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5" name=""/>
                  <p:cNvSpPr/>
                  <p:nvPr/>
                </p:nvSpPr>
                <p:spPr>
                  <a:xfrm>
                    <a:off x="1194120" y="4320720"/>
                    <a:ext cx="111960" cy="11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6" name=""/>
                  <p:cNvSpPr/>
                  <p:nvPr/>
                </p:nvSpPr>
                <p:spPr>
                  <a:xfrm>
                    <a:off x="2034000" y="4320720"/>
                    <a:ext cx="111960" cy="11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7" name=""/>
                  <p:cNvSpPr/>
                  <p:nvPr/>
                </p:nvSpPr>
                <p:spPr>
                  <a:xfrm>
                    <a:off x="2421720" y="4320720"/>
                    <a:ext cx="111960" cy="1123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338" name=""/>
              <p:cNvGrpSpPr/>
              <p:nvPr/>
            </p:nvGrpSpPr>
            <p:grpSpPr>
              <a:xfrm>
                <a:off x="467640" y="2103120"/>
                <a:ext cx="3792240" cy="2197080"/>
                <a:chOff x="467640" y="2103120"/>
                <a:chExt cx="3792240" cy="2197080"/>
              </a:xfrm>
            </p:grpSpPr>
            <p:grpSp>
              <p:nvGrpSpPr>
                <p:cNvPr id="3339" name=""/>
                <p:cNvGrpSpPr/>
                <p:nvPr/>
              </p:nvGrpSpPr>
              <p:grpSpPr>
                <a:xfrm>
                  <a:off x="1820880" y="2103120"/>
                  <a:ext cx="2439000" cy="822600"/>
                  <a:chOff x="1820880" y="2103120"/>
                  <a:chExt cx="2439000" cy="822600"/>
                </a:xfrm>
              </p:grpSpPr>
              <p:sp>
                <p:nvSpPr>
                  <p:cNvPr id="3340" name=""/>
                  <p:cNvSpPr/>
                  <p:nvPr/>
                </p:nvSpPr>
                <p:spPr>
                  <a:xfrm>
                    <a:off x="1845720" y="2103120"/>
                    <a:ext cx="241416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1" name=""/>
                  <p:cNvSpPr/>
                  <p:nvPr/>
                </p:nvSpPr>
                <p:spPr>
                  <a:xfrm>
                    <a:off x="1838880" y="2343600"/>
                    <a:ext cx="241416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2" name=""/>
                  <p:cNvSpPr/>
                  <p:nvPr/>
                </p:nvSpPr>
                <p:spPr>
                  <a:xfrm>
                    <a:off x="1830240" y="2738880"/>
                    <a:ext cx="242568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3" name=""/>
                  <p:cNvSpPr/>
                  <p:nvPr/>
                </p:nvSpPr>
                <p:spPr>
                  <a:xfrm>
                    <a:off x="1839960" y="2541240"/>
                    <a:ext cx="241596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4" name=""/>
                  <p:cNvSpPr/>
                  <p:nvPr/>
                </p:nvSpPr>
                <p:spPr>
                  <a:xfrm>
                    <a:off x="1820880" y="2925720"/>
                    <a:ext cx="241416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45" name=""/>
                <p:cNvGrpSpPr/>
                <p:nvPr/>
              </p:nvGrpSpPr>
              <p:grpSpPr>
                <a:xfrm>
                  <a:off x="467640" y="3464640"/>
                  <a:ext cx="2427120" cy="835560"/>
                  <a:chOff x="467640" y="3464640"/>
                  <a:chExt cx="2427120" cy="835560"/>
                </a:xfrm>
              </p:grpSpPr>
              <p:sp>
                <p:nvSpPr>
                  <p:cNvPr id="3346" name=""/>
                  <p:cNvSpPr/>
                  <p:nvPr/>
                </p:nvSpPr>
                <p:spPr>
                  <a:xfrm>
                    <a:off x="2102400" y="4300200"/>
                    <a:ext cx="78588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7" name=""/>
                  <p:cNvSpPr/>
                  <p:nvPr/>
                </p:nvSpPr>
                <p:spPr>
                  <a:xfrm>
                    <a:off x="480600" y="3464640"/>
                    <a:ext cx="241416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8" name=""/>
                  <p:cNvSpPr/>
                  <p:nvPr/>
                </p:nvSpPr>
                <p:spPr>
                  <a:xfrm>
                    <a:off x="474120" y="3705120"/>
                    <a:ext cx="241416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9" name=""/>
                  <p:cNvSpPr/>
                  <p:nvPr/>
                </p:nvSpPr>
                <p:spPr>
                  <a:xfrm>
                    <a:off x="2098440" y="4100040"/>
                    <a:ext cx="79236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0" name=""/>
                  <p:cNvSpPr/>
                  <p:nvPr/>
                </p:nvSpPr>
                <p:spPr>
                  <a:xfrm>
                    <a:off x="467640" y="3902760"/>
                    <a:ext cx="79488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1" name=""/>
                  <p:cNvSpPr/>
                  <p:nvPr/>
                </p:nvSpPr>
                <p:spPr>
                  <a:xfrm>
                    <a:off x="2098440" y="3902760"/>
                    <a:ext cx="79236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2" name=""/>
                  <p:cNvSpPr/>
                  <p:nvPr/>
                </p:nvSpPr>
                <p:spPr>
                  <a:xfrm>
                    <a:off x="474120" y="4100040"/>
                    <a:ext cx="79488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3" name=""/>
                  <p:cNvSpPr/>
                  <p:nvPr/>
                </p:nvSpPr>
                <p:spPr>
                  <a:xfrm>
                    <a:off x="474120" y="4295520"/>
                    <a:ext cx="785880" cy="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354" name=""/>
              <p:cNvGrpSpPr/>
              <p:nvPr/>
            </p:nvGrpSpPr>
            <p:grpSpPr>
              <a:xfrm>
                <a:off x="465840" y="1904040"/>
                <a:ext cx="3783240" cy="2392920"/>
                <a:chOff x="465840" y="1904040"/>
                <a:chExt cx="3783240" cy="2392920"/>
              </a:xfrm>
            </p:grpSpPr>
            <p:sp>
              <p:nvSpPr>
                <p:cNvPr id="3355" name=""/>
                <p:cNvSpPr/>
                <p:nvPr/>
              </p:nvSpPr>
              <p:spPr>
                <a:xfrm>
                  <a:off x="1681560" y="3286080"/>
                  <a:ext cx="0" cy="417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56" name=""/>
                <p:cNvGrpSpPr/>
                <p:nvPr/>
              </p:nvGrpSpPr>
              <p:grpSpPr>
                <a:xfrm>
                  <a:off x="465840" y="1904040"/>
                  <a:ext cx="3783240" cy="2392920"/>
                  <a:chOff x="465840" y="1904040"/>
                  <a:chExt cx="3783240" cy="2392920"/>
                </a:xfrm>
              </p:grpSpPr>
              <p:grpSp>
                <p:nvGrpSpPr>
                  <p:cNvPr id="3357" name=""/>
                  <p:cNvGrpSpPr/>
                  <p:nvPr/>
                </p:nvGrpSpPr>
                <p:grpSpPr>
                  <a:xfrm>
                    <a:off x="1835280" y="1904040"/>
                    <a:ext cx="2413800" cy="1018800"/>
                    <a:chOff x="1835280" y="1904040"/>
                    <a:chExt cx="2413800" cy="1018800"/>
                  </a:xfrm>
                </p:grpSpPr>
                <p:sp>
                  <p:nvSpPr>
                    <p:cNvPr id="3358" name=""/>
                    <p:cNvSpPr/>
                    <p:nvPr/>
                  </p:nvSpPr>
                  <p:spPr>
                    <a:xfrm>
                      <a:off x="3862800" y="2030040"/>
                      <a:ext cx="0" cy="8924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9" name=""/>
                    <p:cNvSpPr/>
                    <p:nvPr/>
                  </p:nvSpPr>
                  <p:spPr>
                    <a:xfrm>
                      <a:off x="4249080" y="2097360"/>
                      <a:ext cx="0" cy="8254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60" name=""/>
                    <p:cNvSpPr/>
                    <p:nvPr/>
                  </p:nvSpPr>
                  <p:spPr>
                    <a:xfrm>
                      <a:off x="3459960" y="1977480"/>
                      <a:ext cx="0" cy="9453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61" name=""/>
                    <p:cNvSpPr/>
                    <p:nvPr/>
                  </p:nvSpPr>
                  <p:spPr>
                    <a:xfrm>
                      <a:off x="3043080" y="1904040"/>
                      <a:ext cx="0" cy="101880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62" name=""/>
                    <p:cNvSpPr/>
                    <p:nvPr/>
                  </p:nvSpPr>
                  <p:spPr>
                    <a:xfrm>
                      <a:off x="2624400" y="1968120"/>
                      <a:ext cx="0" cy="9547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63" name=""/>
                    <p:cNvSpPr/>
                    <p:nvPr/>
                  </p:nvSpPr>
                  <p:spPr>
                    <a:xfrm>
                      <a:off x="1835280" y="2093400"/>
                      <a:ext cx="0" cy="82944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64" name=""/>
                    <p:cNvSpPr/>
                    <p:nvPr/>
                  </p:nvSpPr>
                  <p:spPr>
                    <a:xfrm>
                      <a:off x="2238840" y="2036520"/>
                      <a:ext cx="0" cy="8859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365" name=""/>
                  <p:cNvGrpSpPr/>
                  <p:nvPr/>
                </p:nvGrpSpPr>
                <p:grpSpPr>
                  <a:xfrm>
                    <a:off x="465840" y="3338280"/>
                    <a:ext cx="2422080" cy="958680"/>
                    <a:chOff x="465840" y="3338280"/>
                    <a:chExt cx="2422080" cy="958680"/>
                  </a:xfrm>
                </p:grpSpPr>
                <p:sp>
                  <p:nvSpPr>
                    <p:cNvPr id="3366" name=""/>
                    <p:cNvSpPr/>
                    <p:nvPr/>
                  </p:nvSpPr>
                  <p:spPr>
                    <a:xfrm>
                      <a:off x="2501640" y="3400200"/>
                      <a:ext cx="0" cy="89676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67" name=""/>
                    <p:cNvSpPr/>
                    <p:nvPr/>
                  </p:nvSpPr>
                  <p:spPr>
                    <a:xfrm>
                      <a:off x="2887920" y="3463200"/>
                      <a:ext cx="0" cy="8254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68" name=""/>
                    <p:cNvSpPr/>
                    <p:nvPr/>
                  </p:nvSpPr>
                  <p:spPr>
                    <a:xfrm>
                      <a:off x="2098800" y="3343320"/>
                      <a:ext cx="0" cy="94968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69" name=""/>
                    <p:cNvSpPr/>
                    <p:nvPr/>
                  </p:nvSpPr>
                  <p:spPr>
                    <a:xfrm>
                      <a:off x="1263240" y="3338280"/>
                      <a:ext cx="0" cy="9547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70" name=""/>
                    <p:cNvSpPr/>
                    <p:nvPr/>
                  </p:nvSpPr>
                  <p:spPr>
                    <a:xfrm flipH="1">
                      <a:off x="465840" y="3459240"/>
                      <a:ext cx="7920" cy="8377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71" name=""/>
                    <p:cNvSpPr/>
                    <p:nvPr/>
                  </p:nvSpPr>
                  <p:spPr>
                    <a:xfrm>
                      <a:off x="877680" y="3406680"/>
                      <a:ext cx="0" cy="886320"/>
                    </a:xfrm>
                    <a:prstGeom prst="line">
                      <a:avLst/>
                    </a:prstGeom>
                    <a:ln w="936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3372" name=""/>
              <p:cNvGrpSpPr/>
              <p:nvPr/>
            </p:nvGrpSpPr>
            <p:grpSpPr>
              <a:xfrm>
                <a:off x="468720" y="1905840"/>
                <a:ext cx="3787560" cy="1552680"/>
                <a:chOff x="468720" y="1905840"/>
                <a:chExt cx="3787560" cy="1552680"/>
              </a:xfrm>
            </p:grpSpPr>
            <p:grpSp>
              <p:nvGrpSpPr>
                <p:cNvPr id="3373" name=""/>
                <p:cNvGrpSpPr/>
                <p:nvPr/>
              </p:nvGrpSpPr>
              <p:grpSpPr>
                <a:xfrm>
                  <a:off x="468720" y="3043080"/>
                  <a:ext cx="2642760" cy="415440"/>
                  <a:chOff x="468720" y="3043080"/>
                  <a:chExt cx="2642760" cy="415440"/>
                </a:xfrm>
              </p:grpSpPr>
              <p:sp>
                <p:nvSpPr>
                  <p:cNvPr id="3374" name=""/>
                  <p:cNvSpPr/>
                  <p:nvPr/>
                </p:nvSpPr>
                <p:spPr>
                  <a:xfrm flipH="1" flipV="1">
                    <a:off x="1904040" y="3045600"/>
                    <a:ext cx="205200" cy="2901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5" name=""/>
                  <p:cNvSpPr/>
                  <p:nvPr/>
                </p:nvSpPr>
                <p:spPr>
                  <a:xfrm flipH="1">
                    <a:off x="1249920" y="3045600"/>
                    <a:ext cx="653760" cy="2901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6" name=""/>
                  <p:cNvSpPr/>
                  <p:nvPr/>
                </p:nvSpPr>
                <p:spPr>
                  <a:xfrm flipH="1" flipV="1">
                    <a:off x="2697840" y="3156480"/>
                    <a:ext cx="185400" cy="302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7" name=""/>
                  <p:cNvSpPr/>
                  <p:nvPr/>
                </p:nvSpPr>
                <p:spPr>
                  <a:xfrm flipV="1">
                    <a:off x="2496600" y="3229920"/>
                    <a:ext cx="614880" cy="171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8" name=""/>
                  <p:cNvSpPr/>
                  <p:nvPr/>
                </p:nvSpPr>
                <p:spPr>
                  <a:xfrm flipH="1" flipV="1">
                    <a:off x="2309040" y="3113280"/>
                    <a:ext cx="186840" cy="2876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9" name=""/>
                  <p:cNvSpPr/>
                  <p:nvPr/>
                </p:nvSpPr>
                <p:spPr>
                  <a:xfrm flipH="1">
                    <a:off x="2093400" y="3165840"/>
                    <a:ext cx="636840" cy="1699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0" name=""/>
                  <p:cNvSpPr/>
                  <p:nvPr/>
                </p:nvSpPr>
                <p:spPr>
                  <a:xfrm flipH="1">
                    <a:off x="1708920" y="3113640"/>
                    <a:ext cx="600120" cy="1555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1" name=""/>
                  <p:cNvSpPr/>
                  <p:nvPr/>
                </p:nvSpPr>
                <p:spPr>
                  <a:xfrm flipH="1" flipV="1">
                    <a:off x="1478520" y="3100680"/>
                    <a:ext cx="230040" cy="1684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2" name=""/>
                  <p:cNvSpPr/>
                  <p:nvPr/>
                </p:nvSpPr>
                <p:spPr>
                  <a:xfrm flipH="1" flipV="1">
                    <a:off x="1099440" y="3165480"/>
                    <a:ext cx="158400" cy="1738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3" name=""/>
                  <p:cNvSpPr/>
                  <p:nvPr/>
                </p:nvSpPr>
                <p:spPr>
                  <a:xfrm flipH="1">
                    <a:off x="870120" y="3113640"/>
                    <a:ext cx="608040" cy="2876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4" name=""/>
                  <p:cNvSpPr/>
                  <p:nvPr/>
                </p:nvSpPr>
                <p:spPr>
                  <a:xfrm flipH="1" flipV="1">
                    <a:off x="696600" y="3229920"/>
                    <a:ext cx="176400" cy="163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5" name=""/>
                  <p:cNvSpPr/>
                  <p:nvPr/>
                </p:nvSpPr>
                <p:spPr>
                  <a:xfrm flipH="1">
                    <a:off x="468720" y="3165840"/>
                    <a:ext cx="630360" cy="292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6" name=""/>
                  <p:cNvSpPr/>
                  <p:nvPr/>
                </p:nvSpPr>
                <p:spPr>
                  <a:xfrm flipV="1">
                    <a:off x="2880000" y="3229920"/>
                    <a:ext cx="223560" cy="2235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7" name=""/>
                  <p:cNvSpPr/>
                  <p:nvPr/>
                </p:nvSpPr>
                <p:spPr>
                  <a:xfrm flipV="1">
                    <a:off x="1693080" y="3043080"/>
                    <a:ext cx="223560" cy="2235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8" name=""/>
                  <p:cNvSpPr/>
                  <p:nvPr/>
                </p:nvSpPr>
                <p:spPr>
                  <a:xfrm flipV="1">
                    <a:off x="2099520" y="3107880"/>
                    <a:ext cx="223560" cy="2235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9" name=""/>
                  <p:cNvSpPr/>
                  <p:nvPr/>
                </p:nvSpPr>
                <p:spPr>
                  <a:xfrm flipV="1">
                    <a:off x="473040" y="3225960"/>
                    <a:ext cx="223560" cy="2235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0" name=""/>
                  <p:cNvSpPr/>
                  <p:nvPr/>
                </p:nvSpPr>
                <p:spPr>
                  <a:xfrm flipV="1">
                    <a:off x="879840" y="3164760"/>
                    <a:ext cx="223560" cy="2235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1" name=""/>
                  <p:cNvSpPr/>
                  <p:nvPr/>
                </p:nvSpPr>
                <p:spPr>
                  <a:xfrm flipV="1">
                    <a:off x="1262160" y="3107880"/>
                    <a:ext cx="223560" cy="2235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2" name=""/>
                  <p:cNvSpPr/>
                  <p:nvPr/>
                </p:nvSpPr>
                <p:spPr>
                  <a:xfrm flipV="1">
                    <a:off x="692640" y="3047400"/>
                    <a:ext cx="1215360" cy="1828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3" name=""/>
                  <p:cNvSpPr/>
                  <p:nvPr/>
                </p:nvSpPr>
                <p:spPr>
                  <a:xfrm flipV="1">
                    <a:off x="473040" y="3274920"/>
                    <a:ext cx="1215360" cy="1828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4" name=""/>
                  <p:cNvSpPr/>
                  <p:nvPr/>
                </p:nvSpPr>
                <p:spPr>
                  <a:xfrm>
                    <a:off x="1688760" y="3274920"/>
                    <a:ext cx="1182960" cy="1828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5" name=""/>
                  <p:cNvSpPr/>
                  <p:nvPr/>
                </p:nvSpPr>
                <p:spPr>
                  <a:xfrm>
                    <a:off x="1912320" y="3047400"/>
                    <a:ext cx="1182960" cy="1828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6" name=""/>
                  <p:cNvSpPr/>
                  <p:nvPr/>
                </p:nvSpPr>
                <p:spPr>
                  <a:xfrm flipV="1">
                    <a:off x="2485800" y="3177000"/>
                    <a:ext cx="223560" cy="2235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97" name=""/>
                <p:cNvGrpSpPr/>
                <p:nvPr/>
              </p:nvGrpSpPr>
              <p:grpSpPr>
                <a:xfrm>
                  <a:off x="1613520" y="1905840"/>
                  <a:ext cx="2642760" cy="415440"/>
                  <a:chOff x="1613520" y="1905840"/>
                  <a:chExt cx="2642760" cy="415440"/>
                </a:xfrm>
              </p:grpSpPr>
              <p:sp>
                <p:nvSpPr>
                  <p:cNvPr id="3398" name=""/>
                  <p:cNvSpPr/>
                  <p:nvPr/>
                </p:nvSpPr>
                <p:spPr>
                  <a:xfrm flipH="1" flipV="1">
                    <a:off x="3048840" y="1908360"/>
                    <a:ext cx="205200" cy="2901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9" name=""/>
                  <p:cNvSpPr/>
                  <p:nvPr/>
                </p:nvSpPr>
                <p:spPr>
                  <a:xfrm flipH="1">
                    <a:off x="2394720" y="1908360"/>
                    <a:ext cx="653760" cy="2901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0" name=""/>
                  <p:cNvSpPr/>
                  <p:nvPr/>
                </p:nvSpPr>
                <p:spPr>
                  <a:xfrm flipH="1" flipV="1">
                    <a:off x="3842640" y="2019240"/>
                    <a:ext cx="185400" cy="302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1" name=""/>
                  <p:cNvSpPr/>
                  <p:nvPr/>
                </p:nvSpPr>
                <p:spPr>
                  <a:xfrm flipV="1">
                    <a:off x="3641400" y="2092680"/>
                    <a:ext cx="614880" cy="171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2" name=""/>
                  <p:cNvSpPr/>
                  <p:nvPr/>
                </p:nvSpPr>
                <p:spPr>
                  <a:xfrm flipH="1" flipV="1">
                    <a:off x="3453840" y="1976040"/>
                    <a:ext cx="186840" cy="2876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3" name=""/>
                  <p:cNvSpPr/>
                  <p:nvPr/>
                </p:nvSpPr>
                <p:spPr>
                  <a:xfrm flipH="1">
                    <a:off x="3238200" y="2028600"/>
                    <a:ext cx="636840" cy="1699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4" name=""/>
                  <p:cNvSpPr/>
                  <p:nvPr/>
                </p:nvSpPr>
                <p:spPr>
                  <a:xfrm flipH="1">
                    <a:off x="2853720" y="1976400"/>
                    <a:ext cx="600120" cy="1555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5" name=""/>
                  <p:cNvSpPr/>
                  <p:nvPr/>
                </p:nvSpPr>
                <p:spPr>
                  <a:xfrm flipH="1" flipV="1">
                    <a:off x="2623320" y="1963440"/>
                    <a:ext cx="230040" cy="1684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6" name=""/>
                  <p:cNvSpPr/>
                  <p:nvPr/>
                </p:nvSpPr>
                <p:spPr>
                  <a:xfrm flipH="1" flipV="1">
                    <a:off x="2244240" y="2028240"/>
                    <a:ext cx="158400" cy="1738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7" name=""/>
                  <p:cNvSpPr/>
                  <p:nvPr/>
                </p:nvSpPr>
                <p:spPr>
                  <a:xfrm flipH="1">
                    <a:off x="2014920" y="1976400"/>
                    <a:ext cx="608040" cy="2876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8" name=""/>
                  <p:cNvSpPr/>
                  <p:nvPr/>
                </p:nvSpPr>
                <p:spPr>
                  <a:xfrm flipH="1" flipV="1">
                    <a:off x="1841400" y="2092680"/>
                    <a:ext cx="176400" cy="163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9" name=""/>
                  <p:cNvSpPr/>
                  <p:nvPr/>
                </p:nvSpPr>
                <p:spPr>
                  <a:xfrm flipH="1">
                    <a:off x="1613520" y="2028600"/>
                    <a:ext cx="630360" cy="292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0" name=""/>
                  <p:cNvSpPr/>
                  <p:nvPr/>
                </p:nvSpPr>
                <p:spPr>
                  <a:xfrm flipV="1">
                    <a:off x="4024800" y="2092680"/>
                    <a:ext cx="223560" cy="2235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1" name=""/>
                  <p:cNvSpPr/>
                  <p:nvPr/>
                </p:nvSpPr>
                <p:spPr>
                  <a:xfrm flipV="1">
                    <a:off x="2837880" y="1905840"/>
                    <a:ext cx="223560" cy="2235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2" name=""/>
                  <p:cNvSpPr/>
                  <p:nvPr/>
                </p:nvSpPr>
                <p:spPr>
                  <a:xfrm flipV="1">
                    <a:off x="3244320" y="1970640"/>
                    <a:ext cx="223560" cy="2235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3" name=""/>
                  <p:cNvSpPr/>
                  <p:nvPr/>
                </p:nvSpPr>
                <p:spPr>
                  <a:xfrm flipV="1">
                    <a:off x="1617840" y="2088720"/>
                    <a:ext cx="223560" cy="2235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4" name=""/>
                  <p:cNvSpPr/>
                  <p:nvPr/>
                </p:nvSpPr>
                <p:spPr>
                  <a:xfrm flipV="1">
                    <a:off x="2024640" y="2027520"/>
                    <a:ext cx="223560" cy="2235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5" name=""/>
                  <p:cNvSpPr/>
                  <p:nvPr/>
                </p:nvSpPr>
                <p:spPr>
                  <a:xfrm flipV="1">
                    <a:off x="2406960" y="1970640"/>
                    <a:ext cx="223560" cy="2235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6" name=""/>
                  <p:cNvSpPr/>
                  <p:nvPr/>
                </p:nvSpPr>
                <p:spPr>
                  <a:xfrm flipV="1">
                    <a:off x="1837440" y="1910160"/>
                    <a:ext cx="1215360" cy="1828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7" name=""/>
                  <p:cNvSpPr/>
                  <p:nvPr/>
                </p:nvSpPr>
                <p:spPr>
                  <a:xfrm flipV="1">
                    <a:off x="1617840" y="2137680"/>
                    <a:ext cx="1215360" cy="1828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8" name=""/>
                  <p:cNvSpPr/>
                  <p:nvPr/>
                </p:nvSpPr>
                <p:spPr>
                  <a:xfrm>
                    <a:off x="2833560" y="2137680"/>
                    <a:ext cx="1182960" cy="1828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9" name=""/>
                  <p:cNvSpPr/>
                  <p:nvPr/>
                </p:nvSpPr>
                <p:spPr>
                  <a:xfrm>
                    <a:off x="3057120" y="1910160"/>
                    <a:ext cx="1182960" cy="1828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0" name=""/>
                  <p:cNvSpPr/>
                  <p:nvPr/>
                </p:nvSpPr>
                <p:spPr>
                  <a:xfrm flipV="1">
                    <a:off x="3630600" y="2039760"/>
                    <a:ext cx="223560" cy="2235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21" name=""/>
              <p:cNvGrpSpPr/>
              <p:nvPr/>
            </p:nvGrpSpPr>
            <p:grpSpPr>
              <a:xfrm>
                <a:off x="465480" y="2088360"/>
                <a:ext cx="3785400" cy="2214720"/>
                <a:chOff x="465480" y="2088360"/>
                <a:chExt cx="3785400" cy="2214720"/>
              </a:xfrm>
            </p:grpSpPr>
            <p:grpSp>
              <p:nvGrpSpPr>
                <p:cNvPr id="3422" name=""/>
                <p:cNvGrpSpPr/>
                <p:nvPr/>
              </p:nvGrpSpPr>
              <p:grpSpPr>
                <a:xfrm>
                  <a:off x="2880360" y="3226320"/>
                  <a:ext cx="232200" cy="1068480"/>
                  <a:chOff x="2880360" y="3226320"/>
                  <a:chExt cx="232200" cy="1068480"/>
                </a:xfrm>
              </p:grpSpPr>
              <p:sp>
                <p:nvSpPr>
                  <p:cNvPr id="3423" name=""/>
                  <p:cNvSpPr/>
                  <p:nvPr/>
                </p:nvSpPr>
                <p:spPr>
                  <a:xfrm flipV="1">
                    <a:off x="2884680" y="3672360"/>
                    <a:ext cx="227520" cy="622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4" name=""/>
                  <p:cNvSpPr/>
                  <p:nvPr/>
                </p:nvSpPr>
                <p:spPr>
                  <a:xfrm flipH="1" flipV="1">
                    <a:off x="2880360" y="3453480"/>
                    <a:ext cx="231480" cy="218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5" name=""/>
                  <p:cNvSpPr/>
                  <p:nvPr/>
                </p:nvSpPr>
                <p:spPr>
                  <a:xfrm flipH="1" flipV="1">
                    <a:off x="2884680" y="3888360"/>
                    <a:ext cx="227520" cy="1792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6" name=""/>
                  <p:cNvSpPr/>
                  <p:nvPr/>
                </p:nvSpPr>
                <p:spPr>
                  <a:xfrm flipV="1">
                    <a:off x="2884680" y="3229920"/>
                    <a:ext cx="227520" cy="659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7" name=""/>
                  <p:cNvSpPr/>
                  <p:nvPr/>
                </p:nvSpPr>
                <p:spPr>
                  <a:xfrm flipV="1">
                    <a:off x="2880720" y="3226320"/>
                    <a:ext cx="223560" cy="223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8" name=""/>
                  <p:cNvSpPr/>
                  <p:nvPr/>
                </p:nvSpPr>
                <p:spPr>
                  <a:xfrm>
                    <a:off x="2885040" y="3454200"/>
                    <a:ext cx="0" cy="8373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9" name=""/>
                  <p:cNvSpPr/>
                  <p:nvPr/>
                </p:nvSpPr>
                <p:spPr>
                  <a:xfrm flipV="1">
                    <a:off x="2885040" y="3669480"/>
                    <a:ext cx="223560" cy="223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0" name=""/>
                  <p:cNvSpPr/>
                  <p:nvPr/>
                </p:nvSpPr>
                <p:spPr>
                  <a:xfrm>
                    <a:off x="3112560" y="3234600"/>
                    <a:ext cx="0" cy="8373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31" name=""/>
                <p:cNvGrpSpPr/>
                <p:nvPr/>
              </p:nvGrpSpPr>
              <p:grpSpPr>
                <a:xfrm>
                  <a:off x="465480" y="3234600"/>
                  <a:ext cx="232200" cy="1068480"/>
                  <a:chOff x="465480" y="3234600"/>
                  <a:chExt cx="232200" cy="1068480"/>
                </a:xfrm>
              </p:grpSpPr>
              <p:sp>
                <p:nvSpPr>
                  <p:cNvPr id="3432" name=""/>
                  <p:cNvSpPr/>
                  <p:nvPr/>
                </p:nvSpPr>
                <p:spPr>
                  <a:xfrm flipV="1">
                    <a:off x="469800" y="3680640"/>
                    <a:ext cx="227520" cy="622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3" name=""/>
                  <p:cNvSpPr/>
                  <p:nvPr/>
                </p:nvSpPr>
                <p:spPr>
                  <a:xfrm flipH="1" flipV="1">
                    <a:off x="465480" y="3461760"/>
                    <a:ext cx="231480" cy="218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4" name=""/>
                  <p:cNvSpPr/>
                  <p:nvPr/>
                </p:nvSpPr>
                <p:spPr>
                  <a:xfrm flipH="1" flipV="1">
                    <a:off x="469800" y="3896640"/>
                    <a:ext cx="227520" cy="1792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5" name=""/>
                  <p:cNvSpPr/>
                  <p:nvPr/>
                </p:nvSpPr>
                <p:spPr>
                  <a:xfrm flipV="1">
                    <a:off x="469800" y="3238200"/>
                    <a:ext cx="227520" cy="659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6" name=""/>
                  <p:cNvSpPr/>
                  <p:nvPr/>
                </p:nvSpPr>
                <p:spPr>
                  <a:xfrm flipV="1">
                    <a:off x="465840" y="3234600"/>
                    <a:ext cx="223560" cy="223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7" name=""/>
                  <p:cNvSpPr/>
                  <p:nvPr/>
                </p:nvSpPr>
                <p:spPr>
                  <a:xfrm>
                    <a:off x="470160" y="3462480"/>
                    <a:ext cx="0" cy="8373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8" name=""/>
                  <p:cNvSpPr/>
                  <p:nvPr/>
                </p:nvSpPr>
                <p:spPr>
                  <a:xfrm flipV="1">
                    <a:off x="470160" y="3677760"/>
                    <a:ext cx="223560" cy="223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9" name=""/>
                  <p:cNvSpPr/>
                  <p:nvPr/>
                </p:nvSpPr>
                <p:spPr>
                  <a:xfrm>
                    <a:off x="697680" y="3242880"/>
                    <a:ext cx="0" cy="8373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0" name=""/>
                <p:cNvGrpSpPr/>
                <p:nvPr/>
              </p:nvGrpSpPr>
              <p:grpSpPr>
                <a:xfrm>
                  <a:off x="4018680" y="2088360"/>
                  <a:ext cx="232200" cy="1068480"/>
                  <a:chOff x="4018680" y="2088360"/>
                  <a:chExt cx="232200" cy="1068480"/>
                </a:xfrm>
              </p:grpSpPr>
              <p:sp>
                <p:nvSpPr>
                  <p:cNvPr id="3441" name=""/>
                  <p:cNvSpPr/>
                  <p:nvPr/>
                </p:nvSpPr>
                <p:spPr>
                  <a:xfrm flipV="1">
                    <a:off x="4023000" y="2534400"/>
                    <a:ext cx="227520" cy="622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2" name=""/>
                  <p:cNvSpPr/>
                  <p:nvPr/>
                </p:nvSpPr>
                <p:spPr>
                  <a:xfrm flipH="1" flipV="1">
                    <a:off x="4018680" y="2315520"/>
                    <a:ext cx="231480" cy="218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3" name=""/>
                  <p:cNvSpPr/>
                  <p:nvPr/>
                </p:nvSpPr>
                <p:spPr>
                  <a:xfrm flipH="1" flipV="1">
                    <a:off x="4023000" y="2750400"/>
                    <a:ext cx="227520" cy="1792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4" name=""/>
                  <p:cNvSpPr/>
                  <p:nvPr/>
                </p:nvSpPr>
                <p:spPr>
                  <a:xfrm flipV="1">
                    <a:off x="4023000" y="2091960"/>
                    <a:ext cx="227520" cy="659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5" name=""/>
                  <p:cNvSpPr/>
                  <p:nvPr/>
                </p:nvSpPr>
                <p:spPr>
                  <a:xfrm flipV="1">
                    <a:off x="4019040" y="2088360"/>
                    <a:ext cx="223560" cy="223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6" name=""/>
                  <p:cNvSpPr/>
                  <p:nvPr/>
                </p:nvSpPr>
                <p:spPr>
                  <a:xfrm>
                    <a:off x="4023360" y="2316240"/>
                    <a:ext cx="0" cy="8373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7" name=""/>
                  <p:cNvSpPr/>
                  <p:nvPr/>
                </p:nvSpPr>
                <p:spPr>
                  <a:xfrm flipV="1">
                    <a:off x="4023360" y="2531520"/>
                    <a:ext cx="223560" cy="223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8" name=""/>
                  <p:cNvSpPr/>
                  <p:nvPr/>
                </p:nvSpPr>
                <p:spPr>
                  <a:xfrm>
                    <a:off x="4250880" y="2096640"/>
                    <a:ext cx="0" cy="8373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9" name=""/>
                <p:cNvGrpSpPr/>
                <p:nvPr/>
              </p:nvGrpSpPr>
              <p:grpSpPr>
                <a:xfrm>
                  <a:off x="1603800" y="2100240"/>
                  <a:ext cx="232200" cy="1068480"/>
                  <a:chOff x="1603800" y="2100240"/>
                  <a:chExt cx="232200" cy="1068480"/>
                </a:xfrm>
              </p:grpSpPr>
              <p:sp>
                <p:nvSpPr>
                  <p:cNvPr id="3450" name=""/>
                  <p:cNvSpPr/>
                  <p:nvPr/>
                </p:nvSpPr>
                <p:spPr>
                  <a:xfrm flipV="1">
                    <a:off x="1608120" y="2546280"/>
                    <a:ext cx="227520" cy="622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1" name=""/>
                  <p:cNvSpPr/>
                  <p:nvPr/>
                </p:nvSpPr>
                <p:spPr>
                  <a:xfrm flipH="1" flipV="1">
                    <a:off x="1603800" y="2327400"/>
                    <a:ext cx="231480" cy="2185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2" name=""/>
                  <p:cNvSpPr/>
                  <p:nvPr/>
                </p:nvSpPr>
                <p:spPr>
                  <a:xfrm flipH="1" flipV="1">
                    <a:off x="1608120" y="2762280"/>
                    <a:ext cx="227520" cy="1792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3" name=""/>
                  <p:cNvSpPr/>
                  <p:nvPr/>
                </p:nvSpPr>
                <p:spPr>
                  <a:xfrm flipV="1">
                    <a:off x="1608120" y="2103840"/>
                    <a:ext cx="227520" cy="659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4" name=""/>
                  <p:cNvSpPr/>
                  <p:nvPr/>
                </p:nvSpPr>
                <p:spPr>
                  <a:xfrm flipV="1">
                    <a:off x="1604160" y="2100240"/>
                    <a:ext cx="223560" cy="223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5" name=""/>
                  <p:cNvSpPr/>
                  <p:nvPr/>
                </p:nvSpPr>
                <p:spPr>
                  <a:xfrm>
                    <a:off x="1608480" y="2328120"/>
                    <a:ext cx="0" cy="8373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6" name=""/>
                  <p:cNvSpPr/>
                  <p:nvPr/>
                </p:nvSpPr>
                <p:spPr>
                  <a:xfrm flipV="1">
                    <a:off x="1608480" y="2543400"/>
                    <a:ext cx="223560" cy="223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7" name=""/>
                  <p:cNvSpPr/>
                  <p:nvPr/>
                </p:nvSpPr>
                <p:spPr>
                  <a:xfrm>
                    <a:off x="1836000" y="2108520"/>
                    <a:ext cx="0" cy="8373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58" name=""/>
              <p:cNvGrpSpPr/>
              <p:nvPr/>
            </p:nvGrpSpPr>
            <p:grpSpPr>
              <a:xfrm>
                <a:off x="696600" y="2136240"/>
                <a:ext cx="3325680" cy="1931040"/>
                <a:chOff x="696600" y="2136240"/>
                <a:chExt cx="3325680" cy="1931040"/>
              </a:xfrm>
            </p:grpSpPr>
            <p:grpSp>
              <p:nvGrpSpPr>
                <p:cNvPr id="3459" name=""/>
                <p:cNvGrpSpPr/>
                <p:nvPr/>
              </p:nvGrpSpPr>
              <p:grpSpPr>
                <a:xfrm>
                  <a:off x="696600" y="3046320"/>
                  <a:ext cx="2415240" cy="1020960"/>
                  <a:chOff x="696600" y="3046320"/>
                  <a:chExt cx="2415240" cy="1020960"/>
                </a:xfrm>
              </p:grpSpPr>
              <p:sp>
                <p:nvSpPr>
                  <p:cNvPr id="3460" name=""/>
                  <p:cNvSpPr/>
                  <p:nvPr/>
                </p:nvSpPr>
                <p:spPr>
                  <a:xfrm flipV="1">
                    <a:off x="696600" y="3232080"/>
                    <a:ext cx="0" cy="835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1" name=""/>
                  <p:cNvSpPr/>
                  <p:nvPr/>
                </p:nvSpPr>
                <p:spPr>
                  <a:xfrm flipV="1">
                    <a:off x="696600" y="3046320"/>
                    <a:ext cx="1207800" cy="1854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2" name=""/>
                  <p:cNvSpPr/>
                  <p:nvPr/>
                </p:nvSpPr>
                <p:spPr>
                  <a:xfrm flipV="1">
                    <a:off x="3111840" y="3232080"/>
                    <a:ext cx="0" cy="835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3" name=""/>
                  <p:cNvSpPr/>
                  <p:nvPr/>
                </p:nvSpPr>
                <p:spPr>
                  <a:xfrm flipH="1" flipV="1">
                    <a:off x="1904400" y="3046320"/>
                    <a:ext cx="1207440" cy="1854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64" name=""/>
                <p:cNvGrpSpPr/>
                <p:nvPr/>
              </p:nvGrpSpPr>
              <p:grpSpPr>
                <a:xfrm>
                  <a:off x="924120" y="2818800"/>
                  <a:ext cx="2415240" cy="1020960"/>
                  <a:chOff x="924120" y="2818800"/>
                  <a:chExt cx="2415240" cy="1020960"/>
                </a:xfrm>
              </p:grpSpPr>
              <p:sp>
                <p:nvSpPr>
                  <p:cNvPr id="3465" name=""/>
                  <p:cNvSpPr/>
                  <p:nvPr/>
                </p:nvSpPr>
                <p:spPr>
                  <a:xfrm flipV="1">
                    <a:off x="924120" y="3004560"/>
                    <a:ext cx="0" cy="835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6" name=""/>
                  <p:cNvSpPr/>
                  <p:nvPr/>
                </p:nvSpPr>
                <p:spPr>
                  <a:xfrm flipV="1">
                    <a:off x="924120" y="2818800"/>
                    <a:ext cx="1207440" cy="1854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7" name=""/>
                  <p:cNvSpPr/>
                  <p:nvPr/>
                </p:nvSpPr>
                <p:spPr>
                  <a:xfrm flipV="1">
                    <a:off x="3339360" y="3004560"/>
                    <a:ext cx="0" cy="835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8" name=""/>
                  <p:cNvSpPr/>
                  <p:nvPr/>
                </p:nvSpPr>
                <p:spPr>
                  <a:xfrm flipH="1" flipV="1">
                    <a:off x="2131560" y="2818800"/>
                    <a:ext cx="1207440" cy="1854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69" name=""/>
                <p:cNvGrpSpPr/>
                <p:nvPr/>
              </p:nvGrpSpPr>
              <p:grpSpPr>
                <a:xfrm>
                  <a:off x="1151640" y="2591280"/>
                  <a:ext cx="2415240" cy="1020960"/>
                  <a:chOff x="1151640" y="2591280"/>
                  <a:chExt cx="2415240" cy="1020960"/>
                </a:xfrm>
              </p:grpSpPr>
              <p:sp>
                <p:nvSpPr>
                  <p:cNvPr id="3470" name=""/>
                  <p:cNvSpPr/>
                  <p:nvPr/>
                </p:nvSpPr>
                <p:spPr>
                  <a:xfrm flipV="1">
                    <a:off x="1151640" y="2776680"/>
                    <a:ext cx="0" cy="835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1" name=""/>
                  <p:cNvSpPr/>
                  <p:nvPr/>
                </p:nvSpPr>
                <p:spPr>
                  <a:xfrm flipV="1">
                    <a:off x="1151640" y="2591280"/>
                    <a:ext cx="1207440" cy="1854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2" name=""/>
                  <p:cNvSpPr/>
                  <p:nvPr/>
                </p:nvSpPr>
                <p:spPr>
                  <a:xfrm flipV="1">
                    <a:off x="3566880" y="2776680"/>
                    <a:ext cx="0" cy="835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3" name=""/>
                  <p:cNvSpPr/>
                  <p:nvPr/>
                </p:nvSpPr>
                <p:spPr>
                  <a:xfrm flipH="1" flipV="1">
                    <a:off x="2359080" y="2591280"/>
                    <a:ext cx="1207440" cy="1854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4" name=""/>
                <p:cNvGrpSpPr/>
                <p:nvPr/>
              </p:nvGrpSpPr>
              <p:grpSpPr>
                <a:xfrm>
                  <a:off x="1379520" y="2363400"/>
                  <a:ext cx="2415240" cy="1020960"/>
                  <a:chOff x="1379520" y="2363400"/>
                  <a:chExt cx="2415240" cy="1020960"/>
                </a:xfrm>
              </p:grpSpPr>
              <p:sp>
                <p:nvSpPr>
                  <p:cNvPr id="3475" name=""/>
                  <p:cNvSpPr/>
                  <p:nvPr/>
                </p:nvSpPr>
                <p:spPr>
                  <a:xfrm flipV="1">
                    <a:off x="1379520" y="2549160"/>
                    <a:ext cx="0" cy="835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6" name=""/>
                  <p:cNvSpPr/>
                  <p:nvPr/>
                </p:nvSpPr>
                <p:spPr>
                  <a:xfrm flipV="1">
                    <a:off x="1379520" y="2363400"/>
                    <a:ext cx="1207440" cy="1854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7" name=""/>
                  <p:cNvSpPr/>
                  <p:nvPr/>
                </p:nvSpPr>
                <p:spPr>
                  <a:xfrm flipV="1">
                    <a:off x="3794760" y="2549160"/>
                    <a:ext cx="0" cy="835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8" name=""/>
                  <p:cNvSpPr/>
                  <p:nvPr/>
                </p:nvSpPr>
                <p:spPr>
                  <a:xfrm flipH="1" flipV="1">
                    <a:off x="2586600" y="2363400"/>
                    <a:ext cx="1207800" cy="1854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9" name=""/>
                <p:cNvGrpSpPr/>
                <p:nvPr/>
              </p:nvGrpSpPr>
              <p:grpSpPr>
                <a:xfrm>
                  <a:off x="1607040" y="2136240"/>
                  <a:ext cx="2415240" cy="1020960"/>
                  <a:chOff x="1607040" y="2136240"/>
                  <a:chExt cx="2415240" cy="1020960"/>
                </a:xfrm>
              </p:grpSpPr>
              <p:sp>
                <p:nvSpPr>
                  <p:cNvPr id="3480" name=""/>
                  <p:cNvSpPr/>
                  <p:nvPr/>
                </p:nvSpPr>
                <p:spPr>
                  <a:xfrm flipV="1">
                    <a:off x="1607040" y="2322000"/>
                    <a:ext cx="0" cy="835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1" name=""/>
                  <p:cNvSpPr/>
                  <p:nvPr/>
                </p:nvSpPr>
                <p:spPr>
                  <a:xfrm flipV="1">
                    <a:off x="1607040" y="2136240"/>
                    <a:ext cx="1207440" cy="1854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2" name=""/>
                  <p:cNvSpPr/>
                  <p:nvPr/>
                </p:nvSpPr>
                <p:spPr>
                  <a:xfrm flipV="1">
                    <a:off x="4022280" y="2322000"/>
                    <a:ext cx="0" cy="835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3" name=""/>
                  <p:cNvSpPr/>
                  <p:nvPr/>
                </p:nvSpPr>
                <p:spPr>
                  <a:xfrm flipH="1" flipV="1">
                    <a:off x="2814120" y="2136240"/>
                    <a:ext cx="1207800" cy="1854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84" name=""/>
              <p:cNvGrpSpPr/>
              <p:nvPr/>
            </p:nvGrpSpPr>
            <p:grpSpPr>
              <a:xfrm>
                <a:off x="469080" y="2326680"/>
                <a:ext cx="3781800" cy="1973160"/>
                <a:chOff x="469080" y="2326680"/>
                <a:chExt cx="3781800" cy="1973160"/>
              </a:xfrm>
            </p:grpSpPr>
            <p:grpSp>
              <p:nvGrpSpPr>
                <p:cNvPr id="3485" name=""/>
                <p:cNvGrpSpPr/>
                <p:nvPr/>
              </p:nvGrpSpPr>
              <p:grpSpPr>
                <a:xfrm>
                  <a:off x="469080" y="2339640"/>
                  <a:ext cx="1366200" cy="1960200"/>
                  <a:chOff x="469080" y="2339640"/>
                  <a:chExt cx="1366200" cy="1960200"/>
                </a:xfrm>
              </p:grpSpPr>
              <p:sp>
                <p:nvSpPr>
                  <p:cNvPr id="3486" name=""/>
                  <p:cNvSpPr/>
                  <p:nvPr/>
                </p:nvSpPr>
                <p:spPr>
                  <a:xfrm flipV="1">
                    <a:off x="469080" y="2339640"/>
                    <a:ext cx="1366200" cy="1365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7" name=""/>
                  <p:cNvSpPr/>
                  <p:nvPr/>
                </p:nvSpPr>
                <p:spPr>
                  <a:xfrm flipV="1">
                    <a:off x="469080" y="2548800"/>
                    <a:ext cx="1366200" cy="1365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8" name=""/>
                  <p:cNvSpPr/>
                  <p:nvPr/>
                </p:nvSpPr>
                <p:spPr>
                  <a:xfrm flipV="1">
                    <a:off x="469080" y="2734560"/>
                    <a:ext cx="1366200" cy="1365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9" name=""/>
                  <p:cNvSpPr/>
                  <p:nvPr/>
                </p:nvSpPr>
                <p:spPr>
                  <a:xfrm flipV="1">
                    <a:off x="469080" y="2934720"/>
                    <a:ext cx="1366200" cy="1365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90" name=""/>
                <p:cNvGrpSpPr/>
                <p:nvPr/>
              </p:nvGrpSpPr>
              <p:grpSpPr>
                <a:xfrm>
                  <a:off x="2884680" y="2326680"/>
                  <a:ext cx="1366200" cy="1973160"/>
                  <a:chOff x="2884680" y="2326680"/>
                  <a:chExt cx="1366200" cy="1973160"/>
                </a:xfrm>
              </p:grpSpPr>
              <p:sp>
                <p:nvSpPr>
                  <p:cNvPr id="3491" name=""/>
                  <p:cNvSpPr/>
                  <p:nvPr/>
                </p:nvSpPr>
                <p:spPr>
                  <a:xfrm flipV="1">
                    <a:off x="2884680" y="2934720"/>
                    <a:ext cx="1366200" cy="1365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2" name=""/>
                  <p:cNvSpPr/>
                  <p:nvPr/>
                </p:nvSpPr>
                <p:spPr>
                  <a:xfrm flipV="1">
                    <a:off x="2884680" y="2326680"/>
                    <a:ext cx="1366200" cy="1365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3" name=""/>
                  <p:cNvSpPr/>
                  <p:nvPr/>
                </p:nvSpPr>
                <p:spPr>
                  <a:xfrm flipV="1">
                    <a:off x="2884680" y="2535840"/>
                    <a:ext cx="1366200" cy="1365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4" name=""/>
                  <p:cNvSpPr/>
                  <p:nvPr/>
                </p:nvSpPr>
                <p:spPr>
                  <a:xfrm flipV="1">
                    <a:off x="2884680" y="2736000"/>
                    <a:ext cx="1366200" cy="13651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495" name=""/>
              <p:cNvSpPr/>
              <p:nvPr/>
            </p:nvSpPr>
            <p:spPr>
              <a:xfrm flipV="1">
                <a:off x="1679760" y="1916280"/>
                <a:ext cx="1369800" cy="13647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96" name=""/>
              <p:cNvGrpSpPr/>
              <p:nvPr/>
            </p:nvGrpSpPr>
            <p:grpSpPr>
              <a:xfrm>
                <a:off x="469080" y="2093760"/>
                <a:ext cx="3778200" cy="1364760"/>
                <a:chOff x="469080" y="2093760"/>
                <a:chExt cx="3778200" cy="1364760"/>
              </a:xfrm>
            </p:grpSpPr>
            <p:sp>
              <p:nvSpPr>
                <p:cNvPr id="3497" name=""/>
                <p:cNvSpPr/>
                <p:nvPr/>
              </p:nvSpPr>
              <p:spPr>
                <a:xfrm flipV="1">
                  <a:off x="2877480" y="2093760"/>
                  <a:ext cx="1369800" cy="1364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8" name=""/>
                <p:cNvSpPr/>
                <p:nvPr/>
              </p:nvSpPr>
              <p:spPr>
                <a:xfrm flipV="1">
                  <a:off x="469080" y="2093760"/>
                  <a:ext cx="1365840" cy="1364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9" name=""/>
              <p:cNvGrpSpPr/>
              <p:nvPr/>
            </p:nvGrpSpPr>
            <p:grpSpPr>
              <a:xfrm>
                <a:off x="650160" y="1937520"/>
                <a:ext cx="3405600" cy="1495800"/>
                <a:chOff x="650160" y="1937520"/>
                <a:chExt cx="3405600" cy="1495800"/>
              </a:xfrm>
            </p:grpSpPr>
            <p:sp>
              <p:nvSpPr>
                <p:cNvPr id="3500" name=""/>
                <p:cNvSpPr/>
                <p:nvPr/>
              </p:nvSpPr>
              <p:spPr>
                <a:xfrm flipV="1">
                  <a:off x="1905120" y="1943280"/>
                  <a:ext cx="1368720" cy="13654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1" name=""/>
                <p:cNvSpPr/>
                <p:nvPr/>
              </p:nvSpPr>
              <p:spPr>
                <a:xfrm flipV="1">
                  <a:off x="2110320" y="1961640"/>
                  <a:ext cx="1368720" cy="13654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2" name=""/>
                <p:cNvSpPr/>
                <p:nvPr/>
              </p:nvSpPr>
              <p:spPr>
                <a:xfrm flipV="1">
                  <a:off x="2497320" y="2028240"/>
                  <a:ext cx="1368720" cy="13654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3" name=""/>
                <p:cNvSpPr/>
                <p:nvPr/>
              </p:nvSpPr>
              <p:spPr>
                <a:xfrm flipV="1">
                  <a:off x="2687040" y="2067840"/>
                  <a:ext cx="1368720" cy="13654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4" name=""/>
                <p:cNvSpPr/>
                <p:nvPr/>
              </p:nvSpPr>
              <p:spPr>
                <a:xfrm flipV="1">
                  <a:off x="650160" y="2067480"/>
                  <a:ext cx="1350360" cy="13654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5" name=""/>
                <p:cNvSpPr/>
                <p:nvPr/>
              </p:nvSpPr>
              <p:spPr>
                <a:xfrm flipV="1">
                  <a:off x="874800" y="2036160"/>
                  <a:ext cx="1350360" cy="13654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6" name=""/>
                <p:cNvSpPr/>
                <p:nvPr/>
              </p:nvSpPr>
              <p:spPr>
                <a:xfrm flipV="1">
                  <a:off x="1259280" y="1974600"/>
                  <a:ext cx="1350360" cy="13654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7" name=""/>
                <p:cNvSpPr/>
                <p:nvPr/>
              </p:nvSpPr>
              <p:spPr>
                <a:xfrm flipV="1">
                  <a:off x="1466640" y="1937520"/>
                  <a:ext cx="1355400" cy="13654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8" name=""/>
                <p:cNvSpPr/>
                <p:nvPr/>
              </p:nvSpPr>
              <p:spPr>
                <a:xfrm flipV="1">
                  <a:off x="1061640" y="2006280"/>
                  <a:ext cx="1350360" cy="13654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9" name=""/>
                <p:cNvSpPr/>
                <p:nvPr/>
              </p:nvSpPr>
              <p:spPr>
                <a:xfrm flipV="1">
                  <a:off x="2280960" y="1999440"/>
                  <a:ext cx="1368720" cy="1375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0" name=""/>
              <p:cNvGrpSpPr/>
              <p:nvPr/>
            </p:nvGrpSpPr>
            <p:grpSpPr>
              <a:xfrm>
                <a:off x="469080" y="1907640"/>
                <a:ext cx="3781800" cy="2387160"/>
                <a:chOff x="469080" y="1907640"/>
                <a:chExt cx="3781800" cy="2387160"/>
              </a:xfrm>
            </p:grpSpPr>
            <p:sp>
              <p:nvSpPr>
                <p:cNvPr id="3511" name=""/>
                <p:cNvSpPr/>
                <p:nvPr/>
              </p:nvSpPr>
              <p:spPr>
                <a:xfrm flipV="1">
                  <a:off x="469080" y="3273120"/>
                  <a:ext cx="1207800" cy="1857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2" name=""/>
                <p:cNvSpPr/>
                <p:nvPr/>
              </p:nvSpPr>
              <p:spPr>
                <a:xfrm flipH="1" flipV="1">
                  <a:off x="1676520" y="3273120"/>
                  <a:ext cx="1207800" cy="1857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3" name=""/>
                <p:cNvSpPr/>
                <p:nvPr/>
              </p:nvSpPr>
              <p:spPr>
                <a:xfrm flipV="1">
                  <a:off x="1835280" y="1907640"/>
                  <a:ext cx="1207800" cy="1857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14" name=""/>
                <p:cNvGrpSpPr/>
                <p:nvPr/>
              </p:nvGrpSpPr>
              <p:grpSpPr>
                <a:xfrm>
                  <a:off x="469080" y="2093400"/>
                  <a:ext cx="3781800" cy="2201400"/>
                  <a:chOff x="469080" y="2093400"/>
                  <a:chExt cx="3781800" cy="2201400"/>
                </a:xfrm>
              </p:grpSpPr>
              <p:sp>
                <p:nvSpPr>
                  <p:cNvPr id="3515" name=""/>
                  <p:cNvSpPr/>
                  <p:nvPr/>
                </p:nvSpPr>
                <p:spPr>
                  <a:xfrm flipV="1">
                    <a:off x="469080" y="3458880"/>
                    <a:ext cx="0" cy="83592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6" name=""/>
                  <p:cNvSpPr/>
                  <p:nvPr/>
                </p:nvSpPr>
                <p:spPr>
                  <a:xfrm flipV="1">
                    <a:off x="2884680" y="3458880"/>
                    <a:ext cx="0" cy="83592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7" name=""/>
                  <p:cNvSpPr/>
                  <p:nvPr/>
                </p:nvSpPr>
                <p:spPr>
                  <a:xfrm flipV="1">
                    <a:off x="1835280" y="2093400"/>
                    <a:ext cx="0" cy="83592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8" name=""/>
                  <p:cNvSpPr/>
                  <p:nvPr/>
                </p:nvSpPr>
                <p:spPr>
                  <a:xfrm flipV="1">
                    <a:off x="4250880" y="2093400"/>
                    <a:ext cx="0" cy="83592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19" name=""/>
                <p:cNvSpPr/>
                <p:nvPr/>
              </p:nvSpPr>
              <p:spPr>
                <a:xfrm flipH="1" flipV="1">
                  <a:off x="3042720" y="1907640"/>
                  <a:ext cx="1207800" cy="1857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20" name=""/>
              <p:cNvSpPr/>
              <p:nvPr/>
            </p:nvSpPr>
            <p:spPr>
              <a:xfrm flipV="1">
                <a:off x="2112840" y="3394800"/>
                <a:ext cx="379800" cy="38124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1" name=""/>
              <p:cNvSpPr/>
              <p:nvPr/>
            </p:nvSpPr>
            <p:spPr>
              <a:xfrm flipV="1">
                <a:off x="549360" y="3396600"/>
                <a:ext cx="379800" cy="38124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2" name=""/>
              <p:cNvSpPr/>
              <p:nvPr/>
            </p:nvSpPr>
            <p:spPr>
              <a:xfrm flipV="1">
                <a:off x="932400" y="3340080"/>
                <a:ext cx="379800" cy="38124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3" name=""/>
              <p:cNvSpPr/>
              <p:nvPr/>
            </p:nvSpPr>
            <p:spPr>
              <a:xfrm flipV="1">
                <a:off x="1346040" y="3283200"/>
                <a:ext cx="379800" cy="38124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4" name=""/>
              <p:cNvSpPr/>
              <p:nvPr/>
            </p:nvSpPr>
            <p:spPr>
              <a:xfrm flipV="1">
                <a:off x="1731240" y="3331080"/>
                <a:ext cx="379440" cy="38124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5" name=""/>
              <p:cNvSpPr/>
              <p:nvPr/>
            </p:nvSpPr>
            <p:spPr>
              <a:xfrm flipV="1">
                <a:off x="2618640" y="3460680"/>
                <a:ext cx="258480" cy="24444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6" name=""/>
              <p:cNvSpPr/>
              <p:nvPr/>
            </p:nvSpPr>
            <p:spPr>
              <a:xfrm flipV="1">
                <a:off x="217440" y="3462120"/>
                <a:ext cx="258840" cy="24444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7" name=""/>
              <p:cNvSpPr/>
              <p:nvPr/>
            </p:nvSpPr>
            <p:spPr>
              <a:xfrm flipV="1">
                <a:off x="3850200" y="1617840"/>
                <a:ext cx="379800" cy="38124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8" name=""/>
              <p:cNvSpPr/>
              <p:nvPr/>
            </p:nvSpPr>
            <p:spPr>
              <a:xfrm flipV="1">
                <a:off x="2256480" y="1620000"/>
                <a:ext cx="379800" cy="38124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9" name=""/>
              <p:cNvSpPr/>
              <p:nvPr/>
            </p:nvSpPr>
            <p:spPr>
              <a:xfrm flipV="1">
                <a:off x="2670120" y="1563120"/>
                <a:ext cx="379440" cy="38124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0" name=""/>
              <p:cNvSpPr/>
              <p:nvPr/>
            </p:nvSpPr>
            <p:spPr>
              <a:xfrm flipV="1">
                <a:off x="3053160" y="1506240"/>
                <a:ext cx="379800" cy="38196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1" name=""/>
              <p:cNvSpPr/>
              <p:nvPr/>
            </p:nvSpPr>
            <p:spPr>
              <a:xfrm flipV="1">
                <a:off x="3468600" y="1554480"/>
                <a:ext cx="379800" cy="38124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2" name=""/>
              <p:cNvSpPr/>
              <p:nvPr/>
            </p:nvSpPr>
            <p:spPr>
              <a:xfrm flipV="1">
                <a:off x="4249080" y="1820880"/>
                <a:ext cx="258840" cy="24480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3" name=""/>
              <p:cNvSpPr/>
              <p:nvPr/>
            </p:nvSpPr>
            <p:spPr>
              <a:xfrm flipV="1">
                <a:off x="1862280" y="1806480"/>
                <a:ext cx="258840" cy="24444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4" name=""/>
              <p:cNvSpPr/>
              <p:nvPr/>
            </p:nvSpPr>
            <p:spPr>
              <a:xfrm rot="8034000">
                <a:off x="673920" y="4116600"/>
                <a:ext cx="951120" cy="828360"/>
              </a:xfrm>
              <a:prstGeom prst="leftArrow">
                <a:avLst>
                  <a:gd name="adj1" fmla="val 50000"/>
                  <a:gd name="adj2" fmla="val 28705"/>
                </a:avLst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5" name=""/>
              <p:cNvSpPr/>
              <p:nvPr/>
            </p:nvSpPr>
            <p:spPr>
              <a:xfrm flipH="1">
                <a:off x="3088800" y="2868120"/>
                <a:ext cx="365760" cy="363600"/>
              </a:xfrm>
              <a:prstGeom prst="line">
                <a:avLst/>
              </a:prstGeom>
              <a:ln w="3816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6" name=""/>
              <p:cNvSpPr/>
              <p:nvPr/>
            </p:nvSpPr>
            <p:spPr>
              <a:xfrm flipH="1">
                <a:off x="689400" y="2853720"/>
                <a:ext cx="365760" cy="363600"/>
              </a:xfrm>
              <a:prstGeom prst="line">
                <a:avLst/>
              </a:prstGeom>
              <a:ln w="3816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7" name=""/>
              <p:cNvSpPr/>
              <p:nvPr/>
            </p:nvSpPr>
            <p:spPr>
              <a:xfrm flipH="1">
                <a:off x="1255320" y="2323080"/>
                <a:ext cx="365400" cy="363600"/>
              </a:xfrm>
              <a:prstGeom prst="line">
                <a:avLst/>
              </a:prstGeom>
              <a:ln w="3816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8" name=""/>
              <p:cNvSpPr/>
              <p:nvPr/>
            </p:nvSpPr>
            <p:spPr>
              <a:xfrm flipH="1">
                <a:off x="3643920" y="2324880"/>
                <a:ext cx="365760" cy="363600"/>
              </a:xfrm>
              <a:prstGeom prst="line">
                <a:avLst/>
              </a:prstGeom>
              <a:ln w="3816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39" name=""/>
            <p:cNvSpPr/>
            <p:nvPr/>
          </p:nvSpPr>
          <p:spPr>
            <a:xfrm>
              <a:off x="1076400" y="4843440"/>
              <a:ext cx="89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V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0" name=""/>
          <p:cNvGrpSpPr/>
          <p:nvPr/>
        </p:nvGrpSpPr>
        <p:grpSpPr>
          <a:xfrm>
            <a:off x="3770280" y="4422600"/>
            <a:ext cx="4752720" cy="725400"/>
            <a:chOff x="3770280" y="4422600"/>
            <a:chExt cx="4752720" cy="725400"/>
          </a:xfrm>
        </p:grpSpPr>
        <p:sp>
          <p:nvSpPr>
            <p:cNvPr id="3541" name=""/>
            <p:cNvSpPr/>
            <p:nvPr/>
          </p:nvSpPr>
          <p:spPr>
            <a:xfrm>
              <a:off x="5355720" y="4425840"/>
              <a:ext cx="791640" cy="7221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5358960" y="4422600"/>
              <a:ext cx="786960" cy="722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4560480" y="4425840"/>
              <a:ext cx="791640" cy="7221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4564080" y="4422600"/>
              <a:ext cx="786960" cy="722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3770280" y="4425840"/>
              <a:ext cx="791640" cy="7221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3773520" y="4422600"/>
              <a:ext cx="786960" cy="722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7731360" y="4425840"/>
              <a:ext cx="791640" cy="7221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 flipH="1">
              <a:off x="7738560" y="4428720"/>
              <a:ext cx="776160" cy="70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6936480" y="4425840"/>
              <a:ext cx="791640" cy="7221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 flipH="1">
              <a:off x="6943680" y="4428720"/>
              <a:ext cx="776160" cy="70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6145920" y="4425840"/>
              <a:ext cx="791640" cy="7221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 flipH="1">
              <a:off x="6153120" y="4428720"/>
              <a:ext cx="776160" cy="70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3" name=""/>
          <p:cNvGrpSpPr/>
          <p:nvPr/>
        </p:nvGrpSpPr>
        <p:grpSpPr>
          <a:xfrm>
            <a:off x="3778200" y="4422600"/>
            <a:ext cx="4743360" cy="722520"/>
            <a:chOff x="3778200" y="4422600"/>
            <a:chExt cx="4743360" cy="722520"/>
          </a:xfrm>
        </p:grpSpPr>
        <p:sp>
          <p:nvSpPr>
            <p:cNvPr id="3554" name=""/>
            <p:cNvSpPr/>
            <p:nvPr/>
          </p:nvSpPr>
          <p:spPr>
            <a:xfrm flipH="1">
              <a:off x="5362560" y="4429080"/>
              <a:ext cx="776160" cy="70164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5" name=""/>
            <p:cNvSpPr/>
            <p:nvPr/>
          </p:nvSpPr>
          <p:spPr>
            <a:xfrm flipH="1">
              <a:off x="4568400" y="4429080"/>
              <a:ext cx="776520" cy="70164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6" name=""/>
            <p:cNvSpPr/>
            <p:nvPr/>
          </p:nvSpPr>
          <p:spPr>
            <a:xfrm flipH="1">
              <a:off x="3778200" y="4429080"/>
              <a:ext cx="776160" cy="70164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7736040" y="4422600"/>
              <a:ext cx="785520" cy="72252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6940440" y="4422600"/>
              <a:ext cx="787680" cy="72252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6149880" y="4422600"/>
              <a:ext cx="787320" cy="72252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0" name=""/>
          <p:cNvGrpSpPr/>
          <p:nvPr/>
        </p:nvGrpSpPr>
        <p:grpSpPr>
          <a:xfrm>
            <a:off x="3381480" y="4349880"/>
            <a:ext cx="5503680" cy="1299600"/>
            <a:chOff x="3381480" y="4349880"/>
            <a:chExt cx="5503680" cy="1299600"/>
          </a:xfrm>
        </p:grpSpPr>
        <p:sp>
          <p:nvSpPr>
            <p:cNvPr id="3561" name=""/>
            <p:cNvSpPr/>
            <p:nvPr/>
          </p:nvSpPr>
          <p:spPr>
            <a:xfrm>
              <a:off x="8147160" y="5391000"/>
              <a:ext cx="73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62" name=""/>
            <p:cNvGrpSpPr/>
            <p:nvPr/>
          </p:nvGrpSpPr>
          <p:grpSpPr>
            <a:xfrm>
              <a:off x="3381480" y="5153040"/>
              <a:ext cx="5503320" cy="496440"/>
              <a:chOff x="3381480" y="5153040"/>
              <a:chExt cx="5503320" cy="496440"/>
            </a:xfrm>
          </p:grpSpPr>
          <p:sp>
            <p:nvSpPr>
              <p:cNvPr id="3563" name=""/>
              <p:cNvSpPr/>
              <p:nvPr/>
            </p:nvSpPr>
            <p:spPr>
              <a:xfrm>
                <a:off x="3525120" y="5157720"/>
                <a:ext cx="487440" cy="2430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4" name=""/>
              <p:cNvSpPr/>
              <p:nvPr/>
            </p:nvSpPr>
            <p:spPr>
              <a:xfrm>
                <a:off x="3381480" y="5396040"/>
                <a:ext cx="747360" cy="142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5" name=""/>
              <p:cNvSpPr/>
              <p:nvPr/>
            </p:nvSpPr>
            <p:spPr>
              <a:xfrm>
                <a:off x="8275680" y="5153040"/>
                <a:ext cx="487800" cy="2430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6" name=""/>
              <p:cNvSpPr/>
              <p:nvPr/>
            </p:nvSpPr>
            <p:spPr>
              <a:xfrm>
                <a:off x="8137800" y="5507280"/>
                <a:ext cx="747000" cy="142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7" name=""/>
              <p:cNvSpPr/>
              <p:nvPr/>
            </p:nvSpPr>
            <p:spPr>
              <a:xfrm>
                <a:off x="8169120" y="5390280"/>
                <a:ext cx="122040" cy="121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8" name=""/>
              <p:cNvSpPr/>
              <p:nvPr/>
            </p:nvSpPr>
            <p:spPr>
              <a:xfrm>
                <a:off x="8460360" y="5390280"/>
                <a:ext cx="122040" cy="121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9" name=""/>
              <p:cNvSpPr/>
              <p:nvPr/>
            </p:nvSpPr>
            <p:spPr>
              <a:xfrm>
                <a:off x="8746560" y="5396040"/>
                <a:ext cx="122040" cy="121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0" name=""/>
            <p:cNvSpPr/>
            <p:nvPr/>
          </p:nvSpPr>
          <p:spPr>
            <a:xfrm>
              <a:off x="3705120" y="4365720"/>
              <a:ext cx="127080" cy="128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4491000" y="4361040"/>
              <a:ext cx="127080" cy="12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5280120" y="4349880"/>
              <a:ext cx="127080" cy="12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6081840" y="4365720"/>
              <a:ext cx="126720" cy="128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6861240" y="4371840"/>
              <a:ext cx="127080" cy="127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7661160" y="4356000"/>
              <a:ext cx="127080" cy="127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8445600" y="4361040"/>
              <a:ext cx="127080" cy="12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3716280" y="5092560"/>
              <a:ext cx="127080" cy="127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4500720" y="5087880"/>
              <a:ext cx="128520" cy="127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5291280" y="5076720"/>
              <a:ext cx="126720" cy="127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6093000" y="5092560"/>
              <a:ext cx="126720" cy="127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6870600" y="5099040"/>
              <a:ext cx="127080" cy="127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7670880" y="5081760"/>
              <a:ext cx="128520" cy="128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8456760" y="5087880"/>
              <a:ext cx="126720" cy="127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4" name=""/>
          <p:cNvSpPr/>
          <p:nvPr/>
        </p:nvSpPr>
        <p:spPr>
          <a:xfrm>
            <a:off x="5259240" y="5562720"/>
            <a:ext cx="1733760" cy="733320"/>
          </a:xfrm>
          <a:prstGeom prst="rect">
            <a:avLst/>
          </a:prstGeom>
          <a:solidFill>
            <a:srgbClr val="ffff00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agona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rim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5" name=""/>
          <p:cNvSpPr/>
          <p:nvPr/>
        </p:nvSpPr>
        <p:spPr>
          <a:xfrm>
            <a:off x="181080" y="442800"/>
            <a:ext cx="87818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BIEN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6" name=""/>
          <p:cNvSpPr/>
          <p:nvPr/>
        </p:nvSpPr>
        <p:spPr>
          <a:xfrm>
            <a:off x="4813200" y="1433520"/>
            <a:ext cx="3994200" cy="1618560"/>
          </a:xfrm>
          <a:prstGeom prst="rect">
            <a:avLst/>
          </a:prstGeom>
          <a:solidFill>
            <a:srgbClr val="00cc99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 diagonales comprimées sont susceptibles de flamb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les ne sont donc généralement pas prises en compte dans le calcu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7" name=""/>
          <p:cNvGrpSpPr/>
          <p:nvPr/>
        </p:nvGrpSpPr>
        <p:grpSpPr>
          <a:xfrm>
            <a:off x="3768840" y="3627360"/>
            <a:ext cx="4743000" cy="744480"/>
            <a:chOff x="3768840" y="3627360"/>
            <a:chExt cx="4743000" cy="744480"/>
          </a:xfrm>
        </p:grpSpPr>
        <p:sp>
          <p:nvSpPr>
            <p:cNvPr id="3588" name=""/>
            <p:cNvSpPr/>
            <p:nvPr/>
          </p:nvSpPr>
          <p:spPr>
            <a:xfrm>
              <a:off x="3768840" y="3998880"/>
              <a:ext cx="0" cy="3682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4544280" y="3632040"/>
              <a:ext cx="0" cy="73512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5340960" y="3627360"/>
              <a:ext cx="0" cy="73512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6127200" y="3632040"/>
              <a:ext cx="0" cy="73512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6923520" y="3627360"/>
              <a:ext cx="0" cy="73512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7720560" y="3637080"/>
              <a:ext cx="0" cy="73476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8511840" y="3994200"/>
              <a:ext cx="0" cy="3682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2000"/>
                                        <p:tgtEl>
                                          <p:spTgt spid="35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1000" autoRev="1" fill="hold"/>
                                        <p:tgtEl>
                                          <p:spTgt spid="35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5" name=""/>
          <p:cNvGrpSpPr/>
          <p:nvPr/>
        </p:nvGrpSpPr>
        <p:grpSpPr>
          <a:xfrm>
            <a:off x="1182600" y="2101680"/>
            <a:ext cx="6781320" cy="3810960"/>
            <a:chOff x="1182600" y="2101680"/>
            <a:chExt cx="6781320" cy="3810960"/>
          </a:xfrm>
        </p:grpSpPr>
        <p:sp>
          <p:nvSpPr>
            <p:cNvPr id="3596" name=""/>
            <p:cNvSpPr/>
            <p:nvPr/>
          </p:nvSpPr>
          <p:spPr>
            <a:xfrm>
              <a:off x="1678680" y="2611080"/>
              <a:ext cx="0" cy="5050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2633040" y="2108520"/>
              <a:ext cx="0" cy="10080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3612960" y="2101680"/>
              <a:ext cx="0" cy="100836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4579920" y="2108520"/>
              <a:ext cx="0" cy="10080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5559480" y="2101680"/>
              <a:ext cx="0" cy="100836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6540120" y="2115000"/>
              <a:ext cx="0" cy="100836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7513560" y="2604960"/>
              <a:ext cx="0" cy="5050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7056000" y="4390920"/>
              <a:ext cx="907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4" name=""/>
            <p:cNvSpPr/>
            <p:nvPr/>
          </p:nvSpPr>
          <p:spPr>
            <a:xfrm>
              <a:off x="1358640" y="4103280"/>
              <a:ext cx="600840" cy="300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1182600" y="4436640"/>
              <a:ext cx="920880" cy="176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6" name=""/>
            <p:cNvSpPr/>
            <p:nvPr/>
          </p:nvSpPr>
          <p:spPr>
            <a:xfrm>
              <a:off x="7212600" y="4096800"/>
              <a:ext cx="600840" cy="300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7042680" y="4573440"/>
              <a:ext cx="921240" cy="1767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7082280" y="4390920"/>
              <a:ext cx="150120" cy="1501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7441200" y="4390920"/>
              <a:ext cx="150480" cy="1501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7794360" y="4397040"/>
              <a:ext cx="150120" cy="1504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1678680" y="4500000"/>
              <a:ext cx="0" cy="121716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7507080" y="4695480"/>
              <a:ext cx="0" cy="121716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13" name=""/>
            <p:cNvGrpSpPr/>
            <p:nvPr/>
          </p:nvGrpSpPr>
          <p:grpSpPr>
            <a:xfrm>
              <a:off x="1663560" y="3197520"/>
              <a:ext cx="5855400" cy="892080"/>
              <a:chOff x="1663560" y="3197520"/>
              <a:chExt cx="5855400" cy="892080"/>
            </a:xfrm>
          </p:grpSpPr>
          <p:sp>
            <p:nvSpPr>
              <p:cNvPr id="3614" name=""/>
              <p:cNvSpPr/>
              <p:nvPr/>
            </p:nvSpPr>
            <p:spPr>
              <a:xfrm>
                <a:off x="3616920" y="3201120"/>
                <a:ext cx="975240" cy="88848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5" name=""/>
              <p:cNvSpPr/>
              <p:nvPr/>
            </p:nvSpPr>
            <p:spPr>
              <a:xfrm>
                <a:off x="3621600" y="3197520"/>
                <a:ext cx="968760" cy="8881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6" name=""/>
              <p:cNvSpPr/>
              <p:nvPr/>
            </p:nvSpPr>
            <p:spPr>
              <a:xfrm>
                <a:off x="2636640" y="3201120"/>
                <a:ext cx="975600" cy="88848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7" name=""/>
              <p:cNvSpPr/>
              <p:nvPr/>
            </p:nvSpPr>
            <p:spPr>
              <a:xfrm>
                <a:off x="2641320" y="3197520"/>
                <a:ext cx="969120" cy="8881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8" name=""/>
              <p:cNvSpPr/>
              <p:nvPr/>
            </p:nvSpPr>
            <p:spPr>
              <a:xfrm>
                <a:off x="1663560" y="3201120"/>
                <a:ext cx="975600" cy="88848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9" name=""/>
              <p:cNvSpPr/>
              <p:nvPr/>
            </p:nvSpPr>
            <p:spPr>
              <a:xfrm>
                <a:off x="1667880" y="3197520"/>
                <a:ext cx="968760" cy="8881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0" name=""/>
              <p:cNvSpPr/>
              <p:nvPr/>
            </p:nvSpPr>
            <p:spPr>
              <a:xfrm>
                <a:off x="6543360" y="3201120"/>
                <a:ext cx="975600" cy="88848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1" name=""/>
              <p:cNvSpPr/>
              <p:nvPr/>
            </p:nvSpPr>
            <p:spPr>
              <a:xfrm flipH="1">
                <a:off x="6552000" y="3205800"/>
                <a:ext cx="955800" cy="861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2" name=""/>
              <p:cNvSpPr/>
              <p:nvPr/>
            </p:nvSpPr>
            <p:spPr>
              <a:xfrm>
                <a:off x="5563800" y="3201120"/>
                <a:ext cx="975600" cy="88848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3" name=""/>
              <p:cNvSpPr/>
              <p:nvPr/>
            </p:nvSpPr>
            <p:spPr>
              <a:xfrm flipH="1">
                <a:off x="5572440" y="3205800"/>
                <a:ext cx="957960" cy="861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4" name=""/>
              <p:cNvSpPr/>
              <p:nvPr/>
            </p:nvSpPr>
            <p:spPr>
              <a:xfrm>
                <a:off x="4590360" y="3201120"/>
                <a:ext cx="975600" cy="88848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5" name=""/>
              <p:cNvSpPr/>
              <p:nvPr/>
            </p:nvSpPr>
            <p:spPr>
              <a:xfrm flipH="1">
                <a:off x="4599360" y="3205800"/>
                <a:ext cx="955440" cy="861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6" name=""/>
            <p:cNvGrpSpPr/>
            <p:nvPr/>
          </p:nvGrpSpPr>
          <p:grpSpPr>
            <a:xfrm>
              <a:off x="1671840" y="3197520"/>
              <a:ext cx="5844960" cy="888120"/>
              <a:chOff x="1671840" y="3197520"/>
              <a:chExt cx="5844960" cy="888120"/>
            </a:xfrm>
          </p:grpSpPr>
          <p:sp>
            <p:nvSpPr>
              <p:cNvPr id="3627" name=""/>
              <p:cNvSpPr/>
              <p:nvPr/>
            </p:nvSpPr>
            <p:spPr>
              <a:xfrm flipH="1">
                <a:off x="3624840" y="3205800"/>
                <a:ext cx="955800" cy="86184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8" name=""/>
              <p:cNvSpPr/>
              <p:nvPr/>
            </p:nvSpPr>
            <p:spPr>
              <a:xfrm flipH="1">
                <a:off x="2644920" y="3205800"/>
                <a:ext cx="955800" cy="86184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9" name=""/>
              <p:cNvSpPr/>
              <p:nvPr/>
            </p:nvSpPr>
            <p:spPr>
              <a:xfrm flipH="1">
                <a:off x="1671840" y="3205800"/>
                <a:ext cx="955800" cy="86184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0" name=""/>
              <p:cNvSpPr/>
              <p:nvPr/>
            </p:nvSpPr>
            <p:spPr>
              <a:xfrm>
                <a:off x="6547680" y="3197520"/>
                <a:ext cx="969120" cy="888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1" name=""/>
              <p:cNvSpPr/>
              <p:nvPr/>
            </p:nvSpPr>
            <p:spPr>
              <a:xfrm>
                <a:off x="5568120" y="3197520"/>
                <a:ext cx="968760" cy="888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>
                <a:off x="4594680" y="3197520"/>
                <a:ext cx="968760" cy="888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33" name=""/>
            <p:cNvSpPr/>
            <p:nvPr/>
          </p:nvSpPr>
          <p:spPr>
            <a:xfrm>
              <a:off x="1582920" y="3127320"/>
              <a:ext cx="156960" cy="156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2549880" y="3120840"/>
              <a:ext cx="156960" cy="156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3523320" y="3108240"/>
              <a:ext cx="156960" cy="156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4510080" y="3127320"/>
              <a:ext cx="156240" cy="156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5470200" y="3134160"/>
              <a:ext cx="156960" cy="156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6456960" y="3114360"/>
              <a:ext cx="156960" cy="156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7423920" y="3120840"/>
              <a:ext cx="156960" cy="156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1596240" y="4023000"/>
              <a:ext cx="156240" cy="156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2563200" y="4016520"/>
              <a:ext cx="156240" cy="156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3536640" y="4003200"/>
              <a:ext cx="156240" cy="156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4523040" y="4023000"/>
              <a:ext cx="156960" cy="156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5483520" y="4029120"/>
              <a:ext cx="156240" cy="156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6470280" y="4009320"/>
              <a:ext cx="156240" cy="156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7436880" y="4016520"/>
              <a:ext cx="156960" cy="156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7" name=""/>
          <p:cNvSpPr/>
          <p:nvPr/>
        </p:nvSpPr>
        <p:spPr>
          <a:xfrm>
            <a:off x="628560" y="661176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Suiv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8" name="">
            <a:hlinkClick r:id="" action="ppaction://hlinkshowjump?jump=nextslide"/>
          </p:cNvPr>
          <p:cNvSpPr/>
          <p:nvPr/>
        </p:nvSpPr>
        <p:spPr>
          <a:xfrm>
            <a:off x="765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9" name="">
            <a:hlinkClick r:id="" action="ppaction://hlinkshowjump?jump=previousslide"/>
          </p:cNvPr>
          <p:cNvSpPr/>
          <p:nvPr/>
        </p:nvSpPr>
        <p:spPr>
          <a:xfrm>
            <a:off x="243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0" name=""/>
          <p:cNvSpPr/>
          <p:nvPr/>
        </p:nvSpPr>
        <p:spPr>
          <a:xfrm>
            <a:off x="128520" y="6613560"/>
            <a:ext cx="58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Arriè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1" name=""/>
          <p:cNvSpPr/>
          <p:nvPr/>
        </p:nvSpPr>
        <p:spPr>
          <a:xfrm>
            <a:off x="1133640" y="241200"/>
            <a:ext cx="6814800" cy="20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i on ne prend pas en compte les barres comprimées dans le calcul, alors pourquoi les conserver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3000"/>
                                        <p:tgtEl>
                                          <p:spTgt spid="36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1500" autoRev="1" fill="hold"/>
                                        <p:tgtEl>
                                          <p:spTgt spid="36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2" name=""/>
          <p:cNvSpPr/>
          <p:nvPr/>
        </p:nvSpPr>
        <p:spPr>
          <a:xfrm>
            <a:off x="628560" y="661176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Suiv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3" name="">
            <a:hlinkClick r:id="" action="ppaction://hlinkshowjump?jump=nextslide"/>
          </p:cNvPr>
          <p:cNvSpPr/>
          <p:nvPr/>
        </p:nvSpPr>
        <p:spPr>
          <a:xfrm>
            <a:off x="765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4" name=""/>
          <p:cNvSpPr/>
          <p:nvPr/>
        </p:nvSpPr>
        <p:spPr>
          <a:xfrm>
            <a:off x="198360" y="3186000"/>
            <a:ext cx="691524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ur obtenir un élément hyperstat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5" name=""/>
          <p:cNvSpPr/>
          <p:nvPr/>
        </p:nvSpPr>
        <p:spPr>
          <a:xfrm>
            <a:off x="7227720" y="319572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6" name="">
            <a:hlinkClick r:id="rId1" action="ppaction://hlinksldjump"/>
          </p:cNvPr>
          <p:cNvSpPr/>
          <p:nvPr/>
        </p:nvSpPr>
        <p:spPr>
          <a:xfrm>
            <a:off x="7256520" y="3260880"/>
            <a:ext cx="69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7" name="">
            <a:hlinkClick r:id="rId2" action="ppaction://hlinksldjump"/>
          </p:cNvPr>
          <p:cNvSpPr/>
          <p:nvPr/>
        </p:nvSpPr>
        <p:spPr>
          <a:xfrm>
            <a:off x="8177040" y="319572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8" name="">
            <a:hlinkClick r:id="" action="ppaction://hlinkshowjump?jump=nextslide"/>
          </p:cNvPr>
          <p:cNvSpPr/>
          <p:nvPr/>
        </p:nvSpPr>
        <p:spPr>
          <a:xfrm>
            <a:off x="8205840" y="3260880"/>
            <a:ext cx="69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9" name=""/>
          <p:cNvSpPr/>
          <p:nvPr/>
        </p:nvSpPr>
        <p:spPr>
          <a:xfrm>
            <a:off x="7142040" y="3648240"/>
            <a:ext cx="185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0" name="">
            <a:hlinkClick r:id="" action="ppaction://hlinkshowjump?jump=previousslide"/>
          </p:cNvPr>
          <p:cNvSpPr/>
          <p:nvPr/>
        </p:nvSpPr>
        <p:spPr>
          <a:xfrm>
            <a:off x="243000" y="62722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1" name=""/>
          <p:cNvSpPr/>
          <p:nvPr/>
        </p:nvSpPr>
        <p:spPr>
          <a:xfrm>
            <a:off x="128520" y="6610320"/>
            <a:ext cx="58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Arriè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2" name=""/>
          <p:cNvSpPr/>
          <p:nvPr/>
        </p:nvSpPr>
        <p:spPr>
          <a:xfrm>
            <a:off x="1133640" y="241200"/>
            <a:ext cx="6814800" cy="20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i on ne prend pas en compte les barres comprimées dans le calcul, alors pourquoi les conserver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3" name=""/>
          <p:cNvGrpSpPr/>
          <p:nvPr/>
        </p:nvGrpSpPr>
        <p:grpSpPr>
          <a:xfrm>
            <a:off x="3346560" y="1852560"/>
            <a:ext cx="2341080" cy="1231920"/>
            <a:chOff x="3346560" y="1852560"/>
            <a:chExt cx="2341080" cy="1231920"/>
          </a:xfrm>
        </p:grpSpPr>
        <p:sp>
          <p:nvSpPr>
            <p:cNvPr id="3664" name=""/>
            <p:cNvSpPr/>
            <p:nvPr/>
          </p:nvSpPr>
          <p:spPr>
            <a:xfrm>
              <a:off x="3517560" y="1964880"/>
              <a:ext cx="0" cy="2156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3846960" y="1855080"/>
              <a:ext cx="0" cy="3250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4185360" y="1852560"/>
              <a:ext cx="0" cy="3250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7" name=""/>
            <p:cNvSpPr/>
            <p:nvPr/>
          </p:nvSpPr>
          <p:spPr>
            <a:xfrm>
              <a:off x="4519440" y="1855080"/>
              <a:ext cx="0" cy="3250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4857840" y="1852560"/>
              <a:ext cx="0" cy="3250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9" name=""/>
            <p:cNvSpPr/>
            <p:nvPr/>
          </p:nvSpPr>
          <p:spPr>
            <a:xfrm>
              <a:off x="5196240" y="1856520"/>
              <a:ext cx="0" cy="3250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0" name=""/>
            <p:cNvSpPr/>
            <p:nvPr/>
          </p:nvSpPr>
          <p:spPr>
            <a:xfrm>
              <a:off x="5532120" y="1934280"/>
              <a:ext cx="0" cy="24336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1" name=""/>
            <p:cNvSpPr/>
            <p:nvPr/>
          </p:nvSpPr>
          <p:spPr>
            <a:xfrm>
              <a:off x="5374440" y="2592000"/>
              <a:ext cx="31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2" name=""/>
            <p:cNvSpPr/>
            <p:nvPr/>
          </p:nvSpPr>
          <p:spPr>
            <a:xfrm>
              <a:off x="3407400" y="2499120"/>
              <a:ext cx="207720" cy="96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3" name=""/>
            <p:cNvSpPr/>
            <p:nvPr/>
          </p:nvSpPr>
          <p:spPr>
            <a:xfrm>
              <a:off x="3346560" y="2607480"/>
              <a:ext cx="317520" cy="56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4" name=""/>
            <p:cNvSpPr/>
            <p:nvPr/>
          </p:nvSpPr>
          <p:spPr>
            <a:xfrm>
              <a:off x="5428080" y="2497680"/>
              <a:ext cx="207360" cy="972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5370120" y="2652120"/>
              <a:ext cx="317520" cy="56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6" name=""/>
            <p:cNvSpPr/>
            <p:nvPr/>
          </p:nvSpPr>
          <p:spPr>
            <a:xfrm>
              <a:off x="5383440" y="2592000"/>
              <a:ext cx="51840" cy="4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7" name=""/>
            <p:cNvSpPr/>
            <p:nvPr/>
          </p:nvSpPr>
          <p:spPr>
            <a:xfrm>
              <a:off x="5506560" y="2592000"/>
              <a:ext cx="51840" cy="4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5628240" y="2594880"/>
              <a:ext cx="51840" cy="4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9" name=""/>
            <p:cNvSpPr/>
            <p:nvPr/>
          </p:nvSpPr>
          <p:spPr>
            <a:xfrm>
              <a:off x="3517560" y="2626920"/>
              <a:ext cx="0" cy="3934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0" name=""/>
            <p:cNvSpPr/>
            <p:nvPr/>
          </p:nvSpPr>
          <p:spPr>
            <a:xfrm>
              <a:off x="5530320" y="2691000"/>
              <a:ext cx="0" cy="3934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81" name=""/>
            <p:cNvGrpSpPr/>
            <p:nvPr/>
          </p:nvGrpSpPr>
          <p:grpSpPr>
            <a:xfrm>
              <a:off x="3512520" y="2207160"/>
              <a:ext cx="2021400" cy="287280"/>
              <a:chOff x="3512520" y="2207160"/>
              <a:chExt cx="2021400" cy="287280"/>
            </a:xfrm>
          </p:grpSpPr>
          <p:sp>
            <p:nvSpPr>
              <p:cNvPr id="3682" name=""/>
              <p:cNvSpPr/>
              <p:nvPr/>
            </p:nvSpPr>
            <p:spPr>
              <a:xfrm>
                <a:off x="4186800" y="2208240"/>
                <a:ext cx="336600" cy="28620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3" name=""/>
              <p:cNvSpPr/>
              <p:nvPr/>
            </p:nvSpPr>
            <p:spPr>
              <a:xfrm>
                <a:off x="4188600" y="2207160"/>
                <a:ext cx="334440" cy="2858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4" name=""/>
              <p:cNvSpPr/>
              <p:nvPr/>
            </p:nvSpPr>
            <p:spPr>
              <a:xfrm>
                <a:off x="3848400" y="2208240"/>
                <a:ext cx="336600" cy="28620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5" name=""/>
              <p:cNvSpPr/>
              <p:nvPr/>
            </p:nvSpPr>
            <p:spPr>
              <a:xfrm>
                <a:off x="3849840" y="2207160"/>
                <a:ext cx="334440" cy="2858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6" name=""/>
              <p:cNvSpPr/>
              <p:nvPr/>
            </p:nvSpPr>
            <p:spPr>
              <a:xfrm>
                <a:off x="3512520" y="2208240"/>
                <a:ext cx="336600" cy="28620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7" name=""/>
              <p:cNvSpPr/>
              <p:nvPr/>
            </p:nvSpPr>
            <p:spPr>
              <a:xfrm>
                <a:off x="3513960" y="2207160"/>
                <a:ext cx="334440" cy="2858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8" name=""/>
              <p:cNvSpPr/>
              <p:nvPr/>
            </p:nvSpPr>
            <p:spPr>
              <a:xfrm>
                <a:off x="5197320" y="2208240"/>
                <a:ext cx="336600" cy="28620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9" name=""/>
              <p:cNvSpPr/>
              <p:nvPr/>
            </p:nvSpPr>
            <p:spPr>
              <a:xfrm flipH="1">
                <a:off x="5200560" y="2209680"/>
                <a:ext cx="329760" cy="2775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0" name=""/>
              <p:cNvSpPr/>
              <p:nvPr/>
            </p:nvSpPr>
            <p:spPr>
              <a:xfrm>
                <a:off x="4858920" y="2208240"/>
                <a:ext cx="336600" cy="28620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1" name=""/>
              <p:cNvSpPr/>
              <p:nvPr/>
            </p:nvSpPr>
            <p:spPr>
              <a:xfrm flipH="1">
                <a:off x="4862160" y="2209680"/>
                <a:ext cx="330480" cy="2775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2" name=""/>
              <p:cNvSpPr/>
              <p:nvPr/>
            </p:nvSpPr>
            <p:spPr>
              <a:xfrm>
                <a:off x="4523040" y="2208240"/>
                <a:ext cx="336600" cy="28620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3" name=""/>
              <p:cNvSpPr/>
              <p:nvPr/>
            </p:nvSpPr>
            <p:spPr>
              <a:xfrm flipH="1">
                <a:off x="4525920" y="2209680"/>
                <a:ext cx="329760" cy="2775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4" name=""/>
            <p:cNvGrpSpPr/>
            <p:nvPr/>
          </p:nvGrpSpPr>
          <p:grpSpPr>
            <a:xfrm>
              <a:off x="3515760" y="2207160"/>
              <a:ext cx="2017440" cy="286200"/>
              <a:chOff x="3515760" y="2207160"/>
              <a:chExt cx="2017440" cy="286200"/>
            </a:xfrm>
          </p:grpSpPr>
          <p:sp>
            <p:nvSpPr>
              <p:cNvPr id="3695" name=""/>
              <p:cNvSpPr/>
              <p:nvPr/>
            </p:nvSpPr>
            <p:spPr>
              <a:xfrm flipH="1">
                <a:off x="4189680" y="2209680"/>
                <a:ext cx="329760" cy="27792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6" name=""/>
              <p:cNvSpPr/>
              <p:nvPr/>
            </p:nvSpPr>
            <p:spPr>
              <a:xfrm flipH="1">
                <a:off x="3851640" y="2209680"/>
                <a:ext cx="329760" cy="27792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 flipH="1">
                <a:off x="3515760" y="2209680"/>
                <a:ext cx="329760" cy="27792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>
                <a:off x="5198760" y="2207160"/>
                <a:ext cx="334440" cy="28620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9" name=""/>
              <p:cNvSpPr/>
              <p:nvPr/>
            </p:nvSpPr>
            <p:spPr>
              <a:xfrm>
                <a:off x="4860360" y="2207160"/>
                <a:ext cx="334440" cy="28620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0" name=""/>
              <p:cNvSpPr/>
              <p:nvPr/>
            </p:nvSpPr>
            <p:spPr>
              <a:xfrm>
                <a:off x="4524480" y="2207160"/>
                <a:ext cx="334440" cy="28620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01" name=""/>
            <p:cNvSpPr/>
            <p:nvPr/>
          </p:nvSpPr>
          <p:spPr>
            <a:xfrm>
              <a:off x="3484800" y="2183400"/>
              <a:ext cx="54720" cy="51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3818880" y="2181960"/>
              <a:ext cx="53280" cy="5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4154040" y="2177640"/>
              <a:ext cx="55080" cy="5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4495680" y="2183400"/>
              <a:ext cx="52920" cy="51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4826520" y="2185920"/>
              <a:ext cx="54720" cy="5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5168160" y="2179080"/>
              <a:ext cx="53280" cy="5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5500800" y="2181960"/>
              <a:ext cx="54720" cy="5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3489120" y="2473920"/>
              <a:ext cx="54720" cy="5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3823200" y="2471040"/>
              <a:ext cx="54720" cy="5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4158720" y="2467080"/>
              <a:ext cx="54720" cy="5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4500000" y="2473920"/>
              <a:ext cx="53280" cy="5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4831200" y="2475360"/>
              <a:ext cx="54720" cy="51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5172480" y="2469960"/>
              <a:ext cx="53280" cy="5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5505120" y="2471040"/>
              <a:ext cx="54720" cy="5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5" name=""/>
          <p:cNvSpPr/>
          <p:nvPr/>
        </p:nvSpPr>
        <p:spPr>
          <a:xfrm>
            <a:off x="198360" y="3619440"/>
            <a:ext cx="6915240" cy="3650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ur augmenter la résistance de la 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6" name=""/>
          <p:cNvSpPr/>
          <p:nvPr/>
        </p:nvSpPr>
        <p:spPr>
          <a:xfrm>
            <a:off x="7227720" y="362916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7" name=""/>
          <p:cNvSpPr/>
          <p:nvPr/>
        </p:nvSpPr>
        <p:spPr>
          <a:xfrm>
            <a:off x="7256520" y="369396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8" name=""/>
          <p:cNvSpPr/>
          <p:nvPr/>
        </p:nvSpPr>
        <p:spPr>
          <a:xfrm>
            <a:off x="198360" y="3186000"/>
            <a:ext cx="691524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ur obtenir un élément hyperstat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9" name=""/>
          <p:cNvSpPr/>
          <p:nvPr/>
        </p:nvSpPr>
        <p:spPr>
          <a:xfrm>
            <a:off x="7227720" y="319572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0" name=""/>
          <p:cNvSpPr/>
          <p:nvPr/>
        </p:nvSpPr>
        <p:spPr>
          <a:xfrm>
            <a:off x="7256520" y="3260880"/>
            <a:ext cx="693720" cy="2156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1" name="">
            <a:hlinkClick r:id="rId1" action="ppaction://hlinksldjump"/>
          </p:cNvPr>
          <p:cNvSpPr/>
          <p:nvPr/>
        </p:nvSpPr>
        <p:spPr>
          <a:xfrm>
            <a:off x="8177040" y="362916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2" name="">
            <a:hlinkClick r:id="" action="ppaction://hlinkshowjump?jump=nextslide"/>
          </p:cNvPr>
          <p:cNvSpPr/>
          <p:nvPr/>
        </p:nvSpPr>
        <p:spPr>
          <a:xfrm>
            <a:off x="8205840" y="369396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3" name="">
            <a:hlinkClick r:id="rId2" action="ppaction://hlinksldjump"/>
          </p:cNvPr>
          <p:cNvSpPr/>
          <p:nvPr/>
        </p:nvSpPr>
        <p:spPr>
          <a:xfrm>
            <a:off x="8177040" y="319572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4" name=""/>
          <p:cNvSpPr/>
          <p:nvPr/>
        </p:nvSpPr>
        <p:spPr>
          <a:xfrm>
            <a:off x="8205840" y="3260880"/>
            <a:ext cx="693720" cy="2156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5" name=""/>
          <p:cNvSpPr/>
          <p:nvPr/>
        </p:nvSpPr>
        <p:spPr>
          <a:xfrm>
            <a:off x="7142040" y="4081320"/>
            <a:ext cx="185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6" name=""/>
          <p:cNvSpPr/>
          <p:nvPr/>
        </p:nvSpPr>
        <p:spPr>
          <a:xfrm>
            <a:off x="1133640" y="241200"/>
            <a:ext cx="6814800" cy="20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i on ne prend pas en compte les barres comprimées dans le calcul, alors pourquoi les conserver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7" name=""/>
          <p:cNvGrpSpPr/>
          <p:nvPr/>
        </p:nvGrpSpPr>
        <p:grpSpPr>
          <a:xfrm>
            <a:off x="3346560" y="1852560"/>
            <a:ext cx="2341080" cy="1231920"/>
            <a:chOff x="3346560" y="1852560"/>
            <a:chExt cx="2341080" cy="1231920"/>
          </a:xfrm>
        </p:grpSpPr>
        <p:sp>
          <p:nvSpPr>
            <p:cNvPr id="3728" name=""/>
            <p:cNvSpPr/>
            <p:nvPr/>
          </p:nvSpPr>
          <p:spPr>
            <a:xfrm>
              <a:off x="3517560" y="1964880"/>
              <a:ext cx="0" cy="2156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9" name=""/>
            <p:cNvSpPr/>
            <p:nvPr/>
          </p:nvSpPr>
          <p:spPr>
            <a:xfrm>
              <a:off x="3846960" y="1855080"/>
              <a:ext cx="0" cy="3250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0" name=""/>
            <p:cNvSpPr/>
            <p:nvPr/>
          </p:nvSpPr>
          <p:spPr>
            <a:xfrm>
              <a:off x="4185360" y="1852560"/>
              <a:ext cx="0" cy="3250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4519440" y="1855080"/>
              <a:ext cx="0" cy="3250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2" name=""/>
            <p:cNvSpPr/>
            <p:nvPr/>
          </p:nvSpPr>
          <p:spPr>
            <a:xfrm>
              <a:off x="4857840" y="1852560"/>
              <a:ext cx="0" cy="3250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5196240" y="1856520"/>
              <a:ext cx="0" cy="3250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5532120" y="1934280"/>
              <a:ext cx="0" cy="24336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5374440" y="2592000"/>
              <a:ext cx="31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3407400" y="2499120"/>
              <a:ext cx="207720" cy="96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3346560" y="2607480"/>
              <a:ext cx="317520" cy="56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8" name=""/>
            <p:cNvSpPr/>
            <p:nvPr/>
          </p:nvSpPr>
          <p:spPr>
            <a:xfrm>
              <a:off x="5428080" y="2497680"/>
              <a:ext cx="207360" cy="972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5370120" y="2652120"/>
              <a:ext cx="317520" cy="56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0" name=""/>
            <p:cNvSpPr/>
            <p:nvPr/>
          </p:nvSpPr>
          <p:spPr>
            <a:xfrm>
              <a:off x="5383440" y="2592000"/>
              <a:ext cx="51840" cy="4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1" name=""/>
            <p:cNvSpPr/>
            <p:nvPr/>
          </p:nvSpPr>
          <p:spPr>
            <a:xfrm>
              <a:off x="5506560" y="2592000"/>
              <a:ext cx="51840" cy="4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5628240" y="2594880"/>
              <a:ext cx="51840" cy="4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3" name=""/>
            <p:cNvSpPr/>
            <p:nvPr/>
          </p:nvSpPr>
          <p:spPr>
            <a:xfrm>
              <a:off x="3517560" y="2626920"/>
              <a:ext cx="0" cy="3934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4" name=""/>
            <p:cNvSpPr/>
            <p:nvPr/>
          </p:nvSpPr>
          <p:spPr>
            <a:xfrm>
              <a:off x="5530320" y="2691000"/>
              <a:ext cx="0" cy="3934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45" name=""/>
            <p:cNvGrpSpPr/>
            <p:nvPr/>
          </p:nvGrpSpPr>
          <p:grpSpPr>
            <a:xfrm>
              <a:off x="3512520" y="2207160"/>
              <a:ext cx="2021400" cy="287280"/>
              <a:chOff x="3512520" y="2207160"/>
              <a:chExt cx="2021400" cy="287280"/>
            </a:xfrm>
          </p:grpSpPr>
          <p:sp>
            <p:nvSpPr>
              <p:cNvPr id="3746" name=""/>
              <p:cNvSpPr/>
              <p:nvPr/>
            </p:nvSpPr>
            <p:spPr>
              <a:xfrm>
                <a:off x="4186800" y="2208240"/>
                <a:ext cx="336600" cy="28620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>
                <a:off x="4188600" y="2207160"/>
                <a:ext cx="334440" cy="2858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>
                <a:off x="3848400" y="2208240"/>
                <a:ext cx="336600" cy="28620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>
                <a:off x="3849840" y="2207160"/>
                <a:ext cx="334440" cy="2858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>
                <a:off x="3512520" y="2208240"/>
                <a:ext cx="336600" cy="28620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>
                <a:off x="3513960" y="2207160"/>
                <a:ext cx="334440" cy="2858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>
                <a:off x="5197320" y="2208240"/>
                <a:ext cx="336600" cy="28620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3" name=""/>
              <p:cNvSpPr/>
              <p:nvPr/>
            </p:nvSpPr>
            <p:spPr>
              <a:xfrm flipH="1">
                <a:off x="5200560" y="2209680"/>
                <a:ext cx="329760" cy="2775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4" name=""/>
              <p:cNvSpPr/>
              <p:nvPr/>
            </p:nvSpPr>
            <p:spPr>
              <a:xfrm>
                <a:off x="4858920" y="2208240"/>
                <a:ext cx="336600" cy="28620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 flipH="1">
                <a:off x="4862160" y="2209680"/>
                <a:ext cx="330480" cy="2775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6" name=""/>
              <p:cNvSpPr/>
              <p:nvPr/>
            </p:nvSpPr>
            <p:spPr>
              <a:xfrm>
                <a:off x="4523040" y="2208240"/>
                <a:ext cx="336600" cy="28620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 flipH="1">
                <a:off x="4525920" y="2209680"/>
                <a:ext cx="329760" cy="2775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8" name=""/>
            <p:cNvGrpSpPr/>
            <p:nvPr/>
          </p:nvGrpSpPr>
          <p:grpSpPr>
            <a:xfrm>
              <a:off x="3515760" y="2207160"/>
              <a:ext cx="2017440" cy="286200"/>
              <a:chOff x="3515760" y="2207160"/>
              <a:chExt cx="2017440" cy="286200"/>
            </a:xfrm>
          </p:grpSpPr>
          <p:sp>
            <p:nvSpPr>
              <p:cNvPr id="3759" name=""/>
              <p:cNvSpPr/>
              <p:nvPr/>
            </p:nvSpPr>
            <p:spPr>
              <a:xfrm flipH="1">
                <a:off x="4189680" y="2209680"/>
                <a:ext cx="329760" cy="27792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0" name=""/>
              <p:cNvSpPr/>
              <p:nvPr/>
            </p:nvSpPr>
            <p:spPr>
              <a:xfrm flipH="1">
                <a:off x="3851640" y="2209680"/>
                <a:ext cx="329760" cy="27792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 flipH="1">
                <a:off x="3515760" y="2209680"/>
                <a:ext cx="329760" cy="27792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2" name=""/>
              <p:cNvSpPr/>
              <p:nvPr/>
            </p:nvSpPr>
            <p:spPr>
              <a:xfrm>
                <a:off x="5198760" y="2207160"/>
                <a:ext cx="334440" cy="28620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3" name=""/>
              <p:cNvSpPr/>
              <p:nvPr/>
            </p:nvSpPr>
            <p:spPr>
              <a:xfrm>
                <a:off x="4860360" y="2207160"/>
                <a:ext cx="334440" cy="28620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4" name=""/>
              <p:cNvSpPr/>
              <p:nvPr/>
            </p:nvSpPr>
            <p:spPr>
              <a:xfrm>
                <a:off x="4524480" y="2207160"/>
                <a:ext cx="334440" cy="28620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65" name=""/>
            <p:cNvSpPr/>
            <p:nvPr/>
          </p:nvSpPr>
          <p:spPr>
            <a:xfrm>
              <a:off x="3484800" y="2183400"/>
              <a:ext cx="54720" cy="51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3818880" y="2181960"/>
              <a:ext cx="53280" cy="5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7" name=""/>
            <p:cNvSpPr/>
            <p:nvPr/>
          </p:nvSpPr>
          <p:spPr>
            <a:xfrm>
              <a:off x="4154040" y="2177640"/>
              <a:ext cx="55080" cy="5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8" name=""/>
            <p:cNvSpPr/>
            <p:nvPr/>
          </p:nvSpPr>
          <p:spPr>
            <a:xfrm>
              <a:off x="4495680" y="2183400"/>
              <a:ext cx="52920" cy="51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9" name=""/>
            <p:cNvSpPr/>
            <p:nvPr/>
          </p:nvSpPr>
          <p:spPr>
            <a:xfrm>
              <a:off x="4826520" y="2185920"/>
              <a:ext cx="54720" cy="5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0" name=""/>
            <p:cNvSpPr/>
            <p:nvPr/>
          </p:nvSpPr>
          <p:spPr>
            <a:xfrm>
              <a:off x="5168160" y="2179080"/>
              <a:ext cx="53280" cy="5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1" name=""/>
            <p:cNvSpPr/>
            <p:nvPr/>
          </p:nvSpPr>
          <p:spPr>
            <a:xfrm>
              <a:off x="5500800" y="2181960"/>
              <a:ext cx="54720" cy="5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2" name=""/>
            <p:cNvSpPr/>
            <p:nvPr/>
          </p:nvSpPr>
          <p:spPr>
            <a:xfrm>
              <a:off x="3489120" y="2473920"/>
              <a:ext cx="54720" cy="5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3" name=""/>
            <p:cNvSpPr/>
            <p:nvPr/>
          </p:nvSpPr>
          <p:spPr>
            <a:xfrm>
              <a:off x="3823200" y="2471040"/>
              <a:ext cx="54720" cy="5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4" name=""/>
            <p:cNvSpPr/>
            <p:nvPr/>
          </p:nvSpPr>
          <p:spPr>
            <a:xfrm>
              <a:off x="4158720" y="2467080"/>
              <a:ext cx="54720" cy="5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5" name=""/>
            <p:cNvSpPr/>
            <p:nvPr/>
          </p:nvSpPr>
          <p:spPr>
            <a:xfrm>
              <a:off x="4500000" y="2473920"/>
              <a:ext cx="53280" cy="5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6" name=""/>
            <p:cNvSpPr/>
            <p:nvPr/>
          </p:nvSpPr>
          <p:spPr>
            <a:xfrm>
              <a:off x="4831200" y="2475360"/>
              <a:ext cx="54720" cy="51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7" name=""/>
            <p:cNvSpPr/>
            <p:nvPr/>
          </p:nvSpPr>
          <p:spPr>
            <a:xfrm>
              <a:off x="5172480" y="2469960"/>
              <a:ext cx="53280" cy="5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8" name=""/>
            <p:cNvSpPr/>
            <p:nvPr/>
          </p:nvSpPr>
          <p:spPr>
            <a:xfrm>
              <a:off x="5505120" y="2471040"/>
              <a:ext cx="54720" cy="5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9" name=""/>
          <p:cNvSpPr/>
          <p:nvPr/>
        </p:nvSpPr>
        <p:spPr>
          <a:xfrm>
            <a:off x="7227720" y="413244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0" name="">
            <a:hlinkClick r:id="" action="ppaction://hlinkshowjump?jump=nextslide"/>
          </p:cNvPr>
          <p:cNvSpPr/>
          <p:nvPr/>
        </p:nvSpPr>
        <p:spPr>
          <a:xfrm>
            <a:off x="7256520" y="419724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1" name=""/>
          <p:cNvSpPr/>
          <p:nvPr/>
        </p:nvSpPr>
        <p:spPr>
          <a:xfrm>
            <a:off x="8177040" y="413244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2" name=""/>
          <p:cNvSpPr/>
          <p:nvPr/>
        </p:nvSpPr>
        <p:spPr>
          <a:xfrm>
            <a:off x="8205840" y="419724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3" name=""/>
          <p:cNvSpPr/>
          <p:nvPr/>
        </p:nvSpPr>
        <p:spPr>
          <a:xfrm>
            <a:off x="198360" y="3619440"/>
            <a:ext cx="6915240" cy="3650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ur augmenter la résistance de la 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4" name=""/>
          <p:cNvSpPr/>
          <p:nvPr/>
        </p:nvSpPr>
        <p:spPr>
          <a:xfrm>
            <a:off x="7227720" y="362916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5" name=""/>
          <p:cNvSpPr/>
          <p:nvPr/>
        </p:nvSpPr>
        <p:spPr>
          <a:xfrm>
            <a:off x="7256520" y="369396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6" name=""/>
          <p:cNvSpPr/>
          <p:nvPr/>
        </p:nvSpPr>
        <p:spPr>
          <a:xfrm>
            <a:off x="198360" y="3186000"/>
            <a:ext cx="691524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ur obtenir un élément hyperstat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7" name="">
            <a:hlinkClick r:id="rId1" action="ppaction://hlinksldjump"/>
          </p:cNvPr>
          <p:cNvSpPr/>
          <p:nvPr/>
        </p:nvSpPr>
        <p:spPr>
          <a:xfrm>
            <a:off x="8177040" y="362916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8" name=""/>
          <p:cNvSpPr/>
          <p:nvPr/>
        </p:nvSpPr>
        <p:spPr>
          <a:xfrm>
            <a:off x="8205840" y="369396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9" name=""/>
          <p:cNvSpPr/>
          <p:nvPr/>
        </p:nvSpPr>
        <p:spPr>
          <a:xfrm>
            <a:off x="7227720" y="319572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0" name=""/>
          <p:cNvSpPr/>
          <p:nvPr/>
        </p:nvSpPr>
        <p:spPr>
          <a:xfrm>
            <a:off x="7256520" y="3260880"/>
            <a:ext cx="693720" cy="2156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1" name="">
            <a:hlinkClick r:id="rId2" action="ppaction://hlinksldjump"/>
          </p:cNvPr>
          <p:cNvSpPr/>
          <p:nvPr/>
        </p:nvSpPr>
        <p:spPr>
          <a:xfrm>
            <a:off x="8177040" y="319572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2" name=""/>
          <p:cNvSpPr/>
          <p:nvPr/>
        </p:nvSpPr>
        <p:spPr>
          <a:xfrm>
            <a:off x="8205840" y="3260880"/>
            <a:ext cx="693720" cy="2156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3" name=""/>
          <p:cNvSpPr/>
          <p:nvPr/>
        </p:nvSpPr>
        <p:spPr>
          <a:xfrm>
            <a:off x="198360" y="4021200"/>
            <a:ext cx="6915240" cy="566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rce que, quand le vent souffle dans le sens opposé, les diagonales comprimées deviennent des diagonales tend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4" name=""/>
          <p:cNvSpPr/>
          <p:nvPr/>
        </p:nvSpPr>
        <p:spPr>
          <a:xfrm>
            <a:off x="7142040" y="4570560"/>
            <a:ext cx="185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5" name=""/>
          <p:cNvSpPr/>
          <p:nvPr/>
        </p:nvSpPr>
        <p:spPr>
          <a:xfrm>
            <a:off x="1133640" y="241200"/>
            <a:ext cx="6814800" cy="20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i on ne prend pas en compte les barres comprimées dans le calcul, alors pourquoi les conserver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6" name=""/>
          <p:cNvGrpSpPr/>
          <p:nvPr/>
        </p:nvGrpSpPr>
        <p:grpSpPr>
          <a:xfrm>
            <a:off x="3346560" y="1852560"/>
            <a:ext cx="2341080" cy="1231920"/>
            <a:chOff x="3346560" y="1852560"/>
            <a:chExt cx="2341080" cy="1231920"/>
          </a:xfrm>
        </p:grpSpPr>
        <p:sp>
          <p:nvSpPr>
            <p:cNvPr id="3797" name=""/>
            <p:cNvSpPr/>
            <p:nvPr/>
          </p:nvSpPr>
          <p:spPr>
            <a:xfrm>
              <a:off x="3517560" y="1964880"/>
              <a:ext cx="0" cy="2156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3846960" y="1855080"/>
              <a:ext cx="0" cy="3250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9" name=""/>
            <p:cNvSpPr/>
            <p:nvPr/>
          </p:nvSpPr>
          <p:spPr>
            <a:xfrm>
              <a:off x="4185360" y="1852560"/>
              <a:ext cx="0" cy="3250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4519440" y="1855080"/>
              <a:ext cx="0" cy="3250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1" name=""/>
            <p:cNvSpPr/>
            <p:nvPr/>
          </p:nvSpPr>
          <p:spPr>
            <a:xfrm>
              <a:off x="4857840" y="1852560"/>
              <a:ext cx="0" cy="3250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5196240" y="1856520"/>
              <a:ext cx="0" cy="3250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5532120" y="1934280"/>
              <a:ext cx="0" cy="24336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5374440" y="2592000"/>
              <a:ext cx="31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3407400" y="2499120"/>
              <a:ext cx="207720" cy="96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3346560" y="2607480"/>
              <a:ext cx="317520" cy="56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5428080" y="2497680"/>
              <a:ext cx="207360" cy="972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5370120" y="2652120"/>
              <a:ext cx="317520" cy="56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9" name=""/>
            <p:cNvSpPr/>
            <p:nvPr/>
          </p:nvSpPr>
          <p:spPr>
            <a:xfrm>
              <a:off x="5383440" y="2592000"/>
              <a:ext cx="51840" cy="4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5506560" y="2592000"/>
              <a:ext cx="51840" cy="4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5628240" y="2594880"/>
              <a:ext cx="51840" cy="4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2" name=""/>
            <p:cNvSpPr/>
            <p:nvPr/>
          </p:nvSpPr>
          <p:spPr>
            <a:xfrm>
              <a:off x="3517560" y="2626920"/>
              <a:ext cx="0" cy="3934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3" name=""/>
            <p:cNvSpPr/>
            <p:nvPr/>
          </p:nvSpPr>
          <p:spPr>
            <a:xfrm>
              <a:off x="5530320" y="2691000"/>
              <a:ext cx="0" cy="3934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14" name=""/>
            <p:cNvGrpSpPr/>
            <p:nvPr/>
          </p:nvGrpSpPr>
          <p:grpSpPr>
            <a:xfrm>
              <a:off x="3512520" y="2207160"/>
              <a:ext cx="2021400" cy="287280"/>
              <a:chOff x="3512520" y="2207160"/>
              <a:chExt cx="2021400" cy="287280"/>
            </a:xfrm>
          </p:grpSpPr>
          <p:sp>
            <p:nvSpPr>
              <p:cNvPr id="3815" name=""/>
              <p:cNvSpPr/>
              <p:nvPr/>
            </p:nvSpPr>
            <p:spPr>
              <a:xfrm>
                <a:off x="4186800" y="2208240"/>
                <a:ext cx="336600" cy="28620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6" name=""/>
              <p:cNvSpPr/>
              <p:nvPr/>
            </p:nvSpPr>
            <p:spPr>
              <a:xfrm>
                <a:off x="4188600" y="2207160"/>
                <a:ext cx="334440" cy="2858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7" name=""/>
              <p:cNvSpPr/>
              <p:nvPr/>
            </p:nvSpPr>
            <p:spPr>
              <a:xfrm>
                <a:off x="3848400" y="2208240"/>
                <a:ext cx="336600" cy="28620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8" name=""/>
              <p:cNvSpPr/>
              <p:nvPr/>
            </p:nvSpPr>
            <p:spPr>
              <a:xfrm>
                <a:off x="3849840" y="2207160"/>
                <a:ext cx="334440" cy="2858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9" name=""/>
              <p:cNvSpPr/>
              <p:nvPr/>
            </p:nvSpPr>
            <p:spPr>
              <a:xfrm>
                <a:off x="3512520" y="2208240"/>
                <a:ext cx="336600" cy="28620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0" name=""/>
              <p:cNvSpPr/>
              <p:nvPr/>
            </p:nvSpPr>
            <p:spPr>
              <a:xfrm>
                <a:off x="3513960" y="2207160"/>
                <a:ext cx="334440" cy="2858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1" name=""/>
              <p:cNvSpPr/>
              <p:nvPr/>
            </p:nvSpPr>
            <p:spPr>
              <a:xfrm>
                <a:off x="5197320" y="2208240"/>
                <a:ext cx="336600" cy="28620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2" name=""/>
              <p:cNvSpPr/>
              <p:nvPr/>
            </p:nvSpPr>
            <p:spPr>
              <a:xfrm flipH="1">
                <a:off x="5200560" y="2209680"/>
                <a:ext cx="329760" cy="2775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3" name=""/>
              <p:cNvSpPr/>
              <p:nvPr/>
            </p:nvSpPr>
            <p:spPr>
              <a:xfrm>
                <a:off x="4858920" y="2208240"/>
                <a:ext cx="336600" cy="28620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4" name=""/>
              <p:cNvSpPr/>
              <p:nvPr/>
            </p:nvSpPr>
            <p:spPr>
              <a:xfrm flipH="1">
                <a:off x="4862160" y="2209680"/>
                <a:ext cx="330480" cy="2775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5" name=""/>
              <p:cNvSpPr/>
              <p:nvPr/>
            </p:nvSpPr>
            <p:spPr>
              <a:xfrm>
                <a:off x="4523040" y="2208240"/>
                <a:ext cx="336600" cy="28620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6" name=""/>
              <p:cNvSpPr/>
              <p:nvPr/>
            </p:nvSpPr>
            <p:spPr>
              <a:xfrm flipH="1">
                <a:off x="4525920" y="2209680"/>
                <a:ext cx="329760" cy="2775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7" name=""/>
            <p:cNvGrpSpPr/>
            <p:nvPr/>
          </p:nvGrpSpPr>
          <p:grpSpPr>
            <a:xfrm>
              <a:off x="3515760" y="2207160"/>
              <a:ext cx="2017440" cy="286200"/>
              <a:chOff x="3515760" y="2207160"/>
              <a:chExt cx="2017440" cy="286200"/>
            </a:xfrm>
          </p:grpSpPr>
          <p:sp>
            <p:nvSpPr>
              <p:cNvPr id="3828" name=""/>
              <p:cNvSpPr/>
              <p:nvPr/>
            </p:nvSpPr>
            <p:spPr>
              <a:xfrm flipH="1">
                <a:off x="4189680" y="2209680"/>
                <a:ext cx="329760" cy="27792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9" name=""/>
              <p:cNvSpPr/>
              <p:nvPr/>
            </p:nvSpPr>
            <p:spPr>
              <a:xfrm flipH="1">
                <a:off x="3851640" y="2209680"/>
                <a:ext cx="329760" cy="27792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0" name=""/>
              <p:cNvSpPr/>
              <p:nvPr/>
            </p:nvSpPr>
            <p:spPr>
              <a:xfrm flipH="1">
                <a:off x="3515760" y="2209680"/>
                <a:ext cx="329760" cy="27792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1" name=""/>
              <p:cNvSpPr/>
              <p:nvPr/>
            </p:nvSpPr>
            <p:spPr>
              <a:xfrm>
                <a:off x="5198760" y="2207160"/>
                <a:ext cx="334440" cy="28620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2" name=""/>
              <p:cNvSpPr/>
              <p:nvPr/>
            </p:nvSpPr>
            <p:spPr>
              <a:xfrm>
                <a:off x="4860360" y="2207160"/>
                <a:ext cx="334440" cy="28620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3" name=""/>
              <p:cNvSpPr/>
              <p:nvPr/>
            </p:nvSpPr>
            <p:spPr>
              <a:xfrm>
                <a:off x="4524480" y="2207160"/>
                <a:ext cx="334440" cy="28620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34" name=""/>
            <p:cNvSpPr/>
            <p:nvPr/>
          </p:nvSpPr>
          <p:spPr>
            <a:xfrm>
              <a:off x="3484800" y="2183400"/>
              <a:ext cx="54720" cy="51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3818880" y="2181960"/>
              <a:ext cx="53280" cy="5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6" name=""/>
            <p:cNvSpPr/>
            <p:nvPr/>
          </p:nvSpPr>
          <p:spPr>
            <a:xfrm>
              <a:off x="4154040" y="2177640"/>
              <a:ext cx="55080" cy="5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7" name=""/>
            <p:cNvSpPr/>
            <p:nvPr/>
          </p:nvSpPr>
          <p:spPr>
            <a:xfrm>
              <a:off x="4495680" y="2183400"/>
              <a:ext cx="52920" cy="51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4826520" y="2185920"/>
              <a:ext cx="54720" cy="5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9" name=""/>
            <p:cNvSpPr/>
            <p:nvPr/>
          </p:nvSpPr>
          <p:spPr>
            <a:xfrm>
              <a:off x="5168160" y="2179080"/>
              <a:ext cx="53280" cy="5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0" name=""/>
            <p:cNvSpPr/>
            <p:nvPr/>
          </p:nvSpPr>
          <p:spPr>
            <a:xfrm>
              <a:off x="5500800" y="2181960"/>
              <a:ext cx="54720" cy="5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3489120" y="2473920"/>
              <a:ext cx="54720" cy="5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2" name=""/>
            <p:cNvSpPr/>
            <p:nvPr/>
          </p:nvSpPr>
          <p:spPr>
            <a:xfrm>
              <a:off x="3823200" y="2471040"/>
              <a:ext cx="54720" cy="5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4158720" y="2467080"/>
              <a:ext cx="54720" cy="5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4500000" y="2473920"/>
              <a:ext cx="53280" cy="5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4831200" y="2475360"/>
              <a:ext cx="54720" cy="51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6" name=""/>
            <p:cNvSpPr/>
            <p:nvPr/>
          </p:nvSpPr>
          <p:spPr>
            <a:xfrm>
              <a:off x="5172480" y="2469960"/>
              <a:ext cx="53280" cy="5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5505120" y="2471040"/>
              <a:ext cx="54720" cy="5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 flipV="1">
            <a:off x="2470320" y="2419200"/>
            <a:ext cx="0" cy="119088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33520" y="2418840"/>
            <a:ext cx="5375160" cy="3144960"/>
            <a:chOff x="533520" y="2418840"/>
            <a:chExt cx="5375160" cy="3144960"/>
          </a:xfrm>
        </p:grpSpPr>
        <p:grpSp>
          <p:nvGrpSpPr>
            <p:cNvPr id="49" name=""/>
            <p:cNvGrpSpPr/>
            <p:nvPr/>
          </p:nvGrpSpPr>
          <p:grpSpPr>
            <a:xfrm>
              <a:off x="533520" y="2418840"/>
              <a:ext cx="5372640" cy="3144960"/>
              <a:chOff x="533520" y="2418840"/>
              <a:chExt cx="5372640" cy="3144960"/>
            </a:xfrm>
          </p:grpSpPr>
          <p:grpSp>
            <p:nvGrpSpPr>
              <p:cNvPr id="50" name=""/>
              <p:cNvGrpSpPr/>
              <p:nvPr/>
            </p:nvGrpSpPr>
            <p:grpSpPr>
              <a:xfrm>
                <a:off x="3951720" y="4039920"/>
                <a:ext cx="337680" cy="1517760"/>
                <a:chOff x="3951720" y="4039920"/>
                <a:chExt cx="337680" cy="1517760"/>
              </a:xfrm>
            </p:grpSpPr>
            <p:sp>
              <p:nvSpPr>
                <p:cNvPr id="51" name=""/>
                <p:cNvSpPr/>
                <p:nvPr/>
              </p:nvSpPr>
              <p:spPr>
                <a:xfrm flipV="1">
                  <a:off x="3965760" y="4670640"/>
                  <a:ext cx="322920" cy="887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 flipH="1" flipV="1">
                  <a:off x="3959640" y="4358520"/>
                  <a:ext cx="328680" cy="311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 flipH="1" flipV="1">
                  <a:off x="3965400" y="4987440"/>
                  <a:ext cx="322920" cy="245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 flipV="1">
                  <a:off x="3965760" y="4039920"/>
                  <a:ext cx="322920" cy="940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 flipV="1">
                  <a:off x="3951720" y="4052520"/>
                  <a:ext cx="323280" cy="32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3966120" y="4359600"/>
                  <a:ext cx="0" cy="1193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4289400" y="4046400"/>
                  <a:ext cx="0" cy="1193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" name=""/>
              <p:cNvGrpSpPr/>
              <p:nvPr/>
            </p:nvGrpSpPr>
            <p:grpSpPr>
              <a:xfrm>
                <a:off x="533520" y="4047480"/>
                <a:ext cx="325080" cy="1516320"/>
                <a:chOff x="533520" y="4047480"/>
                <a:chExt cx="325080" cy="1516320"/>
              </a:xfrm>
            </p:grpSpPr>
            <p:sp>
              <p:nvSpPr>
                <p:cNvPr id="59" name=""/>
                <p:cNvSpPr/>
                <p:nvPr/>
              </p:nvSpPr>
              <p:spPr>
                <a:xfrm flipV="1">
                  <a:off x="534600" y="4673520"/>
                  <a:ext cx="323280" cy="886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flipH="1" flipV="1">
                  <a:off x="534600" y="4370760"/>
                  <a:ext cx="320400" cy="298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flipH="1" flipV="1">
                  <a:off x="533520" y="4997880"/>
                  <a:ext cx="323280" cy="241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flipV="1">
                  <a:off x="534600" y="4047480"/>
                  <a:ext cx="321840" cy="944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 flipV="1">
                  <a:off x="536760" y="404784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535320" y="4371120"/>
                  <a:ext cx="0" cy="1192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 flipH="1">
                  <a:off x="857160" y="4057920"/>
                  <a:ext cx="1440" cy="1179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" name=""/>
              <p:cNvGrpSpPr/>
              <p:nvPr/>
            </p:nvGrpSpPr>
            <p:grpSpPr>
              <a:xfrm>
                <a:off x="5580360" y="2418840"/>
                <a:ext cx="325800" cy="1538640"/>
                <a:chOff x="5580360" y="2418840"/>
                <a:chExt cx="325800" cy="1538640"/>
              </a:xfrm>
            </p:grpSpPr>
            <p:sp>
              <p:nvSpPr>
                <p:cNvPr id="67" name=""/>
                <p:cNvSpPr/>
                <p:nvPr/>
              </p:nvSpPr>
              <p:spPr>
                <a:xfrm flipV="1">
                  <a:off x="5582880" y="3071160"/>
                  <a:ext cx="320400" cy="880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 flipH="1" flipV="1">
                  <a:off x="5580360" y="2744280"/>
                  <a:ext cx="321840" cy="332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 flipH="1" flipV="1">
                  <a:off x="5582880" y="3388320"/>
                  <a:ext cx="320400" cy="242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 flipV="1">
                  <a:off x="5581440" y="2421360"/>
                  <a:ext cx="317520" cy="972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 flipV="1">
                  <a:off x="5580720" y="2418840"/>
                  <a:ext cx="324720" cy="33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5585040" y="2739240"/>
                  <a:ext cx="0" cy="12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 flipH="1">
                  <a:off x="5905080" y="2424600"/>
                  <a:ext cx="1080" cy="1207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2152080" y="2421000"/>
                <a:ext cx="323280" cy="1531440"/>
                <a:chOff x="2152080" y="2421000"/>
                <a:chExt cx="323280" cy="1531440"/>
              </a:xfrm>
            </p:grpSpPr>
            <p:sp>
              <p:nvSpPr>
                <p:cNvPr id="75" name=""/>
                <p:cNvSpPr/>
                <p:nvPr/>
              </p:nvSpPr>
              <p:spPr>
                <a:xfrm flipV="1">
                  <a:off x="2152080" y="3075840"/>
                  <a:ext cx="321840" cy="876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 flipH="1" flipV="1">
                  <a:off x="2153160" y="2748600"/>
                  <a:ext cx="318960" cy="32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 flipH="1" flipV="1">
                  <a:off x="2152080" y="3394800"/>
                  <a:ext cx="323280" cy="234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 flipV="1">
                  <a:off x="2152080" y="2421720"/>
                  <a:ext cx="323280" cy="972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V="1">
                  <a:off x="2153880" y="2422080"/>
                  <a:ext cx="31788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2152440" y="2755080"/>
                  <a:ext cx="0" cy="1192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2473200" y="2421000"/>
                  <a:ext cx="1080" cy="1208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2" name=""/>
            <p:cNvGrpSpPr/>
            <p:nvPr/>
          </p:nvGrpSpPr>
          <p:grpSpPr>
            <a:xfrm>
              <a:off x="537120" y="3070800"/>
              <a:ext cx="5371560" cy="1926000"/>
              <a:chOff x="537120" y="3070800"/>
              <a:chExt cx="5371560" cy="1926000"/>
            </a:xfrm>
          </p:grpSpPr>
          <p:sp>
            <p:nvSpPr>
              <p:cNvPr id="83" name=""/>
              <p:cNvSpPr/>
              <p:nvPr/>
            </p:nvSpPr>
            <p:spPr>
              <a:xfrm flipV="1">
                <a:off x="3969360" y="466776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V="1">
                <a:off x="537120" y="4675680"/>
                <a:ext cx="32328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>
                <a:off x="5591160" y="3070800"/>
                <a:ext cx="31752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>
                <a:off x="2157120" y="3076560"/>
                <a:ext cx="32040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7" name=""/>
          <p:cNvGrpSpPr/>
          <p:nvPr/>
        </p:nvGrpSpPr>
        <p:grpSpPr>
          <a:xfrm>
            <a:off x="431640" y="3668760"/>
            <a:ext cx="5532120" cy="2089080"/>
            <a:chOff x="431640" y="3668760"/>
            <a:chExt cx="5532120" cy="2089080"/>
          </a:xfrm>
        </p:grpSpPr>
        <p:grpSp>
          <p:nvGrpSpPr>
            <p:cNvPr id="88" name=""/>
            <p:cNvGrpSpPr/>
            <p:nvPr/>
          </p:nvGrpSpPr>
          <p:grpSpPr>
            <a:xfrm>
              <a:off x="4189320" y="3987000"/>
              <a:ext cx="1452240" cy="1449360"/>
              <a:chOff x="4189320" y="3987000"/>
              <a:chExt cx="1452240" cy="1449360"/>
            </a:xfrm>
          </p:grpSpPr>
          <p:sp>
            <p:nvSpPr>
              <p:cNvPr id="89" name=""/>
              <p:cNvSpPr/>
              <p:nvPr/>
            </p:nvSpPr>
            <p:spPr>
              <a:xfrm>
                <a:off x="5482440" y="398700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163480" y="4302720"/>
                <a:ext cx="159840" cy="160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835880" y="4627080"/>
                <a:ext cx="15984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513680" y="4947840"/>
                <a:ext cx="1634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189320" y="5276880"/>
                <a:ext cx="15876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761760" y="3985920"/>
              <a:ext cx="1447920" cy="1442160"/>
              <a:chOff x="761760" y="3985920"/>
              <a:chExt cx="1447920" cy="1442160"/>
            </a:xfrm>
          </p:grpSpPr>
          <p:sp>
            <p:nvSpPr>
              <p:cNvPr id="95" name=""/>
              <p:cNvSpPr/>
              <p:nvPr/>
            </p:nvSpPr>
            <p:spPr>
              <a:xfrm>
                <a:off x="2050560" y="398592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729800" y="4304520"/>
                <a:ext cx="159120" cy="1612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408320" y="462708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080720" y="4948920"/>
                <a:ext cx="16020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1760" y="526860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2367720" y="3668760"/>
              <a:ext cx="3596040" cy="162000"/>
              <a:chOff x="2367720" y="3668760"/>
              <a:chExt cx="3596040" cy="162000"/>
            </a:xfrm>
          </p:grpSpPr>
          <p:sp>
            <p:nvSpPr>
              <p:cNvPr id="101" name=""/>
              <p:cNvSpPr/>
              <p:nvPr/>
            </p:nvSpPr>
            <p:spPr>
              <a:xfrm>
                <a:off x="5804640" y="366912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367720" y="366912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676400" y="366876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938680" y="367092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48804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087080" y="36687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24268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431640" y="5596200"/>
              <a:ext cx="3595320" cy="161640"/>
              <a:chOff x="431640" y="5596200"/>
              <a:chExt cx="3595320" cy="161640"/>
            </a:xfrm>
          </p:grpSpPr>
          <p:sp>
            <p:nvSpPr>
              <p:cNvPr id="109" name=""/>
              <p:cNvSpPr/>
              <p:nvPr/>
            </p:nvSpPr>
            <p:spPr>
              <a:xfrm>
                <a:off x="43164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867480" y="5596200"/>
                <a:ext cx="15948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99936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55160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74104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31596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" name=""/>
          <p:cNvGrpSpPr/>
          <p:nvPr/>
        </p:nvGrpSpPr>
        <p:grpSpPr>
          <a:xfrm>
            <a:off x="2473200" y="2424240"/>
            <a:ext cx="3434040" cy="1209600"/>
            <a:chOff x="2473200" y="2424240"/>
            <a:chExt cx="3434040" cy="1209600"/>
          </a:xfrm>
        </p:grpSpPr>
        <p:sp>
          <p:nvSpPr>
            <p:cNvPr id="116" name=""/>
            <p:cNvSpPr/>
            <p:nvPr/>
          </p:nvSpPr>
          <p:spPr>
            <a:xfrm>
              <a:off x="2473200" y="242424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473560" y="275256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473920" y="3332880"/>
              <a:ext cx="3427560" cy="140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2475000" y="3075840"/>
              <a:ext cx="342216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080" y="363384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31720" y="2749680"/>
            <a:ext cx="1941120" cy="2812680"/>
            <a:chOff x="531720" y="2749680"/>
            <a:chExt cx="1941120" cy="2812680"/>
          </a:xfrm>
        </p:grpSpPr>
        <p:sp>
          <p:nvSpPr>
            <p:cNvPr id="122" name=""/>
            <p:cNvSpPr/>
            <p:nvPr/>
          </p:nvSpPr>
          <p:spPr>
            <a:xfrm flipV="1">
              <a:off x="535680" y="2749680"/>
              <a:ext cx="1935720" cy="1926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531720" y="3080160"/>
              <a:ext cx="1940040" cy="19155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532800" y="3346200"/>
              <a:ext cx="1940040" cy="19353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532800" y="3632760"/>
              <a:ext cx="1937160" cy="19296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31720" y="2158920"/>
            <a:ext cx="5372280" cy="3412800"/>
            <a:chOff x="531720" y="2158920"/>
            <a:chExt cx="5372280" cy="3412800"/>
          </a:xfrm>
        </p:grpSpPr>
        <p:grpSp>
          <p:nvGrpSpPr>
            <p:cNvPr id="127" name=""/>
            <p:cNvGrpSpPr/>
            <p:nvPr/>
          </p:nvGrpSpPr>
          <p:grpSpPr>
            <a:xfrm>
              <a:off x="2473200" y="2158920"/>
              <a:ext cx="3430800" cy="1476720"/>
              <a:chOff x="2473200" y="2158920"/>
              <a:chExt cx="3430800" cy="1476720"/>
            </a:xfrm>
          </p:grpSpPr>
          <p:sp>
            <p:nvSpPr>
              <p:cNvPr id="128" name=""/>
              <p:cNvSpPr/>
              <p:nvPr/>
            </p:nvSpPr>
            <p:spPr>
              <a:xfrm>
                <a:off x="5355000" y="2341800"/>
                <a:ext cx="0" cy="129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904000" y="2439000"/>
                <a:ext cx="0" cy="1196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782240" y="2248200"/>
                <a:ext cx="0" cy="1387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189680" y="2158920"/>
                <a:ext cx="0" cy="1476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594960" y="2251800"/>
                <a:ext cx="0" cy="138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473200" y="2433600"/>
                <a:ext cx="0" cy="120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046680" y="2336760"/>
                <a:ext cx="0" cy="1298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531720" y="4102200"/>
              <a:ext cx="3433320" cy="1469520"/>
              <a:chOff x="531720" y="4102200"/>
              <a:chExt cx="3433320" cy="1469520"/>
            </a:xfrm>
          </p:grpSpPr>
          <p:sp>
            <p:nvSpPr>
              <p:cNvPr id="136" name=""/>
              <p:cNvSpPr/>
              <p:nvPr/>
            </p:nvSpPr>
            <p:spPr>
              <a:xfrm flipH="1">
                <a:off x="2248920" y="4102200"/>
                <a:ext cx="1440" cy="57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415680" y="4284720"/>
                <a:ext cx="0" cy="1287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965040" y="4365720"/>
                <a:ext cx="0" cy="1194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842920" y="4197960"/>
                <a:ext cx="0" cy="1368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655280" y="4190400"/>
                <a:ext cx="0" cy="137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1720" y="4368600"/>
                <a:ext cx="720" cy="1195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07000" y="4280400"/>
                <a:ext cx="0" cy="128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857160" y="2484360"/>
            <a:ext cx="4724640" cy="2750400"/>
            <a:chOff x="857160" y="2484360"/>
            <a:chExt cx="4724640" cy="2750400"/>
          </a:xfrm>
        </p:grpSpPr>
        <p:grpSp>
          <p:nvGrpSpPr>
            <p:cNvPr id="144" name=""/>
            <p:cNvGrpSpPr/>
            <p:nvPr/>
          </p:nvGrpSpPr>
          <p:grpSpPr>
            <a:xfrm>
              <a:off x="857160" y="3781080"/>
              <a:ext cx="3430800" cy="1453680"/>
              <a:chOff x="857160" y="3781080"/>
              <a:chExt cx="3430800" cy="1453680"/>
            </a:xfrm>
          </p:grpSpPr>
          <p:sp>
            <p:nvSpPr>
              <p:cNvPr id="145" name=""/>
              <p:cNvSpPr/>
              <p:nvPr/>
            </p:nvSpPr>
            <p:spPr>
              <a:xfrm flipV="1">
                <a:off x="857160" y="4044960"/>
                <a:ext cx="0" cy="1189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V="1">
                <a:off x="857160" y="3781080"/>
                <a:ext cx="1715400" cy="264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V="1">
                <a:off x="4287960" y="4044960"/>
                <a:ext cx="0" cy="1189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 flipV="1">
                <a:off x="2572200" y="3781080"/>
                <a:ext cx="1715400" cy="264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1180440" y="2484360"/>
              <a:ext cx="4401360" cy="2437920"/>
              <a:chOff x="1180440" y="2484360"/>
              <a:chExt cx="4401360" cy="2437920"/>
            </a:xfrm>
          </p:grpSpPr>
          <p:grpSp>
            <p:nvGrpSpPr>
              <p:cNvPr id="150" name=""/>
              <p:cNvGrpSpPr/>
              <p:nvPr/>
            </p:nvGrpSpPr>
            <p:grpSpPr>
              <a:xfrm>
                <a:off x="1180440" y="3456360"/>
                <a:ext cx="3431520" cy="1465920"/>
                <a:chOff x="1180440" y="3456360"/>
                <a:chExt cx="3431520" cy="1465920"/>
              </a:xfrm>
            </p:grpSpPr>
            <p:sp>
              <p:nvSpPr>
                <p:cNvPr id="151" name=""/>
                <p:cNvSpPr/>
                <p:nvPr/>
              </p:nvSpPr>
              <p:spPr>
                <a:xfrm flipV="1">
                  <a:off x="1180440" y="3722040"/>
                  <a:ext cx="0" cy="1195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V="1">
                  <a:off x="1180440" y="3456360"/>
                  <a:ext cx="1716120" cy="265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4611960" y="3721680"/>
                  <a:ext cx="0" cy="1200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H="1" flipV="1">
                  <a:off x="2896200" y="3456360"/>
                  <a:ext cx="1715400" cy="265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1502280" y="3132000"/>
                <a:ext cx="3432960" cy="1463760"/>
                <a:chOff x="1502280" y="3132000"/>
                <a:chExt cx="3432960" cy="1463760"/>
              </a:xfrm>
            </p:grpSpPr>
            <p:sp>
              <p:nvSpPr>
                <p:cNvPr id="156" name=""/>
                <p:cNvSpPr/>
                <p:nvPr/>
              </p:nvSpPr>
              <p:spPr>
                <a:xfrm flipV="1">
                  <a:off x="1502280" y="3398400"/>
                  <a:ext cx="0" cy="1197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V="1">
                  <a:off x="1502280" y="3132000"/>
                  <a:ext cx="171648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flipV="1">
                  <a:off x="4935240" y="3398400"/>
                  <a:ext cx="0" cy="1197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flipH="1" flipV="1">
                  <a:off x="3218760" y="3132000"/>
                  <a:ext cx="171648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1827000" y="2808000"/>
                <a:ext cx="3431520" cy="1464480"/>
                <a:chOff x="1827000" y="2808000"/>
                <a:chExt cx="3431520" cy="1464480"/>
              </a:xfrm>
            </p:grpSpPr>
            <p:sp>
              <p:nvSpPr>
                <p:cNvPr id="161" name=""/>
                <p:cNvSpPr/>
                <p:nvPr/>
              </p:nvSpPr>
              <p:spPr>
                <a:xfrm flipV="1">
                  <a:off x="1827000" y="3074400"/>
                  <a:ext cx="0" cy="1198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flipV="1">
                  <a:off x="1827000" y="2808000"/>
                  <a:ext cx="171576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 flipV="1">
                  <a:off x="5258520" y="3074400"/>
                  <a:ext cx="0" cy="1198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flipH="1" flipV="1">
                  <a:off x="3542760" y="2808000"/>
                  <a:ext cx="171576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2151000" y="2484360"/>
                <a:ext cx="3430800" cy="1472400"/>
                <a:chOff x="2151000" y="2484360"/>
                <a:chExt cx="3430800" cy="1472400"/>
              </a:xfrm>
            </p:grpSpPr>
            <p:sp>
              <p:nvSpPr>
                <p:cNvPr id="166" name=""/>
                <p:cNvSpPr/>
                <p:nvPr/>
              </p:nvSpPr>
              <p:spPr>
                <a:xfrm flipV="1">
                  <a:off x="2151000" y="2751840"/>
                  <a:ext cx="0" cy="1204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 flipV="1">
                  <a:off x="2151000" y="2484360"/>
                  <a:ext cx="1715400" cy="267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flipV="1">
                  <a:off x="5581800" y="2751840"/>
                  <a:ext cx="0" cy="1204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flipH="1" flipV="1">
                  <a:off x="3866040" y="2484360"/>
                  <a:ext cx="1715400" cy="267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70" name=""/>
          <p:cNvGrpSpPr/>
          <p:nvPr/>
        </p:nvGrpSpPr>
        <p:grpSpPr>
          <a:xfrm>
            <a:off x="533520" y="2422440"/>
            <a:ext cx="5368320" cy="1944720"/>
            <a:chOff x="533520" y="2422440"/>
            <a:chExt cx="5368320" cy="1944720"/>
          </a:xfrm>
        </p:grpSpPr>
        <p:sp>
          <p:nvSpPr>
            <p:cNvPr id="171" name=""/>
            <p:cNvSpPr/>
            <p:nvPr/>
          </p:nvSpPr>
          <p:spPr>
            <a:xfrm flipV="1">
              <a:off x="3955680" y="2422440"/>
              <a:ext cx="1946160" cy="1944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533520" y="2422440"/>
              <a:ext cx="1940760" cy="1944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779400" y="2204640"/>
            <a:ext cx="4847760" cy="2130480"/>
            <a:chOff x="779400" y="2204640"/>
            <a:chExt cx="4847760" cy="2130480"/>
          </a:xfrm>
        </p:grpSpPr>
        <p:sp>
          <p:nvSpPr>
            <p:cNvPr id="174" name=""/>
            <p:cNvSpPr/>
            <p:nvPr/>
          </p:nvSpPr>
          <p:spPr>
            <a:xfrm flipV="1">
              <a:off x="2548440" y="2204640"/>
              <a:ext cx="193500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2841480" y="2248920"/>
              <a:ext cx="194076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3413160" y="2341080"/>
              <a:ext cx="193212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3681000" y="2384640"/>
              <a:ext cx="194616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779400" y="2381400"/>
              <a:ext cx="1985400" cy="1953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1103040" y="2338560"/>
              <a:ext cx="1938600" cy="1943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1655280" y="2247480"/>
              <a:ext cx="194292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1934640" y="2204640"/>
              <a:ext cx="1973520" cy="19508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1371600" y="2298600"/>
              <a:ext cx="194796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3124440" y="2290680"/>
              <a:ext cx="1940760" cy="1947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V="1">
            <a:off x="2244600" y="2158920"/>
            <a:ext cx="1944720" cy="19382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31720" y="4368600"/>
            <a:ext cx="3430800" cy="1198080"/>
            <a:chOff x="531720" y="4368600"/>
            <a:chExt cx="3430800" cy="1198080"/>
          </a:xfrm>
        </p:grpSpPr>
        <p:sp>
          <p:nvSpPr>
            <p:cNvPr id="186" name=""/>
            <p:cNvSpPr/>
            <p:nvPr/>
          </p:nvSpPr>
          <p:spPr>
            <a:xfrm flipV="1">
              <a:off x="2842200" y="5565600"/>
              <a:ext cx="111780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532080" y="4368600"/>
              <a:ext cx="3430440" cy="3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1720" y="4678920"/>
              <a:ext cx="343008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839320" y="5276880"/>
              <a:ext cx="11217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532080" y="4999320"/>
              <a:ext cx="112284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42200" y="4991400"/>
              <a:ext cx="112032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2800" y="5281200"/>
              <a:ext cx="111960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4240" y="5564520"/>
              <a:ext cx="111672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3960720" y="2754360"/>
            <a:ext cx="1943280" cy="2809800"/>
            <a:chOff x="3960720" y="2754360"/>
            <a:chExt cx="1943280" cy="2809800"/>
          </a:xfrm>
        </p:grpSpPr>
        <p:sp>
          <p:nvSpPr>
            <p:cNvPr id="195" name=""/>
            <p:cNvSpPr/>
            <p:nvPr/>
          </p:nvSpPr>
          <p:spPr>
            <a:xfrm flipV="1">
              <a:off x="3960720" y="3636000"/>
              <a:ext cx="1943280" cy="19281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3964680" y="2754360"/>
              <a:ext cx="1937520" cy="1925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3963240" y="3076200"/>
              <a:ext cx="1939320" cy="19137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3961800" y="3332880"/>
              <a:ext cx="194040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 flipV="1">
            <a:off x="531720" y="4101840"/>
            <a:ext cx="1714680" cy="26676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2249640" y="4103280"/>
            <a:ext cx="1715760" cy="26676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0280" y="4363920"/>
            <a:ext cx="0" cy="119088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3960720" y="4363920"/>
            <a:ext cx="0" cy="119088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900760" y="2419200"/>
            <a:ext cx="0" cy="119088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2479680" y="2158560"/>
            <a:ext cx="1714320" cy="2653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4193640" y="2158560"/>
            <a:ext cx="1714680" cy="2653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62000" y="528480"/>
            <a:ext cx="87818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 élément supporte la poutre au ven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00760" y="2567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rId1" action="ppaction://hlinksldjump"/>
          </p:cNvPr>
          <p:cNvSpPr/>
          <p:nvPr/>
        </p:nvSpPr>
        <p:spPr>
          <a:xfrm>
            <a:off x="6873840" y="263376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co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00760" y="29988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rId2" action="ppaction://hlinksldjump"/>
          </p:cNvPr>
          <p:cNvSpPr/>
          <p:nvPr/>
        </p:nvSpPr>
        <p:spPr>
          <a:xfrm>
            <a:off x="6873840" y="306540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sab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00760" y="343044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rId3" action="ppaction://hlinksldjump"/>
          </p:cNvPr>
          <p:cNvSpPr/>
          <p:nvPr/>
        </p:nvSpPr>
        <p:spPr>
          <a:xfrm>
            <a:off x="6873840" y="349740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faît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00760" y="386388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>
            <a:hlinkClick r:id="rId4" action="ppaction://hlinksldjump"/>
          </p:cNvPr>
          <p:cNvSpPr/>
          <p:nvPr/>
        </p:nvSpPr>
        <p:spPr>
          <a:xfrm>
            <a:off x="6873840" y="3930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co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00760" y="42958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rId5" action="ppaction://hlinksldjump"/>
          </p:cNvPr>
          <p:cNvSpPr/>
          <p:nvPr/>
        </p:nvSpPr>
        <p:spPr>
          <a:xfrm>
            <a:off x="6873840" y="4362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Lisse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00760" y="4727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>
            <a:hlinkClick r:id="rId6" action="ppaction://hlinksldjump"/>
          </p:cNvPr>
          <p:cNvSpPr/>
          <p:nvPr/>
        </p:nvSpPr>
        <p:spPr>
          <a:xfrm>
            <a:off x="6873840" y="4794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te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800760" y="5159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>
            <a:hlinkClick r:id="" action="ppaction://hlinkshowjump?jump=nextslide"/>
          </p:cNvPr>
          <p:cNvSpPr/>
          <p:nvPr/>
        </p:nvSpPr>
        <p:spPr>
          <a:xfrm>
            <a:off x="6873840" y="5226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lée de st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00760" y="5591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rId7" action="ppaction://hlinksldjump"/>
          </p:cNvPr>
          <p:cNvSpPr/>
          <p:nvPr/>
        </p:nvSpPr>
        <p:spPr>
          <a:xfrm>
            <a:off x="6873840" y="565776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00760" y="17082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>
            <a:hlinkClick r:id="rId8" action="ppaction://hlinksldjump"/>
          </p:cNvPr>
          <p:cNvSpPr/>
          <p:nvPr/>
        </p:nvSpPr>
        <p:spPr>
          <a:xfrm>
            <a:off x="6873840" y="1776240"/>
            <a:ext cx="17985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Fo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00760" y="2135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73840" y="220824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de 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00760" y="6029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73840" y="60958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Bardage couver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678720" y="656892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>
            <a:hlinkClick r:id="" action="ppaction://hlinkshowjump?jump=previousslide"/>
          </p:cNvPr>
          <p:cNvSpPr/>
          <p:nvPr/>
        </p:nvSpPr>
        <p:spPr>
          <a:xfrm>
            <a:off x="243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28520" y="6613560"/>
            <a:ext cx="58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Arriè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25600" y="2160720"/>
            <a:ext cx="5378400" cy="2209320"/>
            <a:chOff x="525600" y="2160720"/>
            <a:chExt cx="5378400" cy="2209320"/>
          </a:xfrm>
        </p:grpSpPr>
        <p:grpSp>
          <p:nvGrpSpPr>
            <p:cNvPr id="233" name=""/>
            <p:cNvGrpSpPr/>
            <p:nvPr/>
          </p:nvGrpSpPr>
          <p:grpSpPr>
            <a:xfrm>
              <a:off x="2151720" y="2160720"/>
              <a:ext cx="3752280" cy="588960"/>
              <a:chOff x="2151720" y="2160720"/>
              <a:chExt cx="3752280" cy="588960"/>
            </a:xfrm>
          </p:grpSpPr>
          <p:sp>
            <p:nvSpPr>
              <p:cNvPr id="234" name=""/>
              <p:cNvSpPr/>
              <p:nvPr/>
            </p:nvSpPr>
            <p:spPr>
              <a:xfrm flipV="1">
                <a:off x="5586480" y="2421000"/>
                <a:ext cx="317520" cy="317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3869280" y="2160720"/>
                <a:ext cx="321840" cy="324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4461840" y="2251440"/>
                <a:ext cx="317520" cy="318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2152080" y="2424960"/>
                <a:ext cx="324360" cy="321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V="1">
                <a:off x="2724120" y="2338200"/>
                <a:ext cx="317520" cy="317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V="1">
                <a:off x="3274920" y="2254320"/>
                <a:ext cx="317520" cy="318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0" name=""/>
              <p:cNvGrpSpPr/>
              <p:nvPr/>
            </p:nvGrpSpPr>
            <p:grpSpPr>
              <a:xfrm>
                <a:off x="2151720" y="2160720"/>
                <a:ext cx="3748320" cy="588960"/>
                <a:chOff x="2151720" y="2160720"/>
                <a:chExt cx="3748320" cy="588960"/>
              </a:xfrm>
            </p:grpSpPr>
            <p:sp>
              <p:nvSpPr>
                <p:cNvPr id="241" name=""/>
                <p:cNvSpPr/>
                <p:nvPr/>
              </p:nvSpPr>
              <p:spPr>
                <a:xfrm flipH="1" flipV="1">
                  <a:off x="4188960" y="2160720"/>
                  <a:ext cx="266400" cy="412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 flipH="1">
                  <a:off x="3274200" y="2161080"/>
                  <a:ext cx="912960" cy="4136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flipH="1" flipV="1">
                  <a:off x="5353920" y="2337480"/>
                  <a:ext cx="225360" cy="412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flipV="1">
                  <a:off x="5025240" y="2422080"/>
                  <a:ext cx="874800" cy="2401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flipV="1">
                  <a:off x="4782240" y="2251800"/>
                  <a:ext cx="242640" cy="4114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>
                  <a:off x="4458240" y="2335320"/>
                  <a:ext cx="896400" cy="2404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flipH="1">
                  <a:off x="3871800" y="2247840"/>
                  <a:ext cx="909720" cy="2329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flipH="1" flipV="1">
                  <a:off x="3593160" y="2254680"/>
                  <a:ext cx="285840" cy="2343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flipH="1" flipV="1">
                  <a:off x="3045960" y="2335320"/>
                  <a:ext cx="236160" cy="2419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flipH="1">
                  <a:off x="2720520" y="2256480"/>
                  <a:ext cx="873720" cy="4060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flipH="1" flipV="1">
                  <a:off x="2478600" y="2426400"/>
                  <a:ext cx="239400" cy="2343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 flipH="1">
                  <a:off x="2151720" y="2336760"/>
                  <a:ext cx="894240" cy="4104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 flipV="1">
                  <a:off x="2479680" y="2162880"/>
                  <a:ext cx="1708200" cy="2581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V="1">
                  <a:off x="2167560" y="2481840"/>
                  <a:ext cx="1705320" cy="263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3870360" y="2480400"/>
                  <a:ext cx="1710360" cy="2692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4195080" y="2160720"/>
                  <a:ext cx="1697760" cy="2606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7" name=""/>
              <p:cNvSpPr/>
              <p:nvPr/>
            </p:nvSpPr>
            <p:spPr>
              <a:xfrm flipV="1">
                <a:off x="5026320" y="2337480"/>
                <a:ext cx="326160" cy="326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525600" y="3780000"/>
              <a:ext cx="3754440" cy="590040"/>
              <a:chOff x="525600" y="3780000"/>
              <a:chExt cx="3754440" cy="590040"/>
            </a:xfrm>
          </p:grpSpPr>
          <p:sp>
            <p:nvSpPr>
              <p:cNvPr id="259" name=""/>
              <p:cNvSpPr/>
              <p:nvPr/>
            </p:nvSpPr>
            <p:spPr>
              <a:xfrm flipV="1">
                <a:off x="3956760" y="4044600"/>
                <a:ext cx="321840" cy="3211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V="1">
                <a:off x="2839320" y="3871800"/>
                <a:ext cx="320400" cy="320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2243880" y="3784680"/>
                <a:ext cx="316080" cy="315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40640" y="4100760"/>
                <a:ext cx="1716120" cy="269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 flipV="1">
                <a:off x="2565000" y="3782160"/>
                <a:ext cx="267840" cy="413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 flipV="1">
                <a:off x="3731400" y="3960720"/>
                <a:ext cx="228240" cy="407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V="1">
                <a:off x="3408120" y="4045320"/>
                <a:ext cx="866160" cy="238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 flipV="1">
                <a:off x="3160800" y="3873960"/>
                <a:ext cx="248400" cy="413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>
                <a:off x="2832840" y="3960000"/>
                <a:ext cx="896400" cy="2361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>
                <a:off x="2242440" y="3872520"/>
                <a:ext cx="919440" cy="228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569680" y="3780720"/>
                <a:ext cx="1710360" cy="264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3409560" y="3960000"/>
                <a:ext cx="320400" cy="321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V="1">
                <a:off x="1652760" y="3868920"/>
                <a:ext cx="320400" cy="322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1101600" y="3952800"/>
                <a:ext cx="322920" cy="325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535320" y="4100760"/>
                <a:ext cx="1704960" cy="2664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851400" y="3780720"/>
                <a:ext cx="1722240" cy="262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1650240" y="3780000"/>
                <a:ext cx="917280" cy="413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 flipV="1">
                <a:off x="1970640" y="3872160"/>
                <a:ext cx="268560" cy="228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 flipV="1">
                <a:off x="1422000" y="3952800"/>
                <a:ext cx="227520" cy="239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>
                <a:off x="1104120" y="3876840"/>
                <a:ext cx="859680" cy="403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 flipV="1">
                <a:off x="852120" y="4042440"/>
                <a:ext cx="246600" cy="235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>
                <a:off x="529200" y="3955680"/>
                <a:ext cx="889920" cy="413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525600" y="4044240"/>
                <a:ext cx="325800" cy="325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8" name=""/>
          <p:cNvSpPr/>
          <p:nvPr/>
        </p:nvSpPr>
        <p:spPr>
          <a:xfrm>
            <a:off x="7227720" y="413244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9" name=""/>
          <p:cNvSpPr/>
          <p:nvPr/>
        </p:nvSpPr>
        <p:spPr>
          <a:xfrm>
            <a:off x="7256520" y="419724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0" name=""/>
          <p:cNvSpPr/>
          <p:nvPr/>
        </p:nvSpPr>
        <p:spPr>
          <a:xfrm>
            <a:off x="8177040" y="413244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1" name=""/>
          <p:cNvSpPr/>
          <p:nvPr/>
        </p:nvSpPr>
        <p:spPr>
          <a:xfrm>
            <a:off x="8205840" y="419724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2" name=""/>
          <p:cNvSpPr/>
          <p:nvPr/>
        </p:nvSpPr>
        <p:spPr>
          <a:xfrm>
            <a:off x="198360" y="4629240"/>
            <a:ext cx="69152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ur être plus sûr, en cas d’erreur dans les calcu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3" name=""/>
          <p:cNvSpPr/>
          <p:nvPr/>
        </p:nvSpPr>
        <p:spPr>
          <a:xfrm>
            <a:off x="7227720" y="464040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4" name="">
            <a:hlinkClick r:id="rId1" action="ppaction://hlinksldjump"/>
          </p:cNvPr>
          <p:cNvSpPr/>
          <p:nvPr/>
        </p:nvSpPr>
        <p:spPr>
          <a:xfrm>
            <a:off x="7256520" y="470520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5" name=""/>
          <p:cNvSpPr/>
          <p:nvPr/>
        </p:nvSpPr>
        <p:spPr>
          <a:xfrm>
            <a:off x="198360" y="3619440"/>
            <a:ext cx="6915240" cy="3650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ur augmenter la résistance de la 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6" name=""/>
          <p:cNvSpPr/>
          <p:nvPr/>
        </p:nvSpPr>
        <p:spPr>
          <a:xfrm>
            <a:off x="198360" y="3186000"/>
            <a:ext cx="691524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ur obtenir un élément hyperstat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7" name=""/>
          <p:cNvSpPr/>
          <p:nvPr/>
        </p:nvSpPr>
        <p:spPr>
          <a:xfrm>
            <a:off x="8177040" y="464040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8" name="">
            <a:hlinkClick r:id="" action="ppaction://hlinkshowjump?jump=nextslide"/>
          </p:cNvPr>
          <p:cNvSpPr/>
          <p:nvPr/>
        </p:nvSpPr>
        <p:spPr>
          <a:xfrm>
            <a:off x="8205840" y="470520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9" name=""/>
          <p:cNvSpPr/>
          <p:nvPr/>
        </p:nvSpPr>
        <p:spPr>
          <a:xfrm>
            <a:off x="7227720" y="362916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0" name=""/>
          <p:cNvSpPr/>
          <p:nvPr/>
        </p:nvSpPr>
        <p:spPr>
          <a:xfrm>
            <a:off x="7256520" y="369396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1" name="">
            <a:hlinkClick r:id="rId2" action="ppaction://hlinksldjump"/>
          </p:cNvPr>
          <p:cNvSpPr/>
          <p:nvPr/>
        </p:nvSpPr>
        <p:spPr>
          <a:xfrm>
            <a:off x="8177040" y="362916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2" name=""/>
          <p:cNvSpPr/>
          <p:nvPr/>
        </p:nvSpPr>
        <p:spPr>
          <a:xfrm>
            <a:off x="8205840" y="369396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3" name=""/>
          <p:cNvSpPr/>
          <p:nvPr/>
        </p:nvSpPr>
        <p:spPr>
          <a:xfrm>
            <a:off x="7227720" y="319572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4" name=""/>
          <p:cNvSpPr/>
          <p:nvPr/>
        </p:nvSpPr>
        <p:spPr>
          <a:xfrm>
            <a:off x="7256520" y="3260880"/>
            <a:ext cx="693720" cy="2156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5" name="">
            <a:hlinkClick r:id="rId3" action="ppaction://hlinksldjump"/>
          </p:cNvPr>
          <p:cNvSpPr/>
          <p:nvPr/>
        </p:nvSpPr>
        <p:spPr>
          <a:xfrm>
            <a:off x="8177040" y="319572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6" name=""/>
          <p:cNvSpPr/>
          <p:nvPr/>
        </p:nvSpPr>
        <p:spPr>
          <a:xfrm>
            <a:off x="8205840" y="3260880"/>
            <a:ext cx="693720" cy="2156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7" name=""/>
          <p:cNvSpPr/>
          <p:nvPr/>
        </p:nvSpPr>
        <p:spPr>
          <a:xfrm>
            <a:off x="198360" y="4021200"/>
            <a:ext cx="6915240" cy="566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rce que, quand le vent souffle dans le sens opposé, les diagonales comprimées deviennent des diagonales tend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8" name=""/>
          <p:cNvSpPr/>
          <p:nvPr/>
        </p:nvSpPr>
        <p:spPr>
          <a:xfrm>
            <a:off x="7142040" y="5092560"/>
            <a:ext cx="185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9" name=""/>
          <p:cNvSpPr/>
          <p:nvPr/>
        </p:nvSpPr>
        <p:spPr>
          <a:xfrm>
            <a:off x="1133640" y="241200"/>
            <a:ext cx="6814800" cy="20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i on ne prend pas en compte les barres comprimées dans le calcul, alors pourquoi les conserver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0" name=""/>
          <p:cNvGrpSpPr/>
          <p:nvPr/>
        </p:nvGrpSpPr>
        <p:grpSpPr>
          <a:xfrm>
            <a:off x="3346560" y="1852560"/>
            <a:ext cx="2341080" cy="1231920"/>
            <a:chOff x="3346560" y="1852560"/>
            <a:chExt cx="2341080" cy="1231920"/>
          </a:xfrm>
        </p:grpSpPr>
        <p:sp>
          <p:nvSpPr>
            <p:cNvPr id="3871" name=""/>
            <p:cNvSpPr/>
            <p:nvPr/>
          </p:nvSpPr>
          <p:spPr>
            <a:xfrm>
              <a:off x="3517560" y="1964880"/>
              <a:ext cx="0" cy="2156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2" name=""/>
            <p:cNvSpPr/>
            <p:nvPr/>
          </p:nvSpPr>
          <p:spPr>
            <a:xfrm>
              <a:off x="3846960" y="1855080"/>
              <a:ext cx="0" cy="3250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3" name=""/>
            <p:cNvSpPr/>
            <p:nvPr/>
          </p:nvSpPr>
          <p:spPr>
            <a:xfrm>
              <a:off x="4185360" y="1852560"/>
              <a:ext cx="0" cy="3250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4" name=""/>
            <p:cNvSpPr/>
            <p:nvPr/>
          </p:nvSpPr>
          <p:spPr>
            <a:xfrm>
              <a:off x="4519440" y="1855080"/>
              <a:ext cx="0" cy="3250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5" name=""/>
            <p:cNvSpPr/>
            <p:nvPr/>
          </p:nvSpPr>
          <p:spPr>
            <a:xfrm>
              <a:off x="4857840" y="1852560"/>
              <a:ext cx="0" cy="3250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6" name=""/>
            <p:cNvSpPr/>
            <p:nvPr/>
          </p:nvSpPr>
          <p:spPr>
            <a:xfrm>
              <a:off x="5196240" y="1856520"/>
              <a:ext cx="0" cy="3250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7" name=""/>
            <p:cNvSpPr/>
            <p:nvPr/>
          </p:nvSpPr>
          <p:spPr>
            <a:xfrm>
              <a:off x="5532120" y="1934280"/>
              <a:ext cx="0" cy="24336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8" name=""/>
            <p:cNvSpPr/>
            <p:nvPr/>
          </p:nvSpPr>
          <p:spPr>
            <a:xfrm>
              <a:off x="5374440" y="2592000"/>
              <a:ext cx="31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9" name=""/>
            <p:cNvSpPr/>
            <p:nvPr/>
          </p:nvSpPr>
          <p:spPr>
            <a:xfrm>
              <a:off x="3407400" y="2499120"/>
              <a:ext cx="207720" cy="96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0" name=""/>
            <p:cNvSpPr/>
            <p:nvPr/>
          </p:nvSpPr>
          <p:spPr>
            <a:xfrm>
              <a:off x="3346560" y="2607480"/>
              <a:ext cx="317520" cy="56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1" name=""/>
            <p:cNvSpPr/>
            <p:nvPr/>
          </p:nvSpPr>
          <p:spPr>
            <a:xfrm>
              <a:off x="5428080" y="2497680"/>
              <a:ext cx="207360" cy="972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2" name=""/>
            <p:cNvSpPr/>
            <p:nvPr/>
          </p:nvSpPr>
          <p:spPr>
            <a:xfrm>
              <a:off x="5370120" y="2652120"/>
              <a:ext cx="317520" cy="56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3" name=""/>
            <p:cNvSpPr/>
            <p:nvPr/>
          </p:nvSpPr>
          <p:spPr>
            <a:xfrm>
              <a:off x="5383440" y="2592000"/>
              <a:ext cx="51840" cy="4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4" name=""/>
            <p:cNvSpPr/>
            <p:nvPr/>
          </p:nvSpPr>
          <p:spPr>
            <a:xfrm>
              <a:off x="5506560" y="2592000"/>
              <a:ext cx="51840" cy="4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5" name=""/>
            <p:cNvSpPr/>
            <p:nvPr/>
          </p:nvSpPr>
          <p:spPr>
            <a:xfrm>
              <a:off x="5628240" y="2594880"/>
              <a:ext cx="51840" cy="4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6" name=""/>
            <p:cNvSpPr/>
            <p:nvPr/>
          </p:nvSpPr>
          <p:spPr>
            <a:xfrm>
              <a:off x="3517560" y="2626920"/>
              <a:ext cx="0" cy="3934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7" name=""/>
            <p:cNvSpPr/>
            <p:nvPr/>
          </p:nvSpPr>
          <p:spPr>
            <a:xfrm>
              <a:off x="5530320" y="2691000"/>
              <a:ext cx="0" cy="3934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88" name=""/>
            <p:cNvGrpSpPr/>
            <p:nvPr/>
          </p:nvGrpSpPr>
          <p:grpSpPr>
            <a:xfrm>
              <a:off x="3512520" y="2207160"/>
              <a:ext cx="2021400" cy="287280"/>
              <a:chOff x="3512520" y="2207160"/>
              <a:chExt cx="2021400" cy="287280"/>
            </a:xfrm>
          </p:grpSpPr>
          <p:sp>
            <p:nvSpPr>
              <p:cNvPr id="3889" name=""/>
              <p:cNvSpPr/>
              <p:nvPr/>
            </p:nvSpPr>
            <p:spPr>
              <a:xfrm>
                <a:off x="4186800" y="2208240"/>
                <a:ext cx="336600" cy="28620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0" name=""/>
              <p:cNvSpPr/>
              <p:nvPr/>
            </p:nvSpPr>
            <p:spPr>
              <a:xfrm>
                <a:off x="4188600" y="2207160"/>
                <a:ext cx="334440" cy="2858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1" name=""/>
              <p:cNvSpPr/>
              <p:nvPr/>
            </p:nvSpPr>
            <p:spPr>
              <a:xfrm>
                <a:off x="3848400" y="2208240"/>
                <a:ext cx="336600" cy="28620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2" name=""/>
              <p:cNvSpPr/>
              <p:nvPr/>
            </p:nvSpPr>
            <p:spPr>
              <a:xfrm>
                <a:off x="3849840" y="2207160"/>
                <a:ext cx="334440" cy="2858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3" name=""/>
              <p:cNvSpPr/>
              <p:nvPr/>
            </p:nvSpPr>
            <p:spPr>
              <a:xfrm>
                <a:off x="3512520" y="2208240"/>
                <a:ext cx="336600" cy="28620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4" name=""/>
              <p:cNvSpPr/>
              <p:nvPr/>
            </p:nvSpPr>
            <p:spPr>
              <a:xfrm>
                <a:off x="3513960" y="2207160"/>
                <a:ext cx="334440" cy="2858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5" name=""/>
              <p:cNvSpPr/>
              <p:nvPr/>
            </p:nvSpPr>
            <p:spPr>
              <a:xfrm>
                <a:off x="5197320" y="2208240"/>
                <a:ext cx="336600" cy="28620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6" name=""/>
              <p:cNvSpPr/>
              <p:nvPr/>
            </p:nvSpPr>
            <p:spPr>
              <a:xfrm flipH="1">
                <a:off x="5200560" y="2209680"/>
                <a:ext cx="329760" cy="2775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7" name=""/>
              <p:cNvSpPr/>
              <p:nvPr/>
            </p:nvSpPr>
            <p:spPr>
              <a:xfrm>
                <a:off x="4858920" y="2208240"/>
                <a:ext cx="336600" cy="28620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8" name=""/>
              <p:cNvSpPr/>
              <p:nvPr/>
            </p:nvSpPr>
            <p:spPr>
              <a:xfrm flipH="1">
                <a:off x="4862160" y="2209680"/>
                <a:ext cx="330480" cy="2775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9" name=""/>
              <p:cNvSpPr/>
              <p:nvPr/>
            </p:nvSpPr>
            <p:spPr>
              <a:xfrm>
                <a:off x="4523040" y="2208240"/>
                <a:ext cx="336600" cy="28620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0" name=""/>
              <p:cNvSpPr/>
              <p:nvPr/>
            </p:nvSpPr>
            <p:spPr>
              <a:xfrm flipH="1">
                <a:off x="4525920" y="2209680"/>
                <a:ext cx="329760" cy="2775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01" name=""/>
            <p:cNvGrpSpPr/>
            <p:nvPr/>
          </p:nvGrpSpPr>
          <p:grpSpPr>
            <a:xfrm>
              <a:off x="3515760" y="2207160"/>
              <a:ext cx="2017440" cy="286200"/>
              <a:chOff x="3515760" y="2207160"/>
              <a:chExt cx="2017440" cy="286200"/>
            </a:xfrm>
          </p:grpSpPr>
          <p:sp>
            <p:nvSpPr>
              <p:cNvPr id="3902" name=""/>
              <p:cNvSpPr/>
              <p:nvPr/>
            </p:nvSpPr>
            <p:spPr>
              <a:xfrm flipH="1">
                <a:off x="4189680" y="2209680"/>
                <a:ext cx="329760" cy="27792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3" name=""/>
              <p:cNvSpPr/>
              <p:nvPr/>
            </p:nvSpPr>
            <p:spPr>
              <a:xfrm flipH="1">
                <a:off x="3851640" y="2209680"/>
                <a:ext cx="329760" cy="27792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4" name=""/>
              <p:cNvSpPr/>
              <p:nvPr/>
            </p:nvSpPr>
            <p:spPr>
              <a:xfrm flipH="1">
                <a:off x="3515760" y="2209680"/>
                <a:ext cx="329760" cy="27792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5" name=""/>
              <p:cNvSpPr/>
              <p:nvPr/>
            </p:nvSpPr>
            <p:spPr>
              <a:xfrm>
                <a:off x="5198760" y="2207160"/>
                <a:ext cx="334440" cy="28620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6" name=""/>
              <p:cNvSpPr/>
              <p:nvPr/>
            </p:nvSpPr>
            <p:spPr>
              <a:xfrm>
                <a:off x="4860360" y="2207160"/>
                <a:ext cx="334440" cy="28620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7" name=""/>
              <p:cNvSpPr/>
              <p:nvPr/>
            </p:nvSpPr>
            <p:spPr>
              <a:xfrm>
                <a:off x="4524480" y="2207160"/>
                <a:ext cx="334440" cy="28620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8" name=""/>
            <p:cNvSpPr/>
            <p:nvPr/>
          </p:nvSpPr>
          <p:spPr>
            <a:xfrm>
              <a:off x="3484800" y="2183400"/>
              <a:ext cx="54720" cy="51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9" name=""/>
            <p:cNvSpPr/>
            <p:nvPr/>
          </p:nvSpPr>
          <p:spPr>
            <a:xfrm>
              <a:off x="3818880" y="2181960"/>
              <a:ext cx="53280" cy="5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0" name=""/>
            <p:cNvSpPr/>
            <p:nvPr/>
          </p:nvSpPr>
          <p:spPr>
            <a:xfrm>
              <a:off x="4154040" y="2177640"/>
              <a:ext cx="55080" cy="5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1" name=""/>
            <p:cNvSpPr/>
            <p:nvPr/>
          </p:nvSpPr>
          <p:spPr>
            <a:xfrm>
              <a:off x="4495680" y="2183400"/>
              <a:ext cx="52920" cy="51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2" name=""/>
            <p:cNvSpPr/>
            <p:nvPr/>
          </p:nvSpPr>
          <p:spPr>
            <a:xfrm>
              <a:off x="4826520" y="2185920"/>
              <a:ext cx="54720" cy="5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3" name=""/>
            <p:cNvSpPr/>
            <p:nvPr/>
          </p:nvSpPr>
          <p:spPr>
            <a:xfrm>
              <a:off x="5168160" y="2179080"/>
              <a:ext cx="53280" cy="5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4" name=""/>
            <p:cNvSpPr/>
            <p:nvPr/>
          </p:nvSpPr>
          <p:spPr>
            <a:xfrm>
              <a:off x="5500800" y="2181960"/>
              <a:ext cx="54720" cy="5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5" name=""/>
            <p:cNvSpPr/>
            <p:nvPr/>
          </p:nvSpPr>
          <p:spPr>
            <a:xfrm>
              <a:off x="3489120" y="2473920"/>
              <a:ext cx="54720" cy="5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6" name=""/>
            <p:cNvSpPr/>
            <p:nvPr/>
          </p:nvSpPr>
          <p:spPr>
            <a:xfrm>
              <a:off x="3823200" y="2471040"/>
              <a:ext cx="54720" cy="5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7" name=""/>
            <p:cNvSpPr/>
            <p:nvPr/>
          </p:nvSpPr>
          <p:spPr>
            <a:xfrm>
              <a:off x="4158720" y="2467080"/>
              <a:ext cx="54720" cy="5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8" name=""/>
            <p:cNvSpPr/>
            <p:nvPr/>
          </p:nvSpPr>
          <p:spPr>
            <a:xfrm>
              <a:off x="4500000" y="2473920"/>
              <a:ext cx="53280" cy="5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9" name=""/>
            <p:cNvSpPr/>
            <p:nvPr/>
          </p:nvSpPr>
          <p:spPr>
            <a:xfrm>
              <a:off x="4831200" y="2475360"/>
              <a:ext cx="54720" cy="51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0" name=""/>
            <p:cNvSpPr/>
            <p:nvPr/>
          </p:nvSpPr>
          <p:spPr>
            <a:xfrm>
              <a:off x="5172480" y="2469960"/>
              <a:ext cx="53280" cy="5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1" name=""/>
            <p:cNvSpPr/>
            <p:nvPr/>
          </p:nvSpPr>
          <p:spPr>
            <a:xfrm>
              <a:off x="5505120" y="2471040"/>
              <a:ext cx="54720" cy="5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2" name=""/>
          <p:cNvSpPr/>
          <p:nvPr/>
        </p:nvSpPr>
        <p:spPr>
          <a:xfrm>
            <a:off x="198360" y="4629240"/>
            <a:ext cx="69152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ur être plus sûr, en cas d’erreur dans les calcu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3" name=""/>
          <p:cNvSpPr/>
          <p:nvPr/>
        </p:nvSpPr>
        <p:spPr>
          <a:xfrm>
            <a:off x="7227720" y="464040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4" name=""/>
          <p:cNvSpPr/>
          <p:nvPr/>
        </p:nvSpPr>
        <p:spPr>
          <a:xfrm>
            <a:off x="7256520" y="470520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5" name=""/>
          <p:cNvSpPr/>
          <p:nvPr/>
        </p:nvSpPr>
        <p:spPr>
          <a:xfrm>
            <a:off x="198360" y="5062680"/>
            <a:ext cx="6915240" cy="369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ur équilibrer les charges de nei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6" name=""/>
          <p:cNvSpPr/>
          <p:nvPr/>
        </p:nvSpPr>
        <p:spPr>
          <a:xfrm>
            <a:off x="7227720" y="5073480"/>
            <a:ext cx="749520" cy="34632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721" h="21600">
                <a:moveTo>
                  <a:pt x="0" y="0"/>
                </a:moveTo>
                <a:lnTo>
                  <a:pt x="46721" y="0"/>
                </a:lnTo>
                <a:lnTo>
                  <a:pt x="46721" y="21600"/>
                </a:lnTo>
                <a:lnTo>
                  <a:pt x="0" y="21600"/>
                </a:lnTo>
                <a:close/>
              </a:path>
              <a:path fill="lightenLess" w="46721" h="21600">
                <a:moveTo>
                  <a:pt x="0" y="0"/>
                </a:moveTo>
                <a:lnTo>
                  <a:pt x="46721" y="0"/>
                </a:lnTo>
                <a:lnTo>
                  <a:pt x="45322" y="1400"/>
                </a:lnTo>
                <a:lnTo>
                  <a:pt x="1400" y="1400"/>
                </a:lnTo>
                <a:close/>
              </a:path>
              <a:path fill="darken" w="46721" h="21600">
                <a:moveTo>
                  <a:pt x="46721" y="0"/>
                </a:moveTo>
                <a:lnTo>
                  <a:pt x="46721" y="21600"/>
                </a:lnTo>
                <a:lnTo>
                  <a:pt x="45322" y="20200"/>
                </a:lnTo>
                <a:lnTo>
                  <a:pt x="45322" y="1400"/>
                </a:lnTo>
                <a:close/>
              </a:path>
              <a:path fill="darkenLess" w="46721" h="21600">
                <a:moveTo>
                  <a:pt x="4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22" y="20200"/>
                </a:lnTo>
                <a:close/>
              </a:path>
              <a:path fill="lighten" w="4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7" name=""/>
          <p:cNvSpPr/>
          <p:nvPr/>
        </p:nvSpPr>
        <p:spPr>
          <a:xfrm>
            <a:off x="7256520" y="513864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8" name=""/>
          <p:cNvSpPr/>
          <p:nvPr/>
        </p:nvSpPr>
        <p:spPr>
          <a:xfrm>
            <a:off x="198360" y="3619440"/>
            <a:ext cx="6915240" cy="3650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ur augmenter la résistance de la 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9" name=""/>
          <p:cNvSpPr/>
          <p:nvPr/>
        </p:nvSpPr>
        <p:spPr>
          <a:xfrm>
            <a:off x="198360" y="3186000"/>
            <a:ext cx="691524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ur obtenir un élément hyperstat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0" name=""/>
          <p:cNvSpPr/>
          <p:nvPr/>
        </p:nvSpPr>
        <p:spPr>
          <a:xfrm>
            <a:off x="8177040" y="464040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1" name=""/>
          <p:cNvSpPr/>
          <p:nvPr/>
        </p:nvSpPr>
        <p:spPr>
          <a:xfrm>
            <a:off x="8205840" y="470520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2" name=""/>
          <p:cNvSpPr/>
          <p:nvPr/>
        </p:nvSpPr>
        <p:spPr>
          <a:xfrm>
            <a:off x="8177040" y="5073480"/>
            <a:ext cx="749520" cy="34632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721" h="21600">
                <a:moveTo>
                  <a:pt x="0" y="0"/>
                </a:moveTo>
                <a:lnTo>
                  <a:pt x="46721" y="0"/>
                </a:lnTo>
                <a:lnTo>
                  <a:pt x="46721" y="21600"/>
                </a:lnTo>
                <a:lnTo>
                  <a:pt x="0" y="21600"/>
                </a:lnTo>
                <a:close/>
              </a:path>
              <a:path fill="lightenLess" w="46721" h="21600">
                <a:moveTo>
                  <a:pt x="0" y="0"/>
                </a:moveTo>
                <a:lnTo>
                  <a:pt x="46721" y="0"/>
                </a:lnTo>
                <a:lnTo>
                  <a:pt x="45322" y="1400"/>
                </a:lnTo>
                <a:lnTo>
                  <a:pt x="1400" y="1400"/>
                </a:lnTo>
                <a:close/>
              </a:path>
              <a:path fill="darken" w="46721" h="21600">
                <a:moveTo>
                  <a:pt x="46721" y="0"/>
                </a:moveTo>
                <a:lnTo>
                  <a:pt x="46721" y="21600"/>
                </a:lnTo>
                <a:lnTo>
                  <a:pt x="45322" y="20200"/>
                </a:lnTo>
                <a:lnTo>
                  <a:pt x="45322" y="1400"/>
                </a:lnTo>
                <a:close/>
              </a:path>
              <a:path fill="darkenLess" w="46721" h="21600">
                <a:moveTo>
                  <a:pt x="4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22" y="20200"/>
                </a:lnTo>
                <a:close/>
              </a:path>
              <a:path fill="lighten" w="4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3" name="">
            <a:hlinkClick r:id="" action="ppaction://hlinkshowjump?jump=nextslide"/>
          </p:cNvPr>
          <p:cNvSpPr/>
          <p:nvPr/>
        </p:nvSpPr>
        <p:spPr>
          <a:xfrm>
            <a:off x="8205840" y="513864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4" name=""/>
          <p:cNvSpPr/>
          <p:nvPr/>
        </p:nvSpPr>
        <p:spPr>
          <a:xfrm>
            <a:off x="7227720" y="413244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5" name=""/>
          <p:cNvSpPr/>
          <p:nvPr/>
        </p:nvSpPr>
        <p:spPr>
          <a:xfrm>
            <a:off x="7256520" y="419724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6" name=""/>
          <p:cNvSpPr/>
          <p:nvPr/>
        </p:nvSpPr>
        <p:spPr>
          <a:xfrm>
            <a:off x="8177040" y="413244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7" name=""/>
          <p:cNvSpPr/>
          <p:nvPr/>
        </p:nvSpPr>
        <p:spPr>
          <a:xfrm>
            <a:off x="8205840" y="419724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8" name=""/>
          <p:cNvSpPr/>
          <p:nvPr/>
        </p:nvSpPr>
        <p:spPr>
          <a:xfrm>
            <a:off x="7227720" y="362916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9" name=""/>
          <p:cNvSpPr/>
          <p:nvPr/>
        </p:nvSpPr>
        <p:spPr>
          <a:xfrm>
            <a:off x="7256520" y="369396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0" name="">
            <a:hlinkClick r:id="rId1" action="ppaction://hlinksldjump"/>
          </p:cNvPr>
          <p:cNvSpPr/>
          <p:nvPr/>
        </p:nvSpPr>
        <p:spPr>
          <a:xfrm>
            <a:off x="8177040" y="362916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1" name=""/>
          <p:cNvSpPr/>
          <p:nvPr/>
        </p:nvSpPr>
        <p:spPr>
          <a:xfrm>
            <a:off x="8205840" y="369396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2" name=""/>
          <p:cNvSpPr/>
          <p:nvPr/>
        </p:nvSpPr>
        <p:spPr>
          <a:xfrm>
            <a:off x="7227720" y="319572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3" name=""/>
          <p:cNvSpPr/>
          <p:nvPr/>
        </p:nvSpPr>
        <p:spPr>
          <a:xfrm>
            <a:off x="7256520" y="3260880"/>
            <a:ext cx="693720" cy="2156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4" name="">
            <a:hlinkClick r:id="rId2" action="ppaction://hlinksldjump"/>
          </p:cNvPr>
          <p:cNvSpPr/>
          <p:nvPr/>
        </p:nvSpPr>
        <p:spPr>
          <a:xfrm>
            <a:off x="8177040" y="319572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5" name=""/>
          <p:cNvSpPr/>
          <p:nvPr/>
        </p:nvSpPr>
        <p:spPr>
          <a:xfrm>
            <a:off x="8205840" y="3260880"/>
            <a:ext cx="693720" cy="2156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6" name=""/>
          <p:cNvSpPr/>
          <p:nvPr/>
        </p:nvSpPr>
        <p:spPr>
          <a:xfrm>
            <a:off x="198360" y="4021200"/>
            <a:ext cx="6915240" cy="566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rce que, quand le vent souffle dans le sens opposé, les diagonales comprimées deviennent des diagonales tend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7" name=""/>
          <p:cNvSpPr/>
          <p:nvPr/>
        </p:nvSpPr>
        <p:spPr>
          <a:xfrm>
            <a:off x="7142040" y="5514840"/>
            <a:ext cx="185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8" name=""/>
          <p:cNvSpPr/>
          <p:nvPr/>
        </p:nvSpPr>
        <p:spPr>
          <a:xfrm>
            <a:off x="1133640" y="241200"/>
            <a:ext cx="6814800" cy="20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i on ne prend pas en compte les barres comprimées dans le calcul, alors pourquoi les conserver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9" name=""/>
          <p:cNvGrpSpPr/>
          <p:nvPr/>
        </p:nvGrpSpPr>
        <p:grpSpPr>
          <a:xfrm>
            <a:off x="3346560" y="1852560"/>
            <a:ext cx="2341080" cy="1231920"/>
            <a:chOff x="3346560" y="1852560"/>
            <a:chExt cx="2341080" cy="1231920"/>
          </a:xfrm>
        </p:grpSpPr>
        <p:sp>
          <p:nvSpPr>
            <p:cNvPr id="3950" name=""/>
            <p:cNvSpPr/>
            <p:nvPr/>
          </p:nvSpPr>
          <p:spPr>
            <a:xfrm>
              <a:off x="3517560" y="1964880"/>
              <a:ext cx="0" cy="2156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1" name=""/>
            <p:cNvSpPr/>
            <p:nvPr/>
          </p:nvSpPr>
          <p:spPr>
            <a:xfrm>
              <a:off x="3846960" y="1855080"/>
              <a:ext cx="0" cy="3250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2" name=""/>
            <p:cNvSpPr/>
            <p:nvPr/>
          </p:nvSpPr>
          <p:spPr>
            <a:xfrm>
              <a:off x="4185360" y="1852560"/>
              <a:ext cx="0" cy="3250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3" name=""/>
            <p:cNvSpPr/>
            <p:nvPr/>
          </p:nvSpPr>
          <p:spPr>
            <a:xfrm>
              <a:off x="4519440" y="1855080"/>
              <a:ext cx="0" cy="3250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4" name=""/>
            <p:cNvSpPr/>
            <p:nvPr/>
          </p:nvSpPr>
          <p:spPr>
            <a:xfrm>
              <a:off x="4857840" y="1852560"/>
              <a:ext cx="0" cy="3250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5" name=""/>
            <p:cNvSpPr/>
            <p:nvPr/>
          </p:nvSpPr>
          <p:spPr>
            <a:xfrm>
              <a:off x="5196240" y="1856520"/>
              <a:ext cx="0" cy="3250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6" name=""/>
            <p:cNvSpPr/>
            <p:nvPr/>
          </p:nvSpPr>
          <p:spPr>
            <a:xfrm>
              <a:off x="5532120" y="1934280"/>
              <a:ext cx="0" cy="24336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7" name=""/>
            <p:cNvSpPr/>
            <p:nvPr/>
          </p:nvSpPr>
          <p:spPr>
            <a:xfrm>
              <a:off x="5374440" y="2592000"/>
              <a:ext cx="31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8" name=""/>
            <p:cNvSpPr/>
            <p:nvPr/>
          </p:nvSpPr>
          <p:spPr>
            <a:xfrm>
              <a:off x="3407400" y="2499120"/>
              <a:ext cx="207720" cy="96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9" name=""/>
            <p:cNvSpPr/>
            <p:nvPr/>
          </p:nvSpPr>
          <p:spPr>
            <a:xfrm>
              <a:off x="3346560" y="2607480"/>
              <a:ext cx="317520" cy="56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0" name=""/>
            <p:cNvSpPr/>
            <p:nvPr/>
          </p:nvSpPr>
          <p:spPr>
            <a:xfrm>
              <a:off x="5428080" y="2497680"/>
              <a:ext cx="207360" cy="972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1" name=""/>
            <p:cNvSpPr/>
            <p:nvPr/>
          </p:nvSpPr>
          <p:spPr>
            <a:xfrm>
              <a:off x="5370120" y="2652120"/>
              <a:ext cx="317520" cy="56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2" name=""/>
            <p:cNvSpPr/>
            <p:nvPr/>
          </p:nvSpPr>
          <p:spPr>
            <a:xfrm>
              <a:off x="5383440" y="2592000"/>
              <a:ext cx="51840" cy="4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3" name=""/>
            <p:cNvSpPr/>
            <p:nvPr/>
          </p:nvSpPr>
          <p:spPr>
            <a:xfrm>
              <a:off x="5506560" y="2592000"/>
              <a:ext cx="51840" cy="4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4" name=""/>
            <p:cNvSpPr/>
            <p:nvPr/>
          </p:nvSpPr>
          <p:spPr>
            <a:xfrm>
              <a:off x="5628240" y="2594880"/>
              <a:ext cx="51840" cy="4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5" name=""/>
            <p:cNvSpPr/>
            <p:nvPr/>
          </p:nvSpPr>
          <p:spPr>
            <a:xfrm>
              <a:off x="3517560" y="2626920"/>
              <a:ext cx="0" cy="3934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6" name=""/>
            <p:cNvSpPr/>
            <p:nvPr/>
          </p:nvSpPr>
          <p:spPr>
            <a:xfrm>
              <a:off x="5530320" y="2691000"/>
              <a:ext cx="0" cy="3934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67" name=""/>
            <p:cNvGrpSpPr/>
            <p:nvPr/>
          </p:nvGrpSpPr>
          <p:grpSpPr>
            <a:xfrm>
              <a:off x="3512520" y="2207160"/>
              <a:ext cx="2021400" cy="287280"/>
              <a:chOff x="3512520" y="2207160"/>
              <a:chExt cx="2021400" cy="287280"/>
            </a:xfrm>
          </p:grpSpPr>
          <p:sp>
            <p:nvSpPr>
              <p:cNvPr id="3968" name=""/>
              <p:cNvSpPr/>
              <p:nvPr/>
            </p:nvSpPr>
            <p:spPr>
              <a:xfrm>
                <a:off x="4186800" y="2208240"/>
                <a:ext cx="336600" cy="28620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9" name=""/>
              <p:cNvSpPr/>
              <p:nvPr/>
            </p:nvSpPr>
            <p:spPr>
              <a:xfrm>
                <a:off x="4188600" y="2207160"/>
                <a:ext cx="334440" cy="2858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0" name=""/>
              <p:cNvSpPr/>
              <p:nvPr/>
            </p:nvSpPr>
            <p:spPr>
              <a:xfrm>
                <a:off x="3848400" y="2208240"/>
                <a:ext cx="336600" cy="28620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1" name=""/>
              <p:cNvSpPr/>
              <p:nvPr/>
            </p:nvSpPr>
            <p:spPr>
              <a:xfrm>
                <a:off x="3849840" y="2207160"/>
                <a:ext cx="334440" cy="2858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2" name=""/>
              <p:cNvSpPr/>
              <p:nvPr/>
            </p:nvSpPr>
            <p:spPr>
              <a:xfrm>
                <a:off x="3512520" y="2208240"/>
                <a:ext cx="336600" cy="28620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3" name=""/>
              <p:cNvSpPr/>
              <p:nvPr/>
            </p:nvSpPr>
            <p:spPr>
              <a:xfrm>
                <a:off x="3513960" y="2207160"/>
                <a:ext cx="334440" cy="2858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4" name=""/>
              <p:cNvSpPr/>
              <p:nvPr/>
            </p:nvSpPr>
            <p:spPr>
              <a:xfrm>
                <a:off x="5197320" y="2208240"/>
                <a:ext cx="336600" cy="28620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5" name=""/>
              <p:cNvSpPr/>
              <p:nvPr/>
            </p:nvSpPr>
            <p:spPr>
              <a:xfrm flipH="1">
                <a:off x="5200560" y="2209680"/>
                <a:ext cx="329760" cy="2775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6" name=""/>
              <p:cNvSpPr/>
              <p:nvPr/>
            </p:nvSpPr>
            <p:spPr>
              <a:xfrm>
                <a:off x="4858920" y="2208240"/>
                <a:ext cx="336600" cy="28620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7" name=""/>
              <p:cNvSpPr/>
              <p:nvPr/>
            </p:nvSpPr>
            <p:spPr>
              <a:xfrm flipH="1">
                <a:off x="4862160" y="2209680"/>
                <a:ext cx="330480" cy="2775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8" name=""/>
              <p:cNvSpPr/>
              <p:nvPr/>
            </p:nvSpPr>
            <p:spPr>
              <a:xfrm>
                <a:off x="4523040" y="2208240"/>
                <a:ext cx="336600" cy="28620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9" name=""/>
              <p:cNvSpPr/>
              <p:nvPr/>
            </p:nvSpPr>
            <p:spPr>
              <a:xfrm flipH="1">
                <a:off x="4525920" y="2209680"/>
                <a:ext cx="329760" cy="2775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0" name=""/>
            <p:cNvGrpSpPr/>
            <p:nvPr/>
          </p:nvGrpSpPr>
          <p:grpSpPr>
            <a:xfrm>
              <a:off x="3515760" y="2207160"/>
              <a:ext cx="2017440" cy="286200"/>
              <a:chOff x="3515760" y="2207160"/>
              <a:chExt cx="2017440" cy="286200"/>
            </a:xfrm>
          </p:grpSpPr>
          <p:sp>
            <p:nvSpPr>
              <p:cNvPr id="3981" name=""/>
              <p:cNvSpPr/>
              <p:nvPr/>
            </p:nvSpPr>
            <p:spPr>
              <a:xfrm flipH="1">
                <a:off x="4189680" y="2209680"/>
                <a:ext cx="329760" cy="27792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2" name=""/>
              <p:cNvSpPr/>
              <p:nvPr/>
            </p:nvSpPr>
            <p:spPr>
              <a:xfrm flipH="1">
                <a:off x="3851640" y="2209680"/>
                <a:ext cx="329760" cy="27792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3" name=""/>
              <p:cNvSpPr/>
              <p:nvPr/>
            </p:nvSpPr>
            <p:spPr>
              <a:xfrm flipH="1">
                <a:off x="3515760" y="2209680"/>
                <a:ext cx="329760" cy="27792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4" name=""/>
              <p:cNvSpPr/>
              <p:nvPr/>
            </p:nvSpPr>
            <p:spPr>
              <a:xfrm>
                <a:off x="5198760" y="2207160"/>
                <a:ext cx="334440" cy="28620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5" name=""/>
              <p:cNvSpPr/>
              <p:nvPr/>
            </p:nvSpPr>
            <p:spPr>
              <a:xfrm>
                <a:off x="4860360" y="2207160"/>
                <a:ext cx="334440" cy="28620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6" name=""/>
              <p:cNvSpPr/>
              <p:nvPr/>
            </p:nvSpPr>
            <p:spPr>
              <a:xfrm>
                <a:off x="4524480" y="2207160"/>
                <a:ext cx="334440" cy="28620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7" name=""/>
            <p:cNvSpPr/>
            <p:nvPr/>
          </p:nvSpPr>
          <p:spPr>
            <a:xfrm>
              <a:off x="3484800" y="2183400"/>
              <a:ext cx="54720" cy="51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8" name=""/>
            <p:cNvSpPr/>
            <p:nvPr/>
          </p:nvSpPr>
          <p:spPr>
            <a:xfrm>
              <a:off x="3818880" y="2181960"/>
              <a:ext cx="53280" cy="5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9" name=""/>
            <p:cNvSpPr/>
            <p:nvPr/>
          </p:nvSpPr>
          <p:spPr>
            <a:xfrm>
              <a:off x="4154040" y="2177640"/>
              <a:ext cx="55080" cy="5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0" name=""/>
            <p:cNvSpPr/>
            <p:nvPr/>
          </p:nvSpPr>
          <p:spPr>
            <a:xfrm>
              <a:off x="4495680" y="2183400"/>
              <a:ext cx="52920" cy="51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1" name=""/>
            <p:cNvSpPr/>
            <p:nvPr/>
          </p:nvSpPr>
          <p:spPr>
            <a:xfrm>
              <a:off x="4826520" y="2185920"/>
              <a:ext cx="54720" cy="5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2" name=""/>
            <p:cNvSpPr/>
            <p:nvPr/>
          </p:nvSpPr>
          <p:spPr>
            <a:xfrm>
              <a:off x="5168160" y="2179080"/>
              <a:ext cx="53280" cy="5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3" name=""/>
            <p:cNvSpPr/>
            <p:nvPr/>
          </p:nvSpPr>
          <p:spPr>
            <a:xfrm>
              <a:off x="5500800" y="2181960"/>
              <a:ext cx="54720" cy="5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4" name=""/>
            <p:cNvSpPr/>
            <p:nvPr/>
          </p:nvSpPr>
          <p:spPr>
            <a:xfrm>
              <a:off x="3489120" y="2473920"/>
              <a:ext cx="54720" cy="5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5" name=""/>
            <p:cNvSpPr/>
            <p:nvPr/>
          </p:nvSpPr>
          <p:spPr>
            <a:xfrm>
              <a:off x="3823200" y="2471040"/>
              <a:ext cx="54720" cy="5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6" name=""/>
            <p:cNvSpPr/>
            <p:nvPr/>
          </p:nvSpPr>
          <p:spPr>
            <a:xfrm>
              <a:off x="4158720" y="2467080"/>
              <a:ext cx="54720" cy="5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7" name=""/>
            <p:cNvSpPr/>
            <p:nvPr/>
          </p:nvSpPr>
          <p:spPr>
            <a:xfrm>
              <a:off x="4500000" y="2473920"/>
              <a:ext cx="53280" cy="5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8" name=""/>
            <p:cNvSpPr/>
            <p:nvPr/>
          </p:nvSpPr>
          <p:spPr>
            <a:xfrm>
              <a:off x="4831200" y="2475360"/>
              <a:ext cx="54720" cy="51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9" name=""/>
            <p:cNvSpPr/>
            <p:nvPr/>
          </p:nvSpPr>
          <p:spPr>
            <a:xfrm>
              <a:off x="5172480" y="2469960"/>
              <a:ext cx="53280" cy="5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0" name=""/>
            <p:cNvSpPr/>
            <p:nvPr/>
          </p:nvSpPr>
          <p:spPr>
            <a:xfrm>
              <a:off x="5505120" y="2471040"/>
              <a:ext cx="54720" cy="5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1" name=""/>
          <p:cNvSpPr/>
          <p:nvPr/>
        </p:nvSpPr>
        <p:spPr>
          <a:xfrm>
            <a:off x="198360" y="4629240"/>
            <a:ext cx="69152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ur être plus sûr, en cas d’erreur dans les calcu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2" name=""/>
          <p:cNvSpPr/>
          <p:nvPr/>
        </p:nvSpPr>
        <p:spPr>
          <a:xfrm>
            <a:off x="198360" y="5062680"/>
            <a:ext cx="6915240" cy="369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ur équilibrer les charges de nei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3" name=""/>
          <p:cNvSpPr/>
          <p:nvPr/>
        </p:nvSpPr>
        <p:spPr>
          <a:xfrm>
            <a:off x="7227720" y="5073480"/>
            <a:ext cx="749520" cy="34632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721" h="21600">
                <a:moveTo>
                  <a:pt x="0" y="0"/>
                </a:moveTo>
                <a:lnTo>
                  <a:pt x="46721" y="0"/>
                </a:lnTo>
                <a:lnTo>
                  <a:pt x="46721" y="21600"/>
                </a:lnTo>
                <a:lnTo>
                  <a:pt x="0" y="21600"/>
                </a:lnTo>
                <a:close/>
              </a:path>
              <a:path fill="lightenLess" w="46721" h="21600">
                <a:moveTo>
                  <a:pt x="0" y="0"/>
                </a:moveTo>
                <a:lnTo>
                  <a:pt x="46721" y="0"/>
                </a:lnTo>
                <a:lnTo>
                  <a:pt x="45322" y="1400"/>
                </a:lnTo>
                <a:lnTo>
                  <a:pt x="1400" y="1400"/>
                </a:lnTo>
                <a:close/>
              </a:path>
              <a:path fill="darken" w="46721" h="21600">
                <a:moveTo>
                  <a:pt x="46721" y="0"/>
                </a:moveTo>
                <a:lnTo>
                  <a:pt x="46721" y="21600"/>
                </a:lnTo>
                <a:lnTo>
                  <a:pt x="45322" y="20200"/>
                </a:lnTo>
                <a:lnTo>
                  <a:pt x="45322" y="1400"/>
                </a:lnTo>
                <a:close/>
              </a:path>
              <a:path fill="darkenLess" w="46721" h="21600">
                <a:moveTo>
                  <a:pt x="4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22" y="20200"/>
                </a:lnTo>
                <a:close/>
              </a:path>
              <a:path fill="lighten" w="4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4" name=""/>
          <p:cNvSpPr/>
          <p:nvPr/>
        </p:nvSpPr>
        <p:spPr>
          <a:xfrm>
            <a:off x="7256520" y="513864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5" name=""/>
          <p:cNvSpPr/>
          <p:nvPr/>
        </p:nvSpPr>
        <p:spPr>
          <a:xfrm>
            <a:off x="198360" y="5499000"/>
            <a:ext cx="6915240" cy="370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r habitu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6" name=""/>
          <p:cNvSpPr/>
          <p:nvPr/>
        </p:nvSpPr>
        <p:spPr>
          <a:xfrm>
            <a:off x="7227720" y="551016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7" name="">
            <a:hlinkClick r:id="rId1" action="ppaction://hlinksldjump"/>
          </p:cNvPr>
          <p:cNvSpPr/>
          <p:nvPr/>
        </p:nvSpPr>
        <p:spPr>
          <a:xfrm>
            <a:off x="7256520" y="557532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8" name=""/>
          <p:cNvSpPr/>
          <p:nvPr/>
        </p:nvSpPr>
        <p:spPr>
          <a:xfrm>
            <a:off x="198360" y="3619440"/>
            <a:ext cx="6915240" cy="3650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ur augmenter la résistance de la 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9" name=""/>
          <p:cNvSpPr/>
          <p:nvPr/>
        </p:nvSpPr>
        <p:spPr>
          <a:xfrm>
            <a:off x="198360" y="3186000"/>
            <a:ext cx="691524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ur obtenir un élément hyperstat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0" name=""/>
          <p:cNvSpPr/>
          <p:nvPr/>
        </p:nvSpPr>
        <p:spPr>
          <a:xfrm>
            <a:off x="8177040" y="5073480"/>
            <a:ext cx="749520" cy="34632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721" h="21600">
                <a:moveTo>
                  <a:pt x="0" y="0"/>
                </a:moveTo>
                <a:lnTo>
                  <a:pt x="46721" y="0"/>
                </a:lnTo>
                <a:lnTo>
                  <a:pt x="46721" y="21600"/>
                </a:lnTo>
                <a:lnTo>
                  <a:pt x="0" y="21600"/>
                </a:lnTo>
                <a:close/>
              </a:path>
              <a:path fill="lightenLess" w="46721" h="21600">
                <a:moveTo>
                  <a:pt x="0" y="0"/>
                </a:moveTo>
                <a:lnTo>
                  <a:pt x="46721" y="0"/>
                </a:lnTo>
                <a:lnTo>
                  <a:pt x="45322" y="1400"/>
                </a:lnTo>
                <a:lnTo>
                  <a:pt x="1400" y="1400"/>
                </a:lnTo>
                <a:close/>
              </a:path>
              <a:path fill="darken" w="46721" h="21600">
                <a:moveTo>
                  <a:pt x="46721" y="0"/>
                </a:moveTo>
                <a:lnTo>
                  <a:pt x="46721" y="21600"/>
                </a:lnTo>
                <a:lnTo>
                  <a:pt x="45322" y="20200"/>
                </a:lnTo>
                <a:lnTo>
                  <a:pt x="45322" y="1400"/>
                </a:lnTo>
                <a:close/>
              </a:path>
              <a:path fill="darkenLess" w="46721" h="21600">
                <a:moveTo>
                  <a:pt x="4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22" y="20200"/>
                </a:lnTo>
                <a:close/>
              </a:path>
              <a:path fill="lighten" w="4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1" name=""/>
          <p:cNvSpPr/>
          <p:nvPr/>
        </p:nvSpPr>
        <p:spPr>
          <a:xfrm>
            <a:off x="8205840" y="513864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2" name=""/>
          <p:cNvSpPr/>
          <p:nvPr/>
        </p:nvSpPr>
        <p:spPr>
          <a:xfrm>
            <a:off x="8177040" y="551016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3" name="">
            <a:hlinkClick r:id="" action="ppaction://hlinkshowjump?jump=nextslide"/>
          </p:cNvPr>
          <p:cNvSpPr/>
          <p:nvPr/>
        </p:nvSpPr>
        <p:spPr>
          <a:xfrm>
            <a:off x="8205840" y="557532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4" name=""/>
          <p:cNvSpPr/>
          <p:nvPr/>
        </p:nvSpPr>
        <p:spPr>
          <a:xfrm>
            <a:off x="7227720" y="464040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5" name=""/>
          <p:cNvSpPr/>
          <p:nvPr/>
        </p:nvSpPr>
        <p:spPr>
          <a:xfrm>
            <a:off x="7256520" y="470520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6" name=""/>
          <p:cNvSpPr/>
          <p:nvPr/>
        </p:nvSpPr>
        <p:spPr>
          <a:xfrm>
            <a:off x="8177040" y="464040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7" name=""/>
          <p:cNvSpPr/>
          <p:nvPr/>
        </p:nvSpPr>
        <p:spPr>
          <a:xfrm>
            <a:off x="8205840" y="470520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8" name=""/>
          <p:cNvSpPr/>
          <p:nvPr/>
        </p:nvSpPr>
        <p:spPr>
          <a:xfrm>
            <a:off x="7227720" y="413244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9" name=""/>
          <p:cNvSpPr/>
          <p:nvPr/>
        </p:nvSpPr>
        <p:spPr>
          <a:xfrm>
            <a:off x="7256520" y="419724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0" name=""/>
          <p:cNvSpPr/>
          <p:nvPr/>
        </p:nvSpPr>
        <p:spPr>
          <a:xfrm>
            <a:off x="8177040" y="413244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1" name=""/>
          <p:cNvSpPr/>
          <p:nvPr/>
        </p:nvSpPr>
        <p:spPr>
          <a:xfrm>
            <a:off x="8205840" y="419724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2" name=""/>
          <p:cNvSpPr/>
          <p:nvPr/>
        </p:nvSpPr>
        <p:spPr>
          <a:xfrm>
            <a:off x="7227720" y="362916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3" name=""/>
          <p:cNvSpPr/>
          <p:nvPr/>
        </p:nvSpPr>
        <p:spPr>
          <a:xfrm>
            <a:off x="7256520" y="369396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4" name="">
            <a:hlinkClick r:id="rId2" action="ppaction://hlinksldjump"/>
          </p:cNvPr>
          <p:cNvSpPr/>
          <p:nvPr/>
        </p:nvSpPr>
        <p:spPr>
          <a:xfrm>
            <a:off x="8177040" y="362916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5" name=""/>
          <p:cNvSpPr/>
          <p:nvPr/>
        </p:nvSpPr>
        <p:spPr>
          <a:xfrm>
            <a:off x="8205840" y="369396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6" name=""/>
          <p:cNvSpPr/>
          <p:nvPr/>
        </p:nvSpPr>
        <p:spPr>
          <a:xfrm>
            <a:off x="7227720" y="319572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7" name=""/>
          <p:cNvSpPr/>
          <p:nvPr/>
        </p:nvSpPr>
        <p:spPr>
          <a:xfrm>
            <a:off x="7256520" y="3260880"/>
            <a:ext cx="693720" cy="2156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8" name="">
            <a:hlinkClick r:id="rId3" action="ppaction://hlinksldjump"/>
          </p:cNvPr>
          <p:cNvSpPr/>
          <p:nvPr/>
        </p:nvSpPr>
        <p:spPr>
          <a:xfrm>
            <a:off x="8177040" y="319572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9" name=""/>
          <p:cNvSpPr/>
          <p:nvPr/>
        </p:nvSpPr>
        <p:spPr>
          <a:xfrm>
            <a:off x="8205840" y="3260880"/>
            <a:ext cx="693720" cy="2156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0" name=""/>
          <p:cNvSpPr/>
          <p:nvPr/>
        </p:nvSpPr>
        <p:spPr>
          <a:xfrm>
            <a:off x="198360" y="4021200"/>
            <a:ext cx="6915240" cy="566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rce que, quand le vent souffle dans le sens opposé, les diagonales comprimées deviennent des diagonales tend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1" name=""/>
          <p:cNvSpPr/>
          <p:nvPr/>
        </p:nvSpPr>
        <p:spPr>
          <a:xfrm>
            <a:off x="7142040" y="5959440"/>
            <a:ext cx="185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2" name=""/>
          <p:cNvSpPr/>
          <p:nvPr/>
        </p:nvSpPr>
        <p:spPr>
          <a:xfrm>
            <a:off x="1133640" y="241200"/>
            <a:ext cx="6814800" cy="20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i on ne prend pas en compte les barres comprimées dans le calcul, alors pourquoi les conserver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3" name=""/>
          <p:cNvGrpSpPr/>
          <p:nvPr/>
        </p:nvGrpSpPr>
        <p:grpSpPr>
          <a:xfrm>
            <a:off x="3346560" y="1852560"/>
            <a:ext cx="2341080" cy="1231920"/>
            <a:chOff x="3346560" y="1852560"/>
            <a:chExt cx="2341080" cy="1231920"/>
          </a:xfrm>
        </p:grpSpPr>
        <p:sp>
          <p:nvSpPr>
            <p:cNvPr id="4034" name=""/>
            <p:cNvSpPr/>
            <p:nvPr/>
          </p:nvSpPr>
          <p:spPr>
            <a:xfrm>
              <a:off x="3517560" y="1964880"/>
              <a:ext cx="0" cy="2156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5" name=""/>
            <p:cNvSpPr/>
            <p:nvPr/>
          </p:nvSpPr>
          <p:spPr>
            <a:xfrm>
              <a:off x="3846960" y="1855080"/>
              <a:ext cx="0" cy="3250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6" name=""/>
            <p:cNvSpPr/>
            <p:nvPr/>
          </p:nvSpPr>
          <p:spPr>
            <a:xfrm>
              <a:off x="4185360" y="1852560"/>
              <a:ext cx="0" cy="3250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7" name=""/>
            <p:cNvSpPr/>
            <p:nvPr/>
          </p:nvSpPr>
          <p:spPr>
            <a:xfrm>
              <a:off x="4519440" y="1855080"/>
              <a:ext cx="0" cy="3250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8" name=""/>
            <p:cNvSpPr/>
            <p:nvPr/>
          </p:nvSpPr>
          <p:spPr>
            <a:xfrm>
              <a:off x="4857840" y="1852560"/>
              <a:ext cx="0" cy="3250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9" name=""/>
            <p:cNvSpPr/>
            <p:nvPr/>
          </p:nvSpPr>
          <p:spPr>
            <a:xfrm>
              <a:off x="5196240" y="1856520"/>
              <a:ext cx="0" cy="3250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0" name=""/>
            <p:cNvSpPr/>
            <p:nvPr/>
          </p:nvSpPr>
          <p:spPr>
            <a:xfrm>
              <a:off x="5532120" y="1934280"/>
              <a:ext cx="0" cy="24336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1" name=""/>
            <p:cNvSpPr/>
            <p:nvPr/>
          </p:nvSpPr>
          <p:spPr>
            <a:xfrm>
              <a:off x="5374440" y="2592000"/>
              <a:ext cx="31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2" name=""/>
            <p:cNvSpPr/>
            <p:nvPr/>
          </p:nvSpPr>
          <p:spPr>
            <a:xfrm>
              <a:off x="3407400" y="2499120"/>
              <a:ext cx="207720" cy="96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3" name=""/>
            <p:cNvSpPr/>
            <p:nvPr/>
          </p:nvSpPr>
          <p:spPr>
            <a:xfrm>
              <a:off x="3346560" y="2607480"/>
              <a:ext cx="317520" cy="56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4" name=""/>
            <p:cNvSpPr/>
            <p:nvPr/>
          </p:nvSpPr>
          <p:spPr>
            <a:xfrm>
              <a:off x="5428080" y="2497680"/>
              <a:ext cx="207360" cy="972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5" name=""/>
            <p:cNvSpPr/>
            <p:nvPr/>
          </p:nvSpPr>
          <p:spPr>
            <a:xfrm>
              <a:off x="5370120" y="2652120"/>
              <a:ext cx="317520" cy="56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6" name=""/>
            <p:cNvSpPr/>
            <p:nvPr/>
          </p:nvSpPr>
          <p:spPr>
            <a:xfrm>
              <a:off x="5383440" y="2592000"/>
              <a:ext cx="51840" cy="4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7" name=""/>
            <p:cNvSpPr/>
            <p:nvPr/>
          </p:nvSpPr>
          <p:spPr>
            <a:xfrm>
              <a:off x="5506560" y="2592000"/>
              <a:ext cx="51840" cy="4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8" name=""/>
            <p:cNvSpPr/>
            <p:nvPr/>
          </p:nvSpPr>
          <p:spPr>
            <a:xfrm>
              <a:off x="5628240" y="2594880"/>
              <a:ext cx="51840" cy="4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9" name=""/>
            <p:cNvSpPr/>
            <p:nvPr/>
          </p:nvSpPr>
          <p:spPr>
            <a:xfrm>
              <a:off x="3517560" y="2626920"/>
              <a:ext cx="0" cy="3934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5530320" y="2691000"/>
              <a:ext cx="0" cy="3934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51" name=""/>
            <p:cNvGrpSpPr/>
            <p:nvPr/>
          </p:nvGrpSpPr>
          <p:grpSpPr>
            <a:xfrm>
              <a:off x="3512520" y="2207160"/>
              <a:ext cx="2021400" cy="287280"/>
              <a:chOff x="3512520" y="2207160"/>
              <a:chExt cx="2021400" cy="287280"/>
            </a:xfrm>
          </p:grpSpPr>
          <p:sp>
            <p:nvSpPr>
              <p:cNvPr id="4052" name=""/>
              <p:cNvSpPr/>
              <p:nvPr/>
            </p:nvSpPr>
            <p:spPr>
              <a:xfrm>
                <a:off x="4186800" y="2208240"/>
                <a:ext cx="336600" cy="28620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3" name=""/>
              <p:cNvSpPr/>
              <p:nvPr/>
            </p:nvSpPr>
            <p:spPr>
              <a:xfrm>
                <a:off x="4188600" y="2207160"/>
                <a:ext cx="334440" cy="2858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4" name=""/>
              <p:cNvSpPr/>
              <p:nvPr/>
            </p:nvSpPr>
            <p:spPr>
              <a:xfrm>
                <a:off x="3848400" y="2208240"/>
                <a:ext cx="336600" cy="28620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5" name=""/>
              <p:cNvSpPr/>
              <p:nvPr/>
            </p:nvSpPr>
            <p:spPr>
              <a:xfrm>
                <a:off x="3849840" y="2207160"/>
                <a:ext cx="334440" cy="2858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6" name=""/>
              <p:cNvSpPr/>
              <p:nvPr/>
            </p:nvSpPr>
            <p:spPr>
              <a:xfrm>
                <a:off x="3512520" y="2208240"/>
                <a:ext cx="336600" cy="28620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7" name=""/>
              <p:cNvSpPr/>
              <p:nvPr/>
            </p:nvSpPr>
            <p:spPr>
              <a:xfrm>
                <a:off x="3513960" y="2207160"/>
                <a:ext cx="334440" cy="2858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8" name=""/>
              <p:cNvSpPr/>
              <p:nvPr/>
            </p:nvSpPr>
            <p:spPr>
              <a:xfrm>
                <a:off x="5197320" y="2208240"/>
                <a:ext cx="336600" cy="28620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9" name=""/>
              <p:cNvSpPr/>
              <p:nvPr/>
            </p:nvSpPr>
            <p:spPr>
              <a:xfrm flipH="1">
                <a:off x="5200560" y="2209680"/>
                <a:ext cx="329760" cy="2775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0" name=""/>
              <p:cNvSpPr/>
              <p:nvPr/>
            </p:nvSpPr>
            <p:spPr>
              <a:xfrm>
                <a:off x="4858920" y="2208240"/>
                <a:ext cx="336600" cy="28620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1" name=""/>
              <p:cNvSpPr/>
              <p:nvPr/>
            </p:nvSpPr>
            <p:spPr>
              <a:xfrm flipH="1">
                <a:off x="4862160" y="2209680"/>
                <a:ext cx="330480" cy="2775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2" name=""/>
              <p:cNvSpPr/>
              <p:nvPr/>
            </p:nvSpPr>
            <p:spPr>
              <a:xfrm>
                <a:off x="4523040" y="2208240"/>
                <a:ext cx="336600" cy="28620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3" name=""/>
              <p:cNvSpPr/>
              <p:nvPr/>
            </p:nvSpPr>
            <p:spPr>
              <a:xfrm flipH="1">
                <a:off x="4525920" y="2209680"/>
                <a:ext cx="329760" cy="2775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64" name=""/>
            <p:cNvGrpSpPr/>
            <p:nvPr/>
          </p:nvGrpSpPr>
          <p:grpSpPr>
            <a:xfrm>
              <a:off x="3515760" y="2207160"/>
              <a:ext cx="2017440" cy="286200"/>
              <a:chOff x="3515760" y="2207160"/>
              <a:chExt cx="2017440" cy="286200"/>
            </a:xfrm>
          </p:grpSpPr>
          <p:sp>
            <p:nvSpPr>
              <p:cNvPr id="4065" name=""/>
              <p:cNvSpPr/>
              <p:nvPr/>
            </p:nvSpPr>
            <p:spPr>
              <a:xfrm flipH="1">
                <a:off x="4189680" y="2209680"/>
                <a:ext cx="329760" cy="27792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6" name=""/>
              <p:cNvSpPr/>
              <p:nvPr/>
            </p:nvSpPr>
            <p:spPr>
              <a:xfrm flipH="1">
                <a:off x="3851640" y="2209680"/>
                <a:ext cx="329760" cy="27792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7" name=""/>
              <p:cNvSpPr/>
              <p:nvPr/>
            </p:nvSpPr>
            <p:spPr>
              <a:xfrm flipH="1">
                <a:off x="3515760" y="2209680"/>
                <a:ext cx="329760" cy="27792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8" name=""/>
              <p:cNvSpPr/>
              <p:nvPr/>
            </p:nvSpPr>
            <p:spPr>
              <a:xfrm>
                <a:off x="5198760" y="2207160"/>
                <a:ext cx="334440" cy="28620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9" name=""/>
              <p:cNvSpPr/>
              <p:nvPr/>
            </p:nvSpPr>
            <p:spPr>
              <a:xfrm>
                <a:off x="4860360" y="2207160"/>
                <a:ext cx="334440" cy="28620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0" name=""/>
              <p:cNvSpPr/>
              <p:nvPr/>
            </p:nvSpPr>
            <p:spPr>
              <a:xfrm>
                <a:off x="4524480" y="2207160"/>
                <a:ext cx="334440" cy="28620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71" name=""/>
            <p:cNvSpPr/>
            <p:nvPr/>
          </p:nvSpPr>
          <p:spPr>
            <a:xfrm>
              <a:off x="3484800" y="2183400"/>
              <a:ext cx="54720" cy="51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3818880" y="2181960"/>
              <a:ext cx="53280" cy="5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4154040" y="2177640"/>
              <a:ext cx="55080" cy="5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4495680" y="2183400"/>
              <a:ext cx="52920" cy="51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5" name=""/>
            <p:cNvSpPr/>
            <p:nvPr/>
          </p:nvSpPr>
          <p:spPr>
            <a:xfrm>
              <a:off x="4826520" y="2185920"/>
              <a:ext cx="54720" cy="5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5168160" y="2179080"/>
              <a:ext cx="53280" cy="5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7" name=""/>
            <p:cNvSpPr/>
            <p:nvPr/>
          </p:nvSpPr>
          <p:spPr>
            <a:xfrm>
              <a:off x="5500800" y="2181960"/>
              <a:ext cx="54720" cy="5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8" name=""/>
            <p:cNvSpPr/>
            <p:nvPr/>
          </p:nvSpPr>
          <p:spPr>
            <a:xfrm>
              <a:off x="3489120" y="2473920"/>
              <a:ext cx="54720" cy="5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9" name=""/>
            <p:cNvSpPr/>
            <p:nvPr/>
          </p:nvSpPr>
          <p:spPr>
            <a:xfrm>
              <a:off x="3823200" y="2471040"/>
              <a:ext cx="54720" cy="5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0" name=""/>
            <p:cNvSpPr/>
            <p:nvPr/>
          </p:nvSpPr>
          <p:spPr>
            <a:xfrm>
              <a:off x="4158720" y="2467080"/>
              <a:ext cx="54720" cy="5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1" name=""/>
            <p:cNvSpPr/>
            <p:nvPr/>
          </p:nvSpPr>
          <p:spPr>
            <a:xfrm>
              <a:off x="4500000" y="2473920"/>
              <a:ext cx="53280" cy="5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2" name=""/>
            <p:cNvSpPr/>
            <p:nvPr/>
          </p:nvSpPr>
          <p:spPr>
            <a:xfrm>
              <a:off x="4831200" y="2475360"/>
              <a:ext cx="54720" cy="51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3" name=""/>
            <p:cNvSpPr/>
            <p:nvPr/>
          </p:nvSpPr>
          <p:spPr>
            <a:xfrm>
              <a:off x="5172480" y="2469960"/>
              <a:ext cx="53280" cy="5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4" name=""/>
            <p:cNvSpPr/>
            <p:nvPr/>
          </p:nvSpPr>
          <p:spPr>
            <a:xfrm>
              <a:off x="5505120" y="2471040"/>
              <a:ext cx="54720" cy="5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5" name=""/>
          <p:cNvSpPr/>
          <p:nvPr/>
        </p:nvSpPr>
        <p:spPr>
          <a:xfrm>
            <a:off x="198360" y="4629240"/>
            <a:ext cx="69152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ur être plus sûr, en cas d’erreur dans les calcu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6" name=""/>
          <p:cNvSpPr/>
          <p:nvPr/>
        </p:nvSpPr>
        <p:spPr>
          <a:xfrm>
            <a:off x="198360" y="5062680"/>
            <a:ext cx="6915240" cy="369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ur équilibrer les charges de nei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7" name=""/>
          <p:cNvSpPr/>
          <p:nvPr/>
        </p:nvSpPr>
        <p:spPr>
          <a:xfrm>
            <a:off x="198360" y="5499000"/>
            <a:ext cx="6915240" cy="370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r habitu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8" name=""/>
          <p:cNvSpPr/>
          <p:nvPr/>
        </p:nvSpPr>
        <p:spPr>
          <a:xfrm>
            <a:off x="198360" y="3619440"/>
            <a:ext cx="6915240" cy="3650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ur augmenter la résistance de la 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9" name=""/>
          <p:cNvSpPr/>
          <p:nvPr/>
        </p:nvSpPr>
        <p:spPr>
          <a:xfrm>
            <a:off x="198360" y="3186000"/>
            <a:ext cx="691524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ur obtenir un élément hyperstat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0" name=""/>
          <p:cNvSpPr/>
          <p:nvPr/>
        </p:nvSpPr>
        <p:spPr>
          <a:xfrm>
            <a:off x="0" y="692280"/>
            <a:ext cx="9144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BONNES RÉPON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1" name=""/>
          <p:cNvSpPr/>
          <p:nvPr/>
        </p:nvSpPr>
        <p:spPr>
          <a:xfrm>
            <a:off x="8177040" y="5073480"/>
            <a:ext cx="749520" cy="34632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721" h="21600">
                <a:moveTo>
                  <a:pt x="0" y="0"/>
                </a:moveTo>
                <a:lnTo>
                  <a:pt x="46721" y="0"/>
                </a:lnTo>
                <a:lnTo>
                  <a:pt x="46721" y="21600"/>
                </a:lnTo>
                <a:lnTo>
                  <a:pt x="0" y="21600"/>
                </a:lnTo>
                <a:close/>
              </a:path>
              <a:path fill="lightenLess" w="46721" h="21600">
                <a:moveTo>
                  <a:pt x="0" y="0"/>
                </a:moveTo>
                <a:lnTo>
                  <a:pt x="46721" y="0"/>
                </a:lnTo>
                <a:lnTo>
                  <a:pt x="45322" y="1400"/>
                </a:lnTo>
                <a:lnTo>
                  <a:pt x="1400" y="1400"/>
                </a:lnTo>
                <a:close/>
              </a:path>
              <a:path fill="darken" w="46721" h="21600">
                <a:moveTo>
                  <a:pt x="46721" y="0"/>
                </a:moveTo>
                <a:lnTo>
                  <a:pt x="46721" y="21600"/>
                </a:lnTo>
                <a:lnTo>
                  <a:pt x="45322" y="20200"/>
                </a:lnTo>
                <a:lnTo>
                  <a:pt x="45322" y="1400"/>
                </a:lnTo>
                <a:close/>
              </a:path>
              <a:path fill="darkenLess" w="46721" h="21600">
                <a:moveTo>
                  <a:pt x="4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22" y="20200"/>
                </a:lnTo>
                <a:close/>
              </a:path>
              <a:path fill="lighten" w="4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2" name=""/>
          <p:cNvSpPr/>
          <p:nvPr/>
        </p:nvSpPr>
        <p:spPr>
          <a:xfrm>
            <a:off x="8205840" y="513864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3" name=""/>
          <p:cNvSpPr/>
          <p:nvPr/>
        </p:nvSpPr>
        <p:spPr>
          <a:xfrm>
            <a:off x="8177040" y="551016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4" name=""/>
          <p:cNvSpPr/>
          <p:nvPr/>
        </p:nvSpPr>
        <p:spPr>
          <a:xfrm>
            <a:off x="8205840" y="557532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5" name=""/>
          <p:cNvSpPr/>
          <p:nvPr/>
        </p:nvSpPr>
        <p:spPr>
          <a:xfrm>
            <a:off x="8177040" y="464040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6" name=""/>
          <p:cNvSpPr/>
          <p:nvPr/>
        </p:nvSpPr>
        <p:spPr>
          <a:xfrm>
            <a:off x="8205840" y="470520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7" name=""/>
          <p:cNvSpPr/>
          <p:nvPr/>
        </p:nvSpPr>
        <p:spPr>
          <a:xfrm>
            <a:off x="7227720" y="413244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8" name=""/>
          <p:cNvSpPr/>
          <p:nvPr/>
        </p:nvSpPr>
        <p:spPr>
          <a:xfrm>
            <a:off x="7256520" y="419724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9" name=""/>
          <p:cNvSpPr/>
          <p:nvPr/>
        </p:nvSpPr>
        <p:spPr>
          <a:xfrm>
            <a:off x="8177040" y="362916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0" name=""/>
          <p:cNvSpPr/>
          <p:nvPr/>
        </p:nvSpPr>
        <p:spPr>
          <a:xfrm>
            <a:off x="8205840" y="369396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1" name=""/>
          <p:cNvSpPr/>
          <p:nvPr/>
        </p:nvSpPr>
        <p:spPr>
          <a:xfrm>
            <a:off x="8177040" y="319572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2" name=""/>
          <p:cNvSpPr/>
          <p:nvPr/>
        </p:nvSpPr>
        <p:spPr>
          <a:xfrm>
            <a:off x="8205840" y="3260880"/>
            <a:ext cx="693720" cy="2156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3" name=""/>
          <p:cNvSpPr/>
          <p:nvPr/>
        </p:nvSpPr>
        <p:spPr>
          <a:xfrm>
            <a:off x="198360" y="4021200"/>
            <a:ext cx="6915240" cy="566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rce que, quand le vent souffle dans le sens opposé, les diagonales comprimées deviennent des diagonales tend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4" name=""/>
          <p:cNvSpPr/>
          <p:nvPr/>
        </p:nvSpPr>
        <p:spPr>
          <a:xfrm>
            <a:off x="628560" y="661176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Suiv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5" name="">
            <a:hlinkClick r:id="" action="ppaction://hlinkshowjump?jump=nextslide"/>
          </p:cNvPr>
          <p:cNvSpPr/>
          <p:nvPr/>
        </p:nvSpPr>
        <p:spPr>
          <a:xfrm>
            <a:off x="765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6" name=""/>
          <p:cNvGrpSpPr/>
          <p:nvPr/>
        </p:nvGrpSpPr>
        <p:grpSpPr>
          <a:xfrm>
            <a:off x="3346560" y="1852560"/>
            <a:ext cx="2341080" cy="1231920"/>
            <a:chOff x="3346560" y="1852560"/>
            <a:chExt cx="2341080" cy="1231920"/>
          </a:xfrm>
        </p:grpSpPr>
        <p:sp>
          <p:nvSpPr>
            <p:cNvPr id="4107" name=""/>
            <p:cNvSpPr/>
            <p:nvPr/>
          </p:nvSpPr>
          <p:spPr>
            <a:xfrm>
              <a:off x="3517560" y="1964880"/>
              <a:ext cx="0" cy="2156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3846960" y="1855080"/>
              <a:ext cx="0" cy="3250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4185360" y="1852560"/>
              <a:ext cx="0" cy="3250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4519440" y="1855080"/>
              <a:ext cx="0" cy="3250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4857840" y="1852560"/>
              <a:ext cx="0" cy="3250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5196240" y="1856520"/>
              <a:ext cx="0" cy="3250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5532120" y="1934280"/>
              <a:ext cx="0" cy="24336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5374440" y="2592000"/>
              <a:ext cx="31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3407400" y="2499120"/>
              <a:ext cx="207720" cy="96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3346560" y="2607480"/>
              <a:ext cx="317520" cy="56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5428080" y="2497680"/>
              <a:ext cx="207360" cy="972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5370120" y="2652120"/>
              <a:ext cx="317520" cy="56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5383440" y="2592000"/>
              <a:ext cx="51840" cy="4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5506560" y="2592000"/>
              <a:ext cx="51840" cy="4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5628240" y="2594880"/>
              <a:ext cx="51840" cy="4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3517560" y="2626920"/>
              <a:ext cx="0" cy="3934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5530320" y="2691000"/>
              <a:ext cx="0" cy="3934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24" name=""/>
            <p:cNvGrpSpPr/>
            <p:nvPr/>
          </p:nvGrpSpPr>
          <p:grpSpPr>
            <a:xfrm>
              <a:off x="3512520" y="2207160"/>
              <a:ext cx="2021400" cy="287280"/>
              <a:chOff x="3512520" y="2207160"/>
              <a:chExt cx="2021400" cy="287280"/>
            </a:xfrm>
          </p:grpSpPr>
          <p:sp>
            <p:nvSpPr>
              <p:cNvPr id="4125" name=""/>
              <p:cNvSpPr/>
              <p:nvPr/>
            </p:nvSpPr>
            <p:spPr>
              <a:xfrm>
                <a:off x="4186800" y="2208240"/>
                <a:ext cx="336600" cy="28620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6" name=""/>
              <p:cNvSpPr/>
              <p:nvPr/>
            </p:nvSpPr>
            <p:spPr>
              <a:xfrm>
                <a:off x="4188600" y="2207160"/>
                <a:ext cx="334440" cy="2858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7" name=""/>
              <p:cNvSpPr/>
              <p:nvPr/>
            </p:nvSpPr>
            <p:spPr>
              <a:xfrm>
                <a:off x="3848400" y="2208240"/>
                <a:ext cx="336600" cy="28620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8" name=""/>
              <p:cNvSpPr/>
              <p:nvPr/>
            </p:nvSpPr>
            <p:spPr>
              <a:xfrm>
                <a:off x="3849840" y="2207160"/>
                <a:ext cx="334440" cy="2858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9" name=""/>
              <p:cNvSpPr/>
              <p:nvPr/>
            </p:nvSpPr>
            <p:spPr>
              <a:xfrm>
                <a:off x="3512520" y="2208240"/>
                <a:ext cx="336600" cy="28620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0" name=""/>
              <p:cNvSpPr/>
              <p:nvPr/>
            </p:nvSpPr>
            <p:spPr>
              <a:xfrm>
                <a:off x="3513960" y="2207160"/>
                <a:ext cx="334440" cy="2858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1" name=""/>
              <p:cNvSpPr/>
              <p:nvPr/>
            </p:nvSpPr>
            <p:spPr>
              <a:xfrm>
                <a:off x="5197320" y="2208240"/>
                <a:ext cx="336600" cy="28620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2" name=""/>
              <p:cNvSpPr/>
              <p:nvPr/>
            </p:nvSpPr>
            <p:spPr>
              <a:xfrm flipH="1">
                <a:off x="5200560" y="2209680"/>
                <a:ext cx="329760" cy="2775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3" name=""/>
              <p:cNvSpPr/>
              <p:nvPr/>
            </p:nvSpPr>
            <p:spPr>
              <a:xfrm>
                <a:off x="4858920" y="2208240"/>
                <a:ext cx="336600" cy="28620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4" name=""/>
              <p:cNvSpPr/>
              <p:nvPr/>
            </p:nvSpPr>
            <p:spPr>
              <a:xfrm flipH="1">
                <a:off x="4862160" y="2209680"/>
                <a:ext cx="330480" cy="2775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5" name=""/>
              <p:cNvSpPr/>
              <p:nvPr/>
            </p:nvSpPr>
            <p:spPr>
              <a:xfrm>
                <a:off x="4523040" y="2208240"/>
                <a:ext cx="336600" cy="28620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6" name=""/>
              <p:cNvSpPr/>
              <p:nvPr/>
            </p:nvSpPr>
            <p:spPr>
              <a:xfrm flipH="1">
                <a:off x="4525920" y="2209680"/>
                <a:ext cx="329760" cy="2775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37" name=""/>
            <p:cNvGrpSpPr/>
            <p:nvPr/>
          </p:nvGrpSpPr>
          <p:grpSpPr>
            <a:xfrm>
              <a:off x="3515760" y="2207160"/>
              <a:ext cx="2017440" cy="286200"/>
              <a:chOff x="3515760" y="2207160"/>
              <a:chExt cx="2017440" cy="286200"/>
            </a:xfrm>
          </p:grpSpPr>
          <p:sp>
            <p:nvSpPr>
              <p:cNvPr id="4138" name=""/>
              <p:cNvSpPr/>
              <p:nvPr/>
            </p:nvSpPr>
            <p:spPr>
              <a:xfrm flipH="1">
                <a:off x="4189680" y="2209680"/>
                <a:ext cx="329760" cy="27792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9" name=""/>
              <p:cNvSpPr/>
              <p:nvPr/>
            </p:nvSpPr>
            <p:spPr>
              <a:xfrm flipH="1">
                <a:off x="3851640" y="2209680"/>
                <a:ext cx="329760" cy="27792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0" name=""/>
              <p:cNvSpPr/>
              <p:nvPr/>
            </p:nvSpPr>
            <p:spPr>
              <a:xfrm flipH="1">
                <a:off x="3515760" y="2209680"/>
                <a:ext cx="329760" cy="27792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1" name=""/>
              <p:cNvSpPr/>
              <p:nvPr/>
            </p:nvSpPr>
            <p:spPr>
              <a:xfrm>
                <a:off x="5198760" y="2207160"/>
                <a:ext cx="334440" cy="28620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2" name=""/>
              <p:cNvSpPr/>
              <p:nvPr/>
            </p:nvSpPr>
            <p:spPr>
              <a:xfrm>
                <a:off x="4860360" y="2207160"/>
                <a:ext cx="334440" cy="28620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3" name=""/>
              <p:cNvSpPr/>
              <p:nvPr/>
            </p:nvSpPr>
            <p:spPr>
              <a:xfrm>
                <a:off x="4524480" y="2207160"/>
                <a:ext cx="334440" cy="28620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44" name=""/>
            <p:cNvSpPr/>
            <p:nvPr/>
          </p:nvSpPr>
          <p:spPr>
            <a:xfrm>
              <a:off x="3484800" y="2183400"/>
              <a:ext cx="54720" cy="51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3818880" y="2181960"/>
              <a:ext cx="53280" cy="5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4154040" y="2177640"/>
              <a:ext cx="55080" cy="5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4495680" y="2183400"/>
              <a:ext cx="52920" cy="51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4826520" y="2185920"/>
              <a:ext cx="54720" cy="5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5168160" y="2179080"/>
              <a:ext cx="53280" cy="5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5500800" y="2181960"/>
              <a:ext cx="54720" cy="5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3489120" y="2473920"/>
              <a:ext cx="54720" cy="5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3823200" y="2471040"/>
              <a:ext cx="54720" cy="5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4158720" y="2467080"/>
              <a:ext cx="54720" cy="5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4500000" y="2473920"/>
              <a:ext cx="53280" cy="5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4831200" y="2475360"/>
              <a:ext cx="54720" cy="51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5172480" y="2469960"/>
              <a:ext cx="53280" cy="5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5505120" y="2471040"/>
              <a:ext cx="54720" cy="5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58" name="" descr=""/>
          <p:cNvPicPr/>
          <p:nvPr/>
        </p:nvPicPr>
        <p:blipFill>
          <a:blip r:embed="rId1"/>
          <a:stretch/>
        </p:blipFill>
        <p:spPr>
          <a:xfrm>
            <a:off x="7240680" y="89208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9" name=""/>
          <p:cNvSpPr/>
          <p:nvPr/>
        </p:nvSpPr>
        <p:spPr>
          <a:xfrm>
            <a:off x="628560" y="661176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Suiv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0" name="">
            <a:hlinkClick r:id="" action="ppaction://hlinkshowjump?jump=nextslide"/>
          </p:cNvPr>
          <p:cNvSpPr/>
          <p:nvPr/>
        </p:nvSpPr>
        <p:spPr>
          <a:xfrm>
            <a:off x="765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1" name=""/>
          <p:cNvSpPr/>
          <p:nvPr/>
        </p:nvSpPr>
        <p:spPr>
          <a:xfrm>
            <a:off x="1452600" y="725400"/>
            <a:ext cx="6267240" cy="703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lon le sens du vent, les mêmes diagonales peuvent être, soit comprimées, soit tendu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2" name=""/>
          <p:cNvSpPr/>
          <p:nvPr/>
        </p:nvSpPr>
        <p:spPr>
          <a:xfrm>
            <a:off x="2103480" y="2144880"/>
            <a:ext cx="511200" cy="952200"/>
          </a:xfrm>
          <a:prstGeom prst="downArrow">
            <a:avLst>
              <a:gd name="adj1" fmla="val 50000"/>
              <a:gd name="adj2" fmla="val 465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3" name=""/>
          <p:cNvGrpSpPr/>
          <p:nvPr/>
        </p:nvGrpSpPr>
        <p:grpSpPr>
          <a:xfrm>
            <a:off x="596880" y="3243240"/>
            <a:ext cx="3543480" cy="618840"/>
            <a:chOff x="596880" y="3243240"/>
            <a:chExt cx="3543480" cy="618840"/>
          </a:xfrm>
        </p:grpSpPr>
        <p:sp>
          <p:nvSpPr>
            <p:cNvPr id="4164" name=""/>
            <p:cNvSpPr/>
            <p:nvPr/>
          </p:nvSpPr>
          <p:spPr>
            <a:xfrm>
              <a:off x="596880" y="3552480"/>
              <a:ext cx="0" cy="305640"/>
            </a:xfrm>
            <a:prstGeom prst="line">
              <a:avLst/>
            </a:prstGeom>
            <a:ln w="38160">
              <a:solidFill>
                <a:srgbClr val="99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5" name=""/>
            <p:cNvSpPr/>
            <p:nvPr/>
          </p:nvSpPr>
          <p:spPr>
            <a:xfrm>
              <a:off x="1176120" y="3246840"/>
              <a:ext cx="0" cy="611280"/>
            </a:xfrm>
            <a:prstGeom prst="line">
              <a:avLst/>
            </a:prstGeom>
            <a:ln w="38160">
              <a:solidFill>
                <a:srgbClr val="99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6" name=""/>
            <p:cNvSpPr/>
            <p:nvPr/>
          </p:nvSpPr>
          <p:spPr>
            <a:xfrm>
              <a:off x="1771200" y="3243240"/>
              <a:ext cx="0" cy="611280"/>
            </a:xfrm>
            <a:prstGeom prst="line">
              <a:avLst/>
            </a:prstGeom>
            <a:ln w="38160">
              <a:solidFill>
                <a:srgbClr val="99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7" name=""/>
            <p:cNvSpPr/>
            <p:nvPr/>
          </p:nvSpPr>
          <p:spPr>
            <a:xfrm>
              <a:off x="2358360" y="3246840"/>
              <a:ext cx="0" cy="611280"/>
            </a:xfrm>
            <a:prstGeom prst="line">
              <a:avLst/>
            </a:prstGeom>
            <a:ln w="38160">
              <a:solidFill>
                <a:srgbClr val="99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8" name=""/>
            <p:cNvSpPr/>
            <p:nvPr/>
          </p:nvSpPr>
          <p:spPr>
            <a:xfrm>
              <a:off x="2953800" y="3243240"/>
              <a:ext cx="0" cy="611280"/>
            </a:xfrm>
            <a:prstGeom prst="line">
              <a:avLst/>
            </a:prstGeom>
            <a:ln w="38160">
              <a:solidFill>
                <a:srgbClr val="99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3548880" y="3250800"/>
              <a:ext cx="0" cy="611280"/>
            </a:xfrm>
            <a:prstGeom prst="line">
              <a:avLst/>
            </a:prstGeom>
            <a:ln w="38160">
              <a:solidFill>
                <a:srgbClr val="99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0" name=""/>
            <p:cNvSpPr/>
            <p:nvPr/>
          </p:nvSpPr>
          <p:spPr>
            <a:xfrm>
              <a:off x="4140360" y="3548520"/>
              <a:ext cx="0" cy="305640"/>
            </a:xfrm>
            <a:prstGeom prst="line">
              <a:avLst/>
            </a:prstGeom>
            <a:ln w="38160">
              <a:solidFill>
                <a:srgbClr val="99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71" name=""/>
          <p:cNvSpPr/>
          <p:nvPr/>
        </p:nvSpPr>
        <p:spPr>
          <a:xfrm>
            <a:off x="3860640" y="4632480"/>
            <a:ext cx="552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2" name=""/>
          <p:cNvGrpSpPr/>
          <p:nvPr/>
        </p:nvGrpSpPr>
        <p:grpSpPr>
          <a:xfrm>
            <a:off x="295200" y="4452840"/>
            <a:ext cx="4118040" cy="373320"/>
            <a:chOff x="295200" y="4452840"/>
            <a:chExt cx="4118040" cy="373320"/>
          </a:xfrm>
        </p:grpSpPr>
        <p:sp>
          <p:nvSpPr>
            <p:cNvPr id="4173" name=""/>
            <p:cNvSpPr/>
            <p:nvPr/>
          </p:nvSpPr>
          <p:spPr>
            <a:xfrm>
              <a:off x="402480" y="4456440"/>
              <a:ext cx="36468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4" name=""/>
            <p:cNvSpPr/>
            <p:nvPr/>
          </p:nvSpPr>
          <p:spPr>
            <a:xfrm>
              <a:off x="295200" y="4635360"/>
              <a:ext cx="559080" cy="1069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3957480" y="4452840"/>
              <a:ext cx="36504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6" name=""/>
            <p:cNvSpPr/>
            <p:nvPr/>
          </p:nvSpPr>
          <p:spPr>
            <a:xfrm>
              <a:off x="3854160" y="4719240"/>
              <a:ext cx="559080" cy="1069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7" name=""/>
            <p:cNvSpPr/>
            <p:nvPr/>
          </p:nvSpPr>
          <p:spPr>
            <a:xfrm>
              <a:off x="3877560" y="4631040"/>
              <a:ext cx="91440" cy="91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8" name=""/>
            <p:cNvSpPr/>
            <p:nvPr/>
          </p:nvSpPr>
          <p:spPr>
            <a:xfrm>
              <a:off x="4095360" y="4631040"/>
              <a:ext cx="91440" cy="91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9" name=""/>
            <p:cNvSpPr/>
            <p:nvPr/>
          </p:nvSpPr>
          <p:spPr>
            <a:xfrm>
              <a:off x="4309560" y="4635360"/>
              <a:ext cx="91440" cy="91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0" name=""/>
          <p:cNvGrpSpPr/>
          <p:nvPr/>
        </p:nvGrpSpPr>
        <p:grpSpPr>
          <a:xfrm>
            <a:off x="596880" y="4699080"/>
            <a:ext cx="3538440" cy="857160"/>
            <a:chOff x="596880" y="4699080"/>
            <a:chExt cx="3538440" cy="857160"/>
          </a:xfrm>
        </p:grpSpPr>
        <p:sp>
          <p:nvSpPr>
            <p:cNvPr id="4181" name=""/>
            <p:cNvSpPr/>
            <p:nvPr/>
          </p:nvSpPr>
          <p:spPr>
            <a:xfrm>
              <a:off x="596880" y="4699080"/>
              <a:ext cx="0" cy="738360"/>
            </a:xfrm>
            <a:prstGeom prst="line">
              <a:avLst/>
            </a:prstGeom>
            <a:ln w="76320">
              <a:solidFill>
                <a:srgbClr val="3399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2" name=""/>
            <p:cNvSpPr/>
            <p:nvPr/>
          </p:nvSpPr>
          <p:spPr>
            <a:xfrm>
              <a:off x="4135320" y="4817880"/>
              <a:ext cx="0" cy="738360"/>
            </a:xfrm>
            <a:prstGeom prst="line">
              <a:avLst/>
            </a:prstGeom>
            <a:ln w="76320">
              <a:solidFill>
                <a:srgbClr val="3399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3" name=""/>
          <p:cNvGrpSpPr/>
          <p:nvPr/>
        </p:nvGrpSpPr>
        <p:grpSpPr>
          <a:xfrm>
            <a:off x="587520" y="3908520"/>
            <a:ext cx="3555360" cy="542880"/>
            <a:chOff x="587520" y="3908520"/>
            <a:chExt cx="3555360" cy="542880"/>
          </a:xfrm>
        </p:grpSpPr>
        <p:sp>
          <p:nvSpPr>
            <p:cNvPr id="4184" name=""/>
            <p:cNvSpPr/>
            <p:nvPr/>
          </p:nvSpPr>
          <p:spPr>
            <a:xfrm>
              <a:off x="1773360" y="3911040"/>
              <a:ext cx="592200" cy="5403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5" name=""/>
            <p:cNvSpPr/>
            <p:nvPr/>
          </p:nvSpPr>
          <p:spPr>
            <a:xfrm>
              <a:off x="1775880" y="3908520"/>
              <a:ext cx="588600" cy="54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6" name=""/>
            <p:cNvSpPr/>
            <p:nvPr/>
          </p:nvSpPr>
          <p:spPr>
            <a:xfrm>
              <a:off x="1178640" y="3911040"/>
              <a:ext cx="592200" cy="5403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7" name=""/>
            <p:cNvSpPr/>
            <p:nvPr/>
          </p:nvSpPr>
          <p:spPr>
            <a:xfrm>
              <a:off x="1181520" y="3908520"/>
              <a:ext cx="588600" cy="54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8" name=""/>
            <p:cNvSpPr/>
            <p:nvPr/>
          </p:nvSpPr>
          <p:spPr>
            <a:xfrm>
              <a:off x="587520" y="3911040"/>
              <a:ext cx="592200" cy="5403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9" name=""/>
            <p:cNvSpPr/>
            <p:nvPr/>
          </p:nvSpPr>
          <p:spPr>
            <a:xfrm>
              <a:off x="590040" y="3908520"/>
              <a:ext cx="588600" cy="54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0" name=""/>
            <p:cNvSpPr/>
            <p:nvPr/>
          </p:nvSpPr>
          <p:spPr>
            <a:xfrm>
              <a:off x="3550680" y="3911040"/>
              <a:ext cx="592200" cy="5403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1" name=""/>
            <p:cNvSpPr/>
            <p:nvPr/>
          </p:nvSpPr>
          <p:spPr>
            <a:xfrm flipH="1">
              <a:off x="3555720" y="3913200"/>
              <a:ext cx="580680" cy="524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2" name=""/>
            <p:cNvSpPr/>
            <p:nvPr/>
          </p:nvSpPr>
          <p:spPr>
            <a:xfrm>
              <a:off x="2956320" y="3911040"/>
              <a:ext cx="592200" cy="5403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3" name=""/>
            <p:cNvSpPr/>
            <p:nvPr/>
          </p:nvSpPr>
          <p:spPr>
            <a:xfrm flipH="1">
              <a:off x="2961000" y="3913200"/>
              <a:ext cx="580680" cy="524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4" name=""/>
            <p:cNvSpPr/>
            <p:nvPr/>
          </p:nvSpPr>
          <p:spPr>
            <a:xfrm>
              <a:off x="2364840" y="3911040"/>
              <a:ext cx="592200" cy="5403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5" name=""/>
            <p:cNvSpPr/>
            <p:nvPr/>
          </p:nvSpPr>
          <p:spPr>
            <a:xfrm flipH="1">
              <a:off x="2369880" y="3913200"/>
              <a:ext cx="580680" cy="524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6" name=""/>
          <p:cNvGrpSpPr/>
          <p:nvPr/>
        </p:nvGrpSpPr>
        <p:grpSpPr>
          <a:xfrm>
            <a:off x="591840" y="3908520"/>
            <a:ext cx="3549960" cy="539640"/>
            <a:chOff x="591840" y="3908520"/>
            <a:chExt cx="3549960" cy="539640"/>
          </a:xfrm>
        </p:grpSpPr>
        <p:sp>
          <p:nvSpPr>
            <p:cNvPr id="4197" name=""/>
            <p:cNvSpPr/>
            <p:nvPr/>
          </p:nvSpPr>
          <p:spPr>
            <a:xfrm flipH="1">
              <a:off x="1777680" y="3913200"/>
              <a:ext cx="580680" cy="52416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8" name=""/>
            <p:cNvSpPr/>
            <p:nvPr/>
          </p:nvSpPr>
          <p:spPr>
            <a:xfrm flipH="1">
              <a:off x="1182960" y="3913200"/>
              <a:ext cx="580680" cy="52416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9" name=""/>
            <p:cNvSpPr/>
            <p:nvPr/>
          </p:nvSpPr>
          <p:spPr>
            <a:xfrm flipH="1">
              <a:off x="591840" y="3913200"/>
              <a:ext cx="580680" cy="52416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0" name=""/>
            <p:cNvSpPr/>
            <p:nvPr/>
          </p:nvSpPr>
          <p:spPr>
            <a:xfrm>
              <a:off x="3553200" y="3908520"/>
              <a:ext cx="588600" cy="53964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1" name=""/>
            <p:cNvSpPr/>
            <p:nvPr/>
          </p:nvSpPr>
          <p:spPr>
            <a:xfrm>
              <a:off x="2958480" y="3908520"/>
              <a:ext cx="588600" cy="53964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2" name=""/>
            <p:cNvSpPr/>
            <p:nvPr/>
          </p:nvSpPr>
          <p:spPr>
            <a:xfrm>
              <a:off x="2367000" y="3908520"/>
              <a:ext cx="588600" cy="53964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3" name=""/>
          <p:cNvGrpSpPr/>
          <p:nvPr/>
        </p:nvGrpSpPr>
        <p:grpSpPr>
          <a:xfrm>
            <a:off x="538200" y="3854520"/>
            <a:ext cx="3649680" cy="654120"/>
            <a:chOff x="538200" y="3854520"/>
            <a:chExt cx="3649680" cy="654120"/>
          </a:xfrm>
        </p:grpSpPr>
        <p:sp>
          <p:nvSpPr>
            <p:cNvPr id="4204" name=""/>
            <p:cNvSpPr/>
            <p:nvPr/>
          </p:nvSpPr>
          <p:spPr>
            <a:xfrm>
              <a:off x="538200" y="3866400"/>
              <a:ext cx="95040" cy="9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5" name=""/>
            <p:cNvSpPr/>
            <p:nvPr/>
          </p:nvSpPr>
          <p:spPr>
            <a:xfrm>
              <a:off x="1125720" y="3862080"/>
              <a:ext cx="95040" cy="9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6" name=""/>
            <p:cNvSpPr/>
            <p:nvPr/>
          </p:nvSpPr>
          <p:spPr>
            <a:xfrm>
              <a:off x="1716480" y="3854520"/>
              <a:ext cx="95040" cy="9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7" name=""/>
            <p:cNvSpPr/>
            <p:nvPr/>
          </p:nvSpPr>
          <p:spPr>
            <a:xfrm>
              <a:off x="2315880" y="3866400"/>
              <a:ext cx="95040" cy="9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8" name=""/>
            <p:cNvSpPr/>
            <p:nvPr/>
          </p:nvSpPr>
          <p:spPr>
            <a:xfrm>
              <a:off x="2898720" y="3870720"/>
              <a:ext cx="95040" cy="9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9" name=""/>
            <p:cNvSpPr/>
            <p:nvPr/>
          </p:nvSpPr>
          <p:spPr>
            <a:xfrm>
              <a:off x="3497760" y="3858480"/>
              <a:ext cx="95040" cy="9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0" name=""/>
            <p:cNvSpPr/>
            <p:nvPr/>
          </p:nvSpPr>
          <p:spPr>
            <a:xfrm>
              <a:off x="4084920" y="3862800"/>
              <a:ext cx="95040" cy="9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1" name=""/>
            <p:cNvSpPr/>
            <p:nvPr/>
          </p:nvSpPr>
          <p:spPr>
            <a:xfrm>
              <a:off x="546120" y="4409280"/>
              <a:ext cx="95040" cy="9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2" name=""/>
            <p:cNvSpPr/>
            <p:nvPr/>
          </p:nvSpPr>
          <p:spPr>
            <a:xfrm>
              <a:off x="1133640" y="4404960"/>
              <a:ext cx="95040" cy="9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3" name=""/>
            <p:cNvSpPr/>
            <p:nvPr/>
          </p:nvSpPr>
          <p:spPr>
            <a:xfrm>
              <a:off x="1724400" y="4397040"/>
              <a:ext cx="95040" cy="9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4" name=""/>
            <p:cNvSpPr/>
            <p:nvPr/>
          </p:nvSpPr>
          <p:spPr>
            <a:xfrm>
              <a:off x="2323800" y="4409280"/>
              <a:ext cx="95040" cy="9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5" name=""/>
            <p:cNvSpPr/>
            <p:nvPr/>
          </p:nvSpPr>
          <p:spPr>
            <a:xfrm>
              <a:off x="2906640" y="4413600"/>
              <a:ext cx="95040" cy="9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6" name=""/>
            <p:cNvSpPr/>
            <p:nvPr/>
          </p:nvSpPr>
          <p:spPr>
            <a:xfrm>
              <a:off x="3505680" y="4401360"/>
              <a:ext cx="95040" cy="9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7" name=""/>
            <p:cNvSpPr/>
            <p:nvPr/>
          </p:nvSpPr>
          <p:spPr>
            <a:xfrm>
              <a:off x="4092840" y="4405680"/>
              <a:ext cx="95040" cy="9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8" name=""/>
          <p:cNvSpPr/>
          <p:nvPr/>
        </p:nvSpPr>
        <p:spPr>
          <a:xfrm flipV="1">
            <a:off x="6651720" y="2163600"/>
            <a:ext cx="511200" cy="952560"/>
          </a:xfrm>
          <a:prstGeom prst="downArrow">
            <a:avLst>
              <a:gd name="adj1" fmla="val 50000"/>
              <a:gd name="adj2" fmla="val 4658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9" name=""/>
          <p:cNvGrpSpPr/>
          <p:nvPr/>
        </p:nvGrpSpPr>
        <p:grpSpPr>
          <a:xfrm>
            <a:off x="5145120" y="3243240"/>
            <a:ext cx="3543120" cy="618840"/>
            <a:chOff x="5145120" y="3243240"/>
            <a:chExt cx="3543120" cy="618840"/>
          </a:xfrm>
        </p:grpSpPr>
        <p:sp>
          <p:nvSpPr>
            <p:cNvPr id="4220" name=""/>
            <p:cNvSpPr/>
            <p:nvPr/>
          </p:nvSpPr>
          <p:spPr>
            <a:xfrm>
              <a:off x="5145120" y="3552480"/>
              <a:ext cx="0" cy="305640"/>
            </a:xfrm>
            <a:prstGeom prst="line">
              <a:avLst/>
            </a:prstGeom>
            <a:ln w="38160">
              <a:solidFill>
                <a:srgbClr val="99cc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1" name=""/>
            <p:cNvSpPr/>
            <p:nvPr/>
          </p:nvSpPr>
          <p:spPr>
            <a:xfrm>
              <a:off x="5724000" y="3246840"/>
              <a:ext cx="0" cy="611280"/>
            </a:xfrm>
            <a:prstGeom prst="line">
              <a:avLst/>
            </a:prstGeom>
            <a:ln w="38160">
              <a:solidFill>
                <a:srgbClr val="99cc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2" name=""/>
            <p:cNvSpPr/>
            <p:nvPr/>
          </p:nvSpPr>
          <p:spPr>
            <a:xfrm>
              <a:off x="6319440" y="3243240"/>
              <a:ext cx="0" cy="611280"/>
            </a:xfrm>
            <a:prstGeom prst="line">
              <a:avLst/>
            </a:prstGeom>
            <a:ln w="38160">
              <a:solidFill>
                <a:srgbClr val="99cc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3" name=""/>
            <p:cNvSpPr/>
            <p:nvPr/>
          </p:nvSpPr>
          <p:spPr>
            <a:xfrm>
              <a:off x="6906600" y="3246840"/>
              <a:ext cx="0" cy="611280"/>
            </a:xfrm>
            <a:prstGeom prst="line">
              <a:avLst/>
            </a:prstGeom>
            <a:ln w="38160">
              <a:solidFill>
                <a:srgbClr val="99cc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4" name=""/>
            <p:cNvSpPr/>
            <p:nvPr/>
          </p:nvSpPr>
          <p:spPr>
            <a:xfrm>
              <a:off x="7501680" y="3243240"/>
              <a:ext cx="0" cy="611280"/>
            </a:xfrm>
            <a:prstGeom prst="line">
              <a:avLst/>
            </a:prstGeom>
            <a:ln w="38160">
              <a:solidFill>
                <a:srgbClr val="99cc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5" name=""/>
            <p:cNvSpPr/>
            <p:nvPr/>
          </p:nvSpPr>
          <p:spPr>
            <a:xfrm>
              <a:off x="8096760" y="3250800"/>
              <a:ext cx="0" cy="611280"/>
            </a:xfrm>
            <a:prstGeom prst="line">
              <a:avLst/>
            </a:prstGeom>
            <a:ln w="38160">
              <a:solidFill>
                <a:srgbClr val="99cc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6" name=""/>
            <p:cNvSpPr/>
            <p:nvPr/>
          </p:nvSpPr>
          <p:spPr>
            <a:xfrm>
              <a:off x="8688240" y="3548520"/>
              <a:ext cx="0" cy="305640"/>
            </a:xfrm>
            <a:prstGeom prst="line">
              <a:avLst/>
            </a:prstGeom>
            <a:ln w="38160">
              <a:solidFill>
                <a:srgbClr val="99cc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7" name=""/>
          <p:cNvSpPr/>
          <p:nvPr/>
        </p:nvSpPr>
        <p:spPr>
          <a:xfrm>
            <a:off x="8408880" y="4632480"/>
            <a:ext cx="552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8" name=""/>
          <p:cNvGrpSpPr/>
          <p:nvPr/>
        </p:nvGrpSpPr>
        <p:grpSpPr>
          <a:xfrm>
            <a:off x="4843440" y="4452840"/>
            <a:ext cx="4118040" cy="373320"/>
            <a:chOff x="4843440" y="4452840"/>
            <a:chExt cx="4118040" cy="373320"/>
          </a:xfrm>
        </p:grpSpPr>
        <p:sp>
          <p:nvSpPr>
            <p:cNvPr id="4229" name=""/>
            <p:cNvSpPr/>
            <p:nvPr/>
          </p:nvSpPr>
          <p:spPr>
            <a:xfrm>
              <a:off x="4950720" y="4456440"/>
              <a:ext cx="36468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0" name=""/>
            <p:cNvSpPr/>
            <p:nvPr/>
          </p:nvSpPr>
          <p:spPr>
            <a:xfrm>
              <a:off x="4843440" y="4635360"/>
              <a:ext cx="559080" cy="1069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1" name=""/>
            <p:cNvSpPr/>
            <p:nvPr/>
          </p:nvSpPr>
          <p:spPr>
            <a:xfrm>
              <a:off x="8505720" y="4452840"/>
              <a:ext cx="36504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2" name=""/>
            <p:cNvSpPr/>
            <p:nvPr/>
          </p:nvSpPr>
          <p:spPr>
            <a:xfrm>
              <a:off x="8402400" y="4719240"/>
              <a:ext cx="559080" cy="1069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3" name=""/>
            <p:cNvSpPr/>
            <p:nvPr/>
          </p:nvSpPr>
          <p:spPr>
            <a:xfrm>
              <a:off x="8425800" y="4631040"/>
              <a:ext cx="91440" cy="91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4" name=""/>
            <p:cNvSpPr/>
            <p:nvPr/>
          </p:nvSpPr>
          <p:spPr>
            <a:xfrm>
              <a:off x="8643600" y="4631040"/>
              <a:ext cx="91440" cy="91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5" name=""/>
            <p:cNvSpPr/>
            <p:nvPr/>
          </p:nvSpPr>
          <p:spPr>
            <a:xfrm>
              <a:off x="8857800" y="4635360"/>
              <a:ext cx="91440" cy="91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6" name=""/>
          <p:cNvGrpSpPr/>
          <p:nvPr/>
        </p:nvGrpSpPr>
        <p:grpSpPr>
          <a:xfrm>
            <a:off x="5145120" y="4699080"/>
            <a:ext cx="3538440" cy="857160"/>
            <a:chOff x="5145120" y="4699080"/>
            <a:chExt cx="3538440" cy="857160"/>
          </a:xfrm>
        </p:grpSpPr>
        <p:sp>
          <p:nvSpPr>
            <p:cNvPr id="4237" name=""/>
            <p:cNvSpPr/>
            <p:nvPr/>
          </p:nvSpPr>
          <p:spPr>
            <a:xfrm>
              <a:off x="5145120" y="4699080"/>
              <a:ext cx="0" cy="738360"/>
            </a:xfrm>
            <a:prstGeom prst="line">
              <a:avLst/>
            </a:prstGeom>
            <a:ln w="7632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8" name=""/>
            <p:cNvSpPr/>
            <p:nvPr/>
          </p:nvSpPr>
          <p:spPr>
            <a:xfrm>
              <a:off x="8683560" y="4817880"/>
              <a:ext cx="0" cy="738360"/>
            </a:xfrm>
            <a:prstGeom prst="line">
              <a:avLst/>
            </a:prstGeom>
            <a:ln w="7632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9" name=""/>
          <p:cNvGrpSpPr/>
          <p:nvPr/>
        </p:nvGrpSpPr>
        <p:grpSpPr>
          <a:xfrm>
            <a:off x="5135400" y="3911760"/>
            <a:ext cx="3555720" cy="539640"/>
            <a:chOff x="5135400" y="3911760"/>
            <a:chExt cx="3555720" cy="539640"/>
          </a:xfrm>
        </p:grpSpPr>
        <p:sp>
          <p:nvSpPr>
            <p:cNvPr id="4240" name=""/>
            <p:cNvSpPr/>
            <p:nvPr/>
          </p:nvSpPr>
          <p:spPr>
            <a:xfrm>
              <a:off x="6321600" y="3911760"/>
              <a:ext cx="592200" cy="5396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1" name=""/>
            <p:cNvSpPr/>
            <p:nvPr/>
          </p:nvSpPr>
          <p:spPr>
            <a:xfrm>
              <a:off x="5726520" y="3911760"/>
              <a:ext cx="592200" cy="5396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2" name=""/>
            <p:cNvSpPr/>
            <p:nvPr/>
          </p:nvSpPr>
          <p:spPr>
            <a:xfrm>
              <a:off x="5135400" y="3911760"/>
              <a:ext cx="592200" cy="5396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3" name=""/>
            <p:cNvSpPr/>
            <p:nvPr/>
          </p:nvSpPr>
          <p:spPr>
            <a:xfrm>
              <a:off x="8098920" y="3911760"/>
              <a:ext cx="592200" cy="5396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4" name=""/>
            <p:cNvSpPr/>
            <p:nvPr/>
          </p:nvSpPr>
          <p:spPr>
            <a:xfrm>
              <a:off x="7504200" y="3911760"/>
              <a:ext cx="592200" cy="5396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5" name=""/>
            <p:cNvSpPr/>
            <p:nvPr/>
          </p:nvSpPr>
          <p:spPr>
            <a:xfrm>
              <a:off x="6912720" y="3911760"/>
              <a:ext cx="592200" cy="5396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6" name=""/>
          <p:cNvGrpSpPr/>
          <p:nvPr/>
        </p:nvGrpSpPr>
        <p:grpSpPr>
          <a:xfrm>
            <a:off x="5140080" y="3908520"/>
            <a:ext cx="3549960" cy="539640"/>
            <a:chOff x="5140080" y="3908520"/>
            <a:chExt cx="3549960" cy="539640"/>
          </a:xfrm>
        </p:grpSpPr>
        <p:sp>
          <p:nvSpPr>
            <p:cNvPr id="4247" name=""/>
            <p:cNvSpPr/>
            <p:nvPr/>
          </p:nvSpPr>
          <p:spPr>
            <a:xfrm flipH="1">
              <a:off x="6325920" y="3913200"/>
              <a:ext cx="580680" cy="524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8" name=""/>
            <p:cNvSpPr/>
            <p:nvPr/>
          </p:nvSpPr>
          <p:spPr>
            <a:xfrm flipH="1">
              <a:off x="5731200" y="3913200"/>
              <a:ext cx="580680" cy="524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9" name=""/>
            <p:cNvSpPr/>
            <p:nvPr/>
          </p:nvSpPr>
          <p:spPr>
            <a:xfrm flipH="1">
              <a:off x="5140080" y="3913200"/>
              <a:ext cx="580680" cy="524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0" name=""/>
            <p:cNvSpPr/>
            <p:nvPr/>
          </p:nvSpPr>
          <p:spPr>
            <a:xfrm>
              <a:off x="8101440" y="3908520"/>
              <a:ext cx="588600" cy="539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1" name=""/>
            <p:cNvSpPr/>
            <p:nvPr/>
          </p:nvSpPr>
          <p:spPr>
            <a:xfrm>
              <a:off x="7506720" y="3908520"/>
              <a:ext cx="588600" cy="539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2" name=""/>
            <p:cNvSpPr/>
            <p:nvPr/>
          </p:nvSpPr>
          <p:spPr>
            <a:xfrm>
              <a:off x="6915240" y="3908520"/>
              <a:ext cx="588600" cy="539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3" name=""/>
          <p:cNvGrpSpPr/>
          <p:nvPr/>
        </p:nvGrpSpPr>
        <p:grpSpPr>
          <a:xfrm>
            <a:off x="5086440" y="3854520"/>
            <a:ext cx="3649680" cy="654120"/>
            <a:chOff x="5086440" y="3854520"/>
            <a:chExt cx="3649680" cy="654120"/>
          </a:xfrm>
        </p:grpSpPr>
        <p:sp>
          <p:nvSpPr>
            <p:cNvPr id="4254" name=""/>
            <p:cNvSpPr/>
            <p:nvPr/>
          </p:nvSpPr>
          <p:spPr>
            <a:xfrm>
              <a:off x="5086440" y="3866400"/>
              <a:ext cx="95040" cy="9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5" name=""/>
            <p:cNvSpPr/>
            <p:nvPr/>
          </p:nvSpPr>
          <p:spPr>
            <a:xfrm>
              <a:off x="5673960" y="3862080"/>
              <a:ext cx="95040" cy="9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6" name=""/>
            <p:cNvSpPr/>
            <p:nvPr/>
          </p:nvSpPr>
          <p:spPr>
            <a:xfrm>
              <a:off x="6264720" y="3854520"/>
              <a:ext cx="95040" cy="9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7" name=""/>
            <p:cNvSpPr/>
            <p:nvPr/>
          </p:nvSpPr>
          <p:spPr>
            <a:xfrm>
              <a:off x="6864120" y="3866400"/>
              <a:ext cx="95040" cy="9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8" name=""/>
            <p:cNvSpPr/>
            <p:nvPr/>
          </p:nvSpPr>
          <p:spPr>
            <a:xfrm>
              <a:off x="7446960" y="3870720"/>
              <a:ext cx="95040" cy="9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9" name=""/>
            <p:cNvSpPr/>
            <p:nvPr/>
          </p:nvSpPr>
          <p:spPr>
            <a:xfrm>
              <a:off x="8046000" y="3858480"/>
              <a:ext cx="95040" cy="9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0" name=""/>
            <p:cNvSpPr/>
            <p:nvPr/>
          </p:nvSpPr>
          <p:spPr>
            <a:xfrm>
              <a:off x="8633160" y="3862800"/>
              <a:ext cx="95040" cy="9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1" name=""/>
            <p:cNvSpPr/>
            <p:nvPr/>
          </p:nvSpPr>
          <p:spPr>
            <a:xfrm>
              <a:off x="5094360" y="4409280"/>
              <a:ext cx="95040" cy="9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2" name=""/>
            <p:cNvSpPr/>
            <p:nvPr/>
          </p:nvSpPr>
          <p:spPr>
            <a:xfrm>
              <a:off x="5681880" y="4404960"/>
              <a:ext cx="95040" cy="9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3" name=""/>
            <p:cNvSpPr/>
            <p:nvPr/>
          </p:nvSpPr>
          <p:spPr>
            <a:xfrm>
              <a:off x="6272640" y="4397040"/>
              <a:ext cx="95040" cy="9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4" name=""/>
            <p:cNvSpPr/>
            <p:nvPr/>
          </p:nvSpPr>
          <p:spPr>
            <a:xfrm>
              <a:off x="6872040" y="4409280"/>
              <a:ext cx="95040" cy="9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5" name=""/>
            <p:cNvSpPr/>
            <p:nvPr/>
          </p:nvSpPr>
          <p:spPr>
            <a:xfrm>
              <a:off x="7454880" y="4413600"/>
              <a:ext cx="95040" cy="9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6" name=""/>
            <p:cNvSpPr/>
            <p:nvPr/>
          </p:nvSpPr>
          <p:spPr>
            <a:xfrm>
              <a:off x="8053920" y="4401360"/>
              <a:ext cx="95040" cy="9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7" name=""/>
            <p:cNvSpPr/>
            <p:nvPr/>
          </p:nvSpPr>
          <p:spPr>
            <a:xfrm>
              <a:off x="8641080" y="4405680"/>
              <a:ext cx="95040" cy="9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8" name=""/>
          <p:cNvSpPr/>
          <p:nvPr/>
        </p:nvSpPr>
        <p:spPr>
          <a:xfrm>
            <a:off x="2491920" y="2389680"/>
            <a:ext cx="5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9" name=""/>
          <p:cNvSpPr/>
          <p:nvPr/>
        </p:nvSpPr>
        <p:spPr>
          <a:xfrm>
            <a:off x="7035120" y="2576880"/>
            <a:ext cx="5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0" name=""/>
          <p:cNvGrpSpPr/>
          <p:nvPr/>
        </p:nvGrpSpPr>
        <p:grpSpPr>
          <a:xfrm>
            <a:off x="5138640" y="3908520"/>
            <a:ext cx="3546000" cy="539640"/>
            <a:chOff x="5138640" y="3908520"/>
            <a:chExt cx="3546000" cy="539640"/>
          </a:xfrm>
        </p:grpSpPr>
        <p:sp>
          <p:nvSpPr>
            <p:cNvPr id="4271" name=""/>
            <p:cNvSpPr/>
            <p:nvPr/>
          </p:nvSpPr>
          <p:spPr>
            <a:xfrm>
              <a:off x="6324120" y="3908520"/>
              <a:ext cx="588960" cy="53964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2" name=""/>
            <p:cNvSpPr/>
            <p:nvPr/>
          </p:nvSpPr>
          <p:spPr>
            <a:xfrm>
              <a:off x="5729760" y="3908520"/>
              <a:ext cx="588240" cy="53964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3" name=""/>
            <p:cNvSpPr/>
            <p:nvPr/>
          </p:nvSpPr>
          <p:spPr>
            <a:xfrm>
              <a:off x="5138640" y="3908520"/>
              <a:ext cx="588240" cy="53964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4" name=""/>
            <p:cNvSpPr/>
            <p:nvPr/>
          </p:nvSpPr>
          <p:spPr>
            <a:xfrm flipH="1">
              <a:off x="8103960" y="3912840"/>
              <a:ext cx="580680" cy="52452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5" name=""/>
            <p:cNvSpPr/>
            <p:nvPr/>
          </p:nvSpPr>
          <p:spPr>
            <a:xfrm flipH="1">
              <a:off x="7509240" y="3912840"/>
              <a:ext cx="580680" cy="52452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6" name=""/>
            <p:cNvSpPr/>
            <p:nvPr/>
          </p:nvSpPr>
          <p:spPr>
            <a:xfrm flipH="1">
              <a:off x="6917760" y="3912840"/>
              <a:ext cx="580680" cy="52452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77" name="">
            <a:hlinkClick r:id="" action="ppaction://hlinkshowjump?jump=previousslide"/>
          </p:cNvPr>
          <p:cNvSpPr/>
          <p:nvPr/>
        </p:nvSpPr>
        <p:spPr>
          <a:xfrm>
            <a:off x="243000" y="62722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8" name=""/>
          <p:cNvSpPr/>
          <p:nvPr/>
        </p:nvSpPr>
        <p:spPr>
          <a:xfrm>
            <a:off x="128520" y="6610320"/>
            <a:ext cx="58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Arriè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9" name=""/>
          <p:cNvSpPr/>
          <p:nvPr/>
        </p:nvSpPr>
        <p:spPr>
          <a:xfrm>
            <a:off x="7227720" y="319572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0" name="">
            <a:hlinkClick r:id="rId1" action="ppaction://hlinksldjump"/>
          </p:cNvPr>
          <p:cNvSpPr/>
          <p:nvPr/>
        </p:nvSpPr>
        <p:spPr>
          <a:xfrm>
            <a:off x="7256520" y="3260880"/>
            <a:ext cx="69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1" name="">
            <a:hlinkClick r:id="rId2" action="ppaction://hlinksldjump"/>
          </p:cNvPr>
          <p:cNvSpPr/>
          <p:nvPr/>
        </p:nvSpPr>
        <p:spPr>
          <a:xfrm>
            <a:off x="8177040" y="319572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2" name="">
            <a:hlinkClick r:id="" action="ppaction://hlinkshowjump?jump=nextslide"/>
          </p:cNvPr>
          <p:cNvSpPr/>
          <p:nvPr/>
        </p:nvSpPr>
        <p:spPr>
          <a:xfrm>
            <a:off x="8205840" y="3260880"/>
            <a:ext cx="69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3" name=""/>
          <p:cNvSpPr/>
          <p:nvPr/>
        </p:nvSpPr>
        <p:spPr>
          <a:xfrm>
            <a:off x="179280" y="352440"/>
            <a:ext cx="87537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ncernant l’action du vent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4" name=""/>
          <p:cNvSpPr/>
          <p:nvPr/>
        </p:nvSpPr>
        <p:spPr>
          <a:xfrm>
            <a:off x="7142040" y="3648240"/>
            <a:ext cx="185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5" name="">
            <a:hlinkClick r:id="" action="ppaction://hlinkshowjump?jump=previousslide"/>
          </p:cNvPr>
          <p:cNvSpPr/>
          <p:nvPr/>
        </p:nvSpPr>
        <p:spPr>
          <a:xfrm>
            <a:off x="243000" y="62722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6" name=""/>
          <p:cNvSpPr/>
          <p:nvPr/>
        </p:nvSpPr>
        <p:spPr>
          <a:xfrm>
            <a:off x="128520" y="6610320"/>
            <a:ext cx="58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Arriè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7" name=""/>
          <p:cNvGrpSpPr/>
          <p:nvPr/>
        </p:nvGrpSpPr>
        <p:grpSpPr>
          <a:xfrm>
            <a:off x="5894280" y="1071720"/>
            <a:ext cx="2893680" cy="1879560"/>
            <a:chOff x="5894280" y="1071720"/>
            <a:chExt cx="2893680" cy="1879560"/>
          </a:xfrm>
        </p:grpSpPr>
        <p:grpSp>
          <p:nvGrpSpPr>
            <p:cNvPr id="4288" name=""/>
            <p:cNvGrpSpPr/>
            <p:nvPr/>
          </p:nvGrpSpPr>
          <p:grpSpPr>
            <a:xfrm>
              <a:off x="5894280" y="1844640"/>
              <a:ext cx="2893680" cy="1106640"/>
              <a:chOff x="5894280" y="1844640"/>
              <a:chExt cx="2893680" cy="1106640"/>
            </a:xfrm>
          </p:grpSpPr>
          <p:grpSp>
            <p:nvGrpSpPr>
              <p:cNvPr id="4289" name=""/>
              <p:cNvGrpSpPr/>
              <p:nvPr/>
            </p:nvGrpSpPr>
            <p:grpSpPr>
              <a:xfrm>
                <a:off x="6068160" y="2036520"/>
                <a:ext cx="759600" cy="749520"/>
                <a:chOff x="6068160" y="2036520"/>
                <a:chExt cx="759600" cy="749520"/>
              </a:xfrm>
            </p:grpSpPr>
            <p:sp>
              <p:nvSpPr>
                <p:cNvPr id="4290" name=""/>
                <p:cNvSpPr/>
                <p:nvPr/>
              </p:nvSpPr>
              <p:spPr>
                <a:xfrm>
                  <a:off x="6744600" y="2036520"/>
                  <a:ext cx="83160" cy="83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1" name=""/>
                <p:cNvSpPr/>
                <p:nvPr/>
              </p:nvSpPr>
              <p:spPr>
                <a:xfrm>
                  <a:off x="6571800" y="2193840"/>
                  <a:ext cx="83160" cy="83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2" name=""/>
                <p:cNvSpPr/>
                <p:nvPr/>
              </p:nvSpPr>
              <p:spPr>
                <a:xfrm>
                  <a:off x="6406560" y="2356920"/>
                  <a:ext cx="83160" cy="83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3" name=""/>
                <p:cNvSpPr/>
                <p:nvPr/>
              </p:nvSpPr>
              <p:spPr>
                <a:xfrm>
                  <a:off x="6235920" y="2526480"/>
                  <a:ext cx="83520" cy="83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4" name=""/>
                <p:cNvSpPr/>
                <p:nvPr/>
              </p:nvSpPr>
              <p:spPr>
                <a:xfrm>
                  <a:off x="6068160" y="2702880"/>
                  <a:ext cx="83160" cy="83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5" name=""/>
              <p:cNvGrpSpPr/>
              <p:nvPr/>
            </p:nvGrpSpPr>
            <p:grpSpPr>
              <a:xfrm>
                <a:off x="7870320" y="2023200"/>
                <a:ext cx="747720" cy="757800"/>
                <a:chOff x="7870320" y="2023200"/>
                <a:chExt cx="747720" cy="757800"/>
              </a:xfrm>
            </p:grpSpPr>
            <p:sp>
              <p:nvSpPr>
                <p:cNvPr id="4296" name=""/>
                <p:cNvSpPr/>
                <p:nvPr/>
              </p:nvSpPr>
              <p:spPr>
                <a:xfrm>
                  <a:off x="8534880" y="2023200"/>
                  <a:ext cx="83160" cy="83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7" name=""/>
                <p:cNvSpPr/>
                <p:nvPr/>
              </p:nvSpPr>
              <p:spPr>
                <a:xfrm>
                  <a:off x="8367840" y="2188800"/>
                  <a:ext cx="83520" cy="83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8" name=""/>
                <p:cNvSpPr/>
                <p:nvPr/>
              </p:nvSpPr>
              <p:spPr>
                <a:xfrm>
                  <a:off x="8202600" y="2351520"/>
                  <a:ext cx="83160" cy="83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9" name=""/>
                <p:cNvSpPr/>
                <p:nvPr/>
              </p:nvSpPr>
              <p:spPr>
                <a:xfrm>
                  <a:off x="8028000" y="2521080"/>
                  <a:ext cx="85320" cy="83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0" name=""/>
                <p:cNvSpPr/>
                <p:nvPr/>
              </p:nvSpPr>
              <p:spPr>
                <a:xfrm>
                  <a:off x="7870320" y="2697840"/>
                  <a:ext cx="83160" cy="83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01" name=""/>
              <p:cNvGrpSpPr/>
              <p:nvPr/>
            </p:nvGrpSpPr>
            <p:grpSpPr>
              <a:xfrm>
                <a:off x="6904800" y="1844640"/>
                <a:ext cx="1883160" cy="85320"/>
                <a:chOff x="6904800" y="1844640"/>
                <a:chExt cx="1883160" cy="85320"/>
              </a:xfrm>
            </p:grpSpPr>
            <p:sp>
              <p:nvSpPr>
                <p:cNvPr id="4302" name=""/>
                <p:cNvSpPr/>
                <p:nvPr/>
              </p:nvSpPr>
              <p:spPr>
                <a:xfrm>
                  <a:off x="8704800" y="1846800"/>
                  <a:ext cx="83160" cy="83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3" name=""/>
                <p:cNvSpPr/>
                <p:nvPr/>
              </p:nvSpPr>
              <p:spPr>
                <a:xfrm>
                  <a:off x="6904800" y="1844640"/>
                  <a:ext cx="83520" cy="83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4" name=""/>
                <p:cNvSpPr/>
                <p:nvPr/>
              </p:nvSpPr>
              <p:spPr>
                <a:xfrm>
                  <a:off x="8116560" y="1844640"/>
                  <a:ext cx="83520" cy="83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5" name=""/>
                <p:cNvSpPr/>
                <p:nvPr/>
              </p:nvSpPr>
              <p:spPr>
                <a:xfrm>
                  <a:off x="7209000" y="1844640"/>
                  <a:ext cx="83160" cy="83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6" name=""/>
                <p:cNvSpPr/>
                <p:nvPr/>
              </p:nvSpPr>
              <p:spPr>
                <a:xfrm>
                  <a:off x="7491240" y="1844640"/>
                  <a:ext cx="83160" cy="83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7" name=""/>
                <p:cNvSpPr/>
                <p:nvPr/>
              </p:nvSpPr>
              <p:spPr>
                <a:xfrm>
                  <a:off x="7791480" y="1844640"/>
                  <a:ext cx="83160" cy="83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8" name=""/>
                <p:cNvSpPr/>
                <p:nvPr/>
              </p:nvSpPr>
              <p:spPr>
                <a:xfrm>
                  <a:off x="8417880" y="1844640"/>
                  <a:ext cx="83160" cy="83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09" name=""/>
              <p:cNvGrpSpPr/>
              <p:nvPr/>
            </p:nvGrpSpPr>
            <p:grpSpPr>
              <a:xfrm>
                <a:off x="5894280" y="2867760"/>
                <a:ext cx="1879200" cy="83520"/>
                <a:chOff x="5894280" y="2867760"/>
                <a:chExt cx="1879200" cy="83520"/>
              </a:xfrm>
            </p:grpSpPr>
            <p:sp>
              <p:nvSpPr>
                <p:cNvPr id="4310" name=""/>
                <p:cNvSpPr/>
                <p:nvPr/>
              </p:nvSpPr>
              <p:spPr>
                <a:xfrm>
                  <a:off x="7689960" y="2867760"/>
                  <a:ext cx="83520" cy="83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1" name=""/>
                <p:cNvSpPr/>
                <p:nvPr/>
              </p:nvSpPr>
              <p:spPr>
                <a:xfrm>
                  <a:off x="5894280" y="2867760"/>
                  <a:ext cx="83160" cy="83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2" name=""/>
                <p:cNvSpPr/>
                <p:nvPr/>
              </p:nvSpPr>
              <p:spPr>
                <a:xfrm>
                  <a:off x="6196320" y="2867760"/>
                  <a:ext cx="83160" cy="83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3" name=""/>
                <p:cNvSpPr/>
                <p:nvPr/>
              </p:nvSpPr>
              <p:spPr>
                <a:xfrm>
                  <a:off x="6484320" y="2867760"/>
                  <a:ext cx="83160" cy="83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4" name=""/>
                <p:cNvSpPr/>
                <p:nvPr/>
              </p:nvSpPr>
              <p:spPr>
                <a:xfrm>
                  <a:off x="7108920" y="2867760"/>
                  <a:ext cx="83160" cy="83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5" name=""/>
                <p:cNvSpPr/>
                <p:nvPr/>
              </p:nvSpPr>
              <p:spPr>
                <a:xfrm>
                  <a:off x="7396920" y="2867760"/>
                  <a:ext cx="83160" cy="83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16" name=""/>
            <p:cNvSpPr/>
            <p:nvPr/>
          </p:nvSpPr>
          <p:spPr>
            <a:xfrm rot="18860400">
              <a:off x="6585840" y="2543760"/>
              <a:ext cx="507960" cy="252360"/>
            </a:xfrm>
            <a:custGeom>
              <a:avLst/>
              <a:gdLst>
                <a:gd name="textAreaLeft" fmla="*/ 63360 w 507960"/>
                <a:gd name="textAreaRight" fmla="*/ 444600 w 507960"/>
                <a:gd name="textAreaTop" fmla="*/ 63000 h 252360"/>
                <a:gd name="textAreaBottom" fmla="*/ 189360 h 25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17" name=""/>
            <p:cNvGrpSpPr/>
            <p:nvPr/>
          </p:nvGrpSpPr>
          <p:grpSpPr>
            <a:xfrm>
              <a:off x="5943600" y="1219320"/>
              <a:ext cx="2819520" cy="1632960"/>
              <a:chOff x="5943600" y="1219320"/>
              <a:chExt cx="2819520" cy="1632960"/>
            </a:xfrm>
          </p:grpSpPr>
          <p:grpSp>
            <p:nvGrpSpPr>
              <p:cNvPr id="4318" name=""/>
              <p:cNvGrpSpPr/>
              <p:nvPr/>
            </p:nvGrpSpPr>
            <p:grpSpPr>
              <a:xfrm>
                <a:off x="6949800" y="1219320"/>
                <a:ext cx="1813320" cy="611280"/>
                <a:chOff x="6949800" y="1219320"/>
                <a:chExt cx="1813320" cy="611280"/>
              </a:xfrm>
            </p:grpSpPr>
            <p:sp>
              <p:nvSpPr>
                <p:cNvPr id="4319" name=""/>
                <p:cNvSpPr/>
                <p:nvPr/>
              </p:nvSpPr>
              <p:spPr>
                <a:xfrm>
                  <a:off x="6968160" y="1219320"/>
                  <a:ext cx="17949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0" name=""/>
                <p:cNvSpPr/>
                <p:nvPr/>
              </p:nvSpPr>
              <p:spPr>
                <a:xfrm>
                  <a:off x="6963120" y="1397880"/>
                  <a:ext cx="17949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1" name=""/>
                <p:cNvSpPr/>
                <p:nvPr/>
              </p:nvSpPr>
              <p:spPr>
                <a:xfrm>
                  <a:off x="6956640" y="1691640"/>
                  <a:ext cx="18036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2" name=""/>
                <p:cNvSpPr/>
                <p:nvPr/>
              </p:nvSpPr>
              <p:spPr>
                <a:xfrm>
                  <a:off x="6963840" y="1544760"/>
                  <a:ext cx="17964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3" name=""/>
                <p:cNvSpPr/>
                <p:nvPr/>
              </p:nvSpPr>
              <p:spPr>
                <a:xfrm>
                  <a:off x="6949800" y="1830600"/>
                  <a:ext cx="17949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4" name=""/>
              <p:cNvGrpSpPr/>
              <p:nvPr/>
            </p:nvGrpSpPr>
            <p:grpSpPr>
              <a:xfrm>
                <a:off x="5943600" y="2231280"/>
                <a:ext cx="1803960" cy="621000"/>
                <a:chOff x="5943600" y="2231280"/>
                <a:chExt cx="1803960" cy="621000"/>
              </a:xfrm>
            </p:grpSpPr>
            <p:sp>
              <p:nvSpPr>
                <p:cNvPr id="4325" name=""/>
                <p:cNvSpPr/>
                <p:nvPr/>
              </p:nvSpPr>
              <p:spPr>
                <a:xfrm>
                  <a:off x="7158960" y="2852280"/>
                  <a:ext cx="5842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6" name=""/>
                <p:cNvSpPr/>
                <p:nvPr/>
              </p:nvSpPr>
              <p:spPr>
                <a:xfrm>
                  <a:off x="5952960" y="2231280"/>
                  <a:ext cx="17946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7" name=""/>
                <p:cNvSpPr/>
                <p:nvPr/>
              </p:nvSpPr>
              <p:spPr>
                <a:xfrm>
                  <a:off x="5948280" y="2409840"/>
                  <a:ext cx="17946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8" name=""/>
                <p:cNvSpPr/>
                <p:nvPr/>
              </p:nvSpPr>
              <p:spPr>
                <a:xfrm>
                  <a:off x="7155720" y="2703600"/>
                  <a:ext cx="5889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9" name=""/>
                <p:cNvSpPr/>
                <p:nvPr/>
              </p:nvSpPr>
              <p:spPr>
                <a:xfrm>
                  <a:off x="5943600" y="2556720"/>
                  <a:ext cx="5911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0" name=""/>
                <p:cNvSpPr/>
                <p:nvPr/>
              </p:nvSpPr>
              <p:spPr>
                <a:xfrm>
                  <a:off x="7155720" y="2556720"/>
                  <a:ext cx="5889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1" name=""/>
                <p:cNvSpPr/>
                <p:nvPr/>
              </p:nvSpPr>
              <p:spPr>
                <a:xfrm>
                  <a:off x="5948280" y="2703600"/>
                  <a:ext cx="5911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2" name=""/>
                <p:cNvSpPr/>
                <p:nvPr/>
              </p:nvSpPr>
              <p:spPr>
                <a:xfrm>
                  <a:off x="5948280" y="2848680"/>
                  <a:ext cx="5842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333" name=""/>
            <p:cNvGrpSpPr/>
            <p:nvPr/>
          </p:nvGrpSpPr>
          <p:grpSpPr>
            <a:xfrm>
              <a:off x="5942160" y="1071720"/>
              <a:ext cx="2814480" cy="1777320"/>
              <a:chOff x="5942160" y="1071720"/>
              <a:chExt cx="2814480" cy="1777320"/>
            </a:xfrm>
          </p:grpSpPr>
          <p:sp>
            <p:nvSpPr>
              <p:cNvPr id="4334" name=""/>
              <p:cNvSpPr/>
              <p:nvPr/>
            </p:nvSpPr>
            <p:spPr>
              <a:xfrm>
                <a:off x="6846480" y="2098440"/>
                <a:ext cx="0" cy="309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35" name=""/>
              <p:cNvGrpSpPr/>
              <p:nvPr/>
            </p:nvGrpSpPr>
            <p:grpSpPr>
              <a:xfrm>
                <a:off x="5942160" y="1071720"/>
                <a:ext cx="2814480" cy="1777320"/>
                <a:chOff x="5942160" y="1071720"/>
                <a:chExt cx="2814480" cy="1777320"/>
              </a:xfrm>
            </p:grpSpPr>
            <p:grpSp>
              <p:nvGrpSpPr>
                <p:cNvPr id="4336" name=""/>
                <p:cNvGrpSpPr/>
                <p:nvPr/>
              </p:nvGrpSpPr>
              <p:grpSpPr>
                <a:xfrm>
                  <a:off x="6960960" y="1071720"/>
                  <a:ext cx="1795680" cy="757080"/>
                  <a:chOff x="6960960" y="1071720"/>
                  <a:chExt cx="1795680" cy="757080"/>
                </a:xfrm>
              </p:grpSpPr>
              <p:sp>
                <p:nvSpPr>
                  <p:cNvPr id="4337" name=""/>
                  <p:cNvSpPr/>
                  <p:nvPr/>
                </p:nvSpPr>
                <p:spPr>
                  <a:xfrm>
                    <a:off x="8469360" y="1165320"/>
                    <a:ext cx="0" cy="6634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8" name=""/>
                  <p:cNvSpPr/>
                  <p:nvPr/>
                </p:nvSpPr>
                <p:spPr>
                  <a:xfrm>
                    <a:off x="8756640" y="1215360"/>
                    <a:ext cx="0" cy="613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9" name=""/>
                  <p:cNvSpPr/>
                  <p:nvPr/>
                </p:nvSpPr>
                <p:spPr>
                  <a:xfrm>
                    <a:off x="8169480" y="1126080"/>
                    <a:ext cx="0" cy="702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0" name=""/>
                  <p:cNvSpPr/>
                  <p:nvPr/>
                </p:nvSpPr>
                <p:spPr>
                  <a:xfrm>
                    <a:off x="7859520" y="1071720"/>
                    <a:ext cx="0" cy="757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1" name=""/>
                  <p:cNvSpPr/>
                  <p:nvPr/>
                </p:nvSpPr>
                <p:spPr>
                  <a:xfrm>
                    <a:off x="7547760" y="1119240"/>
                    <a:ext cx="0" cy="709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2" name=""/>
                  <p:cNvSpPr/>
                  <p:nvPr/>
                </p:nvSpPr>
                <p:spPr>
                  <a:xfrm>
                    <a:off x="6960960" y="1212480"/>
                    <a:ext cx="0" cy="6163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3" name=""/>
                  <p:cNvSpPr/>
                  <p:nvPr/>
                </p:nvSpPr>
                <p:spPr>
                  <a:xfrm>
                    <a:off x="7261200" y="1170360"/>
                    <a:ext cx="0" cy="658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44" name=""/>
                <p:cNvGrpSpPr/>
                <p:nvPr/>
              </p:nvGrpSpPr>
              <p:grpSpPr>
                <a:xfrm>
                  <a:off x="5942160" y="2136960"/>
                  <a:ext cx="1801800" cy="712080"/>
                  <a:chOff x="5942160" y="2136960"/>
                  <a:chExt cx="1801800" cy="712080"/>
                </a:xfrm>
              </p:grpSpPr>
              <p:sp>
                <p:nvSpPr>
                  <p:cNvPr id="4345" name=""/>
                  <p:cNvSpPr/>
                  <p:nvPr/>
                </p:nvSpPr>
                <p:spPr>
                  <a:xfrm>
                    <a:off x="7456680" y="2183040"/>
                    <a:ext cx="0" cy="666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6" name=""/>
                  <p:cNvSpPr/>
                  <p:nvPr/>
                </p:nvSpPr>
                <p:spPr>
                  <a:xfrm>
                    <a:off x="7743960" y="2229840"/>
                    <a:ext cx="0" cy="613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7" name=""/>
                  <p:cNvSpPr/>
                  <p:nvPr/>
                </p:nvSpPr>
                <p:spPr>
                  <a:xfrm>
                    <a:off x="7156800" y="2140560"/>
                    <a:ext cx="0" cy="7052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8" name=""/>
                  <p:cNvSpPr/>
                  <p:nvPr/>
                </p:nvSpPr>
                <p:spPr>
                  <a:xfrm>
                    <a:off x="6535080" y="2136960"/>
                    <a:ext cx="0" cy="709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9" name=""/>
                  <p:cNvSpPr/>
                  <p:nvPr/>
                </p:nvSpPr>
                <p:spPr>
                  <a:xfrm flipH="1">
                    <a:off x="5942160" y="2226960"/>
                    <a:ext cx="5760" cy="62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0" name=""/>
                  <p:cNvSpPr/>
                  <p:nvPr/>
                </p:nvSpPr>
                <p:spPr>
                  <a:xfrm>
                    <a:off x="6248520" y="2187720"/>
                    <a:ext cx="0" cy="658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351" name=""/>
            <p:cNvGrpSpPr/>
            <p:nvPr/>
          </p:nvGrpSpPr>
          <p:grpSpPr>
            <a:xfrm>
              <a:off x="5941800" y="1207800"/>
              <a:ext cx="2814840" cy="1646280"/>
              <a:chOff x="5941800" y="1207800"/>
              <a:chExt cx="2814840" cy="1646280"/>
            </a:xfrm>
          </p:grpSpPr>
          <p:grpSp>
            <p:nvGrpSpPr>
              <p:cNvPr id="4352" name=""/>
              <p:cNvGrpSpPr/>
              <p:nvPr/>
            </p:nvGrpSpPr>
            <p:grpSpPr>
              <a:xfrm>
                <a:off x="7737480" y="2053800"/>
                <a:ext cx="172800" cy="794160"/>
                <a:chOff x="7737480" y="2053800"/>
                <a:chExt cx="172800" cy="794160"/>
              </a:xfrm>
            </p:grpSpPr>
            <p:sp>
              <p:nvSpPr>
                <p:cNvPr id="4353" name=""/>
                <p:cNvSpPr/>
                <p:nvPr/>
              </p:nvSpPr>
              <p:spPr>
                <a:xfrm flipV="1">
                  <a:off x="7740720" y="2385360"/>
                  <a:ext cx="169200" cy="462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4" name=""/>
                <p:cNvSpPr/>
                <p:nvPr/>
              </p:nvSpPr>
              <p:spPr>
                <a:xfrm flipH="1" flipV="1">
                  <a:off x="7737480" y="2222640"/>
                  <a:ext cx="172440" cy="162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5" name=""/>
                <p:cNvSpPr/>
                <p:nvPr/>
              </p:nvSpPr>
              <p:spPr>
                <a:xfrm flipH="1" flipV="1">
                  <a:off x="7740720" y="2545920"/>
                  <a:ext cx="169200" cy="133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6" name=""/>
                <p:cNvSpPr/>
                <p:nvPr/>
              </p:nvSpPr>
              <p:spPr>
                <a:xfrm flipV="1">
                  <a:off x="7740720" y="2056680"/>
                  <a:ext cx="169200" cy="490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7" name=""/>
                <p:cNvSpPr/>
                <p:nvPr/>
              </p:nvSpPr>
              <p:spPr>
                <a:xfrm flipV="1">
                  <a:off x="7737840" y="2053800"/>
                  <a:ext cx="166320" cy="165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8" name=""/>
                <p:cNvSpPr/>
                <p:nvPr/>
              </p:nvSpPr>
              <p:spPr>
                <a:xfrm>
                  <a:off x="7741080" y="2223360"/>
                  <a:ext cx="0" cy="622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9" name=""/>
                <p:cNvSpPr/>
                <p:nvPr/>
              </p:nvSpPr>
              <p:spPr>
                <a:xfrm flipV="1">
                  <a:off x="7741080" y="2383200"/>
                  <a:ext cx="166320" cy="165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0" name=""/>
                <p:cNvSpPr/>
                <p:nvPr/>
              </p:nvSpPr>
              <p:spPr>
                <a:xfrm>
                  <a:off x="7910280" y="2059920"/>
                  <a:ext cx="0" cy="622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1" name=""/>
              <p:cNvGrpSpPr/>
              <p:nvPr/>
            </p:nvGrpSpPr>
            <p:grpSpPr>
              <a:xfrm>
                <a:off x="5941800" y="2059920"/>
                <a:ext cx="172800" cy="794160"/>
                <a:chOff x="5941800" y="2059920"/>
                <a:chExt cx="172800" cy="794160"/>
              </a:xfrm>
            </p:grpSpPr>
            <p:sp>
              <p:nvSpPr>
                <p:cNvPr id="4362" name=""/>
                <p:cNvSpPr/>
                <p:nvPr/>
              </p:nvSpPr>
              <p:spPr>
                <a:xfrm flipV="1">
                  <a:off x="5945040" y="2391480"/>
                  <a:ext cx="169200" cy="462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3" name=""/>
                <p:cNvSpPr/>
                <p:nvPr/>
              </p:nvSpPr>
              <p:spPr>
                <a:xfrm flipH="1" flipV="1">
                  <a:off x="5941800" y="2228760"/>
                  <a:ext cx="172440" cy="162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4" name=""/>
                <p:cNvSpPr/>
                <p:nvPr/>
              </p:nvSpPr>
              <p:spPr>
                <a:xfrm flipH="1" flipV="1">
                  <a:off x="5945040" y="2552040"/>
                  <a:ext cx="169200" cy="133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5" name=""/>
                <p:cNvSpPr/>
                <p:nvPr/>
              </p:nvSpPr>
              <p:spPr>
                <a:xfrm flipV="1">
                  <a:off x="5945040" y="2062800"/>
                  <a:ext cx="169200" cy="490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6" name=""/>
                <p:cNvSpPr/>
                <p:nvPr/>
              </p:nvSpPr>
              <p:spPr>
                <a:xfrm flipV="1">
                  <a:off x="5942160" y="2059920"/>
                  <a:ext cx="166320" cy="165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7" name=""/>
                <p:cNvSpPr/>
                <p:nvPr/>
              </p:nvSpPr>
              <p:spPr>
                <a:xfrm>
                  <a:off x="5945400" y="2229480"/>
                  <a:ext cx="0" cy="622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8" name=""/>
                <p:cNvSpPr/>
                <p:nvPr/>
              </p:nvSpPr>
              <p:spPr>
                <a:xfrm flipV="1">
                  <a:off x="5945400" y="2389320"/>
                  <a:ext cx="166320" cy="165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9" name=""/>
                <p:cNvSpPr/>
                <p:nvPr/>
              </p:nvSpPr>
              <p:spPr>
                <a:xfrm>
                  <a:off x="6114600" y="2066040"/>
                  <a:ext cx="0" cy="622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70" name=""/>
              <p:cNvGrpSpPr/>
              <p:nvPr/>
            </p:nvGrpSpPr>
            <p:grpSpPr>
              <a:xfrm>
                <a:off x="8583840" y="1207800"/>
                <a:ext cx="172800" cy="794160"/>
                <a:chOff x="8583840" y="1207800"/>
                <a:chExt cx="172800" cy="794160"/>
              </a:xfrm>
            </p:grpSpPr>
            <p:sp>
              <p:nvSpPr>
                <p:cNvPr id="4371" name=""/>
                <p:cNvSpPr/>
                <p:nvPr/>
              </p:nvSpPr>
              <p:spPr>
                <a:xfrm flipV="1">
                  <a:off x="8587080" y="1539360"/>
                  <a:ext cx="169200" cy="462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2" name=""/>
                <p:cNvSpPr/>
                <p:nvPr/>
              </p:nvSpPr>
              <p:spPr>
                <a:xfrm flipH="1" flipV="1">
                  <a:off x="8583840" y="1376640"/>
                  <a:ext cx="172440" cy="162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3" name=""/>
                <p:cNvSpPr/>
                <p:nvPr/>
              </p:nvSpPr>
              <p:spPr>
                <a:xfrm flipH="1" flipV="1">
                  <a:off x="8587080" y="1699920"/>
                  <a:ext cx="169200" cy="133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4" name=""/>
                <p:cNvSpPr/>
                <p:nvPr/>
              </p:nvSpPr>
              <p:spPr>
                <a:xfrm flipV="1">
                  <a:off x="8587080" y="1210680"/>
                  <a:ext cx="169200" cy="490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5" name=""/>
                <p:cNvSpPr/>
                <p:nvPr/>
              </p:nvSpPr>
              <p:spPr>
                <a:xfrm flipV="1">
                  <a:off x="8584200" y="1207800"/>
                  <a:ext cx="166320" cy="165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6" name=""/>
                <p:cNvSpPr/>
                <p:nvPr/>
              </p:nvSpPr>
              <p:spPr>
                <a:xfrm>
                  <a:off x="8587440" y="1377360"/>
                  <a:ext cx="0" cy="622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7" name=""/>
                <p:cNvSpPr/>
                <p:nvPr/>
              </p:nvSpPr>
              <p:spPr>
                <a:xfrm flipV="1">
                  <a:off x="8587440" y="1537200"/>
                  <a:ext cx="166320" cy="165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8" name=""/>
                <p:cNvSpPr/>
                <p:nvPr/>
              </p:nvSpPr>
              <p:spPr>
                <a:xfrm>
                  <a:off x="8756640" y="1213920"/>
                  <a:ext cx="0" cy="622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79" name=""/>
              <p:cNvGrpSpPr/>
              <p:nvPr/>
            </p:nvGrpSpPr>
            <p:grpSpPr>
              <a:xfrm>
                <a:off x="6788160" y="1216800"/>
                <a:ext cx="172800" cy="794160"/>
                <a:chOff x="6788160" y="1216800"/>
                <a:chExt cx="172800" cy="794160"/>
              </a:xfrm>
            </p:grpSpPr>
            <p:sp>
              <p:nvSpPr>
                <p:cNvPr id="4380" name=""/>
                <p:cNvSpPr/>
                <p:nvPr/>
              </p:nvSpPr>
              <p:spPr>
                <a:xfrm flipV="1">
                  <a:off x="6791400" y="1548360"/>
                  <a:ext cx="169200" cy="462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1" name=""/>
                <p:cNvSpPr/>
                <p:nvPr/>
              </p:nvSpPr>
              <p:spPr>
                <a:xfrm flipH="1" flipV="1">
                  <a:off x="6788160" y="1385640"/>
                  <a:ext cx="172440" cy="162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2" name=""/>
                <p:cNvSpPr/>
                <p:nvPr/>
              </p:nvSpPr>
              <p:spPr>
                <a:xfrm flipH="1" flipV="1">
                  <a:off x="6791400" y="1708920"/>
                  <a:ext cx="169200" cy="133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3" name=""/>
                <p:cNvSpPr/>
                <p:nvPr/>
              </p:nvSpPr>
              <p:spPr>
                <a:xfrm flipV="1">
                  <a:off x="6791400" y="1219680"/>
                  <a:ext cx="169200" cy="490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4" name=""/>
                <p:cNvSpPr/>
                <p:nvPr/>
              </p:nvSpPr>
              <p:spPr>
                <a:xfrm flipV="1">
                  <a:off x="6788520" y="1216800"/>
                  <a:ext cx="166320" cy="165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5" name=""/>
                <p:cNvSpPr/>
                <p:nvPr/>
              </p:nvSpPr>
              <p:spPr>
                <a:xfrm>
                  <a:off x="6791760" y="1386360"/>
                  <a:ext cx="0" cy="622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6" name=""/>
                <p:cNvSpPr/>
                <p:nvPr/>
              </p:nvSpPr>
              <p:spPr>
                <a:xfrm flipV="1">
                  <a:off x="6791760" y="1546200"/>
                  <a:ext cx="166320" cy="165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7" name=""/>
                <p:cNvSpPr/>
                <p:nvPr/>
              </p:nvSpPr>
              <p:spPr>
                <a:xfrm>
                  <a:off x="6960960" y="1222920"/>
                  <a:ext cx="0" cy="622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388" name=""/>
            <p:cNvGrpSpPr/>
            <p:nvPr/>
          </p:nvGrpSpPr>
          <p:grpSpPr>
            <a:xfrm>
              <a:off x="6114960" y="1244160"/>
              <a:ext cx="2471760" cy="1435320"/>
              <a:chOff x="6114960" y="1244160"/>
              <a:chExt cx="2471760" cy="1435320"/>
            </a:xfrm>
          </p:grpSpPr>
          <p:grpSp>
            <p:nvGrpSpPr>
              <p:cNvPr id="4389" name=""/>
              <p:cNvGrpSpPr/>
              <p:nvPr/>
            </p:nvGrpSpPr>
            <p:grpSpPr>
              <a:xfrm>
                <a:off x="6114960" y="1920600"/>
                <a:ext cx="1794960" cy="758880"/>
                <a:chOff x="6114960" y="1920600"/>
                <a:chExt cx="1794960" cy="758880"/>
              </a:xfrm>
            </p:grpSpPr>
            <p:sp>
              <p:nvSpPr>
                <p:cNvPr id="4390" name=""/>
                <p:cNvSpPr/>
                <p:nvPr/>
              </p:nvSpPr>
              <p:spPr>
                <a:xfrm flipV="1">
                  <a:off x="6114960" y="2058480"/>
                  <a:ext cx="0" cy="621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1" name=""/>
                <p:cNvSpPr/>
                <p:nvPr/>
              </p:nvSpPr>
              <p:spPr>
                <a:xfrm flipV="1">
                  <a:off x="6114960" y="1920600"/>
                  <a:ext cx="897480" cy="137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2" name=""/>
                <p:cNvSpPr/>
                <p:nvPr/>
              </p:nvSpPr>
              <p:spPr>
                <a:xfrm flipV="1">
                  <a:off x="7909920" y="2058480"/>
                  <a:ext cx="0" cy="621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3" name=""/>
                <p:cNvSpPr/>
                <p:nvPr/>
              </p:nvSpPr>
              <p:spPr>
                <a:xfrm flipH="1" flipV="1">
                  <a:off x="7012080" y="1920600"/>
                  <a:ext cx="897480" cy="137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94" name=""/>
              <p:cNvGrpSpPr/>
              <p:nvPr/>
            </p:nvGrpSpPr>
            <p:grpSpPr>
              <a:xfrm>
                <a:off x="6284160" y="1751400"/>
                <a:ext cx="1794960" cy="758880"/>
                <a:chOff x="6284160" y="1751400"/>
                <a:chExt cx="1794960" cy="758880"/>
              </a:xfrm>
            </p:grpSpPr>
            <p:sp>
              <p:nvSpPr>
                <p:cNvPr id="4395" name=""/>
                <p:cNvSpPr/>
                <p:nvPr/>
              </p:nvSpPr>
              <p:spPr>
                <a:xfrm flipV="1">
                  <a:off x="6284160" y="1889280"/>
                  <a:ext cx="0" cy="621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6" name=""/>
                <p:cNvSpPr/>
                <p:nvPr/>
              </p:nvSpPr>
              <p:spPr>
                <a:xfrm flipV="1">
                  <a:off x="6284160" y="1751400"/>
                  <a:ext cx="897480" cy="137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7" name=""/>
                <p:cNvSpPr/>
                <p:nvPr/>
              </p:nvSpPr>
              <p:spPr>
                <a:xfrm flipV="1">
                  <a:off x="8079120" y="1889280"/>
                  <a:ext cx="0" cy="621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8" name=""/>
                <p:cNvSpPr/>
                <p:nvPr/>
              </p:nvSpPr>
              <p:spPr>
                <a:xfrm flipH="1" flipV="1">
                  <a:off x="7181280" y="1751400"/>
                  <a:ext cx="897480" cy="137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99" name=""/>
              <p:cNvGrpSpPr/>
              <p:nvPr/>
            </p:nvGrpSpPr>
            <p:grpSpPr>
              <a:xfrm>
                <a:off x="6453360" y="1582200"/>
                <a:ext cx="1794960" cy="758880"/>
                <a:chOff x="6453360" y="1582200"/>
                <a:chExt cx="1794960" cy="758880"/>
              </a:xfrm>
            </p:grpSpPr>
            <p:sp>
              <p:nvSpPr>
                <p:cNvPr id="4400" name=""/>
                <p:cNvSpPr/>
                <p:nvPr/>
              </p:nvSpPr>
              <p:spPr>
                <a:xfrm flipV="1">
                  <a:off x="6453360" y="1720080"/>
                  <a:ext cx="0" cy="621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1" name=""/>
                <p:cNvSpPr/>
                <p:nvPr/>
              </p:nvSpPr>
              <p:spPr>
                <a:xfrm flipV="1">
                  <a:off x="6453360" y="1582200"/>
                  <a:ext cx="897480" cy="137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2" name=""/>
                <p:cNvSpPr/>
                <p:nvPr/>
              </p:nvSpPr>
              <p:spPr>
                <a:xfrm flipV="1">
                  <a:off x="8248320" y="1720080"/>
                  <a:ext cx="0" cy="621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3" name=""/>
                <p:cNvSpPr/>
                <p:nvPr/>
              </p:nvSpPr>
              <p:spPr>
                <a:xfrm flipH="1" flipV="1">
                  <a:off x="7350480" y="1582200"/>
                  <a:ext cx="897480" cy="137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04" name=""/>
              <p:cNvGrpSpPr/>
              <p:nvPr/>
            </p:nvGrpSpPr>
            <p:grpSpPr>
              <a:xfrm>
                <a:off x="6622560" y="1413000"/>
                <a:ext cx="1794960" cy="758880"/>
                <a:chOff x="6622560" y="1413000"/>
                <a:chExt cx="1794960" cy="758880"/>
              </a:xfrm>
            </p:grpSpPr>
            <p:sp>
              <p:nvSpPr>
                <p:cNvPr id="4405" name=""/>
                <p:cNvSpPr/>
                <p:nvPr/>
              </p:nvSpPr>
              <p:spPr>
                <a:xfrm flipV="1">
                  <a:off x="6622560" y="1550880"/>
                  <a:ext cx="0" cy="621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6" name=""/>
                <p:cNvSpPr/>
                <p:nvPr/>
              </p:nvSpPr>
              <p:spPr>
                <a:xfrm flipV="1">
                  <a:off x="6622560" y="1413000"/>
                  <a:ext cx="897480" cy="137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7" name=""/>
                <p:cNvSpPr/>
                <p:nvPr/>
              </p:nvSpPr>
              <p:spPr>
                <a:xfrm flipV="1">
                  <a:off x="8417520" y="1550880"/>
                  <a:ext cx="0" cy="621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8" name=""/>
                <p:cNvSpPr/>
                <p:nvPr/>
              </p:nvSpPr>
              <p:spPr>
                <a:xfrm flipH="1" flipV="1">
                  <a:off x="7519680" y="1413000"/>
                  <a:ext cx="897480" cy="137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09" name=""/>
              <p:cNvGrpSpPr/>
              <p:nvPr/>
            </p:nvGrpSpPr>
            <p:grpSpPr>
              <a:xfrm>
                <a:off x="6791760" y="1244160"/>
                <a:ext cx="1794960" cy="758880"/>
                <a:chOff x="6791760" y="1244160"/>
                <a:chExt cx="1794960" cy="758880"/>
              </a:xfrm>
            </p:grpSpPr>
            <p:sp>
              <p:nvSpPr>
                <p:cNvPr id="4410" name=""/>
                <p:cNvSpPr/>
                <p:nvPr/>
              </p:nvSpPr>
              <p:spPr>
                <a:xfrm flipV="1">
                  <a:off x="6791760" y="1382040"/>
                  <a:ext cx="0" cy="621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1" name=""/>
                <p:cNvSpPr/>
                <p:nvPr/>
              </p:nvSpPr>
              <p:spPr>
                <a:xfrm flipV="1">
                  <a:off x="6791760" y="1244160"/>
                  <a:ext cx="897480" cy="137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2" name=""/>
                <p:cNvSpPr/>
                <p:nvPr/>
              </p:nvSpPr>
              <p:spPr>
                <a:xfrm flipV="1">
                  <a:off x="8586720" y="1382040"/>
                  <a:ext cx="0" cy="621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3" name=""/>
                <p:cNvSpPr/>
                <p:nvPr/>
              </p:nvSpPr>
              <p:spPr>
                <a:xfrm flipH="1" flipV="1">
                  <a:off x="7688880" y="1244160"/>
                  <a:ext cx="897480" cy="137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414" name=""/>
            <p:cNvGrpSpPr/>
            <p:nvPr/>
          </p:nvGrpSpPr>
          <p:grpSpPr>
            <a:xfrm>
              <a:off x="5946840" y="1074240"/>
              <a:ext cx="2809800" cy="1775160"/>
              <a:chOff x="5946840" y="1074240"/>
              <a:chExt cx="2809800" cy="1775160"/>
            </a:xfrm>
          </p:grpSpPr>
          <p:sp>
            <p:nvSpPr>
              <p:cNvPr id="4415" name=""/>
              <p:cNvSpPr/>
              <p:nvPr/>
            </p:nvSpPr>
            <p:spPr>
              <a:xfrm flipV="1">
                <a:off x="5946840" y="2089440"/>
                <a:ext cx="897480" cy="1378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6" name=""/>
              <p:cNvSpPr/>
              <p:nvPr/>
            </p:nvSpPr>
            <p:spPr>
              <a:xfrm flipH="1" flipV="1">
                <a:off x="6844320" y="2089440"/>
                <a:ext cx="897120" cy="1378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7" name=""/>
              <p:cNvSpPr/>
              <p:nvPr/>
            </p:nvSpPr>
            <p:spPr>
              <a:xfrm flipV="1">
                <a:off x="6961680" y="1074240"/>
                <a:ext cx="897480" cy="1378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18" name=""/>
              <p:cNvGrpSpPr/>
              <p:nvPr/>
            </p:nvGrpSpPr>
            <p:grpSpPr>
              <a:xfrm>
                <a:off x="5946840" y="1212480"/>
                <a:ext cx="2809800" cy="1636920"/>
                <a:chOff x="5946840" y="1212480"/>
                <a:chExt cx="2809800" cy="1636920"/>
              </a:xfrm>
            </p:grpSpPr>
            <p:sp>
              <p:nvSpPr>
                <p:cNvPr id="4419" name=""/>
                <p:cNvSpPr/>
                <p:nvPr/>
              </p:nvSpPr>
              <p:spPr>
                <a:xfrm flipV="1">
                  <a:off x="5946840" y="2228040"/>
                  <a:ext cx="0" cy="621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0" name=""/>
                <p:cNvSpPr/>
                <p:nvPr/>
              </p:nvSpPr>
              <p:spPr>
                <a:xfrm flipV="1">
                  <a:off x="7741440" y="2228040"/>
                  <a:ext cx="0" cy="621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1" name=""/>
                <p:cNvSpPr/>
                <p:nvPr/>
              </p:nvSpPr>
              <p:spPr>
                <a:xfrm flipV="1">
                  <a:off x="6961680" y="1212480"/>
                  <a:ext cx="0" cy="621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2" name=""/>
                <p:cNvSpPr/>
                <p:nvPr/>
              </p:nvSpPr>
              <p:spPr>
                <a:xfrm flipV="1">
                  <a:off x="8756640" y="1212480"/>
                  <a:ext cx="0" cy="621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23" name=""/>
              <p:cNvSpPr/>
              <p:nvPr/>
            </p:nvSpPr>
            <p:spPr>
              <a:xfrm flipH="1" flipV="1">
                <a:off x="7859160" y="1074240"/>
                <a:ext cx="897120" cy="1378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24" name=""/>
            <p:cNvGrpSpPr/>
            <p:nvPr/>
          </p:nvGrpSpPr>
          <p:grpSpPr>
            <a:xfrm>
              <a:off x="5946840" y="1386000"/>
              <a:ext cx="2809440" cy="1465200"/>
              <a:chOff x="5946840" y="1386000"/>
              <a:chExt cx="2809440" cy="1465200"/>
            </a:xfrm>
          </p:grpSpPr>
          <p:grpSp>
            <p:nvGrpSpPr>
              <p:cNvPr id="4425" name=""/>
              <p:cNvGrpSpPr/>
              <p:nvPr/>
            </p:nvGrpSpPr>
            <p:grpSpPr>
              <a:xfrm>
                <a:off x="5946840" y="1395360"/>
                <a:ext cx="1014840" cy="1455480"/>
                <a:chOff x="5946840" y="1395360"/>
                <a:chExt cx="1014840" cy="1455480"/>
              </a:xfrm>
            </p:grpSpPr>
            <p:sp>
              <p:nvSpPr>
                <p:cNvPr id="4426" name=""/>
                <p:cNvSpPr/>
                <p:nvPr/>
              </p:nvSpPr>
              <p:spPr>
                <a:xfrm flipV="1">
                  <a:off x="5946840" y="1395360"/>
                  <a:ext cx="1014840" cy="1013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7" name=""/>
                <p:cNvSpPr/>
                <p:nvPr/>
              </p:nvSpPr>
              <p:spPr>
                <a:xfrm flipV="1">
                  <a:off x="5946840" y="1550520"/>
                  <a:ext cx="1014840" cy="1013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8" name=""/>
                <p:cNvSpPr/>
                <p:nvPr/>
              </p:nvSpPr>
              <p:spPr>
                <a:xfrm flipV="1">
                  <a:off x="5946840" y="1688400"/>
                  <a:ext cx="1014840" cy="1013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9" name=""/>
                <p:cNvSpPr/>
                <p:nvPr/>
              </p:nvSpPr>
              <p:spPr>
                <a:xfrm flipV="1">
                  <a:off x="5946840" y="1837080"/>
                  <a:ext cx="1014840" cy="1013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30" name=""/>
              <p:cNvGrpSpPr/>
              <p:nvPr/>
            </p:nvGrpSpPr>
            <p:grpSpPr>
              <a:xfrm>
                <a:off x="7741440" y="1386000"/>
                <a:ext cx="1014840" cy="1465200"/>
                <a:chOff x="7741440" y="1386000"/>
                <a:chExt cx="1014840" cy="1465200"/>
              </a:xfrm>
            </p:grpSpPr>
            <p:sp>
              <p:nvSpPr>
                <p:cNvPr id="4431" name=""/>
                <p:cNvSpPr/>
                <p:nvPr/>
              </p:nvSpPr>
              <p:spPr>
                <a:xfrm flipV="1">
                  <a:off x="7741440" y="1837440"/>
                  <a:ext cx="1014840" cy="1013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2" name=""/>
                <p:cNvSpPr/>
                <p:nvPr/>
              </p:nvSpPr>
              <p:spPr>
                <a:xfrm flipV="1">
                  <a:off x="7741440" y="1386000"/>
                  <a:ext cx="1014840" cy="1013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3" name=""/>
                <p:cNvSpPr/>
                <p:nvPr/>
              </p:nvSpPr>
              <p:spPr>
                <a:xfrm flipV="1">
                  <a:off x="7741440" y="1541160"/>
                  <a:ext cx="1014840" cy="1013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4" name=""/>
                <p:cNvSpPr/>
                <p:nvPr/>
              </p:nvSpPr>
              <p:spPr>
                <a:xfrm flipV="1">
                  <a:off x="7741440" y="1690200"/>
                  <a:ext cx="1014840" cy="1013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35" name=""/>
            <p:cNvSpPr/>
            <p:nvPr/>
          </p:nvSpPr>
          <p:spPr>
            <a:xfrm flipV="1">
              <a:off x="6846840" y="1079640"/>
              <a:ext cx="1015920" cy="10159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6" name=""/>
            <p:cNvGrpSpPr/>
            <p:nvPr/>
          </p:nvGrpSpPr>
          <p:grpSpPr>
            <a:xfrm>
              <a:off x="5946840" y="1212840"/>
              <a:ext cx="2808360" cy="1014480"/>
              <a:chOff x="5946840" y="1212840"/>
              <a:chExt cx="2808360" cy="1014480"/>
            </a:xfrm>
          </p:grpSpPr>
          <p:sp>
            <p:nvSpPr>
              <p:cNvPr id="4437" name=""/>
              <p:cNvSpPr/>
              <p:nvPr/>
            </p:nvSpPr>
            <p:spPr>
              <a:xfrm flipV="1">
                <a:off x="7737120" y="1212840"/>
                <a:ext cx="1018080" cy="1014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8" name=""/>
              <p:cNvSpPr/>
              <p:nvPr/>
            </p:nvSpPr>
            <p:spPr>
              <a:xfrm flipV="1">
                <a:off x="5946840" y="1212840"/>
                <a:ext cx="1015200" cy="1014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9" name=""/>
            <p:cNvGrpSpPr/>
            <p:nvPr/>
          </p:nvGrpSpPr>
          <p:grpSpPr>
            <a:xfrm>
              <a:off x="6080040" y="1095120"/>
              <a:ext cx="2532240" cy="1113840"/>
              <a:chOff x="6080040" y="1095120"/>
              <a:chExt cx="2532240" cy="1113840"/>
            </a:xfrm>
          </p:grpSpPr>
          <p:sp>
            <p:nvSpPr>
              <p:cNvPr id="4440" name=""/>
              <p:cNvSpPr/>
              <p:nvPr/>
            </p:nvSpPr>
            <p:spPr>
              <a:xfrm flipV="1">
                <a:off x="7013160" y="1099440"/>
                <a:ext cx="1017720" cy="1017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1" name=""/>
              <p:cNvSpPr/>
              <p:nvPr/>
            </p:nvSpPr>
            <p:spPr>
              <a:xfrm flipV="1">
                <a:off x="7165800" y="1113120"/>
                <a:ext cx="1017720" cy="1017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2" name=""/>
              <p:cNvSpPr/>
              <p:nvPr/>
            </p:nvSpPr>
            <p:spPr>
              <a:xfrm flipV="1">
                <a:off x="7453440" y="1162800"/>
                <a:ext cx="1017720" cy="1017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3" name=""/>
              <p:cNvSpPr/>
              <p:nvPr/>
            </p:nvSpPr>
            <p:spPr>
              <a:xfrm flipV="1">
                <a:off x="7594560" y="1191960"/>
                <a:ext cx="1017720" cy="1017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4" name=""/>
              <p:cNvSpPr/>
              <p:nvPr/>
            </p:nvSpPr>
            <p:spPr>
              <a:xfrm flipV="1">
                <a:off x="6080040" y="1191960"/>
                <a:ext cx="1004040" cy="1017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5" name=""/>
              <p:cNvSpPr/>
              <p:nvPr/>
            </p:nvSpPr>
            <p:spPr>
              <a:xfrm flipV="1">
                <a:off x="6247080" y="1168560"/>
                <a:ext cx="1004040" cy="1017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6" name=""/>
              <p:cNvSpPr/>
              <p:nvPr/>
            </p:nvSpPr>
            <p:spPr>
              <a:xfrm flipV="1">
                <a:off x="6532920" y="1122840"/>
                <a:ext cx="1004040" cy="1017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7" name=""/>
              <p:cNvSpPr/>
              <p:nvPr/>
            </p:nvSpPr>
            <p:spPr>
              <a:xfrm flipV="1">
                <a:off x="6687000" y="1095120"/>
                <a:ext cx="1007640" cy="1017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8" name=""/>
              <p:cNvSpPr/>
              <p:nvPr/>
            </p:nvSpPr>
            <p:spPr>
              <a:xfrm flipV="1">
                <a:off x="6385680" y="1146240"/>
                <a:ext cx="1004040" cy="1017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9" name=""/>
              <p:cNvSpPr/>
              <p:nvPr/>
            </p:nvSpPr>
            <p:spPr>
              <a:xfrm flipV="1">
                <a:off x="7292520" y="1141200"/>
                <a:ext cx="1017720" cy="10245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50" name=""/>
            <p:cNvGrpSpPr/>
            <p:nvPr/>
          </p:nvGrpSpPr>
          <p:grpSpPr>
            <a:xfrm>
              <a:off x="5943600" y="1072800"/>
              <a:ext cx="2816280" cy="1154160"/>
              <a:chOff x="5943600" y="1072800"/>
              <a:chExt cx="2816280" cy="1154160"/>
            </a:xfrm>
          </p:grpSpPr>
          <p:grpSp>
            <p:nvGrpSpPr>
              <p:cNvPr id="4451" name=""/>
              <p:cNvGrpSpPr/>
              <p:nvPr/>
            </p:nvGrpSpPr>
            <p:grpSpPr>
              <a:xfrm>
                <a:off x="5943600" y="1918080"/>
                <a:ext cx="1964880" cy="308880"/>
                <a:chOff x="5943600" y="1918080"/>
                <a:chExt cx="1964880" cy="308880"/>
              </a:xfrm>
            </p:grpSpPr>
            <p:sp>
              <p:nvSpPr>
                <p:cNvPr id="4452" name=""/>
                <p:cNvSpPr/>
                <p:nvPr/>
              </p:nvSpPr>
              <p:spPr>
                <a:xfrm flipH="1" flipV="1">
                  <a:off x="7010640" y="1919520"/>
                  <a:ext cx="152640" cy="2156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3" name=""/>
                <p:cNvSpPr/>
                <p:nvPr/>
              </p:nvSpPr>
              <p:spPr>
                <a:xfrm flipH="1">
                  <a:off x="6524280" y="1919880"/>
                  <a:ext cx="486000" cy="2156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4" name=""/>
                <p:cNvSpPr/>
                <p:nvPr/>
              </p:nvSpPr>
              <p:spPr>
                <a:xfrm flipH="1" flipV="1">
                  <a:off x="7601040" y="2002320"/>
                  <a:ext cx="137880" cy="2242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5" name=""/>
                <p:cNvSpPr/>
                <p:nvPr/>
              </p:nvSpPr>
              <p:spPr>
                <a:xfrm flipV="1">
                  <a:off x="7451280" y="2056680"/>
                  <a:ext cx="457200" cy="1270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6" name=""/>
                <p:cNvSpPr/>
                <p:nvPr/>
              </p:nvSpPr>
              <p:spPr>
                <a:xfrm flipH="1" flipV="1">
                  <a:off x="7312320" y="1970280"/>
                  <a:ext cx="138960" cy="213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7" name=""/>
                <p:cNvSpPr/>
                <p:nvPr/>
              </p:nvSpPr>
              <p:spPr>
                <a:xfrm flipH="1">
                  <a:off x="7151400" y="2009520"/>
                  <a:ext cx="473400" cy="1260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8" name=""/>
                <p:cNvSpPr/>
                <p:nvPr/>
              </p:nvSpPr>
              <p:spPr>
                <a:xfrm flipH="1">
                  <a:off x="6865920" y="1970640"/>
                  <a:ext cx="446400" cy="1155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9" name=""/>
                <p:cNvSpPr/>
                <p:nvPr/>
              </p:nvSpPr>
              <p:spPr>
                <a:xfrm flipH="1" flipV="1">
                  <a:off x="6694200" y="1960560"/>
                  <a:ext cx="171000" cy="1249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0" name=""/>
                <p:cNvSpPr/>
                <p:nvPr/>
              </p:nvSpPr>
              <p:spPr>
                <a:xfrm flipH="1" flipV="1">
                  <a:off x="6411960" y="2009160"/>
                  <a:ext cx="117720" cy="1292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1" name=""/>
                <p:cNvSpPr/>
                <p:nvPr/>
              </p:nvSpPr>
              <p:spPr>
                <a:xfrm flipH="1">
                  <a:off x="6242040" y="1970640"/>
                  <a:ext cx="452160" cy="213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2" name=""/>
                <p:cNvSpPr/>
                <p:nvPr/>
              </p:nvSpPr>
              <p:spPr>
                <a:xfrm flipH="1" flipV="1">
                  <a:off x="6112800" y="2056680"/>
                  <a:ext cx="131040" cy="1213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3" name=""/>
                <p:cNvSpPr/>
                <p:nvPr/>
              </p:nvSpPr>
              <p:spPr>
                <a:xfrm flipH="1">
                  <a:off x="5943600" y="2009520"/>
                  <a:ext cx="468720" cy="217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4" name=""/>
                <p:cNvSpPr/>
                <p:nvPr/>
              </p:nvSpPr>
              <p:spPr>
                <a:xfrm flipV="1">
                  <a:off x="7736400" y="2056680"/>
                  <a:ext cx="165960" cy="165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5" name=""/>
                <p:cNvSpPr/>
                <p:nvPr/>
              </p:nvSpPr>
              <p:spPr>
                <a:xfrm flipV="1">
                  <a:off x="6853680" y="1918080"/>
                  <a:ext cx="165960" cy="165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6" name=""/>
                <p:cNvSpPr/>
                <p:nvPr/>
              </p:nvSpPr>
              <p:spPr>
                <a:xfrm flipV="1">
                  <a:off x="7156080" y="1966320"/>
                  <a:ext cx="165960" cy="165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7" name=""/>
                <p:cNvSpPr/>
                <p:nvPr/>
              </p:nvSpPr>
              <p:spPr>
                <a:xfrm flipV="1">
                  <a:off x="5946480" y="2053800"/>
                  <a:ext cx="165960" cy="165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8" name=""/>
                <p:cNvSpPr/>
                <p:nvPr/>
              </p:nvSpPr>
              <p:spPr>
                <a:xfrm flipV="1">
                  <a:off x="6248880" y="2008440"/>
                  <a:ext cx="165960" cy="165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9" name=""/>
                <p:cNvSpPr/>
                <p:nvPr/>
              </p:nvSpPr>
              <p:spPr>
                <a:xfrm flipV="1">
                  <a:off x="6533280" y="1966320"/>
                  <a:ext cx="165960" cy="165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0" name=""/>
                <p:cNvSpPr/>
                <p:nvPr/>
              </p:nvSpPr>
              <p:spPr>
                <a:xfrm flipV="1">
                  <a:off x="6109920" y="1920960"/>
                  <a:ext cx="903960" cy="135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1" name=""/>
                <p:cNvSpPr/>
                <p:nvPr/>
              </p:nvSpPr>
              <p:spPr>
                <a:xfrm flipV="1">
                  <a:off x="5946480" y="2090160"/>
                  <a:ext cx="903960" cy="135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2" name=""/>
                <p:cNvSpPr/>
                <p:nvPr/>
              </p:nvSpPr>
              <p:spPr>
                <a:xfrm>
                  <a:off x="6850800" y="2090520"/>
                  <a:ext cx="879480" cy="135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3" name=""/>
                <p:cNvSpPr/>
                <p:nvPr/>
              </p:nvSpPr>
              <p:spPr>
                <a:xfrm>
                  <a:off x="7016760" y="1921320"/>
                  <a:ext cx="879480" cy="135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4" name=""/>
                <p:cNvSpPr/>
                <p:nvPr/>
              </p:nvSpPr>
              <p:spPr>
                <a:xfrm flipV="1">
                  <a:off x="7443360" y="2017440"/>
                  <a:ext cx="165960" cy="165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75" name=""/>
              <p:cNvGrpSpPr/>
              <p:nvPr/>
            </p:nvGrpSpPr>
            <p:grpSpPr>
              <a:xfrm>
                <a:off x="6795000" y="1072800"/>
                <a:ext cx="1964880" cy="308880"/>
                <a:chOff x="6795000" y="1072800"/>
                <a:chExt cx="1964880" cy="308880"/>
              </a:xfrm>
            </p:grpSpPr>
            <p:sp>
              <p:nvSpPr>
                <p:cNvPr id="4476" name=""/>
                <p:cNvSpPr/>
                <p:nvPr/>
              </p:nvSpPr>
              <p:spPr>
                <a:xfrm flipH="1" flipV="1">
                  <a:off x="7862040" y="1074240"/>
                  <a:ext cx="152640" cy="2156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7" name=""/>
                <p:cNvSpPr/>
                <p:nvPr/>
              </p:nvSpPr>
              <p:spPr>
                <a:xfrm flipH="1">
                  <a:off x="7375680" y="1074600"/>
                  <a:ext cx="486000" cy="2156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8" name=""/>
                <p:cNvSpPr/>
                <p:nvPr/>
              </p:nvSpPr>
              <p:spPr>
                <a:xfrm flipH="1" flipV="1">
                  <a:off x="8452440" y="1157040"/>
                  <a:ext cx="137880" cy="2242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9" name=""/>
                <p:cNvSpPr/>
                <p:nvPr/>
              </p:nvSpPr>
              <p:spPr>
                <a:xfrm flipV="1">
                  <a:off x="8302680" y="1211400"/>
                  <a:ext cx="457200" cy="1270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0" name=""/>
                <p:cNvSpPr/>
                <p:nvPr/>
              </p:nvSpPr>
              <p:spPr>
                <a:xfrm flipH="1" flipV="1">
                  <a:off x="8163720" y="1125000"/>
                  <a:ext cx="138960" cy="213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1" name=""/>
                <p:cNvSpPr/>
                <p:nvPr/>
              </p:nvSpPr>
              <p:spPr>
                <a:xfrm flipH="1">
                  <a:off x="8002800" y="1164240"/>
                  <a:ext cx="473400" cy="1260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2" name=""/>
                <p:cNvSpPr/>
                <p:nvPr/>
              </p:nvSpPr>
              <p:spPr>
                <a:xfrm flipH="1">
                  <a:off x="7717320" y="1125360"/>
                  <a:ext cx="446400" cy="1155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3" name=""/>
                <p:cNvSpPr/>
                <p:nvPr/>
              </p:nvSpPr>
              <p:spPr>
                <a:xfrm flipH="1" flipV="1">
                  <a:off x="7545600" y="1115280"/>
                  <a:ext cx="171000" cy="1249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4" name=""/>
                <p:cNvSpPr/>
                <p:nvPr/>
              </p:nvSpPr>
              <p:spPr>
                <a:xfrm flipH="1" flipV="1">
                  <a:off x="7263360" y="1163880"/>
                  <a:ext cx="117720" cy="1292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5" name=""/>
                <p:cNvSpPr/>
                <p:nvPr/>
              </p:nvSpPr>
              <p:spPr>
                <a:xfrm flipH="1">
                  <a:off x="7093440" y="1125360"/>
                  <a:ext cx="452160" cy="213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6" name=""/>
                <p:cNvSpPr/>
                <p:nvPr/>
              </p:nvSpPr>
              <p:spPr>
                <a:xfrm flipH="1" flipV="1">
                  <a:off x="6964200" y="1211400"/>
                  <a:ext cx="131040" cy="1213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7" name=""/>
                <p:cNvSpPr/>
                <p:nvPr/>
              </p:nvSpPr>
              <p:spPr>
                <a:xfrm flipH="1">
                  <a:off x="6795000" y="1164240"/>
                  <a:ext cx="468720" cy="217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8" name=""/>
                <p:cNvSpPr/>
                <p:nvPr/>
              </p:nvSpPr>
              <p:spPr>
                <a:xfrm flipV="1">
                  <a:off x="8587800" y="1211400"/>
                  <a:ext cx="165960" cy="165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9" name=""/>
                <p:cNvSpPr/>
                <p:nvPr/>
              </p:nvSpPr>
              <p:spPr>
                <a:xfrm flipV="1">
                  <a:off x="7705080" y="1072800"/>
                  <a:ext cx="165960" cy="165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0" name=""/>
                <p:cNvSpPr/>
                <p:nvPr/>
              </p:nvSpPr>
              <p:spPr>
                <a:xfrm flipV="1">
                  <a:off x="8007480" y="1121040"/>
                  <a:ext cx="165960" cy="165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1" name=""/>
                <p:cNvSpPr/>
                <p:nvPr/>
              </p:nvSpPr>
              <p:spPr>
                <a:xfrm flipV="1">
                  <a:off x="6797880" y="1208520"/>
                  <a:ext cx="165960" cy="165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2" name=""/>
                <p:cNvSpPr/>
                <p:nvPr/>
              </p:nvSpPr>
              <p:spPr>
                <a:xfrm flipV="1">
                  <a:off x="7100280" y="1163160"/>
                  <a:ext cx="165960" cy="165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3" name=""/>
                <p:cNvSpPr/>
                <p:nvPr/>
              </p:nvSpPr>
              <p:spPr>
                <a:xfrm flipV="1">
                  <a:off x="7384680" y="1121040"/>
                  <a:ext cx="165960" cy="165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4" name=""/>
                <p:cNvSpPr/>
                <p:nvPr/>
              </p:nvSpPr>
              <p:spPr>
                <a:xfrm flipV="1">
                  <a:off x="6961320" y="1075680"/>
                  <a:ext cx="903960" cy="135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5" name=""/>
                <p:cNvSpPr/>
                <p:nvPr/>
              </p:nvSpPr>
              <p:spPr>
                <a:xfrm flipV="1">
                  <a:off x="6797880" y="1244880"/>
                  <a:ext cx="903960" cy="135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6" name=""/>
                <p:cNvSpPr/>
                <p:nvPr/>
              </p:nvSpPr>
              <p:spPr>
                <a:xfrm>
                  <a:off x="7702200" y="1245240"/>
                  <a:ext cx="879480" cy="135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7" name=""/>
                <p:cNvSpPr/>
                <p:nvPr/>
              </p:nvSpPr>
              <p:spPr>
                <a:xfrm>
                  <a:off x="7868160" y="1076040"/>
                  <a:ext cx="879480" cy="135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8" name=""/>
                <p:cNvSpPr/>
                <p:nvPr/>
              </p:nvSpPr>
              <p:spPr>
                <a:xfrm flipV="1">
                  <a:off x="8294760" y="1172160"/>
                  <a:ext cx="165960" cy="165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499" name=""/>
          <p:cNvSpPr/>
          <p:nvPr/>
        </p:nvSpPr>
        <p:spPr>
          <a:xfrm>
            <a:off x="101520" y="3186000"/>
            <a:ext cx="7043760" cy="3621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 calcul est mené paroi par paroi et non pas sur le bâtiment dans son ensem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0" name=""/>
          <p:cNvSpPr/>
          <p:nvPr/>
        </p:nvSpPr>
        <p:spPr>
          <a:xfrm>
            <a:off x="7227720" y="362916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1" name="">
            <a:hlinkClick r:id="" action="ppaction://hlinkshowjump?jump=nextslide"/>
          </p:cNvPr>
          <p:cNvSpPr/>
          <p:nvPr/>
        </p:nvSpPr>
        <p:spPr>
          <a:xfrm>
            <a:off x="7256520" y="369396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2" name=""/>
          <p:cNvSpPr/>
          <p:nvPr/>
        </p:nvSpPr>
        <p:spPr>
          <a:xfrm>
            <a:off x="7227720" y="319572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3" name=""/>
          <p:cNvSpPr/>
          <p:nvPr/>
        </p:nvSpPr>
        <p:spPr>
          <a:xfrm>
            <a:off x="7256520" y="3260880"/>
            <a:ext cx="693720" cy="2156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4" name="">
            <a:hlinkClick r:id="rId1" action="ppaction://hlinksldjump"/>
          </p:cNvPr>
          <p:cNvSpPr/>
          <p:nvPr/>
        </p:nvSpPr>
        <p:spPr>
          <a:xfrm>
            <a:off x="8177040" y="362916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5" name=""/>
          <p:cNvSpPr/>
          <p:nvPr/>
        </p:nvSpPr>
        <p:spPr>
          <a:xfrm>
            <a:off x="8205840" y="369396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6" name="">
            <a:hlinkClick r:id="rId2" action="ppaction://hlinksldjump"/>
          </p:cNvPr>
          <p:cNvSpPr/>
          <p:nvPr/>
        </p:nvSpPr>
        <p:spPr>
          <a:xfrm>
            <a:off x="8177040" y="319572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7" name=""/>
          <p:cNvSpPr/>
          <p:nvPr/>
        </p:nvSpPr>
        <p:spPr>
          <a:xfrm>
            <a:off x="8205840" y="3260880"/>
            <a:ext cx="693720" cy="2156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8" name=""/>
          <p:cNvSpPr/>
          <p:nvPr/>
        </p:nvSpPr>
        <p:spPr>
          <a:xfrm>
            <a:off x="7142040" y="4081320"/>
            <a:ext cx="185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9" name=""/>
          <p:cNvSpPr/>
          <p:nvPr/>
        </p:nvSpPr>
        <p:spPr>
          <a:xfrm>
            <a:off x="179280" y="352440"/>
            <a:ext cx="87537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ncernant l’action du vent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0" name=""/>
          <p:cNvSpPr/>
          <p:nvPr/>
        </p:nvSpPr>
        <p:spPr>
          <a:xfrm>
            <a:off x="101520" y="3619440"/>
            <a:ext cx="7043760" cy="358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 vent apparaît sur toutes les parois en même tem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1" name=""/>
          <p:cNvSpPr/>
          <p:nvPr/>
        </p:nvSpPr>
        <p:spPr>
          <a:xfrm>
            <a:off x="101520" y="3186000"/>
            <a:ext cx="7043760" cy="3621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 calcul est mené paroi par paroi et non pas sur le bâtiment dans son ensem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2" name=""/>
          <p:cNvGrpSpPr/>
          <p:nvPr/>
        </p:nvGrpSpPr>
        <p:grpSpPr>
          <a:xfrm>
            <a:off x="5894280" y="1071720"/>
            <a:ext cx="2893680" cy="1879560"/>
            <a:chOff x="5894280" y="1071720"/>
            <a:chExt cx="2893680" cy="1879560"/>
          </a:xfrm>
        </p:grpSpPr>
        <p:grpSp>
          <p:nvGrpSpPr>
            <p:cNvPr id="4513" name=""/>
            <p:cNvGrpSpPr/>
            <p:nvPr/>
          </p:nvGrpSpPr>
          <p:grpSpPr>
            <a:xfrm>
              <a:off x="5894280" y="1844640"/>
              <a:ext cx="2893680" cy="1106640"/>
              <a:chOff x="5894280" y="1844640"/>
              <a:chExt cx="2893680" cy="1106640"/>
            </a:xfrm>
          </p:grpSpPr>
          <p:grpSp>
            <p:nvGrpSpPr>
              <p:cNvPr id="4514" name=""/>
              <p:cNvGrpSpPr/>
              <p:nvPr/>
            </p:nvGrpSpPr>
            <p:grpSpPr>
              <a:xfrm>
                <a:off x="6068160" y="2036520"/>
                <a:ext cx="759600" cy="749520"/>
                <a:chOff x="6068160" y="2036520"/>
                <a:chExt cx="759600" cy="749520"/>
              </a:xfrm>
            </p:grpSpPr>
            <p:sp>
              <p:nvSpPr>
                <p:cNvPr id="4515" name=""/>
                <p:cNvSpPr/>
                <p:nvPr/>
              </p:nvSpPr>
              <p:spPr>
                <a:xfrm>
                  <a:off x="6744600" y="2036520"/>
                  <a:ext cx="83160" cy="83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6" name=""/>
                <p:cNvSpPr/>
                <p:nvPr/>
              </p:nvSpPr>
              <p:spPr>
                <a:xfrm>
                  <a:off x="6571800" y="2193840"/>
                  <a:ext cx="83160" cy="83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7" name=""/>
                <p:cNvSpPr/>
                <p:nvPr/>
              </p:nvSpPr>
              <p:spPr>
                <a:xfrm>
                  <a:off x="6406560" y="2356920"/>
                  <a:ext cx="83160" cy="83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8" name=""/>
                <p:cNvSpPr/>
                <p:nvPr/>
              </p:nvSpPr>
              <p:spPr>
                <a:xfrm>
                  <a:off x="6235920" y="2526480"/>
                  <a:ext cx="83520" cy="83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9" name=""/>
                <p:cNvSpPr/>
                <p:nvPr/>
              </p:nvSpPr>
              <p:spPr>
                <a:xfrm>
                  <a:off x="6068160" y="2702880"/>
                  <a:ext cx="83160" cy="83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20" name=""/>
              <p:cNvGrpSpPr/>
              <p:nvPr/>
            </p:nvGrpSpPr>
            <p:grpSpPr>
              <a:xfrm>
                <a:off x="7870320" y="2023200"/>
                <a:ext cx="747720" cy="757800"/>
                <a:chOff x="7870320" y="2023200"/>
                <a:chExt cx="747720" cy="757800"/>
              </a:xfrm>
            </p:grpSpPr>
            <p:sp>
              <p:nvSpPr>
                <p:cNvPr id="4521" name=""/>
                <p:cNvSpPr/>
                <p:nvPr/>
              </p:nvSpPr>
              <p:spPr>
                <a:xfrm>
                  <a:off x="8534880" y="2023200"/>
                  <a:ext cx="83160" cy="83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2" name=""/>
                <p:cNvSpPr/>
                <p:nvPr/>
              </p:nvSpPr>
              <p:spPr>
                <a:xfrm>
                  <a:off x="8367840" y="2188800"/>
                  <a:ext cx="83520" cy="83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3" name=""/>
                <p:cNvSpPr/>
                <p:nvPr/>
              </p:nvSpPr>
              <p:spPr>
                <a:xfrm>
                  <a:off x="8202600" y="2351520"/>
                  <a:ext cx="83160" cy="83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4" name=""/>
                <p:cNvSpPr/>
                <p:nvPr/>
              </p:nvSpPr>
              <p:spPr>
                <a:xfrm>
                  <a:off x="8028000" y="2521080"/>
                  <a:ext cx="85320" cy="83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5" name=""/>
                <p:cNvSpPr/>
                <p:nvPr/>
              </p:nvSpPr>
              <p:spPr>
                <a:xfrm>
                  <a:off x="7870320" y="2697840"/>
                  <a:ext cx="83160" cy="83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26" name=""/>
              <p:cNvGrpSpPr/>
              <p:nvPr/>
            </p:nvGrpSpPr>
            <p:grpSpPr>
              <a:xfrm>
                <a:off x="6904800" y="1844640"/>
                <a:ext cx="1883160" cy="85320"/>
                <a:chOff x="6904800" y="1844640"/>
                <a:chExt cx="1883160" cy="85320"/>
              </a:xfrm>
            </p:grpSpPr>
            <p:sp>
              <p:nvSpPr>
                <p:cNvPr id="4527" name=""/>
                <p:cNvSpPr/>
                <p:nvPr/>
              </p:nvSpPr>
              <p:spPr>
                <a:xfrm>
                  <a:off x="8704800" y="1846800"/>
                  <a:ext cx="83160" cy="83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8" name=""/>
                <p:cNvSpPr/>
                <p:nvPr/>
              </p:nvSpPr>
              <p:spPr>
                <a:xfrm>
                  <a:off x="6904800" y="1844640"/>
                  <a:ext cx="83520" cy="83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9" name=""/>
                <p:cNvSpPr/>
                <p:nvPr/>
              </p:nvSpPr>
              <p:spPr>
                <a:xfrm>
                  <a:off x="8116560" y="1844640"/>
                  <a:ext cx="83520" cy="83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0" name=""/>
                <p:cNvSpPr/>
                <p:nvPr/>
              </p:nvSpPr>
              <p:spPr>
                <a:xfrm>
                  <a:off x="7209000" y="1844640"/>
                  <a:ext cx="83160" cy="83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1" name=""/>
                <p:cNvSpPr/>
                <p:nvPr/>
              </p:nvSpPr>
              <p:spPr>
                <a:xfrm>
                  <a:off x="7491240" y="1844640"/>
                  <a:ext cx="83160" cy="83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2" name=""/>
                <p:cNvSpPr/>
                <p:nvPr/>
              </p:nvSpPr>
              <p:spPr>
                <a:xfrm>
                  <a:off x="7791480" y="1844640"/>
                  <a:ext cx="83160" cy="83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3" name=""/>
                <p:cNvSpPr/>
                <p:nvPr/>
              </p:nvSpPr>
              <p:spPr>
                <a:xfrm>
                  <a:off x="8417880" y="1844640"/>
                  <a:ext cx="83160" cy="83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34" name=""/>
              <p:cNvGrpSpPr/>
              <p:nvPr/>
            </p:nvGrpSpPr>
            <p:grpSpPr>
              <a:xfrm>
                <a:off x="5894280" y="2867760"/>
                <a:ext cx="1879200" cy="83520"/>
                <a:chOff x="5894280" y="2867760"/>
                <a:chExt cx="1879200" cy="83520"/>
              </a:xfrm>
            </p:grpSpPr>
            <p:sp>
              <p:nvSpPr>
                <p:cNvPr id="4535" name=""/>
                <p:cNvSpPr/>
                <p:nvPr/>
              </p:nvSpPr>
              <p:spPr>
                <a:xfrm>
                  <a:off x="7689960" y="2867760"/>
                  <a:ext cx="83520" cy="83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6" name=""/>
                <p:cNvSpPr/>
                <p:nvPr/>
              </p:nvSpPr>
              <p:spPr>
                <a:xfrm>
                  <a:off x="5894280" y="2867760"/>
                  <a:ext cx="83160" cy="83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7" name=""/>
                <p:cNvSpPr/>
                <p:nvPr/>
              </p:nvSpPr>
              <p:spPr>
                <a:xfrm>
                  <a:off x="6196320" y="2867760"/>
                  <a:ext cx="83160" cy="83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8" name=""/>
                <p:cNvSpPr/>
                <p:nvPr/>
              </p:nvSpPr>
              <p:spPr>
                <a:xfrm>
                  <a:off x="6484320" y="2867760"/>
                  <a:ext cx="83160" cy="83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9" name=""/>
                <p:cNvSpPr/>
                <p:nvPr/>
              </p:nvSpPr>
              <p:spPr>
                <a:xfrm>
                  <a:off x="7108920" y="2867760"/>
                  <a:ext cx="83160" cy="83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0" name=""/>
                <p:cNvSpPr/>
                <p:nvPr/>
              </p:nvSpPr>
              <p:spPr>
                <a:xfrm>
                  <a:off x="7396920" y="2867760"/>
                  <a:ext cx="83160" cy="83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541" name=""/>
            <p:cNvSpPr/>
            <p:nvPr/>
          </p:nvSpPr>
          <p:spPr>
            <a:xfrm rot="18860400">
              <a:off x="6585840" y="2543760"/>
              <a:ext cx="507960" cy="252360"/>
            </a:xfrm>
            <a:custGeom>
              <a:avLst/>
              <a:gdLst>
                <a:gd name="textAreaLeft" fmla="*/ 63360 w 507960"/>
                <a:gd name="textAreaRight" fmla="*/ 444600 w 507960"/>
                <a:gd name="textAreaTop" fmla="*/ 63000 h 252360"/>
                <a:gd name="textAreaBottom" fmla="*/ 189360 h 25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42" name=""/>
            <p:cNvGrpSpPr/>
            <p:nvPr/>
          </p:nvGrpSpPr>
          <p:grpSpPr>
            <a:xfrm>
              <a:off x="5943600" y="1219320"/>
              <a:ext cx="2819520" cy="1632960"/>
              <a:chOff x="5943600" y="1219320"/>
              <a:chExt cx="2819520" cy="1632960"/>
            </a:xfrm>
          </p:grpSpPr>
          <p:grpSp>
            <p:nvGrpSpPr>
              <p:cNvPr id="4543" name=""/>
              <p:cNvGrpSpPr/>
              <p:nvPr/>
            </p:nvGrpSpPr>
            <p:grpSpPr>
              <a:xfrm>
                <a:off x="6949800" y="1219320"/>
                <a:ext cx="1813320" cy="611280"/>
                <a:chOff x="6949800" y="1219320"/>
                <a:chExt cx="1813320" cy="611280"/>
              </a:xfrm>
            </p:grpSpPr>
            <p:sp>
              <p:nvSpPr>
                <p:cNvPr id="4544" name=""/>
                <p:cNvSpPr/>
                <p:nvPr/>
              </p:nvSpPr>
              <p:spPr>
                <a:xfrm>
                  <a:off x="6968160" y="1219320"/>
                  <a:ext cx="17949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5" name=""/>
                <p:cNvSpPr/>
                <p:nvPr/>
              </p:nvSpPr>
              <p:spPr>
                <a:xfrm>
                  <a:off x="6963120" y="1397880"/>
                  <a:ext cx="17949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6" name=""/>
                <p:cNvSpPr/>
                <p:nvPr/>
              </p:nvSpPr>
              <p:spPr>
                <a:xfrm>
                  <a:off x="6956640" y="1691640"/>
                  <a:ext cx="18036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7" name=""/>
                <p:cNvSpPr/>
                <p:nvPr/>
              </p:nvSpPr>
              <p:spPr>
                <a:xfrm>
                  <a:off x="6963840" y="1544760"/>
                  <a:ext cx="17964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8" name=""/>
                <p:cNvSpPr/>
                <p:nvPr/>
              </p:nvSpPr>
              <p:spPr>
                <a:xfrm>
                  <a:off x="6949800" y="1830600"/>
                  <a:ext cx="17949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49" name=""/>
              <p:cNvGrpSpPr/>
              <p:nvPr/>
            </p:nvGrpSpPr>
            <p:grpSpPr>
              <a:xfrm>
                <a:off x="5943600" y="2231280"/>
                <a:ext cx="1803960" cy="621000"/>
                <a:chOff x="5943600" y="2231280"/>
                <a:chExt cx="1803960" cy="621000"/>
              </a:xfrm>
            </p:grpSpPr>
            <p:sp>
              <p:nvSpPr>
                <p:cNvPr id="4550" name=""/>
                <p:cNvSpPr/>
                <p:nvPr/>
              </p:nvSpPr>
              <p:spPr>
                <a:xfrm>
                  <a:off x="7158960" y="2852280"/>
                  <a:ext cx="5842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1" name=""/>
                <p:cNvSpPr/>
                <p:nvPr/>
              </p:nvSpPr>
              <p:spPr>
                <a:xfrm>
                  <a:off x="5952960" y="2231280"/>
                  <a:ext cx="17946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2" name=""/>
                <p:cNvSpPr/>
                <p:nvPr/>
              </p:nvSpPr>
              <p:spPr>
                <a:xfrm>
                  <a:off x="5948280" y="2409840"/>
                  <a:ext cx="17946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3" name=""/>
                <p:cNvSpPr/>
                <p:nvPr/>
              </p:nvSpPr>
              <p:spPr>
                <a:xfrm>
                  <a:off x="7155720" y="2703600"/>
                  <a:ext cx="5889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4" name=""/>
                <p:cNvSpPr/>
                <p:nvPr/>
              </p:nvSpPr>
              <p:spPr>
                <a:xfrm>
                  <a:off x="5943600" y="2556720"/>
                  <a:ext cx="5911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5" name=""/>
                <p:cNvSpPr/>
                <p:nvPr/>
              </p:nvSpPr>
              <p:spPr>
                <a:xfrm>
                  <a:off x="7155720" y="2556720"/>
                  <a:ext cx="5889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6" name=""/>
                <p:cNvSpPr/>
                <p:nvPr/>
              </p:nvSpPr>
              <p:spPr>
                <a:xfrm>
                  <a:off x="5948280" y="2703600"/>
                  <a:ext cx="5911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7" name=""/>
                <p:cNvSpPr/>
                <p:nvPr/>
              </p:nvSpPr>
              <p:spPr>
                <a:xfrm>
                  <a:off x="5948280" y="2848680"/>
                  <a:ext cx="5842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558" name=""/>
            <p:cNvGrpSpPr/>
            <p:nvPr/>
          </p:nvGrpSpPr>
          <p:grpSpPr>
            <a:xfrm>
              <a:off x="5942160" y="1071720"/>
              <a:ext cx="2814480" cy="1777320"/>
              <a:chOff x="5942160" y="1071720"/>
              <a:chExt cx="2814480" cy="1777320"/>
            </a:xfrm>
          </p:grpSpPr>
          <p:sp>
            <p:nvSpPr>
              <p:cNvPr id="4559" name=""/>
              <p:cNvSpPr/>
              <p:nvPr/>
            </p:nvSpPr>
            <p:spPr>
              <a:xfrm>
                <a:off x="6846480" y="2098440"/>
                <a:ext cx="0" cy="309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60" name=""/>
              <p:cNvGrpSpPr/>
              <p:nvPr/>
            </p:nvGrpSpPr>
            <p:grpSpPr>
              <a:xfrm>
                <a:off x="5942160" y="1071720"/>
                <a:ext cx="2814480" cy="1777320"/>
                <a:chOff x="5942160" y="1071720"/>
                <a:chExt cx="2814480" cy="1777320"/>
              </a:xfrm>
            </p:grpSpPr>
            <p:grpSp>
              <p:nvGrpSpPr>
                <p:cNvPr id="4561" name=""/>
                <p:cNvGrpSpPr/>
                <p:nvPr/>
              </p:nvGrpSpPr>
              <p:grpSpPr>
                <a:xfrm>
                  <a:off x="6960960" y="1071720"/>
                  <a:ext cx="1795680" cy="757080"/>
                  <a:chOff x="6960960" y="1071720"/>
                  <a:chExt cx="1795680" cy="757080"/>
                </a:xfrm>
              </p:grpSpPr>
              <p:sp>
                <p:nvSpPr>
                  <p:cNvPr id="4562" name=""/>
                  <p:cNvSpPr/>
                  <p:nvPr/>
                </p:nvSpPr>
                <p:spPr>
                  <a:xfrm>
                    <a:off x="8469360" y="1165320"/>
                    <a:ext cx="0" cy="6634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3" name=""/>
                  <p:cNvSpPr/>
                  <p:nvPr/>
                </p:nvSpPr>
                <p:spPr>
                  <a:xfrm>
                    <a:off x="8756640" y="1215360"/>
                    <a:ext cx="0" cy="613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4" name=""/>
                  <p:cNvSpPr/>
                  <p:nvPr/>
                </p:nvSpPr>
                <p:spPr>
                  <a:xfrm>
                    <a:off x="8169480" y="1126080"/>
                    <a:ext cx="0" cy="702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5" name=""/>
                  <p:cNvSpPr/>
                  <p:nvPr/>
                </p:nvSpPr>
                <p:spPr>
                  <a:xfrm>
                    <a:off x="7859520" y="1071720"/>
                    <a:ext cx="0" cy="757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6" name=""/>
                  <p:cNvSpPr/>
                  <p:nvPr/>
                </p:nvSpPr>
                <p:spPr>
                  <a:xfrm>
                    <a:off x="7547760" y="1119240"/>
                    <a:ext cx="0" cy="709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7" name=""/>
                  <p:cNvSpPr/>
                  <p:nvPr/>
                </p:nvSpPr>
                <p:spPr>
                  <a:xfrm>
                    <a:off x="6960960" y="1212480"/>
                    <a:ext cx="0" cy="6163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8" name=""/>
                  <p:cNvSpPr/>
                  <p:nvPr/>
                </p:nvSpPr>
                <p:spPr>
                  <a:xfrm>
                    <a:off x="7261200" y="1170360"/>
                    <a:ext cx="0" cy="658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69" name=""/>
                <p:cNvGrpSpPr/>
                <p:nvPr/>
              </p:nvGrpSpPr>
              <p:grpSpPr>
                <a:xfrm>
                  <a:off x="5942160" y="2136960"/>
                  <a:ext cx="1801800" cy="712080"/>
                  <a:chOff x="5942160" y="2136960"/>
                  <a:chExt cx="1801800" cy="712080"/>
                </a:xfrm>
              </p:grpSpPr>
              <p:sp>
                <p:nvSpPr>
                  <p:cNvPr id="4570" name=""/>
                  <p:cNvSpPr/>
                  <p:nvPr/>
                </p:nvSpPr>
                <p:spPr>
                  <a:xfrm>
                    <a:off x="7456680" y="2183040"/>
                    <a:ext cx="0" cy="666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1" name=""/>
                  <p:cNvSpPr/>
                  <p:nvPr/>
                </p:nvSpPr>
                <p:spPr>
                  <a:xfrm>
                    <a:off x="7743960" y="2229840"/>
                    <a:ext cx="0" cy="613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2" name=""/>
                  <p:cNvSpPr/>
                  <p:nvPr/>
                </p:nvSpPr>
                <p:spPr>
                  <a:xfrm>
                    <a:off x="7156800" y="2140560"/>
                    <a:ext cx="0" cy="7052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3" name=""/>
                  <p:cNvSpPr/>
                  <p:nvPr/>
                </p:nvSpPr>
                <p:spPr>
                  <a:xfrm>
                    <a:off x="6535080" y="2136960"/>
                    <a:ext cx="0" cy="709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4" name=""/>
                  <p:cNvSpPr/>
                  <p:nvPr/>
                </p:nvSpPr>
                <p:spPr>
                  <a:xfrm flipH="1">
                    <a:off x="5942160" y="2226960"/>
                    <a:ext cx="5760" cy="62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5" name=""/>
                  <p:cNvSpPr/>
                  <p:nvPr/>
                </p:nvSpPr>
                <p:spPr>
                  <a:xfrm>
                    <a:off x="6248520" y="2187720"/>
                    <a:ext cx="0" cy="658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576" name=""/>
            <p:cNvGrpSpPr/>
            <p:nvPr/>
          </p:nvGrpSpPr>
          <p:grpSpPr>
            <a:xfrm>
              <a:off x="5941800" y="1207800"/>
              <a:ext cx="2814840" cy="1646280"/>
              <a:chOff x="5941800" y="1207800"/>
              <a:chExt cx="2814840" cy="1646280"/>
            </a:xfrm>
          </p:grpSpPr>
          <p:grpSp>
            <p:nvGrpSpPr>
              <p:cNvPr id="4577" name=""/>
              <p:cNvGrpSpPr/>
              <p:nvPr/>
            </p:nvGrpSpPr>
            <p:grpSpPr>
              <a:xfrm>
                <a:off x="7737480" y="2053800"/>
                <a:ext cx="172800" cy="794160"/>
                <a:chOff x="7737480" y="2053800"/>
                <a:chExt cx="172800" cy="794160"/>
              </a:xfrm>
            </p:grpSpPr>
            <p:sp>
              <p:nvSpPr>
                <p:cNvPr id="4578" name=""/>
                <p:cNvSpPr/>
                <p:nvPr/>
              </p:nvSpPr>
              <p:spPr>
                <a:xfrm flipV="1">
                  <a:off x="7740720" y="2385360"/>
                  <a:ext cx="169200" cy="462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9" name=""/>
                <p:cNvSpPr/>
                <p:nvPr/>
              </p:nvSpPr>
              <p:spPr>
                <a:xfrm flipH="1" flipV="1">
                  <a:off x="7737480" y="2222640"/>
                  <a:ext cx="172440" cy="162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0" name=""/>
                <p:cNvSpPr/>
                <p:nvPr/>
              </p:nvSpPr>
              <p:spPr>
                <a:xfrm flipH="1" flipV="1">
                  <a:off x="7740720" y="2545920"/>
                  <a:ext cx="169200" cy="133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1" name=""/>
                <p:cNvSpPr/>
                <p:nvPr/>
              </p:nvSpPr>
              <p:spPr>
                <a:xfrm flipV="1">
                  <a:off x="7740720" y="2056680"/>
                  <a:ext cx="169200" cy="490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2" name=""/>
                <p:cNvSpPr/>
                <p:nvPr/>
              </p:nvSpPr>
              <p:spPr>
                <a:xfrm flipV="1">
                  <a:off x="7737840" y="2053800"/>
                  <a:ext cx="166320" cy="165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3" name=""/>
                <p:cNvSpPr/>
                <p:nvPr/>
              </p:nvSpPr>
              <p:spPr>
                <a:xfrm>
                  <a:off x="7741080" y="2223360"/>
                  <a:ext cx="0" cy="622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4" name=""/>
                <p:cNvSpPr/>
                <p:nvPr/>
              </p:nvSpPr>
              <p:spPr>
                <a:xfrm flipV="1">
                  <a:off x="7741080" y="2383200"/>
                  <a:ext cx="166320" cy="165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5" name=""/>
                <p:cNvSpPr/>
                <p:nvPr/>
              </p:nvSpPr>
              <p:spPr>
                <a:xfrm>
                  <a:off x="7910280" y="2059920"/>
                  <a:ext cx="0" cy="622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6" name=""/>
              <p:cNvGrpSpPr/>
              <p:nvPr/>
            </p:nvGrpSpPr>
            <p:grpSpPr>
              <a:xfrm>
                <a:off x="5941800" y="2059920"/>
                <a:ext cx="172800" cy="794160"/>
                <a:chOff x="5941800" y="2059920"/>
                <a:chExt cx="172800" cy="794160"/>
              </a:xfrm>
            </p:grpSpPr>
            <p:sp>
              <p:nvSpPr>
                <p:cNvPr id="4587" name=""/>
                <p:cNvSpPr/>
                <p:nvPr/>
              </p:nvSpPr>
              <p:spPr>
                <a:xfrm flipV="1">
                  <a:off x="5945040" y="2391480"/>
                  <a:ext cx="169200" cy="462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8" name=""/>
                <p:cNvSpPr/>
                <p:nvPr/>
              </p:nvSpPr>
              <p:spPr>
                <a:xfrm flipH="1" flipV="1">
                  <a:off x="5941800" y="2228760"/>
                  <a:ext cx="172440" cy="162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9" name=""/>
                <p:cNvSpPr/>
                <p:nvPr/>
              </p:nvSpPr>
              <p:spPr>
                <a:xfrm flipH="1" flipV="1">
                  <a:off x="5945040" y="2552040"/>
                  <a:ext cx="169200" cy="133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0" name=""/>
                <p:cNvSpPr/>
                <p:nvPr/>
              </p:nvSpPr>
              <p:spPr>
                <a:xfrm flipV="1">
                  <a:off x="5945040" y="2062800"/>
                  <a:ext cx="169200" cy="490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1" name=""/>
                <p:cNvSpPr/>
                <p:nvPr/>
              </p:nvSpPr>
              <p:spPr>
                <a:xfrm flipV="1">
                  <a:off x="5942160" y="2059920"/>
                  <a:ext cx="166320" cy="165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2" name=""/>
                <p:cNvSpPr/>
                <p:nvPr/>
              </p:nvSpPr>
              <p:spPr>
                <a:xfrm>
                  <a:off x="5945400" y="2229480"/>
                  <a:ext cx="0" cy="622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3" name=""/>
                <p:cNvSpPr/>
                <p:nvPr/>
              </p:nvSpPr>
              <p:spPr>
                <a:xfrm flipV="1">
                  <a:off x="5945400" y="2389320"/>
                  <a:ext cx="166320" cy="165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4" name=""/>
                <p:cNvSpPr/>
                <p:nvPr/>
              </p:nvSpPr>
              <p:spPr>
                <a:xfrm>
                  <a:off x="6114600" y="2066040"/>
                  <a:ext cx="0" cy="622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95" name=""/>
              <p:cNvGrpSpPr/>
              <p:nvPr/>
            </p:nvGrpSpPr>
            <p:grpSpPr>
              <a:xfrm>
                <a:off x="8583840" y="1207800"/>
                <a:ext cx="172800" cy="794160"/>
                <a:chOff x="8583840" y="1207800"/>
                <a:chExt cx="172800" cy="794160"/>
              </a:xfrm>
            </p:grpSpPr>
            <p:sp>
              <p:nvSpPr>
                <p:cNvPr id="4596" name=""/>
                <p:cNvSpPr/>
                <p:nvPr/>
              </p:nvSpPr>
              <p:spPr>
                <a:xfrm flipV="1">
                  <a:off x="8587080" y="1539360"/>
                  <a:ext cx="169200" cy="462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7" name=""/>
                <p:cNvSpPr/>
                <p:nvPr/>
              </p:nvSpPr>
              <p:spPr>
                <a:xfrm flipH="1" flipV="1">
                  <a:off x="8583840" y="1376640"/>
                  <a:ext cx="172440" cy="162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8" name=""/>
                <p:cNvSpPr/>
                <p:nvPr/>
              </p:nvSpPr>
              <p:spPr>
                <a:xfrm flipH="1" flipV="1">
                  <a:off x="8587080" y="1699920"/>
                  <a:ext cx="169200" cy="133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9" name=""/>
                <p:cNvSpPr/>
                <p:nvPr/>
              </p:nvSpPr>
              <p:spPr>
                <a:xfrm flipV="1">
                  <a:off x="8587080" y="1210680"/>
                  <a:ext cx="169200" cy="490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0" name=""/>
                <p:cNvSpPr/>
                <p:nvPr/>
              </p:nvSpPr>
              <p:spPr>
                <a:xfrm flipV="1">
                  <a:off x="8584200" y="1207800"/>
                  <a:ext cx="166320" cy="165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1" name=""/>
                <p:cNvSpPr/>
                <p:nvPr/>
              </p:nvSpPr>
              <p:spPr>
                <a:xfrm>
                  <a:off x="8587440" y="1377360"/>
                  <a:ext cx="0" cy="622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2" name=""/>
                <p:cNvSpPr/>
                <p:nvPr/>
              </p:nvSpPr>
              <p:spPr>
                <a:xfrm flipV="1">
                  <a:off x="8587440" y="1537200"/>
                  <a:ext cx="166320" cy="165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3" name=""/>
                <p:cNvSpPr/>
                <p:nvPr/>
              </p:nvSpPr>
              <p:spPr>
                <a:xfrm>
                  <a:off x="8756640" y="1213920"/>
                  <a:ext cx="0" cy="622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04" name=""/>
              <p:cNvGrpSpPr/>
              <p:nvPr/>
            </p:nvGrpSpPr>
            <p:grpSpPr>
              <a:xfrm>
                <a:off x="6788160" y="1216800"/>
                <a:ext cx="172800" cy="794160"/>
                <a:chOff x="6788160" y="1216800"/>
                <a:chExt cx="172800" cy="794160"/>
              </a:xfrm>
            </p:grpSpPr>
            <p:sp>
              <p:nvSpPr>
                <p:cNvPr id="4605" name=""/>
                <p:cNvSpPr/>
                <p:nvPr/>
              </p:nvSpPr>
              <p:spPr>
                <a:xfrm flipV="1">
                  <a:off x="6791400" y="1548360"/>
                  <a:ext cx="169200" cy="462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6" name=""/>
                <p:cNvSpPr/>
                <p:nvPr/>
              </p:nvSpPr>
              <p:spPr>
                <a:xfrm flipH="1" flipV="1">
                  <a:off x="6788160" y="1385640"/>
                  <a:ext cx="172440" cy="162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7" name=""/>
                <p:cNvSpPr/>
                <p:nvPr/>
              </p:nvSpPr>
              <p:spPr>
                <a:xfrm flipH="1" flipV="1">
                  <a:off x="6791400" y="1708920"/>
                  <a:ext cx="169200" cy="133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8" name=""/>
                <p:cNvSpPr/>
                <p:nvPr/>
              </p:nvSpPr>
              <p:spPr>
                <a:xfrm flipV="1">
                  <a:off x="6791400" y="1219680"/>
                  <a:ext cx="169200" cy="490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9" name=""/>
                <p:cNvSpPr/>
                <p:nvPr/>
              </p:nvSpPr>
              <p:spPr>
                <a:xfrm flipV="1">
                  <a:off x="6788520" y="1216800"/>
                  <a:ext cx="166320" cy="165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0" name=""/>
                <p:cNvSpPr/>
                <p:nvPr/>
              </p:nvSpPr>
              <p:spPr>
                <a:xfrm>
                  <a:off x="6791760" y="1386360"/>
                  <a:ext cx="0" cy="622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1" name=""/>
                <p:cNvSpPr/>
                <p:nvPr/>
              </p:nvSpPr>
              <p:spPr>
                <a:xfrm flipV="1">
                  <a:off x="6791760" y="1546200"/>
                  <a:ext cx="166320" cy="165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2" name=""/>
                <p:cNvSpPr/>
                <p:nvPr/>
              </p:nvSpPr>
              <p:spPr>
                <a:xfrm>
                  <a:off x="6960960" y="1222920"/>
                  <a:ext cx="0" cy="622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13" name=""/>
            <p:cNvGrpSpPr/>
            <p:nvPr/>
          </p:nvGrpSpPr>
          <p:grpSpPr>
            <a:xfrm>
              <a:off x="6114960" y="1244160"/>
              <a:ext cx="2471760" cy="1435320"/>
              <a:chOff x="6114960" y="1244160"/>
              <a:chExt cx="2471760" cy="1435320"/>
            </a:xfrm>
          </p:grpSpPr>
          <p:grpSp>
            <p:nvGrpSpPr>
              <p:cNvPr id="4614" name=""/>
              <p:cNvGrpSpPr/>
              <p:nvPr/>
            </p:nvGrpSpPr>
            <p:grpSpPr>
              <a:xfrm>
                <a:off x="6114960" y="1920600"/>
                <a:ext cx="1794960" cy="758880"/>
                <a:chOff x="6114960" y="1920600"/>
                <a:chExt cx="1794960" cy="758880"/>
              </a:xfrm>
            </p:grpSpPr>
            <p:sp>
              <p:nvSpPr>
                <p:cNvPr id="4615" name=""/>
                <p:cNvSpPr/>
                <p:nvPr/>
              </p:nvSpPr>
              <p:spPr>
                <a:xfrm flipV="1">
                  <a:off x="6114960" y="2058480"/>
                  <a:ext cx="0" cy="621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6" name=""/>
                <p:cNvSpPr/>
                <p:nvPr/>
              </p:nvSpPr>
              <p:spPr>
                <a:xfrm flipV="1">
                  <a:off x="6114960" y="1920600"/>
                  <a:ext cx="897480" cy="137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7" name=""/>
                <p:cNvSpPr/>
                <p:nvPr/>
              </p:nvSpPr>
              <p:spPr>
                <a:xfrm flipV="1">
                  <a:off x="7909920" y="2058480"/>
                  <a:ext cx="0" cy="621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8" name=""/>
                <p:cNvSpPr/>
                <p:nvPr/>
              </p:nvSpPr>
              <p:spPr>
                <a:xfrm flipH="1" flipV="1">
                  <a:off x="7012080" y="1920600"/>
                  <a:ext cx="897480" cy="137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19" name=""/>
              <p:cNvGrpSpPr/>
              <p:nvPr/>
            </p:nvGrpSpPr>
            <p:grpSpPr>
              <a:xfrm>
                <a:off x="6284160" y="1751400"/>
                <a:ext cx="1794960" cy="758880"/>
                <a:chOff x="6284160" y="1751400"/>
                <a:chExt cx="1794960" cy="758880"/>
              </a:xfrm>
            </p:grpSpPr>
            <p:sp>
              <p:nvSpPr>
                <p:cNvPr id="4620" name=""/>
                <p:cNvSpPr/>
                <p:nvPr/>
              </p:nvSpPr>
              <p:spPr>
                <a:xfrm flipV="1">
                  <a:off x="6284160" y="1889280"/>
                  <a:ext cx="0" cy="621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1" name=""/>
                <p:cNvSpPr/>
                <p:nvPr/>
              </p:nvSpPr>
              <p:spPr>
                <a:xfrm flipV="1">
                  <a:off x="6284160" y="1751400"/>
                  <a:ext cx="897480" cy="137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2" name=""/>
                <p:cNvSpPr/>
                <p:nvPr/>
              </p:nvSpPr>
              <p:spPr>
                <a:xfrm flipV="1">
                  <a:off x="8079120" y="1889280"/>
                  <a:ext cx="0" cy="621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3" name=""/>
                <p:cNvSpPr/>
                <p:nvPr/>
              </p:nvSpPr>
              <p:spPr>
                <a:xfrm flipH="1" flipV="1">
                  <a:off x="7181280" y="1751400"/>
                  <a:ext cx="897480" cy="137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24" name=""/>
              <p:cNvGrpSpPr/>
              <p:nvPr/>
            </p:nvGrpSpPr>
            <p:grpSpPr>
              <a:xfrm>
                <a:off x="6453360" y="1582200"/>
                <a:ext cx="1794960" cy="758880"/>
                <a:chOff x="6453360" y="1582200"/>
                <a:chExt cx="1794960" cy="758880"/>
              </a:xfrm>
            </p:grpSpPr>
            <p:sp>
              <p:nvSpPr>
                <p:cNvPr id="4625" name=""/>
                <p:cNvSpPr/>
                <p:nvPr/>
              </p:nvSpPr>
              <p:spPr>
                <a:xfrm flipV="1">
                  <a:off x="6453360" y="1720080"/>
                  <a:ext cx="0" cy="621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6" name=""/>
                <p:cNvSpPr/>
                <p:nvPr/>
              </p:nvSpPr>
              <p:spPr>
                <a:xfrm flipV="1">
                  <a:off x="6453360" y="1582200"/>
                  <a:ext cx="897480" cy="137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7" name=""/>
                <p:cNvSpPr/>
                <p:nvPr/>
              </p:nvSpPr>
              <p:spPr>
                <a:xfrm flipV="1">
                  <a:off x="8248320" y="1720080"/>
                  <a:ext cx="0" cy="621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8" name=""/>
                <p:cNvSpPr/>
                <p:nvPr/>
              </p:nvSpPr>
              <p:spPr>
                <a:xfrm flipH="1" flipV="1">
                  <a:off x="7350480" y="1582200"/>
                  <a:ext cx="897480" cy="137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29" name=""/>
              <p:cNvGrpSpPr/>
              <p:nvPr/>
            </p:nvGrpSpPr>
            <p:grpSpPr>
              <a:xfrm>
                <a:off x="6622560" y="1413000"/>
                <a:ext cx="1794960" cy="758880"/>
                <a:chOff x="6622560" y="1413000"/>
                <a:chExt cx="1794960" cy="758880"/>
              </a:xfrm>
            </p:grpSpPr>
            <p:sp>
              <p:nvSpPr>
                <p:cNvPr id="4630" name=""/>
                <p:cNvSpPr/>
                <p:nvPr/>
              </p:nvSpPr>
              <p:spPr>
                <a:xfrm flipV="1">
                  <a:off x="6622560" y="1550880"/>
                  <a:ext cx="0" cy="621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1" name=""/>
                <p:cNvSpPr/>
                <p:nvPr/>
              </p:nvSpPr>
              <p:spPr>
                <a:xfrm flipV="1">
                  <a:off x="6622560" y="1413000"/>
                  <a:ext cx="897480" cy="137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2" name=""/>
                <p:cNvSpPr/>
                <p:nvPr/>
              </p:nvSpPr>
              <p:spPr>
                <a:xfrm flipV="1">
                  <a:off x="8417520" y="1550880"/>
                  <a:ext cx="0" cy="621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3" name=""/>
                <p:cNvSpPr/>
                <p:nvPr/>
              </p:nvSpPr>
              <p:spPr>
                <a:xfrm flipH="1" flipV="1">
                  <a:off x="7519680" y="1413000"/>
                  <a:ext cx="897480" cy="137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34" name=""/>
              <p:cNvGrpSpPr/>
              <p:nvPr/>
            </p:nvGrpSpPr>
            <p:grpSpPr>
              <a:xfrm>
                <a:off x="6791760" y="1244160"/>
                <a:ext cx="1794960" cy="758880"/>
                <a:chOff x="6791760" y="1244160"/>
                <a:chExt cx="1794960" cy="758880"/>
              </a:xfrm>
            </p:grpSpPr>
            <p:sp>
              <p:nvSpPr>
                <p:cNvPr id="4635" name=""/>
                <p:cNvSpPr/>
                <p:nvPr/>
              </p:nvSpPr>
              <p:spPr>
                <a:xfrm flipV="1">
                  <a:off x="6791760" y="1382040"/>
                  <a:ext cx="0" cy="621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6" name=""/>
                <p:cNvSpPr/>
                <p:nvPr/>
              </p:nvSpPr>
              <p:spPr>
                <a:xfrm flipV="1">
                  <a:off x="6791760" y="1244160"/>
                  <a:ext cx="897480" cy="137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7" name=""/>
                <p:cNvSpPr/>
                <p:nvPr/>
              </p:nvSpPr>
              <p:spPr>
                <a:xfrm flipV="1">
                  <a:off x="8586720" y="1382040"/>
                  <a:ext cx="0" cy="621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8" name=""/>
                <p:cNvSpPr/>
                <p:nvPr/>
              </p:nvSpPr>
              <p:spPr>
                <a:xfrm flipH="1" flipV="1">
                  <a:off x="7688880" y="1244160"/>
                  <a:ext cx="897480" cy="137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39" name=""/>
            <p:cNvGrpSpPr/>
            <p:nvPr/>
          </p:nvGrpSpPr>
          <p:grpSpPr>
            <a:xfrm>
              <a:off x="5946840" y="1074240"/>
              <a:ext cx="2809800" cy="1775160"/>
              <a:chOff x="5946840" y="1074240"/>
              <a:chExt cx="2809800" cy="1775160"/>
            </a:xfrm>
          </p:grpSpPr>
          <p:sp>
            <p:nvSpPr>
              <p:cNvPr id="4640" name=""/>
              <p:cNvSpPr/>
              <p:nvPr/>
            </p:nvSpPr>
            <p:spPr>
              <a:xfrm flipV="1">
                <a:off x="5946840" y="2089440"/>
                <a:ext cx="897480" cy="1378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1" name=""/>
              <p:cNvSpPr/>
              <p:nvPr/>
            </p:nvSpPr>
            <p:spPr>
              <a:xfrm flipH="1" flipV="1">
                <a:off x="6844320" y="2089440"/>
                <a:ext cx="897120" cy="1378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2" name=""/>
              <p:cNvSpPr/>
              <p:nvPr/>
            </p:nvSpPr>
            <p:spPr>
              <a:xfrm flipV="1">
                <a:off x="6961680" y="1074240"/>
                <a:ext cx="897480" cy="1378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43" name=""/>
              <p:cNvGrpSpPr/>
              <p:nvPr/>
            </p:nvGrpSpPr>
            <p:grpSpPr>
              <a:xfrm>
                <a:off x="5946840" y="1212480"/>
                <a:ext cx="2809800" cy="1636920"/>
                <a:chOff x="5946840" y="1212480"/>
                <a:chExt cx="2809800" cy="1636920"/>
              </a:xfrm>
            </p:grpSpPr>
            <p:sp>
              <p:nvSpPr>
                <p:cNvPr id="4644" name=""/>
                <p:cNvSpPr/>
                <p:nvPr/>
              </p:nvSpPr>
              <p:spPr>
                <a:xfrm flipV="1">
                  <a:off x="5946840" y="2228040"/>
                  <a:ext cx="0" cy="621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5" name=""/>
                <p:cNvSpPr/>
                <p:nvPr/>
              </p:nvSpPr>
              <p:spPr>
                <a:xfrm flipV="1">
                  <a:off x="7741440" y="2228040"/>
                  <a:ext cx="0" cy="621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6" name=""/>
                <p:cNvSpPr/>
                <p:nvPr/>
              </p:nvSpPr>
              <p:spPr>
                <a:xfrm flipV="1">
                  <a:off x="6961680" y="1212480"/>
                  <a:ext cx="0" cy="621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7" name=""/>
                <p:cNvSpPr/>
                <p:nvPr/>
              </p:nvSpPr>
              <p:spPr>
                <a:xfrm flipV="1">
                  <a:off x="8756640" y="1212480"/>
                  <a:ext cx="0" cy="621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48" name=""/>
              <p:cNvSpPr/>
              <p:nvPr/>
            </p:nvSpPr>
            <p:spPr>
              <a:xfrm flipH="1" flipV="1">
                <a:off x="7859160" y="1074240"/>
                <a:ext cx="897120" cy="1378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49" name=""/>
            <p:cNvGrpSpPr/>
            <p:nvPr/>
          </p:nvGrpSpPr>
          <p:grpSpPr>
            <a:xfrm>
              <a:off x="5946840" y="1386000"/>
              <a:ext cx="2809440" cy="1465200"/>
              <a:chOff x="5946840" y="1386000"/>
              <a:chExt cx="2809440" cy="1465200"/>
            </a:xfrm>
          </p:grpSpPr>
          <p:grpSp>
            <p:nvGrpSpPr>
              <p:cNvPr id="4650" name=""/>
              <p:cNvGrpSpPr/>
              <p:nvPr/>
            </p:nvGrpSpPr>
            <p:grpSpPr>
              <a:xfrm>
                <a:off x="5946840" y="1395360"/>
                <a:ext cx="1014840" cy="1455480"/>
                <a:chOff x="5946840" y="1395360"/>
                <a:chExt cx="1014840" cy="1455480"/>
              </a:xfrm>
            </p:grpSpPr>
            <p:sp>
              <p:nvSpPr>
                <p:cNvPr id="4651" name=""/>
                <p:cNvSpPr/>
                <p:nvPr/>
              </p:nvSpPr>
              <p:spPr>
                <a:xfrm flipV="1">
                  <a:off x="5946840" y="1395360"/>
                  <a:ext cx="1014840" cy="1013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2" name=""/>
                <p:cNvSpPr/>
                <p:nvPr/>
              </p:nvSpPr>
              <p:spPr>
                <a:xfrm flipV="1">
                  <a:off x="5946840" y="1550520"/>
                  <a:ext cx="1014840" cy="1013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3" name=""/>
                <p:cNvSpPr/>
                <p:nvPr/>
              </p:nvSpPr>
              <p:spPr>
                <a:xfrm flipV="1">
                  <a:off x="5946840" y="1688400"/>
                  <a:ext cx="1014840" cy="1013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4" name=""/>
                <p:cNvSpPr/>
                <p:nvPr/>
              </p:nvSpPr>
              <p:spPr>
                <a:xfrm flipV="1">
                  <a:off x="5946840" y="1837080"/>
                  <a:ext cx="1014840" cy="1013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55" name=""/>
              <p:cNvGrpSpPr/>
              <p:nvPr/>
            </p:nvGrpSpPr>
            <p:grpSpPr>
              <a:xfrm>
                <a:off x="7741440" y="1386000"/>
                <a:ext cx="1014840" cy="1465200"/>
                <a:chOff x="7741440" y="1386000"/>
                <a:chExt cx="1014840" cy="1465200"/>
              </a:xfrm>
            </p:grpSpPr>
            <p:sp>
              <p:nvSpPr>
                <p:cNvPr id="4656" name=""/>
                <p:cNvSpPr/>
                <p:nvPr/>
              </p:nvSpPr>
              <p:spPr>
                <a:xfrm flipV="1">
                  <a:off x="7741440" y="1837440"/>
                  <a:ext cx="1014840" cy="1013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7" name=""/>
                <p:cNvSpPr/>
                <p:nvPr/>
              </p:nvSpPr>
              <p:spPr>
                <a:xfrm flipV="1">
                  <a:off x="7741440" y="1386000"/>
                  <a:ext cx="1014840" cy="1013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8" name=""/>
                <p:cNvSpPr/>
                <p:nvPr/>
              </p:nvSpPr>
              <p:spPr>
                <a:xfrm flipV="1">
                  <a:off x="7741440" y="1541160"/>
                  <a:ext cx="1014840" cy="1013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9" name=""/>
                <p:cNvSpPr/>
                <p:nvPr/>
              </p:nvSpPr>
              <p:spPr>
                <a:xfrm flipV="1">
                  <a:off x="7741440" y="1690200"/>
                  <a:ext cx="1014840" cy="1013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60" name=""/>
            <p:cNvSpPr/>
            <p:nvPr/>
          </p:nvSpPr>
          <p:spPr>
            <a:xfrm flipV="1">
              <a:off x="6846840" y="1079640"/>
              <a:ext cx="1015920" cy="10159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61" name=""/>
            <p:cNvGrpSpPr/>
            <p:nvPr/>
          </p:nvGrpSpPr>
          <p:grpSpPr>
            <a:xfrm>
              <a:off x="5946840" y="1212840"/>
              <a:ext cx="2808360" cy="1014480"/>
              <a:chOff x="5946840" y="1212840"/>
              <a:chExt cx="2808360" cy="1014480"/>
            </a:xfrm>
          </p:grpSpPr>
          <p:sp>
            <p:nvSpPr>
              <p:cNvPr id="4662" name=""/>
              <p:cNvSpPr/>
              <p:nvPr/>
            </p:nvSpPr>
            <p:spPr>
              <a:xfrm flipV="1">
                <a:off x="7737120" y="1212840"/>
                <a:ext cx="1018080" cy="1014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3" name=""/>
              <p:cNvSpPr/>
              <p:nvPr/>
            </p:nvSpPr>
            <p:spPr>
              <a:xfrm flipV="1">
                <a:off x="5946840" y="1212840"/>
                <a:ext cx="1015200" cy="1014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64" name=""/>
            <p:cNvGrpSpPr/>
            <p:nvPr/>
          </p:nvGrpSpPr>
          <p:grpSpPr>
            <a:xfrm>
              <a:off x="6080040" y="1095120"/>
              <a:ext cx="2532240" cy="1113840"/>
              <a:chOff x="6080040" y="1095120"/>
              <a:chExt cx="2532240" cy="1113840"/>
            </a:xfrm>
          </p:grpSpPr>
          <p:sp>
            <p:nvSpPr>
              <p:cNvPr id="4665" name=""/>
              <p:cNvSpPr/>
              <p:nvPr/>
            </p:nvSpPr>
            <p:spPr>
              <a:xfrm flipV="1">
                <a:off x="7013160" y="1099440"/>
                <a:ext cx="1017720" cy="1017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6" name=""/>
              <p:cNvSpPr/>
              <p:nvPr/>
            </p:nvSpPr>
            <p:spPr>
              <a:xfrm flipV="1">
                <a:off x="7165800" y="1113120"/>
                <a:ext cx="1017720" cy="1017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7" name=""/>
              <p:cNvSpPr/>
              <p:nvPr/>
            </p:nvSpPr>
            <p:spPr>
              <a:xfrm flipV="1">
                <a:off x="7453440" y="1162800"/>
                <a:ext cx="1017720" cy="1017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8" name=""/>
              <p:cNvSpPr/>
              <p:nvPr/>
            </p:nvSpPr>
            <p:spPr>
              <a:xfrm flipV="1">
                <a:off x="7594560" y="1191960"/>
                <a:ext cx="1017720" cy="1017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9" name=""/>
              <p:cNvSpPr/>
              <p:nvPr/>
            </p:nvSpPr>
            <p:spPr>
              <a:xfrm flipV="1">
                <a:off x="6080040" y="1191960"/>
                <a:ext cx="1004040" cy="1017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0" name=""/>
              <p:cNvSpPr/>
              <p:nvPr/>
            </p:nvSpPr>
            <p:spPr>
              <a:xfrm flipV="1">
                <a:off x="6247080" y="1168560"/>
                <a:ext cx="1004040" cy="1017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1" name=""/>
              <p:cNvSpPr/>
              <p:nvPr/>
            </p:nvSpPr>
            <p:spPr>
              <a:xfrm flipV="1">
                <a:off x="6532920" y="1122840"/>
                <a:ext cx="1004040" cy="1017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2" name=""/>
              <p:cNvSpPr/>
              <p:nvPr/>
            </p:nvSpPr>
            <p:spPr>
              <a:xfrm flipV="1">
                <a:off x="6687000" y="1095120"/>
                <a:ext cx="1007640" cy="1017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3" name=""/>
              <p:cNvSpPr/>
              <p:nvPr/>
            </p:nvSpPr>
            <p:spPr>
              <a:xfrm flipV="1">
                <a:off x="6385680" y="1146240"/>
                <a:ext cx="1004040" cy="1017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4" name=""/>
              <p:cNvSpPr/>
              <p:nvPr/>
            </p:nvSpPr>
            <p:spPr>
              <a:xfrm flipV="1">
                <a:off x="7292520" y="1141200"/>
                <a:ext cx="1017720" cy="10245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75" name=""/>
            <p:cNvGrpSpPr/>
            <p:nvPr/>
          </p:nvGrpSpPr>
          <p:grpSpPr>
            <a:xfrm>
              <a:off x="5943600" y="1072800"/>
              <a:ext cx="2816280" cy="1154160"/>
              <a:chOff x="5943600" y="1072800"/>
              <a:chExt cx="2816280" cy="1154160"/>
            </a:xfrm>
          </p:grpSpPr>
          <p:grpSp>
            <p:nvGrpSpPr>
              <p:cNvPr id="4676" name=""/>
              <p:cNvGrpSpPr/>
              <p:nvPr/>
            </p:nvGrpSpPr>
            <p:grpSpPr>
              <a:xfrm>
                <a:off x="5943600" y="1918080"/>
                <a:ext cx="1964880" cy="308880"/>
                <a:chOff x="5943600" y="1918080"/>
                <a:chExt cx="1964880" cy="308880"/>
              </a:xfrm>
            </p:grpSpPr>
            <p:sp>
              <p:nvSpPr>
                <p:cNvPr id="4677" name=""/>
                <p:cNvSpPr/>
                <p:nvPr/>
              </p:nvSpPr>
              <p:spPr>
                <a:xfrm flipH="1" flipV="1">
                  <a:off x="7010640" y="1919520"/>
                  <a:ext cx="152640" cy="2156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8" name=""/>
                <p:cNvSpPr/>
                <p:nvPr/>
              </p:nvSpPr>
              <p:spPr>
                <a:xfrm flipH="1">
                  <a:off x="6524280" y="1919880"/>
                  <a:ext cx="486000" cy="2156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9" name=""/>
                <p:cNvSpPr/>
                <p:nvPr/>
              </p:nvSpPr>
              <p:spPr>
                <a:xfrm flipH="1" flipV="1">
                  <a:off x="7601040" y="2002320"/>
                  <a:ext cx="137880" cy="2242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0" name=""/>
                <p:cNvSpPr/>
                <p:nvPr/>
              </p:nvSpPr>
              <p:spPr>
                <a:xfrm flipV="1">
                  <a:off x="7451280" y="2056680"/>
                  <a:ext cx="457200" cy="1270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1" name=""/>
                <p:cNvSpPr/>
                <p:nvPr/>
              </p:nvSpPr>
              <p:spPr>
                <a:xfrm flipH="1" flipV="1">
                  <a:off x="7312320" y="1970280"/>
                  <a:ext cx="138960" cy="213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2" name=""/>
                <p:cNvSpPr/>
                <p:nvPr/>
              </p:nvSpPr>
              <p:spPr>
                <a:xfrm flipH="1">
                  <a:off x="7151400" y="2009520"/>
                  <a:ext cx="473400" cy="1260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3" name=""/>
                <p:cNvSpPr/>
                <p:nvPr/>
              </p:nvSpPr>
              <p:spPr>
                <a:xfrm flipH="1">
                  <a:off x="6865920" y="1970640"/>
                  <a:ext cx="446400" cy="1155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4" name=""/>
                <p:cNvSpPr/>
                <p:nvPr/>
              </p:nvSpPr>
              <p:spPr>
                <a:xfrm flipH="1" flipV="1">
                  <a:off x="6694200" y="1960560"/>
                  <a:ext cx="171000" cy="1249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5" name=""/>
                <p:cNvSpPr/>
                <p:nvPr/>
              </p:nvSpPr>
              <p:spPr>
                <a:xfrm flipH="1" flipV="1">
                  <a:off x="6411960" y="2009160"/>
                  <a:ext cx="117720" cy="1292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6" name=""/>
                <p:cNvSpPr/>
                <p:nvPr/>
              </p:nvSpPr>
              <p:spPr>
                <a:xfrm flipH="1">
                  <a:off x="6242040" y="1970640"/>
                  <a:ext cx="452160" cy="213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7" name=""/>
                <p:cNvSpPr/>
                <p:nvPr/>
              </p:nvSpPr>
              <p:spPr>
                <a:xfrm flipH="1" flipV="1">
                  <a:off x="6112800" y="2056680"/>
                  <a:ext cx="131040" cy="1213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8" name=""/>
                <p:cNvSpPr/>
                <p:nvPr/>
              </p:nvSpPr>
              <p:spPr>
                <a:xfrm flipH="1">
                  <a:off x="5943600" y="2009520"/>
                  <a:ext cx="468720" cy="217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9" name=""/>
                <p:cNvSpPr/>
                <p:nvPr/>
              </p:nvSpPr>
              <p:spPr>
                <a:xfrm flipV="1">
                  <a:off x="7736400" y="2056680"/>
                  <a:ext cx="165960" cy="165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0" name=""/>
                <p:cNvSpPr/>
                <p:nvPr/>
              </p:nvSpPr>
              <p:spPr>
                <a:xfrm flipV="1">
                  <a:off x="6853680" y="1918080"/>
                  <a:ext cx="165960" cy="165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1" name=""/>
                <p:cNvSpPr/>
                <p:nvPr/>
              </p:nvSpPr>
              <p:spPr>
                <a:xfrm flipV="1">
                  <a:off x="7156080" y="1966320"/>
                  <a:ext cx="165960" cy="165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2" name=""/>
                <p:cNvSpPr/>
                <p:nvPr/>
              </p:nvSpPr>
              <p:spPr>
                <a:xfrm flipV="1">
                  <a:off x="5946480" y="2053800"/>
                  <a:ext cx="165960" cy="165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3" name=""/>
                <p:cNvSpPr/>
                <p:nvPr/>
              </p:nvSpPr>
              <p:spPr>
                <a:xfrm flipV="1">
                  <a:off x="6248880" y="2008440"/>
                  <a:ext cx="165960" cy="165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4" name=""/>
                <p:cNvSpPr/>
                <p:nvPr/>
              </p:nvSpPr>
              <p:spPr>
                <a:xfrm flipV="1">
                  <a:off x="6533280" y="1966320"/>
                  <a:ext cx="165960" cy="165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5" name=""/>
                <p:cNvSpPr/>
                <p:nvPr/>
              </p:nvSpPr>
              <p:spPr>
                <a:xfrm flipV="1">
                  <a:off x="6109920" y="1920960"/>
                  <a:ext cx="903960" cy="135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6" name=""/>
                <p:cNvSpPr/>
                <p:nvPr/>
              </p:nvSpPr>
              <p:spPr>
                <a:xfrm flipV="1">
                  <a:off x="5946480" y="2090160"/>
                  <a:ext cx="903960" cy="135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7" name=""/>
                <p:cNvSpPr/>
                <p:nvPr/>
              </p:nvSpPr>
              <p:spPr>
                <a:xfrm>
                  <a:off x="6850800" y="2090520"/>
                  <a:ext cx="879480" cy="135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8" name=""/>
                <p:cNvSpPr/>
                <p:nvPr/>
              </p:nvSpPr>
              <p:spPr>
                <a:xfrm>
                  <a:off x="7016760" y="1921320"/>
                  <a:ext cx="879480" cy="135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9" name=""/>
                <p:cNvSpPr/>
                <p:nvPr/>
              </p:nvSpPr>
              <p:spPr>
                <a:xfrm flipV="1">
                  <a:off x="7443360" y="2017440"/>
                  <a:ext cx="165960" cy="165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0" name=""/>
              <p:cNvGrpSpPr/>
              <p:nvPr/>
            </p:nvGrpSpPr>
            <p:grpSpPr>
              <a:xfrm>
                <a:off x="6795000" y="1072800"/>
                <a:ext cx="1964880" cy="308880"/>
                <a:chOff x="6795000" y="1072800"/>
                <a:chExt cx="1964880" cy="308880"/>
              </a:xfrm>
            </p:grpSpPr>
            <p:sp>
              <p:nvSpPr>
                <p:cNvPr id="4701" name=""/>
                <p:cNvSpPr/>
                <p:nvPr/>
              </p:nvSpPr>
              <p:spPr>
                <a:xfrm flipH="1" flipV="1">
                  <a:off x="7862040" y="1074240"/>
                  <a:ext cx="152640" cy="2156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2" name=""/>
                <p:cNvSpPr/>
                <p:nvPr/>
              </p:nvSpPr>
              <p:spPr>
                <a:xfrm flipH="1">
                  <a:off x="7375680" y="1074600"/>
                  <a:ext cx="486000" cy="2156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3" name=""/>
                <p:cNvSpPr/>
                <p:nvPr/>
              </p:nvSpPr>
              <p:spPr>
                <a:xfrm flipH="1" flipV="1">
                  <a:off x="8452440" y="1157040"/>
                  <a:ext cx="137880" cy="2242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4" name=""/>
                <p:cNvSpPr/>
                <p:nvPr/>
              </p:nvSpPr>
              <p:spPr>
                <a:xfrm flipV="1">
                  <a:off x="8302680" y="1211400"/>
                  <a:ext cx="457200" cy="1270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5" name=""/>
                <p:cNvSpPr/>
                <p:nvPr/>
              </p:nvSpPr>
              <p:spPr>
                <a:xfrm flipH="1" flipV="1">
                  <a:off x="8163720" y="1125000"/>
                  <a:ext cx="138960" cy="213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6" name=""/>
                <p:cNvSpPr/>
                <p:nvPr/>
              </p:nvSpPr>
              <p:spPr>
                <a:xfrm flipH="1">
                  <a:off x="8002800" y="1164240"/>
                  <a:ext cx="473400" cy="1260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7" name=""/>
                <p:cNvSpPr/>
                <p:nvPr/>
              </p:nvSpPr>
              <p:spPr>
                <a:xfrm flipH="1">
                  <a:off x="7717320" y="1125360"/>
                  <a:ext cx="446400" cy="1155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8" name=""/>
                <p:cNvSpPr/>
                <p:nvPr/>
              </p:nvSpPr>
              <p:spPr>
                <a:xfrm flipH="1" flipV="1">
                  <a:off x="7545600" y="1115280"/>
                  <a:ext cx="171000" cy="1249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9" name=""/>
                <p:cNvSpPr/>
                <p:nvPr/>
              </p:nvSpPr>
              <p:spPr>
                <a:xfrm flipH="1" flipV="1">
                  <a:off x="7263360" y="1163880"/>
                  <a:ext cx="117720" cy="1292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0" name=""/>
                <p:cNvSpPr/>
                <p:nvPr/>
              </p:nvSpPr>
              <p:spPr>
                <a:xfrm flipH="1">
                  <a:off x="7093440" y="1125360"/>
                  <a:ext cx="452160" cy="213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1" name=""/>
                <p:cNvSpPr/>
                <p:nvPr/>
              </p:nvSpPr>
              <p:spPr>
                <a:xfrm flipH="1" flipV="1">
                  <a:off x="6964200" y="1211400"/>
                  <a:ext cx="131040" cy="1213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2" name=""/>
                <p:cNvSpPr/>
                <p:nvPr/>
              </p:nvSpPr>
              <p:spPr>
                <a:xfrm flipH="1">
                  <a:off x="6795000" y="1164240"/>
                  <a:ext cx="468720" cy="217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3" name=""/>
                <p:cNvSpPr/>
                <p:nvPr/>
              </p:nvSpPr>
              <p:spPr>
                <a:xfrm flipV="1">
                  <a:off x="8587800" y="1211400"/>
                  <a:ext cx="165960" cy="165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4" name=""/>
                <p:cNvSpPr/>
                <p:nvPr/>
              </p:nvSpPr>
              <p:spPr>
                <a:xfrm flipV="1">
                  <a:off x="7705080" y="1072800"/>
                  <a:ext cx="165960" cy="165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5" name=""/>
                <p:cNvSpPr/>
                <p:nvPr/>
              </p:nvSpPr>
              <p:spPr>
                <a:xfrm flipV="1">
                  <a:off x="8007480" y="1121040"/>
                  <a:ext cx="165960" cy="165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6" name=""/>
                <p:cNvSpPr/>
                <p:nvPr/>
              </p:nvSpPr>
              <p:spPr>
                <a:xfrm flipV="1">
                  <a:off x="6797880" y="1208520"/>
                  <a:ext cx="165960" cy="165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7" name=""/>
                <p:cNvSpPr/>
                <p:nvPr/>
              </p:nvSpPr>
              <p:spPr>
                <a:xfrm flipV="1">
                  <a:off x="7100280" y="1163160"/>
                  <a:ext cx="165960" cy="165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8" name=""/>
                <p:cNvSpPr/>
                <p:nvPr/>
              </p:nvSpPr>
              <p:spPr>
                <a:xfrm flipV="1">
                  <a:off x="7384680" y="1121040"/>
                  <a:ext cx="165960" cy="165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9" name=""/>
                <p:cNvSpPr/>
                <p:nvPr/>
              </p:nvSpPr>
              <p:spPr>
                <a:xfrm flipV="1">
                  <a:off x="6961320" y="1075680"/>
                  <a:ext cx="903960" cy="135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0" name=""/>
                <p:cNvSpPr/>
                <p:nvPr/>
              </p:nvSpPr>
              <p:spPr>
                <a:xfrm flipV="1">
                  <a:off x="6797880" y="1244880"/>
                  <a:ext cx="903960" cy="135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1" name=""/>
                <p:cNvSpPr/>
                <p:nvPr/>
              </p:nvSpPr>
              <p:spPr>
                <a:xfrm>
                  <a:off x="7702200" y="1245240"/>
                  <a:ext cx="879480" cy="135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2" name=""/>
                <p:cNvSpPr/>
                <p:nvPr/>
              </p:nvSpPr>
              <p:spPr>
                <a:xfrm>
                  <a:off x="7868160" y="1076040"/>
                  <a:ext cx="879480" cy="135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3" name=""/>
                <p:cNvSpPr/>
                <p:nvPr/>
              </p:nvSpPr>
              <p:spPr>
                <a:xfrm flipV="1">
                  <a:off x="8294760" y="1172160"/>
                  <a:ext cx="165960" cy="165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724" name=""/>
          <p:cNvSpPr/>
          <p:nvPr/>
        </p:nvSpPr>
        <p:spPr>
          <a:xfrm>
            <a:off x="2655720" y="1566720"/>
            <a:ext cx="34689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BONNE RÉ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5" name=""/>
          <p:cNvSpPr/>
          <p:nvPr/>
        </p:nvSpPr>
        <p:spPr>
          <a:xfrm>
            <a:off x="7227720" y="413244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6" name="">
            <a:hlinkClick r:id="" action="ppaction://hlinkshowjump?jump=nextslide"/>
          </p:cNvPr>
          <p:cNvSpPr/>
          <p:nvPr/>
        </p:nvSpPr>
        <p:spPr>
          <a:xfrm>
            <a:off x="7256520" y="419724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7" name=""/>
          <p:cNvSpPr/>
          <p:nvPr/>
        </p:nvSpPr>
        <p:spPr>
          <a:xfrm>
            <a:off x="8177040" y="413244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8" name="">
            <a:hlinkClick r:id="rId1" action="ppaction://hlinksldjump"/>
          </p:cNvPr>
          <p:cNvSpPr/>
          <p:nvPr/>
        </p:nvSpPr>
        <p:spPr>
          <a:xfrm>
            <a:off x="8205840" y="419724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9" name=""/>
          <p:cNvSpPr/>
          <p:nvPr/>
        </p:nvSpPr>
        <p:spPr>
          <a:xfrm>
            <a:off x="7227720" y="362916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0" name=""/>
          <p:cNvSpPr/>
          <p:nvPr/>
        </p:nvSpPr>
        <p:spPr>
          <a:xfrm>
            <a:off x="7256520" y="369396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1" name="">
            <a:hlinkClick r:id="rId2" action="ppaction://hlinksldjump"/>
          </p:cNvPr>
          <p:cNvSpPr/>
          <p:nvPr/>
        </p:nvSpPr>
        <p:spPr>
          <a:xfrm>
            <a:off x="8177040" y="362916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2" name=""/>
          <p:cNvSpPr/>
          <p:nvPr/>
        </p:nvSpPr>
        <p:spPr>
          <a:xfrm>
            <a:off x="8205840" y="369396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3" name=""/>
          <p:cNvSpPr/>
          <p:nvPr/>
        </p:nvSpPr>
        <p:spPr>
          <a:xfrm>
            <a:off x="7227720" y="319572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4" name=""/>
          <p:cNvSpPr/>
          <p:nvPr/>
        </p:nvSpPr>
        <p:spPr>
          <a:xfrm>
            <a:off x="7256520" y="3260880"/>
            <a:ext cx="693720" cy="2156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5" name="">
            <a:hlinkClick r:id="rId3" action="ppaction://hlinksldjump"/>
          </p:cNvPr>
          <p:cNvSpPr/>
          <p:nvPr/>
        </p:nvSpPr>
        <p:spPr>
          <a:xfrm>
            <a:off x="8177040" y="319572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6" name=""/>
          <p:cNvSpPr/>
          <p:nvPr/>
        </p:nvSpPr>
        <p:spPr>
          <a:xfrm>
            <a:off x="8205840" y="3260880"/>
            <a:ext cx="693720" cy="2156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7" name=""/>
          <p:cNvSpPr/>
          <p:nvPr/>
        </p:nvSpPr>
        <p:spPr>
          <a:xfrm>
            <a:off x="7142040" y="4570560"/>
            <a:ext cx="185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8" name=""/>
          <p:cNvSpPr/>
          <p:nvPr/>
        </p:nvSpPr>
        <p:spPr>
          <a:xfrm>
            <a:off x="179280" y="352440"/>
            <a:ext cx="87537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ncernant l’action du vent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9" name=""/>
          <p:cNvSpPr/>
          <p:nvPr/>
        </p:nvSpPr>
        <p:spPr>
          <a:xfrm>
            <a:off x="101520" y="3619440"/>
            <a:ext cx="7043760" cy="358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 vent apparaît sur toutes les parois en même tem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0" name=""/>
          <p:cNvSpPr/>
          <p:nvPr/>
        </p:nvSpPr>
        <p:spPr>
          <a:xfrm>
            <a:off x="101520" y="4021200"/>
            <a:ext cx="7043760" cy="555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 vent crée en même temps une pression sur une paroi et une dépression sur la paroi opposé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1" name=""/>
          <p:cNvSpPr/>
          <p:nvPr/>
        </p:nvSpPr>
        <p:spPr>
          <a:xfrm>
            <a:off x="101520" y="3186000"/>
            <a:ext cx="7043760" cy="3621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 calcul est mené paroi par paroi et non pas sur le bâtiment dans son ensem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2" name=""/>
          <p:cNvGrpSpPr/>
          <p:nvPr/>
        </p:nvGrpSpPr>
        <p:grpSpPr>
          <a:xfrm>
            <a:off x="5894280" y="1071720"/>
            <a:ext cx="2893680" cy="1879560"/>
            <a:chOff x="5894280" y="1071720"/>
            <a:chExt cx="2893680" cy="1879560"/>
          </a:xfrm>
        </p:grpSpPr>
        <p:grpSp>
          <p:nvGrpSpPr>
            <p:cNvPr id="4743" name=""/>
            <p:cNvGrpSpPr/>
            <p:nvPr/>
          </p:nvGrpSpPr>
          <p:grpSpPr>
            <a:xfrm>
              <a:off x="5894280" y="1844640"/>
              <a:ext cx="2893680" cy="1106640"/>
              <a:chOff x="5894280" y="1844640"/>
              <a:chExt cx="2893680" cy="1106640"/>
            </a:xfrm>
          </p:grpSpPr>
          <p:grpSp>
            <p:nvGrpSpPr>
              <p:cNvPr id="4744" name=""/>
              <p:cNvGrpSpPr/>
              <p:nvPr/>
            </p:nvGrpSpPr>
            <p:grpSpPr>
              <a:xfrm>
                <a:off x="6068160" y="2036520"/>
                <a:ext cx="759600" cy="749520"/>
                <a:chOff x="6068160" y="2036520"/>
                <a:chExt cx="759600" cy="749520"/>
              </a:xfrm>
            </p:grpSpPr>
            <p:sp>
              <p:nvSpPr>
                <p:cNvPr id="4745" name=""/>
                <p:cNvSpPr/>
                <p:nvPr/>
              </p:nvSpPr>
              <p:spPr>
                <a:xfrm>
                  <a:off x="6744600" y="2036520"/>
                  <a:ext cx="83160" cy="83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6" name=""/>
                <p:cNvSpPr/>
                <p:nvPr/>
              </p:nvSpPr>
              <p:spPr>
                <a:xfrm>
                  <a:off x="6571800" y="2193840"/>
                  <a:ext cx="83160" cy="83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7" name=""/>
                <p:cNvSpPr/>
                <p:nvPr/>
              </p:nvSpPr>
              <p:spPr>
                <a:xfrm>
                  <a:off x="6406560" y="2356920"/>
                  <a:ext cx="83160" cy="83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8" name=""/>
                <p:cNvSpPr/>
                <p:nvPr/>
              </p:nvSpPr>
              <p:spPr>
                <a:xfrm>
                  <a:off x="6235920" y="2526480"/>
                  <a:ext cx="83520" cy="83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9" name=""/>
                <p:cNvSpPr/>
                <p:nvPr/>
              </p:nvSpPr>
              <p:spPr>
                <a:xfrm>
                  <a:off x="6068160" y="2702880"/>
                  <a:ext cx="83160" cy="83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50" name=""/>
              <p:cNvGrpSpPr/>
              <p:nvPr/>
            </p:nvGrpSpPr>
            <p:grpSpPr>
              <a:xfrm>
                <a:off x="7870320" y="2023200"/>
                <a:ext cx="747720" cy="757800"/>
                <a:chOff x="7870320" y="2023200"/>
                <a:chExt cx="747720" cy="757800"/>
              </a:xfrm>
            </p:grpSpPr>
            <p:sp>
              <p:nvSpPr>
                <p:cNvPr id="4751" name=""/>
                <p:cNvSpPr/>
                <p:nvPr/>
              </p:nvSpPr>
              <p:spPr>
                <a:xfrm>
                  <a:off x="8534880" y="2023200"/>
                  <a:ext cx="83160" cy="83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2" name=""/>
                <p:cNvSpPr/>
                <p:nvPr/>
              </p:nvSpPr>
              <p:spPr>
                <a:xfrm>
                  <a:off x="8367840" y="2188800"/>
                  <a:ext cx="83520" cy="83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3" name=""/>
                <p:cNvSpPr/>
                <p:nvPr/>
              </p:nvSpPr>
              <p:spPr>
                <a:xfrm>
                  <a:off x="8202600" y="2351520"/>
                  <a:ext cx="83160" cy="83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4" name=""/>
                <p:cNvSpPr/>
                <p:nvPr/>
              </p:nvSpPr>
              <p:spPr>
                <a:xfrm>
                  <a:off x="8028000" y="2521080"/>
                  <a:ext cx="85320" cy="83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5" name=""/>
                <p:cNvSpPr/>
                <p:nvPr/>
              </p:nvSpPr>
              <p:spPr>
                <a:xfrm>
                  <a:off x="7870320" y="2697840"/>
                  <a:ext cx="83160" cy="83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56" name=""/>
              <p:cNvGrpSpPr/>
              <p:nvPr/>
            </p:nvGrpSpPr>
            <p:grpSpPr>
              <a:xfrm>
                <a:off x="6904800" y="1844640"/>
                <a:ext cx="1883160" cy="85320"/>
                <a:chOff x="6904800" y="1844640"/>
                <a:chExt cx="1883160" cy="85320"/>
              </a:xfrm>
            </p:grpSpPr>
            <p:sp>
              <p:nvSpPr>
                <p:cNvPr id="4757" name=""/>
                <p:cNvSpPr/>
                <p:nvPr/>
              </p:nvSpPr>
              <p:spPr>
                <a:xfrm>
                  <a:off x="8704800" y="1846800"/>
                  <a:ext cx="83160" cy="83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8" name=""/>
                <p:cNvSpPr/>
                <p:nvPr/>
              </p:nvSpPr>
              <p:spPr>
                <a:xfrm>
                  <a:off x="6904800" y="1844640"/>
                  <a:ext cx="83520" cy="83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9" name=""/>
                <p:cNvSpPr/>
                <p:nvPr/>
              </p:nvSpPr>
              <p:spPr>
                <a:xfrm>
                  <a:off x="8116560" y="1844640"/>
                  <a:ext cx="83520" cy="83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0" name=""/>
                <p:cNvSpPr/>
                <p:nvPr/>
              </p:nvSpPr>
              <p:spPr>
                <a:xfrm>
                  <a:off x="7209000" y="1844640"/>
                  <a:ext cx="83160" cy="83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1" name=""/>
                <p:cNvSpPr/>
                <p:nvPr/>
              </p:nvSpPr>
              <p:spPr>
                <a:xfrm>
                  <a:off x="7491240" y="1844640"/>
                  <a:ext cx="83160" cy="83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2" name=""/>
                <p:cNvSpPr/>
                <p:nvPr/>
              </p:nvSpPr>
              <p:spPr>
                <a:xfrm>
                  <a:off x="7791480" y="1844640"/>
                  <a:ext cx="83160" cy="83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3" name=""/>
                <p:cNvSpPr/>
                <p:nvPr/>
              </p:nvSpPr>
              <p:spPr>
                <a:xfrm>
                  <a:off x="8417880" y="1844640"/>
                  <a:ext cx="83160" cy="83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4" name=""/>
              <p:cNvGrpSpPr/>
              <p:nvPr/>
            </p:nvGrpSpPr>
            <p:grpSpPr>
              <a:xfrm>
                <a:off x="5894280" y="2867760"/>
                <a:ext cx="1879200" cy="83520"/>
                <a:chOff x="5894280" y="2867760"/>
                <a:chExt cx="1879200" cy="83520"/>
              </a:xfrm>
            </p:grpSpPr>
            <p:sp>
              <p:nvSpPr>
                <p:cNvPr id="4765" name=""/>
                <p:cNvSpPr/>
                <p:nvPr/>
              </p:nvSpPr>
              <p:spPr>
                <a:xfrm>
                  <a:off x="7689960" y="2867760"/>
                  <a:ext cx="83520" cy="83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6" name=""/>
                <p:cNvSpPr/>
                <p:nvPr/>
              </p:nvSpPr>
              <p:spPr>
                <a:xfrm>
                  <a:off x="5894280" y="2867760"/>
                  <a:ext cx="83160" cy="83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7" name=""/>
                <p:cNvSpPr/>
                <p:nvPr/>
              </p:nvSpPr>
              <p:spPr>
                <a:xfrm>
                  <a:off x="6196320" y="2867760"/>
                  <a:ext cx="83160" cy="83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8" name=""/>
                <p:cNvSpPr/>
                <p:nvPr/>
              </p:nvSpPr>
              <p:spPr>
                <a:xfrm>
                  <a:off x="6484320" y="2867760"/>
                  <a:ext cx="83160" cy="83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9" name=""/>
                <p:cNvSpPr/>
                <p:nvPr/>
              </p:nvSpPr>
              <p:spPr>
                <a:xfrm>
                  <a:off x="7108920" y="2867760"/>
                  <a:ext cx="83160" cy="83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0" name=""/>
                <p:cNvSpPr/>
                <p:nvPr/>
              </p:nvSpPr>
              <p:spPr>
                <a:xfrm>
                  <a:off x="7396920" y="2867760"/>
                  <a:ext cx="83160" cy="83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771" name=""/>
            <p:cNvSpPr/>
            <p:nvPr/>
          </p:nvSpPr>
          <p:spPr>
            <a:xfrm rot="18860400">
              <a:off x="6585840" y="2543760"/>
              <a:ext cx="507960" cy="252360"/>
            </a:xfrm>
            <a:custGeom>
              <a:avLst/>
              <a:gdLst>
                <a:gd name="textAreaLeft" fmla="*/ 63360 w 507960"/>
                <a:gd name="textAreaRight" fmla="*/ 444600 w 507960"/>
                <a:gd name="textAreaTop" fmla="*/ 63000 h 252360"/>
                <a:gd name="textAreaBottom" fmla="*/ 189360 h 25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72" name=""/>
            <p:cNvGrpSpPr/>
            <p:nvPr/>
          </p:nvGrpSpPr>
          <p:grpSpPr>
            <a:xfrm>
              <a:off x="5943600" y="1219320"/>
              <a:ext cx="2819520" cy="1632960"/>
              <a:chOff x="5943600" y="1219320"/>
              <a:chExt cx="2819520" cy="1632960"/>
            </a:xfrm>
          </p:grpSpPr>
          <p:grpSp>
            <p:nvGrpSpPr>
              <p:cNvPr id="4773" name=""/>
              <p:cNvGrpSpPr/>
              <p:nvPr/>
            </p:nvGrpSpPr>
            <p:grpSpPr>
              <a:xfrm>
                <a:off x="6949800" y="1219320"/>
                <a:ext cx="1813320" cy="611280"/>
                <a:chOff x="6949800" y="1219320"/>
                <a:chExt cx="1813320" cy="611280"/>
              </a:xfrm>
            </p:grpSpPr>
            <p:sp>
              <p:nvSpPr>
                <p:cNvPr id="4774" name=""/>
                <p:cNvSpPr/>
                <p:nvPr/>
              </p:nvSpPr>
              <p:spPr>
                <a:xfrm>
                  <a:off x="6968160" y="1219320"/>
                  <a:ext cx="17949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5" name=""/>
                <p:cNvSpPr/>
                <p:nvPr/>
              </p:nvSpPr>
              <p:spPr>
                <a:xfrm>
                  <a:off x="6963120" y="1397880"/>
                  <a:ext cx="17949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6" name=""/>
                <p:cNvSpPr/>
                <p:nvPr/>
              </p:nvSpPr>
              <p:spPr>
                <a:xfrm>
                  <a:off x="6956640" y="1691640"/>
                  <a:ext cx="18036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7" name=""/>
                <p:cNvSpPr/>
                <p:nvPr/>
              </p:nvSpPr>
              <p:spPr>
                <a:xfrm>
                  <a:off x="6963840" y="1544760"/>
                  <a:ext cx="17964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8" name=""/>
                <p:cNvSpPr/>
                <p:nvPr/>
              </p:nvSpPr>
              <p:spPr>
                <a:xfrm>
                  <a:off x="6949800" y="1830600"/>
                  <a:ext cx="17949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79" name=""/>
              <p:cNvGrpSpPr/>
              <p:nvPr/>
            </p:nvGrpSpPr>
            <p:grpSpPr>
              <a:xfrm>
                <a:off x="5943600" y="2231280"/>
                <a:ext cx="1803960" cy="621000"/>
                <a:chOff x="5943600" y="2231280"/>
                <a:chExt cx="1803960" cy="621000"/>
              </a:xfrm>
            </p:grpSpPr>
            <p:sp>
              <p:nvSpPr>
                <p:cNvPr id="4780" name=""/>
                <p:cNvSpPr/>
                <p:nvPr/>
              </p:nvSpPr>
              <p:spPr>
                <a:xfrm>
                  <a:off x="7158960" y="2852280"/>
                  <a:ext cx="5842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1" name=""/>
                <p:cNvSpPr/>
                <p:nvPr/>
              </p:nvSpPr>
              <p:spPr>
                <a:xfrm>
                  <a:off x="5952960" y="2231280"/>
                  <a:ext cx="17946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2" name=""/>
                <p:cNvSpPr/>
                <p:nvPr/>
              </p:nvSpPr>
              <p:spPr>
                <a:xfrm>
                  <a:off x="5948280" y="2409840"/>
                  <a:ext cx="17946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3" name=""/>
                <p:cNvSpPr/>
                <p:nvPr/>
              </p:nvSpPr>
              <p:spPr>
                <a:xfrm>
                  <a:off x="7155720" y="2703600"/>
                  <a:ext cx="5889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4" name=""/>
                <p:cNvSpPr/>
                <p:nvPr/>
              </p:nvSpPr>
              <p:spPr>
                <a:xfrm>
                  <a:off x="5943600" y="2556720"/>
                  <a:ext cx="5911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5" name=""/>
                <p:cNvSpPr/>
                <p:nvPr/>
              </p:nvSpPr>
              <p:spPr>
                <a:xfrm>
                  <a:off x="7155720" y="2556720"/>
                  <a:ext cx="5889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6" name=""/>
                <p:cNvSpPr/>
                <p:nvPr/>
              </p:nvSpPr>
              <p:spPr>
                <a:xfrm>
                  <a:off x="5948280" y="2703600"/>
                  <a:ext cx="5911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7" name=""/>
                <p:cNvSpPr/>
                <p:nvPr/>
              </p:nvSpPr>
              <p:spPr>
                <a:xfrm>
                  <a:off x="5948280" y="2848680"/>
                  <a:ext cx="5842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788" name=""/>
            <p:cNvGrpSpPr/>
            <p:nvPr/>
          </p:nvGrpSpPr>
          <p:grpSpPr>
            <a:xfrm>
              <a:off x="5942160" y="1071720"/>
              <a:ext cx="2814480" cy="1777320"/>
              <a:chOff x="5942160" y="1071720"/>
              <a:chExt cx="2814480" cy="1777320"/>
            </a:xfrm>
          </p:grpSpPr>
          <p:sp>
            <p:nvSpPr>
              <p:cNvPr id="4789" name=""/>
              <p:cNvSpPr/>
              <p:nvPr/>
            </p:nvSpPr>
            <p:spPr>
              <a:xfrm>
                <a:off x="6846480" y="2098440"/>
                <a:ext cx="0" cy="309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90" name=""/>
              <p:cNvGrpSpPr/>
              <p:nvPr/>
            </p:nvGrpSpPr>
            <p:grpSpPr>
              <a:xfrm>
                <a:off x="5942160" y="1071720"/>
                <a:ext cx="2814480" cy="1777320"/>
                <a:chOff x="5942160" y="1071720"/>
                <a:chExt cx="2814480" cy="1777320"/>
              </a:xfrm>
            </p:grpSpPr>
            <p:grpSp>
              <p:nvGrpSpPr>
                <p:cNvPr id="4791" name=""/>
                <p:cNvGrpSpPr/>
                <p:nvPr/>
              </p:nvGrpSpPr>
              <p:grpSpPr>
                <a:xfrm>
                  <a:off x="6960960" y="1071720"/>
                  <a:ext cx="1795680" cy="757080"/>
                  <a:chOff x="6960960" y="1071720"/>
                  <a:chExt cx="1795680" cy="757080"/>
                </a:xfrm>
              </p:grpSpPr>
              <p:sp>
                <p:nvSpPr>
                  <p:cNvPr id="4792" name=""/>
                  <p:cNvSpPr/>
                  <p:nvPr/>
                </p:nvSpPr>
                <p:spPr>
                  <a:xfrm>
                    <a:off x="8469360" y="1165320"/>
                    <a:ext cx="0" cy="6634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3" name=""/>
                  <p:cNvSpPr/>
                  <p:nvPr/>
                </p:nvSpPr>
                <p:spPr>
                  <a:xfrm>
                    <a:off x="8756640" y="1215360"/>
                    <a:ext cx="0" cy="613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4" name=""/>
                  <p:cNvSpPr/>
                  <p:nvPr/>
                </p:nvSpPr>
                <p:spPr>
                  <a:xfrm>
                    <a:off x="8169480" y="1126080"/>
                    <a:ext cx="0" cy="702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5" name=""/>
                  <p:cNvSpPr/>
                  <p:nvPr/>
                </p:nvSpPr>
                <p:spPr>
                  <a:xfrm>
                    <a:off x="7859520" y="1071720"/>
                    <a:ext cx="0" cy="757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6" name=""/>
                  <p:cNvSpPr/>
                  <p:nvPr/>
                </p:nvSpPr>
                <p:spPr>
                  <a:xfrm>
                    <a:off x="7547760" y="1119240"/>
                    <a:ext cx="0" cy="709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7" name=""/>
                  <p:cNvSpPr/>
                  <p:nvPr/>
                </p:nvSpPr>
                <p:spPr>
                  <a:xfrm>
                    <a:off x="6960960" y="1212480"/>
                    <a:ext cx="0" cy="6163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8" name=""/>
                  <p:cNvSpPr/>
                  <p:nvPr/>
                </p:nvSpPr>
                <p:spPr>
                  <a:xfrm>
                    <a:off x="7261200" y="1170360"/>
                    <a:ext cx="0" cy="658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99" name=""/>
                <p:cNvGrpSpPr/>
                <p:nvPr/>
              </p:nvGrpSpPr>
              <p:grpSpPr>
                <a:xfrm>
                  <a:off x="5942160" y="2136960"/>
                  <a:ext cx="1801800" cy="712080"/>
                  <a:chOff x="5942160" y="2136960"/>
                  <a:chExt cx="1801800" cy="712080"/>
                </a:xfrm>
              </p:grpSpPr>
              <p:sp>
                <p:nvSpPr>
                  <p:cNvPr id="4800" name=""/>
                  <p:cNvSpPr/>
                  <p:nvPr/>
                </p:nvSpPr>
                <p:spPr>
                  <a:xfrm>
                    <a:off x="7456680" y="2183040"/>
                    <a:ext cx="0" cy="666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1" name=""/>
                  <p:cNvSpPr/>
                  <p:nvPr/>
                </p:nvSpPr>
                <p:spPr>
                  <a:xfrm>
                    <a:off x="7743960" y="2229840"/>
                    <a:ext cx="0" cy="613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2" name=""/>
                  <p:cNvSpPr/>
                  <p:nvPr/>
                </p:nvSpPr>
                <p:spPr>
                  <a:xfrm>
                    <a:off x="7156800" y="2140560"/>
                    <a:ext cx="0" cy="7052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3" name=""/>
                  <p:cNvSpPr/>
                  <p:nvPr/>
                </p:nvSpPr>
                <p:spPr>
                  <a:xfrm>
                    <a:off x="6535080" y="2136960"/>
                    <a:ext cx="0" cy="709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4" name=""/>
                  <p:cNvSpPr/>
                  <p:nvPr/>
                </p:nvSpPr>
                <p:spPr>
                  <a:xfrm flipH="1">
                    <a:off x="5942160" y="2226960"/>
                    <a:ext cx="5760" cy="62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5" name=""/>
                  <p:cNvSpPr/>
                  <p:nvPr/>
                </p:nvSpPr>
                <p:spPr>
                  <a:xfrm>
                    <a:off x="6248520" y="2187720"/>
                    <a:ext cx="0" cy="658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806" name=""/>
            <p:cNvGrpSpPr/>
            <p:nvPr/>
          </p:nvGrpSpPr>
          <p:grpSpPr>
            <a:xfrm>
              <a:off x="5941800" y="1207800"/>
              <a:ext cx="2814840" cy="1646280"/>
              <a:chOff x="5941800" y="1207800"/>
              <a:chExt cx="2814840" cy="1646280"/>
            </a:xfrm>
          </p:grpSpPr>
          <p:grpSp>
            <p:nvGrpSpPr>
              <p:cNvPr id="4807" name=""/>
              <p:cNvGrpSpPr/>
              <p:nvPr/>
            </p:nvGrpSpPr>
            <p:grpSpPr>
              <a:xfrm>
                <a:off x="7737480" y="2053800"/>
                <a:ext cx="172800" cy="794160"/>
                <a:chOff x="7737480" y="2053800"/>
                <a:chExt cx="172800" cy="794160"/>
              </a:xfrm>
            </p:grpSpPr>
            <p:sp>
              <p:nvSpPr>
                <p:cNvPr id="4808" name=""/>
                <p:cNvSpPr/>
                <p:nvPr/>
              </p:nvSpPr>
              <p:spPr>
                <a:xfrm flipV="1">
                  <a:off x="7740720" y="2385360"/>
                  <a:ext cx="169200" cy="462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9" name=""/>
                <p:cNvSpPr/>
                <p:nvPr/>
              </p:nvSpPr>
              <p:spPr>
                <a:xfrm flipH="1" flipV="1">
                  <a:off x="7737480" y="2222640"/>
                  <a:ext cx="172440" cy="162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0" name=""/>
                <p:cNvSpPr/>
                <p:nvPr/>
              </p:nvSpPr>
              <p:spPr>
                <a:xfrm flipH="1" flipV="1">
                  <a:off x="7740720" y="2545920"/>
                  <a:ext cx="169200" cy="133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1" name=""/>
                <p:cNvSpPr/>
                <p:nvPr/>
              </p:nvSpPr>
              <p:spPr>
                <a:xfrm flipV="1">
                  <a:off x="7740720" y="2056680"/>
                  <a:ext cx="169200" cy="490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2" name=""/>
                <p:cNvSpPr/>
                <p:nvPr/>
              </p:nvSpPr>
              <p:spPr>
                <a:xfrm flipV="1">
                  <a:off x="7737840" y="2053800"/>
                  <a:ext cx="166320" cy="165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3" name=""/>
                <p:cNvSpPr/>
                <p:nvPr/>
              </p:nvSpPr>
              <p:spPr>
                <a:xfrm>
                  <a:off x="7741080" y="2223360"/>
                  <a:ext cx="0" cy="622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4" name=""/>
                <p:cNvSpPr/>
                <p:nvPr/>
              </p:nvSpPr>
              <p:spPr>
                <a:xfrm flipV="1">
                  <a:off x="7741080" y="2383200"/>
                  <a:ext cx="166320" cy="165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5" name=""/>
                <p:cNvSpPr/>
                <p:nvPr/>
              </p:nvSpPr>
              <p:spPr>
                <a:xfrm>
                  <a:off x="7910280" y="2059920"/>
                  <a:ext cx="0" cy="622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16" name=""/>
              <p:cNvGrpSpPr/>
              <p:nvPr/>
            </p:nvGrpSpPr>
            <p:grpSpPr>
              <a:xfrm>
                <a:off x="5941800" y="2059920"/>
                <a:ext cx="172800" cy="794160"/>
                <a:chOff x="5941800" y="2059920"/>
                <a:chExt cx="172800" cy="794160"/>
              </a:xfrm>
            </p:grpSpPr>
            <p:sp>
              <p:nvSpPr>
                <p:cNvPr id="4817" name=""/>
                <p:cNvSpPr/>
                <p:nvPr/>
              </p:nvSpPr>
              <p:spPr>
                <a:xfrm flipV="1">
                  <a:off x="5945040" y="2391480"/>
                  <a:ext cx="169200" cy="462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8" name=""/>
                <p:cNvSpPr/>
                <p:nvPr/>
              </p:nvSpPr>
              <p:spPr>
                <a:xfrm flipH="1" flipV="1">
                  <a:off x="5941800" y="2228760"/>
                  <a:ext cx="172440" cy="162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9" name=""/>
                <p:cNvSpPr/>
                <p:nvPr/>
              </p:nvSpPr>
              <p:spPr>
                <a:xfrm flipH="1" flipV="1">
                  <a:off x="5945040" y="2552040"/>
                  <a:ext cx="169200" cy="133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0" name=""/>
                <p:cNvSpPr/>
                <p:nvPr/>
              </p:nvSpPr>
              <p:spPr>
                <a:xfrm flipV="1">
                  <a:off x="5945040" y="2062800"/>
                  <a:ext cx="169200" cy="490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1" name=""/>
                <p:cNvSpPr/>
                <p:nvPr/>
              </p:nvSpPr>
              <p:spPr>
                <a:xfrm flipV="1">
                  <a:off x="5942160" y="2059920"/>
                  <a:ext cx="166320" cy="165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2" name=""/>
                <p:cNvSpPr/>
                <p:nvPr/>
              </p:nvSpPr>
              <p:spPr>
                <a:xfrm>
                  <a:off x="5945400" y="2229480"/>
                  <a:ext cx="0" cy="622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3" name=""/>
                <p:cNvSpPr/>
                <p:nvPr/>
              </p:nvSpPr>
              <p:spPr>
                <a:xfrm flipV="1">
                  <a:off x="5945400" y="2389320"/>
                  <a:ext cx="166320" cy="165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4" name=""/>
                <p:cNvSpPr/>
                <p:nvPr/>
              </p:nvSpPr>
              <p:spPr>
                <a:xfrm>
                  <a:off x="6114600" y="2066040"/>
                  <a:ext cx="0" cy="622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5" name=""/>
              <p:cNvGrpSpPr/>
              <p:nvPr/>
            </p:nvGrpSpPr>
            <p:grpSpPr>
              <a:xfrm>
                <a:off x="8583840" y="1207800"/>
                <a:ext cx="172800" cy="794160"/>
                <a:chOff x="8583840" y="1207800"/>
                <a:chExt cx="172800" cy="794160"/>
              </a:xfrm>
            </p:grpSpPr>
            <p:sp>
              <p:nvSpPr>
                <p:cNvPr id="4826" name=""/>
                <p:cNvSpPr/>
                <p:nvPr/>
              </p:nvSpPr>
              <p:spPr>
                <a:xfrm flipV="1">
                  <a:off x="8587080" y="1539360"/>
                  <a:ext cx="169200" cy="462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7" name=""/>
                <p:cNvSpPr/>
                <p:nvPr/>
              </p:nvSpPr>
              <p:spPr>
                <a:xfrm flipH="1" flipV="1">
                  <a:off x="8583840" y="1376640"/>
                  <a:ext cx="172440" cy="162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8" name=""/>
                <p:cNvSpPr/>
                <p:nvPr/>
              </p:nvSpPr>
              <p:spPr>
                <a:xfrm flipH="1" flipV="1">
                  <a:off x="8587080" y="1699920"/>
                  <a:ext cx="169200" cy="133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9" name=""/>
                <p:cNvSpPr/>
                <p:nvPr/>
              </p:nvSpPr>
              <p:spPr>
                <a:xfrm flipV="1">
                  <a:off x="8587080" y="1210680"/>
                  <a:ext cx="169200" cy="490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0" name=""/>
                <p:cNvSpPr/>
                <p:nvPr/>
              </p:nvSpPr>
              <p:spPr>
                <a:xfrm flipV="1">
                  <a:off x="8584200" y="1207800"/>
                  <a:ext cx="166320" cy="165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1" name=""/>
                <p:cNvSpPr/>
                <p:nvPr/>
              </p:nvSpPr>
              <p:spPr>
                <a:xfrm>
                  <a:off x="8587440" y="1377360"/>
                  <a:ext cx="0" cy="622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2" name=""/>
                <p:cNvSpPr/>
                <p:nvPr/>
              </p:nvSpPr>
              <p:spPr>
                <a:xfrm flipV="1">
                  <a:off x="8587440" y="1537200"/>
                  <a:ext cx="166320" cy="165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3" name=""/>
                <p:cNvSpPr/>
                <p:nvPr/>
              </p:nvSpPr>
              <p:spPr>
                <a:xfrm>
                  <a:off x="8756640" y="1213920"/>
                  <a:ext cx="0" cy="622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34" name=""/>
              <p:cNvGrpSpPr/>
              <p:nvPr/>
            </p:nvGrpSpPr>
            <p:grpSpPr>
              <a:xfrm>
                <a:off x="6788160" y="1216800"/>
                <a:ext cx="172800" cy="794160"/>
                <a:chOff x="6788160" y="1216800"/>
                <a:chExt cx="172800" cy="794160"/>
              </a:xfrm>
            </p:grpSpPr>
            <p:sp>
              <p:nvSpPr>
                <p:cNvPr id="4835" name=""/>
                <p:cNvSpPr/>
                <p:nvPr/>
              </p:nvSpPr>
              <p:spPr>
                <a:xfrm flipV="1">
                  <a:off x="6791400" y="1548360"/>
                  <a:ext cx="169200" cy="462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6" name=""/>
                <p:cNvSpPr/>
                <p:nvPr/>
              </p:nvSpPr>
              <p:spPr>
                <a:xfrm flipH="1" flipV="1">
                  <a:off x="6788160" y="1385640"/>
                  <a:ext cx="172440" cy="162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7" name=""/>
                <p:cNvSpPr/>
                <p:nvPr/>
              </p:nvSpPr>
              <p:spPr>
                <a:xfrm flipH="1" flipV="1">
                  <a:off x="6791400" y="1708920"/>
                  <a:ext cx="169200" cy="133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8" name=""/>
                <p:cNvSpPr/>
                <p:nvPr/>
              </p:nvSpPr>
              <p:spPr>
                <a:xfrm flipV="1">
                  <a:off x="6791400" y="1219680"/>
                  <a:ext cx="169200" cy="490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9" name=""/>
                <p:cNvSpPr/>
                <p:nvPr/>
              </p:nvSpPr>
              <p:spPr>
                <a:xfrm flipV="1">
                  <a:off x="6788520" y="1216800"/>
                  <a:ext cx="166320" cy="165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0" name=""/>
                <p:cNvSpPr/>
                <p:nvPr/>
              </p:nvSpPr>
              <p:spPr>
                <a:xfrm>
                  <a:off x="6791760" y="1386360"/>
                  <a:ext cx="0" cy="622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1" name=""/>
                <p:cNvSpPr/>
                <p:nvPr/>
              </p:nvSpPr>
              <p:spPr>
                <a:xfrm flipV="1">
                  <a:off x="6791760" y="1546200"/>
                  <a:ext cx="166320" cy="165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2" name=""/>
                <p:cNvSpPr/>
                <p:nvPr/>
              </p:nvSpPr>
              <p:spPr>
                <a:xfrm>
                  <a:off x="6960960" y="1222920"/>
                  <a:ext cx="0" cy="622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843" name=""/>
            <p:cNvGrpSpPr/>
            <p:nvPr/>
          </p:nvGrpSpPr>
          <p:grpSpPr>
            <a:xfrm>
              <a:off x="6114960" y="1244160"/>
              <a:ext cx="2471760" cy="1435320"/>
              <a:chOff x="6114960" y="1244160"/>
              <a:chExt cx="2471760" cy="1435320"/>
            </a:xfrm>
          </p:grpSpPr>
          <p:grpSp>
            <p:nvGrpSpPr>
              <p:cNvPr id="4844" name=""/>
              <p:cNvGrpSpPr/>
              <p:nvPr/>
            </p:nvGrpSpPr>
            <p:grpSpPr>
              <a:xfrm>
                <a:off x="6114960" y="1920600"/>
                <a:ext cx="1794960" cy="758880"/>
                <a:chOff x="6114960" y="1920600"/>
                <a:chExt cx="1794960" cy="758880"/>
              </a:xfrm>
            </p:grpSpPr>
            <p:sp>
              <p:nvSpPr>
                <p:cNvPr id="4845" name=""/>
                <p:cNvSpPr/>
                <p:nvPr/>
              </p:nvSpPr>
              <p:spPr>
                <a:xfrm flipV="1">
                  <a:off x="6114960" y="2058480"/>
                  <a:ext cx="0" cy="621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6" name=""/>
                <p:cNvSpPr/>
                <p:nvPr/>
              </p:nvSpPr>
              <p:spPr>
                <a:xfrm flipV="1">
                  <a:off x="6114960" y="1920600"/>
                  <a:ext cx="897480" cy="137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7" name=""/>
                <p:cNvSpPr/>
                <p:nvPr/>
              </p:nvSpPr>
              <p:spPr>
                <a:xfrm flipV="1">
                  <a:off x="7909920" y="2058480"/>
                  <a:ext cx="0" cy="621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8" name=""/>
                <p:cNvSpPr/>
                <p:nvPr/>
              </p:nvSpPr>
              <p:spPr>
                <a:xfrm flipH="1" flipV="1">
                  <a:off x="7012080" y="1920600"/>
                  <a:ext cx="897480" cy="137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49" name=""/>
              <p:cNvGrpSpPr/>
              <p:nvPr/>
            </p:nvGrpSpPr>
            <p:grpSpPr>
              <a:xfrm>
                <a:off x="6284160" y="1751400"/>
                <a:ext cx="1794960" cy="758880"/>
                <a:chOff x="6284160" y="1751400"/>
                <a:chExt cx="1794960" cy="758880"/>
              </a:xfrm>
            </p:grpSpPr>
            <p:sp>
              <p:nvSpPr>
                <p:cNvPr id="4850" name=""/>
                <p:cNvSpPr/>
                <p:nvPr/>
              </p:nvSpPr>
              <p:spPr>
                <a:xfrm flipV="1">
                  <a:off x="6284160" y="1889280"/>
                  <a:ext cx="0" cy="621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1" name=""/>
                <p:cNvSpPr/>
                <p:nvPr/>
              </p:nvSpPr>
              <p:spPr>
                <a:xfrm flipV="1">
                  <a:off x="6284160" y="1751400"/>
                  <a:ext cx="897480" cy="137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2" name=""/>
                <p:cNvSpPr/>
                <p:nvPr/>
              </p:nvSpPr>
              <p:spPr>
                <a:xfrm flipV="1">
                  <a:off x="8079120" y="1889280"/>
                  <a:ext cx="0" cy="621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3" name=""/>
                <p:cNvSpPr/>
                <p:nvPr/>
              </p:nvSpPr>
              <p:spPr>
                <a:xfrm flipH="1" flipV="1">
                  <a:off x="7181280" y="1751400"/>
                  <a:ext cx="897480" cy="137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4" name=""/>
              <p:cNvGrpSpPr/>
              <p:nvPr/>
            </p:nvGrpSpPr>
            <p:grpSpPr>
              <a:xfrm>
                <a:off x="6453360" y="1582200"/>
                <a:ext cx="1794960" cy="758880"/>
                <a:chOff x="6453360" y="1582200"/>
                <a:chExt cx="1794960" cy="758880"/>
              </a:xfrm>
            </p:grpSpPr>
            <p:sp>
              <p:nvSpPr>
                <p:cNvPr id="4855" name=""/>
                <p:cNvSpPr/>
                <p:nvPr/>
              </p:nvSpPr>
              <p:spPr>
                <a:xfrm flipV="1">
                  <a:off x="6453360" y="1720080"/>
                  <a:ext cx="0" cy="621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6" name=""/>
                <p:cNvSpPr/>
                <p:nvPr/>
              </p:nvSpPr>
              <p:spPr>
                <a:xfrm flipV="1">
                  <a:off x="6453360" y="1582200"/>
                  <a:ext cx="897480" cy="137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7" name=""/>
                <p:cNvSpPr/>
                <p:nvPr/>
              </p:nvSpPr>
              <p:spPr>
                <a:xfrm flipV="1">
                  <a:off x="8248320" y="1720080"/>
                  <a:ext cx="0" cy="621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8" name=""/>
                <p:cNvSpPr/>
                <p:nvPr/>
              </p:nvSpPr>
              <p:spPr>
                <a:xfrm flipH="1" flipV="1">
                  <a:off x="7350480" y="1582200"/>
                  <a:ext cx="897480" cy="137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9" name=""/>
              <p:cNvGrpSpPr/>
              <p:nvPr/>
            </p:nvGrpSpPr>
            <p:grpSpPr>
              <a:xfrm>
                <a:off x="6622560" y="1413000"/>
                <a:ext cx="1794960" cy="758880"/>
                <a:chOff x="6622560" y="1413000"/>
                <a:chExt cx="1794960" cy="758880"/>
              </a:xfrm>
            </p:grpSpPr>
            <p:sp>
              <p:nvSpPr>
                <p:cNvPr id="4860" name=""/>
                <p:cNvSpPr/>
                <p:nvPr/>
              </p:nvSpPr>
              <p:spPr>
                <a:xfrm flipV="1">
                  <a:off x="6622560" y="1550880"/>
                  <a:ext cx="0" cy="621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1" name=""/>
                <p:cNvSpPr/>
                <p:nvPr/>
              </p:nvSpPr>
              <p:spPr>
                <a:xfrm flipV="1">
                  <a:off x="6622560" y="1413000"/>
                  <a:ext cx="897480" cy="137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2" name=""/>
                <p:cNvSpPr/>
                <p:nvPr/>
              </p:nvSpPr>
              <p:spPr>
                <a:xfrm flipV="1">
                  <a:off x="8417520" y="1550880"/>
                  <a:ext cx="0" cy="621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3" name=""/>
                <p:cNvSpPr/>
                <p:nvPr/>
              </p:nvSpPr>
              <p:spPr>
                <a:xfrm flipH="1" flipV="1">
                  <a:off x="7519680" y="1413000"/>
                  <a:ext cx="897480" cy="137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4" name=""/>
              <p:cNvGrpSpPr/>
              <p:nvPr/>
            </p:nvGrpSpPr>
            <p:grpSpPr>
              <a:xfrm>
                <a:off x="6791760" y="1244160"/>
                <a:ext cx="1794960" cy="758880"/>
                <a:chOff x="6791760" y="1244160"/>
                <a:chExt cx="1794960" cy="758880"/>
              </a:xfrm>
            </p:grpSpPr>
            <p:sp>
              <p:nvSpPr>
                <p:cNvPr id="4865" name=""/>
                <p:cNvSpPr/>
                <p:nvPr/>
              </p:nvSpPr>
              <p:spPr>
                <a:xfrm flipV="1">
                  <a:off x="6791760" y="1382040"/>
                  <a:ext cx="0" cy="621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6" name=""/>
                <p:cNvSpPr/>
                <p:nvPr/>
              </p:nvSpPr>
              <p:spPr>
                <a:xfrm flipV="1">
                  <a:off x="6791760" y="1244160"/>
                  <a:ext cx="897480" cy="137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7" name=""/>
                <p:cNvSpPr/>
                <p:nvPr/>
              </p:nvSpPr>
              <p:spPr>
                <a:xfrm flipV="1">
                  <a:off x="8586720" y="1382040"/>
                  <a:ext cx="0" cy="621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8" name=""/>
                <p:cNvSpPr/>
                <p:nvPr/>
              </p:nvSpPr>
              <p:spPr>
                <a:xfrm flipH="1" flipV="1">
                  <a:off x="7688880" y="1244160"/>
                  <a:ext cx="897480" cy="137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869" name=""/>
            <p:cNvGrpSpPr/>
            <p:nvPr/>
          </p:nvGrpSpPr>
          <p:grpSpPr>
            <a:xfrm>
              <a:off x="5946840" y="1074240"/>
              <a:ext cx="2809800" cy="1775160"/>
              <a:chOff x="5946840" y="1074240"/>
              <a:chExt cx="2809800" cy="1775160"/>
            </a:xfrm>
          </p:grpSpPr>
          <p:sp>
            <p:nvSpPr>
              <p:cNvPr id="4870" name=""/>
              <p:cNvSpPr/>
              <p:nvPr/>
            </p:nvSpPr>
            <p:spPr>
              <a:xfrm flipV="1">
                <a:off x="5946840" y="2089440"/>
                <a:ext cx="897480" cy="1378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1" name=""/>
              <p:cNvSpPr/>
              <p:nvPr/>
            </p:nvSpPr>
            <p:spPr>
              <a:xfrm flipH="1" flipV="1">
                <a:off x="6844320" y="2089440"/>
                <a:ext cx="897120" cy="1378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2" name=""/>
              <p:cNvSpPr/>
              <p:nvPr/>
            </p:nvSpPr>
            <p:spPr>
              <a:xfrm flipV="1">
                <a:off x="6961680" y="1074240"/>
                <a:ext cx="897480" cy="1378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73" name=""/>
              <p:cNvGrpSpPr/>
              <p:nvPr/>
            </p:nvGrpSpPr>
            <p:grpSpPr>
              <a:xfrm>
                <a:off x="5946840" y="1212480"/>
                <a:ext cx="2809800" cy="1636920"/>
                <a:chOff x="5946840" y="1212480"/>
                <a:chExt cx="2809800" cy="1636920"/>
              </a:xfrm>
            </p:grpSpPr>
            <p:sp>
              <p:nvSpPr>
                <p:cNvPr id="4874" name=""/>
                <p:cNvSpPr/>
                <p:nvPr/>
              </p:nvSpPr>
              <p:spPr>
                <a:xfrm flipV="1">
                  <a:off x="5946840" y="2228040"/>
                  <a:ext cx="0" cy="621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5" name=""/>
                <p:cNvSpPr/>
                <p:nvPr/>
              </p:nvSpPr>
              <p:spPr>
                <a:xfrm flipV="1">
                  <a:off x="7741440" y="2228040"/>
                  <a:ext cx="0" cy="621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6" name=""/>
                <p:cNvSpPr/>
                <p:nvPr/>
              </p:nvSpPr>
              <p:spPr>
                <a:xfrm flipV="1">
                  <a:off x="6961680" y="1212480"/>
                  <a:ext cx="0" cy="621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7" name=""/>
                <p:cNvSpPr/>
                <p:nvPr/>
              </p:nvSpPr>
              <p:spPr>
                <a:xfrm flipV="1">
                  <a:off x="8756640" y="1212480"/>
                  <a:ext cx="0" cy="621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78" name=""/>
              <p:cNvSpPr/>
              <p:nvPr/>
            </p:nvSpPr>
            <p:spPr>
              <a:xfrm flipH="1" flipV="1">
                <a:off x="7859160" y="1074240"/>
                <a:ext cx="897120" cy="1378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79" name=""/>
            <p:cNvGrpSpPr/>
            <p:nvPr/>
          </p:nvGrpSpPr>
          <p:grpSpPr>
            <a:xfrm>
              <a:off x="5946840" y="1386000"/>
              <a:ext cx="2809440" cy="1465200"/>
              <a:chOff x="5946840" y="1386000"/>
              <a:chExt cx="2809440" cy="1465200"/>
            </a:xfrm>
          </p:grpSpPr>
          <p:grpSp>
            <p:nvGrpSpPr>
              <p:cNvPr id="4880" name=""/>
              <p:cNvGrpSpPr/>
              <p:nvPr/>
            </p:nvGrpSpPr>
            <p:grpSpPr>
              <a:xfrm>
                <a:off x="5946840" y="1395360"/>
                <a:ext cx="1014840" cy="1455480"/>
                <a:chOff x="5946840" y="1395360"/>
                <a:chExt cx="1014840" cy="1455480"/>
              </a:xfrm>
            </p:grpSpPr>
            <p:sp>
              <p:nvSpPr>
                <p:cNvPr id="4881" name=""/>
                <p:cNvSpPr/>
                <p:nvPr/>
              </p:nvSpPr>
              <p:spPr>
                <a:xfrm flipV="1">
                  <a:off x="5946840" y="1395360"/>
                  <a:ext cx="1014840" cy="1013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2" name=""/>
                <p:cNvSpPr/>
                <p:nvPr/>
              </p:nvSpPr>
              <p:spPr>
                <a:xfrm flipV="1">
                  <a:off x="5946840" y="1550520"/>
                  <a:ext cx="1014840" cy="1013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3" name=""/>
                <p:cNvSpPr/>
                <p:nvPr/>
              </p:nvSpPr>
              <p:spPr>
                <a:xfrm flipV="1">
                  <a:off x="5946840" y="1688400"/>
                  <a:ext cx="1014840" cy="1013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4" name=""/>
                <p:cNvSpPr/>
                <p:nvPr/>
              </p:nvSpPr>
              <p:spPr>
                <a:xfrm flipV="1">
                  <a:off x="5946840" y="1837080"/>
                  <a:ext cx="1014840" cy="1013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5" name=""/>
              <p:cNvGrpSpPr/>
              <p:nvPr/>
            </p:nvGrpSpPr>
            <p:grpSpPr>
              <a:xfrm>
                <a:off x="7741440" y="1386000"/>
                <a:ext cx="1014840" cy="1465200"/>
                <a:chOff x="7741440" y="1386000"/>
                <a:chExt cx="1014840" cy="1465200"/>
              </a:xfrm>
            </p:grpSpPr>
            <p:sp>
              <p:nvSpPr>
                <p:cNvPr id="4886" name=""/>
                <p:cNvSpPr/>
                <p:nvPr/>
              </p:nvSpPr>
              <p:spPr>
                <a:xfrm flipV="1">
                  <a:off x="7741440" y="1837440"/>
                  <a:ext cx="1014840" cy="1013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7" name=""/>
                <p:cNvSpPr/>
                <p:nvPr/>
              </p:nvSpPr>
              <p:spPr>
                <a:xfrm flipV="1">
                  <a:off x="7741440" y="1386000"/>
                  <a:ext cx="1014840" cy="1013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8" name=""/>
                <p:cNvSpPr/>
                <p:nvPr/>
              </p:nvSpPr>
              <p:spPr>
                <a:xfrm flipV="1">
                  <a:off x="7741440" y="1541160"/>
                  <a:ext cx="1014840" cy="1013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9" name=""/>
                <p:cNvSpPr/>
                <p:nvPr/>
              </p:nvSpPr>
              <p:spPr>
                <a:xfrm flipV="1">
                  <a:off x="7741440" y="1690200"/>
                  <a:ext cx="1014840" cy="1013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890" name=""/>
            <p:cNvSpPr/>
            <p:nvPr/>
          </p:nvSpPr>
          <p:spPr>
            <a:xfrm flipV="1">
              <a:off x="6846840" y="1079640"/>
              <a:ext cx="1015920" cy="10159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91" name=""/>
            <p:cNvGrpSpPr/>
            <p:nvPr/>
          </p:nvGrpSpPr>
          <p:grpSpPr>
            <a:xfrm>
              <a:off x="5946840" y="1212840"/>
              <a:ext cx="2808360" cy="1014480"/>
              <a:chOff x="5946840" y="1212840"/>
              <a:chExt cx="2808360" cy="1014480"/>
            </a:xfrm>
          </p:grpSpPr>
          <p:sp>
            <p:nvSpPr>
              <p:cNvPr id="4892" name=""/>
              <p:cNvSpPr/>
              <p:nvPr/>
            </p:nvSpPr>
            <p:spPr>
              <a:xfrm flipV="1">
                <a:off x="7737120" y="1212840"/>
                <a:ext cx="1018080" cy="1014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3" name=""/>
              <p:cNvSpPr/>
              <p:nvPr/>
            </p:nvSpPr>
            <p:spPr>
              <a:xfrm flipV="1">
                <a:off x="5946840" y="1212840"/>
                <a:ext cx="1015200" cy="1014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94" name=""/>
            <p:cNvGrpSpPr/>
            <p:nvPr/>
          </p:nvGrpSpPr>
          <p:grpSpPr>
            <a:xfrm>
              <a:off x="6080040" y="1095120"/>
              <a:ext cx="2532240" cy="1113840"/>
              <a:chOff x="6080040" y="1095120"/>
              <a:chExt cx="2532240" cy="1113840"/>
            </a:xfrm>
          </p:grpSpPr>
          <p:sp>
            <p:nvSpPr>
              <p:cNvPr id="4895" name=""/>
              <p:cNvSpPr/>
              <p:nvPr/>
            </p:nvSpPr>
            <p:spPr>
              <a:xfrm flipV="1">
                <a:off x="7013160" y="1099440"/>
                <a:ext cx="1017720" cy="1017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6" name=""/>
              <p:cNvSpPr/>
              <p:nvPr/>
            </p:nvSpPr>
            <p:spPr>
              <a:xfrm flipV="1">
                <a:off x="7165800" y="1113120"/>
                <a:ext cx="1017720" cy="1017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7" name=""/>
              <p:cNvSpPr/>
              <p:nvPr/>
            </p:nvSpPr>
            <p:spPr>
              <a:xfrm flipV="1">
                <a:off x="7453440" y="1162800"/>
                <a:ext cx="1017720" cy="1017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8" name=""/>
              <p:cNvSpPr/>
              <p:nvPr/>
            </p:nvSpPr>
            <p:spPr>
              <a:xfrm flipV="1">
                <a:off x="7594560" y="1191960"/>
                <a:ext cx="1017720" cy="1017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9" name=""/>
              <p:cNvSpPr/>
              <p:nvPr/>
            </p:nvSpPr>
            <p:spPr>
              <a:xfrm flipV="1">
                <a:off x="6080040" y="1191960"/>
                <a:ext cx="1004040" cy="1017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0" name=""/>
              <p:cNvSpPr/>
              <p:nvPr/>
            </p:nvSpPr>
            <p:spPr>
              <a:xfrm flipV="1">
                <a:off x="6247080" y="1168560"/>
                <a:ext cx="1004040" cy="1017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1" name=""/>
              <p:cNvSpPr/>
              <p:nvPr/>
            </p:nvSpPr>
            <p:spPr>
              <a:xfrm flipV="1">
                <a:off x="6532920" y="1122840"/>
                <a:ext cx="1004040" cy="1017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2" name=""/>
              <p:cNvSpPr/>
              <p:nvPr/>
            </p:nvSpPr>
            <p:spPr>
              <a:xfrm flipV="1">
                <a:off x="6687000" y="1095120"/>
                <a:ext cx="1007640" cy="1017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3" name=""/>
              <p:cNvSpPr/>
              <p:nvPr/>
            </p:nvSpPr>
            <p:spPr>
              <a:xfrm flipV="1">
                <a:off x="6385680" y="1146240"/>
                <a:ext cx="1004040" cy="1017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4" name=""/>
              <p:cNvSpPr/>
              <p:nvPr/>
            </p:nvSpPr>
            <p:spPr>
              <a:xfrm flipV="1">
                <a:off x="7292520" y="1141200"/>
                <a:ext cx="1017720" cy="10245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05" name=""/>
            <p:cNvGrpSpPr/>
            <p:nvPr/>
          </p:nvGrpSpPr>
          <p:grpSpPr>
            <a:xfrm>
              <a:off x="5943600" y="1072800"/>
              <a:ext cx="2816280" cy="1154160"/>
              <a:chOff x="5943600" y="1072800"/>
              <a:chExt cx="2816280" cy="1154160"/>
            </a:xfrm>
          </p:grpSpPr>
          <p:grpSp>
            <p:nvGrpSpPr>
              <p:cNvPr id="4906" name=""/>
              <p:cNvGrpSpPr/>
              <p:nvPr/>
            </p:nvGrpSpPr>
            <p:grpSpPr>
              <a:xfrm>
                <a:off x="5943600" y="1918080"/>
                <a:ext cx="1964880" cy="308880"/>
                <a:chOff x="5943600" y="1918080"/>
                <a:chExt cx="1964880" cy="308880"/>
              </a:xfrm>
            </p:grpSpPr>
            <p:sp>
              <p:nvSpPr>
                <p:cNvPr id="4907" name=""/>
                <p:cNvSpPr/>
                <p:nvPr/>
              </p:nvSpPr>
              <p:spPr>
                <a:xfrm flipH="1" flipV="1">
                  <a:off x="7010640" y="1919520"/>
                  <a:ext cx="152640" cy="2156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8" name=""/>
                <p:cNvSpPr/>
                <p:nvPr/>
              </p:nvSpPr>
              <p:spPr>
                <a:xfrm flipH="1">
                  <a:off x="6524280" y="1919880"/>
                  <a:ext cx="486000" cy="2156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9" name=""/>
                <p:cNvSpPr/>
                <p:nvPr/>
              </p:nvSpPr>
              <p:spPr>
                <a:xfrm flipH="1" flipV="1">
                  <a:off x="7601040" y="2002320"/>
                  <a:ext cx="137880" cy="2242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0" name=""/>
                <p:cNvSpPr/>
                <p:nvPr/>
              </p:nvSpPr>
              <p:spPr>
                <a:xfrm flipV="1">
                  <a:off x="7451280" y="2056680"/>
                  <a:ext cx="457200" cy="1270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1" name=""/>
                <p:cNvSpPr/>
                <p:nvPr/>
              </p:nvSpPr>
              <p:spPr>
                <a:xfrm flipH="1" flipV="1">
                  <a:off x="7312320" y="1970280"/>
                  <a:ext cx="138960" cy="213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2" name=""/>
                <p:cNvSpPr/>
                <p:nvPr/>
              </p:nvSpPr>
              <p:spPr>
                <a:xfrm flipH="1">
                  <a:off x="7151400" y="2009520"/>
                  <a:ext cx="473400" cy="1260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3" name=""/>
                <p:cNvSpPr/>
                <p:nvPr/>
              </p:nvSpPr>
              <p:spPr>
                <a:xfrm flipH="1">
                  <a:off x="6865920" y="1970640"/>
                  <a:ext cx="446400" cy="1155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4" name=""/>
                <p:cNvSpPr/>
                <p:nvPr/>
              </p:nvSpPr>
              <p:spPr>
                <a:xfrm flipH="1" flipV="1">
                  <a:off x="6694200" y="1960560"/>
                  <a:ext cx="171000" cy="1249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5" name=""/>
                <p:cNvSpPr/>
                <p:nvPr/>
              </p:nvSpPr>
              <p:spPr>
                <a:xfrm flipH="1" flipV="1">
                  <a:off x="6411960" y="2009160"/>
                  <a:ext cx="117720" cy="1292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6" name=""/>
                <p:cNvSpPr/>
                <p:nvPr/>
              </p:nvSpPr>
              <p:spPr>
                <a:xfrm flipH="1">
                  <a:off x="6242040" y="1970640"/>
                  <a:ext cx="452160" cy="213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7" name=""/>
                <p:cNvSpPr/>
                <p:nvPr/>
              </p:nvSpPr>
              <p:spPr>
                <a:xfrm flipH="1" flipV="1">
                  <a:off x="6112800" y="2056680"/>
                  <a:ext cx="131040" cy="1213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8" name=""/>
                <p:cNvSpPr/>
                <p:nvPr/>
              </p:nvSpPr>
              <p:spPr>
                <a:xfrm flipH="1">
                  <a:off x="5943600" y="2009520"/>
                  <a:ext cx="468720" cy="217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9" name=""/>
                <p:cNvSpPr/>
                <p:nvPr/>
              </p:nvSpPr>
              <p:spPr>
                <a:xfrm flipV="1">
                  <a:off x="7736400" y="2056680"/>
                  <a:ext cx="165960" cy="165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0" name=""/>
                <p:cNvSpPr/>
                <p:nvPr/>
              </p:nvSpPr>
              <p:spPr>
                <a:xfrm flipV="1">
                  <a:off x="6853680" y="1918080"/>
                  <a:ext cx="165960" cy="165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1" name=""/>
                <p:cNvSpPr/>
                <p:nvPr/>
              </p:nvSpPr>
              <p:spPr>
                <a:xfrm flipV="1">
                  <a:off x="7156080" y="1966320"/>
                  <a:ext cx="165960" cy="165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2" name=""/>
                <p:cNvSpPr/>
                <p:nvPr/>
              </p:nvSpPr>
              <p:spPr>
                <a:xfrm flipV="1">
                  <a:off x="5946480" y="2053800"/>
                  <a:ext cx="165960" cy="165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3" name=""/>
                <p:cNvSpPr/>
                <p:nvPr/>
              </p:nvSpPr>
              <p:spPr>
                <a:xfrm flipV="1">
                  <a:off x="6248880" y="2008440"/>
                  <a:ext cx="165960" cy="165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4" name=""/>
                <p:cNvSpPr/>
                <p:nvPr/>
              </p:nvSpPr>
              <p:spPr>
                <a:xfrm flipV="1">
                  <a:off x="6533280" y="1966320"/>
                  <a:ext cx="165960" cy="165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5" name=""/>
                <p:cNvSpPr/>
                <p:nvPr/>
              </p:nvSpPr>
              <p:spPr>
                <a:xfrm flipV="1">
                  <a:off x="6109920" y="1920960"/>
                  <a:ext cx="903960" cy="135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6" name=""/>
                <p:cNvSpPr/>
                <p:nvPr/>
              </p:nvSpPr>
              <p:spPr>
                <a:xfrm flipV="1">
                  <a:off x="5946480" y="2090160"/>
                  <a:ext cx="903960" cy="135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7" name=""/>
                <p:cNvSpPr/>
                <p:nvPr/>
              </p:nvSpPr>
              <p:spPr>
                <a:xfrm>
                  <a:off x="6850800" y="2090520"/>
                  <a:ext cx="879480" cy="135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8" name=""/>
                <p:cNvSpPr/>
                <p:nvPr/>
              </p:nvSpPr>
              <p:spPr>
                <a:xfrm>
                  <a:off x="7016760" y="1921320"/>
                  <a:ext cx="879480" cy="135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9" name=""/>
                <p:cNvSpPr/>
                <p:nvPr/>
              </p:nvSpPr>
              <p:spPr>
                <a:xfrm flipV="1">
                  <a:off x="7443360" y="2017440"/>
                  <a:ext cx="165960" cy="165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30" name=""/>
              <p:cNvGrpSpPr/>
              <p:nvPr/>
            </p:nvGrpSpPr>
            <p:grpSpPr>
              <a:xfrm>
                <a:off x="6795000" y="1072800"/>
                <a:ext cx="1964880" cy="308880"/>
                <a:chOff x="6795000" y="1072800"/>
                <a:chExt cx="1964880" cy="308880"/>
              </a:xfrm>
            </p:grpSpPr>
            <p:sp>
              <p:nvSpPr>
                <p:cNvPr id="4931" name=""/>
                <p:cNvSpPr/>
                <p:nvPr/>
              </p:nvSpPr>
              <p:spPr>
                <a:xfrm flipH="1" flipV="1">
                  <a:off x="7862040" y="1074240"/>
                  <a:ext cx="152640" cy="2156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2" name=""/>
                <p:cNvSpPr/>
                <p:nvPr/>
              </p:nvSpPr>
              <p:spPr>
                <a:xfrm flipH="1">
                  <a:off x="7375680" y="1074600"/>
                  <a:ext cx="486000" cy="2156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3" name=""/>
                <p:cNvSpPr/>
                <p:nvPr/>
              </p:nvSpPr>
              <p:spPr>
                <a:xfrm flipH="1" flipV="1">
                  <a:off x="8452440" y="1157040"/>
                  <a:ext cx="137880" cy="2242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4" name=""/>
                <p:cNvSpPr/>
                <p:nvPr/>
              </p:nvSpPr>
              <p:spPr>
                <a:xfrm flipV="1">
                  <a:off x="8302680" y="1211400"/>
                  <a:ext cx="457200" cy="1270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5" name=""/>
                <p:cNvSpPr/>
                <p:nvPr/>
              </p:nvSpPr>
              <p:spPr>
                <a:xfrm flipH="1" flipV="1">
                  <a:off x="8163720" y="1125000"/>
                  <a:ext cx="138960" cy="213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6" name=""/>
                <p:cNvSpPr/>
                <p:nvPr/>
              </p:nvSpPr>
              <p:spPr>
                <a:xfrm flipH="1">
                  <a:off x="8002800" y="1164240"/>
                  <a:ext cx="473400" cy="1260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7" name=""/>
                <p:cNvSpPr/>
                <p:nvPr/>
              </p:nvSpPr>
              <p:spPr>
                <a:xfrm flipH="1">
                  <a:off x="7717320" y="1125360"/>
                  <a:ext cx="446400" cy="1155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8" name=""/>
                <p:cNvSpPr/>
                <p:nvPr/>
              </p:nvSpPr>
              <p:spPr>
                <a:xfrm flipH="1" flipV="1">
                  <a:off x="7545600" y="1115280"/>
                  <a:ext cx="171000" cy="1249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9" name=""/>
                <p:cNvSpPr/>
                <p:nvPr/>
              </p:nvSpPr>
              <p:spPr>
                <a:xfrm flipH="1" flipV="1">
                  <a:off x="7263360" y="1163880"/>
                  <a:ext cx="117720" cy="1292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0" name=""/>
                <p:cNvSpPr/>
                <p:nvPr/>
              </p:nvSpPr>
              <p:spPr>
                <a:xfrm flipH="1">
                  <a:off x="7093440" y="1125360"/>
                  <a:ext cx="452160" cy="213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1" name=""/>
                <p:cNvSpPr/>
                <p:nvPr/>
              </p:nvSpPr>
              <p:spPr>
                <a:xfrm flipH="1" flipV="1">
                  <a:off x="6964200" y="1211400"/>
                  <a:ext cx="131040" cy="1213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2" name=""/>
                <p:cNvSpPr/>
                <p:nvPr/>
              </p:nvSpPr>
              <p:spPr>
                <a:xfrm flipH="1">
                  <a:off x="6795000" y="1164240"/>
                  <a:ext cx="468720" cy="217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3" name=""/>
                <p:cNvSpPr/>
                <p:nvPr/>
              </p:nvSpPr>
              <p:spPr>
                <a:xfrm flipV="1">
                  <a:off x="8587800" y="1211400"/>
                  <a:ext cx="165960" cy="165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4" name=""/>
                <p:cNvSpPr/>
                <p:nvPr/>
              </p:nvSpPr>
              <p:spPr>
                <a:xfrm flipV="1">
                  <a:off x="7705080" y="1072800"/>
                  <a:ext cx="165960" cy="165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5" name=""/>
                <p:cNvSpPr/>
                <p:nvPr/>
              </p:nvSpPr>
              <p:spPr>
                <a:xfrm flipV="1">
                  <a:off x="8007480" y="1121040"/>
                  <a:ext cx="165960" cy="165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6" name=""/>
                <p:cNvSpPr/>
                <p:nvPr/>
              </p:nvSpPr>
              <p:spPr>
                <a:xfrm flipV="1">
                  <a:off x="6797880" y="1208520"/>
                  <a:ext cx="165960" cy="165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7" name=""/>
                <p:cNvSpPr/>
                <p:nvPr/>
              </p:nvSpPr>
              <p:spPr>
                <a:xfrm flipV="1">
                  <a:off x="7100280" y="1163160"/>
                  <a:ext cx="165960" cy="165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8" name=""/>
                <p:cNvSpPr/>
                <p:nvPr/>
              </p:nvSpPr>
              <p:spPr>
                <a:xfrm flipV="1">
                  <a:off x="7384680" y="1121040"/>
                  <a:ext cx="165960" cy="165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9" name=""/>
                <p:cNvSpPr/>
                <p:nvPr/>
              </p:nvSpPr>
              <p:spPr>
                <a:xfrm flipV="1">
                  <a:off x="6961320" y="1075680"/>
                  <a:ext cx="903960" cy="135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0" name=""/>
                <p:cNvSpPr/>
                <p:nvPr/>
              </p:nvSpPr>
              <p:spPr>
                <a:xfrm flipV="1">
                  <a:off x="6797880" y="1244880"/>
                  <a:ext cx="903960" cy="135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1" name=""/>
                <p:cNvSpPr/>
                <p:nvPr/>
              </p:nvSpPr>
              <p:spPr>
                <a:xfrm>
                  <a:off x="7702200" y="1245240"/>
                  <a:ext cx="879480" cy="135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2" name=""/>
                <p:cNvSpPr/>
                <p:nvPr/>
              </p:nvSpPr>
              <p:spPr>
                <a:xfrm>
                  <a:off x="7868160" y="1076040"/>
                  <a:ext cx="879480" cy="135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3" name=""/>
                <p:cNvSpPr/>
                <p:nvPr/>
              </p:nvSpPr>
              <p:spPr>
                <a:xfrm flipV="1">
                  <a:off x="8294760" y="1172160"/>
                  <a:ext cx="165960" cy="165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954" name=""/>
          <p:cNvSpPr/>
          <p:nvPr/>
        </p:nvSpPr>
        <p:spPr>
          <a:xfrm>
            <a:off x="2655720" y="1566720"/>
            <a:ext cx="34689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BONNE RÉ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5" name=""/>
          <p:cNvSpPr/>
          <p:nvPr/>
        </p:nvSpPr>
        <p:spPr>
          <a:xfrm>
            <a:off x="7227720" y="413244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6" name=""/>
          <p:cNvSpPr/>
          <p:nvPr/>
        </p:nvSpPr>
        <p:spPr>
          <a:xfrm>
            <a:off x="7256520" y="419724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7" name=""/>
          <p:cNvSpPr/>
          <p:nvPr/>
        </p:nvSpPr>
        <p:spPr>
          <a:xfrm>
            <a:off x="8177040" y="413244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8" name=""/>
          <p:cNvSpPr/>
          <p:nvPr/>
        </p:nvSpPr>
        <p:spPr>
          <a:xfrm>
            <a:off x="8205840" y="419724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9" name=""/>
          <p:cNvSpPr/>
          <p:nvPr/>
        </p:nvSpPr>
        <p:spPr>
          <a:xfrm>
            <a:off x="7227720" y="464040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0" name="">
            <a:hlinkClick r:id="" action="ppaction://hlinkshowjump?jump=nextslide"/>
          </p:cNvPr>
          <p:cNvSpPr/>
          <p:nvPr/>
        </p:nvSpPr>
        <p:spPr>
          <a:xfrm>
            <a:off x="7256520" y="470520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1" name=""/>
          <p:cNvSpPr/>
          <p:nvPr/>
        </p:nvSpPr>
        <p:spPr>
          <a:xfrm>
            <a:off x="8177040" y="464040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2" name="">
            <a:hlinkClick r:id="rId1" action="ppaction://hlinksldjump"/>
          </p:cNvPr>
          <p:cNvSpPr/>
          <p:nvPr/>
        </p:nvSpPr>
        <p:spPr>
          <a:xfrm>
            <a:off x="8205840" y="470520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3" name=""/>
          <p:cNvSpPr/>
          <p:nvPr/>
        </p:nvSpPr>
        <p:spPr>
          <a:xfrm>
            <a:off x="7227720" y="362916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4" name=""/>
          <p:cNvSpPr/>
          <p:nvPr/>
        </p:nvSpPr>
        <p:spPr>
          <a:xfrm>
            <a:off x="7256520" y="369396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5" name="">
            <a:hlinkClick r:id="rId2" action="ppaction://hlinksldjump"/>
          </p:cNvPr>
          <p:cNvSpPr/>
          <p:nvPr/>
        </p:nvSpPr>
        <p:spPr>
          <a:xfrm>
            <a:off x="8177040" y="362916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6" name=""/>
          <p:cNvSpPr/>
          <p:nvPr/>
        </p:nvSpPr>
        <p:spPr>
          <a:xfrm>
            <a:off x="8205840" y="369396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7" name=""/>
          <p:cNvSpPr/>
          <p:nvPr/>
        </p:nvSpPr>
        <p:spPr>
          <a:xfrm>
            <a:off x="7227720" y="319572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8" name=""/>
          <p:cNvSpPr/>
          <p:nvPr/>
        </p:nvSpPr>
        <p:spPr>
          <a:xfrm>
            <a:off x="7256520" y="3260880"/>
            <a:ext cx="693720" cy="2156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9" name="">
            <a:hlinkClick r:id="rId3" action="ppaction://hlinksldjump"/>
          </p:cNvPr>
          <p:cNvSpPr/>
          <p:nvPr/>
        </p:nvSpPr>
        <p:spPr>
          <a:xfrm>
            <a:off x="8177040" y="319572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0" name=""/>
          <p:cNvSpPr/>
          <p:nvPr/>
        </p:nvSpPr>
        <p:spPr>
          <a:xfrm>
            <a:off x="8205840" y="3260880"/>
            <a:ext cx="693720" cy="2156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1" name=""/>
          <p:cNvSpPr/>
          <p:nvPr/>
        </p:nvSpPr>
        <p:spPr>
          <a:xfrm>
            <a:off x="7142040" y="5092560"/>
            <a:ext cx="185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2" name=""/>
          <p:cNvSpPr/>
          <p:nvPr/>
        </p:nvSpPr>
        <p:spPr>
          <a:xfrm>
            <a:off x="179280" y="352440"/>
            <a:ext cx="87537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ncernant l’action du vent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3" name=""/>
          <p:cNvSpPr/>
          <p:nvPr/>
        </p:nvSpPr>
        <p:spPr>
          <a:xfrm>
            <a:off x="101520" y="4629240"/>
            <a:ext cx="7043760" cy="361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 vent est très souvent une action déterminante pour les halls industri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4" name=""/>
          <p:cNvSpPr/>
          <p:nvPr/>
        </p:nvSpPr>
        <p:spPr>
          <a:xfrm>
            <a:off x="101520" y="3619440"/>
            <a:ext cx="7043760" cy="358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 vent apparaît sur toutes les parois en même tem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5" name=""/>
          <p:cNvSpPr/>
          <p:nvPr/>
        </p:nvSpPr>
        <p:spPr>
          <a:xfrm>
            <a:off x="101520" y="4021200"/>
            <a:ext cx="7043760" cy="555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 vent crée en même temps une pression sur une paroi et une dépression sur la paroi opposé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6" name=""/>
          <p:cNvSpPr/>
          <p:nvPr/>
        </p:nvSpPr>
        <p:spPr>
          <a:xfrm>
            <a:off x="101520" y="3186000"/>
            <a:ext cx="7043760" cy="3621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 calcul est mené paroi par paroi et non pas sur le bâtiment dans son ensem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77" name=""/>
          <p:cNvGrpSpPr/>
          <p:nvPr/>
        </p:nvGrpSpPr>
        <p:grpSpPr>
          <a:xfrm>
            <a:off x="5894280" y="1071720"/>
            <a:ext cx="2893680" cy="1879560"/>
            <a:chOff x="5894280" y="1071720"/>
            <a:chExt cx="2893680" cy="1879560"/>
          </a:xfrm>
        </p:grpSpPr>
        <p:grpSp>
          <p:nvGrpSpPr>
            <p:cNvPr id="4978" name=""/>
            <p:cNvGrpSpPr/>
            <p:nvPr/>
          </p:nvGrpSpPr>
          <p:grpSpPr>
            <a:xfrm>
              <a:off x="5894280" y="1844640"/>
              <a:ext cx="2893680" cy="1106640"/>
              <a:chOff x="5894280" y="1844640"/>
              <a:chExt cx="2893680" cy="1106640"/>
            </a:xfrm>
          </p:grpSpPr>
          <p:grpSp>
            <p:nvGrpSpPr>
              <p:cNvPr id="4979" name=""/>
              <p:cNvGrpSpPr/>
              <p:nvPr/>
            </p:nvGrpSpPr>
            <p:grpSpPr>
              <a:xfrm>
                <a:off x="6068160" y="2036520"/>
                <a:ext cx="759600" cy="749520"/>
                <a:chOff x="6068160" y="2036520"/>
                <a:chExt cx="759600" cy="749520"/>
              </a:xfrm>
            </p:grpSpPr>
            <p:sp>
              <p:nvSpPr>
                <p:cNvPr id="4980" name=""/>
                <p:cNvSpPr/>
                <p:nvPr/>
              </p:nvSpPr>
              <p:spPr>
                <a:xfrm>
                  <a:off x="6744600" y="2036520"/>
                  <a:ext cx="83160" cy="83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1" name=""/>
                <p:cNvSpPr/>
                <p:nvPr/>
              </p:nvSpPr>
              <p:spPr>
                <a:xfrm>
                  <a:off x="6571800" y="2193840"/>
                  <a:ext cx="83160" cy="83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2" name=""/>
                <p:cNvSpPr/>
                <p:nvPr/>
              </p:nvSpPr>
              <p:spPr>
                <a:xfrm>
                  <a:off x="6406560" y="2356920"/>
                  <a:ext cx="83160" cy="83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3" name=""/>
                <p:cNvSpPr/>
                <p:nvPr/>
              </p:nvSpPr>
              <p:spPr>
                <a:xfrm>
                  <a:off x="6235920" y="2526480"/>
                  <a:ext cx="83520" cy="83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4" name=""/>
                <p:cNvSpPr/>
                <p:nvPr/>
              </p:nvSpPr>
              <p:spPr>
                <a:xfrm>
                  <a:off x="6068160" y="2702880"/>
                  <a:ext cx="83160" cy="83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85" name=""/>
              <p:cNvGrpSpPr/>
              <p:nvPr/>
            </p:nvGrpSpPr>
            <p:grpSpPr>
              <a:xfrm>
                <a:off x="7870320" y="2023200"/>
                <a:ext cx="747720" cy="757800"/>
                <a:chOff x="7870320" y="2023200"/>
                <a:chExt cx="747720" cy="757800"/>
              </a:xfrm>
            </p:grpSpPr>
            <p:sp>
              <p:nvSpPr>
                <p:cNvPr id="4986" name=""/>
                <p:cNvSpPr/>
                <p:nvPr/>
              </p:nvSpPr>
              <p:spPr>
                <a:xfrm>
                  <a:off x="8534880" y="2023200"/>
                  <a:ext cx="83160" cy="83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7" name=""/>
                <p:cNvSpPr/>
                <p:nvPr/>
              </p:nvSpPr>
              <p:spPr>
                <a:xfrm>
                  <a:off x="8367840" y="2188800"/>
                  <a:ext cx="83520" cy="83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8" name=""/>
                <p:cNvSpPr/>
                <p:nvPr/>
              </p:nvSpPr>
              <p:spPr>
                <a:xfrm>
                  <a:off x="8202600" y="2351520"/>
                  <a:ext cx="83160" cy="83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9" name=""/>
                <p:cNvSpPr/>
                <p:nvPr/>
              </p:nvSpPr>
              <p:spPr>
                <a:xfrm>
                  <a:off x="8028000" y="2521080"/>
                  <a:ext cx="85320" cy="83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0" name=""/>
                <p:cNvSpPr/>
                <p:nvPr/>
              </p:nvSpPr>
              <p:spPr>
                <a:xfrm>
                  <a:off x="7870320" y="2697840"/>
                  <a:ext cx="83160" cy="83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91" name=""/>
              <p:cNvGrpSpPr/>
              <p:nvPr/>
            </p:nvGrpSpPr>
            <p:grpSpPr>
              <a:xfrm>
                <a:off x="6904800" y="1844640"/>
                <a:ext cx="1883160" cy="85320"/>
                <a:chOff x="6904800" y="1844640"/>
                <a:chExt cx="1883160" cy="85320"/>
              </a:xfrm>
            </p:grpSpPr>
            <p:sp>
              <p:nvSpPr>
                <p:cNvPr id="4992" name=""/>
                <p:cNvSpPr/>
                <p:nvPr/>
              </p:nvSpPr>
              <p:spPr>
                <a:xfrm>
                  <a:off x="8704800" y="1846800"/>
                  <a:ext cx="83160" cy="83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3" name=""/>
                <p:cNvSpPr/>
                <p:nvPr/>
              </p:nvSpPr>
              <p:spPr>
                <a:xfrm>
                  <a:off x="6904800" y="1844640"/>
                  <a:ext cx="83520" cy="83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4" name=""/>
                <p:cNvSpPr/>
                <p:nvPr/>
              </p:nvSpPr>
              <p:spPr>
                <a:xfrm>
                  <a:off x="8116560" y="1844640"/>
                  <a:ext cx="83520" cy="83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5" name=""/>
                <p:cNvSpPr/>
                <p:nvPr/>
              </p:nvSpPr>
              <p:spPr>
                <a:xfrm>
                  <a:off x="7209000" y="1844640"/>
                  <a:ext cx="83160" cy="83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6" name=""/>
                <p:cNvSpPr/>
                <p:nvPr/>
              </p:nvSpPr>
              <p:spPr>
                <a:xfrm>
                  <a:off x="7491240" y="1844640"/>
                  <a:ext cx="83160" cy="83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7" name=""/>
                <p:cNvSpPr/>
                <p:nvPr/>
              </p:nvSpPr>
              <p:spPr>
                <a:xfrm>
                  <a:off x="7791480" y="1844640"/>
                  <a:ext cx="83160" cy="83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8" name=""/>
                <p:cNvSpPr/>
                <p:nvPr/>
              </p:nvSpPr>
              <p:spPr>
                <a:xfrm>
                  <a:off x="8417880" y="1844640"/>
                  <a:ext cx="83160" cy="83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99" name=""/>
              <p:cNvGrpSpPr/>
              <p:nvPr/>
            </p:nvGrpSpPr>
            <p:grpSpPr>
              <a:xfrm>
                <a:off x="5894280" y="2867760"/>
                <a:ext cx="1879200" cy="83520"/>
                <a:chOff x="5894280" y="2867760"/>
                <a:chExt cx="1879200" cy="83520"/>
              </a:xfrm>
            </p:grpSpPr>
            <p:sp>
              <p:nvSpPr>
                <p:cNvPr id="5000" name=""/>
                <p:cNvSpPr/>
                <p:nvPr/>
              </p:nvSpPr>
              <p:spPr>
                <a:xfrm>
                  <a:off x="7689960" y="2867760"/>
                  <a:ext cx="83520" cy="83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1" name=""/>
                <p:cNvSpPr/>
                <p:nvPr/>
              </p:nvSpPr>
              <p:spPr>
                <a:xfrm>
                  <a:off x="5894280" y="2867760"/>
                  <a:ext cx="83160" cy="83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2" name=""/>
                <p:cNvSpPr/>
                <p:nvPr/>
              </p:nvSpPr>
              <p:spPr>
                <a:xfrm>
                  <a:off x="6196320" y="2867760"/>
                  <a:ext cx="83160" cy="83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3" name=""/>
                <p:cNvSpPr/>
                <p:nvPr/>
              </p:nvSpPr>
              <p:spPr>
                <a:xfrm>
                  <a:off x="6484320" y="2867760"/>
                  <a:ext cx="83160" cy="83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4" name=""/>
                <p:cNvSpPr/>
                <p:nvPr/>
              </p:nvSpPr>
              <p:spPr>
                <a:xfrm>
                  <a:off x="7108920" y="2867760"/>
                  <a:ext cx="83160" cy="83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5" name=""/>
                <p:cNvSpPr/>
                <p:nvPr/>
              </p:nvSpPr>
              <p:spPr>
                <a:xfrm>
                  <a:off x="7396920" y="2867760"/>
                  <a:ext cx="83160" cy="83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06" name=""/>
            <p:cNvSpPr/>
            <p:nvPr/>
          </p:nvSpPr>
          <p:spPr>
            <a:xfrm rot="18860400">
              <a:off x="6585840" y="2543760"/>
              <a:ext cx="507960" cy="252360"/>
            </a:xfrm>
            <a:custGeom>
              <a:avLst/>
              <a:gdLst>
                <a:gd name="textAreaLeft" fmla="*/ 63360 w 507960"/>
                <a:gd name="textAreaRight" fmla="*/ 444600 w 507960"/>
                <a:gd name="textAreaTop" fmla="*/ 63000 h 252360"/>
                <a:gd name="textAreaBottom" fmla="*/ 189360 h 25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07" name=""/>
            <p:cNvGrpSpPr/>
            <p:nvPr/>
          </p:nvGrpSpPr>
          <p:grpSpPr>
            <a:xfrm>
              <a:off x="5943600" y="1219320"/>
              <a:ext cx="2819520" cy="1632960"/>
              <a:chOff x="5943600" y="1219320"/>
              <a:chExt cx="2819520" cy="1632960"/>
            </a:xfrm>
          </p:grpSpPr>
          <p:grpSp>
            <p:nvGrpSpPr>
              <p:cNvPr id="5008" name=""/>
              <p:cNvGrpSpPr/>
              <p:nvPr/>
            </p:nvGrpSpPr>
            <p:grpSpPr>
              <a:xfrm>
                <a:off x="6949800" y="1219320"/>
                <a:ext cx="1813320" cy="611280"/>
                <a:chOff x="6949800" y="1219320"/>
                <a:chExt cx="1813320" cy="611280"/>
              </a:xfrm>
            </p:grpSpPr>
            <p:sp>
              <p:nvSpPr>
                <p:cNvPr id="5009" name=""/>
                <p:cNvSpPr/>
                <p:nvPr/>
              </p:nvSpPr>
              <p:spPr>
                <a:xfrm>
                  <a:off x="6968160" y="1219320"/>
                  <a:ext cx="17949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0" name=""/>
                <p:cNvSpPr/>
                <p:nvPr/>
              </p:nvSpPr>
              <p:spPr>
                <a:xfrm>
                  <a:off x="6963120" y="1397880"/>
                  <a:ext cx="17949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1" name=""/>
                <p:cNvSpPr/>
                <p:nvPr/>
              </p:nvSpPr>
              <p:spPr>
                <a:xfrm>
                  <a:off x="6956640" y="1691640"/>
                  <a:ext cx="18036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2" name=""/>
                <p:cNvSpPr/>
                <p:nvPr/>
              </p:nvSpPr>
              <p:spPr>
                <a:xfrm>
                  <a:off x="6963840" y="1544760"/>
                  <a:ext cx="17964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3" name=""/>
                <p:cNvSpPr/>
                <p:nvPr/>
              </p:nvSpPr>
              <p:spPr>
                <a:xfrm>
                  <a:off x="6949800" y="1830600"/>
                  <a:ext cx="17949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14" name=""/>
              <p:cNvGrpSpPr/>
              <p:nvPr/>
            </p:nvGrpSpPr>
            <p:grpSpPr>
              <a:xfrm>
                <a:off x="5943600" y="2231280"/>
                <a:ext cx="1803960" cy="621000"/>
                <a:chOff x="5943600" y="2231280"/>
                <a:chExt cx="1803960" cy="621000"/>
              </a:xfrm>
            </p:grpSpPr>
            <p:sp>
              <p:nvSpPr>
                <p:cNvPr id="5015" name=""/>
                <p:cNvSpPr/>
                <p:nvPr/>
              </p:nvSpPr>
              <p:spPr>
                <a:xfrm>
                  <a:off x="7158960" y="2852280"/>
                  <a:ext cx="5842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6" name=""/>
                <p:cNvSpPr/>
                <p:nvPr/>
              </p:nvSpPr>
              <p:spPr>
                <a:xfrm>
                  <a:off x="5952960" y="2231280"/>
                  <a:ext cx="17946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7" name=""/>
                <p:cNvSpPr/>
                <p:nvPr/>
              </p:nvSpPr>
              <p:spPr>
                <a:xfrm>
                  <a:off x="5948280" y="2409840"/>
                  <a:ext cx="17946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8" name=""/>
                <p:cNvSpPr/>
                <p:nvPr/>
              </p:nvSpPr>
              <p:spPr>
                <a:xfrm>
                  <a:off x="7155720" y="2703600"/>
                  <a:ext cx="5889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9" name=""/>
                <p:cNvSpPr/>
                <p:nvPr/>
              </p:nvSpPr>
              <p:spPr>
                <a:xfrm>
                  <a:off x="5943600" y="2556720"/>
                  <a:ext cx="5911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0" name=""/>
                <p:cNvSpPr/>
                <p:nvPr/>
              </p:nvSpPr>
              <p:spPr>
                <a:xfrm>
                  <a:off x="7155720" y="2556720"/>
                  <a:ext cx="5889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1" name=""/>
                <p:cNvSpPr/>
                <p:nvPr/>
              </p:nvSpPr>
              <p:spPr>
                <a:xfrm>
                  <a:off x="5948280" y="2703600"/>
                  <a:ext cx="5911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2" name=""/>
                <p:cNvSpPr/>
                <p:nvPr/>
              </p:nvSpPr>
              <p:spPr>
                <a:xfrm>
                  <a:off x="5948280" y="2848680"/>
                  <a:ext cx="5842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23" name=""/>
            <p:cNvGrpSpPr/>
            <p:nvPr/>
          </p:nvGrpSpPr>
          <p:grpSpPr>
            <a:xfrm>
              <a:off x="5942160" y="1071720"/>
              <a:ext cx="2814480" cy="1777320"/>
              <a:chOff x="5942160" y="1071720"/>
              <a:chExt cx="2814480" cy="1777320"/>
            </a:xfrm>
          </p:grpSpPr>
          <p:sp>
            <p:nvSpPr>
              <p:cNvPr id="5024" name=""/>
              <p:cNvSpPr/>
              <p:nvPr/>
            </p:nvSpPr>
            <p:spPr>
              <a:xfrm>
                <a:off x="6846480" y="2098440"/>
                <a:ext cx="0" cy="309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25" name=""/>
              <p:cNvGrpSpPr/>
              <p:nvPr/>
            </p:nvGrpSpPr>
            <p:grpSpPr>
              <a:xfrm>
                <a:off x="5942160" y="1071720"/>
                <a:ext cx="2814480" cy="1777320"/>
                <a:chOff x="5942160" y="1071720"/>
                <a:chExt cx="2814480" cy="1777320"/>
              </a:xfrm>
            </p:grpSpPr>
            <p:grpSp>
              <p:nvGrpSpPr>
                <p:cNvPr id="5026" name=""/>
                <p:cNvGrpSpPr/>
                <p:nvPr/>
              </p:nvGrpSpPr>
              <p:grpSpPr>
                <a:xfrm>
                  <a:off x="6960960" y="1071720"/>
                  <a:ext cx="1795680" cy="757080"/>
                  <a:chOff x="6960960" y="1071720"/>
                  <a:chExt cx="1795680" cy="757080"/>
                </a:xfrm>
              </p:grpSpPr>
              <p:sp>
                <p:nvSpPr>
                  <p:cNvPr id="5027" name=""/>
                  <p:cNvSpPr/>
                  <p:nvPr/>
                </p:nvSpPr>
                <p:spPr>
                  <a:xfrm>
                    <a:off x="8469360" y="1165320"/>
                    <a:ext cx="0" cy="6634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8" name=""/>
                  <p:cNvSpPr/>
                  <p:nvPr/>
                </p:nvSpPr>
                <p:spPr>
                  <a:xfrm>
                    <a:off x="8756640" y="1215360"/>
                    <a:ext cx="0" cy="613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9" name=""/>
                  <p:cNvSpPr/>
                  <p:nvPr/>
                </p:nvSpPr>
                <p:spPr>
                  <a:xfrm>
                    <a:off x="8169480" y="1126080"/>
                    <a:ext cx="0" cy="702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0" name=""/>
                  <p:cNvSpPr/>
                  <p:nvPr/>
                </p:nvSpPr>
                <p:spPr>
                  <a:xfrm>
                    <a:off x="7859520" y="1071720"/>
                    <a:ext cx="0" cy="757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1" name=""/>
                  <p:cNvSpPr/>
                  <p:nvPr/>
                </p:nvSpPr>
                <p:spPr>
                  <a:xfrm>
                    <a:off x="7547760" y="1119240"/>
                    <a:ext cx="0" cy="709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2" name=""/>
                  <p:cNvSpPr/>
                  <p:nvPr/>
                </p:nvSpPr>
                <p:spPr>
                  <a:xfrm>
                    <a:off x="6960960" y="1212480"/>
                    <a:ext cx="0" cy="6163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3" name=""/>
                  <p:cNvSpPr/>
                  <p:nvPr/>
                </p:nvSpPr>
                <p:spPr>
                  <a:xfrm>
                    <a:off x="7261200" y="1170360"/>
                    <a:ext cx="0" cy="658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34" name=""/>
                <p:cNvGrpSpPr/>
                <p:nvPr/>
              </p:nvGrpSpPr>
              <p:grpSpPr>
                <a:xfrm>
                  <a:off x="5942160" y="2136960"/>
                  <a:ext cx="1801800" cy="712080"/>
                  <a:chOff x="5942160" y="2136960"/>
                  <a:chExt cx="1801800" cy="712080"/>
                </a:xfrm>
              </p:grpSpPr>
              <p:sp>
                <p:nvSpPr>
                  <p:cNvPr id="5035" name=""/>
                  <p:cNvSpPr/>
                  <p:nvPr/>
                </p:nvSpPr>
                <p:spPr>
                  <a:xfrm>
                    <a:off x="7456680" y="2183040"/>
                    <a:ext cx="0" cy="666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6" name=""/>
                  <p:cNvSpPr/>
                  <p:nvPr/>
                </p:nvSpPr>
                <p:spPr>
                  <a:xfrm>
                    <a:off x="7743960" y="2229840"/>
                    <a:ext cx="0" cy="613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7" name=""/>
                  <p:cNvSpPr/>
                  <p:nvPr/>
                </p:nvSpPr>
                <p:spPr>
                  <a:xfrm>
                    <a:off x="7156800" y="2140560"/>
                    <a:ext cx="0" cy="7052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8" name=""/>
                  <p:cNvSpPr/>
                  <p:nvPr/>
                </p:nvSpPr>
                <p:spPr>
                  <a:xfrm>
                    <a:off x="6535080" y="2136960"/>
                    <a:ext cx="0" cy="709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9" name=""/>
                  <p:cNvSpPr/>
                  <p:nvPr/>
                </p:nvSpPr>
                <p:spPr>
                  <a:xfrm flipH="1">
                    <a:off x="5942160" y="2226960"/>
                    <a:ext cx="5760" cy="62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0" name=""/>
                  <p:cNvSpPr/>
                  <p:nvPr/>
                </p:nvSpPr>
                <p:spPr>
                  <a:xfrm>
                    <a:off x="6248520" y="2187720"/>
                    <a:ext cx="0" cy="658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5041" name=""/>
            <p:cNvGrpSpPr/>
            <p:nvPr/>
          </p:nvGrpSpPr>
          <p:grpSpPr>
            <a:xfrm>
              <a:off x="5941800" y="1207800"/>
              <a:ext cx="2814840" cy="1646280"/>
              <a:chOff x="5941800" y="1207800"/>
              <a:chExt cx="2814840" cy="1646280"/>
            </a:xfrm>
          </p:grpSpPr>
          <p:grpSp>
            <p:nvGrpSpPr>
              <p:cNvPr id="5042" name=""/>
              <p:cNvGrpSpPr/>
              <p:nvPr/>
            </p:nvGrpSpPr>
            <p:grpSpPr>
              <a:xfrm>
                <a:off x="7737480" y="2053800"/>
                <a:ext cx="172800" cy="794160"/>
                <a:chOff x="7737480" y="2053800"/>
                <a:chExt cx="172800" cy="794160"/>
              </a:xfrm>
            </p:grpSpPr>
            <p:sp>
              <p:nvSpPr>
                <p:cNvPr id="5043" name=""/>
                <p:cNvSpPr/>
                <p:nvPr/>
              </p:nvSpPr>
              <p:spPr>
                <a:xfrm flipV="1">
                  <a:off x="7740720" y="2385360"/>
                  <a:ext cx="169200" cy="462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4" name=""/>
                <p:cNvSpPr/>
                <p:nvPr/>
              </p:nvSpPr>
              <p:spPr>
                <a:xfrm flipH="1" flipV="1">
                  <a:off x="7737480" y="2222640"/>
                  <a:ext cx="172440" cy="162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5" name=""/>
                <p:cNvSpPr/>
                <p:nvPr/>
              </p:nvSpPr>
              <p:spPr>
                <a:xfrm flipH="1" flipV="1">
                  <a:off x="7740720" y="2545920"/>
                  <a:ext cx="169200" cy="133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6" name=""/>
                <p:cNvSpPr/>
                <p:nvPr/>
              </p:nvSpPr>
              <p:spPr>
                <a:xfrm flipV="1">
                  <a:off x="7740720" y="2056680"/>
                  <a:ext cx="169200" cy="490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7" name=""/>
                <p:cNvSpPr/>
                <p:nvPr/>
              </p:nvSpPr>
              <p:spPr>
                <a:xfrm flipV="1">
                  <a:off x="7737840" y="2053800"/>
                  <a:ext cx="166320" cy="165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8" name=""/>
                <p:cNvSpPr/>
                <p:nvPr/>
              </p:nvSpPr>
              <p:spPr>
                <a:xfrm>
                  <a:off x="7741080" y="2223360"/>
                  <a:ext cx="0" cy="622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9" name=""/>
                <p:cNvSpPr/>
                <p:nvPr/>
              </p:nvSpPr>
              <p:spPr>
                <a:xfrm flipV="1">
                  <a:off x="7741080" y="2383200"/>
                  <a:ext cx="166320" cy="165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0" name=""/>
                <p:cNvSpPr/>
                <p:nvPr/>
              </p:nvSpPr>
              <p:spPr>
                <a:xfrm>
                  <a:off x="7910280" y="2059920"/>
                  <a:ext cx="0" cy="622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51" name=""/>
              <p:cNvGrpSpPr/>
              <p:nvPr/>
            </p:nvGrpSpPr>
            <p:grpSpPr>
              <a:xfrm>
                <a:off x="5941800" y="2059920"/>
                <a:ext cx="172800" cy="794160"/>
                <a:chOff x="5941800" y="2059920"/>
                <a:chExt cx="172800" cy="794160"/>
              </a:xfrm>
            </p:grpSpPr>
            <p:sp>
              <p:nvSpPr>
                <p:cNvPr id="5052" name=""/>
                <p:cNvSpPr/>
                <p:nvPr/>
              </p:nvSpPr>
              <p:spPr>
                <a:xfrm flipV="1">
                  <a:off x="5945040" y="2391480"/>
                  <a:ext cx="169200" cy="462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3" name=""/>
                <p:cNvSpPr/>
                <p:nvPr/>
              </p:nvSpPr>
              <p:spPr>
                <a:xfrm flipH="1" flipV="1">
                  <a:off x="5941800" y="2228760"/>
                  <a:ext cx="172440" cy="162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4" name=""/>
                <p:cNvSpPr/>
                <p:nvPr/>
              </p:nvSpPr>
              <p:spPr>
                <a:xfrm flipH="1" flipV="1">
                  <a:off x="5945040" y="2552040"/>
                  <a:ext cx="169200" cy="133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5" name=""/>
                <p:cNvSpPr/>
                <p:nvPr/>
              </p:nvSpPr>
              <p:spPr>
                <a:xfrm flipV="1">
                  <a:off x="5945040" y="2062800"/>
                  <a:ext cx="169200" cy="490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6" name=""/>
                <p:cNvSpPr/>
                <p:nvPr/>
              </p:nvSpPr>
              <p:spPr>
                <a:xfrm flipV="1">
                  <a:off x="5942160" y="2059920"/>
                  <a:ext cx="166320" cy="165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7" name=""/>
                <p:cNvSpPr/>
                <p:nvPr/>
              </p:nvSpPr>
              <p:spPr>
                <a:xfrm>
                  <a:off x="5945400" y="2229480"/>
                  <a:ext cx="0" cy="622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8" name=""/>
                <p:cNvSpPr/>
                <p:nvPr/>
              </p:nvSpPr>
              <p:spPr>
                <a:xfrm flipV="1">
                  <a:off x="5945400" y="2389320"/>
                  <a:ext cx="166320" cy="165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9" name=""/>
                <p:cNvSpPr/>
                <p:nvPr/>
              </p:nvSpPr>
              <p:spPr>
                <a:xfrm>
                  <a:off x="6114600" y="2066040"/>
                  <a:ext cx="0" cy="622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0" name=""/>
              <p:cNvGrpSpPr/>
              <p:nvPr/>
            </p:nvGrpSpPr>
            <p:grpSpPr>
              <a:xfrm>
                <a:off x="8583840" y="1207800"/>
                <a:ext cx="172800" cy="794160"/>
                <a:chOff x="8583840" y="1207800"/>
                <a:chExt cx="172800" cy="794160"/>
              </a:xfrm>
            </p:grpSpPr>
            <p:sp>
              <p:nvSpPr>
                <p:cNvPr id="5061" name=""/>
                <p:cNvSpPr/>
                <p:nvPr/>
              </p:nvSpPr>
              <p:spPr>
                <a:xfrm flipV="1">
                  <a:off x="8587080" y="1539360"/>
                  <a:ext cx="169200" cy="462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2" name=""/>
                <p:cNvSpPr/>
                <p:nvPr/>
              </p:nvSpPr>
              <p:spPr>
                <a:xfrm flipH="1" flipV="1">
                  <a:off x="8583840" y="1376640"/>
                  <a:ext cx="172440" cy="162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3" name=""/>
                <p:cNvSpPr/>
                <p:nvPr/>
              </p:nvSpPr>
              <p:spPr>
                <a:xfrm flipH="1" flipV="1">
                  <a:off x="8587080" y="1699920"/>
                  <a:ext cx="169200" cy="133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4" name=""/>
                <p:cNvSpPr/>
                <p:nvPr/>
              </p:nvSpPr>
              <p:spPr>
                <a:xfrm flipV="1">
                  <a:off x="8587080" y="1210680"/>
                  <a:ext cx="169200" cy="490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5" name=""/>
                <p:cNvSpPr/>
                <p:nvPr/>
              </p:nvSpPr>
              <p:spPr>
                <a:xfrm flipV="1">
                  <a:off x="8584200" y="1207800"/>
                  <a:ext cx="166320" cy="165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6" name=""/>
                <p:cNvSpPr/>
                <p:nvPr/>
              </p:nvSpPr>
              <p:spPr>
                <a:xfrm>
                  <a:off x="8587440" y="1377360"/>
                  <a:ext cx="0" cy="622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7" name=""/>
                <p:cNvSpPr/>
                <p:nvPr/>
              </p:nvSpPr>
              <p:spPr>
                <a:xfrm flipV="1">
                  <a:off x="8587440" y="1537200"/>
                  <a:ext cx="166320" cy="165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8" name=""/>
                <p:cNvSpPr/>
                <p:nvPr/>
              </p:nvSpPr>
              <p:spPr>
                <a:xfrm>
                  <a:off x="8756640" y="1213920"/>
                  <a:ext cx="0" cy="622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9" name=""/>
              <p:cNvGrpSpPr/>
              <p:nvPr/>
            </p:nvGrpSpPr>
            <p:grpSpPr>
              <a:xfrm>
                <a:off x="6788160" y="1216800"/>
                <a:ext cx="172800" cy="794160"/>
                <a:chOff x="6788160" y="1216800"/>
                <a:chExt cx="172800" cy="794160"/>
              </a:xfrm>
            </p:grpSpPr>
            <p:sp>
              <p:nvSpPr>
                <p:cNvPr id="5070" name=""/>
                <p:cNvSpPr/>
                <p:nvPr/>
              </p:nvSpPr>
              <p:spPr>
                <a:xfrm flipV="1">
                  <a:off x="6791400" y="1548360"/>
                  <a:ext cx="169200" cy="462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1" name=""/>
                <p:cNvSpPr/>
                <p:nvPr/>
              </p:nvSpPr>
              <p:spPr>
                <a:xfrm flipH="1" flipV="1">
                  <a:off x="6788160" y="1385640"/>
                  <a:ext cx="172440" cy="162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2" name=""/>
                <p:cNvSpPr/>
                <p:nvPr/>
              </p:nvSpPr>
              <p:spPr>
                <a:xfrm flipH="1" flipV="1">
                  <a:off x="6791400" y="1708920"/>
                  <a:ext cx="169200" cy="133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3" name=""/>
                <p:cNvSpPr/>
                <p:nvPr/>
              </p:nvSpPr>
              <p:spPr>
                <a:xfrm flipV="1">
                  <a:off x="6791400" y="1219680"/>
                  <a:ext cx="169200" cy="490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4" name=""/>
                <p:cNvSpPr/>
                <p:nvPr/>
              </p:nvSpPr>
              <p:spPr>
                <a:xfrm flipV="1">
                  <a:off x="6788520" y="1216800"/>
                  <a:ext cx="166320" cy="165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5" name=""/>
                <p:cNvSpPr/>
                <p:nvPr/>
              </p:nvSpPr>
              <p:spPr>
                <a:xfrm>
                  <a:off x="6791760" y="1386360"/>
                  <a:ext cx="0" cy="622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6" name=""/>
                <p:cNvSpPr/>
                <p:nvPr/>
              </p:nvSpPr>
              <p:spPr>
                <a:xfrm flipV="1">
                  <a:off x="6791760" y="1546200"/>
                  <a:ext cx="166320" cy="165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7" name=""/>
                <p:cNvSpPr/>
                <p:nvPr/>
              </p:nvSpPr>
              <p:spPr>
                <a:xfrm>
                  <a:off x="6960960" y="1222920"/>
                  <a:ext cx="0" cy="622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78" name=""/>
            <p:cNvGrpSpPr/>
            <p:nvPr/>
          </p:nvGrpSpPr>
          <p:grpSpPr>
            <a:xfrm>
              <a:off x="6114960" y="1244160"/>
              <a:ext cx="2471760" cy="1435320"/>
              <a:chOff x="6114960" y="1244160"/>
              <a:chExt cx="2471760" cy="1435320"/>
            </a:xfrm>
          </p:grpSpPr>
          <p:grpSp>
            <p:nvGrpSpPr>
              <p:cNvPr id="5079" name=""/>
              <p:cNvGrpSpPr/>
              <p:nvPr/>
            </p:nvGrpSpPr>
            <p:grpSpPr>
              <a:xfrm>
                <a:off x="6114960" y="1920600"/>
                <a:ext cx="1794960" cy="758880"/>
                <a:chOff x="6114960" y="1920600"/>
                <a:chExt cx="1794960" cy="758880"/>
              </a:xfrm>
            </p:grpSpPr>
            <p:sp>
              <p:nvSpPr>
                <p:cNvPr id="5080" name=""/>
                <p:cNvSpPr/>
                <p:nvPr/>
              </p:nvSpPr>
              <p:spPr>
                <a:xfrm flipV="1">
                  <a:off x="6114960" y="2058480"/>
                  <a:ext cx="0" cy="621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1" name=""/>
                <p:cNvSpPr/>
                <p:nvPr/>
              </p:nvSpPr>
              <p:spPr>
                <a:xfrm flipV="1">
                  <a:off x="6114960" y="1920600"/>
                  <a:ext cx="897480" cy="137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2" name=""/>
                <p:cNvSpPr/>
                <p:nvPr/>
              </p:nvSpPr>
              <p:spPr>
                <a:xfrm flipV="1">
                  <a:off x="7909920" y="2058480"/>
                  <a:ext cx="0" cy="621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3" name=""/>
                <p:cNvSpPr/>
                <p:nvPr/>
              </p:nvSpPr>
              <p:spPr>
                <a:xfrm flipH="1" flipV="1">
                  <a:off x="7012080" y="1920600"/>
                  <a:ext cx="897480" cy="137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84" name=""/>
              <p:cNvGrpSpPr/>
              <p:nvPr/>
            </p:nvGrpSpPr>
            <p:grpSpPr>
              <a:xfrm>
                <a:off x="6284160" y="1751400"/>
                <a:ext cx="1794960" cy="758880"/>
                <a:chOff x="6284160" y="1751400"/>
                <a:chExt cx="1794960" cy="758880"/>
              </a:xfrm>
            </p:grpSpPr>
            <p:sp>
              <p:nvSpPr>
                <p:cNvPr id="5085" name=""/>
                <p:cNvSpPr/>
                <p:nvPr/>
              </p:nvSpPr>
              <p:spPr>
                <a:xfrm flipV="1">
                  <a:off x="6284160" y="1889280"/>
                  <a:ext cx="0" cy="621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6" name=""/>
                <p:cNvSpPr/>
                <p:nvPr/>
              </p:nvSpPr>
              <p:spPr>
                <a:xfrm flipV="1">
                  <a:off x="6284160" y="1751400"/>
                  <a:ext cx="897480" cy="137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7" name=""/>
                <p:cNvSpPr/>
                <p:nvPr/>
              </p:nvSpPr>
              <p:spPr>
                <a:xfrm flipV="1">
                  <a:off x="8079120" y="1889280"/>
                  <a:ext cx="0" cy="621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8" name=""/>
                <p:cNvSpPr/>
                <p:nvPr/>
              </p:nvSpPr>
              <p:spPr>
                <a:xfrm flipH="1" flipV="1">
                  <a:off x="7181280" y="1751400"/>
                  <a:ext cx="897480" cy="137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89" name=""/>
              <p:cNvGrpSpPr/>
              <p:nvPr/>
            </p:nvGrpSpPr>
            <p:grpSpPr>
              <a:xfrm>
                <a:off x="6453360" y="1582200"/>
                <a:ext cx="1794960" cy="758880"/>
                <a:chOff x="6453360" y="1582200"/>
                <a:chExt cx="1794960" cy="758880"/>
              </a:xfrm>
            </p:grpSpPr>
            <p:sp>
              <p:nvSpPr>
                <p:cNvPr id="5090" name=""/>
                <p:cNvSpPr/>
                <p:nvPr/>
              </p:nvSpPr>
              <p:spPr>
                <a:xfrm flipV="1">
                  <a:off x="6453360" y="1720080"/>
                  <a:ext cx="0" cy="621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1" name=""/>
                <p:cNvSpPr/>
                <p:nvPr/>
              </p:nvSpPr>
              <p:spPr>
                <a:xfrm flipV="1">
                  <a:off x="6453360" y="1582200"/>
                  <a:ext cx="897480" cy="137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2" name=""/>
                <p:cNvSpPr/>
                <p:nvPr/>
              </p:nvSpPr>
              <p:spPr>
                <a:xfrm flipV="1">
                  <a:off x="8248320" y="1720080"/>
                  <a:ext cx="0" cy="621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3" name=""/>
                <p:cNvSpPr/>
                <p:nvPr/>
              </p:nvSpPr>
              <p:spPr>
                <a:xfrm flipH="1" flipV="1">
                  <a:off x="7350480" y="1582200"/>
                  <a:ext cx="897480" cy="137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4" name=""/>
              <p:cNvGrpSpPr/>
              <p:nvPr/>
            </p:nvGrpSpPr>
            <p:grpSpPr>
              <a:xfrm>
                <a:off x="6622560" y="1413000"/>
                <a:ext cx="1794960" cy="758880"/>
                <a:chOff x="6622560" y="1413000"/>
                <a:chExt cx="1794960" cy="758880"/>
              </a:xfrm>
            </p:grpSpPr>
            <p:sp>
              <p:nvSpPr>
                <p:cNvPr id="5095" name=""/>
                <p:cNvSpPr/>
                <p:nvPr/>
              </p:nvSpPr>
              <p:spPr>
                <a:xfrm flipV="1">
                  <a:off x="6622560" y="1550880"/>
                  <a:ext cx="0" cy="621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6" name=""/>
                <p:cNvSpPr/>
                <p:nvPr/>
              </p:nvSpPr>
              <p:spPr>
                <a:xfrm flipV="1">
                  <a:off x="6622560" y="1413000"/>
                  <a:ext cx="897480" cy="137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7" name=""/>
                <p:cNvSpPr/>
                <p:nvPr/>
              </p:nvSpPr>
              <p:spPr>
                <a:xfrm flipV="1">
                  <a:off x="8417520" y="1550880"/>
                  <a:ext cx="0" cy="621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8" name=""/>
                <p:cNvSpPr/>
                <p:nvPr/>
              </p:nvSpPr>
              <p:spPr>
                <a:xfrm flipH="1" flipV="1">
                  <a:off x="7519680" y="1413000"/>
                  <a:ext cx="897480" cy="137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9" name=""/>
              <p:cNvGrpSpPr/>
              <p:nvPr/>
            </p:nvGrpSpPr>
            <p:grpSpPr>
              <a:xfrm>
                <a:off x="6791760" y="1244160"/>
                <a:ext cx="1794960" cy="758880"/>
                <a:chOff x="6791760" y="1244160"/>
                <a:chExt cx="1794960" cy="758880"/>
              </a:xfrm>
            </p:grpSpPr>
            <p:sp>
              <p:nvSpPr>
                <p:cNvPr id="5100" name=""/>
                <p:cNvSpPr/>
                <p:nvPr/>
              </p:nvSpPr>
              <p:spPr>
                <a:xfrm flipV="1">
                  <a:off x="6791760" y="1382040"/>
                  <a:ext cx="0" cy="621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1" name=""/>
                <p:cNvSpPr/>
                <p:nvPr/>
              </p:nvSpPr>
              <p:spPr>
                <a:xfrm flipV="1">
                  <a:off x="6791760" y="1244160"/>
                  <a:ext cx="897480" cy="137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2" name=""/>
                <p:cNvSpPr/>
                <p:nvPr/>
              </p:nvSpPr>
              <p:spPr>
                <a:xfrm flipV="1">
                  <a:off x="8586720" y="1382040"/>
                  <a:ext cx="0" cy="621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3" name=""/>
                <p:cNvSpPr/>
                <p:nvPr/>
              </p:nvSpPr>
              <p:spPr>
                <a:xfrm flipH="1" flipV="1">
                  <a:off x="7688880" y="1244160"/>
                  <a:ext cx="897480" cy="137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104" name=""/>
            <p:cNvGrpSpPr/>
            <p:nvPr/>
          </p:nvGrpSpPr>
          <p:grpSpPr>
            <a:xfrm>
              <a:off x="5946840" y="1074240"/>
              <a:ext cx="2809800" cy="1775160"/>
              <a:chOff x="5946840" y="1074240"/>
              <a:chExt cx="2809800" cy="1775160"/>
            </a:xfrm>
          </p:grpSpPr>
          <p:sp>
            <p:nvSpPr>
              <p:cNvPr id="5105" name=""/>
              <p:cNvSpPr/>
              <p:nvPr/>
            </p:nvSpPr>
            <p:spPr>
              <a:xfrm flipV="1">
                <a:off x="5946840" y="2089440"/>
                <a:ext cx="897480" cy="1378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6" name=""/>
              <p:cNvSpPr/>
              <p:nvPr/>
            </p:nvSpPr>
            <p:spPr>
              <a:xfrm flipH="1" flipV="1">
                <a:off x="6844320" y="2089440"/>
                <a:ext cx="897120" cy="1378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7" name=""/>
              <p:cNvSpPr/>
              <p:nvPr/>
            </p:nvSpPr>
            <p:spPr>
              <a:xfrm flipV="1">
                <a:off x="6961680" y="1074240"/>
                <a:ext cx="897480" cy="1378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08" name=""/>
              <p:cNvGrpSpPr/>
              <p:nvPr/>
            </p:nvGrpSpPr>
            <p:grpSpPr>
              <a:xfrm>
                <a:off x="5946840" y="1212480"/>
                <a:ext cx="2809800" cy="1636920"/>
                <a:chOff x="5946840" y="1212480"/>
                <a:chExt cx="2809800" cy="1636920"/>
              </a:xfrm>
            </p:grpSpPr>
            <p:sp>
              <p:nvSpPr>
                <p:cNvPr id="5109" name=""/>
                <p:cNvSpPr/>
                <p:nvPr/>
              </p:nvSpPr>
              <p:spPr>
                <a:xfrm flipV="1">
                  <a:off x="5946840" y="2228040"/>
                  <a:ext cx="0" cy="621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0" name=""/>
                <p:cNvSpPr/>
                <p:nvPr/>
              </p:nvSpPr>
              <p:spPr>
                <a:xfrm flipV="1">
                  <a:off x="7741440" y="2228040"/>
                  <a:ext cx="0" cy="621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1" name=""/>
                <p:cNvSpPr/>
                <p:nvPr/>
              </p:nvSpPr>
              <p:spPr>
                <a:xfrm flipV="1">
                  <a:off x="6961680" y="1212480"/>
                  <a:ext cx="0" cy="621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2" name=""/>
                <p:cNvSpPr/>
                <p:nvPr/>
              </p:nvSpPr>
              <p:spPr>
                <a:xfrm flipV="1">
                  <a:off x="8756640" y="1212480"/>
                  <a:ext cx="0" cy="621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13" name=""/>
              <p:cNvSpPr/>
              <p:nvPr/>
            </p:nvSpPr>
            <p:spPr>
              <a:xfrm flipH="1" flipV="1">
                <a:off x="7859160" y="1074240"/>
                <a:ext cx="897120" cy="1378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14" name=""/>
            <p:cNvGrpSpPr/>
            <p:nvPr/>
          </p:nvGrpSpPr>
          <p:grpSpPr>
            <a:xfrm>
              <a:off x="5946840" y="1386000"/>
              <a:ext cx="2809440" cy="1465200"/>
              <a:chOff x="5946840" y="1386000"/>
              <a:chExt cx="2809440" cy="1465200"/>
            </a:xfrm>
          </p:grpSpPr>
          <p:grpSp>
            <p:nvGrpSpPr>
              <p:cNvPr id="5115" name=""/>
              <p:cNvGrpSpPr/>
              <p:nvPr/>
            </p:nvGrpSpPr>
            <p:grpSpPr>
              <a:xfrm>
                <a:off x="5946840" y="1395360"/>
                <a:ext cx="1014840" cy="1455480"/>
                <a:chOff x="5946840" y="1395360"/>
                <a:chExt cx="1014840" cy="1455480"/>
              </a:xfrm>
            </p:grpSpPr>
            <p:sp>
              <p:nvSpPr>
                <p:cNvPr id="5116" name=""/>
                <p:cNvSpPr/>
                <p:nvPr/>
              </p:nvSpPr>
              <p:spPr>
                <a:xfrm flipV="1">
                  <a:off x="5946840" y="1395360"/>
                  <a:ext cx="1014840" cy="1013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7" name=""/>
                <p:cNvSpPr/>
                <p:nvPr/>
              </p:nvSpPr>
              <p:spPr>
                <a:xfrm flipV="1">
                  <a:off x="5946840" y="1550520"/>
                  <a:ext cx="1014840" cy="1013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8" name=""/>
                <p:cNvSpPr/>
                <p:nvPr/>
              </p:nvSpPr>
              <p:spPr>
                <a:xfrm flipV="1">
                  <a:off x="5946840" y="1688400"/>
                  <a:ext cx="1014840" cy="1013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9" name=""/>
                <p:cNvSpPr/>
                <p:nvPr/>
              </p:nvSpPr>
              <p:spPr>
                <a:xfrm flipV="1">
                  <a:off x="5946840" y="1837080"/>
                  <a:ext cx="1014840" cy="1013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0" name=""/>
              <p:cNvGrpSpPr/>
              <p:nvPr/>
            </p:nvGrpSpPr>
            <p:grpSpPr>
              <a:xfrm>
                <a:off x="7741440" y="1386000"/>
                <a:ext cx="1014840" cy="1465200"/>
                <a:chOff x="7741440" y="1386000"/>
                <a:chExt cx="1014840" cy="1465200"/>
              </a:xfrm>
            </p:grpSpPr>
            <p:sp>
              <p:nvSpPr>
                <p:cNvPr id="5121" name=""/>
                <p:cNvSpPr/>
                <p:nvPr/>
              </p:nvSpPr>
              <p:spPr>
                <a:xfrm flipV="1">
                  <a:off x="7741440" y="1837440"/>
                  <a:ext cx="1014840" cy="1013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2" name=""/>
                <p:cNvSpPr/>
                <p:nvPr/>
              </p:nvSpPr>
              <p:spPr>
                <a:xfrm flipV="1">
                  <a:off x="7741440" y="1386000"/>
                  <a:ext cx="1014840" cy="1013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3" name=""/>
                <p:cNvSpPr/>
                <p:nvPr/>
              </p:nvSpPr>
              <p:spPr>
                <a:xfrm flipV="1">
                  <a:off x="7741440" y="1541160"/>
                  <a:ext cx="1014840" cy="1013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4" name=""/>
                <p:cNvSpPr/>
                <p:nvPr/>
              </p:nvSpPr>
              <p:spPr>
                <a:xfrm flipV="1">
                  <a:off x="7741440" y="1690200"/>
                  <a:ext cx="1014840" cy="1013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125" name=""/>
            <p:cNvSpPr/>
            <p:nvPr/>
          </p:nvSpPr>
          <p:spPr>
            <a:xfrm flipV="1">
              <a:off x="6846840" y="1079640"/>
              <a:ext cx="1015920" cy="10159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26" name=""/>
            <p:cNvGrpSpPr/>
            <p:nvPr/>
          </p:nvGrpSpPr>
          <p:grpSpPr>
            <a:xfrm>
              <a:off x="5946840" y="1212840"/>
              <a:ext cx="2808360" cy="1014480"/>
              <a:chOff x="5946840" y="1212840"/>
              <a:chExt cx="2808360" cy="1014480"/>
            </a:xfrm>
          </p:grpSpPr>
          <p:sp>
            <p:nvSpPr>
              <p:cNvPr id="5127" name=""/>
              <p:cNvSpPr/>
              <p:nvPr/>
            </p:nvSpPr>
            <p:spPr>
              <a:xfrm flipV="1">
                <a:off x="7737120" y="1212840"/>
                <a:ext cx="1018080" cy="1014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8" name=""/>
              <p:cNvSpPr/>
              <p:nvPr/>
            </p:nvSpPr>
            <p:spPr>
              <a:xfrm flipV="1">
                <a:off x="5946840" y="1212840"/>
                <a:ext cx="1015200" cy="1014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9" name=""/>
            <p:cNvGrpSpPr/>
            <p:nvPr/>
          </p:nvGrpSpPr>
          <p:grpSpPr>
            <a:xfrm>
              <a:off x="6080040" y="1095120"/>
              <a:ext cx="2532240" cy="1113840"/>
              <a:chOff x="6080040" y="1095120"/>
              <a:chExt cx="2532240" cy="1113840"/>
            </a:xfrm>
          </p:grpSpPr>
          <p:sp>
            <p:nvSpPr>
              <p:cNvPr id="5130" name=""/>
              <p:cNvSpPr/>
              <p:nvPr/>
            </p:nvSpPr>
            <p:spPr>
              <a:xfrm flipV="1">
                <a:off x="7013160" y="1099440"/>
                <a:ext cx="1017720" cy="1017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1" name=""/>
              <p:cNvSpPr/>
              <p:nvPr/>
            </p:nvSpPr>
            <p:spPr>
              <a:xfrm flipV="1">
                <a:off x="7165800" y="1113120"/>
                <a:ext cx="1017720" cy="1017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2" name=""/>
              <p:cNvSpPr/>
              <p:nvPr/>
            </p:nvSpPr>
            <p:spPr>
              <a:xfrm flipV="1">
                <a:off x="7453440" y="1162800"/>
                <a:ext cx="1017720" cy="1017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3" name=""/>
              <p:cNvSpPr/>
              <p:nvPr/>
            </p:nvSpPr>
            <p:spPr>
              <a:xfrm flipV="1">
                <a:off x="7594560" y="1191960"/>
                <a:ext cx="1017720" cy="1017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4" name=""/>
              <p:cNvSpPr/>
              <p:nvPr/>
            </p:nvSpPr>
            <p:spPr>
              <a:xfrm flipV="1">
                <a:off x="6080040" y="1191960"/>
                <a:ext cx="1004040" cy="1017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5" name=""/>
              <p:cNvSpPr/>
              <p:nvPr/>
            </p:nvSpPr>
            <p:spPr>
              <a:xfrm flipV="1">
                <a:off x="6247080" y="1168560"/>
                <a:ext cx="1004040" cy="1017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6" name=""/>
              <p:cNvSpPr/>
              <p:nvPr/>
            </p:nvSpPr>
            <p:spPr>
              <a:xfrm flipV="1">
                <a:off x="6532920" y="1122840"/>
                <a:ext cx="1004040" cy="1017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7" name=""/>
              <p:cNvSpPr/>
              <p:nvPr/>
            </p:nvSpPr>
            <p:spPr>
              <a:xfrm flipV="1">
                <a:off x="6687000" y="1095120"/>
                <a:ext cx="1007640" cy="1017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8" name=""/>
              <p:cNvSpPr/>
              <p:nvPr/>
            </p:nvSpPr>
            <p:spPr>
              <a:xfrm flipV="1">
                <a:off x="6385680" y="1146240"/>
                <a:ext cx="1004040" cy="1017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9" name=""/>
              <p:cNvSpPr/>
              <p:nvPr/>
            </p:nvSpPr>
            <p:spPr>
              <a:xfrm flipV="1">
                <a:off x="7292520" y="1141200"/>
                <a:ext cx="1017720" cy="10245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40" name=""/>
            <p:cNvGrpSpPr/>
            <p:nvPr/>
          </p:nvGrpSpPr>
          <p:grpSpPr>
            <a:xfrm>
              <a:off x="5943600" y="1072800"/>
              <a:ext cx="2816280" cy="1154160"/>
              <a:chOff x="5943600" y="1072800"/>
              <a:chExt cx="2816280" cy="1154160"/>
            </a:xfrm>
          </p:grpSpPr>
          <p:grpSp>
            <p:nvGrpSpPr>
              <p:cNvPr id="5141" name=""/>
              <p:cNvGrpSpPr/>
              <p:nvPr/>
            </p:nvGrpSpPr>
            <p:grpSpPr>
              <a:xfrm>
                <a:off x="5943600" y="1918080"/>
                <a:ext cx="1964880" cy="308880"/>
                <a:chOff x="5943600" y="1918080"/>
                <a:chExt cx="1964880" cy="308880"/>
              </a:xfrm>
            </p:grpSpPr>
            <p:sp>
              <p:nvSpPr>
                <p:cNvPr id="5142" name=""/>
                <p:cNvSpPr/>
                <p:nvPr/>
              </p:nvSpPr>
              <p:spPr>
                <a:xfrm flipH="1" flipV="1">
                  <a:off x="7010640" y="1919520"/>
                  <a:ext cx="152640" cy="2156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3" name=""/>
                <p:cNvSpPr/>
                <p:nvPr/>
              </p:nvSpPr>
              <p:spPr>
                <a:xfrm flipH="1">
                  <a:off x="6524280" y="1919880"/>
                  <a:ext cx="486000" cy="2156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4" name=""/>
                <p:cNvSpPr/>
                <p:nvPr/>
              </p:nvSpPr>
              <p:spPr>
                <a:xfrm flipH="1" flipV="1">
                  <a:off x="7601040" y="2002320"/>
                  <a:ext cx="137880" cy="2242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5" name=""/>
                <p:cNvSpPr/>
                <p:nvPr/>
              </p:nvSpPr>
              <p:spPr>
                <a:xfrm flipV="1">
                  <a:off x="7451280" y="2056680"/>
                  <a:ext cx="457200" cy="1270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6" name=""/>
                <p:cNvSpPr/>
                <p:nvPr/>
              </p:nvSpPr>
              <p:spPr>
                <a:xfrm flipH="1" flipV="1">
                  <a:off x="7312320" y="1970280"/>
                  <a:ext cx="138960" cy="213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7" name=""/>
                <p:cNvSpPr/>
                <p:nvPr/>
              </p:nvSpPr>
              <p:spPr>
                <a:xfrm flipH="1">
                  <a:off x="7151400" y="2009520"/>
                  <a:ext cx="473400" cy="1260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8" name=""/>
                <p:cNvSpPr/>
                <p:nvPr/>
              </p:nvSpPr>
              <p:spPr>
                <a:xfrm flipH="1">
                  <a:off x="6865920" y="1970640"/>
                  <a:ext cx="446400" cy="1155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9" name=""/>
                <p:cNvSpPr/>
                <p:nvPr/>
              </p:nvSpPr>
              <p:spPr>
                <a:xfrm flipH="1" flipV="1">
                  <a:off x="6694200" y="1960560"/>
                  <a:ext cx="171000" cy="1249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0" name=""/>
                <p:cNvSpPr/>
                <p:nvPr/>
              </p:nvSpPr>
              <p:spPr>
                <a:xfrm flipH="1" flipV="1">
                  <a:off x="6411960" y="2009160"/>
                  <a:ext cx="117720" cy="1292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1" name=""/>
                <p:cNvSpPr/>
                <p:nvPr/>
              </p:nvSpPr>
              <p:spPr>
                <a:xfrm flipH="1">
                  <a:off x="6242040" y="1970640"/>
                  <a:ext cx="452160" cy="213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2" name=""/>
                <p:cNvSpPr/>
                <p:nvPr/>
              </p:nvSpPr>
              <p:spPr>
                <a:xfrm flipH="1" flipV="1">
                  <a:off x="6112800" y="2056680"/>
                  <a:ext cx="131040" cy="1213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3" name=""/>
                <p:cNvSpPr/>
                <p:nvPr/>
              </p:nvSpPr>
              <p:spPr>
                <a:xfrm flipH="1">
                  <a:off x="5943600" y="2009520"/>
                  <a:ext cx="468720" cy="217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4" name=""/>
                <p:cNvSpPr/>
                <p:nvPr/>
              </p:nvSpPr>
              <p:spPr>
                <a:xfrm flipV="1">
                  <a:off x="7736400" y="2056680"/>
                  <a:ext cx="165960" cy="165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5" name=""/>
                <p:cNvSpPr/>
                <p:nvPr/>
              </p:nvSpPr>
              <p:spPr>
                <a:xfrm flipV="1">
                  <a:off x="6853680" y="1918080"/>
                  <a:ext cx="165960" cy="165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6" name=""/>
                <p:cNvSpPr/>
                <p:nvPr/>
              </p:nvSpPr>
              <p:spPr>
                <a:xfrm flipV="1">
                  <a:off x="7156080" y="1966320"/>
                  <a:ext cx="165960" cy="165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7" name=""/>
                <p:cNvSpPr/>
                <p:nvPr/>
              </p:nvSpPr>
              <p:spPr>
                <a:xfrm flipV="1">
                  <a:off x="5946480" y="2053800"/>
                  <a:ext cx="165960" cy="165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8" name=""/>
                <p:cNvSpPr/>
                <p:nvPr/>
              </p:nvSpPr>
              <p:spPr>
                <a:xfrm flipV="1">
                  <a:off x="6248880" y="2008440"/>
                  <a:ext cx="165960" cy="165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9" name=""/>
                <p:cNvSpPr/>
                <p:nvPr/>
              </p:nvSpPr>
              <p:spPr>
                <a:xfrm flipV="1">
                  <a:off x="6533280" y="1966320"/>
                  <a:ext cx="165960" cy="165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0" name=""/>
                <p:cNvSpPr/>
                <p:nvPr/>
              </p:nvSpPr>
              <p:spPr>
                <a:xfrm flipV="1">
                  <a:off x="6109920" y="1920960"/>
                  <a:ext cx="903960" cy="135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1" name=""/>
                <p:cNvSpPr/>
                <p:nvPr/>
              </p:nvSpPr>
              <p:spPr>
                <a:xfrm flipV="1">
                  <a:off x="5946480" y="2090160"/>
                  <a:ext cx="903960" cy="135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2" name=""/>
                <p:cNvSpPr/>
                <p:nvPr/>
              </p:nvSpPr>
              <p:spPr>
                <a:xfrm>
                  <a:off x="6850800" y="2090520"/>
                  <a:ext cx="879480" cy="135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3" name=""/>
                <p:cNvSpPr/>
                <p:nvPr/>
              </p:nvSpPr>
              <p:spPr>
                <a:xfrm>
                  <a:off x="7016760" y="1921320"/>
                  <a:ext cx="879480" cy="135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4" name=""/>
                <p:cNvSpPr/>
                <p:nvPr/>
              </p:nvSpPr>
              <p:spPr>
                <a:xfrm flipV="1">
                  <a:off x="7443360" y="2017440"/>
                  <a:ext cx="165960" cy="165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65" name=""/>
              <p:cNvGrpSpPr/>
              <p:nvPr/>
            </p:nvGrpSpPr>
            <p:grpSpPr>
              <a:xfrm>
                <a:off x="6795000" y="1072800"/>
                <a:ext cx="1964880" cy="308880"/>
                <a:chOff x="6795000" y="1072800"/>
                <a:chExt cx="1964880" cy="308880"/>
              </a:xfrm>
            </p:grpSpPr>
            <p:sp>
              <p:nvSpPr>
                <p:cNvPr id="5166" name=""/>
                <p:cNvSpPr/>
                <p:nvPr/>
              </p:nvSpPr>
              <p:spPr>
                <a:xfrm flipH="1" flipV="1">
                  <a:off x="7862040" y="1074240"/>
                  <a:ext cx="152640" cy="2156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7" name=""/>
                <p:cNvSpPr/>
                <p:nvPr/>
              </p:nvSpPr>
              <p:spPr>
                <a:xfrm flipH="1">
                  <a:off x="7375680" y="1074600"/>
                  <a:ext cx="486000" cy="2156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8" name=""/>
                <p:cNvSpPr/>
                <p:nvPr/>
              </p:nvSpPr>
              <p:spPr>
                <a:xfrm flipH="1" flipV="1">
                  <a:off x="8452440" y="1157040"/>
                  <a:ext cx="137880" cy="2242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9" name=""/>
                <p:cNvSpPr/>
                <p:nvPr/>
              </p:nvSpPr>
              <p:spPr>
                <a:xfrm flipV="1">
                  <a:off x="8302680" y="1211400"/>
                  <a:ext cx="457200" cy="1270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0" name=""/>
                <p:cNvSpPr/>
                <p:nvPr/>
              </p:nvSpPr>
              <p:spPr>
                <a:xfrm flipH="1" flipV="1">
                  <a:off x="8163720" y="1125000"/>
                  <a:ext cx="138960" cy="213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1" name=""/>
                <p:cNvSpPr/>
                <p:nvPr/>
              </p:nvSpPr>
              <p:spPr>
                <a:xfrm flipH="1">
                  <a:off x="8002800" y="1164240"/>
                  <a:ext cx="473400" cy="1260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2" name=""/>
                <p:cNvSpPr/>
                <p:nvPr/>
              </p:nvSpPr>
              <p:spPr>
                <a:xfrm flipH="1">
                  <a:off x="7717320" y="1125360"/>
                  <a:ext cx="446400" cy="1155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3" name=""/>
                <p:cNvSpPr/>
                <p:nvPr/>
              </p:nvSpPr>
              <p:spPr>
                <a:xfrm flipH="1" flipV="1">
                  <a:off x="7545600" y="1115280"/>
                  <a:ext cx="171000" cy="1249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4" name=""/>
                <p:cNvSpPr/>
                <p:nvPr/>
              </p:nvSpPr>
              <p:spPr>
                <a:xfrm flipH="1" flipV="1">
                  <a:off x="7263360" y="1163880"/>
                  <a:ext cx="117720" cy="1292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5" name=""/>
                <p:cNvSpPr/>
                <p:nvPr/>
              </p:nvSpPr>
              <p:spPr>
                <a:xfrm flipH="1">
                  <a:off x="7093440" y="1125360"/>
                  <a:ext cx="452160" cy="213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6" name=""/>
                <p:cNvSpPr/>
                <p:nvPr/>
              </p:nvSpPr>
              <p:spPr>
                <a:xfrm flipH="1" flipV="1">
                  <a:off x="6964200" y="1211400"/>
                  <a:ext cx="131040" cy="1213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7" name=""/>
                <p:cNvSpPr/>
                <p:nvPr/>
              </p:nvSpPr>
              <p:spPr>
                <a:xfrm flipH="1">
                  <a:off x="6795000" y="1164240"/>
                  <a:ext cx="468720" cy="217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8" name=""/>
                <p:cNvSpPr/>
                <p:nvPr/>
              </p:nvSpPr>
              <p:spPr>
                <a:xfrm flipV="1">
                  <a:off x="8587800" y="1211400"/>
                  <a:ext cx="165960" cy="165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9" name=""/>
                <p:cNvSpPr/>
                <p:nvPr/>
              </p:nvSpPr>
              <p:spPr>
                <a:xfrm flipV="1">
                  <a:off x="7705080" y="1072800"/>
                  <a:ext cx="165960" cy="165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0" name=""/>
                <p:cNvSpPr/>
                <p:nvPr/>
              </p:nvSpPr>
              <p:spPr>
                <a:xfrm flipV="1">
                  <a:off x="8007480" y="1121040"/>
                  <a:ext cx="165960" cy="165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1" name=""/>
                <p:cNvSpPr/>
                <p:nvPr/>
              </p:nvSpPr>
              <p:spPr>
                <a:xfrm flipV="1">
                  <a:off x="6797880" y="1208520"/>
                  <a:ext cx="165960" cy="165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2" name=""/>
                <p:cNvSpPr/>
                <p:nvPr/>
              </p:nvSpPr>
              <p:spPr>
                <a:xfrm flipV="1">
                  <a:off x="7100280" y="1163160"/>
                  <a:ext cx="165960" cy="165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3" name=""/>
                <p:cNvSpPr/>
                <p:nvPr/>
              </p:nvSpPr>
              <p:spPr>
                <a:xfrm flipV="1">
                  <a:off x="7384680" y="1121040"/>
                  <a:ext cx="165960" cy="165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4" name=""/>
                <p:cNvSpPr/>
                <p:nvPr/>
              </p:nvSpPr>
              <p:spPr>
                <a:xfrm flipV="1">
                  <a:off x="6961320" y="1075680"/>
                  <a:ext cx="903960" cy="135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5" name=""/>
                <p:cNvSpPr/>
                <p:nvPr/>
              </p:nvSpPr>
              <p:spPr>
                <a:xfrm flipV="1">
                  <a:off x="6797880" y="1244880"/>
                  <a:ext cx="903960" cy="135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6" name=""/>
                <p:cNvSpPr/>
                <p:nvPr/>
              </p:nvSpPr>
              <p:spPr>
                <a:xfrm>
                  <a:off x="7702200" y="1245240"/>
                  <a:ext cx="879480" cy="135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7" name=""/>
                <p:cNvSpPr/>
                <p:nvPr/>
              </p:nvSpPr>
              <p:spPr>
                <a:xfrm>
                  <a:off x="7868160" y="1076040"/>
                  <a:ext cx="879480" cy="135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8" name=""/>
                <p:cNvSpPr/>
                <p:nvPr/>
              </p:nvSpPr>
              <p:spPr>
                <a:xfrm flipV="1">
                  <a:off x="8294760" y="1172160"/>
                  <a:ext cx="165960" cy="165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189" name=""/>
          <p:cNvSpPr/>
          <p:nvPr/>
        </p:nvSpPr>
        <p:spPr>
          <a:xfrm>
            <a:off x="2655720" y="1566720"/>
            <a:ext cx="34689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BONNE RÉ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0" name=""/>
          <p:cNvSpPr/>
          <p:nvPr/>
        </p:nvSpPr>
        <p:spPr>
          <a:xfrm>
            <a:off x="7227720" y="464040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1" name=""/>
          <p:cNvSpPr/>
          <p:nvPr/>
        </p:nvSpPr>
        <p:spPr>
          <a:xfrm>
            <a:off x="7256520" y="470520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2" name=""/>
          <p:cNvSpPr/>
          <p:nvPr/>
        </p:nvSpPr>
        <p:spPr>
          <a:xfrm>
            <a:off x="7227720" y="5073480"/>
            <a:ext cx="749520" cy="34632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721" h="21600">
                <a:moveTo>
                  <a:pt x="0" y="0"/>
                </a:moveTo>
                <a:lnTo>
                  <a:pt x="46721" y="0"/>
                </a:lnTo>
                <a:lnTo>
                  <a:pt x="46721" y="21600"/>
                </a:lnTo>
                <a:lnTo>
                  <a:pt x="0" y="21600"/>
                </a:lnTo>
                <a:close/>
              </a:path>
              <a:path fill="lightenLess" w="46721" h="21600">
                <a:moveTo>
                  <a:pt x="0" y="0"/>
                </a:moveTo>
                <a:lnTo>
                  <a:pt x="46721" y="0"/>
                </a:lnTo>
                <a:lnTo>
                  <a:pt x="45322" y="1400"/>
                </a:lnTo>
                <a:lnTo>
                  <a:pt x="1400" y="1400"/>
                </a:lnTo>
                <a:close/>
              </a:path>
              <a:path fill="darken" w="46721" h="21600">
                <a:moveTo>
                  <a:pt x="46721" y="0"/>
                </a:moveTo>
                <a:lnTo>
                  <a:pt x="46721" y="21600"/>
                </a:lnTo>
                <a:lnTo>
                  <a:pt x="45322" y="20200"/>
                </a:lnTo>
                <a:lnTo>
                  <a:pt x="45322" y="1400"/>
                </a:lnTo>
                <a:close/>
              </a:path>
              <a:path fill="darkenLess" w="46721" h="21600">
                <a:moveTo>
                  <a:pt x="4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22" y="20200"/>
                </a:lnTo>
                <a:close/>
              </a:path>
              <a:path fill="lighten" w="4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3" name="">
            <a:hlinkClick r:id="rId1" action="ppaction://hlinksldjump"/>
          </p:cNvPr>
          <p:cNvSpPr/>
          <p:nvPr/>
        </p:nvSpPr>
        <p:spPr>
          <a:xfrm>
            <a:off x="7256520" y="513864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4" name=""/>
          <p:cNvSpPr/>
          <p:nvPr/>
        </p:nvSpPr>
        <p:spPr>
          <a:xfrm>
            <a:off x="8177040" y="464040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5" name=""/>
          <p:cNvSpPr/>
          <p:nvPr/>
        </p:nvSpPr>
        <p:spPr>
          <a:xfrm>
            <a:off x="8205840" y="470520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6" name=""/>
          <p:cNvSpPr/>
          <p:nvPr/>
        </p:nvSpPr>
        <p:spPr>
          <a:xfrm>
            <a:off x="8177040" y="5073480"/>
            <a:ext cx="749520" cy="34632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721" h="21600">
                <a:moveTo>
                  <a:pt x="0" y="0"/>
                </a:moveTo>
                <a:lnTo>
                  <a:pt x="46721" y="0"/>
                </a:lnTo>
                <a:lnTo>
                  <a:pt x="46721" y="21600"/>
                </a:lnTo>
                <a:lnTo>
                  <a:pt x="0" y="21600"/>
                </a:lnTo>
                <a:close/>
              </a:path>
              <a:path fill="lightenLess" w="46721" h="21600">
                <a:moveTo>
                  <a:pt x="0" y="0"/>
                </a:moveTo>
                <a:lnTo>
                  <a:pt x="46721" y="0"/>
                </a:lnTo>
                <a:lnTo>
                  <a:pt x="45322" y="1400"/>
                </a:lnTo>
                <a:lnTo>
                  <a:pt x="1400" y="1400"/>
                </a:lnTo>
                <a:close/>
              </a:path>
              <a:path fill="darken" w="46721" h="21600">
                <a:moveTo>
                  <a:pt x="46721" y="0"/>
                </a:moveTo>
                <a:lnTo>
                  <a:pt x="46721" y="21600"/>
                </a:lnTo>
                <a:lnTo>
                  <a:pt x="45322" y="20200"/>
                </a:lnTo>
                <a:lnTo>
                  <a:pt x="45322" y="1400"/>
                </a:lnTo>
                <a:close/>
              </a:path>
              <a:path fill="darkenLess" w="46721" h="21600">
                <a:moveTo>
                  <a:pt x="4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22" y="20200"/>
                </a:lnTo>
                <a:close/>
              </a:path>
              <a:path fill="lighten" w="4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7" name="">
            <a:hlinkClick r:id="" action="ppaction://hlinkshowjump?jump=nextslide"/>
          </p:cNvPr>
          <p:cNvSpPr/>
          <p:nvPr/>
        </p:nvSpPr>
        <p:spPr>
          <a:xfrm>
            <a:off x="8205840" y="513864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8" name=""/>
          <p:cNvSpPr/>
          <p:nvPr/>
        </p:nvSpPr>
        <p:spPr>
          <a:xfrm>
            <a:off x="7142040" y="5514840"/>
            <a:ext cx="185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9" name=""/>
          <p:cNvSpPr/>
          <p:nvPr/>
        </p:nvSpPr>
        <p:spPr>
          <a:xfrm>
            <a:off x="7227720" y="413244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0" name=""/>
          <p:cNvSpPr/>
          <p:nvPr/>
        </p:nvSpPr>
        <p:spPr>
          <a:xfrm>
            <a:off x="7256520" y="419724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1" name=""/>
          <p:cNvSpPr/>
          <p:nvPr/>
        </p:nvSpPr>
        <p:spPr>
          <a:xfrm>
            <a:off x="8177040" y="413244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2" name=""/>
          <p:cNvSpPr/>
          <p:nvPr/>
        </p:nvSpPr>
        <p:spPr>
          <a:xfrm>
            <a:off x="8205840" y="419724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3" name=""/>
          <p:cNvSpPr/>
          <p:nvPr/>
        </p:nvSpPr>
        <p:spPr>
          <a:xfrm>
            <a:off x="7227720" y="362916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4" name=""/>
          <p:cNvSpPr/>
          <p:nvPr/>
        </p:nvSpPr>
        <p:spPr>
          <a:xfrm>
            <a:off x="7256520" y="369396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5" name="">
            <a:hlinkClick r:id="rId2" action="ppaction://hlinksldjump"/>
          </p:cNvPr>
          <p:cNvSpPr/>
          <p:nvPr/>
        </p:nvSpPr>
        <p:spPr>
          <a:xfrm>
            <a:off x="8177040" y="362916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6" name=""/>
          <p:cNvSpPr/>
          <p:nvPr/>
        </p:nvSpPr>
        <p:spPr>
          <a:xfrm>
            <a:off x="8205840" y="369396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7" name=""/>
          <p:cNvSpPr/>
          <p:nvPr/>
        </p:nvSpPr>
        <p:spPr>
          <a:xfrm>
            <a:off x="7227720" y="319572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8" name=""/>
          <p:cNvSpPr/>
          <p:nvPr/>
        </p:nvSpPr>
        <p:spPr>
          <a:xfrm>
            <a:off x="7256520" y="3260880"/>
            <a:ext cx="693720" cy="2156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9" name="">
            <a:hlinkClick r:id="rId3" action="ppaction://hlinksldjump"/>
          </p:cNvPr>
          <p:cNvSpPr/>
          <p:nvPr/>
        </p:nvSpPr>
        <p:spPr>
          <a:xfrm>
            <a:off x="8177040" y="319572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0" name=""/>
          <p:cNvSpPr/>
          <p:nvPr/>
        </p:nvSpPr>
        <p:spPr>
          <a:xfrm>
            <a:off x="8205840" y="3260880"/>
            <a:ext cx="693720" cy="2156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1" name=""/>
          <p:cNvSpPr/>
          <p:nvPr/>
        </p:nvSpPr>
        <p:spPr>
          <a:xfrm>
            <a:off x="179280" y="352440"/>
            <a:ext cx="87537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ncernant l’action du vent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2" name=""/>
          <p:cNvSpPr/>
          <p:nvPr/>
        </p:nvSpPr>
        <p:spPr>
          <a:xfrm>
            <a:off x="101520" y="4629240"/>
            <a:ext cx="7043760" cy="361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 vent est très souvent une action déterminante pour les halls industri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3" name=""/>
          <p:cNvSpPr/>
          <p:nvPr/>
        </p:nvSpPr>
        <p:spPr>
          <a:xfrm>
            <a:off x="101520" y="5062680"/>
            <a:ext cx="7043760" cy="3632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 vent doit toujours être combiné avec la nei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4" name=""/>
          <p:cNvSpPr/>
          <p:nvPr/>
        </p:nvSpPr>
        <p:spPr>
          <a:xfrm>
            <a:off x="101520" y="3619440"/>
            <a:ext cx="7043760" cy="358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 vent apparaît sur toutes les parois en même tem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5" name=""/>
          <p:cNvSpPr/>
          <p:nvPr/>
        </p:nvSpPr>
        <p:spPr>
          <a:xfrm>
            <a:off x="101520" y="4021200"/>
            <a:ext cx="7043760" cy="555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 vent crée en même temps une pression sur une paroi et une dépression sur la paroi opposé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6" name=""/>
          <p:cNvSpPr/>
          <p:nvPr/>
        </p:nvSpPr>
        <p:spPr>
          <a:xfrm>
            <a:off x="101520" y="3186000"/>
            <a:ext cx="7043760" cy="3621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 calcul est mené paroi par paroi et non pas sur le bâtiment dans son ensem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7" name=""/>
          <p:cNvGrpSpPr/>
          <p:nvPr/>
        </p:nvGrpSpPr>
        <p:grpSpPr>
          <a:xfrm>
            <a:off x="5894280" y="1071720"/>
            <a:ext cx="2893680" cy="1879560"/>
            <a:chOff x="5894280" y="1071720"/>
            <a:chExt cx="2893680" cy="1879560"/>
          </a:xfrm>
        </p:grpSpPr>
        <p:grpSp>
          <p:nvGrpSpPr>
            <p:cNvPr id="5218" name=""/>
            <p:cNvGrpSpPr/>
            <p:nvPr/>
          </p:nvGrpSpPr>
          <p:grpSpPr>
            <a:xfrm>
              <a:off x="5894280" y="1844640"/>
              <a:ext cx="2893680" cy="1106640"/>
              <a:chOff x="5894280" y="1844640"/>
              <a:chExt cx="2893680" cy="1106640"/>
            </a:xfrm>
          </p:grpSpPr>
          <p:grpSp>
            <p:nvGrpSpPr>
              <p:cNvPr id="5219" name=""/>
              <p:cNvGrpSpPr/>
              <p:nvPr/>
            </p:nvGrpSpPr>
            <p:grpSpPr>
              <a:xfrm>
                <a:off x="6068160" y="2036520"/>
                <a:ext cx="759600" cy="749520"/>
                <a:chOff x="6068160" y="2036520"/>
                <a:chExt cx="759600" cy="749520"/>
              </a:xfrm>
            </p:grpSpPr>
            <p:sp>
              <p:nvSpPr>
                <p:cNvPr id="5220" name=""/>
                <p:cNvSpPr/>
                <p:nvPr/>
              </p:nvSpPr>
              <p:spPr>
                <a:xfrm>
                  <a:off x="6744600" y="2036520"/>
                  <a:ext cx="83160" cy="83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1" name=""/>
                <p:cNvSpPr/>
                <p:nvPr/>
              </p:nvSpPr>
              <p:spPr>
                <a:xfrm>
                  <a:off x="6571800" y="2193840"/>
                  <a:ext cx="83160" cy="83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2" name=""/>
                <p:cNvSpPr/>
                <p:nvPr/>
              </p:nvSpPr>
              <p:spPr>
                <a:xfrm>
                  <a:off x="6406560" y="2356920"/>
                  <a:ext cx="83160" cy="83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3" name=""/>
                <p:cNvSpPr/>
                <p:nvPr/>
              </p:nvSpPr>
              <p:spPr>
                <a:xfrm>
                  <a:off x="6235920" y="2526480"/>
                  <a:ext cx="83520" cy="83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4" name=""/>
                <p:cNvSpPr/>
                <p:nvPr/>
              </p:nvSpPr>
              <p:spPr>
                <a:xfrm>
                  <a:off x="6068160" y="2702880"/>
                  <a:ext cx="83160" cy="83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25" name=""/>
              <p:cNvGrpSpPr/>
              <p:nvPr/>
            </p:nvGrpSpPr>
            <p:grpSpPr>
              <a:xfrm>
                <a:off x="7870320" y="2023200"/>
                <a:ext cx="747720" cy="757800"/>
                <a:chOff x="7870320" y="2023200"/>
                <a:chExt cx="747720" cy="757800"/>
              </a:xfrm>
            </p:grpSpPr>
            <p:sp>
              <p:nvSpPr>
                <p:cNvPr id="5226" name=""/>
                <p:cNvSpPr/>
                <p:nvPr/>
              </p:nvSpPr>
              <p:spPr>
                <a:xfrm>
                  <a:off x="8534880" y="2023200"/>
                  <a:ext cx="83160" cy="83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7" name=""/>
                <p:cNvSpPr/>
                <p:nvPr/>
              </p:nvSpPr>
              <p:spPr>
                <a:xfrm>
                  <a:off x="8367840" y="2188800"/>
                  <a:ext cx="83520" cy="83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8" name=""/>
                <p:cNvSpPr/>
                <p:nvPr/>
              </p:nvSpPr>
              <p:spPr>
                <a:xfrm>
                  <a:off x="8202600" y="2351520"/>
                  <a:ext cx="83160" cy="83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9" name=""/>
                <p:cNvSpPr/>
                <p:nvPr/>
              </p:nvSpPr>
              <p:spPr>
                <a:xfrm>
                  <a:off x="8028000" y="2521080"/>
                  <a:ext cx="85320" cy="83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0" name=""/>
                <p:cNvSpPr/>
                <p:nvPr/>
              </p:nvSpPr>
              <p:spPr>
                <a:xfrm>
                  <a:off x="7870320" y="2697840"/>
                  <a:ext cx="83160" cy="83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31" name=""/>
              <p:cNvGrpSpPr/>
              <p:nvPr/>
            </p:nvGrpSpPr>
            <p:grpSpPr>
              <a:xfrm>
                <a:off x="6904800" y="1844640"/>
                <a:ext cx="1883160" cy="85320"/>
                <a:chOff x="6904800" y="1844640"/>
                <a:chExt cx="1883160" cy="85320"/>
              </a:xfrm>
            </p:grpSpPr>
            <p:sp>
              <p:nvSpPr>
                <p:cNvPr id="5232" name=""/>
                <p:cNvSpPr/>
                <p:nvPr/>
              </p:nvSpPr>
              <p:spPr>
                <a:xfrm>
                  <a:off x="8704800" y="1846800"/>
                  <a:ext cx="83160" cy="83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3" name=""/>
                <p:cNvSpPr/>
                <p:nvPr/>
              </p:nvSpPr>
              <p:spPr>
                <a:xfrm>
                  <a:off x="6904800" y="1844640"/>
                  <a:ext cx="83520" cy="83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4" name=""/>
                <p:cNvSpPr/>
                <p:nvPr/>
              </p:nvSpPr>
              <p:spPr>
                <a:xfrm>
                  <a:off x="8116560" y="1844640"/>
                  <a:ext cx="83520" cy="83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5" name=""/>
                <p:cNvSpPr/>
                <p:nvPr/>
              </p:nvSpPr>
              <p:spPr>
                <a:xfrm>
                  <a:off x="7209000" y="1844640"/>
                  <a:ext cx="83160" cy="83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6" name=""/>
                <p:cNvSpPr/>
                <p:nvPr/>
              </p:nvSpPr>
              <p:spPr>
                <a:xfrm>
                  <a:off x="7491240" y="1844640"/>
                  <a:ext cx="83160" cy="83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7" name=""/>
                <p:cNvSpPr/>
                <p:nvPr/>
              </p:nvSpPr>
              <p:spPr>
                <a:xfrm>
                  <a:off x="7791480" y="1844640"/>
                  <a:ext cx="83160" cy="83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8" name=""/>
                <p:cNvSpPr/>
                <p:nvPr/>
              </p:nvSpPr>
              <p:spPr>
                <a:xfrm>
                  <a:off x="8417880" y="1844640"/>
                  <a:ext cx="83160" cy="83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39" name=""/>
              <p:cNvGrpSpPr/>
              <p:nvPr/>
            </p:nvGrpSpPr>
            <p:grpSpPr>
              <a:xfrm>
                <a:off x="5894280" y="2867760"/>
                <a:ext cx="1879200" cy="83520"/>
                <a:chOff x="5894280" y="2867760"/>
                <a:chExt cx="1879200" cy="83520"/>
              </a:xfrm>
            </p:grpSpPr>
            <p:sp>
              <p:nvSpPr>
                <p:cNvPr id="5240" name=""/>
                <p:cNvSpPr/>
                <p:nvPr/>
              </p:nvSpPr>
              <p:spPr>
                <a:xfrm>
                  <a:off x="7689960" y="2867760"/>
                  <a:ext cx="83520" cy="83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1" name=""/>
                <p:cNvSpPr/>
                <p:nvPr/>
              </p:nvSpPr>
              <p:spPr>
                <a:xfrm>
                  <a:off x="5894280" y="2867760"/>
                  <a:ext cx="83160" cy="83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2" name=""/>
                <p:cNvSpPr/>
                <p:nvPr/>
              </p:nvSpPr>
              <p:spPr>
                <a:xfrm>
                  <a:off x="6196320" y="2867760"/>
                  <a:ext cx="83160" cy="83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3" name=""/>
                <p:cNvSpPr/>
                <p:nvPr/>
              </p:nvSpPr>
              <p:spPr>
                <a:xfrm>
                  <a:off x="6484320" y="2867760"/>
                  <a:ext cx="83160" cy="83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4" name=""/>
                <p:cNvSpPr/>
                <p:nvPr/>
              </p:nvSpPr>
              <p:spPr>
                <a:xfrm>
                  <a:off x="7108920" y="2867760"/>
                  <a:ext cx="83160" cy="83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5" name=""/>
                <p:cNvSpPr/>
                <p:nvPr/>
              </p:nvSpPr>
              <p:spPr>
                <a:xfrm>
                  <a:off x="7396920" y="2867760"/>
                  <a:ext cx="83160" cy="83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46" name=""/>
            <p:cNvSpPr/>
            <p:nvPr/>
          </p:nvSpPr>
          <p:spPr>
            <a:xfrm rot="18860400">
              <a:off x="6585840" y="2543760"/>
              <a:ext cx="507960" cy="252360"/>
            </a:xfrm>
            <a:custGeom>
              <a:avLst/>
              <a:gdLst>
                <a:gd name="textAreaLeft" fmla="*/ 63360 w 507960"/>
                <a:gd name="textAreaRight" fmla="*/ 444600 w 507960"/>
                <a:gd name="textAreaTop" fmla="*/ 63000 h 252360"/>
                <a:gd name="textAreaBottom" fmla="*/ 189360 h 25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47" name=""/>
            <p:cNvGrpSpPr/>
            <p:nvPr/>
          </p:nvGrpSpPr>
          <p:grpSpPr>
            <a:xfrm>
              <a:off x="5943600" y="1219320"/>
              <a:ext cx="2819520" cy="1632960"/>
              <a:chOff x="5943600" y="1219320"/>
              <a:chExt cx="2819520" cy="1632960"/>
            </a:xfrm>
          </p:grpSpPr>
          <p:grpSp>
            <p:nvGrpSpPr>
              <p:cNvPr id="5248" name=""/>
              <p:cNvGrpSpPr/>
              <p:nvPr/>
            </p:nvGrpSpPr>
            <p:grpSpPr>
              <a:xfrm>
                <a:off x="6949800" y="1219320"/>
                <a:ext cx="1813320" cy="611280"/>
                <a:chOff x="6949800" y="1219320"/>
                <a:chExt cx="1813320" cy="611280"/>
              </a:xfrm>
            </p:grpSpPr>
            <p:sp>
              <p:nvSpPr>
                <p:cNvPr id="5249" name=""/>
                <p:cNvSpPr/>
                <p:nvPr/>
              </p:nvSpPr>
              <p:spPr>
                <a:xfrm>
                  <a:off x="6968160" y="1219320"/>
                  <a:ext cx="17949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0" name=""/>
                <p:cNvSpPr/>
                <p:nvPr/>
              </p:nvSpPr>
              <p:spPr>
                <a:xfrm>
                  <a:off x="6963120" y="1397880"/>
                  <a:ext cx="17949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1" name=""/>
                <p:cNvSpPr/>
                <p:nvPr/>
              </p:nvSpPr>
              <p:spPr>
                <a:xfrm>
                  <a:off x="6956640" y="1691640"/>
                  <a:ext cx="18036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2" name=""/>
                <p:cNvSpPr/>
                <p:nvPr/>
              </p:nvSpPr>
              <p:spPr>
                <a:xfrm>
                  <a:off x="6963840" y="1544760"/>
                  <a:ext cx="17964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3" name=""/>
                <p:cNvSpPr/>
                <p:nvPr/>
              </p:nvSpPr>
              <p:spPr>
                <a:xfrm>
                  <a:off x="6949800" y="1830600"/>
                  <a:ext cx="17949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54" name=""/>
              <p:cNvGrpSpPr/>
              <p:nvPr/>
            </p:nvGrpSpPr>
            <p:grpSpPr>
              <a:xfrm>
                <a:off x="5943600" y="2231280"/>
                <a:ext cx="1803960" cy="621000"/>
                <a:chOff x="5943600" y="2231280"/>
                <a:chExt cx="1803960" cy="621000"/>
              </a:xfrm>
            </p:grpSpPr>
            <p:sp>
              <p:nvSpPr>
                <p:cNvPr id="5255" name=""/>
                <p:cNvSpPr/>
                <p:nvPr/>
              </p:nvSpPr>
              <p:spPr>
                <a:xfrm>
                  <a:off x="7158960" y="2852280"/>
                  <a:ext cx="5842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6" name=""/>
                <p:cNvSpPr/>
                <p:nvPr/>
              </p:nvSpPr>
              <p:spPr>
                <a:xfrm>
                  <a:off x="5952960" y="2231280"/>
                  <a:ext cx="17946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7" name=""/>
                <p:cNvSpPr/>
                <p:nvPr/>
              </p:nvSpPr>
              <p:spPr>
                <a:xfrm>
                  <a:off x="5948280" y="2409840"/>
                  <a:ext cx="17946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8" name=""/>
                <p:cNvSpPr/>
                <p:nvPr/>
              </p:nvSpPr>
              <p:spPr>
                <a:xfrm>
                  <a:off x="7155720" y="2703600"/>
                  <a:ext cx="5889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9" name=""/>
                <p:cNvSpPr/>
                <p:nvPr/>
              </p:nvSpPr>
              <p:spPr>
                <a:xfrm>
                  <a:off x="5943600" y="2556720"/>
                  <a:ext cx="5911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0" name=""/>
                <p:cNvSpPr/>
                <p:nvPr/>
              </p:nvSpPr>
              <p:spPr>
                <a:xfrm>
                  <a:off x="7155720" y="2556720"/>
                  <a:ext cx="5889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1" name=""/>
                <p:cNvSpPr/>
                <p:nvPr/>
              </p:nvSpPr>
              <p:spPr>
                <a:xfrm>
                  <a:off x="5948280" y="2703600"/>
                  <a:ext cx="5911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2" name=""/>
                <p:cNvSpPr/>
                <p:nvPr/>
              </p:nvSpPr>
              <p:spPr>
                <a:xfrm>
                  <a:off x="5948280" y="2848680"/>
                  <a:ext cx="5842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263" name=""/>
            <p:cNvGrpSpPr/>
            <p:nvPr/>
          </p:nvGrpSpPr>
          <p:grpSpPr>
            <a:xfrm>
              <a:off x="5942160" y="1071720"/>
              <a:ext cx="2814480" cy="1777320"/>
              <a:chOff x="5942160" y="1071720"/>
              <a:chExt cx="2814480" cy="1777320"/>
            </a:xfrm>
          </p:grpSpPr>
          <p:sp>
            <p:nvSpPr>
              <p:cNvPr id="5264" name=""/>
              <p:cNvSpPr/>
              <p:nvPr/>
            </p:nvSpPr>
            <p:spPr>
              <a:xfrm>
                <a:off x="6846480" y="2098440"/>
                <a:ext cx="0" cy="309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65" name=""/>
              <p:cNvGrpSpPr/>
              <p:nvPr/>
            </p:nvGrpSpPr>
            <p:grpSpPr>
              <a:xfrm>
                <a:off x="5942160" y="1071720"/>
                <a:ext cx="2814480" cy="1777320"/>
                <a:chOff x="5942160" y="1071720"/>
                <a:chExt cx="2814480" cy="1777320"/>
              </a:xfrm>
            </p:grpSpPr>
            <p:grpSp>
              <p:nvGrpSpPr>
                <p:cNvPr id="5266" name=""/>
                <p:cNvGrpSpPr/>
                <p:nvPr/>
              </p:nvGrpSpPr>
              <p:grpSpPr>
                <a:xfrm>
                  <a:off x="6960960" y="1071720"/>
                  <a:ext cx="1795680" cy="757080"/>
                  <a:chOff x="6960960" y="1071720"/>
                  <a:chExt cx="1795680" cy="757080"/>
                </a:xfrm>
              </p:grpSpPr>
              <p:sp>
                <p:nvSpPr>
                  <p:cNvPr id="5267" name=""/>
                  <p:cNvSpPr/>
                  <p:nvPr/>
                </p:nvSpPr>
                <p:spPr>
                  <a:xfrm>
                    <a:off x="8469360" y="1165320"/>
                    <a:ext cx="0" cy="6634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8" name=""/>
                  <p:cNvSpPr/>
                  <p:nvPr/>
                </p:nvSpPr>
                <p:spPr>
                  <a:xfrm>
                    <a:off x="8756640" y="1215360"/>
                    <a:ext cx="0" cy="613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9" name=""/>
                  <p:cNvSpPr/>
                  <p:nvPr/>
                </p:nvSpPr>
                <p:spPr>
                  <a:xfrm>
                    <a:off x="8169480" y="1126080"/>
                    <a:ext cx="0" cy="702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0" name=""/>
                  <p:cNvSpPr/>
                  <p:nvPr/>
                </p:nvSpPr>
                <p:spPr>
                  <a:xfrm>
                    <a:off x="7859520" y="1071720"/>
                    <a:ext cx="0" cy="757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1" name=""/>
                  <p:cNvSpPr/>
                  <p:nvPr/>
                </p:nvSpPr>
                <p:spPr>
                  <a:xfrm>
                    <a:off x="7547760" y="1119240"/>
                    <a:ext cx="0" cy="709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2" name=""/>
                  <p:cNvSpPr/>
                  <p:nvPr/>
                </p:nvSpPr>
                <p:spPr>
                  <a:xfrm>
                    <a:off x="6960960" y="1212480"/>
                    <a:ext cx="0" cy="6163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3" name=""/>
                  <p:cNvSpPr/>
                  <p:nvPr/>
                </p:nvSpPr>
                <p:spPr>
                  <a:xfrm>
                    <a:off x="7261200" y="1170360"/>
                    <a:ext cx="0" cy="658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74" name=""/>
                <p:cNvGrpSpPr/>
                <p:nvPr/>
              </p:nvGrpSpPr>
              <p:grpSpPr>
                <a:xfrm>
                  <a:off x="5942160" y="2136960"/>
                  <a:ext cx="1801800" cy="712080"/>
                  <a:chOff x="5942160" y="2136960"/>
                  <a:chExt cx="1801800" cy="712080"/>
                </a:xfrm>
              </p:grpSpPr>
              <p:sp>
                <p:nvSpPr>
                  <p:cNvPr id="5275" name=""/>
                  <p:cNvSpPr/>
                  <p:nvPr/>
                </p:nvSpPr>
                <p:spPr>
                  <a:xfrm>
                    <a:off x="7456680" y="2183040"/>
                    <a:ext cx="0" cy="666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6" name=""/>
                  <p:cNvSpPr/>
                  <p:nvPr/>
                </p:nvSpPr>
                <p:spPr>
                  <a:xfrm>
                    <a:off x="7743960" y="2229840"/>
                    <a:ext cx="0" cy="613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7" name=""/>
                  <p:cNvSpPr/>
                  <p:nvPr/>
                </p:nvSpPr>
                <p:spPr>
                  <a:xfrm>
                    <a:off x="7156800" y="2140560"/>
                    <a:ext cx="0" cy="7052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8" name=""/>
                  <p:cNvSpPr/>
                  <p:nvPr/>
                </p:nvSpPr>
                <p:spPr>
                  <a:xfrm>
                    <a:off x="6535080" y="2136960"/>
                    <a:ext cx="0" cy="709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9" name=""/>
                  <p:cNvSpPr/>
                  <p:nvPr/>
                </p:nvSpPr>
                <p:spPr>
                  <a:xfrm flipH="1">
                    <a:off x="5942160" y="2226960"/>
                    <a:ext cx="5760" cy="62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80" name=""/>
                  <p:cNvSpPr/>
                  <p:nvPr/>
                </p:nvSpPr>
                <p:spPr>
                  <a:xfrm>
                    <a:off x="6248520" y="2187720"/>
                    <a:ext cx="0" cy="658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5281" name=""/>
            <p:cNvGrpSpPr/>
            <p:nvPr/>
          </p:nvGrpSpPr>
          <p:grpSpPr>
            <a:xfrm>
              <a:off x="5941800" y="1207800"/>
              <a:ext cx="2814840" cy="1646280"/>
              <a:chOff x="5941800" y="1207800"/>
              <a:chExt cx="2814840" cy="1646280"/>
            </a:xfrm>
          </p:grpSpPr>
          <p:grpSp>
            <p:nvGrpSpPr>
              <p:cNvPr id="5282" name=""/>
              <p:cNvGrpSpPr/>
              <p:nvPr/>
            </p:nvGrpSpPr>
            <p:grpSpPr>
              <a:xfrm>
                <a:off x="7737480" y="2053800"/>
                <a:ext cx="172800" cy="794160"/>
                <a:chOff x="7737480" y="2053800"/>
                <a:chExt cx="172800" cy="794160"/>
              </a:xfrm>
            </p:grpSpPr>
            <p:sp>
              <p:nvSpPr>
                <p:cNvPr id="5283" name=""/>
                <p:cNvSpPr/>
                <p:nvPr/>
              </p:nvSpPr>
              <p:spPr>
                <a:xfrm flipV="1">
                  <a:off x="7740720" y="2385360"/>
                  <a:ext cx="169200" cy="462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4" name=""/>
                <p:cNvSpPr/>
                <p:nvPr/>
              </p:nvSpPr>
              <p:spPr>
                <a:xfrm flipH="1" flipV="1">
                  <a:off x="7737480" y="2222640"/>
                  <a:ext cx="172440" cy="162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5" name=""/>
                <p:cNvSpPr/>
                <p:nvPr/>
              </p:nvSpPr>
              <p:spPr>
                <a:xfrm flipH="1" flipV="1">
                  <a:off x="7740720" y="2545920"/>
                  <a:ext cx="169200" cy="133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6" name=""/>
                <p:cNvSpPr/>
                <p:nvPr/>
              </p:nvSpPr>
              <p:spPr>
                <a:xfrm flipV="1">
                  <a:off x="7740720" y="2056680"/>
                  <a:ext cx="169200" cy="490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7" name=""/>
                <p:cNvSpPr/>
                <p:nvPr/>
              </p:nvSpPr>
              <p:spPr>
                <a:xfrm flipV="1">
                  <a:off x="7737840" y="2053800"/>
                  <a:ext cx="166320" cy="165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8" name=""/>
                <p:cNvSpPr/>
                <p:nvPr/>
              </p:nvSpPr>
              <p:spPr>
                <a:xfrm>
                  <a:off x="7741080" y="2223360"/>
                  <a:ext cx="0" cy="622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9" name=""/>
                <p:cNvSpPr/>
                <p:nvPr/>
              </p:nvSpPr>
              <p:spPr>
                <a:xfrm flipV="1">
                  <a:off x="7741080" y="2383200"/>
                  <a:ext cx="166320" cy="165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0" name=""/>
                <p:cNvSpPr/>
                <p:nvPr/>
              </p:nvSpPr>
              <p:spPr>
                <a:xfrm>
                  <a:off x="7910280" y="2059920"/>
                  <a:ext cx="0" cy="622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91" name=""/>
              <p:cNvGrpSpPr/>
              <p:nvPr/>
            </p:nvGrpSpPr>
            <p:grpSpPr>
              <a:xfrm>
                <a:off x="5941800" y="2059920"/>
                <a:ext cx="172800" cy="794160"/>
                <a:chOff x="5941800" y="2059920"/>
                <a:chExt cx="172800" cy="794160"/>
              </a:xfrm>
            </p:grpSpPr>
            <p:sp>
              <p:nvSpPr>
                <p:cNvPr id="5292" name=""/>
                <p:cNvSpPr/>
                <p:nvPr/>
              </p:nvSpPr>
              <p:spPr>
                <a:xfrm flipV="1">
                  <a:off x="5945040" y="2391480"/>
                  <a:ext cx="169200" cy="462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3" name=""/>
                <p:cNvSpPr/>
                <p:nvPr/>
              </p:nvSpPr>
              <p:spPr>
                <a:xfrm flipH="1" flipV="1">
                  <a:off x="5941800" y="2228760"/>
                  <a:ext cx="172440" cy="162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4" name=""/>
                <p:cNvSpPr/>
                <p:nvPr/>
              </p:nvSpPr>
              <p:spPr>
                <a:xfrm flipH="1" flipV="1">
                  <a:off x="5945040" y="2552040"/>
                  <a:ext cx="169200" cy="133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5" name=""/>
                <p:cNvSpPr/>
                <p:nvPr/>
              </p:nvSpPr>
              <p:spPr>
                <a:xfrm flipV="1">
                  <a:off x="5945040" y="2062800"/>
                  <a:ext cx="169200" cy="490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6" name=""/>
                <p:cNvSpPr/>
                <p:nvPr/>
              </p:nvSpPr>
              <p:spPr>
                <a:xfrm flipV="1">
                  <a:off x="5942160" y="2059920"/>
                  <a:ext cx="166320" cy="165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7" name=""/>
                <p:cNvSpPr/>
                <p:nvPr/>
              </p:nvSpPr>
              <p:spPr>
                <a:xfrm>
                  <a:off x="5945400" y="2229480"/>
                  <a:ext cx="0" cy="622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8" name=""/>
                <p:cNvSpPr/>
                <p:nvPr/>
              </p:nvSpPr>
              <p:spPr>
                <a:xfrm flipV="1">
                  <a:off x="5945400" y="2389320"/>
                  <a:ext cx="166320" cy="165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9" name=""/>
                <p:cNvSpPr/>
                <p:nvPr/>
              </p:nvSpPr>
              <p:spPr>
                <a:xfrm>
                  <a:off x="6114600" y="2066040"/>
                  <a:ext cx="0" cy="622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0" name=""/>
              <p:cNvGrpSpPr/>
              <p:nvPr/>
            </p:nvGrpSpPr>
            <p:grpSpPr>
              <a:xfrm>
                <a:off x="8583840" y="1207800"/>
                <a:ext cx="172800" cy="794160"/>
                <a:chOff x="8583840" y="1207800"/>
                <a:chExt cx="172800" cy="794160"/>
              </a:xfrm>
            </p:grpSpPr>
            <p:sp>
              <p:nvSpPr>
                <p:cNvPr id="5301" name=""/>
                <p:cNvSpPr/>
                <p:nvPr/>
              </p:nvSpPr>
              <p:spPr>
                <a:xfrm flipV="1">
                  <a:off x="8587080" y="1539360"/>
                  <a:ext cx="169200" cy="462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2" name=""/>
                <p:cNvSpPr/>
                <p:nvPr/>
              </p:nvSpPr>
              <p:spPr>
                <a:xfrm flipH="1" flipV="1">
                  <a:off x="8583840" y="1376640"/>
                  <a:ext cx="172440" cy="162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3" name=""/>
                <p:cNvSpPr/>
                <p:nvPr/>
              </p:nvSpPr>
              <p:spPr>
                <a:xfrm flipH="1" flipV="1">
                  <a:off x="8587080" y="1699920"/>
                  <a:ext cx="169200" cy="133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4" name=""/>
                <p:cNvSpPr/>
                <p:nvPr/>
              </p:nvSpPr>
              <p:spPr>
                <a:xfrm flipV="1">
                  <a:off x="8587080" y="1210680"/>
                  <a:ext cx="169200" cy="490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5" name=""/>
                <p:cNvSpPr/>
                <p:nvPr/>
              </p:nvSpPr>
              <p:spPr>
                <a:xfrm flipV="1">
                  <a:off x="8584200" y="1207800"/>
                  <a:ext cx="166320" cy="165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6" name=""/>
                <p:cNvSpPr/>
                <p:nvPr/>
              </p:nvSpPr>
              <p:spPr>
                <a:xfrm>
                  <a:off x="8587440" y="1377360"/>
                  <a:ext cx="0" cy="622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7" name=""/>
                <p:cNvSpPr/>
                <p:nvPr/>
              </p:nvSpPr>
              <p:spPr>
                <a:xfrm flipV="1">
                  <a:off x="8587440" y="1537200"/>
                  <a:ext cx="166320" cy="165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8" name=""/>
                <p:cNvSpPr/>
                <p:nvPr/>
              </p:nvSpPr>
              <p:spPr>
                <a:xfrm>
                  <a:off x="8756640" y="1213920"/>
                  <a:ext cx="0" cy="622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9" name=""/>
              <p:cNvGrpSpPr/>
              <p:nvPr/>
            </p:nvGrpSpPr>
            <p:grpSpPr>
              <a:xfrm>
                <a:off x="6788160" y="1216800"/>
                <a:ext cx="172800" cy="794160"/>
                <a:chOff x="6788160" y="1216800"/>
                <a:chExt cx="172800" cy="794160"/>
              </a:xfrm>
            </p:grpSpPr>
            <p:sp>
              <p:nvSpPr>
                <p:cNvPr id="5310" name=""/>
                <p:cNvSpPr/>
                <p:nvPr/>
              </p:nvSpPr>
              <p:spPr>
                <a:xfrm flipV="1">
                  <a:off x="6791400" y="1548360"/>
                  <a:ext cx="169200" cy="462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1" name=""/>
                <p:cNvSpPr/>
                <p:nvPr/>
              </p:nvSpPr>
              <p:spPr>
                <a:xfrm flipH="1" flipV="1">
                  <a:off x="6788160" y="1385640"/>
                  <a:ext cx="172440" cy="162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2" name=""/>
                <p:cNvSpPr/>
                <p:nvPr/>
              </p:nvSpPr>
              <p:spPr>
                <a:xfrm flipH="1" flipV="1">
                  <a:off x="6791400" y="1708920"/>
                  <a:ext cx="169200" cy="133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3" name=""/>
                <p:cNvSpPr/>
                <p:nvPr/>
              </p:nvSpPr>
              <p:spPr>
                <a:xfrm flipV="1">
                  <a:off x="6791400" y="1219680"/>
                  <a:ext cx="169200" cy="490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4" name=""/>
                <p:cNvSpPr/>
                <p:nvPr/>
              </p:nvSpPr>
              <p:spPr>
                <a:xfrm flipV="1">
                  <a:off x="6788520" y="1216800"/>
                  <a:ext cx="166320" cy="165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5" name=""/>
                <p:cNvSpPr/>
                <p:nvPr/>
              </p:nvSpPr>
              <p:spPr>
                <a:xfrm>
                  <a:off x="6791760" y="1386360"/>
                  <a:ext cx="0" cy="622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6" name=""/>
                <p:cNvSpPr/>
                <p:nvPr/>
              </p:nvSpPr>
              <p:spPr>
                <a:xfrm flipV="1">
                  <a:off x="6791760" y="1546200"/>
                  <a:ext cx="166320" cy="165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7" name=""/>
                <p:cNvSpPr/>
                <p:nvPr/>
              </p:nvSpPr>
              <p:spPr>
                <a:xfrm>
                  <a:off x="6960960" y="1222920"/>
                  <a:ext cx="0" cy="622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318" name=""/>
            <p:cNvGrpSpPr/>
            <p:nvPr/>
          </p:nvGrpSpPr>
          <p:grpSpPr>
            <a:xfrm>
              <a:off x="6114960" y="1244160"/>
              <a:ext cx="2471760" cy="1435320"/>
              <a:chOff x="6114960" y="1244160"/>
              <a:chExt cx="2471760" cy="1435320"/>
            </a:xfrm>
          </p:grpSpPr>
          <p:grpSp>
            <p:nvGrpSpPr>
              <p:cNvPr id="5319" name=""/>
              <p:cNvGrpSpPr/>
              <p:nvPr/>
            </p:nvGrpSpPr>
            <p:grpSpPr>
              <a:xfrm>
                <a:off x="6114960" y="1920600"/>
                <a:ext cx="1794960" cy="758880"/>
                <a:chOff x="6114960" y="1920600"/>
                <a:chExt cx="1794960" cy="758880"/>
              </a:xfrm>
            </p:grpSpPr>
            <p:sp>
              <p:nvSpPr>
                <p:cNvPr id="5320" name=""/>
                <p:cNvSpPr/>
                <p:nvPr/>
              </p:nvSpPr>
              <p:spPr>
                <a:xfrm flipV="1">
                  <a:off x="6114960" y="2058480"/>
                  <a:ext cx="0" cy="621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1" name=""/>
                <p:cNvSpPr/>
                <p:nvPr/>
              </p:nvSpPr>
              <p:spPr>
                <a:xfrm flipV="1">
                  <a:off x="6114960" y="1920600"/>
                  <a:ext cx="897480" cy="137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2" name=""/>
                <p:cNvSpPr/>
                <p:nvPr/>
              </p:nvSpPr>
              <p:spPr>
                <a:xfrm flipV="1">
                  <a:off x="7909920" y="2058480"/>
                  <a:ext cx="0" cy="621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3" name=""/>
                <p:cNvSpPr/>
                <p:nvPr/>
              </p:nvSpPr>
              <p:spPr>
                <a:xfrm flipH="1" flipV="1">
                  <a:off x="7012080" y="1920600"/>
                  <a:ext cx="897480" cy="137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24" name=""/>
              <p:cNvGrpSpPr/>
              <p:nvPr/>
            </p:nvGrpSpPr>
            <p:grpSpPr>
              <a:xfrm>
                <a:off x="6284160" y="1751400"/>
                <a:ext cx="1794960" cy="758880"/>
                <a:chOff x="6284160" y="1751400"/>
                <a:chExt cx="1794960" cy="758880"/>
              </a:xfrm>
            </p:grpSpPr>
            <p:sp>
              <p:nvSpPr>
                <p:cNvPr id="5325" name=""/>
                <p:cNvSpPr/>
                <p:nvPr/>
              </p:nvSpPr>
              <p:spPr>
                <a:xfrm flipV="1">
                  <a:off x="6284160" y="1889280"/>
                  <a:ext cx="0" cy="621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6" name=""/>
                <p:cNvSpPr/>
                <p:nvPr/>
              </p:nvSpPr>
              <p:spPr>
                <a:xfrm flipV="1">
                  <a:off x="6284160" y="1751400"/>
                  <a:ext cx="897480" cy="137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7" name=""/>
                <p:cNvSpPr/>
                <p:nvPr/>
              </p:nvSpPr>
              <p:spPr>
                <a:xfrm flipV="1">
                  <a:off x="8079120" y="1889280"/>
                  <a:ext cx="0" cy="621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8" name=""/>
                <p:cNvSpPr/>
                <p:nvPr/>
              </p:nvSpPr>
              <p:spPr>
                <a:xfrm flipH="1" flipV="1">
                  <a:off x="7181280" y="1751400"/>
                  <a:ext cx="897480" cy="137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29" name=""/>
              <p:cNvGrpSpPr/>
              <p:nvPr/>
            </p:nvGrpSpPr>
            <p:grpSpPr>
              <a:xfrm>
                <a:off x="6453360" y="1582200"/>
                <a:ext cx="1794960" cy="758880"/>
                <a:chOff x="6453360" y="1582200"/>
                <a:chExt cx="1794960" cy="758880"/>
              </a:xfrm>
            </p:grpSpPr>
            <p:sp>
              <p:nvSpPr>
                <p:cNvPr id="5330" name=""/>
                <p:cNvSpPr/>
                <p:nvPr/>
              </p:nvSpPr>
              <p:spPr>
                <a:xfrm flipV="1">
                  <a:off x="6453360" y="1720080"/>
                  <a:ext cx="0" cy="621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1" name=""/>
                <p:cNvSpPr/>
                <p:nvPr/>
              </p:nvSpPr>
              <p:spPr>
                <a:xfrm flipV="1">
                  <a:off x="6453360" y="1582200"/>
                  <a:ext cx="897480" cy="137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2" name=""/>
                <p:cNvSpPr/>
                <p:nvPr/>
              </p:nvSpPr>
              <p:spPr>
                <a:xfrm flipV="1">
                  <a:off x="8248320" y="1720080"/>
                  <a:ext cx="0" cy="621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3" name=""/>
                <p:cNvSpPr/>
                <p:nvPr/>
              </p:nvSpPr>
              <p:spPr>
                <a:xfrm flipH="1" flipV="1">
                  <a:off x="7350480" y="1582200"/>
                  <a:ext cx="897480" cy="137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4" name=""/>
              <p:cNvGrpSpPr/>
              <p:nvPr/>
            </p:nvGrpSpPr>
            <p:grpSpPr>
              <a:xfrm>
                <a:off x="6622560" y="1413000"/>
                <a:ext cx="1794960" cy="758880"/>
                <a:chOff x="6622560" y="1413000"/>
                <a:chExt cx="1794960" cy="758880"/>
              </a:xfrm>
            </p:grpSpPr>
            <p:sp>
              <p:nvSpPr>
                <p:cNvPr id="5335" name=""/>
                <p:cNvSpPr/>
                <p:nvPr/>
              </p:nvSpPr>
              <p:spPr>
                <a:xfrm flipV="1">
                  <a:off x="6622560" y="1550880"/>
                  <a:ext cx="0" cy="621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6" name=""/>
                <p:cNvSpPr/>
                <p:nvPr/>
              </p:nvSpPr>
              <p:spPr>
                <a:xfrm flipV="1">
                  <a:off x="6622560" y="1413000"/>
                  <a:ext cx="897480" cy="137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7" name=""/>
                <p:cNvSpPr/>
                <p:nvPr/>
              </p:nvSpPr>
              <p:spPr>
                <a:xfrm flipV="1">
                  <a:off x="8417520" y="1550880"/>
                  <a:ext cx="0" cy="621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8" name=""/>
                <p:cNvSpPr/>
                <p:nvPr/>
              </p:nvSpPr>
              <p:spPr>
                <a:xfrm flipH="1" flipV="1">
                  <a:off x="7519680" y="1413000"/>
                  <a:ext cx="897480" cy="137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9" name=""/>
              <p:cNvGrpSpPr/>
              <p:nvPr/>
            </p:nvGrpSpPr>
            <p:grpSpPr>
              <a:xfrm>
                <a:off x="6791760" y="1244160"/>
                <a:ext cx="1794960" cy="758880"/>
                <a:chOff x="6791760" y="1244160"/>
                <a:chExt cx="1794960" cy="758880"/>
              </a:xfrm>
            </p:grpSpPr>
            <p:sp>
              <p:nvSpPr>
                <p:cNvPr id="5340" name=""/>
                <p:cNvSpPr/>
                <p:nvPr/>
              </p:nvSpPr>
              <p:spPr>
                <a:xfrm flipV="1">
                  <a:off x="6791760" y="1382040"/>
                  <a:ext cx="0" cy="621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1" name=""/>
                <p:cNvSpPr/>
                <p:nvPr/>
              </p:nvSpPr>
              <p:spPr>
                <a:xfrm flipV="1">
                  <a:off x="6791760" y="1244160"/>
                  <a:ext cx="897480" cy="137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2" name=""/>
                <p:cNvSpPr/>
                <p:nvPr/>
              </p:nvSpPr>
              <p:spPr>
                <a:xfrm flipV="1">
                  <a:off x="8586720" y="1382040"/>
                  <a:ext cx="0" cy="621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3" name=""/>
                <p:cNvSpPr/>
                <p:nvPr/>
              </p:nvSpPr>
              <p:spPr>
                <a:xfrm flipH="1" flipV="1">
                  <a:off x="7688880" y="1244160"/>
                  <a:ext cx="897480" cy="137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344" name=""/>
            <p:cNvGrpSpPr/>
            <p:nvPr/>
          </p:nvGrpSpPr>
          <p:grpSpPr>
            <a:xfrm>
              <a:off x="5946840" y="1074240"/>
              <a:ext cx="2809800" cy="1775160"/>
              <a:chOff x="5946840" y="1074240"/>
              <a:chExt cx="2809800" cy="1775160"/>
            </a:xfrm>
          </p:grpSpPr>
          <p:sp>
            <p:nvSpPr>
              <p:cNvPr id="5345" name=""/>
              <p:cNvSpPr/>
              <p:nvPr/>
            </p:nvSpPr>
            <p:spPr>
              <a:xfrm flipV="1">
                <a:off x="5946840" y="2089440"/>
                <a:ext cx="897480" cy="1378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6" name=""/>
              <p:cNvSpPr/>
              <p:nvPr/>
            </p:nvSpPr>
            <p:spPr>
              <a:xfrm flipH="1" flipV="1">
                <a:off x="6844320" y="2089440"/>
                <a:ext cx="897120" cy="1378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7" name=""/>
              <p:cNvSpPr/>
              <p:nvPr/>
            </p:nvSpPr>
            <p:spPr>
              <a:xfrm flipV="1">
                <a:off x="6961680" y="1074240"/>
                <a:ext cx="897480" cy="1378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48" name=""/>
              <p:cNvGrpSpPr/>
              <p:nvPr/>
            </p:nvGrpSpPr>
            <p:grpSpPr>
              <a:xfrm>
                <a:off x="5946840" y="1212480"/>
                <a:ext cx="2809800" cy="1636920"/>
                <a:chOff x="5946840" y="1212480"/>
                <a:chExt cx="2809800" cy="1636920"/>
              </a:xfrm>
            </p:grpSpPr>
            <p:sp>
              <p:nvSpPr>
                <p:cNvPr id="5349" name=""/>
                <p:cNvSpPr/>
                <p:nvPr/>
              </p:nvSpPr>
              <p:spPr>
                <a:xfrm flipV="1">
                  <a:off x="5946840" y="2228040"/>
                  <a:ext cx="0" cy="621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0" name=""/>
                <p:cNvSpPr/>
                <p:nvPr/>
              </p:nvSpPr>
              <p:spPr>
                <a:xfrm flipV="1">
                  <a:off x="7741440" y="2228040"/>
                  <a:ext cx="0" cy="621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1" name=""/>
                <p:cNvSpPr/>
                <p:nvPr/>
              </p:nvSpPr>
              <p:spPr>
                <a:xfrm flipV="1">
                  <a:off x="6961680" y="1212480"/>
                  <a:ext cx="0" cy="621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2" name=""/>
                <p:cNvSpPr/>
                <p:nvPr/>
              </p:nvSpPr>
              <p:spPr>
                <a:xfrm flipV="1">
                  <a:off x="8756640" y="1212480"/>
                  <a:ext cx="0" cy="621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53" name=""/>
              <p:cNvSpPr/>
              <p:nvPr/>
            </p:nvSpPr>
            <p:spPr>
              <a:xfrm flipH="1" flipV="1">
                <a:off x="7859160" y="1074240"/>
                <a:ext cx="897120" cy="1378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4" name=""/>
            <p:cNvGrpSpPr/>
            <p:nvPr/>
          </p:nvGrpSpPr>
          <p:grpSpPr>
            <a:xfrm>
              <a:off x="5946840" y="1386000"/>
              <a:ext cx="2809440" cy="1465200"/>
              <a:chOff x="5946840" y="1386000"/>
              <a:chExt cx="2809440" cy="1465200"/>
            </a:xfrm>
          </p:grpSpPr>
          <p:grpSp>
            <p:nvGrpSpPr>
              <p:cNvPr id="5355" name=""/>
              <p:cNvGrpSpPr/>
              <p:nvPr/>
            </p:nvGrpSpPr>
            <p:grpSpPr>
              <a:xfrm>
                <a:off x="5946840" y="1395360"/>
                <a:ext cx="1014840" cy="1455480"/>
                <a:chOff x="5946840" y="1395360"/>
                <a:chExt cx="1014840" cy="1455480"/>
              </a:xfrm>
            </p:grpSpPr>
            <p:sp>
              <p:nvSpPr>
                <p:cNvPr id="5356" name=""/>
                <p:cNvSpPr/>
                <p:nvPr/>
              </p:nvSpPr>
              <p:spPr>
                <a:xfrm flipV="1">
                  <a:off x="5946840" y="1395360"/>
                  <a:ext cx="1014840" cy="1013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7" name=""/>
                <p:cNvSpPr/>
                <p:nvPr/>
              </p:nvSpPr>
              <p:spPr>
                <a:xfrm flipV="1">
                  <a:off x="5946840" y="1550520"/>
                  <a:ext cx="1014840" cy="1013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8" name=""/>
                <p:cNvSpPr/>
                <p:nvPr/>
              </p:nvSpPr>
              <p:spPr>
                <a:xfrm flipV="1">
                  <a:off x="5946840" y="1688400"/>
                  <a:ext cx="1014840" cy="1013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9" name=""/>
                <p:cNvSpPr/>
                <p:nvPr/>
              </p:nvSpPr>
              <p:spPr>
                <a:xfrm flipV="1">
                  <a:off x="5946840" y="1837080"/>
                  <a:ext cx="1014840" cy="1013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60" name=""/>
              <p:cNvGrpSpPr/>
              <p:nvPr/>
            </p:nvGrpSpPr>
            <p:grpSpPr>
              <a:xfrm>
                <a:off x="7741440" y="1386000"/>
                <a:ext cx="1014840" cy="1465200"/>
                <a:chOff x="7741440" y="1386000"/>
                <a:chExt cx="1014840" cy="1465200"/>
              </a:xfrm>
            </p:grpSpPr>
            <p:sp>
              <p:nvSpPr>
                <p:cNvPr id="5361" name=""/>
                <p:cNvSpPr/>
                <p:nvPr/>
              </p:nvSpPr>
              <p:spPr>
                <a:xfrm flipV="1">
                  <a:off x="7741440" y="1837440"/>
                  <a:ext cx="1014840" cy="1013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2" name=""/>
                <p:cNvSpPr/>
                <p:nvPr/>
              </p:nvSpPr>
              <p:spPr>
                <a:xfrm flipV="1">
                  <a:off x="7741440" y="1386000"/>
                  <a:ext cx="1014840" cy="1013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3" name=""/>
                <p:cNvSpPr/>
                <p:nvPr/>
              </p:nvSpPr>
              <p:spPr>
                <a:xfrm flipV="1">
                  <a:off x="7741440" y="1541160"/>
                  <a:ext cx="1014840" cy="1013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4" name=""/>
                <p:cNvSpPr/>
                <p:nvPr/>
              </p:nvSpPr>
              <p:spPr>
                <a:xfrm flipV="1">
                  <a:off x="7741440" y="1690200"/>
                  <a:ext cx="1014840" cy="1013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365" name=""/>
            <p:cNvSpPr/>
            <p:nvPr/>
          </p:nvSpPr>
          <p:spPr>
            <a:xfrm flipV="1">
              <a:off x="6846840" y="1079640"/>
              <a:ext cx="1015920" cy="10159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66" name=""/>
            <p:cNvGrpSpPr/>
            <p:nvPr/>
          </p:nvGrpSpPr>
          <p:grpSpPr>
            <a:xfrm>
              <a:off x="5946840" y="1212840"/>
              <a:ext cx="2808360" cy="1014480"/>
              <a:chOff x="5946840" y="1212840"/>
              <a:chExt cx="2808360" cy="1014480"/>
            </a:xfrm>
          </p:grpSpPr>
          <p:sp>
            <p:nvSpPr>
              <p:cNvPr id="5367" name=""/>
              <p:cNvSpPr/>
              <p:nvPr/>
            </p:nvSpPr>
            <p:spPr>
              <a:xfrm flipV="1">
                <a:off x="7737120" y="1212840"/>
                <a:ext cx="1018080" cy="1014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8" name=""/>
              <p:cNvSpPr/>
              <p:nvPr/>
            </p:nvSpPr>
            <p:spPr>
              <a:xfrm flipV="1">
                <a:off x="5946840" y="1212840"/>
                <a:ext cx="1015200" cy="1014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69" name=""/>
            <p:cNvGrpSpPr/>
            <p:nvPr/>
          </p:nvGrpSpPr>
          <p:grpSpPr>
            <a:xfrm>
              <a:off x="6080040" y="1095120"/>
              <a:ext cx="2532240" cy="1113840"/>
              <a:chOff x="6080040" y="1095120"/>
              <a:chExt cx="2532240" cy="1113840"/>
            </a:xfrm>
          </p:grpSpPr>
          <p:sp>
            <p:nvSpPr>
              <p:cNvPr id="5370" name=""/>
              <p:cNvSpPr/>
              <p:nvPr/>
            </p:nvSpPr>
            <p:spPr>
              <a:xfrm flipV="1">
                <a:off x="7013160" y="1099440"/>
                <a:ext cx="1017720" cy="1017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1" name=""/>
              <p:cNvSpPr/>
              <p:nvPr/>
            </p:nvSpPr>
            <p:spPr>
              <a:xfrm flipV="1">
                <a:off x="7165800" y="1113120"/>
                <a:ext cx="1017720" cy="1017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2" name=""/>
              <p:cNvSpPr/>
              <p:nvPr/>
            </p:nvSpPr>
            <p:spPr>
              <a:xfrm flipV="1">
                <a:off x="7453440" y="1162800"/>
                <a:ext cx="1017720" cy="1017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3" name=""/>
              <p:cNvSpPr/>
              <p:nvPr/>
            </p:nvSpPr>
            <p:spPr>
              <a:xfrm flipV="1">
                <a:off x="7594560" y="1191960"/>
                <a:ext cx="1017720" cy="1017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4" name=""/>
              <p:cNvSpPr/>
              <p:nvPr/>
            </p:nvSpPr>
            <p:spPr>
              <a:xfrm flipV="1">
                <a:off x="6080040" y="1191960"/>
                <a:ext cx="1004040" cy="1017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5" name=""/>
              <p:cNvSpPr/>
              <p:nvPr/>
            </p:nvSpPr>
            <p:spPr>
              <a:xfrm flipV="1">
                <a:off x="6247080" y="1168560"/>
                <a:ext cx="1004040" cy="1017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6" name=""/>
              <p:cNvSpPr/>
              <p:nvPr/>
            </p:nvSpPr>
            <p:spPr>
              <a:xfrm flipV="1">
                <a:off x="6532920" y="1122840"/>
                <a:ext cx="1004040" cy="1017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7" name=""/>
              <p:cNvSpPr/>
              <p:nvPr/>
            </p:nvSpPr>
            <p:spPr>
              <a:xfrm flipV="1">
                <a:off x="6687000" y="1095120"/>
                <a:ext cx="1007640" cy="1017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8" name=""/>
              <p:cNvSpPr/>
              <p:nvPr/>
            </p:nvSpPr>
            <p:spPr>
              <a:xfrm flipV="1">
                <a:off x="6385680" y="1146240"/>
                <a:ext cx="1004040" cy="1017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9" name=""/>
              <p:cNvSpPr/>
              <p:nvPr/>
            </p:nvSpPr>
            <p:spPr>
              <a:xfrm flipV="1">
                <a:off x="7292520" y="1141200"/>
                <a:ext cx="1017720" cy="10245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80" name=""/>
            <p:cNvGrpSpPr/>
            <p:nvPr/>
          </p:nvGrpSpPr>
          <p:grpSpPr>
            <a:xfrm>
              <a:off x="5943600" y="1072800"/>
              <a:ext cx="2816280" cy="1154160"/>
              <a:chOff x="5943600" y="1072800"/>
              <a:chExt cx="2816280" cy="1154160"/>
            </a:xfrm>
          </p:grpSpPr>
          <p:grpSp>
            <p:nvGrpSpPr>
              <p:cNvPr id="5381" name=""/>
              <p:cNvGrpSpPr/>
              <p:nvPr/>
            </p:nvGrpSpPr>
            <p:grpSpPr>
              <a:xfrm>
                <a:off x="5943600" y="1918080"/>
                <a:ext cx="1964880" cy="308880"/>
                <a:chOff x="5943600" y="1918080"/>
                <a:chExt cx="1964880" cy="308880"/>
              </a:xfrm>
            </p:grpSpPr>
            <p:sp>
              <p:nvSpPr>
                <p:cNvPr id="5382" name=""/>
                <p:cNvSpPr/>
                <p:nvPr/>
              </p:nvSpPr>
              <p:spPr>
                <a:xfrm flipH="1" flipV="1">
                  <a:off x="7010640" y="1919520"/>
                  <a:ext cx="152640" cy="2156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3" name=""/>
                <p:cNvSpPr/>
                <p:nvPr/>
              </p:nvSpPr>
              <p:spPr>
                <a:xfrm flipH="1">
                  <a:off x="6524280" y="1919880"/>
                  <a:ext cx="486000" cy="2156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4" name=""/>
                <p:cNvSpPr/>
                <p:nvPr/>
              </p:nvSpPr>
              <p:spPr>
                <a:xfrm flipH="1" flipV="1">
                  <a:off x="7601040" y="2002320"/>
                  <a:ext cx="137880" cy="2242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5" name=""/>
                <p:cNvSpPr/>
                <p:nvPr/>
              </p:nvSpPr>
              <p:spPr>
                <a:xfrm flipV="1">
                  <a:off x="7451280" y="2056680"/>
                  <a:ext cx="457200" cy="1270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6" name=""/>
                <p:cNvSpPr/>
                <p:nvPr/>
              </p:nvSpPr>
              <p:spPr>
                <a:xfrm flipH="1" flipV="1">
                  <a:off x="7312320" y="1970280"/>
                  <a:ext cx="138960" cy="213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7" name=""/>
                <p:cNvSpPr/>
                <p:nvPr/>
              </p:nvSpPr>
              <p:spPr>
                <a:xfrm flipH="1">
                  <a:off x="7151400" y="2009520"/>
                  <a:ext cx="473400" cy="1260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8" name=""/>
                <p:cNvSpPr/>
                <p:nvPr/>
              </p:nvSpPr>
              <p:spPr>
                <a:xfrm flipH="1">
                  <a:off x="6865920" y="1970640"/>
                  <a:ext cx="446400" cy="1155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9" name=""/>
                <p:cNvSpPr/>
                <p:nvPr/>
              </p:nvSpPr>
              <p:spPr>
                <a:xfrm flipH="1" flipV="1">
                  <a:off x="6694200" y="1960560"/>
                  <a:ext cx="171000" cy="1249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0" name=""/>
                <p:cNvSpPr/>
                <p:nvPr/>
              </p:nvSpPr>
              <p:spPr>
                <a:xfrm flipH="1" flipV="1">
                  <a:off x="6411960" y="2009160"/>
                  <a:ext cx="117720" cy="1292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1" name=""/>
                <p:cNvSpPr/>
                <p:nvPr/>
              </p:nvSpPr>
              <p:spPr>
                <a:xfrm flipH="1">
                  <a:off x="6242040" y="1970640"/>
                  <a:ext cx="452160" cy="213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2" name=""/>
                <p:cNvSpPr/>
                <p:nvPr/>
              </p:nvSpPr>
              <p:spPr>
                <a:xfrm flipH="1" flipV="1">
                  <a:off x="6112800" y="2056680"/>
                  <a:ext cx="131040" cy="1213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3" name=""/>
                <p:cNvSpPr/>
                <p:nvPr/>
              </p:nvSpPr>
              <p:spPr>
                <a:xfrm flipH="1">
                  <a:off x="5943600" y="2009520"/>
                  <a:ext cx="468720" cy="217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4" name=""/>
                <p:cNvSpPr/>
                <p:nvPr/>
              </p:nvSpPr>
              <p:spPr>
                <a:xfrm flipV="1">
                  <a:off x="7736400" y="2056680"/>
                  <a:ext cx="165960" cy="165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5" name=""/>
                <p:cNvSpPr/>
                <p:nvPr/>
              </p:nvSpPr>
              <p:spPr>
                <a:xfrm flipV="1">
                  <a:off x="6853680" y="1918080"/>
                  <a:ext cx="165960" cy="165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6" name=""/>
                <p:cNvSpPr/>
                <p:nvPr/>
              </p:nvSpPr>
              <p:spPr>
                <a:xfrm flipV="1">
                  <a:off x="7156080" y="1966320"/>
                  <a:ext cx="165960" cy="165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7" name=""/>
                <p:cNvSpPr/>
                <p:nvPr/>
              </p:nvSpPr>
              <p:spPr>
                <a:xfrm flipV="1">
                  <a:off x="5946480" y="2053800"/>
                  <a:ext cx="165960" cy="165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8" name=""/>
                <p:cNvSpPr/>
                <p:nvPr/>
              </p:nvSpPr>
              <p:spPr>
                <a:xfrm flipV="1">
                  <a:off x="6248880" y="2008440"/>
                  <a:ext cx="165960" cy="165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9" name=""/>
                <p:cNvSpPr/>
                <p:nvPr/>
              </p:nvSpPr>
              <p:spPr>
                <a:xfrm flipV="1">
                  <a:off x="6533280" y="1966320"/>
                  <a:ext cx="165960" cy="165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0" name=""/>
                <p:cNvSpPr/>
                <p:nvPr/>
              </p:nvSpPr>
              <p:spPr>
                <a:xfrm flipV="1">
                  <a:off x="6109920" y="1920960"/>
                  <a:ext cx="903960" cy="135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1" name=""/>
                <p:cNvSpPr/>
                <p:nvPr/>
              </p:nvSpPr>
              <p:spPr>
                <a:xfrm flipV="1">
                  <a:off x="5946480" y="2090160"/>
                  <a:ext cx="903960" cy="135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2" name=""/>
                <p:cNvSpPr/>
                <p:nvPr/>
              </p:nvSpPr>
              <p:spPr>
                <a:xfrm>
                  <a:off x="6850800" y="2090520"/>
                  <a:ext cx="879480" cy="135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3" name=""/>
                <p:cNvSpPr/>
                <p:nvPr/>
              </p:nvSpPr>
              <p:spPr>
                <a:xfrm>
                  <a:off x="7016760" y="1921320"/>
                  <a:ext cx="879480" cy="135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4" name=""/>
                <p:cNvSpPr/>
                <p:nvPr/>
              </p:nvSpPr>
              <p:spPr>
                <a:xfrm flipV="1">
                  <a:off x="7443360" y="2017440"/>
                  <a:ext cx="165960" cy="165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05" name=""/>
              <p:cNvGrpSpPr/>
              <p:nvPr/>
            </p:nvGrpSpPr>
            <p:grpSpPr>
              <a:xfrm>
                <a:off x="6795000" y="1072800"/>
                <a:ext cx="1964880" cy="308880"/>
                <a:chOff x="6795000" y="1072800"/>
                <a:chExt cx="1964880" cy="308880"/>
              </a:xfrm>
            </p:grpSpPr>
            <p:sp>
              <p:nvSpPr>
                <p:cNvPr id="5406" name=""/>
                <p:cNvSpPr/>
                <p:nvPr/>
              </p:nvSpPr>
              <p:spPr>
                <a:xfrm flipH="1" flipV="1">
                  <a:off x="7862040" y="1074240"/>
                  <a:ext cx="152640" cy="2156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7" name=""/>
                <p:cNvSpPr/>
                <p:nvPr/>
              </p:nvSpPr>
              <p:spPr>
                <a:xfrm flipH="1">
                  <a:off x="7375680" y="1074600"/>
                  <a:ext cx="486000" cy="2156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8" name=""/>
                <p:cNvSpPr/>
                <p:nvPr/>
              </p:nvSpPr>
              <p:spPr>
                <a:xfrm flipH="1" flipV="1">
                  <a:off x="8452440" y="1157040"/>
                  <a:ext cx="137880" cy="2242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9" name=""/>
                <p:cNvSpPr/>
                <p:nvPr/>
              </p:nvSpPr>
              <p:spPr>
                <a:xfrm flipV="1">
                  <a:off x="8302680" y="1211400"/>
                  <a:ext cx="457200" cy="1270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0" name=""/>
                <p:cNvSpPr/>
                <p:nvPr/>
              </p:nvSpPr>
              <p:spPr>
                <a:xfrm flipH="1" flipV="1">
                  <a:off x="8163720" y="1125000"/>
                  <a:ext cx="138960" cy="213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1" name=""/>
                <p:cNvSpPr/>
                <p:nvPr/>
              </p:nvSpPr>
              <p:spPr>
                <a:xfrm flipH="1">
                  <a:off x="8002800" y="1164240"/>
                  <a:ext cx="473400" cy="1260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2" name=""/>
                <p:cNvSpPr/>
                <p:nvPr/>
              </p:nvSpPr>
              <p:spPr>
                <a:xfrm flipH="1">
                  <a:off x="7717320" y="1125360"/>
                  <a:ext cx="446400" cy="1155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3" name=""/>
                <p:cNvSpPr/>
                <p:nvPr/>
              </p:nvSpPr>
              <p:spPr>
                <a:xfrm flipH="1" flipV="1">
                  <a:off x="7545600" y="1115280"/>
                  <a:ext cx="171000" cy="1249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4" name=""/>
                <p:cNvSpPr/>
                <p:nvPr/>
              </p:nvSpPr>
              <p:spPr>
                <a:xfrm flipH="1" flipV="1">
                  <a:off x="7263360" y="1163880"/>
                  <a:ext cx="117720" cy="1292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5" name=""/>
                <p:cNvSpPr/>
                <p:nvPr/>
              </p:nvSpPr>
              <p:spPr>
                <a:xfrm flipH="1">
                  <a:off x="7093440" y="1125360"/>
                  <a:ext cx="452160" cy="213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6" name=""/>
                <p:cNvSpPr/>
                <p:nvPr/>
              </p:nvSpPr>
              <p:spPr>
                <a:xfrm flipH="1" flipV="1">
                  <a:off x="6964200" y="1211400"/>
                  <a:ext cx="131040" cy="1213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7" name=""/>
                <p:cNvSpPr/>
                <p:nvPr/>
              </p:nvSpPr>
              <p:spPr>
                <a:xfrm flipH="1">
                  <a:off x="6795000" y="1164240"/>
                  <a:ext cx="468720" cy="217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8" name=""/>
                <p:cNvSpPr/>
                <p:nvPr/>
              </p:nvSpPr>
              <p:spPr>
                <a:xfrm flipV="1">
                  <a:off x="8587800" y="1211400"/>
                  <a:ext cx="165960" cy="165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9" name=""/>
                <p:cNvSpPr/>
                <p:nvPr/>
              </p:nvSpPr>
              <p:spPr>
                <a:xfrm flipV="1">
                  <a:off x="7705080" y="1072800"/>
                  <a:ext cx="165960" cy="165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0" name=""/>
                <p:cNvSpPr/>
                <p:nvPr/>
              </p:nvSpPr>
              <p:spPr>
                <a:xfrm flipV="1">
                  <a:off x="8007480" y="1121040"/>
                  <a:ext cx="165960" cy="165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1" name=""/>
                <p:cNvSpPr/>
                <p:nvPr/>
              </p:nvSpPr>
              <p:spPr>
                <a:xfrm flipV="1">
                  <a:off x="6797880" y="1208520"/>
                  <a:ext cx="165960" cy="165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2" name=""/>
                <p:cNvSpPr/>
                <p:nvPr/>
              </p:nvSpPr>
              <p:spPr>
                <a:xfrm flipV="1">
                  <a:off x="7100280" y="1163160"/>
                  <a:ext cx="165960" cy="165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3" name=""/>
                <p:cNvSpPr/>
                <p:nvPr/>
              </p:nvSpPr>
              <p:spPr>
                <a:xfrm flipV="1">
                  <a:off x="7384680" y="1121040"/>
                  <a:ext cx="165960" cy="165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4" name=""/>
                <p:cNvSpPr/>
                <p:nvPr/>
              </p:nvSpPr>
              <p:spPr>
                <a:xfrm flipV="1">
                  <a:off x="6961320" y="1075680"/>
                  <a:ext cx="903960" cy="135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5" name=""/>
                <p:cNvSpPr/>
                <p:nvPr/>
              </p:nvSpPr>
              <p:spPr>
                <a:xfrm flipV="1">
                  <a:off x="6797880" y="1244880"/>
                  <a:ext cx="903960" cy="135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6" name=""/>
                <p:cNvSpPr/>
                <p:nvPr/>
              </p:nvSpPr>
              <p:spPr>
                <a:xfrm>
                  <a:off x="7702200" y="1245240"/>
                  <a:ext cx="879480" cy="135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7" name=""/>
                <p:cNvSpPr/>
                <p:nvPr/>
              </p:nvSpPr>
              <p:spPr>
                <a:xfrm>
                  <a:off x="7868160" y="1076040"/>
                  <a:ext cx="879480" cy="135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8" name=""/>
                <p:cNvSpPr/>
                <p:nvPr/>
              </p:nvSpPr>
              <p:spPr>
                <a:xfrm flipV="1">
                  <a:off x="8294760" y="1172160"/>
                  <a:ext cx="165960" cy="165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429" name=""/>
          <p:cNvSpPr/>
          <p:nvPr/>
        </p:nvSpPr>
        <p:spPr>
          <a:xfrm>
            <a:off x="2655720" y="1566720"/>
            <a:ext cx="34689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BONNE RÉ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69920" y="436680"/>
            <a:ext cx="87818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RÉPONSE CORREC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467000" y="882720"/>
            <a:ext cx="62370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a palée de stabilité supporte la poutre au 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2470320" y="2419200"/>
            <a:ext cx="0" cy="119088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431640" y="3668760"/>
            <a:ext cx="5532120" cy="2089080"/>
            <a:chOff x="431640" y="3668760"/>
            <a:chExt cx="5532120" cy="2089080"/>
          </a:xfrm>
        </p:grpSpPr>
        <p:grpSp>
          <p:nvGrpSpPr>
            <p:cNvPr id="286" name=""/>
            <p:cNvGrpSpPr/>
            <p:nvPr/>
          </p:nvGrpSpPr>
          <p:grpSpPr>
            <a:xfrm>
              <a:off x="4189320" y="3987000"/>
              <a:ext cx="1452240" cy="1449360"/>
              <a:chOff x="4189320" y="3987000"/>
              <a:chExt cx="1452240" cy="1449360"/>
            </a:xfrm>
          </p:grpSpPr>
          <p:sp>
            <p:nvSpPr>
              <p:cNvPr id="287" name=""/>
              <p:cNvSpPr/>
              <p:nvPr/>
            </p:nvSpPr>
            <p:spPr>
              <a:xfrm>
                <a:off x="5482440" y="398700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163480" y="4302720"/>
                <a:ext cx="159840" cy="160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835880" y="4627080"/>
                <a:ext cx="15984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513680" y="4947840"/>
                <a:ext cx="1634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189320" y="5276880"/>
                <a:ext cx="15876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761760" y="3985920"/>
              <a:ext cx="1447920" cy="1442160"/>
              <a:chOff x="761760" y="3985920"/>
              <a:chExt cx="1447920" cy="1442160"/>
            </a:xfrm>
          </p:grpSpPr>
          <p:sp>
            <p:nvSpPr>
              <p:cNvPr id="293" name=""/>
              <p:cNvSpPr/>
              <p:nvPr/>
            </p:nvSpPr>
            <p:spPr>
              <a:xfrm>
                <a:off x="2050560" y="398592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729800" y="4304520"/>
                <a:ext cx="159120" cy="1612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408320" y="462708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080720" y="4948920"/>
                <a:ext cx="16020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61760" y="526860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2367720" y="3668760"/>
              <a:ext cx="3596040" cy="162000"/>
              <a:chOff x="2367720" y="3668760"/>
              <a:chExt cx="3596040" cy="162000"/>
            </a:xfrm>
          </p:grpSpPr>
          <p:sp>
            <p:nvSpPr>
              <p:cNvPr id="299" name=""/>
              <p:cNvSpPr/>
              <p:nvPr/>
            </p:nvSpPr>
            <p:spPr>
              <a:xfrm>
                <a:off x="5804640" y="366912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367720" y="366912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676400" y="366876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938680" y="367092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48804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087080" y="36687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24268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431640" y="5596200"/>
              <a:ext cx="3595320" cy="161640"/>
              <a:chOff x="431640" y="5596200"/>
              <a:chExt cx="3595320" cy="161640"/>
            </a:xfrm>
          </p:grpSpPr>
          <p:sp>
            <p:nvSpPr>
              <p:cNvPr id="307" name=""/>
              <p:cNvSpPr/>
              <p:nvPr/>
            </p:nvSpPr>
            <p:spPr>
              <a:xfrm>
                <a:off x="43164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867480" y="5596200"/>
                <a:ext cx="15948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99936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55160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74104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31596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3" name=""/>
          <p:cNvGrpSpPr/>
          <p:nvPr/>
        </p:nvGrpSpPr>
        <p:grpSpPr>
          <a:xfrm>
            <a:off x="2473200" y="2424240"/>
            <a:ext cx="3434040" cy="1209600"/>
            <a:chOff x="2473200" y="2424240"/>
            <a:chExt cx="3434040" cy="1209600"/>
          </a:xfrm>
        </p:grpSpPr>
        <p:sp>
          <p:nvSpPr>
            <p:cNvPr id="314" name=""/>
            <p:cNvSpPr/>
            <p:nvPr/>
          </p:nvSpPr>
          <p:spPr>
            <a:xfrm>
              <a:off x="2473200" y="242424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473560" y="275256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2473920" y="3332880"/>
              <a:ext cx="3427560" cy="140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2475000" y="3075840"/>
              <a:ext cx="342216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476080" y="363384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31720" y="2749680"/>
            <a:ext cx="1941120" cy="2812680"/>
            <a:chOff x="531720" y="2749680"/>
            <a:chExt cx="1941120" cy="2812680"/>
          </a:xfrm>
        </p:grpSpPr>
        <p:sp>
          <p:nvSpPr>
            <p:cNvPr id="320" name=""/>
            <p:cNvSpPr/>
            <p:nvPr/>
          </p:nvSpPr>
          <p:spPr>
            <a:xfrm flipV="1">
              <a:off x="535680" y="2749680"/>
              <a:ext cx="1935720" cy="1926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531720" y="3080160"/>
              <a:ext cx="1940040" cy="19155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532800" y="3346200"/>
              <a:ext cx="1940040" cy="19353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532800" y="3632760"/>
              <a:ext cx="1937160" cy="19296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531720" y="2158920"/>
            <a:ext cx="5372280" cy="3412800"/>
            <a:chOff x="531720" y="2158920"/>
            <a:chExt cx="5372280" cy="3412800"/>
          </a:xfrm>
        </p:grpSpPr>
        <p:grpSp>
          <p:nvGrpSpPr>
            <p:cNvPr id="325" name=""/>
            <p:cNvGrpSpPr/>
            <p:nvPr/>
          </p:nvGrpSpPr>
          <p:grpSpPr>
            <a:xfrm>
              <a:off x="2473200" y="2158920"/>
              <a:ext cx="3430800" cy="1476720"/>
              <a:chOff x="2473200" y="2158920"/>
              <a:chExt cx="3430800" cy="1476720"/>
            </a:xfrm>
          </p:grpSpPr>
          <p:sp>
            <p:nvSpPr>
              <p:cNvPr id="326" name=""/>
              <p:cNvSpPr/>
              <p:nvPr/>
            </p:nvSpPr>
            <p:spPr>
              <a:xfrm>
                <a:off x="5355000" y="2341800"/>
                <a:ext cx="0" cy="129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904000" y="2439000"/>
                <a:ext cx="0" cy="1196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782240" y="2248200"/>
                <a:ext cx="0" cy="1387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189680" y="2158920"/>
                <a:ext cx="0" cy="1476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594960" y="2251800"/>
                <a:ext cx="0" cy="138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473200" y="2433600"/>
                <a:ext cx="0" cy="120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046680" y="2336760"/>
                <a:ext cx="0" cy="1298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531720" y="4102200"/>
              <a:ext cx="3433320" cy="1469520"/>
              <a:chOff x="531720" y="4102200"/>
              <a:chExt cx="3433320" cy="1469520"/>
            </a:xfrm>
          </p:grpSpPr>
          <p:sp>
            <p:nvSpPr>
              <p:cNvPr id="334" name=""/>
              <p:cNvSpPr/>
              <p:nvPr/>
            </p:nvSpPr>
            <p:spPr>
              <a:xfrm flipH="1">
                <a:off x="2248920" y="4102200"/>
                <a:ext cx="1440" cy="57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415680" y="4284720"/>
                <a:ext cx="0" cy="1287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965040" y="4365720"/>
                <a:ext cx="0" cy="1194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842920" y="4197960"/>
                <a:ext cx="0" cy="1368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655280" y="4190400"/>
                <a:ext cx="0" cy="137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31720" y="4368600"/>
                <a:ext cx="720" cy="1195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107000" y="4280400"/>
                <a:ext cx="0" cy="128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1" name=""/>
          <p:cNvGrpSpPr/>
          <p:nvPr/>
        </p:nvGrpSpPr>
        <p:grpSpPr>
          <a:xfrm>
            <a:off x="857160" y="2484360"/>
            <a:ext cx="4724640" cy="2750400"/>
            <a:chOff x="857160" y="2484360"/>
            <a:chExt cx="4724640" cy="2750400"/>
          </a:xfrm>
        </p:grpSpPr>
        <p:grpSp>
          <p:nvGrpSpPr>
            <p:cNvPr id="342" name=""/>
            <p:cNvGrpSpPr/>
            <p:nvPr/>
          </p:nvGrpSpPr>
          <p:grpSpPr>
            <a:xfrm>
              <a:off x="857160" y="3781080"/>
              <a:ext cx="3430800" cy="1453680"/>
              <a:chOff x="857160" y="3781080"/>
              <a:chExt cx="3430800" cy="1453680"/>
            </a:xfrm>
          </p:grpSpPr>
          <p:sp>
            <p:nvSpPr>
              <p:cNvPr id="343" name=""/>
              <p:cNvSpPr/>
              <p:nvPr/>
            </p:nvSpPr>
            <p:spPr>
              <a:xfrm flipV="1">
                <a:off x="857160" y="4044960"/>
                <a:ext cx="0" cy="1189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V="1">
                <a:off x="857160" y="3781080"/>
                <a:ext cx="1715400" cy="264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V="1">
                <a:off x="4287960" y="4044960"/>
                <a:ext cx="0" cy="1189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2572200" y="3781080"/>
                <a:ext cx="1715400" cy="264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1180440" y="2484360"/>
              <a:ext cx="4401360" cy="2437920"/>
              <a:chOff x="1180440" y="2484360"/>
              <a:chExt cx="4401360" cy="243792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1180440" y="3456360"/>
                <a:ext cx="3431520" cy="1465920"/>
                <a:chOff x="1180440" y="3456360"/>
                <a:chExt cx="3431520" cy="1465920"/>
              </a:xfrm>
            </p:grpSpPr>
            <p:sp>
              <p:nvSpPr>
                <p:cNvPr id="349" name=""/>
                <p:cNvSpPr/>
                <p:nvPr/>
              </p:nvSpPr>
              <p:spPr>
                <a:xfrm flipV="1">
                  <a:off x="1180440" y="3722040"/>
                  <a:ext cx="0" cy="1195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 flipV="1">
                  <a:off x="1180440" y="3456360"/>
                  <a:ext cx="1716120" cy="265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V="1">
                  <a:off x="4611960" y="3721680"/>
                  <a:ext cx="0" cy="1200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H="1" flipV="1">
                  <a:off x="2896200" y="3456360"/>
                  <a:ext cx="1715400" cy="265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1502280" y="3132000"/>
                <a:ext cx="3432960" cy="1463760"/>
                <a:chOff x="1502280" y="3132000"/>
                <a:chExt cx="3432960" cy="1463760"/>
              </a:xfrm>
            </p:grpSpPr>
            <p:sp>
              <p:nvSpPr>
                <p:cNvPr id="354" name=""/>
                <p:cNvSpPr/>
                <p:nvPr/>
              </p:nvSpPr>
              <p:spPr>
                <a:xfrm flipV="1">
                  <a:off x="1502280" y="3398400"/>
                  <a:ext cx="0" cy="1197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 flipV="1">
                  <a:off x="1502280" y="3132000"/>
                  <a:ext cx="171648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 flipV="1">
                  <a:off x="4935240" y="3398400"/>
                  <a:ext cx="0" cy="1197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 flipH="1" flipV="1">
                  <a:off x="3218760" y="3132000"/>
                  <a:ext cx="171648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1827000" y="2808000"/>
                <a:ext cx="3431520" cy="1464480"/>
                <a:chOff x="1827000" y="2808000"/>
                <a:chExt cx="3431520" cy="1464480"/>
              </a:xfrm>
            </p:grpSpPr>
            <p:sp>
              <p:nvSpPr>
                <p:cNvPr id="359" name=""/>
                <p:cNvSpPr/>
                <p:nvPr/>
              </p:nvSpPr>
              <p:spPr>
                <a:xfrm flipV="1">
                  <a:off x="1827000" y="3074400"/>
                  <a:ext cx="0" cy="1198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 flipV="1">
                  <a:off x="1827000" y="2808000"/>
                  <a:ext cx="171576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 flipV="1">
                  <a:off x="5258520" y="3074400"/>
                  <a:ext cx="0" cy="1198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flipH="1" flipV="1">
                  <a:off x="3542760" y="2808000"/>
                  <a:ext cx="171576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2151000" y="2484360"/>
                <a:ext cx="3430800" cy="1472400"/>
                <a:chOff x="2151000" y="2484360"/>
                <a:chExt cx="3430800" cy="1472400"/>
              </a:xfrm>
            </p:grpSpPr>
            <p:sp>
              <p:nvSpPr>
                <p:cNvPr id="364" name=""/>
                <p:cNvSpPr/>
                <p:nvPr/>
              </p:nvSpPr>
              <p:spPr>
                <a:xfrm flipV="1">
                  <a:off x="2151000" y="2751840"/>
                  <a:ext cx="0" cy="1204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 flipV="1">
                  <a:off x="2151000" y="2484360"/>
                  <a:ext cx="1715400" cy="267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 flipV="1">
                  <a:off x="5581800" y="2751840"/>
                  <a:ext cx="0" cy="1204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 flipH="1" flipV="1">
                  <a:off x="3866040" y="2484360"/>
                  <a:ext cx="1715400" cy="267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68" name=""/>
          <p:cNvGrpSpPr/>
          <p:nvPr/>
        </p:nvGrpSpPr>
        <p:grpSpPr>
          <a:xfrm>
            <a:off x="533520" y="2422440"/>
            <a:ext cx="5368320" cy="1944720"/>
            <a:chOff x="533520" y="2422440"/>
            <a:chExt cx="5368320" cy="1944720"/>
          </a:xfrm>
        </p:grpSpPr>
        <p:sp>
          <p:nvSpPr>
            <p:cNvPr id="369" name=""/>
            <p:cNvSpPr/>
            <p:nvPr/>
          </p:nvSpPr>
          <p:spPr>
            <a:xfrm flipV="1">
              <a:off x="3955680" y="2422440"/>
              <a:ext cx="1946160" cy="1944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533520" y="2422440"/>
              <a:ext cx="1940760" cy="1944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779400" y="2204640"/>
            <a:ext cx="4847760" cy="2130480"/>
            <a:chOff x="779400" y="2204640"/>
            <a:chExt cx="4847760" cy="2130480"/>
          </a:xfrm>
        </p:grpSpPr>
        <p:sp>
          <p:nvSpPr>
            <p:cNvPr id="372" name=""/>
            <p:cNvSpPr/>
            <p:nvPr/>
          </p:nvSpPr>
          <p:spPr>
            <a:xfrm flipV="1">
              <a:off x="2548440" y="2204640"/>
              <a:ext cx="193500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2841480" y="2248920"/>
              <a:ext cx="194076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3413160" y="2341080"/>
              <a:ext cx="193212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3681000" y="2384640"/>
              <a:ext cx="194616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779400" y="2381400"/>
              <a:ext cx="1985400" cy="1953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1103040" y="2338560"/>
              <a:ext cx="1938600" cy="1943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1655280" y="2247480"/>
              <a:ext cx="194292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1934640" y="2204640"/>
              <a:ext cx="1973520" cy="19508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1371600" y="2298600"/>
              <a:ext cx="194796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3124440" y="2290680"/>
              <a:ext cx="1940760" cy="1947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" name=""/>
          <p:cNvSpPr/>
          <p:nvPr/>
        </p:nvSpPr>
        <p:spPr>
          <a:xfrm flipV="1">
            <a:off x="2244600" y="2158920"/>
            <a:ext cx="1944720" cy="19382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531720" y="4368600"/>
            <a:ext cx="3430800" cy="1198080"/>
            <a:chOff x="531720" y="4368600"/>
            <a:chExt cx="3430800" cy="1198080"/>
          </a:xfrm>
        </p:grpSpPr>
        <p:sp>
          <p:nvSpPr>
            <p:cNvPr id="384" name=""/>
            <p:cNvSpPr/>
            <p:nvPr/>
          </p:nvSpPr>
          <p:spPr>
            <a:xfrm flipV="1">
              <a:off x="2842200" y="5565600"/>
              <a:ext cx="111780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532080" y="4368600"/>
              <a:ext cx="3430440" cy="3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31720" y="4678920"/>
              <a:ext cx="343008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839320" y="5276880"/>
              <a:ext cx="11217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532080" y="4999320"/>
              <a:ext cx="112284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842200" y="4991400"/>
              <a:ext cx="112032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32800" y="5281200"/>
              <a:ext cx="111960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34240" y="5564520"/>
              <a:ext cx="111672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3960720" y="2754360"/>
            <a:ext cx="1943280" cy="2809800"/>
            <a:chOff x="3960720" y="2754360"/>
            <a:chExt cx="1943280" cy="2809800"/>
          </a:xfrm>
        </p:grpSpPr>
        <p:sp>
          <p:nvSpPr>
            <p:cNvPr id="393" name=""/>
            <p:cNvSpPr/>
            <p:nvPr/>
          </p:nvSpPr>
          <p:spPr>
            <a:xfrm flipV="1">
              <a:off x="3960720" y="3636000"/>
              <a:ext cx="1943280" cy="19281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3964680" y="2754360"/>
              <a:ext cx="1937520" cy="1925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3963240" y="3076200"/>
              <a:ext cx="1939320" cy="19137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3961800" y="3332880"/>
              <a:ext cx="194040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 flipV="1">
            <a:off x="531720" y="4101840"/>
            <a:ext cx="1714680" cy="26676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 flipV="1">
            <a:off x="2249640" y="4103280"/>
            <a:ext cx="1715760" cy="26676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530280" y="4363920"/>
            <a:ext cx="0" cy="119088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3960720" y="4363920"/>
            <a:ext cx="0" cy="119088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2479680" y="2158560"/>
            <a:ext cx="1714320" cy="2653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 flipV="1">
            <a:off x="4193640" y="2158560"/>
            <a:ext cx="1714680" cy="2653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28560" y="661176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Suiv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>
            <a:hlinkClick r:id="" action="ppaction://hlinkshowjump?jump=nextslide"/>
          </p:cNvPr>
          <p:cNvSpPr/>
          <p:nvPr/>
        </p:nvSpPr>
        <p:spPr>
          <a:xfrm>
            <a:off x="765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00760" y="2567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73840" y="263376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co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800760" y="29988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73840" y="306540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sab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00760" y="343044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873840" y="349740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faît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800760" y="386388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73840" y="3930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co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00760" y="42958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873840" y="4362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Lisse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800760" y="4727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873840" y="4794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te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00760" y="5159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73840" y="5226120"/>
            <a:ext cx="180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lée de st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800760" y="5591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873840" y="565776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800760" y="17082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873840" y="1776240"/>
            <a:ext cx="17985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Fo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800760" y="2135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873840" y="220824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de 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800760" y="6029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873840" y="60958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Bardage couver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33520" y="2418840"/>
            <a:ext cx="5375160" cy="3144960"/>
            <a:chOff x="533520" y="2418840"/>
            <a:chExt cx="5375160" cy="3144960"/>
          </a:xfrm>
        </p:grpSpPr>
        <p:grpSp>
          <p:nvGrpSpPr>
            <p:cNvPr id="428" name=""/>
            <p:cNvGrpSpPr/>
            <p:nvPr/>
          </p:nvGrpSpPr>
          <p:grpSpPr>
            <a:xfrm>
              <a:off x="533520" y="2418840"/>
              <a:ext cx="5372640" cy="3144960"/>
              <a:chOff x="533520" y="2418840"/>
              <a:chExt cx="5372640" cy="3144960"/>
            </a:xfrm>
          </p:grpSpPr>
          <p:grpSp>
            <p:nvGrpSpPr>
              <p:cNvPr id="429" name=""/>
              <p:cNvGrpSpPr/>
              <p:nvPr/>
            </p:nvGrpSpPr>
            <p:grpSpPr>
              <a:xfrm>
                <a:off x="3951720" y="4039920"/>
                <a:ext cx="337680" cy="1517760"/>
                <a:chOff x="3951720" y="4039920"/>
                <a:chExt cx="337680" cy="1517760"/>
              </a:xfrm>
            </p:grpSpPr>
            <p:sp>
              <p:nvSpPr>
                <p:cNvPr id="430" name=""/>
                <p:cNvSpPr/>
                <p:nvPr/>
              </p:nvSpPr>
              <p:spPr>
                <a:xfrm flipV="1">
                  <a:off x="3965760" y="4670640"/>
                  <a:ext cx="322920" cy="88704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 flipH="1" flipV="1">
                  <a:off x="3959640" y="4358520"/>
                  <a:ext cx="328680" cy="31140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 flipH="1" flipV="1">
                  <a:off x="3965400" y="4987440"/>
                  <a:ext cx="322920" cy="24588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 flipV="1">
                  <a:off x="3965760" y="4039920"/>
                  <a:ext cx="322920" cy="94068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 flipV="1">
                  <a:off x="3951720" y="4052520"/>
                  <a:ext cx="323280" cy="32292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3966120" y="4359600"/>
                  <a:ext cx="0" cy="119340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4289400" y="4046400"/>
                  <a:ext cx="0" cy="119376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7" name=""/>
              <p:cNvGrpSpPr/>
              <p:nvPr/>
            </p:nvGrpSpPr>
            <p:grpSpPr>
              <a:xfrm>
                <a:off x="533520" y="4047480"/>
                <a:ext cx="325080" cy="1516320"/>
                <a:chOff x="533520" y="4047480"/>
                <a:chExt cx="325080" cy="1516320"/>
              </a:xfrm>
            </p:grpSpPr>
            <p:sp>
              <p:nvSpPr>
                <p:cNvPr id="438" name=""/>
                <p:cNvSpPr/>
                <p:nvPr/>
              </p:nvSpPr>
              <p:spPr>
                <a:xfrm flipV="1">
                  <a:off x="534600" y="4673520"/>
                  <a:ext cx="323280" cy="88668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flipH="1" flipV="1">
                  <a:off x="534600" y="4370760"/>
                  <a:ext cx="320400" cy="29880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 flipH="1" flipV="1">
                  <a:off x="533520" y="4997880"/>
                  <a:ext cx="323280" cy="24120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 flipV="1">
                  <a:off x="534600" y="4047480"/>
                  <a:ext cx="321840" cy="94428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 flipV="1">
                  <a:off x="536760" y="4047840"/>
                  <a:ext cx="317520" cy="31860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535320" y="4371120"/>
                  <a:ext cx="0" cy="119268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flipH="1">
                  <a:off x="857160" y="4057920"/>
                  <a:ext cx="1440" cy="117900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5" name=""/>
              <p:cNvGrpSpPr/>
              <p:nvPr/>
            </p:nvGrpSpPr>
            <p:grpSpPr>
              <a:xfrm>
                <a:off x="5580360" y="2418840"/>
                <a:ext cx="325800" cy="1538640"/>
                <a:chOff x="5580360" y="2418840"/>
                <a:chExt cx="325800" cy="1538640"/>
              </a:xfrm>
            </p:grpSpPr>
            <p:sp>
              <p:nvSpPr>
                <p:cNvPr id="446" name=""/>
                <p:cNvSpPr/>
                <p:nvPr/>
              </p:nvSpPr>
              <p:spPr>
                <a:xfrm flipV="1">
                  <a:off x="5582880" y="3071160"/>
                  <a:ext cx="320400" cy="88092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 flipH="1" flipV="1">
                  <a:off x="5580360" y="2744280"/>
                  <a:ext cx="321840" cy="33264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 flipH="1" flipV="1">
                  <a:off x="5582880" y="3388320"/>
                  <a:ext cx="320400" cy="24228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 flipV="1">
                  <a:off x="5581440" y="2421360"/>
                  <a:ext cx="317520" cy="97272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 flipV="1">
                  <a:off x="5580720" y="2418840"/>
                  <a:ext cx="324720" cy="33012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5585040" y="2739240"/>
                  <a:ext cx="0" cy="121824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 flipH="1">
                  <a:off x="5905080" y="2424600"/>
                  <a:ext cx="1080" cy="120744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3" name=""/>
              <p:cNvGrpSpPr/>
              <p:nvPr/>
            </p:nvGrpSpPr>
            <p:grpSpPr>
              <a:xfrm>
                <a:off x="2152080" y="2421000"/>
                <a:ext cx="323280" cy="1531440"/>
                <a:chOff x="2152080" y="2421000"/>
                <a:chExt cx="323280" cy="1531440"/>
              </a:xfrm>
            </p:grpSpPr>
            <p:sp>
              <p:nvSpPr>
                <p:cNvPr id="454" name=""/>
                <p:cNvSpPr/>
                <p:nvPr/>
              </p:nvSpPr>
              <p:spPr>
                <a:xfrm flipV="1">
                  <a:off x="2152080" y="3075840"/>
                  <a:ext cx="321840" cy="87660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 flipH="1" flipV="1">
                  <a:off x="2153160" y="2748600"/>
                  <a:ext cx="318960" cy="32436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 flipH="1" flipV="1">
                  <a:off x="2152080" y="3394800"/>
                  <a:ext cx="323280" cy="23400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 flipV="1">
                  <a:off x="2152080" y="2421720"/>
                  <a:ext cx="323280" cy="97272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 flipV="1">
                  <a:off x="2153880" y="2422080"/>
                  <a:ext cx="317880" cy="31860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2152440" y="2755080"/>
                  <a:ext cx="0" cy="119268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2473200" y="2421000"/>
                  <a:ext cx="1080" cy="120888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1" name=""/>
            <p:cNvGrpSpPr/>
            <p:nvPr/>
          </p:nvGrpSpPr>
          <p:grpSpPr>
            <a:xfrm>
              <a:off x="537120" y="3070800"/>
              <a:ext cx="5371560" cy="1926000"/>
              <a:chOff x="537120" y="3070800"/>
              <a:chExt cx="5371560" cy="1926000"/>
            </a:xfrm>
          </p:grpSpPr>
          <p:sp>
            <p:nvSpPr>
              <p:cNvPr id="462" name=""/>
              <p:cNvSpPr/>
              <p:nvPr/>
            </p:nvSpPr>
            <p:spPr>
              <a:xfrm flipV="1">
                <a:off x="3969360" y="4667760"/>
                <a:ext cx="317520" cy="3186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V="1">
                <a:off x="537120" y="4675680"/>
                <a:ext cx="323280" cy="3211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V="1">
                <a:off x="5591160" y="3070800"/>
                <a:ext cx="317520" cy="3182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V="1">
                <a:off x="2157120" y="3076560"/>
                <a:ext cx="320400" cy="3182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6" name=""/>
          <p:cNvGrpSpPr/>
          <p:nvPr/>
        </p:nvGrpSpPr>
        <p:grpSpPr>
          <a:xfrm>
            <a:off x="525600" y="2160720"/>
            <a:ext cx="5378400" cy="2209320"/>
            <a:chOff x="525600" y="2160720"/>
            <a:chExt cx="5378400" cy="2209320"/>
          </a:xfrm>
        </p:grpSpPr>
        <p:grpSp>
          <p:nvGrpSpPr>
            <p:cNvPr id="467" name=""/>
            <p:cNvGrpSpPr/>
            <p:nvPr/>
          </p:nvGrpSpPr>
          <p:grpSpPr>
            <a:xfrm>
              <a:off x="2151720" y="2160720"/>
              <a:ext cx="3752280" cy="588960"/>
              <a:chOff x="2151720" y="2160720"/>
              <a:chExt cx="3752280" cy="588960"/>
            </a:xfrm>
          </p:grpSpPr>
          <p:sp>
            <p:nvSpPr>
              <p:cNvPr id="468" name=""/>
              <p:cNvSpPr/>
              <p:nvPr/>
            </p:nvSpPr>
            <p:spPr>
              <a:xfrm flipV="1">
                <a:off x="5586480" y="2421000"/>
                <a:ext cx="317520" cy="317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V="1">
                <a:off x="3869280" y="2160720"/>
                <a:ext cx="321840" cy="324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4461840" y="2251440"/>
                <a:ext cx="317520" cy="318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V="1">
                <a:off x="2152080" y="2424960"/>
                <a:ext cx="324360" cy="321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V="1">
                <a:off x="2724120" y="2338200"/>
                <a:ext cx="317520" cy="317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V="1">
                <a:off x="3274920" y="2254320"/>
                <a:ext cx="317520" cy="318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4" name=""/>
              <p:cNvGrpSpPr/>
              <p:nvPr/>
            </p:nvGrpSpPr>
            <p:grpSpPr>
              <a:xfrm>
                <a:off x="2151720" y="2160720"/>
                <a:ext cx="3748320" cy="588960"/>
                <a:chOff x="2151720" y="2160720"/>
                <a:chExt cx="3748320" cy="588960"/>
              </a:xfrm>
            </p:grpSpPr>
            <p:sp>
              <p:nvSpPr>
                <p:cNvPr id="475" name=""/>
                <p:cNvSpPr/>
                <p:nvPr/>
              </p:nvSpPr>
              <p:spPr>
                <a:xfrm flipH="1" flipV="1">
                  <a:off x="4188960" y="2160720"/>
                  <a:ext cx="266400" cy="412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 flipH="1">
                  <a:off x="3274200" y="2161080"/>
                  <a:ext cx="912960" cy="4136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 flipH="1" flipV="1">
                  <a:off x="5353920" y="2337480"/>
                  <a:ext cx="225360" cy="412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 flipV="1">
                  <a:off x="5025240" y="2422080"/>
                  <a:ext cx="874800" cy="2401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 flipH="1" flipV="1">
                  <a:off x="4782240" y="2251800"/>
                  <a:ext cx="242640" cy="4114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 flipH="1">
                  <a:off x="4458240" y="2335320"/>
                  <a:ext cx="896400" cy="2404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 flipH="1">
                  <a:off x="3871800" y="2247840"/>
                  <a:ext cx="909720" cy="2329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 flipH="1" flipV="1">
                  <a:off x="3593160" y="2254680"/>
                  <a:ext cx="285840" cy="2343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 flipH="1" flipV="1">
                  <a:off x="3045960" y="2335320"/>
                  <a:ext cx="236160" cy="2419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 flipH="1">
                  <a:off x="2720520" y="2256480"/>
                  <a:ext cx="873720" cy="4060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 flipH="1" flipV="1">
                  <a:off x="2478600" y="2426400"/>
                  <a:ext cx="239400" cy="2343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 flipH="1">
                  <a:off x="2151720" y="2336760"/>
                  <a:ext cx="894240" cy="4104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 flipV="1">
                  <a:off x="2479680" y="2162880"/>
                  <a:ext cx="1708200" cy="2581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 flipV="1">
                  <a:off x="2167560" y="2481840"/>
                  <a:ext cx="1705320" cy="263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3870360" y="2480400"/>
                  <a:ext cx="1710360" cy="2692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4195080" y="2160720"/>
                  <a:ext cx="1697760" cy="2606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1" name=""/>
              <p:cNvSpPr/>
              <p:nvPr/>
            </p:nvSpPr>
            <p:spPr>
              <a:xfrm flipV="1">
                <a:off x="5026320" y="2337480"/>
                <a:ext cx="326160" cy="326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525600" y="3780000"/>
              <a:ext cx="3754440" cy="590040"/>
              <a:chOff x="525600" y="3780000"/>
              <a:chExt cx="3754440" cy="590040"/>
            </a:xfrm>
          </p:grpSpPr>
          <p:sp>
            <p:nvSpPr>
              <p:cNvPr id="493" name=""/>
              <p:cNvSpPr/>
              <p:nvPr/>
            </p:nvSpPr>
            <p:spPr>
              <a:xfrm flipV="1">
                <a:off x="3956760" y="4044600"/>
                <a:ext cx="321840" cy="3211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V="1">
                <a:off x="2839320" y="3871800"/>
                <a:ext cx="320400" cy="320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V="1">
                <a:off x="2243880" y="3784680"/>
                <a:ext cx="316080" cy="315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240640" y="4100760"/>
                <a:ext cx="1716120" cy="269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H="1" flipV="1">
                <a:off x="2565000" y="3782160"/>
                <a:ext cx="267840" cy="413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H="1" flipV="1">
                <a:off x="3731400" y="3960720"/>
                <a:ext cx="228240" cy="407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V="1">
                <a:off x="3408120" y="4045320"/>
                <a:ext cx="866160" cy="238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H="1" flipV="1">
                <a:off x="3160800" y="3873960"/>
                <a:ext cx="248400" cy="413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H="1">
                <a:off x="2832840" y="3960000"/>
                <a:ext cx="896400" cy="2361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H="1">
                <a:off x="2242440" y="3872520"/>
                <a:ext cx="919440" cy="228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569680" y="3780720"/>
                <a:ext cx="1710360" cy="264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V="1">
                <a:off x="3409560" y="3960000"/>
                <a:ext cx="320400" cy="321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V="1">
                <a:off x="1652760" y="3868920"/>
                <a:ext cx="320400" cy="322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V="1">
                <a:off x="1101600" y="3952800"/>
                <a:ext cx="322920" cy="325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V="1">
                <a:off x="535320" y="4100760"/>
                <a:ext cx="1704960" cy="2664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V="1">
                <a:off x="851400" y="3780720"/>
                <a:ext cx="1722240" cy="262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H="1">
                <a:off x="1650240" y="3780000"/>
                <a:ext cx="917280" cy="413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H="1" flipV="1">
                <a:off x="1970640" y="3872160"/>
                <a:ext cx="268560" cy="228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H="1" flipV="1">
                <a:off x="1422000" y="3952800"/>
                <a:ext cx="227520" cy="239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H="1">
                <a:off x="1104120" y="3876840"/>
                <a:ext cx="859680" cy="403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 flipV="1">
                <a:off x="852120" y="4042440"/>
                <a:ext cx="246600" cy="235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H="1">
                <a:off x="529200" y="3955680"/>
                <a:ext cx="889920" cy="413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V="1">
                <a:off x="525600" y="4044240"/>
                <a:ext cx="325800" cy="325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6924600" y="157320"/>
            <a:ext cx="84780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0" name=""/>
          <p:cNvSpPr/>
          <p:nvPr/>
        </p:nvSpPr>
        <p:spPr>
          <a:xfrm>
            <a:off x="7227720" y="5073480"/>
            <a:ext cx="749520" cy="34632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721" h="21600">
                <a:moveTo>
                  <a:pt x="0" y="0"/>
                </a:moveTo>
                <a:lnTo>
                  <a:pt x="46721" y="0"/>
                </a:lnTo>
                <a:lnTo>
                  <a:pt x="46721" y="21600"/>
                </a:lnTo>
                <a:lnTo>
                  <a:pt x="0" y="21600"/>
                </a:lnTo>
                <a:close/>
              </a:path>
              <a:path fill="lightenLess" w="46721" h="21600">
                <a:moveTo>
                  <a:pt x="0" y="0"/>
                </a:moveTo>
                <a:lnTo>
                  <a:pt x="46721" y="0"/>
                </a:lnTo>
                <a:lnTo>
                  <a:pt x="45322" y="1400"/>
                </a:lnTo>
                <a:lnTo>
                  <a:pt x="1400" y="1400"/>
                </a:lnTo>
                <a:close/>
              </a:path>
              <a:path fill="darken" w="46721" h="21600">
                <a:moveTo>
                  <a:pt x="46721" y="0"/>
                </a:moveTo>
                <a:lnTo>
                  <a:pt x="46721" y="21600"/>
                </a:lnTo>
                <a:lnTo>
                  <a:pt x="45322" y="20200"/>
                </a:lnTo>
                <a:lnTo>
                  <a:pt x="45322" y="1400"/>
                </a:lnTo>
                <a:close/>
              </a:path>
              <a:path fill="darkenLess" w="46721" h="21600">
                <a:moveTo>
                  <a:pt x="4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22" y="20200"/>
                </a:lnTo>
                <a:close/>
              </a:path>
              <a:path fill="lighten" w="4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1" name=""/>
          <p:cNvSpPr/>
          <p:nvPr/>
        </p:nvSpPr>
        <p:spPr>
          <a:xfrm>
            <a:off x="7256520" y="513864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2" name=""/>
          <p:cNvSpPr/>
          <p:nvPr/>
        </p:nvSpPr>
        <p:spPr>
          <a:xfrm>
            <a:off x="7227720" y="551016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3" name=""/>
          <p:cNvSpPr/>
          <p:nvPr/>
        </p:nvSpPr>
        <p:spPr>
          <a:xfrm>
            <a:off x="7256520" y="557532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4" name=""/>
          <p:cNvSpPr/>
          <p:nvPr/>
        </p:nvSpPr>
        <p:spPr>
          <a:xfrm>
            <a:off x="8177040" y="5073480"/>
            <a:ext cx="749520" cy="34632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721" h="21600">
                <a:moveTo>
                  <a:pt x="0" y="0"/>
                </a:moveTo>
                <a:lnTo>
                  <a:pt x="46721" y="0"/>
                </a:lnTo>
                <a:lnTo>
                  <a:pt x="46721" y="21600"/>
                </a:lnTo>
                <a:lnTo>
                  <a:pt x="0" y="21600"/>
                </a:lnTo>
                <a:close/>
              </a:path>
              <a:path fill="lightenLess" w="46721" h="21600">
                <a:moveTo>
                  <a:pt x="0" y="0"/>
                </a:moveTo>
                <a:lnTo>
                  <a:pt x="46721" y="0"/>
                </a:lnTo>
                <a:lnTo>
                  <a:pt x="45322" y="1400"/>
                </a:lnTo>
                <a:lnTo>
                  <a:pt x="1400" y="1400"/>
                </a:lnTo>
                <a:close/>
              </a:path>
              <a:path fill="darken" w="46721" h="21600">
                <a:moveTo>
                  <a:pt x="46721" y="0"/>
                </a:moveTo>
                <a:lnTo>
                  <a:pt x="46721" y="21600"/>
                </a:lnTo>
                <a:lnTo>
                  <a:pt x="45322" y="20200"/>
                </a:lnTo>
                <a:lnTo>
                  <a:pt x="45322" y="1400"/>
                </a:lnTo>
                <a:close/>
              </a:path>
              <a:path fill="darkenLess" w="46721" h="21600">
                <a:moveTo>
                  <a:pt x="4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22" y="20200"/>
                </a:lnTo>
                <a:close/>
              </a:path>
              <a:path fill="lighten" w="4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5" name=""/>
          <p:cNvSpPr/>
          <p:nvPr/>
        </p:nvSpPr>
        <p:spPr>
          <a:xfrm>
            <a:off x="8205840" y="513864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6" name=""/>
          <p:cNvSpPr/>
          <p:nvPr/>
        </p:nvSpPr>
        <p:spPr>
          <a:xfrm>
            <a:off x="8177040" y="551016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7" name="">
            <a:hlinkClick r:id="" action="ppaction://hlinkshowjump?jump=nextslide"/>
          </p:cNvPr>
          <p:cNvSpPr/>
          <p:nvPr/>
        </p:nvSpPr>
        <p:spPr>
          <a:xfrm>
            <a:off x="8205840" y="557532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8" name=""/>
          <p:cNvSpPr/>
          <p:nvPr/>
        </p:nvSpPr>
        <p:spPr>
          <a:xfrm>
            <a:off x="7142040" y="5959440"/>
            <a:ext cx="185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9" name=""/>
          <p:cNvSpPr/>
          <p:nvPr/>
        </p:nvSpPr>
        <p:spPr>
          <a:xfrm>
            <a:off x="7227720" y="464040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0" name=""/>
          <p:cNvSpPr/>
          <p:nvPr/>
        </p:nvSpPr>
        <p:spPr>
          <a:xfrm>
            <a:off x="7256520" y="470520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1" name=""/>
          <p:cNvSpPr/>
          <p:nvPr/>
        </p:nvSpPr>
        <p:spPr>
          <a:xfrm>
            <a:off x="8177040" y="464040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2" name=""/>
          <p:cNvSpPr/>
          <p:nvPr/>
        </p:nvSpPr>
        <p:spPr>
          <a:xfrm>
            <a:off x="8205840" y="470520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3" name=""/>
          <p:cNvSpPr/>
          <p:nvPr/>
        </p:nvSpPr>
        <p:spPr>
          <a:xfrm>
            <a:off x="7227720" y="413244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4" name=""/>
          <p:cNvSpPr/>
          <p:nvPr/>
        </p:nvSpPr>
        <p:spPr>
          <a:xfrm>
            <a:off x="7256520" y="419724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5" name=""/>
          <p:cNvSpPr/>
          <p:nvPr/>
        </p:nvSpPr>
        <p:spPr>
          <a:xfrm>
            <a:off x="8177040" y="413244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6" name=""/>
          <p:cNvSpPr/>
          <p:nvPr/>
        </p:nvSpPr>
        <p:spPr>
          <a:xfrm>
            <a:off x="8205840" y="419724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7" name=""/>
          <p:cNvSpPr/>
          <p:nvPr/>
        </p:nvSpPr>
        <p:spPr>
          <a:xfrm>
            <a:off x="7227720" y="362916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8" name=""/>
          <p:cNvSpPr/>
          <p:nvPr/>
        </p:nvSpPr>
        <p:spPr>
          <a:xfrm>
            <a:off x="7256520" y="369396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9" name="">
            <a:hlinkClick r:id="rId1" action="ppaction://hlinksldjump"/>
          </p:cNvPr>
          <p:cNvSpPr/>
          <p:nvPr/>
        </p:nvSpPr>
        <p:spPr>
          <a:xfrm>
            <a:off x="8177040" y="362916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0" name=""/>
          <p:cNvSpPr/>
          <p:nvPr/>
        </p:nvSpPr>
        <p:spPr>
          <a:xfrm>
            <a:off x="8205840" y="369396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1" name=""/>
          <p:cNvSpPr/>
          <p:nvPr/>
        </p:nvSpPr>
        <p:spPr>
          <a:xfrm>
            <a:off x="7227720" y="319572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2" name=""/>
          <p:cNvSpPr/>
          <p:nvPr/>
        </p:nvSpPr>
        <p:spPr>
          <a:xfrm>
            <a:off x="7256520" y="3260880"/>
            <a:ext cx="693720" cy="2156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3" name="">
            <a:hlinkClick r:id="rId2" action="ppaction://hlinksldjump"/>
          </p:cNvPr>
          <p:cNvSpPr/>
          <p:nvPr/>
        </p:nvSpPr>
        <p:spPr>
          <a:xfrm>
            <a:off x="8177040" y="319572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4" name=""/>
          <p:cNvSpPr/>
          <p:nvPr/>
        </p:nvSpPr>
        <p:spPr>
          <a:xfrm>
            <a:off x="8205840" y="3260880"/>
            <a:ext cx="693720" cy="2156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5" name=""/>
          <p:cNvSpPr/>
          <p:nvPr/>
        </p:nvSpPr>
        <p:spPr>
          <a:xfrm>
            <a:off x="179280" y="352440"/>
            <a:ext cx="87537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ncernant l’action du vent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6" name=""/>
          <p:cNvSpPr/>
          <p:nvPr/>
        </p:nvSpPr>
        <p:spPr>
          <a:xfrm>
            <a:off x="101520" y="4629240"/>
            <a:ext cx="7043760" cy="361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 vent est très souvent une action déterminante pour les halls industri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7" name=""/>
          <p:cNvSpPr/>
          <p:nvPr/>
        </p:nvSpPr>
        <p:spPr>
          <a:xfrm>
            <a:off x="101520" y="5062680"/>
            <a:ext cx="7043760" cy="3632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 vent doit toujours être combiné avec la nei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8" name=""/>
          <p:cNvSpPr/>
          <p:nvPr/>
        </p:nvSpPr>
        <p:spPr>
          <a:xfrm>
            <a:off x="101520" y="5499000"/>
            <a:ext cx="7043760" cy="363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 vent ne doit jamais être combiné avec la tempéra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9" name=""/>
          <p:cNvSpPr/>
          <p:nvPr/>
        </p:nvSpPr>
        <p:spPr>
          <a:xfrm>
            <a:off x="101520" y="3619440"/>
            <a:ext cx="7043760" cy="358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 vent apparaît sur toutes les parois en même tem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0" name=""/>
          <p:cNvSpPr/>
          <p:nvPr/>
        </p:nvSpPr>
        <p:spPr>
          <a:xfrm>
            <a:off x="101520" y="4021200"/>
            <a:ext cx="7043760" cy="555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 vent crée en même temps une pression sur une paroi et une dépression sur la paroi opposé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1" name=""/>
          <p:cNvSpPr/>
          <p:nvPr/>
        </p:nvSpPr>
        <p:spPr>
          <a:xfrm>
            <a:off x="101520" y="3186000"/>
            <a:ext cx="7043760" cy="3621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 calcul est mené paroi par paroi et non pas sur le bâtiment dans son ensem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2" name=""/>
          <p:cNvGrpSpPr/>
          <p:nvPr/>
        </p:nvGrpSpPr>
        <p:grpSpPr>
          <a:xfrm>
            <a:off x="5894280" y="1071720"/>
            <a:ext cx="2893680" cy="1879560"/>
            <a:chOff x="5894280" y="1071720"/>
            <a:chExt cx="2893680" cy="1879560"/>
          </a:xfrm>
        </p:grpSpPr>
        <p:grpSp>
          <p:nvGrpSpPr>
            <p:cNvPr id="5463" name=""/>
            <p:cNvGrpSpPr/>
            <p:nvPr/>
          </p:nvGrpSpPr>
          <p:grpSpPr>
            <a:xfrm>
              <a:off x="5894280" y="1844640"/>
              <a:ext cx="2893680" cy="1106640"/>
              <a:chOff x="5894280" y="1844640"/>
              <a:chExt cx="2893680" cy="1106640"/>
            </a:xfrm>
          </p:grpSpPr>
          <p:grpSp>
            <p:nvGrpSpPr>
              <p:cNvPr id="5464" name=""/>
              <p:cNvGrpSpPr/>
              <p:nvPr/>
            </p:nvGrpSpPr>
            <p:grpSpPr>
              <a:xfrm>
                <a:off x="6068160" y="2036520"/>
                <a:ext cx="759600" cy="749520"/>
                <a:chOff x="6068160" y="2036520"/>
                <a:chExt cx="759600" cy="749520"/>
              </a:xfrm>
            </p:grpSpPr>
            <p:sp>
              <p:nvSpPr>
                <p:cNvPr id="5465" name=""/>
                <p:cNvSpPr/>
                <p:nvPr/>
              </p:nvSpPr>
              <p:spPr>
                <a:xfrm>
                  <a:off x="6744600" y="2036520"/>
                  <a:ext cx="83160" cy="83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6" name=""/>
                <p:cNvSpPr/>
                <p:nvPr/>
              </p:nvSpPr>
              <p:spPr>
                <a:xfrm>
                  <a:off x="6571800" y="2193840"/>
                  <a:ext cx="83160" cy="83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7" name=""/>
                <p:cNvSpPr/>
                <p:nvPr/>
              </p:nvSpPr>
              <p:spPr>
                <a:xfrm>
                  <a:off x="6406560" y="2356920"/>
                  <a:ext cx="83160" cy="83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8" name=""/>
                <p:cNvSpPr/>
                <p:nvPr/>
              </p:nvSpPr>
              <p:spPr>
                <a:xfrm>
                  <a:off x="6235920" y="2526480"/>
                  <a:ext cx="83520" cy="83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9" name=""/>
                <p:cNvSpPr/>
                <p:nvPr/>
              </p:nvSpPr>
              <p:spPr>
                <a:xfrm>
                  <a:off x="6068160" y="2702880"/>
                  <a:ext cx="83160" cy="83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70" name=""/>
              <p:cNvGrpSpPr/>
              <p:nvPr/>
            </p:nvGrpSpPr>
            <p:grpSpPr>
              <a:xfrm>
                <a:off x="7870320" y="2023200"/>
                <a:ext cx="747720" cy="757800"/>
                <a:chOff x="7870320" y="2023200"/>
                <a:chExt cx="747720" cy="757800"/>
              </a:xfrm>
            </p:grpSpPr>
            <p:sp>
              <p:nvSpPr>
                <p:cNvPr id="5471" name=""/>
                <p:cNvSpPr/>
                <p:nvPr/>
              </p:nvSpPr>
              <p:spPr>
                <a:xfrm>
                  <a:off x="8534880" y="2023200"/>
                  <a:ext cx="83160" cy="83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2" name=""/>
                <p:cNvSpPr/>
                <p:nvPr/>
              </p:nvSpPr>
              <p:spPr>
                <a:xfrm>
                  <a:off x="8367840" y="2188800"/>
                  <a:ext cx="83520" cy="83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3" name=""/>
                <p:cNvSpPr/>
                <p:nvPr/>
              </p:nvSpPr>
              <p:spPr>
                <a:xfrm>
                  <a:off x="8202600" y="2351520"/>
                  <a:ext cx="83160" cy="83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4" name=""/>
                <p:cNvSpPr/>
                <p:nvPr/>
              </p:nvSpPr>
              <p:spPr>
                <a:xfrm>
                  <a:off x="8028000" y="2521080"/>
                  <a:ext cx="85320" cy="83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5" name=""/>
                <p:cNvSpPr/>
                <p:nvPr/>
              </p:nvSpPr>
              <p:spPr>
                <a:xfrm>
                  <a:off x="7870320" y="2697840"/>
                  <a:ext cx="83160" cy="83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76" name=""/>
              <p:cNvGrpSpPr/>
              <p:nvPr/>
            </p:nvGrpSpPr>
            <p:grpSpPr>
              <a:xfrm>
                <a:off x="6904800" y="1844640"/>
                <a:ext cx="1883160" cy="85320"/>
                <a:chOff x="6904800" y="1844640"/>
                <a:chExt cx="1883160" cy="85320"/>
              </a:xfrm>
            </p:grpSpPr>
            <p:sp>
              <p:nvSpPr>
                <p:cNvPr id="5477" name=""/>
                <p:cNvSpPr/>
                <p:nvPr/>
              </p:nvSpPr>
              <p:spPr>
                <a:xfrm>
                  <a:off x="8704800" y="1846800"/>
                  <a:ext cx="83160" cy="83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8" name=""/>
                <p:cNvSpPr/>
                <p:nvPr/>
              </p:nvSpPr>
              <p:spPr>
                <a:xfrm>
                  <a:off x="6904800" y="1844640"/>
                  <a:ext cx="83520" cy="83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9" name=""/>
                <p:cNvSpPr/>
                <p:nvPr/>
              </p:nvSpPr>
              <p:spPr>
                <a:xfrm>
                  <a:off x="8116560" y="1844640"/>
                  <a:ext cx="83520" cy="83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0" name=""/>
                <p:cNvSpPr/>
                <p:nvPr/>
              </p:nvSpPr>
              <p:spPr>
                <a:xfrm>
                  <a:off x="7209000" y="1844640"/>
                  <a:ext cx="83160" cy="83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1" name=""/>
                <p:cNvSpPr/>
                <p:nvPr/>
              </p:nvSpPr>
              <p:spPr>
                <a:xfrm>
                  <a:off x="7491240" y="1844640"/>
                  <a:ext cx="83160" cy="83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2" name=""/>
                <p:cNvSpPr/>
                <p:nvPr/>
              </p:nvSpPr>
              <p:spPr>
                <a:xfrm>
                  <a:off x="7791480" y="1844640"/>
                  <a:ext cx="83160" cy="83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3" name=""/>
                <p:cNvSpPr/>
                <p:nvPr/>
              </p:nvSpPr>
              <p:spPr>
                <a:xfrm>
                  <a:off x="8417880" y="1844640"/>
                  <a:ext cx="83160" cy="83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84" name=""/>
              <p:cNvGrpSpPr/>
              <p:nvPr/>
            </p:nvGrpSpPr>
            <p:grpSpPr>
              <a:xfrm>
                <a:off x="5894280" y="2867760"/>
                <a:ext cx="1879200" cy="83520"/>
                <a:chOff x="5894280" y="2867760"/>
                <a:chExt cx="1879200" cy="83520"/>
              </a:xfrm>
            </p:grpSpPr>
            <p:sp>
              <p:nvSpPr>
                <p:cNvPr id="5485" name=""/>
                <p:cNvSpPr/>
                <p:nvPr/>
              </p:nvSpPr>
              <p:spPr>
                <a:xfrm>
                  <a:off x="7689960" y="2867760"/>
                  <a:ext cx="83520" cy="83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6" name=""/>
                <p:cNvSpPr/>
                <p:nvPr/>
              </p:nvSpPr>
              <p:spPr>
                <a:xfrm>
                  <a:off x="5894280" y="2867760"/>
                  <a:ext cx="83160" cy="83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7" name=""/>
                <p:cNvSpPr/>
                <p:nvPr/>
              </p:nvSpPr>
              <p:spPr>
                <a:xfrm>
                  <a:off x="6196320" y="2867760"/>
                  <a:ext cx="83160" cy="83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8" name=""/>
                <p:cNvSpPr/>
                <p:nvPr/>
              </p:nvSpPr>
              <p:spPr>
                <a:xfrm>
                  <a:off x="6484320" y="2867760"/>
                  <a:ext cx="83160" cy="83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9" name=""/>
                <p:cNvSpPr/>
                <p:nvPr/>
              </p:nvSpPr>
              <p:spPr>
                <a:xfrm>
                  <a:off x="7108920" y="2867760"/>
                  <a:ext cx="83160" cy="83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0" name=""/>
                <p:cNvSpPr/>
                <p:nvPr/>
              </p:nvSpPr>
              <p:spPr>
                <a:xfrm>
                  <a:off x="7396920" y="2867760"/>
                  <a:ext cx="83160" cy="83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491" name=""/>
            <p:cNvSpPr/>
            <p:nvPr/>
          </p:nvSpPr>
          <p:spPr>
            <a:xfrm rot="18860400">
              <a:off x="6585840" y="2543760"/>
              <a:ext cx="507960" cy="252360"/>
            </a:xfrm>
            <a:custGeom>
              <a:avLst/>
              <a:gdLst>
                <a:gd name="textAreaLeft" fmla="*/ 63360 w 507960"/>
                <a:gd name="textAreaRight" fmla="*/ 444600 w 507960"/>
                <a:gd name="textAreaTop" fmla="*/ 63000 h 252360"/>
                <a:gd name="textAreaBottom" fmla="*/ 189360 h 25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92" name=""/>
            <p:cNvGrpSpPr/>
            <p:nvPr/>
          </p:nvGrpSpPr>
          <p:grpSpPr>
            <a:xfrm>
              <a:off x="5943600" y="1219320"/>
              <a:ext cx="2819520" cy="1632960"/>
              <a:chOff x="5943600" y="1219320"/>
              <a:chExt cx="2819520" cy="1632960"/>
            </a:xfrm>
          </p:grpSpPr>
          <p:grpSp>
            <p:nvGrpSpPr>
              <p:cNvPr id="5493" name=""/>
              <p:cNvGrpSpPr/>
              <p:nvPr/>
            </p:nvGrpSpPr>
            <p:grpSpPr>
              <a:xfrm>
                <a:off x="6949800" y="1219320"/>
                <a:ext cx="1813320" cy="611280"/>
                <a:chOff x="6949800" y="1219320"/>
                <a:chExt cx="1813320" cy="611280"/>
              </a:xfrm>
            </p:grpSpPr>
            <p:sp>
              <p:nvSpPr>
                <p:cNvPr id="5494" name=""/>
                <p:cNvSpPr/>
                <p:nvPr/>
              </p:nvSpPr>
              <p:spPr>
                <a:xfrm>
                  <a:off x="6968160" y="1219320"/>
                  <a:ext cx="17949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5" name=""/>
                <p:cNvSpPr/>
                <p:nvPr/>
              </p:nvSpPr>
              <p:spPr>
                <a:xfrm>
                  <a:off x="6963120" y="1397880"/>
                  <a:ext cx="17949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6" name=""/>
                <p:cNvSpPr/>
                <p:nvPr/>
              </p:nvSpPr>
              <p:spPr>
                <a:xfrm>
                  <a:off x="6956640" y="1691640"/>
                  <a:ext cx="18036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7" name=""/>
                <p:cNvSpPr/>
                <p:nvPr/>
              </p:nvSpPr>
              <p:spPr>
                <a:xfrm>
                  <a:off x="6963840" y="1544760"/>
                  <a:ext cx="17964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8" name=""/>
                <p:cNvSpPr/>
                <p:nvPr/>
              </p:nvSpPr>
              <p:spPr>
                <a:xfrm>
                  <a:off x="6949800" y="1830600"/>
                  <a:ext cx="17949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99" name=""/>
              <p:cNvGrpSpPr/>
              <p:nvPr/>
            </p:nvGrpSpPr>
            <p:grpSpPr>
              <a:xfrm>
                <a:off x="5943600" y="2231280"/>
                <a:ext cx="1803960" cy="621000"/>
                <a:chOff x="5943600" y="2231280"/>
                <a:chExt cx="1803960" cy="621000"/>
              </a:xfrm>
            </p:grpSpPr>
            <p:sp>
              <p:nvSpPr>
                <p:cNvPr id="5500" name=""/>
                <p:cNvSpPr/>
                <p:nvPr/>
              </p:nvSpPr>
              <p:spPr>
                <a:xfrm>
                  <a:off x="7158960" y="2852280"/>
                  <a:ext cx="5842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1" name=""/>
                <p:cNvSpPr/>
                <p:nvPr/>
              </p:nvSpPr>
              <p:spPr>
                <a:xfrm>
                  <a:off x="5952960" y="2231280"/>
                  <a:ext cx="17946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2" name=""/>
                <p:cNvSpPr/>
                <p:nvPr/>
              </p:nvSpPr>
              <p:spPr>
                <a:xfrm>
                  <a:off x="5948280" y="2409840"/>
                  <a:ext cx="17946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3" name=""/>
                <p:cNvSpPr/>
                <p:nvPr/>
              </p:nvSpPr>
              <p:spPr>
                <a:xfrm>
                  <a:off x="7155720" y="2703600"/>
                  <a:ext cx="5889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4" name=""/>
                <p:cNvSpPr/>
                <p:nvPr/>
              </p:nvSpPr>
              <p:spPr>
                <a:xfrm>
                  <a:off x="5943600" y="2556720"/>
                  <a:ext cx="5911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5" name=""/>
                <p:cNvSpPr/>
                <p:nvPr/>
              </p:nvSpPr>
              <p:spPr>
                <a:xfrm>
                  <a:off x="7155720" y="2556720"/>
                  <a:ext cx="5889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6" name=""/>
                <p:cNvSpPr/>
                <p:nvPr/>
              </p:nvSpPr>
              <p:spPr>
                <a:xfrm>
                  <a:off x="5948280" y="2703600"/>
                  <a:ext cx="5911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7" name=""/>
                <p:cNvSpPr/>
                <p:nvPr/>
              </p:nvSpPr>
              <p:spPr>
                <a:xfrm>
                  <a:off x="5948280" y="2848680"/>
                  <a:ext cx="5842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508" name=""/>
            <p:cNvGrpSpPr/>
            <p:nvPr/>
          </p:nvGrpSpPr>
          <p:grpSpPr>
            <a:xfrm>
              <a:off x="5942160" y="1071720"/>
              <a:ext cx="2814480" cy="1777320"/>
              <a:chOff x="5942160" y="1071720"/>
              <a:chExt cx="2814480" cy="1777320"/>
            </a:xfrm>
          </p:grpSpPr>
          <p:sp>
            <p:nvSpPr>
              <p:cNvPr id="5509" name=""/>
              <p:cNvSpPr/>
              <p:nvPr/>
            </p:nvSpPr>
            <p:spPr>
              <a:xfrm>
                <a:off x="6846480" y="2098440"/>
                <a:ext cx="0" cy="309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10" name=""/>
              <p:cNvGrpSpPr/>
              <p:nvPr/>
            </p:nvGrpSpPr>
            <p:grpSpPr>
              <a:xfrm>
                <a:off x="5942160" y="1071720"/>
                <a:ext cx="2814480" cy="1777320"/>
                <a:chOff x="5942160" y="1071720"/>
                <a:chExt cx="2814480" cy="1777320"/>
              </a:xfrm>
            </p:grpSpPr>
            <p:grpSp>
              <p:nvGrpSpPr>
                <p:cNvPr id="5511" name=""/>
                <p:cNvGrpSpPr/>
                <p:nvPr/>
              </p:nvGrpSpPr>
              <p:grpSpPr>
                <a:xfrm>
                  <a:off x="6960960" y="1071720"/>
                  <a:ext cx="1795680" cy="757080"/>
                  <a:chOff x="6960960" y="1071720"/>
                  <a:chExt cx="1795680" cy="757080"/>
                </a:xfrm>
              </p:grpSpPr>
              <p:sp>
                <p:nvSpPr>
                  <p:cNvPr id="5512" name=""/>
                  <p:cNvSpPr/>
                  <p:nvPr/>
                </p:nvSpPr>
                <p:spPr>
                  <a:xfrm>
                    <a:off x="8469360" y="1165320"/>
                    <a:ext cx="0" cy="6634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3" name=""/>
                  <p:cNvSpPr/>
                  <p:nvPr/>
                </p:nvSpPr>
                <p:spPr>
                  <a:xfrm>
                    <a:off x="8756640" y="1215360"/>
                    <a:ext cx="0" cy="613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4" name=""/>
                  <p:cNvSpPr/>
                  <p:nvPr/>
                </p:nvSpPr>
                <p:spPr>
                  <a:xfrm>
                    <a:off x="8169480" y="1126080"/>
                    <a:ext cx="0" cy="702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5" name=""/>
                  <p:cNvSpPr/>
                  <p:nvPr/>
                </p:nvSpPr>
                <p:spPr>
                  <a:xfrm>
                    <a:off x="7859520" y="1071720"/>
                    <a:ext cx="0" cy="757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6" name=""/>
                  <p:cNvSpPr/>
                  <p:nvPr/>
                </p:nvSpPr>
                <p:spPr>
                  <a:xfrm>
                    <a:off x="7547760" y="1119240"/>
                    <a:ext cx="0" cy="709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7" name=""/>
                  <p:cNvSpPr/>
                  <p:nvPr/>
                </p:nvSpPr>
                <p:spPr>
                  <a:xfrm>
                    <a:off x="6960960" y="1212480"/>
                    <a:ext cx="0" cy="6163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8" name=""/>
                  <p:cNvSpPr/>
                  <p:nvPr/>
                </p:nvSpPr>
                <p:spPr>
                  <a:xfrm>
                    <a:off x="7261200" y="1170360"/>
                    <a:ext cx="0" cy="658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519" name=""/>
                <p:cNvGrpSpPr/>
                <p:nvPr/>
              </p:nvGrpSpPr>
              <p:grpSpPr>
                <a:xfrm>
                  <a:off x="5942160" y="2136960"/>
                  <a:ext cx="1801800" cy="712080"/>
                  <a:chOff x="5942160" y="2136960"/>
                  <a:chExt cx="1801800" cy="712080"/>
                </a:xfrm>
              </p:grpSpPr>
              <p:sp>
                <p:nvSpPr>
                  <p:cNvPr id="5520" name=""/>
                  <p:cNvSpPr/>
                  <p:nvPr/>
                </p:nvSpPr>
                <p:spPr>
                  <a:xfrm>
                    <a:off x="7456680" y="2183040"/>
                    <a:ext cx="0" cy="666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1" name=""/>
                  <p:cNvSpPr/>
                  <p:nvPr/>
                </p:nvSpPr>
                <p:spPr>
                  <a:xfrm>
                    <a:off x="7743960" y="2229840"/>
                    <a:ext cx="0" cy="613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2" name=""/>
                  <p:cNvSpPr/>
                  <p:nvPr/>
                </p:nvSpPr>
                <p:spPr>
                  <a:xfrm>
                    <a:off x="7156800" y="2140560"/>
                    <a:ext cx="0" cy="7052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3" name=""/>
                  <p:cNvSpPr/>
                  <p:nvPr/>
                </p:nvSpPr>
                <p:spPr>
                  <a:xfrm>
                    <a:off x="6535080" y="2136960"/>
                    <a:ext cx="0" cy="709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4" name=""/>
                  <p:cNvSpPr/>
                  <p:nvPr/>
                </p:nvSpPr>
                <p:spPr>
                  <a:xfrm flipH="1">
                    <a:off x="5942160" y="2226960"/>
                    <a:ext cx="5760" cy="62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5" name=""/>
                  <p:cNvSpPr/>
                  <p:nvPr/>
                </p:nvSpPr>
                <p:spPr>
                  <a:xfrm>
                    <a:off x="6248520" y="2187720"/>
                    <a:ext cx="0" cy="658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5526" name=""/>
            <p:cNvGrpSpPr/>
            <p:nvPr/>
          </p:nvGrpSpPr>
          <p:grpSpPr>
            <a:xfrm>
              <a:off x="5941800" y="1207800"/>
              <a:ext cx="2814840" cy="1646280"/>
              <a:chOff x="5941800" y="1207800"/>
              <a:chExt cx="2814840" cy="1646280"/>
            </a:xfrm>
          </p:grpSpPr>
          <p:grpSp>
            <p:nvGrpSpPr>
              <p:cNvPr id="5527" name=""/>
              <p:cNvGrpSpPr/>
              <p:nvPr/>
            </p:nvGrpSpPr>
            <p:grpSpPr>
              <a:xfrm>
                <a:off x="7737480" y="2053800"/>
                <a:ext cx="172800" cy="794160"/>
                <a:chOff x="7737480" y="2053800"/>
                <a:chExt cx="172800" cy="794160"/>
              </a:xfrm>
            </p:grpSpPr>
            <p:sp>
              <p:nvSpPr>
                <p:cNvPr id="5528" name=""/>
                <p:cNvSpPr/>
                <p:nvPr/>
              </p:nvSpPr>
              <p:spPr>
                <a:xfrm flipV="1">
                  <a:off x="7740720" y="2385360"/>
                  <a:ext cx="169200" cy="462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9" name=""/>
                <p:cNvSpPr/>
                <p:nvPr/>
              </p:nvSpPr>
              <p:spPr>
                <a:xfrm flipH="1" flipV="1">
                  <a:off x="7737480" y="2222640"/>
                  <a:ext cx="172440" cy="162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0" name=""/>
                <p:cNvSpPr/>
                <p:nvPr/>
              </p:nvSpPr>
              <p:spPr>
                <a:xfrm flipH="1" flipV="1">
                  <a:off x="7740720" y="2545920"/>
                  <a:ext cx="169200" cy="133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1" name=""/>
                <p:cNvSpPr/>
                <p:nvPr/>
              </p:nvSpPr>
              <p:spPr>
                <a:xfrm flipV="1">
                  <a:off x="7740720" y="2056680"/>
                  <a:ext cx="169200" cy="490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2" name=""/>
                <p:cNvSpPr/>
                <p:nvPr/>
              </p:nvSpPr>
              <p:spPr>
                <a:xfrm flipV="1">
                  <a:off x="7737840" y="2053800"/>
                  <a:ext cx="166320" cy="165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3" name=""/>
                <p:cNvSpPr/>
                <p:nvPr/>
              </p:nvSpPr>
              <p:spPr>
                <a:xfrm>
                  <a:off x="7741080" y="2223360"/>
                  <a:ext cx="0" cy="622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4" name=""/>
                <p:cNvSpPr/>
                <p:nvPr/>
              </p:nvSpPr>
              <p:spPr>
                <a:xfrm flipV="1">
                  <a:off x="7741080" y="2383200"/>
                  <a:ext cx="166320" cy="165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5" name=""/>
                <p:cNvSpPr/>
                <p:nvPr/>
              </p:nvSpPr>
              <p:spPr>
                <a:xfrm>
                  <a:off x="7910280" y="2059920"/>
                  <a:ext cx="0" cy="622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36" name=""/>
              <p:cNvGrpSpPr/>
              <p:nvPr/>
            </p:nvGrpSpPr>
            <p:grpSpPr>
              <a:xfrm>
                <a:off x="5941800" y="2059920"/>
                <a:ext cx="172800" cy="794160"/>
                <a:chOff x="5941800" y="2059920"/>
                <a:chExt cx="172800" cy="794160"/>
              </a:xfrm>
            </p:grpSpPr>
            <p:sp>
              <p:nvSpPr>
                <p:cNvPr id="5537" name=""/>
                <p:cNvSpPr/>
                <p:nvPr/>
              </p:nvSpPr>
              <p:spPr>
                <a:xfrm flipV="1">
                  <a:off x="5945040" y="2391480"/>
                  <a:ext cx="169200" cy="462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8" name=""/>
                <p:cNvSpPr/>
                <p:nvPr/>
              </p:nvSpPr>
              <p:spPr>
                <a:xfrm flipH="1" flipV="1">
                  <a:off x="5941800" y="2228760"/>
                  <a:ext cx="172440" cy="162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9" name=""/>
                <p:cNvSpPr/>
                <p:nvPr/>
              </p:nvSpPr>
              <p:spPr>
                <a:xfrm flipH="1" flipV="1">
                  <a:off x="5945040" y="2552040"/>
                  <a:ext cx="169200" cy="133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0" name=""/>
                <p:cNvSpPr/>
                <p:nvPr/>
              </p:nvSpPr>
              <p:spPr>
                <a:xfrm flipV="1">
                  <a:off x="5945040" y="2062800"/>
                  <a:ext cx="169200" cy="490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1" name=""/>
                <p:cNvSpPr/>
                <p:nvPr/>
              </p:nvSpPr>
              <p:spPr>
                <a:xfrm flipV="1">
                  <a:off x="5942160" y="2059920"/>
                  <a:ext cx="166320" cy="165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2" name=""/>
                <p:cNvSpPr/>
                <p:nvPr/>
              </p:nvSpPr>
              <p:spPr>
                <a:xfrm>
                  <a:off x="5945400" y="2229480"/>
                  <a:ext cx="0" cy="622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3" name=""/>
                <p:cNvSpPr/>
                <p:nvPr/>
              </p:nvSpPr>
              <p:spPr>
                <a:xfrm flipV="1">
                  <a:off x="5945400" y="2389320"/>
                  <a:ext cx="166320" cy="165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4" name=""/>
                <p:cNvSpPr/>
                <p:nvPr/>
              </p:nvSpPr>
              <p:spPr>
                <a:xfrm>
                  <a:off x="6114600" y="2066040"/>
                  <a:ext cx="0" cy="622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5" name=""/>
              <p:cNvGrpSpPr/>
              <p:nvPr/>
            </p:nvGrpSpPr>
            <p:grpSpPr>
              <a:xfrm>
                <a:off x="8583840" y="1207800"/>
                <a:ext cx="172800" cy="794160"/>
                <a:chOff x="8583840" y="1207800"/>
                <a:chExt cx="172800" cy="794160"/>
              </a:xfrm>
            </p:grpSpPr>
            <p:sp>
              <p:nvSpPr>
                <p:cNvPr id="5546" name=""/>
                <p:cNvSpPr/>
                <p:nvPr/>
              </p:nvSpPr>
              <p:spPr>
                <a:xfrm flipV="1">
                  <a:off x="8587080" y="1539360"/>
                  <a:ext cx="169200" cy="462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7" name=""/>
                <p:cNvSpPr/>
                <p:nvPr/>
              </p:nvSpPr>
              <p:spPr>
                <a:xfrm flipH="1" flipV="1">
                  <a:off x="8583840" y="1376640"/>
                  <a:ext cx="172440" cy="162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8" name=""/>
                <p:cNvSpPr/>
                <p:nvPr/>
              </p:nvSpPr>
              <p:spPr>
                <a:xfrm flipH="1" flipV="1">
                  <a:off x="8587080" y="1699920"/>
                  <a:ext cx="169200" cy="133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9" name=""/>
                <p:cNvSpPr/>
                <p:nvPr/>
              </p:nvSpPr>
              <p:spPr>
                <a:xfrm flipV="1">
                  <a:off x="8587080" y="1210680"/>
                  <a:ext cx="169200" cy="490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0" name=""/>
                <p:cNvSpPr/>
                <p:nvPr/>
              </p:nvSpPr>
              <p:spPr>
                <a:xfrm flipV="1">
                  <a:off x="8584200" y="1207800"/>
                  <a:ext cx="166320" cy="165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1" name=""/>
                <p:cNvSpPr/>
                <p:nvPr/>
              </p:nvSpPr>
              <p:spPr>
                <a:xfrm>
                  <a:off x="8587440" y="1377360"/>
                  <a:ext cx="0" cy="622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2" name=""/>
                <p:cNvSpPr/>
                <p:nvPr/>
              </p:nvSpPr>
              <p:spPr>
                <a:xfrm flipV="1">
                  <a:off x="8587440" y="1537200"/>
                  <a:ext cx="166320" cy="165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3" name=""/>
                <p:cNvSpPr/>
                <p:nvPr/>
              </p:nvSpPr>
              <p:spPr>
                <a:xfrm>
                  <a:off x="8756640" y="1213920"/>
                  <a:ext cx="0" cy="622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54" name=""/>
              <p:cNvGrpSpPr/>
              <p:nvPr/>
            </p:nvGrpSpPr>
            <p:grpSpPr>
              <a:xfrm>
                <a:off x="6788160" y="1216800"/>
                <a:ext cx="172800" cy="794160"/>
                <a:chOff x="6788160" y="1216800"/>
                <a:chExt cx="172800" cy="794160"/>
              </a:xfrm>
            </p:grpSpPr>
            <p:sp>
              <p:nvSpPr>
                <p:cNvPr id="5555" name=""/>
                <p:cNvSpPr/>
                <p:nvPr/>
              </p:nvSpPr>
              <p:spPr>
                <a:xfrm flipV="1">
                  <a:off x="6791400" y="1548360"/>
                  <a:ext cx="169200" cy="462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6" name=""/>
                <p:cNvSpPr/>
                <p:nvPr/>
              </p:nvSpPr>
              <p:spPr>
                <a:xfrm flipH="1" flipV="1">
                  <a:off x="6788160" y="1385640"/>
                  <a:ext cx="172440" cy="162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7" name=""/>
                <p:cNvSpPr/>
                <p:nvPr/>
              </p:nvSpPr>
              <p:spPr>
                <a:xfrm flipH="1" flipV="1">
                  <a:off x="6791400" y="1708920"/>
                  <a:ext cx="169200" cy="133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8" name=""/>
                <p:cNvSpPr/>
                <p:nvPr/>
              </p:nvSpPr>
              <p:spPr>
                <a:xfrm flipV="1">
                  <a:off x="6791400" y="1219680"/>
                  <a:ext cx="169200" cy="490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9" name=""/>
                <p:cNvSpPr/>
                <p:nvPr/>
              </p:nvSpPr>
              <p:spPr>
                <a:xfrm flipV="1">
                  <a:off x="6788520" y="1216800"/>
                  <a:ext cx="166320" cy="165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0" name=""/>
                <p:cNvSpPr/>
                <p:nvPr/>
              </p:nvSpPr>
              <p:spPr>
                <a:xfrm>
                  <a:off x="6791760" y="1386360"/>
                  <a:ext cx="0" cy="622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1" name=""/>
                <p:cNvSpPr/>
                <p:nvPr/>
              </p:nvSpPr>
              <p:spPr>
                <a:xfrm flipV="1">
                  <a:off x="6791760" y="1546200"/>
                  <a:ext cx="166320" cy="165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2" name=""/>
                <p:cNvSpPr/>
                <p:nvPr/>
              </p:nvSpPr>
              <p:spPr>
                <a:xfrm>
                  <a:off x="6960960" y="1222920"/>
                  <a:ext cx="0" cy="622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563" name=""/>
            <p:cNvGrpSpPr/>
            <p:nvPr/>
          </p:nvGrpSpPr>
          <p:grpSpPr>
            <a:xfrm>
              <a:off x="6114960" y="1244160"/>
              <a:ext cx="2471760" cy="1435320"/>
              <a:chOff x="6114960" y="1244160"/>
              <a:chExt cx="2471760" cy="1435320"/>
            </a:xfrm>
          </p:grpSpPr>
          <p:grpSp>
            <p:nvGrpSpPr>
              <p:cNvPr id="5564" name=""/>
              <p:cNvGrpSpPr/>
              <p:nvPr/>
            </p:nvGrpSpPr>
            <p:grpSpPr>
              <a:xfrm>
                <a:off x="6114960" y="1920600"/>
                <a:ext cx="1794960" cy="758880"/>
                <a:chOff x="6114960" y="1920600"/>
                <a:chExt cx="1794960" cy="758880"/>
              </a:xfrm>
            </p:grpSpPr>
            <p:sp>
              <p:nvSpPr>
                <p:cNvPr id="5565" name=""/>
                <p:cNvSpPr/>
                <p:nvPr/>
              </p:nvSpPr>
              <p:spPr>
                <a:xfrm flipV="1">
                  <a:off x="6114960" y="2058480"/>
                  <a:ext cx="0" cy="621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6" name=""/>
                <p:cNvSpPr/>
                <p:nvPr/>
              </p:nvSpPr>
              <p:spPr>
                <a:xfrm flipV="1">
                  <a:off x="6114960" y="1920600"/>
                  <a:ext cx="897480" cy="137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7" name=""/>
                <p:cNvSpPr/>
                <p:nvPr/>
              </p:nvSpPr>
              <p:spPr>
                <a:xfrm flipV="1">
                  <a:off x="7909920" y="2058480"/>
                  <a:ext cx="0" cy="621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8" name=""/>
                <p:cNvSpPr/>
                <p:nvPr/>
              </p:nvSpPr>
              <p:spPr>
                <a:xfrm flipH="1" flipV="1">
                  <a:off x="7012080" y="1920600"/>
                  <a:ext cx="897480" cy="137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69" name=""/>
              <p:cNvGrpSpPr/>
              <p:nvPr/>
            </p:nvGrpSpPr>
            <p:grpSpPr>
              <a:xfrm>
                <a:off x="6284160" y="1751400"/>
                <a:ext cx="1794960" cy="758880"/>
                <a:chOff x="6284160" y="1751400"/>
                <a:chExt cx="1794960" cy="758880"/>
              </a:xfrm>
            </p:grpSpPr>
            <p:sp>
              <p:nvSpPr>
                <p:cNvPr id="5570" name=""/>
                <p:cNvSpPr/>
                <p:nvPr/>
              </p:nvSpPr>
              <p:spPr>
                <a:xfrm flipV="1">
                  <a:off x="6284160" y="1889280"/>
                  <a:ext cx="0" cy="621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1" name=""/>
                <p:cNvSpPr/>
                <p:nvPr/>
              </p:nvSpPr>
              <p:spPr>
                <a:xfrm flipV="1">
                  <a:off x="6284160" y="1751400"/>
                  <a:ext cx="897480" cy="137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2" name=""/>
                <p:cNvSpPr/>
                <p:nvPr/>
              </p:nvSpPr>
              <p:spPr>
                <a:xfrm flipV="1">
                  <a:off x="8079120" y="1889280"/>
                  <a:ext cx="0" cy="621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3" name=""/>
                <p:cNvSpPr/>
                <p:nvPr/>
              </p:nvSpPr>
              <p:spPr>
                <a:xfrm flipH="1" flipV="1">
                  <a:off x="7181280" y="1751400"/>
                  <a:ext cx="897480" cy="137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4" name=""/>
              <p:cNvGrpSpPr/>
              <p:nvPr/>
            </p:nvGrpSpPr>
            <p:grpSpPr>
              <a:xfrm>
                <a:off x="6453360" y="1582200"/>
                <a:ext cx="1794960" cy="758880"/>
                <a:chOff x="6453360" y="1582200"/>
                <a:chExt cx="1794960" cy="758880"/>
              </a:xfrm>
            </p:grpSpPr>
            <p:sp>
              <p:nvSpPr>
                <p:cNvPr id="5575" name=""/>
                <p:cNvSpPr/>
                <p:nvPr/>
              </p:nvSpPr>
              <p:spPr>
                <a:xfrm flipV="1">
                  <a:off x="6453360" y="1720080"/>
                  <a:ext cx="0" cy="621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6" name=""/>
                <p:cNvSpPr/>
                <p:nvPr/>
              </p:nvSpPr>
              <p:spPr>
                <a:xfrm flipV="1">
                  <a:off x="6453360" y="1582200"/>
                  <a:ext cx="897480" cy="137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7" name=""/>
                <p:cNvSpPr/>
                <p:nvPr/>
              </p:nvSpPr>
              <p:spPr>
                <a:xfrm flipV="1">
                  <a:off x="8248320" y="1720080"/>
                  <a:ext cx="0" cy="621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8" name=""/>
                <p:cNvSpPr/>
                <p:nvPr/>
              </p:nvSpPr>
              <p:spPr>
                <a:xfrm flipH="1" flipV="1">
                  <a:off x="7350480" y="1582200"/>
                  <a:ext cx="897480" cy="137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9" name=""/>
              <p:cNvGrpSpPr/>
              <p:nvPr/>
            </p:nvGrpSpPr>
            <p:grpSpPr>
              <a:xfrm>
                <a:off x="6622560" y="1413000"/>
                <a:ext cx="1794960" cy="758880"/>
                <a:chOff x="6622560" y="1413000"/>
                <a:chExt cx="1794960" cy="758880"/>
              </a:xfrm>
            </p:grpSpPr>
            <p:sp>
              <p:nvSpPr>
                <p:cNvPr id="5580" name=""/>
                <p:cNvSpPr/>
                <p:nvPr/>
              </p:nvSpPr>
              <p:spPr>
                <a:xfrm flipV="1">
                  <a:off x="6622560" y="1550880"/>
                  <a:ext cx="0" cy="621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1" name=""/>
                <p:cNvSpPr/>
                <p:nvPr/>
              </p:nvSpPr>
              <p:spPr>
                <a:xfrm flipV="1">
                  <a:off x="6622560" y="1413000"/>
                  <a:ext cx="897480" cy="137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2" name=""/>
                <p:cNvSpPr/>
                <p:nvPr/>
              </p:nvSpPr>
              <p:spPr>
                <a:xfrm flipV="1">
                  <a:off x="8417520" y="1550880"/>
                  <a:ext cx="0" cy="621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3" name=""/>
                <p:cNvSpPr/>
                <p:nvPr/>
              </p:nvSpPr>
              <p:spPr>
                <a:xfrm flipH="1" flipV="1">
                  <a:off x="7519680" y="1413000"/>
                  <a:ext cx="897480" cy="137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84" name=""/>
              <p:cNvGrpSpPr/>
              <p:nvPr/>
            </p:nvGrpSpPr>
            <p:grpSpPr>
              <a:xfrm>
                <a:off x="6791760" y="1244160"/>
                <a:ext cx="1794960" cy="758880"/>
                <a:chOff x="6791760" y="1244160"/>
                <a:chExt cx="1794960" cy="758880"/>
              </a:xfrm>
            </p:grpSpPr>
            <p:sp>
              <p:nvSpPr>
                <p:cNvPr id="5585" name=""/>
                <p:cNvSpPr/>
                <p:nvPr/>
              </p:nvSpPr>
              <p:spPr>
                <a:xfrm flipV="1">
                  <a:off x="6791760" y="1382040"/>
                  <a:ext cx="0" cy="621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6" name=""/>
                <p:cNvSpPr/>
                <p:nvPr/>
              </p:nvSpPr>
              <p:spPr>
                <a:xfrm flipV="1">
                  <a:off x="6791760" y="1244160"/>
                  <a:ext cx="897480" cy="137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7" name=""/>
                <p:cNvSpPr/>
                <p:nvPr/>
              </p:nvSpPr>
              <p:spPr>
                <a:xfrm flipV="1">
                  <a:off x="8586720" y="1382040"/>
                  <a:ext cx="0" cy="621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8" name=""/>
                <p:cNvSpPr/>
                <p:nvPr/>
              </p:nvSpPr>
              <p:spPr>
                <a:xfrm flipH="1" flipV="1">
                  <a:off x="7688880" y="1244160"/>
                  <a:ext cx="897480" cy="137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589" name=""/>
            <p:cNvGrpSpPr/>
            <p:nvPr/>
          </p:nvGrpSpPr>
          <p:grpSpPr>
            <a:xfrm>
              <a:off x="5946840" y="1074240"/>
              <a:ext cx="2809800" cy="1775160"/>
              <a:chOff x="5946840" y="1074240"/>
              <a:chExt cx="2809800" cy="1775160"/>
            </a:xfrm>
          </p:grpSpPr>
          <p:sp>
            <p:nvSpPr>
              <p:cNvPr id="5590" name=""/>
              <p:cNvSpPr/>
              <p:nvPr/>
            </p:nvSpPr>
            <p:spPr>
              <a:xfrm flipV="1">
                <a:off x="5946840" y="2089440"/>
                <a:ext cx="897480" cy="1378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1" name=""/>
              <p:cNvSpPr/>
              <p:nvPr/>
            </p:nvSpPr>
            <p:spPr>
              <a:xfrm flipH="1" flipV="1">
                <a:off x="6844320" y="2089440"/>
                <a:ext cx="897120" cy="1378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2" name=""/>
              <p:cNvSpPr/>
              <p:nvPr/>
            </p:nvSpPr>
            <p:spPr>
              <a:xfrm flipV="1">
                <a:off x="6961680" y="1074240"/>
                <a:ext cx="897480" cy="1378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93" name=""/>
              <p:cNvGrpSpPr/>
              <p:nvPr/>
            </p:nvGrpSpPr>
            <p:grpSpPr>
              <a:xfrm>
                <a:off x="5946840" y="1212480"/>
                <a:ext cx="2809800" cy="1636920"/>
                <a:chOff x="5946840" y="1212480"/>
                <a:chExt cx="2809800" cy="1636920"/>
              </a:xfrm>
            </p:grpSpPr>
            <p:sp>
              <p:nvSpPr>
                <p:cNvPr id="5594" name=""/>
                <p:cNvSpPr/>
                <p:nvPr/>
              </p:nvSpPr>
              <p:spPr>
                <a:xfrm flipV="1">
                  <a:off x="5946840" y="2228040"/>
                  <a:ext cx="0" cy="621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5" name=""/>
                <p:cNvSpPr/>
                <p:nvPr/>
              </p:nvSpPr>
              <p:spPr>
                <a:xfrm flipV="1">
                  <a:off x="7741440" y="2228040"/>
                  <a:ext cx="0" cy="621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6" name=""/>
                <p:cNvSpPr/>
                <p:nvPr/>
              </p:nvSpPr>
              <p:spPr>
                <a:xfrm flipV="1">
                  <a:off x="6961680" y="1212480"/>
                  <a:ext cx="0" cy="621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7" name=""/>
                <p:cNvSpPr/>
                <p:nvPr/>
              </p:nvSpPr>
              <p:spPr>
                <a:xfrm flipV="1">
                  <a:off x="8756640" y="1212480"/>
                  <a:ext cx="0" cy="621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98" name=""/>
              <p:cNvSpPr/>
              <p:nvPr/>
            </p:nvSpPr>
            <p:spPr>
              <a:xfrm flipH="1" flipV="1">
                <a:off x="7859160" y="1074240"/>
                <a:ext cx="897120" cy="1378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99" name=""/>
            <p:cNvGrpSpPr/>
            <p:nvPr/>
          </p:nvGrpSpPr>
          <p:grpSpPr>
            <a:xfrm>
              <a:off x="5946840" y="1386000"/>
              <a:ext cx="2809440" cy="1465200"/>
              <a:chOff x="5946840" y="1386000"/>
              <a:chExt cx="2809440" cy="1465200"/>
            </a:xfrm>
          </p:grpSpPr>
          <p:grpSp>
            <p:nvGrpSpPr>
              <p:cNvPr id="5600" name=""/>
              <p:cNvGrpSpPr/>
              <p:nvPr/>
            </p:nvGrpSpPr>
            <p:grpSpPr>
              <a:xfrm>
                <a:off x="5946840" y="1395360"/>
                <a:ext cx="1014840" cy="1455480"/>
                <a:chOff x="5946840" y="1395360"/>
                <a:chExt cx="1014840" cy="1455480"/>
              </a:xfrm>
            </p:grpSpPr>
            <p:sp>
              <p:nvSpPr>
                <p:cNvPr id="5601" name=""/>
                <p:cNvSpPr/>
                <p:nvPr/>
              </p:nvSpPr>
              <p:spPr>
                <a:xfrm flipV="1">
                  <a:off x="5946840" y="1395360"/>
                  <a:ext cx="1014840" cy="1013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2" name=""/>
                <p:cNvSpPr/>
                <p:nvPr/>
              </p:nvSpPr>
              <p:spPr>
                <a:xfrm flipV="1">
                  <a:off x="5946840" y="1550520"/>
                  <a:ext cx="1014840" cy="1013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3" name=""/>
                <p:cNvSpPr/>
                <p:nvPr/>
              </p:nvSpPr>
              <p:spPr>
                <a:xfrm flipV="1">
                  <a:off x="5946840" y="1688400"/>
                  <a:ext cx="1014840" cy="1013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4" name=""/>
                <p:cNvSpPr/>
                <p:nvPr/>
              </p:nvSpPr>
              <p:spPr>
                <a:xfrm flipV="1">
                  <a:off x="5946840" y="1837080"/>
                  <a:ext cx="1014840" cy="1013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5" name=""/>
              <p:cNvGrpSpPr/>
              <p:nvPr/>
            </p:nvGrpSpPr>
            <p:grpSpPr>
              <a:xfrm>
                <a:off x="7741440" y="1386000"/>
                <a:ext cx="1014840" cy="1465200"/>
                <a:chOff x="7741440" y="1386000"/>
                <a:chExt cx="1014840" cy="1465200"/>
              </a:xfrm>
            </p:grpSpPr>
            <p:sp>
              <p:nvSpPr>
                <p:cNvPr id="5606" name=""/>
                <p:cNvSpPr/>
                <p:nvPr/>
              </p:nvSpPr>
              <p:spPr>
                <a:xfrm flipV="1">
                  <a:off x="7741440" y="1837440"/>
                  <a:ext cx="1014840" cy="1013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7" name=""/>
                <p:cNvSpPr/>
                <p:nvPr/>
              </p:nvSpPr>
              <p:spPr>
                <a:xfrm flipV="1">
                  <a:off x="7741440" y="1386000"/>
                  <a:ext cx="1014840" cy="1013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8" name=""/>
                <p:cNvSpPr/>
                <p:nvPr/>
              </p:nvSpPr>
              <p:spPr>
                <a:xfrm flipV="1">
                  <a:off x="7741440" y="1541160"/>
                  <a:ext cx="1014840" cy="1013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9" name=""/>
                <p:cNvSpPr/>
                <p:nvPr/>
              </p:nvSpPr>
              <p:spPr>
                <a:xfrm flipV="1">
                  <a:off x="7741440" y="1690200"/>
                  <a:ext cx="1014840" cy="1013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610" name=""/>
            <p:cNvSpPr/>
            <p:nvPr/>
          </p:nvSpPr>
          <p:spPr>
            <a:xfrm flipV="1">
              <a:off x="6846840" y="1079640"/>
              <a:ext cx="1015920" cy="10159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11" name=""/>
            <p:cNvGrpSpPr/>
            <p:nvPr/>
          </p:nvGrpSpPr>
          <p:grpSpPr>
            <a:xfrm>
              <a:off x="5946840" y="1212840"/>
              <a:ext cx="2808360" cy="1014480"/>
              <a:chOff x="5946840" y="1212840"/>
              <a:chExt cx="2808360" cy="1014480"/>
            </a:xfrm>
          </p:grpSpPr>
          <p:sp>
            <p:nvSpPr>
              <p:cNvPr id="5612" name=""/>
              <p:cNvSpPr/>
              <p:nvPr/>
            </p:nvSpPr>
            <p:spPr>
              <a:xfrm flipV="1">
                <a:off x="7737120" y="1212840"/>
                <a:ext cx="1018080" cy="1014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3" name=""/>
              <p:cNvSpPr/>
              <p:nvPr/>
            </p:nvSpPr>
            <p:spPr>
              <a:xfrm flipV="1">
                <a:off x="5946840" y="1212840"/>
                <a:ext cx="1015200" cy="1014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14" name=""/>
            <p:cNvGrpSpPr/>
            <p:nvPr/>
          </p:nvGrpSpPr>
          <p:grpSpPr>
            <a:xfrm>
              <a:off x="6080040" y="1095120"/>
              <a:ext cx="2532240" cy="1113840"/>
              <a:chOff x="6080040" y="1095120"/>
              <a:chExt cx="2532240" cy="1113840"/>
            </a:xfrm>
          </p:grpSpPr>
          <p:sp>
            <p:nvSpPr>
              <p:cNvPr id="5615" name=""/>
              <p:cNvSpPr/>
              <p:nvPr/>
            </p:nvSpPr>
            <p:spPr>
              <a:xfrm flipV="1">
                <a:off x="7013160" y="1099440"/>
                <a:ext cx="1017720" cy="1017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6" name=""/>
              <p:cNvSpPr/>
              <p:nvPr/>
            </p:nvSpPr>
            <p:spPr>
              <a:xfrm flipV="1">
                <a:off x="7165800" y="1113120"/>
                <a:ext cx="1017720" cy="1017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7" name=""/>
              <p:cNvSpPr/>
              <p:nvPr/>
            </p:nvSpPr>
            <p:spPr>
              <a:xfrm flipV="1">
                <a:off x="7453440" y="1162800"/>
                <a:ext cx="1017720" cy="1017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8" name=""/>
              <p:cNvSpPr/>
              <p:nvPr/>
            </p:nvSpPr>
            <p:spPr>
              <a:xfrm flipV="1">
                <a:off x="7594560" y="1191960"/>
                <a:ext cx="1017720" cy="1017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9" name=""/>
              <p:cNvSpPr/>
              <p:nvPr/>
            </p:nvSpPr>
            <p:spPr>
              <a:xfrm flipV="1">
                <a:off x="6080040" y="1191960"/>
                <a:ext cx="1004040" cy="1017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0" name=""/>
              <p:cNvSpPr/>
              <p:nvPr/>
            </p:nvSpPr>
            <p:spPr>
              <a:xfrm flipV="1">
                <a:off x="6247080" y="1168560"/>
                <a:ext cx="1004040" cy="1017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1" name=""/>
              <p:cNvSpPr/>
              <p:nvPr/>
            </p:nvSpPr>
            <p:spPr>
              <a:xfrm flipV="1">
                <a:off x="6532920" y="1122840"/>
                <a:ext cx="1004040" cy="1017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2" name=""/>
              <p:cNvSpPr/>
              <p:nvPr/>
            </p:nvSpPr>
            <p:spPr>
              <a:xfrm flipV="1">
                <a:off x="6687000" y="1095120"/>
                <a:ext cx="1007640" cy="1017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3" name=""/>
              <p:cNvSpPr/>
              <p:nvPr/>
            </p:nvSpPr>
            <p:spPr>
              <a:xfrm flipV="1">
                <a:off x="6385680" y="1146240"/>
                <a:ext cx="1004040" cy="1017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4" name=""/>
              <p:cNvSpPr/>
              <p:nvPr/>
            </p:nvSpPr>
            <p:spPr>
              <a:xfrm flipV="1">
                <a:off x="7292520" y="1141200"/>
                <a:ext cx="1017720" cy="10245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25" name=""/>
            <p:cNvGrpSpPr/>
            <p:nvPr/>
          </p:nvGrpSpPr>
          <p:grpSpPr>
            <a:xfrm>
              <a:off x="5943600" y="1072800"/>
              <a:ext cx="2816280" cy="1154160"/>
              <a:chOff x="5943600" y="1072800"/>
              <a:chExt cx="2816280" cy="1154160"/>
            </a:xfrm>
          </p:grpSpPr>
          <p:grpSp>
            <p:nvGrpSpPr>
              <p:cNvPr id="5626" name=""/>
              <p:cNvGrpSpPr/>
              <p:nvPr/>
            </p:nvGrpSpPr>
            <p:grpSpPr>
              <a:xfrm>
                <a:off x="5943600" y="1918080"/>
                <a:ext cx="1964880" cy="308880"/>
                <a:chOff x="5943600" y="1918080"/>
                <a:chExt cx="1964880" cy="308880"/>
              </a:xfrm>
            </p:grpSpPr>
            <p:sp>
              <p:nvSpPr>
                <p:cNvPr id="5627" name=""/>
                <p:cNvSpPr/>
                <p:nvPr/>
              </p:nvSpPr>
              <p:spPr>
                <a:xfrm flipH="1" flipV="1">
                  <a:off x="7010640" y="1919520"/>
                  <a:ext cx="152640" cy="2156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8" name=""/>
                <p:cNvSpPr/>
                <p:nvPr/>
              </p:nvSpPr>
              <p:spPr>
                <a:xfrm flipH="1">
                  <a:off x="6524280" y="1919880"/>
                  <a:ext cx="486000" cy="2156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9" name=""/>
                <p:cNvSpPr/>
                <p:nvPr/>
              </p:nvSpPr>
              <p:spPr>
                <a:xfrm flipH="1" flipV="1">
                  <a:off x="7601040" y="2002320"/>
                  <a:ext cx="137880" cy="2242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0" name=""/>
                <p:cNvSpPr/>
                <p:nvPr/>
              </p:nvSpPr>
              <p:spPr>
                <a:xfrm flipV="1">
                  <a:off x="7451280" y="2056680"/>
                  <a:ext cx="457200" cy="1270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1" name=""/>
                <p:cNvSpPr/>
                <p:nvPr/>
              </p:nvSpPr>
              <p:spPr>
                <a:xfrm flipH="1" flipV="1">
                  <a:off x="7312320" y="1970280"/>
                  <a:ext cx="138960" cy="213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2" name=""/>
                <p:cNvSpPr/>
                <p:nvPr/>
              </p:nvSpPr>
              <p:spPr>
                <a:xfrm flipH="1">
                  <a:off x="7151400" y="2009520"/>
                  <a:ext cx="473400" cy="1260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3" name=""/>
                <p:cNvSpPr/>
                <p:nvPr/>
              </p:nvSpPr>
              <p:spPr>
                <a:xfrm flipH="1">
                  <a:off x="6865920" y="1970640"/>
                  <a:ext cx="446400" cy="1155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4" name=""/>
                <p:cNvSpPr/>
                <p:nvPr/>
              </p:nvSpPr>
              <p:spPr>
                <a:xfrm flipH="1" flipV="1">
                  <a:off x="6694200" y="1960560"/>
                  <a:ext cx="171000" cy="1249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5" name=""/>
                <p:cNvSpPr/>
                <p:nvPr/>
              </p:nvSpPr>
              <p:spPr>
                <a:xfrm flipH="1" flipV="1">
                  <a:off x="6411960" y="2009160"/>
                  <a:ext cx="117720" cy="1292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6" name=""/>
                <p:cNvSpPr/>
                <p:nvPr/>
              </p:nvSpPr>
              <p:spPr>
                <a:xfrm flipH="1">
                  <a:off x="6242040" y="1970640"/>
                  <a:ext cx="452160" cy="213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7" name=""/>
                <p:cNvSpPr/>
                <p:nvPr/>
              </p:nvSpPr>
              <p:spPr>
                <a:xfrm flipH="1" flipV="1">
                  <a:off x="6112800" y="2056680"/>
                  <a:ext cx="131040" cy="1213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8" name=""/>
                <p:cNvSpPr/>
                <p:nvPr/>
              </p:nvSpPr>
              <p:spPr>
                <a:xfrm flipH="1">
                  <a:off x="5943600" y="2009520"/>
                  <a:ext cx="468720" cy="217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9" name=""/>
                <p:cNvSpPr/>
                <p:nvPr/>
              </p:nvSpPr>
              <p:spPr>
                <a:xfrm flipV="1">
                  <a:off x="7736400" y="2056680"/>
                  <a:ext cx="165960" cy="165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0" name=""/>
                <p:cNvSpPr/>
                <p:nvPr/>
              </p:nvSpPr>
              <p:spPr>
                <a:xfrm flipV="1">
                  <a:off x="6853680" y="1918080"/>
                  <a:ext cx="165960" cy="165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1" name=""/>
                <p:cNvSpPr/>
                <p:nvPr/>
              </p:nvSpPr>
              <p:spPr>
                <a:xfrm flipV="1">
                  <a:off x="7156080" y="1966320"/>
                  <a:ext cx="165960" cy="165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2" name=""/>
                <p:cNvSpPr/>
                <p:nvPr/>
              </p:nvSpPr>
              <p:spPr>
                <a:xfrm flipV="1">
                  <a:off x="5946480" y="2053800"/>
                  <a:ext cx="165960" cy="165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3" name=""/>
                <p:cNvSpPr/>
                <p:nvPr/>
              </p:nvSpPr>
              <p:spPr>
                <a:xfrm flipV="1">
                  <a:off x="6248880" y="2008440"/>
                  <a:ext cx="165960" cy="165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4" name=""/>
                <p:cNvSpPr/>
                <p:nvPr/>
              </p:nvSpPr>
              <p:spPr>
                <a:xfrm flipV="1">
                  <a:off x="6533280" y="1966320"/>
                  <a:ext cx="165960" cy="165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5" name=""/>
                <p:cNvSpPr/>
                <p:nvPr/>
              </p:nvSpPr>
              <p:spPr>
                <a:xfrm flipV="1">
                  <a:off x="6109920" y="1920960"/>
                  <a:ext cx="903960" cy="135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6" name=""/>
                <p:cNvSpPr/>
                <p:nvPr/>
              </p:nvSpPr>
              <p:spPr>
                <a:xfrm flipV="1">
                  <a:off x="5946480" y="2090160"/>
                  <a:ext cx="903960" cy="135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7" name=""/>
                <p:cNvSpPr/>
                <p:nvPr/>
              </p:nvSpPr>
              <p:spPr>
                <a:xfrm>
                  <a:off x="6850800" y="2090520"/>
                  <a:ext cx="879480" cy="135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8" name=""/>
                <p:cNvSpPr/>
                <p:nvPr/>
              </p:nvSpPr>
              <p:spPr>
                <a:xfrm>
                  <a:off x="7016760" y="1921320"/>
                  <a:ext cx="879480" cy="135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9" name=""/>
                <p:cNvSpPr/>
                <p:nvPr/>
              </p:nvSpPr>
              <p:spPr>
                <a:xfrm flipV="1">
                  <a:off x="7443360" y="2017440"/>
                  <a:ext cx="165960" cy="165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50" name=""/>
              <p:cNvGrpSpPr/>
              <p:nvPr/>
            </p:nvGrpSpPr>
            <p:grpSpPr>
              <a:xfrm>
                <a:off x="6795000" y="1072800"/>
                <a:ext cx="1964880" cy="308880"/>
                <a:chOff x="6795000" y="1072800"/>
                <a:chExt cx="1964880" cy="308880"/>
              </a:xfrm>
            </p:grpSpPr>
            <p:sp>
              <p:nvSpPr>
                <p:cNvPr id="5651" name=""/>
                <p:cNvSpPr/>
                <p:nvPr/>
              </p:nvSpPr>
              <p:spPr>
                <a:xfrm flipH="1" flipV="1">
                  <a:off x="7862040" y="1074240"/>
                  <a:ext cx="152640" cy="2156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2" name=""/>
                <p:cNvSpPr/>
                <p:nvPr/>
              </p:nvSpPr>
              <p:spPr>
                <a:xfrm flipH="1">
                  <a:off x="7375680" y="1074600"/>
                  <a:ext cx="486000" cy="2156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3" name=""/>
                <p:cNvSpPr/>
                <p:nvPr/>
              </p:nvSpPr>
              <p:spPr>
                <a:xfrm flipH="1" flipV="1">
                  <a:off x="8452440" y="1157040"/>
                  <a:ext cx="137880" cy="2242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4" name=""/>
                <p:cNvSpPr/>
                <p:nvPr/>
              </p:nvSpPr>
              <p:spPr>
                <a:xfrm flipV="1">
                  <a:off x="8302680" y="1211400"/>
                  <a:ext cx="457200" cy="1270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5" name=""/>
                <p:cNvSpPr/>
                <p:nvPr/>
              </p:nvSpPr>
              <p:spPr>
                <a:xfrm flipH="1" flipV="1">
                  <a:off x="8163720" y="1125000"/>
                  <a:ext cx="138960" cy="213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6" name=""/>
                <p:cNvSpPr/>
                <p:nvPr/>
              </p:nvSpPr>
              <p:spPr>
                <a:xfrm flipH="1">
                  <a:off x="8002800" y="1164240"/>
                  <a:ext cx="473400" cy="1260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7" name=""/>
                <p:cNvSpPr/>
                <p:nvPr/>
              </p:nvSpPr>
              <p:spPr>
                <a:xfrm flipH="1">
                  <a:off x="7717320" y="1125360"/>
                  <a:ext cx="446400" cy="1155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8" name=""/>
                <p:cNvSpPr/>
                <p:nvPr/>
              </p:nvSpPr>
              <p:spPr>
                <a:xfrm flipH="1" flipV="1">
                  <a:off x="7545600" y="1115280"/>
                  <a:ext cx="171000" cy="1249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9" name=""/>
                <p:cNvSpPr/>
                <p:nvPr/>
              </p:nvSpPr>
              <p:spPr>
                <a:xfrm flipH="1" flipV="1">
                  <a:off x="7263360" y="1163880"/>
                  <a:ext cx="117720" cy="1292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0" name=""/>
                <p:cNvSpPr/>
                <p:nvPr/>
              </p:nvSpPr>
              <p:spPr>
                <a:xfrm flipH="1">
                  <a:off x="7093440" y="1125360"/>
                  <a:ext cx="452160" cy="213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1" name=""/>
                <p:cNvSpPr/>
                <p:nvPr/>
              </p:nvSpPr>
              <p:spPr>
                <a:xfrm flipH="1" flipV="1">
                  <a:off x="6964200" y="1211400"/>
                  <a:ext cx="131040" cy="1213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2" name=""/>
                <p:cNvSpPr/>
                <p:nvPr/>
              </p:nvSpPr>
              <p:spPr>
                <a:xfrm flipH="1">
                  <a:off x="6795000" y="1164240"/>
                  <a:ext cx="468720" cy="217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3" name=""/>
                <p:cNvSpPr/>
                <p:nvPr/>
              </p:nvSpPr>
              <p:spPr>
                <a:xfrm flipV="1">
                  <a:off x="8587800" y="1211400"/>
                  <a:ext cx="165960" cy="165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4" name=""/>
                <p:cNvSpPr/>
                <p:nvPr/>
              </p:nvSpPr>
              <p:spPr>
                <a:xfrm flipV="1">
                  <a:off x="7705080" y="1072800"/>
                  <a:ext cx="165960" cy="165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5" name=""/>
                <p:cNvSpPr/>
                <p:nvPr/>
              </p:nvSpPr>
              <p:spPr>
                <a:xfrm flipV="1">
                  <a:off x="8007480" y="1121040"/>
                  <a:ext cx="165960" cy="165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6" name=""/>
                <p:cNvSpPr/>
                <p:nvPr/>
              </p:nvSpPr>
              <p:spPr>
                <a:xfrm flipV="1">
                  <a:off x="6797880" y="1208520"/>
                  <a:ext cx="165960" cy="165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7" name=""/>
                <p:cNvSpPr/>
                <p:nvPr/>
              </p:nvSpPr>
              <p:spPr>
                <a:xfrm flipV="1">
                  <a:off x="7100280" y="1163160"/>
                  <a:ext cx="165960" cy="165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8" name=""/>
                <p:cNvSpPr/>
                <p:nvPr/>
              </p:nvSpPr>
              <p:spPr>
                <a:xfrm flipV="1">
                  <a:off x="7384680" y="1121040"/>
                  <a:ext cx="165960" cy="165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9" name=""/>
                <p:cNvSpPr/>
                <p:nvPr/>
              </p:nvSpPr>
              <p:spPr>
                <a:xfrm flipV="1">
                  <a:off x="6961320" y="1075680"/>
                  <a:ext cx="903960" cy="135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0" name=""/>
                <p:cNvSpPr/>
                <p:nvPr/>
              </p:nvSpPr>
              <p:spPr>
                <a:xfrm flipV="1">
                  <a:off x="6797880" y="1244880"/>
                  <a:ext cx="903960" cy="135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1" name=""/>
                <p:cNvSpPr/>
                <p:nvPr/>
              </p:nvSpPr>
              <p:spPr>
                <a:xfrm>
                  <a:off x="7702200" y="1245240"/>
                  <a:ext cx="879480" cy="135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2" name=""/>
                <p:cNvSpPr/>
                <p:nvPr/>
              </p:nvSpPr>
              <p:spPr>
                <a:xfrm>
                  <a:off x="7868160" y="1076040"/>
                  <a:ext cx="879480" cy="135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3" name=""/>
                <p:cNvSpPr/>
                <p:nvPr/>
              </p:nvSpPr>
              <p:spPr>
                <a:xfrm flipV="1">
                  <a:off x="8294760" y="1172160"/>
                  <a:ext cx="165960" cy="165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674" name=""/>
          <p:cNvSpPr/>
          <p:nvPr/>
        </p:nvSpPr>
        <p:spPr>
          <a:xfrm>
            <a:off x="2655720" y="1566720"/>
            <a:ext cx="34689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BONNE RÉ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5" name=""/>
          <p:cNvSpPr/>
          <p:nvPr/>
        </p:nvSpPr>
        <p:spPr>
          <a:xfrm>
            <a:off x="101520" y="4629240"/>
            <a:ext cx="7043760" cy="361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 vent est très souvent une action déterminante pour les halls industri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6" name=""/>
          <p:cNvSpPr/>
          <p:nvPr/>
        </p:nvSpPr>
        <p:spPr>
          <a:xfrm>
            <a:off x="101520" y="5062680"/>
            <a:ext cx="7043760" cy="3632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 vent doit toujours être combiné avec la nei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7" name=""/>
          <p:cNvSpPr/>
          <p:nvPr/>
        </p:nvSpPr>
        <p:spPr>
          <a:xfrm>
            <a:off x="101520" y="5499000"/>
            <a:ext cx="7043760" cy="363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 vent ne doit jamais être combiné avec la tempéra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8" name=""/>
          <p:cNvSpPr/>
          <p:nvPr/>
        </p:nvSpPr>
        <p:spPr>
          <a:xfrm>
            <a:off x="101520" y="3619440"/>
            <a:ext cx="7043760" cy="358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 vent apparaît sur toutes les parois en même tem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9" name=""/>
          <p:cNvSpPr/>
          <p:nvPr/>
        </p:nvSpPr>
        <p:spPr>
          <a:xfrm>
            <a:off x="8177040" y="5073480"/>
            <a:ext cx="749520" cy="34632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721" h="21600">
                <a:moveTo>
                  <a:pt x="0" y="0"/>
                </a:moveTo>
                <a:lnTo>
                  <a:pt x="46721" y="0"/>
                </a:lnTo>
                <a:lnTo>
                  <a:pt x="46721" y="21600"/>
                </a:lnTo>
                <a:lnTo>
                  <a:pt x="0" y="21600"/>
                </a:lnTo>
                <a:close/>
              </a:path>
              <a:path fill="lightenLess" w="46721" h="21600">
                <a:moveTo>
                  <a:pt x="0" y="0"/>
                </a:moveTo>
                <a:lnTo>
                  <a:pt x="46721" y="0"/>
                </a:lnTo>
                <a:lnTo>
                  <a:pt x="45322" y="1400"/>
                </a:lnTo>
                <a:lnTo>
                  <a:pt x="1400" y="1400"/>
                </a:lnTo>
                <a:close/>
              </a:path>
              <a:path fill="darken" w="46721" h="21600">
                <a:moveTo>
                  <a:pt x="46721" y="0"/>
                </a:moveTo>
                <a:lnTo>
                  <a:pt x="46721" y="21600"/>
                </a:lnTo>
                <a:lnTo>
                  <a:pt x="45322" y="20200"/>
                </a:lnTo>
                <a:lnTo>
                  <a:pt x="45322" y="1400"/>
                </a:lnTo>
                <a:close/>
              </a:path>
              <a:path fill="darkenLess" w="46721" h="21600">
                <a:moveTo>
                  <a:pt x="4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22" y="20200"/>
                </a:lnTo>
                <a:close/>
              </a:path>
              <a:path fill="lighten" w="4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0" name=""/>
          <p:cNvSpPr/>
          <p:nvPr/>
        </p:nvSpPr>
        <p:spPr>
          <a:xfrm>
            <a:off x="8205840" y="513864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1" name=""/>
          <p:cNvSpPr/>
          <p:nvPr/>
        </p:nvSpPr>
        <p:spPr>
          <a:xfrm>
            <a:off x="8177040" y="551016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2" name=""/>
          <p:cNvSpPr/>
          <p:nvPr/>
        </p:nvSpPr>
        <p:spPr>
          <a:xfrm>
            <a:off x="8205840" y="557532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3" name=""/>
          <p:cNvSpPr/>
          <p:nvPr/>
        </p:nvSpPr>
        <p:spPr>
          <a:xfrm>
            <a:off x="101520" y="4021200"/>
            <a:ext cx="7043760" cy="555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 vent crée en même temps une pression sur une paroi et une dépression sur la paroi opposé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4" name=""/>
          <p:cNvSpPr/>
          <p:nvPr/>
        </p:nvSpPr>
        <p:spPr>
          <a:xfrm>
            <a:off x="101520" y="3186000"/>
            <a:ext cx="7043760" cy="3621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 calcul est mené paroi par paroi et non pas sur le bâtiment dans son ensem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5" name=""/>
          <p:cNvSpPr/>
          <p:nvPr/>
        </p:nvSpPr>
        <p:spPr>
          <a:xfrm>
            <a:off x="7227720" y="464040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6" name=""/>
          <p:cNvSpPr/>
          <p:nvPr/>
        </p:nvSpPr>
        <p:spPr>
          <a:xfrm>
            <a:off x="7256520" y="470520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7" name=""/>
          <p:cNvSpPr/>
          <p:nvPr/>
        </p:nvSpPr>
        <p:spPr>
          <a:xfrm>
            <a:off x="7227720" y="413244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8" name=""/>
          <p:cNvSpPr/>
          <p:nvPr/>
        </p:nvSpPr>
        <p:spPr>
          <a:xfrm>
            <a:off x="7256520" y="419724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9" name=""/>
          <p:cNvSpPr/>
          <p:nvPr/>
        </p:nvSpPr>
        <p:spPr>
          <a:xfrm>
            <a:off x="7227720" y="362916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0" name=""/>
          <p:cNvSpPr/>
          <p:nvPr/>
        </p:nvSpPr>
        <p:spPr>
          <a:xfrm>
            <a:off x="7256520" y="369396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1" name=""/>
          <p:cNvSpPr/>
          <p:nvPr/>
        </p:nvSpPr>
        <p:spPr>
          <a:xfrm>
            <a:off x="8177040" y="3195720"/>
            <a:ext cx="749520" cy="34596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70" h="21600">
                <a:moveTo>
                  <a:pt x="0" y="0"/>
                </a:moveTo>
                <a:lnTo>
                  <a:pt x="46770" y="0"/>
                </a:lnTo>
                <a:lnTo>
                  <a:pt x="46770" y="21600"/>
                </a:lnTo>
                <a:lnTo>
                  <a:pt x="0" y="21600"/>
                </a:lnTo>
                <a:close/>
              </a:path>
              <a:path fill="lightenLess" w="46770" h="21600">
                <a:moveTo>
                  <a:pt x="0" y="0"/>
                </a:moveTo>
                <a:lnTo>
                  <a:pt x="46770" y="0"/>
                </a:lnTo>
                <a:lnTo>
                  <a:pt x="45370" y="1400"/>
                </a:lnTo>
                <a:lnTo>
                  <a:pt x="1400" y="1400"/>
                </a:lnTo>
                <a:close/>
              </a:path>
              <a:path fill="darken" w="46770" h="21600">
                <a:moveTo>
                  <a:pt x="46770" y="0"/>
                </a:moveTo>
                <a:lnTo>
                  <a:pt x="46770" y="21600"/>
                </a:lnTo>
                <a:lnTo>
                  <a:pt x="45370" y="20200"/>
                </a:lnTo>
                <a:lnTo>
                  <a:pt x="45370" y="1400"/>
                </a:lnTo>
                <a:close/>
              </a:path>
              <a:path fill="darkenLess" w="46770" h="21600">
                <a:moveTo>
                  <a:pt x="46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70" y="20200"/>
                </a:lnTo>
                <a:close/>
              </a:path>
              <a:path fill="lighten" w="46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2" name=""/>
          <p:cNvSpPr/>
          <p:nvPr/>
        </p:nvSpPr>
        <p:spPr>
          <a:xfrm>
            <a:off x="8205840" y="3260880"/>
            <a:ext cx="693720" cy="2156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3" name=""/>
          <p:cNvSpPr/>
          <p:nvPr/>
        </p:nvSpPr>
        <p:spPr>
          <a:xfrm>
            <a:off x="628560" y="661032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Suiv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4" name="">
            <a:hlinkClick r:id="" action="ppaction://hlinkshowjump?jump=nextslide"/>
          </p:cNvPr>
          <p:cNvSpPr/>
          <p:nvPr/>
        </p:nvSpPr>
        <p:spPr>
          <a:xfrm>
            <a:off x="765000" y="62737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5" name=""/>
          <p:cNvSpPr/>
          <p:nvPr/>
        </p:nvSpPr>
        <p:spPr>
          <a:xfrm>
            <a:off x="2655720" y="1566720"/>
            <a:ext cx="34689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BONNE RÉ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6" name=""/>
          <p:cNvSpPr/>
          <p:nvPr/>
        </p:nvSpPr>
        <p:spPr>
          <a:xfrm>
            <a:off x="179280" y="352440"/>
            <a:ext cx="87537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ncernant l’action du vent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7" name=""/>
          <p:cNvGrpSpPr/>
          <p:nvPr/>
        </p:nvGrpSpPr>
        <p:grpSpPr>
          <a:xfrm>
            <a:off x="5894280" y="1071720"/>
            <a:ext cx="2893680" cy="1879560"/>
            <a:chOff x="5894280" y="1071720"/>
            <a:chExt cx="2893680" cy="1879560"/>
          </a:xfrm>
        </p:grpSpPr>
        <p:grpSp>
          <p:nvGrpSpPr>
            <p:cNvPr id="5698" name=""/>
            <p:cNvGrpSpPr/>
            <p:nvPr/>
          </p:nvGrpSpPr>
          <p:grpSpPr>
            <a:xfrm>
              <a:off x="5894280" y="1844640"/>
              <a:ext cx="2893680" cy="1106640"/>
              <a:chOff x="5894280" y="1844640"/>
              <a:chExt cx="2893680" cy="1106640"/>
            </a:xfrm>
          </p:grpSpPr>
          <p:grpSp>
            <p:nvGrpSpPr>
              <p:cNvPr id="5699" name=""/>
              <p:cNvGrpSpPr/>
              <p:nvPr/>
            </p:nvGrpSpPr>
            <p:grpSpPr>
              <a:xfrm>
                <a:off x="6068160" y="2036520"/>
                <a:ext cx="759600" cy="749520"/>
                <a:chOff x="6068160" y="2036520"/>
                <a:chExt cx="759600" cy="749520"/>
              </a:xfrm>
            </p:grpSpPr>
            <p:sp>
              <p:nvSpPr>
                <p:cNvPr id="5700" name=""/>
                <p:cNvSpPr/>
                <p:nvPr/>
              </p:nvSpPr>
              <p:spPr>
                <a:xfrm>
                  <a:off x="6744600" y="2036520"/>
                  <a:ext cx="83160" cy="83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1" name=""/>
                <p:cNvSpPr/>
                <p:nvPr/>
              </p:nvSpPr>
              <p:spPr>
                <a:xfrm>
                  <a:off x="6571800" y="2193840"/>
                  <a:ext cx="83160" cy="83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2" name=""/>
                <p:cNvSpPr/>
                <p:nvPr/>
              </p:nvSpPr>
              <p:spPr>
                <a:xfrm>
                  <a:off x="6406560" y="2356920"/>
                  <a:ext cx="83160" cy="83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3" name=""/>
                <p:cNvSpPr/>
                <p:nvPr/>
              </p:nvSpPr>
              <p:spPr>
                <a:xfrm>
                  <a:off x="6235920" y="2526480"/>
                  <a:ext cx="83520" cy="83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4" name=""/>
                <p:cNvSpPr/>
                <p:nvPr/>
              </p:nvSpPr>
              <p:spPr>
                <a:xfrm>
                  <a:off x="6068160" y="2702880"/>
                  <a:ext cx="83160" cy="83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05" name=""/>
              <p:cNvGrpSpPr/>
              <p:nvPr/>
            </p:nvGrpSpPr>
            <p:grpSpPr>
              <a:xfrm>
                <a:off x="7870320" y="2023200"/>
                <a:ext cx="747720" cy="757800"/>
                <a:chOff x="7870320" y="2023200"/>
                <a:chExt cx="747720" cy="757800"/>
              </a:xfrm>
            </p:grpSpPr>
            <p:sp>
              <p:nvSpPr>
                <p:cNvPr id="5706" name=""/>
                <p:cNvSpPr/>
                <p:nvPr/>
              </p:nvSpPr>
              <p:spPr>
                <a:xfrm>
                  <a:off x="8534880" y="2023200"/>
                  <a:ext cx="83160" cy="83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7" name=""/>
                <p:cNvSpPr/>
                <p:nvPr/>
              </p:nvSpPr>
              <p:spPr>
                <a:xfrm>
                  <a:off x="8367840" y="2188800"/>
                  <a:ext cx="83520" cy="83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8" name=""/>
                <p:cNvSpPr/>
                <p:nvPr/>
              </p:nvSpPr>
              <p:spPr>
                <a:xfrm>
                  <a:off x="8202600" y="2351520"/>
                  <a:ext cx="83160" cy="83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9" name=""/>
                <p:cNvSpPr/>
                <p:nvPr/>
              </p:nvSpPr>
              <p:spPr>
                <a:xfrm>
                  <a:off x="8028000" y="2521080"/>
                  <a:ext cx="85320" cy="83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0" name=""/>
                <p:cNvSpPr/>
                <p:nvPr/>
              </p:nvSpPr>
              <p:spPr>
                <a:xfrm>
                  <a:off x="7870320" y="2697840"/>
                  <a:ext cx="83160" cy="83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11" name=""/>
              <p:cNvGrpSpPr/>
              <p:nvPr/>
            </p:nvGrpSpPr>
            <p:grpSpPr>
              <a:xfrm>
                <a:off x="6904800" y="1844640"/>
                <a:ext cx="1883160" cy="85320"/>
                <a:chOff x="6904800" y="1844640"/>
                <a:chExt cx="1883160" cy="85320"/>
              </a:xfrm>
            </p:grpSpPr>
            <p:sp>
              <p:nvSpPr>
                <p:cNvPr id="5712" name=""/>
                <p:cNvSpPr/>
                <p:nvPr/>
              </p:nvSpPr>
              <p:spPr>
                <a:xfrm>
                  <a:off x="8704800" y="1846800"/>
                  <a:ext cx="83160" cy="83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3" name=""/>
                <p:cNvSpPr/>
                <p:nvPr/>
              </p:nvSpPr>
              <p:spPr>
                <a:xfrm>
                  <a:off x="6904800" y="1844640"/>
                  <a:ext cx="83520" cy="83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4" name=""/>
                <p:cNvSpPr/>
                <p:nvPr/>
              </p:nvSpPr>
              <p:spPr>
                <a:xfrm>
                  <a:off x="8116560" y="1844640"/>
                  <a:ext cx="83520" cy="83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5" name=""/>
                <p:cNvSpPr/>
                <p:nvPr/>
              </p:nvSpPr>
              <p:spPr>
                <a:xfrm>
                  <a:off x="7209000" y="1844640"/>
                  <a:ext cx="83160" cy="83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6" name=""/>
                <p:cNvSpPr/>
                <p:nvPr/>
              </p:nvSpPr>
              <p:spPr>
                <a:xfrm>
                  <a:off x="7491240" y="1844640"/>
                  <a:ext cx="83160" cy="83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7" name=""/>
                <p:cNvSpPr/>
                <p:nvPr/>
              </p:nvSpPr>
              <p:spPr>
                <a:xfrm>
                  <a:off x="7791480" y="1844640"/>
                  <a:ext cx="83160" cy="83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8" name=""/>
                <p:cNvSpPr/>
                <p:nvPr/>
              </p:nvSpPr>
              <p:spPr>
                <a:xfrm>
                  <a:off x="8417880" y="1844640"/>
                  <a:ext cx="83160" cy="83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19" name=""/>
              <p:cNvGrpSpPr/>
              <p:nvPr/>
            </p:nvGrpSpPr>
            <p:grpSpPr>
              <a:xfrm>
                <a:off x="5894280" y="2867760"/>
                <a:ext cx="1879200" cy="83520"/>
                <a:chOff x="5894280" y="2867760"/>
                <a:chExt cx="1879200" cy="83520"/>
              </a:xfrm>
            </p:grpSpPr>
            <p:sp>
              <p:nvSpPr>
                <p:cNvPr id="5720" name=""/>
                <p:cNvSpPr/>
                <p:nvPr/>
              </p:nvSpPr>
              <p:spPr>
                <a:xfrm>
                  <a:off x="7689960" y="2867760"/>
                  <a:ext cx="83520" cy="83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1" name=""/>
                <p:cNvSpPr/>
                <p:nvPr/>
              </p:nvSpPr>
              <p:spPr>
                <a:xfrm>
                  <a:off x="5894280" y="2867760"/>
                  <a:ext cx="83160" cy="83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2" name=""/>
                <p:cNvSpPr/>
                <p:nvPr/>
              </p:nvSpPr>
              <p:spPr>
                <a:xfrm>
                  <a:off x="6196320" y="2867760"/>
                  <a:ext cx="83160" cy="83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3" name=""/>
                <p:cNvSpPr/>
                <p:nvPr/>
              </p:nvSpPr>
              <p:spPr>
                <a:xfrm>
                  <a:off x="6484320" y="2867760"/>
                  <a:ext cx="83160" cy="83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4" name=""/>
                <p:cNvSpPr/>
                <p:nvPr/>
              </p:nvSpPr>
              <p:spPr>
                <a:xfrm>
                  <a:off x="7108920" y="2867760"/>
                  <a:ext cx="83160" cy="83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5" name=""/>
                <p:cNvSpPr/>
                <p:nvPr/>
              </p:nvSpPr>
              <p:spPr>
                <a:xfrm>
                  <a:off x="7396920" y="2867760"/>
                  <a:ext cx="83160" cy="83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726" name=""/>
            <p:cNvSpPr/>
            <p:nvPr/>
          </p:nvSpPr>
          <p:spPr>
            <a:xfrm rot="18860400">
              <a:off x="6585840" y="2543760"/>
              <a:ext cx="507960" cy="252360"/>
            </a:xfrm>
            <a:custGeom>
              <a:avLst/>
              <a:gdLst>
                <a:gd name="textAreaLeft" fmla="*/ 63360 w 507960"/>
                <a:gd name="textAreaRight" fmla="*/ 444600 w 507960"/>
                <a:gd name="textAreaTop" fmla="*/ 63000 h 252360"/>
                <a:gd name="textAreaBottom" fmla="*/ 189360 h 25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27" name=""/>
            <p:cNvGrpSpPr/>
            <p:nvPr/>
          </p:nvGrpSpPr>
          <p:grpSpPr>
            <a:xfrm>
              <a:off x="5943600" y="1219320"/>
              <a:ext cx="2819520" cy="1632960"/>
              <a:chOff x="5943600" y="1219320"/>
              <a:chExt cx="2819520" cy="1632960"/>
            </a:xfrm>
          </p:grpSpPr>
          <p:grpSp>
            <p:nvGrpSpPr>
              <p:cNvPr id="5728" name=""/>
              <p:cNvGrpSpPr/>
              <p:nvPr/>
            </p:nvGrpSpPr>
            <p:grpSpPr>
              <a:xfrm>
                <a:off x="6949800" y="1219320"/>
                <a:ext cx="1813320" cy="611280"/>
                <a:chOff x="6949800" y="1219320"/>
                <a:chExt cx="1813320" cy="611280"/>
              </a:xfrm>
            </p:grpSpPr>
            <p:sp>
              <p:nvSpPr>
                <p:cNvPr id="5729" name=""/>
                <p:cNvSpPr/>
                <p:nvPr/>
              </p:nvSpPr>
              <p:spPr>
                <a:xfrm>
                  <a:off x="6968160" y="1219320"/>
                  <a:ext cx="17949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0" name=""/>
                <p:cNvSpPr/>
                <p:nvPr/>
              </p:nvSpPr>
              <p:spPr>
                <a:xfrm>
                  <a:off x="6963120" y="1397880"/>
                  <a:ext cx="17949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1" name=""/>
                <p:cNvSpPr/>
                <p:nvPr/>
              </p:nvSpPr>
              <p:spPr>
                <a:xfrm>
                  <a:off x="6956640" y="1691640"/>
                  <a:ext cx="18036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2" name=""/>
                <p:cNvSpPr/>
                <p:nvPr/>
              </p:nvSpPr>
              <p:spPr>
                <a:xfrm>
                  <a:off x="6963840" y="1544760"/>
                  <a:ext cx="17964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3" name=""/>
                <p:cNvSpPr/>
                <p:nvPr/>
              </p:nvSpPr>
              <p:spPr>
                <a:xfrm>
                  <a:off x="6949800" y="1830600"/>
                  <a:ext cx="17949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34" name=""/>
              <p:cNvGrpSpPr/>
              <p:nvPr/>
            </p:nvGrpSpPr>
            <p:grpSpPr>
              <a:xfrm>
                <a:off x="5943600" y="2231280"/>
                <a:ext cx="1803960" cy="621000"/>
                <a:chOff x="5943600" y="2231280"/>
                <a:chExt cx="1803960" cy="621000"/>
              </a:xfrm>
            </p:grpSpPr>
            <p:sp>
              <p:nvSpPr>
                <p:cNvPr id="5735" name=""/>
                <p:cNvSpPr/>
                <p:nvPr/>
              </p:nvSpPr>
              <p:spPr>
                <a:xfrm>
                  <a:off x="7158960" y="2852280"/>
                  <a:ext cx="5842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6" name=""/>
                <p:cNvSpPr/>
                <p:nvPr/>
              </p:nvSpPr>
              <p:spPr>
                <a:xfrm>
                  <a:off x="5952960" y="2231280"/>
                  <a:ext cx="17946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7" name=""/>
                <p:cNvSpPr/>
                <p:nvPr/>
              </p:nvSpPr>
              <p:spPr>
                <a:xfrm>
                  <a:off x="5948280" y="2409840"/>
                  <a:ext cx="17946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8" name=""/>
                <p:cNvSpPr/>
                <p:nvPr/>
              </p:nvSpPr>
              <p:spPr>
                <a:xfrm>
                  <a:off x="7155720" y="2703600"/>
                  <a:ext cx="5889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9" name=""/>
                <p:cNvSpPr/>
                <p:nvPr/>
              </p:nvSpPr>
              <p:spPr>
                <a:xfrm>
                  <a:off x="5943600" y="2556720"/>
                  <a:ext cx="5911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0" name=""/>
                <p:cNvSpPr/>
                <p:nvPr/>
              </p:nvSpPr>
              <p:spPr>
                <a:xfrm>
                  <a:off x="7155720" y="2556720"/>
                  <a:ext cx="5889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1" name=""/>
                <p:cNvSpPr/>
                <p:nvPr/>
              </p:nvSpPr>
              <p:spPr>
                <a:xfrm>
                  <a:off x="5948280" y="2703600"/>
                  <a:ext cx="5911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2" name=""/>
                <p:cNvSpPr/>
                <p:nvPr/>
              </p:nvSpPr>
              <p:spPr>
                <a:xfrm>
                  <a:off x="5948280" y="2848680"/>
                  <a:ext cx="5842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743" name=""/>
            <p:cNvGrpSpPr/>
            <p:nvPr/>
          </p:nvGrpSpPr>
          <p:grpSpPr>
            <a:xfrm>
              <a:off x="5942160" y="1071720"/>
              <a:ext cx="2814480" cy="1777320"/>
              <a:chOff x="5942160" y="1071720"/>
              <a:chExt cx="2814480" cy="1777320"/>
            </a:xfrm>
          </p:grpSpPr>
          <p:sp>
            <p:nvSpPr>
              <p:cNvPr id="5744" name=""/>
              <p:cNvSpPr/>
              <p:nvPr/>
            </p:nvSpPr>
            <p:spPr>
              <a:xfrm>
                <a:off x="6846480" y="2098440"/>
                <a:ext cx="0" cy="309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45" name=""/>
              <p:cNvGrpSpPr/>
              <p:nvPr/>
            </p:nvGrpSpPr>
            <p:grpSpPr>
              <a:xfrm>
                <a:off x="5942160" y="1071720"/>
                <a:ext cx="2814480" cy="1777320"/>
                <a:chOff x="5942160" y="1071720"/>
                <a:chExt cx="2814480" cy="1777320"/>
              </a:xfrm>
            </p:grpSpPr>
            <p:grpSp>
              <p:nvGrpSpPr>
                <p:cNvPr id="5746" name=""/>
                <p:cNvGrpSpPr/>
                <p:nvPr/>
              </p:nvGrpSpPr>
              <p:grpSpPr>
                <a:xfrm>
                  <a:off x="6960960" y="1071720"/>
                  <a:ext cx="1795680" cy="757080"/>
                  <a:chOff x="6960960" y="1071720"/>
                  <a:chExt cx="1795680" cy="757080"/>
                </a:xfrm>
              </p:grpSpPr>
              <p:sp>
                <p:nvSpPr>
                  <p:cNvPr id="5747" name=""/>
                  <p:cNvSpPr/>
                  <p:nvPr/>
                </p:nvSpPr>
                <p:spPr>
                  <a:xfrm>
                    <a:off x="8469360" y="1165320"/>
                    <a:ext cx="0" cy="6634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8" name=""/>
                  <p:cNvSpPr/>
                  <p:nvPr/>
                </p:nvSpPr>
                <p:spPr>
                  <a:xfrm>
                    <a:off x="8756640" y="1215360"/>
                    <a:ext cx="0" cy="613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9" name=""/>
                  <p:cNvSpPr/>
                  <p:nvPr/>
                </p:nvSpPr>
                <p:spPr>
                  <a:xfrm>
                    <a:off x="8169480" y="1126080"/>
                    <a:ext cx="0" cy="702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0" name=""/>
                  <p:cNvSpPr/>
                  <p:nvPr/>
                </p:nvSpPr>
                <p:spPr>
                  <a:xfrm>
                    <a:off x="7859520" y="1071720"/>
                    <a:ext cx="0" cy="757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1" name=""/>
                  <p:cNvSpPr/>
                  <p:nvPr/>
                </p:nvSpPr>
                <p:spPr>
                  <a:xfrm>
                    <a:off x="7547760" y="1119240"/>
                    <a:ext cx="0" cy="7095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2" name=""/>
                  <p:cNvSpPr/>
                  <p:nvPr/>
                </p:nvSpPr>
                <p:spPr>
                  <a:xfrm>
                    <a:off x="6960960" y="1212480"/>
                    <a:ext cx="0" cy="6163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3" name=""/>
                  <p:cNvSpPr/>
                  <p:nvPr/>
                </p:nvSpPr>
                <p:spPr>
                  <a:xfrm>
                    <a:off x="7261200" y="1170360"/>
                    <a:ext cx="0" cy="6584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54" name=""/>
                <p:cNvGrpSpPr/>
                <p:nvPr/>
              </p:nvGrpSpPr>
              <p:grpSpPr>
                <a:xfrm>
                  <a:off x="5942160" y="2136960"/>
                  <a:ext cx="1801800" cy="712080"/>
                  <a:chOff x="5942160" y="2136960"/>
                  <a:chExt cx="1801800" cy="712080"/>
                </a:xfrm>
              </p:grpSpPr>
              <p:sp>
                <p:nvSpPr>
                  <p:cNvPr id="5755" name=""/>
                  <p:cNvSpPr/>
                  <p:nvPr/>
                </p:nvSpPr>
                <p:spPr>
                  <a:xfrm>
                    <a:off x="7456680" y="2183040"/>
                    <a:ext cx="0" cy="666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6" name=""/>
                  <p:cNvSpPr/>
                  <p:nvPr/>
                </p:nvSpPr>
                <p:spPr>
                  <a:xfrm>
                    <a:off x="7743960" y="2229840"/>
                    <a:ext cx="0" cy="613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7" name=""/>
                  <p:cNvSpPr/>
                  <p:nvPr/>
                </p:nvSpPr>
                <p:spPr>
                  <a:xfrm>
                    <a:off x="7156800" y="2140560"/>
                    <a:ext cx="0" cy="7052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8" name=""/>
                  <p:cNvSpPr/>
                  <p:nvPr/>
                </p:nvSpPr>
                <p:spPr>
                  <a:xfrm>
                    <a:off x="6535080" y="2136960"/>
                    <a:ext cx="0" cy="709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9" name=""/>
                  <p:cNvSpPr/>
                  <p:nvPr/>
                </p:nvSpPr>
                <p:spPr>
                  <a:xfrm flipH="1">
                    <a:off x="5942160" y="2226960"/>
                    <a:ext cx="5760" cy="622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0" name=""/>
                  <p:cNvSpPr/>
                  <p:nvPr/>
                </p:nvSpPr>
                <p:spPr>
                  <a:xfrm>
                    <a:off x="6248520" y="2187720"/>
                    <a:ext cx="0" cy="6580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5761" name=""/>
            <p:cNvGrpSpPr/>
            <p:nvPr/>
          </p:nvGrpSpPr>
          <p:grpSpPr>
            <a:xfrm>
              <a:off x="5941800" y="1207800"/>
              <a:ext cx="2814840" cy="1646280"/>
              <a:chOff x="5941800" y="1207800"/>
              <a:chExt cx="2814840" cy="1646280"/>
            </a:xfrm>
          </p:grpSpPr>
          <p:grpSp>
            <p:nvGrpSpPr>
              <p:cNvPr id="5762" name=""/>
              <p:cNvGrpSpPr/>
              <p:nvPr/>
            </p:nvGrpSpPr>
            <p:grpSpPr>
              <a:xfrm>
                <a:off x="7737480" y="2053800"/>
                <a:ext cx="172800" cy="794160"/>
                <a:chOff x="7737480" y="2053800"/>
                <a:chExt cx="172800" cy="794160"/>
              </a:xfrm>
            </p:grpSpPr>
            <p:sp>
              <p:nvSpPr>
                <p:cNvPr id="5763" name=""/>
                <p:cNvSpPr/>
                <p:nvPr/>
              </p:nvSpPr>
              <p:spPr>
                <a:xfrm flipV="1">
                  <a:off x="7740720" y="2385360"/>
                  <a:ext cx="169200" cy="462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4" name=""/>
                <p:cNvSpPr/>
                <p:nvPr/>
              </p:nvSpPr>
              <p:spPr>
                <a:xfrm flipH="1" flipV="1">
                  <a:off x="7737480" y="2222640"/>
                  <a:ext cx="172440" cy="162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5" name=""/>
                <p:cNvSpPr/>
                <p:nvPr/>
              </p:nvSpPr>
              <p:spPr>
                <a:xfrm flipH="1" flipV="1">
                  <a:off x="7740720" y="2545920"/>
                  <a:ext cx="169200" cy="133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6" name=""/>
                <p:cNvSpPr/>
                <p:nvPr/>
              </p:nvSpPr>
              <p:spPr>
                <a:xfrm flipV="1">
                  <a:off x="7740720" y="2056680"/>
                  <a:ext cx="169200" cy="490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7" name=""/>
                <p:cNvSpPr/>
                <p:nvPr/>
              </p:nvSpPr>
              <p:spPr>
                <a:xfrm flipV="1">
                  <a:off x="7737840" y="2053800"/>
                  <a:ext cx="166320" cy="165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8" name=""/>
                <p:cNvSpPr/>
                <p:nvPr/>
              </p:nvSpPr>
              <p:spPr>
                <a:xfrm>
                  <a:off x="7741080" y="2223360"/>
                  <a:ext cx="0" cy="622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9" name=""/>
                <p:cNvSpPr/>
                <p:nvPr/>
              </p:nvSpPr>
              <p:spPr>
                <a:xfrm flipV="1">
                  <a:off x="7741080" y="2383200"/>
                  <a:ext cx="166320" cy="165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0" name=""/>
                <p:cNvSpPr/>
                <p:nvPr/>
              </p:nvSpPr>
              <p:spPr>
                <a:xfrm>
                  <a:off x="7910280" y="2059920"/>
                  <a:ext cx="0" cy="622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71" name=""/>
              <p:cNvGrpSpPr/>
              <p:nvPr/>
            </p:nvGrpSpPr>
            <p:grpSpPr>
              <a:xfrm>
                <a:off x="5941800" y="2059920"/>
                <a:ext cx="172800" cy="794160"/>
                <a:chOff x="5941800" y="2059920"/>
                <a:chExt cx="172800" cy="794160"/>
              </a:xfrm>
            </p:grpSpPr>
            <p:sp>
              <p:nvSpPr>
                <p:cNvPr id="5772" name=""/>
                <p:cNvSpPr/>
                <p:nvPr/>
              </p:nvSpPr>
              <p:spPr>
                <a:xfrm flipV="1">
                  <a:off x="5945040" y="2391480"/>
                  <a:ext cx="169200" cy="462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3" name=""/>
                <p:cNvSpPr/>
                <p:nvPr/>
              </p:nvSpPr>
              <p:spPr>
                <a:xfrm flipH="1" flipV="1">
                  <a:off x="5941800" y="2228760"/>
                  <a:ext cx="172440" cy="162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4" name=""/>
                <p:cNvSpPr/>
                <p:nvPr/>
              </p:nvSpPr>
              <p:spPr>
                <a:xfrm flipH="1" flipV="1">
                  <a:off x="5945040" y="2552040"/>
                  <a:ext cx="169200" cy="133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5" name=""/>
                <p:cNvSpPr/>
                <p:nvPr/>
              </p:nvSpPr>
              <p:spPr>
                <a:xfrm flipV="1">
                  <a:off x="5945040" y="2062800"/>
                  <a:ext cx="169200" cy="490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6" name=""/>
                <p:cNvSpPr/>
                <p:nvPr/>
              </p:nvSpPr>
              <p:spPr>
                <a:xfrm flipV="1">
                  <a:off x="5942160" y="2059920"/>
                  <a:ext cx="166320" cy="165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7" name=""/>
                <p:cNvSpPr/>
                <p:nvPr/>
              </p:nvSpPr>
              <p:spPr>
                <a:xfrm>
                  <a:off x="5945400" y="2229480"/>
                  <a:ext cx="0" cy="622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8" name=""/>
                <p:cNvSpPr/>
                <p:nvPr/>
              </p:nvSpPr>
              <p:spPr>
                <a:xfrm flipV="1">
                  <a:off x="5945400" y="2389320"/>
                  <a:ext cx="166320" cy="165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9" name=""/>
                <p:cNvSpPr/>
                <p:nvPr/>
              </p:nvSpPr>
              <p:spPr>
                <a:xfrm>
                  <a:off x="6114600" y="2066040"/>
                  <a:ext cx="0" cy="622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80" name=""/>
              <p:cNvGrpSpPr/>
              <p:nvPr/>
            </p:nvGrpSpPr>
            <p:grpSpPr>
              <a:xfrm>
                <a:off x="8583840" y="1207800"/>
                <a:ext cx="172800" cy="794160"/>
                <a:chOff x="8583840" y="1207800"/>
                <a:chExt cx="172800" cy="794160"/>
              </a:xfrm>
            </p:grpSpPr>
            <p:sp>
              <p:nvSpPr>
                <p:cNvPr id="5781" name=""/>
                <p:cNvSpPr/>
                <p:nvPr/>
              </p:nvSpPr>
              <p:spPr>
                <a:xfrm flipV="1">
                  <a:off x="8587080" y="1539360"/>
                  <a:ext cx="169200" cy="462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2" name=""/>
                <p:cNvSpPr/>
                <p:nvPr/>
              </p:nvSpPr>
              <p:spPr>
                <a:xfrm flipH="1" flipV="1">
                  <a:off x="8583840" y="1376640"/>
                  <a:ext cx="172440" cy="162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3" name=""/>
                <p:cNvSpPr/>
                <p:nvPr/>
              </p:nvSpPr>
              <p:spPr>
                <a:xfrm flipH="1" flipV="1">
                  <a:off x="8587080" y="1699920"/>
                  <a:ext cx="169200" cy="133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4" name=""/>
                <p:cNvSpPr/>
                <p:nvPr/>
              </p:nvSpPr>
              <p:spPr>
                <a:xfrm flipV="1">
                  <a:off x="8587080" y="1210680"/>
                  <a:ext cx="169200" cy="490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5" name=""/>
                <p:cNvSpPr/>
                <p:nvPr/>
              </p:nvSpPr>
              <p:spPr>
                <a:xfrm flipV="1">
                  <a:off x="8584200" y="1207800"/>
                  <a:ext cx="166320" cy="165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6" name=""/>
                <p:cNvSpPr/>
                <p:nvPr/>
              </p:nvSpPr>
              <p:spPr>
                <a:xfrm>
                  <a:off x="8587440" y="1377360"/>
                  <a:ext cx="0" cy="622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7" name=""/>
                <p:cNvSpPr/>
                <p:nvPr/>
              </p:nvSpPr>
              <p:spPr>
                <a:xfrm flipV="1">
                  <a:off x="8587440" y="1537200"/>
                  <a:ext cx="166320" cy="165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8" name=""/>
                <p:cNvSpPr/>
                <p:nvPr/>
              </p:nvSpPr>
              <p:spPr>
                <a:xfrm>
                  <a:off x="8756640" y="1213920"/>
                  <a:ext cx="0" cy="622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89" name=""/>
              <p:cNvGrpSpPr/>
              <p:nvPr/>
            </p:nvGrpSpPr>
            <p:grpSpPr>
              <a:xfrm>
                <a:off x="6788160" y="1216800"/>
                <a:ext cx="172800" cy="794160"/>
                <a:chOff x="6788160" y="1216800"/>
                <a:chExt cx="172800" cy="794160"/>
              </a:xfrm>
            </p:grpSpPr>
            <p:sp>
              <p:nvSpPr>
                <p:cNvPr id="5790" name=""/>
                <p:cNvSpPr/>
                <p:nvPr/>
              </p:nvSpPr>
              <p:spPr>
                <a:xfrm flipV="1">
                  <a:off x="6791400" y="1548360"/>
                  <a:ext cx="169200" cy="462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1" name=""/>
                <p:cNvSpPr/>
                <p:nvPr/>
              </p:nvSpPr>
              <p:spPr>
                <a:xfrm flipH="1" flipV="1">
                  <a:off x="6788160" y="1385640"/>
                  <a:ext cx="172440" cy="162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2" name=""/>
                <p:cNvSpPr/>
                <p:nvPr/>
              </p:nvSpPr>
              <p:spPr>
                <a:xfrm flipH="1" flipV="1">
                  <a:off x="6791400" y="1708920"/>
                  <a:ext cx="169200" cy="133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3" name=""/>
                <p:cNvSpPr/>
                <p:nvPr/>
              </p:nvSpPr>
              <p:spPr>
                <a:xfrm flipV="1">
                  <a:off x="6791400" y="1219680"/>
                  <a:ext cx="169200" cy="490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4" name=""/>
                <p:cNvSpPr/>
                <p:nvPr/>
              </p:nvSpPr>
              <p:spPr>
                <a:xfrm flipV="1">
                  <a:off x="6788520" y="1216800"/>
                  <a:ext cx="166320" cy="165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5" name=""/>
                <p:cNvSpPr/>
                <p:nvPr/>
              </p:nvSpPr>
              <p:spPr>
                <a:xfrm>
                  <a:off x="6791760" y="1386360"/>
                  <a:ext cx="0" cy="622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6" name=""/>
                <p:cNvSpPr/>
                <p:nvPr/>
              </p:nvSpPr>
              <p:spPr>
                <a:xfrm flipV="1">
                  <a:off x="6791760" y="1546200"/>
                  <a:ext cx="166320" cy="1659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7" name=""/>
                <p:cNvSpPr/>
                <p:nvPr/>
              </p:nvSpPr>
              <p:spPr>
                <a:xfrm>
                  <a:off x="6960960" y="1222920"/>
                  <a:ext cx="0" cy="622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798" name=""/>
            <p:cNvGrpSpPr/>
            <p:nvPr/>
          </p:nvGrpSpPr>
          <p:grpSpPr>
            <a:xfrm>
              <a:off x="6114960" y="1244160"/>
              <a:ext cx="2471760" cy="1435320"/>
              <a:chOff x="6114960" y="1244160"/>
              <a:chExt cx="2471760" cy="1435320"/>
            </a:xfrm>
          </p:grpSpPr>
          <p:grpSp>
            <p:nvGrpSpPr>
              <p:cNvPr id="5799" name=""/>
              <p:cNvGrpSpPr/>
              <p:nvPr/>
            </p:nvGrpSpPr>
            <p:grpSpPr>
              <a:xfrm>
                <a:off x="6114960" y="1920600"/>
                <a:ext cx="1794960" cy="758880"/>
                <a:chOff x="6114960" y="1920600"/>
                <a:chExt cx="1794960" cy="758880"/>
              </a:xfrm>
            </p:grpSpPr>
            <p:sp>
              <p:nvSpPr>
                <p:cNvPr id="5800" name=""/>
                <p:cNvSpPr/>
                <p:nvPr/>
              </p:nvSpPr>
              <p:spPr>
                <a:xfrm flipV="1">
                  <a:off x="6114960" y="2058480"/>
                  <a:ext cx="0" cy="621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1" name=""/>
                <p:cNvSpPr/>
                <p:nvPr/>
              </p:nvSpPr>
              <p:spPr>
                <a:xfrm flipV="1">
                  <a:off x="6114960" y="1920600"/>
                  <a:ext cx="897480" cy="137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2" name=""/>
                <p:cNvSpPr/>
                <p:nvPr/>
              </p:nvSpPr>
              <p:spPr>
                <a:xfrm flipV="1">
                  <a:off x="7909920" y="2058480"/>
                  <a:ext cx="0" cy="621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3" name=""/>
                <p:cNvSpPr/>
                <p:nvPr/>
              </p:nvSpPr>
              <p:spPr>
                <a:xfrm flipH="1" flipV="1">
                  <a:off x="7012080" y="1920600"/>
                  <a:ext cx="897480" cy="137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04" name=""/>
              <p:cNvGrpSpPr/>
              <p:nvPr/>
            </p:nvGrpSpPr>
            <p:grpSpPr>
              <a:xfrm>
                <a:off x="6284160" y="1751400"/>
                <a:ext cx="1794960" cy="758880"/>
                <a:chOff x="6284160" y="1751400"/>
                <a:chExt cx="1794960" cy="758880"/>
              </a:xfrm>
            </p:grpSpPr>
            <p:sp>
              <p:nvSpPr>
                <p:cNvPr id="5805" name=""/>
                <p:cNvSpPr/>
                <p:nvPr/>
              </p:nvSpPr>
              <p:spPr>
                <a:xfrm flipV="1">
                  <a:off x="6284160" y="1889280"/>
                  <a:ext cx="0" cy="621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6" name=""/>
                <p:cNvSpPr/>
                <p:nvPr/>
              </p:nvSpPr>
              <p:spPr>
                <a:xfrm flipV="1">
                  <a:off x="6284160" y="1751400"/>
                  <a:ext cx="897480" cy="137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7" name=""/>
                <p:cNvSpPr/>
                <p:nvPr/>
              </p:nvSpPr>
              <p:spPr>
                <a:xfrm flipV="1">
                  <a:off x="8079120" y="1889280"/>
                  <a:ext cx="0" cy="621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8" name=""/>
                <p:cNvSpPr/>
                <p:nvPr/>
              </p:nvSpPr>
              <p:spPr>
                <a:xfrm flipH="1" flipV="1">
                  <a:off x="7181280" y="1751400"/>
                  <a:ext cx="897480" cy="137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09" name=""/>
              <p:cNvGrpSpPr/>
              <p:nvPr/>
            </p:nvGrpSpPr>
            <p:grpSpPr>
              <a:xfrm>
                <a:off x="6453360" y="1582200"/>
                <a:ext cx="1794960" cy="758880"/>
                <a:chOff x="6453360" y="1582200"/>
                <a:chExt cx="1794960" cy="758880"/>
              </a:xfrm>
            </p:grpSpPr>
            <p:sp>
              <p:nvSpPr>
                <p:cNvPr id="5810" name=""/>
                <p:cNvSpPr/>
                <p:nvPr/>
              </p:nvSpPr>
              <p:spPr>
                <a:xfrm flipV="1">
                  <a:off x="6453360" y="1720080"/>
                  <a:ext cx="0" cy="621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1" name=""/>
                <p:cNvSpPr/>
                <p:nvPr/>
              </p:nvSpPr>
              <p:spPr>
                <a:xfrm flipV="1">
                  <a:off x="6453360" y="1582200"/>
                  <a:ext cx="897480" cy="137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2" name=""/>
                <p:cNvSpPr/>
                <p:nvPr/>
              </p:nvSpPr>
              <p:spPr>
                <a:xfrm flipV="1">
                  <a:off x="8248320" y="1720080"/>
                  <a:ext cx="0" cy="621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3" name=""/>
                <p:cNvSpPr/>
                <p:nvPr/>
              </p:nvSpPr>
              <p:spPr>
                <a:xfrm flipH="1" flipV="1">
                  <a:off x="7350480" y="1582200"/>
                  <a:ext cx="897480" cy="137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14" name=""/>
              <p:cNvGrpSpPr/>
              <p:nvPr/>
            </p:nvGrpSpPr>
            <p:grpSpPr>
              <a:xfrm>
                <a:off x="6622560" y="1413000"/>
                <a:ext cx="1794960" cy="758880"/>
                <a:chOff x="6622560" y="1413000"/>
                <a:chExt cx="1794960" cy="758880"/>
              </a:xfrm>
            </p:grpSpPr>
            <p:sp>
              <p:nvSpPr>
                <p:cNvPr id="5815" name=""/>
                <p:cNvSpPr/>
                <p:nvPr/>
              </p:nvSpPr>
              <p:spPr>
                <a:xfrm flipV="1">
                  <a:off x="6622560" y="1550880"/>
                  <a:ext cx="0" cy="621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6" name=""/>
                <p:cNvSpPr/>
                <p:nvPr/>
              </p:nvSpPr>
              <p:spPr>
                <a:xfrm flipV="1">
                  <a:off x="6622560" y="1413000"/>
                  <a:ext cx="897480" cy="137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7" name=""/>
                <p:cNvSpPr/>
                <p:nvPr/>
              </p:nvSpPr>
              <p:spPr>
                <a:xfrm flipV="1">
                  <a:off x="8417520" y="1550880"/>
                  <a:ext cx="0" cy="621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8" name=""/>
                <p:cNvSpPr/>
                <p:nvPr/>
              </p:nvSpPr>
              <p:spPr>
                <a:xfrm flipH="1" flipV="1">
                  <a:off x="7519680" y="1413000"/>
                  <a:ext cx="897480" cy="137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19" name=""/>
              <p:cNvGrpSpPr/>
              <p:nvPr/>
            </p:nvGrpSpPr>
            <p:grpSpPr>
              <a:xfrm>
                <a:off x="6791760" y="1244160"/>
                <a:ext cx="1794960" cy="758880"/>
                <a:chOff x="6791760" y="1244160"/>
                <a:chExt cx="1794960" cy="758880"/>
              </a:xfrm>
            </p:grpSpPr>
            <p:sp>
              <p:nvSpPr>
                <p:cNvPr id="5820" name=""/>
                <p:cNvSpPr/>
                <p:nvPr/>
              </p:nvSpPr>
              <p:spPr>
                <a:xfrm flipV="1">
                  <a:off x="6791760" y="1382040"/>
                  <a:ext cx="0" cy="621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1" name=""/>
                <p:cNvSpPr/>
                <p:nvPr/>
              </p:nvSpPr>
              <p:spPr>
                <a:xfrm flipV="1">
                  <a:off x="6791760" y="1244160"/>
                  <a:ext cx="897480" cy="137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2" name=""/>
                <p:cNvSpPr/>
                <p:nvPr/>
              </p:nvSpPr>
              <p:spPr>
                <a:xfrm flipV="1">
                  <a:off x="8586720" y="1382040"/>
                  <a:ext cx="0" cy="621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3" name=""/>
                <p:cNvSpPr/>
                <p:nvPr/>
              </p:nvSpPr>
              <p:spPr>
                <a:xfrm flipH="1" flipV="1">
                  <a:off x="7688880" y="1244160"/>
                  <a:ext cx="897480" cy="137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824" name=""/>
            <p:cNvGrpSpPr/>
            <p:nvPr/>
          </p:nvGrpSpPr>
          <p:grpSpPr>
            <a:xfrm>
              <a:off x="5946840" y="1074240"/>
              <a:ext cx="2809800" cy="1775160"/>
              <a:chOff x="5946840" y="1074240"/>
              <a:chExt cx="2809800" cy="1775160"/>
            </a:xfrm>
          </p:grpSpPr>
          <p:sp>
            <p:nvSpPr>
              <p:cNvPr id="5825" name=""/>
              <p:cNvSpPr/>
              <p:nvPr/>
            </p:nvSpPr>
            <p:spPr>
              <a:xfrm flipV="1">
                <a:off x="5946840" y="2089440"/>
                <a:ext cx="897480" cy="1378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6" name=""/>
              <p:cNvSpPr/>
              <p:nvPr/>
            </p:nvSpPr>
            <p:spPr>
              <a:xfrm flipH="1" flipV="1">
                <a:off x="6844320" y="2089440"/>
                <a:ext cx="897120" cy="1378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7" name=""/>
              <p:cNvSpPr/>
              <p:nvPr/>
            </p:nvSpPr>
            <p:spPr>
              <a:xfrm flipV="1">
                <a:off x="6961680" y="1074240"/>
                <a:ext cx="897480" cy="1378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28" name=""/>
              <p:cNvGrpSpPr/>
              <p:nvPr/>
            </p:nvGrpSpPr>
            <p:grpSpPr>
              <a:xfrm>
                <a:off x="5946840" y="1212480"/>
                <a:ext cx="2809800" cy="1636920"/>
                <a:chOff x="5946840" y="1212480"/>
                <a:chExt cx="2809800" cy="1636920"/>
              </a:xfrm>
            </p:grpSpPr>
            <p:sp>
              <p:nvSpPr>
                <p:cNvPr id="5829" name=""/>
                <p:cNvSpPr/>
                <p:nvPr/>
              </p:nvSpPr>
              <p:spPr>
                <a:xfrm flipV="1">
                  <a:off x="5946840" y="2228040"/>
                  <a:ext cx="0" cy="621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0" name=""/>
                <p:cNvSpPr/>
                <p:nvPr/>
              </p:nvSpPr>
              <p:spPr>
                <a:xfrm flipV="1">
                  <a:off x="7741440" y="2228040"/>
                  <a:ext cx="0" cy="621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1" name=""/>
                <p:cNvSpPr/>
                <p:nvPr/>
              </p:nvSpPr>
              <p:spPr>
                <a:xfrm flipV="1">
                  <a:off x="6961680" y="1212480"/>
                  <a:ext cx="0" cy="621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2" name=""/>
                <p:cNvSpPr/>
                <p:nvPr/>
              </p:nvSpPr>
              <p:spPr>
                <a:xfrm flipV="1">
                  <a:off x="8756640" y="1212480"/>
                  <a:ext cx="0" cy="621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33" name=""/>
              <p:cNvSpPr/>
              <p:nvPr/>
            </p:nvSpPr>
            <p:spPr>
              <a:xfrm flipH="1" flipV="1">
                <a:off x="7859160" y="1074240"/>
                <a:ext cx="897120" cy="1378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34" name=""/>
            <p:cNvGrpSpPr/>
            <p:nvPr/>
          </p:nvGrpSpPr>
          <p:grpSpPr>
            <a:xfrm>
              <a:off x="5946840" y="1386000"/>
              <a:ext cx="2809440" cy="1465200"/>
              <a:chOff x="5946840" y="1386000"/>
              <a:chExt cx="2809440" cy="1465200"/>
            </a:xfrm>
          </p:grpSpPr>
          <p:grpSp>
            <p:nvGrpSpPr>
              <p:cNvPr id="5835" name=""/>
              <p:cNvGrpSpPr/>
              <p:nvPr/>
            </p:nvGrpSpPr>
            <p:grpSpPr>
              <a:xfrm>
                <a:off x="5946840" y="1395360"/>
                <a:ext cx="1014840" cy="1455480"/>
                <a:chOff x="5946840" y="1395360"/>
                <a:chExt cx="1014840" cy="1455480"/>
              </a:xfrm>
            </p:grpSpPr>
            <p:sp>
              <p:nvSpPr>
                <p:cNvPr id="5836" name=""/>
                <p:cNvSpPr/>
                <p:nvPr/>
              </p:nvSpPr>
              <p:spPr>
                <a:xfrm flipV="1">
                  <a:off x="5946840" y="1395360"/>
                  <a:ext cx="1014840" cy="1013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7" name=""/>
                <p:cNvSpPr/>
                <p:nvPr/>
              </p:nvSpPr>
              <p:spPr>
                <a:xfrm flipV="1">
                  <a:off x="5946840" y="1550520"/>
                  <a:ext cx="1014840" cy="1013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8" name=""/>
                <p:cNvSpPr/>
                <p:nvPr/>
              </p:nvSpPr>
              <p:spPr>
                <a:xfrm flipV="1">
                  <a:off x="5946840" y="1688400"/>
                  <a:ext cx="1014840" cy="1013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9" name=""/>
                <p:cNvSpPr/>
                <p:nvPr/>
              </p:nvSpPr>
              <p:spPr>
                <a:xfrm flipV="1">
                  <a:off x="5946840" y="1837080"/>
                  <a:ext cx="1014840" cy="1013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40" name=""/>
              <p:cNvGrpSpPr/>
              <p:nvPr/>
            </p:nvGrpSpPr>
            <p:grpSpPr>
              <a:xfrm>
                <a:off x="7741440" y="1386000"/>
                <a:ext cx="1014840" cy="1465200"/>
                <a:chOff x="7741440" y="1386000"/>
                <a:chExt cx="1014840" cy="1465200"/>
              </a:xfrm>
            </p:grpSpPr>
            <p:sp>
              <p:nvSpPr>
                <p:cNvPr id="5841" name=""/>
                <p:cNvSpPr/>
                <p:nvPr/>
              </p:nvSpPr>
              <p:spPr>
                <a:xfrm flipV="1">
                  <a:off x="7741440" y="1837440"/>
                  <a:ext cx="1014840" cy="1013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2" name=""/>
                <p:cNvSpPr/>
                <p:nvPr/>
              </p:nvSpPr>
              <p:spPr>
                <a:xfrm flipV="1">
                  <a:off x="7741440" y="1386000"/>
                  <a:ext cx="1014840" cy="1013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3" name=""/>
                <p:cNvSpPr/>
                <p:nvPr/>
              </p:nvSpPr>
              <p:spPr>
                <a:xfrm flipV="1">
                  <a:off x="7741440" y="1541160"/>
                  <a:ext cx="1014840" cy="1013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4" name=""/>
                <p:cNvSpPr/>
                <p:nvPr/>
              </p:nvSpPr>
              <p:spPr>
                <a:xfrm flipV="1">
                  <a:off x="7741440" y="1690200"/>
                  <a:ext cx="1014840" cy="1013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845" name=""/>
            <p:cNvSpPr/>
            <p:nvPr/>
          </p:nvSpPr>
          <p:spPr>
            <a:xfrm flipV="1">
              <a:off x="6846840" y="1079640"/>
              <a:ext cx="1015920" cy="10159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46" name=""/>
            <p:cNvGrpSpPr/>
            <p:nvPr/>
          </p:nvGrpSpPr>
          <p:grpSpPr>
            <a:xfrm>
              <a:off x="5946840" y="1212840"/>
              <a:ext cx="2808360" cy="1014480"/>
              <a:chOff x="5946840" y="1212840"/>
              <a:chExt cx="2808360" cy="1014480"/>
            </a:xfrm>
          </p:grpSpPr>
          <p:sp>
            <p:nvSpPr>
              <p:cNvPr id="5847" name=""/>
              <p:cNvSpPr/>
              <p:nvPr/>
            </p:nvSpPr>
            <p:spPr>
              <a:xfrm flipV="1">
                <a:off x="7737120" y="1212840"/>
                <a:ext cx="1018080" cy="1014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8" name=""/>
              <p:cNvSpPr/>
              <p:nvPr/>
            </p:nvSpPr>
            <p:spPr>
              <a:xfrm flipV="1">
                <a:off x="5946840" y="1212840"/>
                <a:ext cx="1015200" cy="1014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49" name=""/>
            <p:cNvGrpSpPr/>
            <p:nvPr/>
          </p:nvGrpSpPr>
          <p:grpSpPr>
            <a:xfrm>
              <a:off x="6080040" y="1095120"/>
              <a:ext cx="2532240" cy="1113840"/>
              <a:chOff x="6080040" y="1095120"/>
              <a:chExt cx="2532240" cy="1113840"/>
            </a:xfrm>
          </p:grpSpPr>
          <p:sp>
            <p:nvSpPr>
              <p:cNvPr id="5850" name=""/>
              <p:cNvSpPr/>
              <p:nvPr/>
            </p:nvSpPr>
            <p:spPr>
              <a:xfrm flipV="1">
                <a:off x="7013160" y="1099440"/>
                <a:ext cx="1017720" cy="1017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1" name=""/>
              <p:cNvSpPr/>
              <p:nvPr/>
            </p:nvSpPr>
            <p:spPr>
              <a:xfrm flipV="1">
                <a:off x="7165800" y="1113120"/>
                <a:ext cx="1017720" cy="1017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2" name=""/>
              <p:cNvSpPr/>
              <p:nvPr/>
            </p:nvSpPr>
            <p:spPr>
              <a:xfrm flipV="1">
                <a:off x="7453440" y="1162800"/>
                <a:ext cx="1017720" cy="1017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3" name=""/>
              <p:cNvSpPr/>
              <p:nvPr/>
            </p:nvSpPr>
            <p:spPr>
              <a:xfrm flipV="1">
                <a:off x="7594560" y="1191960"/>
                <a:ext cx="1017720" cy="1017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4" name=""/>
              <p:cNvSpPr/>
              <p:nvPr/>
            </p:nvSpPr>
            <p:spPr>
              <a:xfrm flipV="1">
                <a:off x="6080040" y="1191960"/>
                <a:ext cx="1004040" cy="1017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5" name=""/>
              <p:cNvSpPr/>
              <p:nvPr/>
            </p:nvSpPr>
            <p:spPr>
              <a:xfrm flipV="1">
                <a:off x="6247080" y="1168560"/>
                <a:ext cx="1004040" cy="1017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6" name=""/>
              <p:cNvSpPr/>
              <p:nvPr/>
            </p:nvSpPr>
            <p:spPr>
              <a:xfrm flipV="1">
                <a:off x="6532920" y="1122840"/>
                <a:ext cx="1004040" cy="1017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7" name=""/>
              <p:cNvSpPr/>
              <p:nvPr/>
            </p:nvSpPr>
            <p:spPr>
              <a:xfrm flipV="1">
                <a:off x="6687000" y="1095120"/>
                <a:ext cx="1007640" cy="1017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8" name=""/>
              <p:cNvSpPr/>
              <p:nvPr/>
            </p:nvSpPr>
            <p:spPr>
              <a:xfrm flipV="1">
                <a:off x="6385680" y="1146240"/>
                <a:ext cx="1004040" cy="1017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9" name=""/>
              <p:cNvSpPr/>
              <p:nvPr/>
            </p:nvSpPr>
            <p:spPr>
              <a:xfrm flipV="1">
                <a:off x="7292520" y="1141200"/>
                <a:ext cx="1017720" cy="10245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60" name=""/>
            <p:cNvGrpSpPr/>
            <p:nvPr/>
          </p:nvGrpSpPr>
          <p:grpSpPr>
            <a:xfrm>
              <a:off x="5943600" y="1072800"/>
              <a:ext cx="2816280" cy="1154160"/>
              <a:chOff x="5943600" y="1072800"/>
              <a:chExt cx="2816280" cy="1154160"/>
            </a:xfrm>
          </p:grpSpPr>
          <p:grpSp>
            <p:nvGrpSpPr>
              <p:cNvPr id="5861" name=""/>
              <p:cNvGrpSpPr/>
              <p:nvPr/>
            </p:nvGrpSpPr>
            <p:grpSpPr>
              <a:xfrm>
                <a:off x="5943600" y="1918080"/>
                <a:ext cx="1964880" cy="308880"/>
                <a:chOff x="5943600" y="1918080"/>
                <a:chExt cx="1964880" cy="308880"/>
              </a:xfrm>
            </p:grpSpPr>
            <p:sp>
              <p:nvSpPr>
                <p:cNvPr id="5862" name=""/>
                <p:cNvSpPr/>
                <p:nvPr/>
              </p:nvSpPr>
              <p:spPr>
                <a:xfrm flipH="1" flipV="1">
                  <a:off x="7010640" y="1919520"/>
                  <a:ext cx="152640" cy="2156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3" name=""/>
                <p:cNvSpPr/>
                <p:nvPr/>
              </p:nvSpPr>
              <p:spPr>
                <a:xfrm flipH="1">
                  <a:off x="6524280" y="1919880"/>
                  <a:ext cx="486000" cy="2156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4" name=""/>
                <p:cNvSpPr/>
                <p:nvPr/>
              </p:nvSpPr>
              <p:spPr>
                <a:xfrm flipH="1" flipV="1">
                  <a:off x="7601040" y="2002320"/>
                  <a:ext cx="137880" cy="2242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5" name=""/>
                <p:cNvSpPr/>
                <p:nvPr/>
              </p:nvSpPr>
              <p:spPr>
                <a:xfrm flipV="1">
                  <a:off x="7451280" y="2056680"/>
                  <a:ext cx="457200" cy="1270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6" name=""/>
                <p:cNvSpPr/>
                <p:nvPr/>
              </p:nvSpPr>
              <p:spPr>
                <a:xfrm flipH="1" flipV="1">
                  <a:off x="7312320" y="1970280"/>
                  <a:ext cx="138960" cy="213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7" name=""/>
                <p:cNvSpPr/>
                <p:nvPr/>
              </p:nvSpPr>
              <p:spPr>
                <a:xfrm flipH="1">
                  <a:off x="7151400" y="2009520"/>
                  <a:ext cx="473400" cy="1260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8" name=""/>
                <p:cNvSpPr/>
                <p:nvPr/>
              </p:nvSpPr>
              <p:spPr>
                <a:xfrm flipH="1">
                  <a:off x="6865920" y="1970640"/>
                  <a:ext cx="446400" cy="1155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9" name=""/>
                <p:cNvSpPr/>
                <p:nvPr/>
              </p:nvSpPr>
              <p:spPr>
                <a:xfrm flipH="1" flipV="1">
                  <a:off x="6694200" y="1960560"/>
                  <a:ext cx="171000" cy="1249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0" name=""/>
                <p:cNvSpPr/>
                <p:nvPr/>
              </p:nvSpPr>
              <p:spPr>
                <a:xfrm flipH="1" flipV="1">
                  <a:off x="6411960" y="2009160"/>
                  <a:ext cx="117720" cy="1292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1" name=""/>
                <p:cNvSpPr/>
                <p:nvPr/>
              </p:nvSpPr>
              <p:spPr>
                <a:xfrm flipH="1">
                  <a:off x="6242040" y="1970640"/>
                  <a:ext cx="452160" cy="213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2" name=""/>
                <p:cNvSpPr/>
                <p:nvPr/>
              </p:nvSpPr>
              <p:spPr>
                <a:xfrm flipH="1" flipV="1">
                  <a:off x="6112800" y="2056680"/>
                  <a:ext cx="131040" cy="1213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3" name=""/>
                <p:cNvSpPr/>
                <p:nvPr/>
              </p:nvSpPr>
              <p:spPr>
                <a:xfrm flipH="1">
                  <a:off x="5943600" y="2009520"/>
                  <a:ext cx="468720" cy="217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4" name=""/>
                <p:cNvSpPr/>
                <p:nvPr/>
              </p:nvSpPr>
              <p:spPr>
                <a:xfrm flipV="1">
                  <a:off x="7736400" y="2056680"/>
                  <a:ext cx="165960" cy="165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5" name=""/>
                <p:cNvSpPr/>
                <p:nvPr/>
              </p:nvSpPr>
              <p:spPr>
                <a:xfrm flipV="1">
                  <a:off x="6853680" y="1918080"/>
                  <a:ext cx="165960" cy="165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6" name=""/>
                <p:cNvSpPr/>
                <p:nvPr/>
              </p:nvSpPr>
              <p:spPr>
                <a:xfrm flipV="1">
                  <a:off x="7156080" y="1966320"/>
                  <a:ext cx="165960" cy="165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7" name=""/>
                <p:cNvSpPr/>
                <p:nvPr/>
              </p:nvSpPr>
              <p:spPr>
                <a:xfrm flipV="1">
                  <a:off x="5946480" y="2053800"/>
                  <a:ext cx="165960" cy="165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8" name=""/>
                <p:cNvSpPr/>
                <p:nvPr/>
              </p:nvSpPr>
              <p:spPr>
                <a:xfrm flipV="1">
                  <a:off x="6248880" y="2008440"/>
                  <a:ext cx="165960" cy="165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9" name=""/>
                <p:cNvSpPr/>
                <p:nvPr/>
              </p:nvSpPr>
              <p:spPr>
                <a:xfrm flipV="1">
                  <a:off x="6533280" y="1966320"/>
                  <a:ext cx="165960" cy="165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0" name=""/>
                <p:cNvSpPr/>
                <p:nvPr/>
              </p:nvSpPr>
              <p:spPr>
                <a:xfrm flipV="1">
                  <a:off x="6109920" y="1920960"/>
                  <a:ext cx="903960" cy="135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1" name=""/>
                <p:cNvSpPr/>
                <p:nvPr/>
              </p:nvSpPr>
              <p:spPr>
                <a:xfrm flipV="1">
                  <a:off x="5946480" y="2090160"/>
                  <a:ext cx="903960" cy="135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2" name=""/>
                <p:cNvSpPr/>
                <p:nvPr/>
              </p:nvSpPr>
              <p:spPr>
                <a:xfrm>
                  <a:off x="6850800" y="2090520"/>
                  <a:ext cx="879480" cy="135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3" name=""/>
                <p:cNvSpPr/>
                <p:nvPr/>
              </p:nvSpPr>
              <p:spPr>
                <a:xfrm>
                  <a:off x="7016760" y="1921320"/>
                  <a:ext cx="879480" cy="135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4" name=""/>
                <p:cNvSpPr/>
                <p:nvPr/>
              </p:nvSpPr>
              <p:spPr>
                <a:xfrm flipV="1">
                  <a:off x="7443360" y="2017440"/>
                  <a:ext cx="165960" cy="165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85" name=""/>
              <p:cNvGrpSpPr/>
              <p:nvPr/>
            </p:nvGrpSpPr>
            <p:grpSpPr>
              <a:xfrm>
                <a:off x="6795000" y="1072800"/>
                <a:ext cx="1964880" cy="308880"/>
                <a:chOff x="6795000" y="1072800"/>
                <a:chExt cx="1964880" cy="308880"/>
              </a:xfrm>
            </p:grpSpPr>
            <p:sp>
              <p:nvSpPr>
                <p:cNvPr id="5886" name=""/>
                <p:cNvSpPr/>
                <p:nvPr/>
              </p:nvSpPr>
              <p:spPr>
                <a:xfrm flipH="1" flipV="1">
                  <a:off x="7862040" y="1074240"/>
                  <a:ext cx="152640" cy="2156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7" name=""/>
                <p:cNvSpPr/>
                <p:nvPr/>
              </p:nvSpPr>
              <p:spPr>
                <a:xfrm flipH="1">
                  <a:off x="7375680" y="1074600"/>
                  <a:ext cx="486000" cy="2156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8" name=""/>
                <p:cNvSpPr/>
                <p:nvPr/>
              </p:nvSpPr>
              <p:spPr>
                <a:xfrm flipH="1" flipV="1">
                  <a:off x="8452440" y="1157040"/>
                  <a:ext cx="137880" cy="2242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9" name=""/>
                <p:cNvSpPr/>
                <p:nvPr/>
              </p:nvSpPr>
              <p:spPr>
                <a:xfrm flipV="1">
                  <a:off x="8302680" y="1211400"/>
                  <a:ext cx="457200" cy="1270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0" name=""/>
                <p:cNvSpPr/>
                <p:nvPr/>
              </p:nvSpPr>
              <p:spPr>
                <a:xfrm flipH="1" flipV="1">
                  <a:off x="8163720" y="1125000"/>
                  <a:ext cx="138960" cy="213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1" name=""/>
                <p:cNvSpPr/>
                <p:nvPr/>
              </p:nvSpPr>
              <p:spPr>
                <a:xfrm flipH="1">
                  <a:off x="8002800" y="1164240"/>
                  <a:ext cx="473400" cy="1260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2" name=""/>
                <p:cNvSpPr/>
                <p:nvPr/>
              </p:nvSpPr>
              <p:spPr>
                <a:xfrm flipH="1">
                  <a:off x="7717320" y="1125360"/>
                  <a:ext cx="446400" cy="1155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3" name=""/>
                <p:cNvSpPr/>
                <p:nvPr/>
              </p:nvSpPr>
              <p:spPr>
                <a:xfrm flipH="1" flipV="1">
                  <a:off x="7545600" y="1115280"/>
                  <a:ext cx="171000" cy="1249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4" name=""/>
                <p:cNvSpPr/>
                <p:nvPr/>
              </p:nvSpPr>
              <p:spPr>
                <a:xfrm flipH="1" flipV="1">
                  <a:off x="7263360" y="1163880"/>
                  <a:ext cx="117720" cy="1292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5" name=""/>
                <p:cNvSpPr/>
                <p:nvPr/>
              </p:nvSpPr>
              <p:spPr>
                <a:xfrm flipH="1">
                  <a:off x="7093440" y="1125360"/>
                  <a:ext cx="452160" cy="213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6" name=""/>
                <p:cNvSpPr/>
                <p:nvPr/>
              </p:nvSpPr>
              <p:spPr>
                <a:xfrm flipH="1" flipV="1">
                  <a:off x="6964200" y="1211400"/>
                  <a:ext cx="131040" cy="1213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7" name=""/>
                <p:cNvSpPr/>
                <p:nvPr/>
              </p:nvSpPr>
              <p:spPr>
                <a:xfrm flipH="1">
                  <a:off x="6795000" y="1164240"/>
                  <a:ext cx="468720" cy="217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8" name=""/>
                <p:cNvSpPr/>
                <p:nvPr/>
              </p:nvSpPr>
              <p:spPr>
                <a:xfrm flipV="1">
                  <a:off x="8587800" y="1211400"/>
                  <a:ext cx="165960" cy="165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9" name=""/>
                <p:cNvSpPr/>
                <p:nvPr/>
              </p:nvSpPr>
              <p:spPr>
                <a:xfrm flipV="1">
                  <a:off x="7705080" y="1072800"/>
                  <a:ext cx="165960" cy="165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0" name=""/>
                <p:cNvSpPr/>
                <p:nvPr/>
              </p:nvSpPr>
              <p:spPr>
                <a:xfrm flipV="1">
                  <a:off x="8007480" y="1121040"/>
                  <a:ext cx="165960" cy="165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1" name=""/>
                <p:cNvSpPr/>
                <p:nvPr/>
              </p:nvSpPr>
              <p:spPr>
                <a:xfrm flipV="1">
                  <a:off x="6797880" y="1208520"/>
                  <a:ext cx="165960" cy="165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2" name=""/>
                <p:cNvSpPr/>
                <p:nvPr/>
              </p:nvSpPr>
              <p:spPr>
                <a:xfrm flipV="1">
                  <a:off x="7100280" y="1163160"/>
                  <a:ext cx="165960" cy="165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3" name=""/>
                <p:cNvSpPr/>
                <p:nvPr/>
              </p:nvSpPr>
              <p:spPr>
                <a:xfrm flipV="1">
                  <a:off x="7384680" y="1121040"/>
                  <a:ext cx="165960" cy="165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4" name=""/>
                <p:cNvSpPr/>
                <p:nvPr/>
              </p:nvSpPr>
              <p:spPr>
                <a:xfrm flipV="1">
                  <a:off x="6961320" y="1075680"/>
                  <a:ext cx="903960" cy="135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5" name=""/>
                <p:cNvSpPr/>
                <p:nvPr/>
              </p:nvSpPr>
              <p:spPr>
                <a:xfrm flipV="1">
                  <a:off x="6797880" y="1244880"/>
                  <a:ext cx="903960" cy="135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6" name=""/>
                <p:cNvSpPr/>
                <p:nvPr/>
              </p:nvSpPr>
              <p:spPr>
                <a:xfrm>
                  <a:off x="7702200" y="1245240"/>
                  <a:ext cx="879480" cy="135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7" name=""/>
                <p:cNvSpPr/>
                <p:nvPr/>
              </p:nvSpPr>
              <p:spPr>
                <a:xfrm>
                  <a:off x="7868160" y="1076040"/>
                  <a:ext cx="879480" cy="135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8" name=""/>
                <p:cNvSpPr/>
                <p:nvPr/>
              </p:nvSpPr>
              <p:spPr>
                <a:xfrm flipV="1">
                  <a:off x="8294760" y="1172160"/>
                  <a:ext cx="165960" cy="165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9" name=""/>
          <p:cNvSpPr/>
          <p:nvPr/>
        </p:nvSpPr>
        <p:spPr>
          <a:xfrm flipH="1">
            <a:off x="1616040" y="4403880"/>
            <a:ext cx="868320" cy="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0" name=""/>
          <p:cNvSpPr/>
          <p:nvPr/>
        </p:nvSpPr>
        <p:spPr>
          <a:xfrm flipV="1">
            <a:off x="5780880" y="2160360"/>
            <a:ext cx="596880" cy="63072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11" name=""/>
          <p:cNvGrpSpPr/>
          <p:nvPr/>
        </p:nvGrpSpPr>
        <p:grpSpPr>
          <a:xfrm>
            <a:off x="1806480" y="2576520"/>
            <a:ext cx="5446800" cy="3435480"/>
            <a:chOff x="1806480" y="2576520"/>
            <a:chExt cx="5446800" cy="3435480"/>
          </a:xfrm>
        </p:grpSpPr>
        <p:grpSp>
          <p:nvGrpSpPr>
            <p:cNvPr id="5912" name=""/>
            <p:cNvGrpSpPr/>
            <p:nvPr/>
          </p:nvGrpSpPr>
          <p:grpSpPr>
            <a:xfrm>
              <a:off x="1806480" y="2576520"/>
              <a:ext cx="5446800" cy="3435480"/>
              <a:chOff x="1806480" y="2576520"/>
              <a:chExt cx="5446800" cy="3435480"/>
            </a:xfrm>
          </p:grpSpPr>
          <p:grpSp>
            <p:nvGrpSpPr>
              <p:cNvPr id="5913" name=""/>
              <p:cNvGrpSpPr/>
              <p:nvPr/>
            </p:nvGrpSpPr>
            <p:grpSpPr>
              <a:xfrm>
                <a:off x="5284800" y="2846520"/>
                <a:ext cx="1968480" cy="3163680"/>
                <a:chOff x="5284800" y="2846520"/>
                <a:chExt cx="1968480" cy="3163680"/>
              </a:xfrm>
            </p:grpSpPr>
            <p:sp>
              <p:nvSpPr>
                <p:cNvPr id="5914" name=""/>
                <p:cNvSpPr/>
                <p:nvPr/>
              </p:nvSpPr>
              <p:spPr>
                <a:xfrm>
                  <a:off x="5284800" y="2846520"/>
                  <a:ext cx="1968480" cy="3163680"/>
                </a:xfrm>
                <a:custGeom>
                  <a:avLst/>
                  <a:gdLst/>
                  <a:ahLst/>
                  <a:rect l="l" t="t" r="r" b="b"/>
                  <a:pathLst>
                    <a:path w="5055" h="8115">
                      <a:moveTo>
                        <a:pt x="0" y="5025"/>
                      </a:moveTo>
                      <a:lnTo>
                        <a:pt x="0" y="8115"/>
                      </a:lnTo>
                      <a:lnTo>
                        <a:pt x="5051" y="3066"/>
                      </a:lnTo>
                      <a:lnTo>
                        <a:pt x="5055" y="0"/>
                      </a:lnTo>
                      <a:lnTo>
                        <a:pt x="0" y="5025"/>
                      </a:lnTo>
                      <a:close/>
                    </a:path>
                  </a:pathLst>
                </a:cu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5" name=""/>
                <p:cNvSpPr/>
                <p:nvPr/>
              </p:nvSpPr>
              <p:spPr>
                <a:xfrm>
                  <a:off x="5465880" y="3265560"/>
                  <a:ext cx="1665720" cy="1983960"/>
                </a:xfrm>
                <a:custGeom>
                  <a:avLst/>
                  <a:gdLst/>
                  <a:ahLst/>
                  <a:rect l="l" t="t" r="r" b="b"/>
                  <a:pathLst>
                    <a:path w="4235" h="5090">
                      <a:moveTo>
                        <a:pt x="0" y="4250"/>
                      </a:moveTo>
                      <a:lnTo>
                        <a:pt x="0" y="5090"/>
                      </a:lnTo>
                      <a:lnTo>
                        <a:pt x="4235" y="840"/>
                      </a:lnTo>
                      <a:lnTo>
                        <a:pt x="4235" y="0"/>
                      </a:lnTo>
                      <a:lnTo>
                        <a:pt x="0" y="4250"/>
                      </a:lnTo>
                      <a:close/>
                    </a:path>
                  </a:pathLst>
                </a:cu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16" name=""/>
              <p:cNvGrpSpPr/>
              <p:nvPr/>
            </p:nvGrpSpPr>
            <p:grpSpPr>
              <a:xfrm>
                <a:off x="1819440" y="2576520"/>
                <a:ext cx="5433840" cy="2228760"/>
                <a:chOff x="1819440" y="2576520"/>
                <a:chExt cx="5433840" cy="2228760"/>
              </a:xfrm>
            </p:grpSpPr>
            <p:sp>
              <p:nvSpPr>
                <p:cNvPr id="5917" name=""/>
                <p:cNvSpPr/>
                <p:nvPr/>
              </p:nvSpPr>
              <p:spPr>
                <a:xfrm>
                  <a:off x="1819440" y="2576520"/>
                  <a:ext cx="5433840" cy="2228760"/>
                </a:xfrm>
                <a:custGeom>
                  <a:avLst/>
                  <a:gdLst/>
                  <a:ahLst/>
                  <a:rect l="l" t="t" r="r" b="b"/>
                  <a:pathLst>
                    <a:path w="13950" h="5715">
                      <a:moveTo>
                        <a:pt x="8880" y="5715"/>
                      </a:moveTo>
                      <a:lnTo>
                        <a:pt x="4425" y="5010"/>
                      </a:lnTo>
                      <a:lnTo>
                        <a:pt x="0" y="5685"/>
                      </a:lnTo>
                      <a:lnTo>
                        <a:pt x="5010" y="675"/>
                      </a:lnTo>
                      <a:lnTo>
                        <a:pt x="9495" y="0"/>
                      </a:lnTo>
                      <a:lnTo>
                        <a:pt x="13950" y="675"/>
                      </a:lnTo>
                      <a:lnTo>
                        <a:pt x="8880" y="5715"/>
                      </a:lnTo>
                      <a:close/>
                    </a:path>
                  </a:pathLst>
                </a:cu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18" name=""/>
                <p:cNvGrpSpPr/>
                <p:nvPr/>
              </p:nvGrpSpPr>
              <p:grpSpPr>
                <a:xfrm>
                  <a:off x="2256120" y="2761920"/>
                  <a:ext cx="4541400" cy="1849320"/>
                  <a:chOff x="2256120" y="2761920"/>
                  <a:chExt cx="4541400" cy="1849320"/>
                </a:xfrm>
              </p:grpSpPr>
              <p:sp>
                <p:nvSpPr>
                  <p:cNvPr id="5919" name=""/>
                  <p:cNvSpPr/>
                  <p:nvPr/>
                </p:nvSpPr>
                <p:spPr>
                  <a:xfrm>
                    <a:off x="4046400" y="2761920"/>
                    <a:ext cx="1922400" cy="168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935" h="4310">
                        <a:moveTo>
                          <a:pt x="0" y="4215"/>
                        </a:moveTo>
                        <a:lnTo>
                          <a:pt x="705" y="4310"/>
                        </a:lnTo>
                        <a:lnTo>
                          <a:pt x="4935" y="80"/>
                        </a:lnTo>
                        <a:lnTo>
                          <a:pt x="4210" y="0"/>
                        </a:lnTo>
                        <a:lnTo>
                          <a:pt x="0" y="4215"/>
                        </a:lnTo>
                        <a:close/>
                      </a:path>
                    </a:pathLst>
                  </a:custGeom>
                  <a:blipFill rotWithShape="0">
                    <a:blip r:embed="rId4"/>
                    <a:srcRect/>
                    <a:tile tx="0" ty="0" sx="100000" sy="100000" algn="ctr"/>
                  </a:blipFill>
                  <a:ln w="936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0" name=""/>
                  <p:cNvSpPr/>
                  <p:nvPr/>
                </p:nvSpPr>
                <p:spPr>
                  <a:xfrm>
                    <a:off x="4875480" y="2930400"/>
                    <a:ext cx="1922040" cy="168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935" h="4310">
                        <a:moveTo>
                          <a:pt x="0" y="4215"/>
                        </a:moveTo>
                        <a:lnTo>
                          <a:pt x="705" y="4310"/>
                        </a:lnTo>
                        <a:lnTo>
                          <a:pt x="4935" y="80"/>
                        </a:lnTo>
                        <a:lnTo>
                          <a:pt x="4210" y="0"/>
                        </a:lnTo>
                        <a:lnTo>
                          <a:pt x="0" y="4215"/>
                        </a:lnTo>
                        <a:close/>
                      </a:path>
                    </a:pathLst>
                  </a:custGeom>
                  <a:blipFill rotWithShape="0">
                    <a:blip r:embed="rId5"/>
                    <a:srcRect/>
                    <a:tile tx="0" ty="0" sx="100000" sy="100000" algn="ctr"/>
                  </a:blipFill>
                  <a:ln w="936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1" name=""/>
                  <p:cNvSpPr/>
                  <p:nvPr/>
                </p:nvSpPr>
                <p:spPr>
                  <a:xfrm>
                    <a:off x="3108240" y="2789280"/>
                    <a:ext cx="1951920" cy="1677960"/>
                  </a:xfrm>
                  <a:custGeom>
                    <a:avLst/>
                    <a:gdLst/>
                    <a:ahLst/>
                    <a:rect l="l" t="t" r="r" b="b"/>
                    <a:pathLst>
                      <a:path w="4966" h="4324">
                        <a:moveTo>
                          <a:pt x="796" y="4185"/>
                        </a:moveTo>
                        <a:lnTo>
                          <a:pt x="0" y="4324"/>
                        </a:lnTo>
                        <a:lnTo>
                          <a:pt x="4151" y="155"/>
                        </a:lnTo>
                        <a:lnTo>
                          <a:pt x="4966" y="0"/>
                        </a:lnTo>
                        <a:lnTo>
                          <a:pt x="796" y="4185"/>
                        </a:lnTo>
                        <a:close/>
                      </a:path>
                    </a:pathLst>
                  </a:custGeom>
                  <a:blipFill rotWithShape="0">
                    <a:blip r:embed="rId6"/>
                    <a:srcRect/>
                    <a:tile tx="0" ty="0" sx="100000" sy="100000" algn="ctr"/>
                  </a:blipFill>
                  <a:ln w="936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2" name=""/>
                  <p:cNvSpPr/>
                  <p:nvPr/>
                </p:nvSpPr>
                <p:spPr>
                  <a:xfrm>
                    <a:off x="2256120" y="2936880"/>
                    <a:ext cx="1951200" cy="1661040"/>
                  </a:xfrm>
                  <a:custGeom>
                    <a:avLst/>
                    <a:gdLst/>
                    <a:ahLst/>
                    <a:rect l="l" t="t" r="r" b="b"/>
                    <a:pathLst>
                      <a:path w="4966" h="4324">
                        <a:moveTo>
                          <a:pt x="796" y="4185"/>
                        </a:moveTo>
                        <a:lnTo>
                          <a:pt x="0" y="4324"/>
                        </a:lnTo>
                        <a:lnTo>
                          <a:pt x="4151" y="155"/>
                        </a:lnTo>
                        <a:lnTo>
                          <a:pt x="4966" y="0"/>
                        </a:lnTo>
                        <a:lnTo>
                          <a:pt x="796" y="4185"/>
                        </a:lnTo>
                        <a:close/>
                      </a:path>
                    </a:pathLst>
                  </a:custGeom>
                  <a:blipFill rotWithShape="0">
                    <a:blip r:embed="rId7"/>
                    <a:srcRect/>
                    <a:tile tx="0" ty="0" sx="100000" sy="100000" algn="ctr"/>
                  </a:blipFill>
                  <a:ln w="936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923" name=""/>
              <p:cNvSpPr/>
              <p:nvPr/>
            </p:nvSpPr>
            <p:spPr>
              <a:xfrm>
                <a:off x="2962440" y="5113440"/>
                <a:ext cx="1177920" cy="89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4" name=""/>
              <p:cNvSpPr/>
              <p:nvPr/>
            </p:nvSpPr>
            <p:spPr>
              <a:xfrm>
                <a:off x="1806480" y="4537080"/>
                <a:ext cx="3468960" cy="1468440"/>
              </a:xfrm>
              <a:custGeom>
                <a:avLst/>
                <a:gdLst/>
                <a:ahLst/>
                <a:rect l="l" t="t" r="r" b="b"/>
                <a:pathLst>
                  <a:path w="7267" h="3090">
                    <a:moveTo>
                      <a:pt x="7265" y="3090"/>
                    </a:moveTo>
                    <a:lnTo>
                      <a:pt x="7267" y="560"/>
                    </a:lnTo>
                    <a:lnTo>
                      <a:pt x="3618" y="0"/>
                    </a:lnTo>
                    <a:lnTo>
                      <a:pt x="0" y="559"/>
                    </a:lnTo>
                    <a:lnTo>
                      <a:pt x="0" y="3090"/>
                    </a:lnTo>
                    <a:lnTo>
                      <a:pt x="2417" y="3090"/>
                    </a:lnTo>
                    <a:lnTo>
                      <a:pt x="2394" y="1212"/>
                    </a:lnTo>
                    <a:lnTo>
                      <a:pt x="4883" y="1212"/>
                    </a:lnTo>
                    <a:lnTo>
                      <a:pt x="4878" y="3090"/>
                    </a:lnTo>
                    <a:lnTo>
                      <a:pt x="7265" y="3090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5" name=""/>
              <p:cNvSpPr/>
              <p:nvPr/>
            </p:nvSpPr>
            <p:spPr>
              <a:xfrm>
                <a:off x="3402000" y="5112000"/>
                <a:ext cx="1203480" cy="90000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26" name=""/>
            <p:cNvSpPr/>
            <p:nvPr/>
          </p:nvSpPr>
          <p:spPr>
            <a:xfrm flipV="1">
              <a:off x="3556080" y="2589120"/>
              <a:ext cx="1944720" cy="19443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27" name=""/>
          <p:cNvSpPr/>
          <p:nvPr/>
        </p:nvSpPr>
        <p:spPr>
          <a:xfrm>
            <a:off x="628560" y="661032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Suiv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8" name="">
            <a:hlinkClick r:id="" action="ppaction://hlinkshowjump?jump=nextslide"/>
          </p:cNvPr>
          <p:cNvSpPr/>
          <p:nvPr/>
        </p:nvSpPr>
        <p:spPr>
          <a:xfrm>
            <a:off x="765000" y="62737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9" name=""/>
          <p:cNvSpPr/>
          <p:nvPr/>
        </p:nvSpPr>
        <p:spPr>
          <a:xfrm>
            <a:off x="1157400" y="208080"/>
            <a:ext cx="6929280" cy="1708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ous l’action directe du vent, la paroi directement offerte au vent est soumise à une pression et la paroi opposée est, en même temps, soumise à une dépres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outes les surfaces (verticales et toitures)  sont affectées en même temp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0" name=""/>
          <p:cNvSpPr/>
          <p:nvPr/>
        </p:nvSpPr>
        <p:spPr>
          <a:xfrm>
            <a:off x="2379600" y="4762440"/>
            <a:ext cx="94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re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1" name=""/>
          <p:cNvSpPr/>
          <p:nvPr/>
        </p:nvSpPr>
        <p:spPr>
          <a:xfrm>
            <a:off x="6465960" y="4365720"/>
            <a:ext cx="868320" cy="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2" name=""/>
          <p:cNvSpPr/>
          <p:nvPr/>
        </p:nvSpPr>
        <p:spPr>
          <a:xfrm flipV="1">
            <a:off x="2941560" y="4843440"/>
            <a:ext cx="598680" cy="6314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3" name=""/>
          <p:cNvSpPr/>
          <p:nvPr/>
        </p:nvSpPr>
        <p:spPr>
          <a:xfrm>
            <a:off x="2986200" y="2298600"/>
            <a:ext cx="117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Dépre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4" name=""/>
          <p:cNvSpPr/>
          <p:nvPr/>
        </p:nvSpPr>
        <p:spPr>
          <a:xfrm flipH="1" flipV="1">
            <a:off x="3633840" y="2606760"/>
            <a:ext cx="185760" cy="93816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5" name=""/>
          <p:cNvSpPr/>
          <p:nvPr/>
        </p:nvSpPr>
        <p:spPr>
          <a:xfrm>
            <a:off x="6319800" y="2182680"/>
            <a:ext cx="117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Dépre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6" name=""/>
          <p:cNvSpPr/>
          <p:nvPr/>
        </p:nvSpPr>
        <p:spPr>
          <a:xfrm>
            <a:off x="6726240" y="4511520"/>
            <a:ext cx="117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Dépre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7" name=""/>
          <p:cNvSpPr/>
          <p:nvPr/>
        </p:nvSpPr>
        <p:spPr>
          <a:xfrm>
            <a:off x="1282680" y="3962520"/>
            <a:ext cx="117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Dépre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8" name=""/>
          <p:cNvSpPr/>
          <p:nvPr/>
        </p:nvSpPr>
        <p:spPr>
          <a:xfrm>
            <a:off x="1736640" y="6369120"/>
            <a:ext cx="137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cc"/>
                </a:solidFill>
                <a:latin typeface="Comic Sans MS"/>
              </a:rPr>
              <a:t>Sens d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9" name=""/>
          <p:cNvSpPr/>
          <p:nvPr/>
        </p:nvSpPr>
        <p:spPr>
          <a:xfrm rot="8034000">
            <a:off x="2858760" y="5708160"/>
            <a:ext cx="852480" cy="741600"/>
          </a:xfrm>
          <a:prstGeom prst="leftArrow">
            <a:avLst>
              <a:gd name="adj1" fmla="val 50000"/>
              <a:gd name="adj2" fmla="val 28738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0" name=""/>
          <p:cNvSpPr/>
          <p:nvPr/>
        </p:nvSpPr>
        <p:spPr>
          <a:xfrm flipV="1">
            <a:off x="5389560" y="2766960"/>
            <a:ext cx="231840" cy="90504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1" name=""/>
          <p:cNvSpPr/>
          <p:nvPr/>
        </p:nvSpPr>
        <p:spPr>
          <a:xfrm>
            <a:off x="5473800" y="3241800"/>
            <a:ext cx="117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Dépre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2" name="">
            <a:hlinkClick r:id="" action="ppaction://hlinkshowjump?jump=previousslide"/>
          </p:cNvPr>
          <p:cNvSpPr/>
          <p:nvPr/>
        </p:nvSpPr>
        <p:spPr>
          <a:xfrm>
            <a:off x="243000" y="62722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3" name=""/>
          <p:cNvSpPr/>
          <p:nvPr/>
        </p:nvSpPr>
        <p:spPr>
          <a:xfrm>
            <a:off x="128520" y="6610320"/>
            <a:ext cx="58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Arriè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4" name=""/>
          <p:cNvGrpSpPr/>
          <p:nvPr/>
        </p:nvGrpSpPr>
        <p:grpSpPr>
          <a:xfrm>
            <a:off x="3086280" y="1028880"/>
            <a:ext cx="2971800" cy="2887560"/>
            <a:chOff x="3086280" y="1028880"/>
            <a:chExt cx="2971800" cy="2887560"/>
          </a:xfrm>
        </p:grpSpPr>
        <p:sp>
          <p:nvSpPr>
            <p:cNvPr id="5945" name=""/>
            <p:cNvSpPr/>
            <p:nvPr/>
          </p:nvSpPr>
          <p:spPr>
            <a:xfrm>
              <a:off x="3100320" y="1028880"/>
              <a:ext cx="2941560" cy="2887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6" name=""/>
            <p:cNvSpPr/>
            <p:nvPr/>
          </p:nvSpPr>
          <p:spPr>
            <a:xfrm>
              <a:off x="3216240" y="1141200"/>
              <a:ext cx="2712960" cy="266184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7" name=""/>
            <p:cNvSpPr/>
            <p:nvPr/>
          </p:nvSpPr>
          <p:spPr>
            <a:xfrm>
              <a:off x="3086280" y="187632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ffffff"/>
                  </a:solidFill>
                  <a:latin typeface="Arial"/>
                </a:rPr>
                <a:t>STOP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48" name=""/>
          <p:cNvSpPr/>
          <p:nvPr/>
        </p:nvSpPr>
        <p:spPr>
          <a:xfrm>
            <a:off x="0" y="437688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99ff"/>
                </a:solidFill>
                <a:latin typeface="Arial"/>
              </a:rPr>
              <a:t>FIN DE CE MODU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9" name="">
            <a:hlinkClick r:id="" action="ppaction://hlinkshowjump?jump=endshow"/>
          </p:cNvPr>
          <p:cNvSpPr/>
          <p:nvPr/>
        </p:nvSpPr>
        <p:spPr>
          <a:xfrm>
            <a:off x="518652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0" name="">
            <a:hlinkClick r:id="" action="ppaction://hlinkshowjump?jump=previousslide"/>
          </p:cNvPr>
          <p:cNvSpPr/>
          <p:nvPr/>
        </p:nvSpPr>
        <p:spPr>
          <a:xfrm>
            <a:off x="243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1" name=""/>
          <p:cNvSpPr/>
          <p:nvPr/>
        </p:nvSpPr>
        <p:spPr>
          <a:xfrm>
            <a:off x="128520" y="6608880"/>
            <a:ext cx="58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Arriè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2" name=""/>
          <p:cNvSpPr/>
          <p:nvPr/>
        </p:nvSpPr>
        <p:spPr>
          <a:xfrm>
            <a:off x="5557680" y="6219720"/>
            <a:ext cx="1089360" cy="5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cc99"/>
                </a:solidFill>
                <a:latin typeface="Arial"/>
              </a:rPr>
              <a:t>Arrêt de Steel</a:t>
            </a:r>
            <a:r>
              <a:rPr b="1" lang="fr-FR" sz="1600" spc="-1" strike="noStrike" baseline="-25000">
                <a:solidFill>
                  <a:srgbClr val="00cc99"/>
                </a:solidFill>
                <a:latin typeface="Arial"/>
              </a:rPr>
              <a:t>CU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3" name=""/>
          <p:cNvSpPr/>
          <p:nvPr/>
        </p:nvSpPr>
        <p:spPr>
          <a:xfrm>
            <a:off x="3749760" y="6224760"/>
            <a:ext cx="1334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Retour au menu géné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4" name=""/>
          <p:cNvSpPr/>
          <p:nvPr/>
        </p:nvSpPr>
        <p:spPr>
          <a:xfrm>
            <a:off x="339876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5" name=""/>
          <p:cNvSpPr/>
          <p:nvPr/>
        </p:nvSpPr>
        <p:spPr>
          <a:xfrm>
            <a:off x="971640" y="1844640"/>
            <a:ext cx="702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Ecrans d’appréciation ou d’inform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6" name=""/>
          <p:cNvSpPr/>
          <p:nvPr/>
        </p:nvSpPr>
        <p:spPr>
          <a:xfrm>
            <a:off x="1973160" y="4067280"/>
            <a:ext cx="242748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NON 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7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8" name="" descr=""/>
          <p:cNvPicPr/>
          <p:nvPr/>
        </p:nvPicPr>
        <p:blipFill>
          <a:blip r:embed="rId1"/>
          <a:stretch/>
        </p:blipFill>
        <p:spPr>
          <a:xfrm>
            <a:off x="4286160" y="1955880"/>
            <a:ext cx="3149640" cy="3149640"/>
          </a:xfrm>
          <a:prstGeom prst="rect">
            <a:avLst/>
          </a:prstGeom>
          <a:ln w="0">
            <a:noFill/>
          </a:ln>
        </p:spPr>
      </p:pic>
      <p:sp>
        <p:nvSpPr>
          <p:cNvPr id="5959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0" name="" descr=""/>
          <p:cNvPicPr/>
          <p:nvPr/>
        </p:nvPicPr>
        <p:blipFill>
          <a:blip r:embed="rId1"/>
          <a:stretch/>
        </p:blipFill>
        <p:spPr>
          <a:xfrm>
            <a:off x="3597120" y="1779480"/>
            <a:ext cx="2106720" cy="2106720"/>
          </a:xfrm>
          <a:prstGeom prst="rect">
            <a:avLst/>
          </a:prstGeom>
          <a:ln w="0">
            <a:noFill/>
          </a:ln>
        </p:spPr>
      </p:pic>
      <p:sp>
        <p:nvSpPr>
          <p:cNvPr id="5961" name=""/>
          <p:cNvSpPr/>
          <p:nvPr/>
        </p:nvSpPr>
        <p:spPr>
          <a:xfrm>
            <a:off x="3316320" y="3987720"/>
            <a:ext cx="29480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RREUR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2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3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4" name=""/>
          <p:cNvSpPr/>
          <p:nvPr/>
        </p:nvSpPr>
        <p:spPr>
          <a:xfrm>
            <a:off x="0" y="4363920"/>
            <a:ext cx="914400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FAUX 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5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66" name="" descr=""/>
          <p:cNvPicPr/>
          <p:nvPr/>
        </p:nvPicPr>
        <p:blipFill>
          <a:blip r:embed="rId1"/>
          <a:stretch/>
        </p:blipFill>
        <p:spPr>
          <a:xfrm>
            <a:off x="2930400" y="1335240"/>
            <a:ext cx="3692520" cy="3117600"/>
          </a:xfrm>
          <a:prstGeom prst="rect">
            <a:avLst/>
          </a:prstGeom>
          <a:ln w="0">
            <a:noFill/>
          </a:ln>
        </p:spPr>
      </p:pic>
      <p:sp>
        <p:nvSpPr>
          <p:cNvPr id="5967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8" name=""/>
          <p:cNvSpPr/>
          <p:nvPr/>
        </p:nvSpPr>
        <p:spPr>
          <a:xfrm>
            <a:off x="0" y="490392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NON 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9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70" name="" descr=""/>
          <p:cNvPicPr/>
          <p:nvPr/>
        </p:nvPicPr>
        <p:blipFill>
          <a:blip r:embed="rId1"/>
          <a:stretch/>
        </p:blipFill>
        <p:spPr>
          <a:xfrm>
            <a:off x="3451320" y="1595520"/>
            <a:ext cx="2052720" cy="2940120"/>
          </a:xfrm>
          <a:prstGeom prst="rect">
            <a:avLst/>
          </a:prstGeom>
          <a:ln w="0">
            <a:noFill/>
          </a:ln>
        </p:spPr>
      </p:pic>
      <p:sp>
        <p:nvSpPr>
          <p:cNvPr id="5971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2" name=""/>
          <p:cNvSpPr/>
          <p:nvPr/>
        </p:nvSpPr>
        <p:spPr>
          <a:xfrm>
            <a:off x="4368960" y="2898720"/>
            <a:ext cx="36144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FAUX 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3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4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75" name="" descr=""/>
          <p:cNvPicPr/>
          <p:nvPr/>
        </p:nvPicPr>
        <p:blipFill>
          <a:blip r:embed="rId1"/>
          <a:stretch/>
        </p:blipFill>
        <p:spPr>
          <a:xfrm>
            <a:off x="1131840" y="1676520"/>
            <a:ext cx="3218040" cy="41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 flipV="1">
            <a:off x="2470320" y="2419200"/>
            <a:ext cx="0" cy="119088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76040" y="536400"/>
            <a:ext cx="875376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 type d’éléments est supporté par la poutre au ven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533520" y="2418840"/>
            <a:ext cx="5375160" cy="3144960"/>
            <a:chOff x="533520" y="2418840"/>
            <a:chExt cx="5375160" cy="3144960"/>
          </a:xfrm>
        </p:grpSpPr>
        <p:grpSp>
          <p:nvGrpSpPr>
            <p:cNvPr id="520" name=""/>
            <p:cNvGrpSpPr/>
            <p:nvPr/>
          </p:nvGrpSpPr>
          <p:grpSpPr>
            <a:xfrm>
              <a:off x="533520" y="2418840"/>
              <a:ext cx="5372640" cy="3144960"/>
              <a:chOff x="533520" y="2418840"/>
              <a:chExt cx="5372640" cy="3144960"/>
            </a:xfrm>
          </p:grpSpPr>
          <p:grpSp>
            <p:nvGrpSpPr>
              <p:cNvPr id="521" name=""/>
              <p:cNvGrpSpPr/>
              <p:nvPr/>
            </p:nvGrpSpPr>
            <p:grpSpPr>
              <a:xfrm>
                <a:off x="3951720" y="4039920"/>
                <a:ext cx="337680" cy="1517760"/>
                <a:chOff x="3951720" y="4039920"/>
                <a:chExt cx="337680" cy="1517760"/>
              </a:xfrm>
            </p:grpSpPr>
            <p:sp>
              <p:nvSpPr>
                <p:cNvPr id="522" name=""/>
                <p:cNvSpPr/>
                <p:nvPr/>
              </p:nvSpPr>
              <p:spPr>
                <a:xfrm flipV="1">
                  <a:off x="3965760" y="4670640"/>
                  <a:ext cx="322920" cy="887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flipH="1" flipV="1">
                  <a:off x="3959640" y="4358520"/>
                  <a:ext cx="328680" cy="311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 flipH="1" flipV="1">
                  <a:off x="3965400" y="4987440"/>
                  <a:ext cx="322920" cy="245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 flipV="1">
                  <a:off x="3965760" y="4039920"/>
                  <a:ext cx="322920" cy="940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 flipV="1">
                  <a:off x="3951720" y="4052520"/>
                  <a:ext cx="323280" cy="32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3966120" y="4359600"/>
                  <a:ext cx="0" cy="1193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4289400" y="4046400"/>
                  <a:ext cx="0" cy="1193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9" name=""/>
              <p:cNvGrpSpPr/>
              <p:nvPr/>
            </p:nvGrpSpPr>
            <p:grpSpPr>
              <a:xfrm>
                <a:off x="533520" y="4047480"/>
                <a:ext cx="325080" cy="1516320"/>
                <a:chOff x="533520" y="4047480"/>
                <a:chExt cx="325080" cy="1516320"/>
              </a:xfrm>
            </p:grpSpPr>
            <p:sp>
              <p:nvSpPr>
                <p:cNvPr id="530" name=""/>
                <p:cNvSpPr/>
                <p:nvPr/>
              </p:nvSpPr>
              <p:spPr>
                <a:xfrm flipV="1">
                  <a:off x="534600" y="4673520"/>
                  <a:ext cx="323280" cy="886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 flipH="1" flipV="1">
                  <a:off x="534600" y="4370760"/>
                  <a:ext cx="320400" cy="298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flipH="1" flipV="1">
                  <a:off x="533520" y="4997880"/>
                  <a:ext cx="323280" cy="241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 flipV="1">
                  <a:off x="534600" y="4047480"/>
                  <a:ext cx="321840" cy="944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flipV="1">
                  <a:off x="536760" y="404784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535320" y="4371120"/>
                  <a:ext cx="0" cy="1192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 flipH="1">
                  <a:off x="857160" y="4057920"/>
                  <a:ext cx="1440" cy="1179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7" name=""/>
              <p:cNvGrpSpPr/>
              <p:nvPr/>
            </p:nvGrpSpPr>
            <p:grpSpPr>
              <a:xfrm>
                <a:off x="5580360" y="2418840"/>
                <a:ext cx="325800" cy="1538640"/>
                <a:chOff x="5580360" y="2418840"/>
                <a:chExt cx="325800" cy="1538640"/>
              </a:xfrm>
            </p:grpSpPr>
            <p:sp>
              <p:nvSpPr>
                <p:cNvPr id="538" name=""/>
                <p:cNvSpPr/>
                <p:nvPr/>
              </p:nvSpPr>
              <p:spPr>
                <a:xfrm flipV="1">
                  <a:off x="5582880" y="3071160"/>
                  <a:ext cx="320400" cy="880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 flipH="1" flipV="1">
                  <a:off x="5580360" y="2744280"/>
                  <a:ext cx="321840" cy="332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 flipH="1" flipV="1">
                  <a:off x="5582880" y="3388320"/>
                  <a:ext cx="320400" cy="242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V="1">
                  <a:off x="5581440" y="2421360"/>
                  <a:ext cx="317520" cy="972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V="1">
                  <a:off x="5580720" y="2418840"/>
                  <a:ext cx="324720" cy="33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5585040" y="2739240"/>
                  <a:ext cx="0" cy="12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>
                  <a:off x="5905080" y="2424600"/>
                  <a:ext cx="1080" cy="1207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5" name=""/>
              <p:cNvGrpSpPr/>
              <p:nvPr/>
            </p:nvGrpSpPr>
            <p:grpSpPr>
              <a:xfrm>
                <a:off x="2152080" y="2421000"/>
                <a:ext cx="323280" cy="1531440"/>
                <a:chOff x="2152080" y="2421000"/>
                <a:chExt cx="323280" cy="1531440"/>
              </a:xfrm>
            </p:grpSpPr>
            <p:sp>
              <p:nvSpPr>
                <p:cNvPr id="546" name=""/>
                <p:cNvSpPr/>
                <p:nvPr/>
              </p:nvSpPr>
              <p:spPr>
                <a:xfrm flipV="1">
                  <a:off x="2152080" y="3075840"/>
                  <a:ext cx="321840" cy="876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H="1" flipV="1">
                  <a:off x="2153160" y="2748600"/>
                  <a:ext cx="318960" cy="32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 flipH="1" flipV="1">
                  <a:off x="2152080" y="3394800"/>
                  <a:ext cx="323280" cy="234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 flipV="1">
                  <a:off x="2152080" y="2421720"/>
                  <a:ext cx="323280" cy="972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V="1">
                  <a:off x="2153880" y="2422080"/>
                  <a:ext cx="31788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2152440" y="2755080"/>
                  <a:ext cx="0" cy="1192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2473200" y="2421000"/>
                  <a:ext cx="1080" cy="1208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53" name=""/>
            <p:cNvGrpSpPr/>
            <p:nvPr/>
          </p:nvGrpSpPr>
          <p:grpSpPr>
            <a:xfrm>
              <a:off x="537120" y="3070800"/>
              <a:ext cx="5371560" cy="1926000"/>
              <a:chOff x="537120" y="3070800"/>
              <a:chExt cx="5371560" cy="1926000"/>
            </a:xfrm>
          </p:grpSpPr>
          <p:sp>
            <p:nvSpPr>
              <p:cNvPr id="554" name=""/>
              <p:cNvSpPr/>
              <p:nvPr/>
            </p:nvSpPr>
            <p:spPr>
              <a:xfrm flipV="1">
                <a:off x="3969360" y="466776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V="1">
                <a:off x="537120" y="4675680"/>
                <a:ext cx="32328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V="1">
                <a:off x="5591160" y="3070800"/>
                <a:ext cx="31752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V="1">
                <a:off x="2157120" y="3076560"/>
                <a:ext cx="32040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8" name=""/>
          <p:cNvGrpSpPr/>
          <p:nvPr/>
        </p:nvGrpSpPr>
        <p:grpSpPr>
          <a:xfrm>
            <a:off x="431640" y="3668760"/>
            <a:ext cx="5532120" cy="2089080"/>
            <a:chOff x="431640" y="3668760"/>
            <a:chExt cx="5532120" cy="2089080"/>
          </a:xfrm>
        </p:grpSpPr>
        <p:grpSp>
          <p:nvGrpSpPr>
            <p:cNvPr id="559" name=""/>
            <p:cNvGrpSpPr/>
            <p:nvPr/>
          </p:nvGrpSpPr>
          <p:grpSpPr>
            <a:xfrm>
              <a:off x="4189320" y="3987000"/>
              <a:ext cx="1452240" cy="1449360"/>
              <a:chOff x="4189320" y="3987000"/>
              <a:chExt cx="1452240" cy="1449360"/>
            </a:xfrm>
          </p:grpSpPr>
          <p:sp>
            <p:nvSpPr>
              <p:cNvPr id="560" name=""/>
              <p:cNvSpPr/>
              <p:nvPr/>
            </p:nvSpPr>
            <p:spPr>
              <a:xfrm>
                <a:off x="5482440" y="398700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163480" y="4302720"/>
                <a:ext cx="159840" cy="160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835880" y="4627080"/>
                <a:ext cx="15984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4513680" y="4947840"/>
                <a:ext cx="1634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189320" y="5276880"/>
                <a:ext cx="15876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5" name=""/>
            <p:cNvGrpSpPr/>
            <p:nvPr/>
          </p:nvGrpSpPr>
          <p:grpSpPr>
            <a:xfrm>
              <a:off x="761760" y="3985920"/>
              <a:ext cx="1447920" cy="1442160"/>
              <a:chOff x="761760" y="3985920"/>
              <a:chExt cx="1447920" cy="1442160"/>
            </a:xfrm>
          </p:grpSpPr>
          <p:sp>
            <p:nvSpPr>
              <p:cNvPr id="566" name=""/>
              <p:cNvSpPr/>
              <p:nvPr/>
            </p:nvSpPr>
            <p:spPr>
              <a:xfrm>
                <a:off x="2050560" y="398592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729800" y="4304520"/>
                <a:ext cx="159120" cy="1612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408320" y="462708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080720" y="4948920"/>
                <a:ext cx="16020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61760" y="526860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2367720" y="3668760"/>
              <a:ext cx="3596040" cy="162000"/>
              <a:chOff x="2367720" y="3668760"/>
              <a:chExt cx="3596040" cy="162000"/>
            </a:xfrm>
          </p:grpSpPr>
          <p:sp>
            <p:nvSpPr>
              <p:cNvPr id="572" name=""/>
              <p:cNvSpPr/>
              <p:nvPr/>
            </p:nvSpPr>
            <p:spPr>
              <a:xfrm>
                <a:off x="5804640" y="366912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2367720" y="366912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676400" y="366876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2938680" y="367092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348804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087080" y="36687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24268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9" name=""/>
            <p:cNvGrpSpPr/>
            <p:nvPr/>
          </p:nvGrpSpPr>
          <p:grpSpPr>
            <a:xfrm>
              <a:off x="431640" y="5596200"/>
              <a:ext cx="3595320" cy="161640"/>
              <a:chOff x="431640" y="5596200"/>
              <a:chExt cx="3595320" cy="161640"/>
            </a:xfrm>
          </p:grpSpPr>
          <p:sp>
            <p:nvSpPr>
              <p:cNvPr id="580" name=""/>
              <p:cNvSpPr/>
              <p:nvPr/>
            </p:nvSpPr>
            <p:spPr>
              <a:xfrm>
                <a:off x="43164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867480" y="5596200"/>
                <a:ext cx="15948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99936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55160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74104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331596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6" name=""/>
          <p:cNvGrpSpPr/>
          <p:nvPr/>
        </p:nvGrpSpPr>
        <p:grpSpPr>
          <a:xfrm>
            <a:off x="2473200" y="2424240"/>
            <a:ext cx="3434040" cy="1209600"/>
            <a:chOff x="2473200" y="2424240"/>
            <a:chExt cx="3434040" cy="1209600"/>
          </a:xfrm>
        </p:grpSpPr>
        <p:sp>
          <p:nvSpPr>
            <p:cNvPr id="587" name=""/>
            <p:cNvSpPr/>
            <p:nvPr/>
          </p:nvSpPr>
          <p:spPr>
            <a:xfrm>
              <a:off x="2473200" y="242424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473560" y="275256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2473920" y="3332880"/>
              <a:ext cx="3427560" cy="140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2475000" y="3075840"/>
              <a:ext cx="342216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476080" y="363384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531720" y="2749680"/>
            <a:ext cx="1941120" cy="2812680"/>
            <a:chOff x="531720" y="2749680"/>
            <a:chExt cx="1941120" cy="2812680"/>
          </a:xfrm>
        </p:grpSpPr>
        <p:sp>
          <p:nvSpPr>
            <p:cNvPr id="593" name=""/>
            <p:cNvSpPr/>
            <p:nvPr/>
          </p:nvSpPr>
          <p:spPr>
            <a:xfrm flipV="1">
              <a:off x="535680" y="2749680"/>
              <a:ext cx="1935720" cy="1926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31720" y="3080160"/>
              <a:ext cx="1940040" cy="19155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532800" y="3346200"/>
              <a:ext cx="1940040" cy="19353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532800" y="3632760"/>
              <a:ext cx="1937160" cy="19296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531720" y="2158920"/>
            <a:ext cx="5372280" cy="3412800"/>
            <a:chOff x="531720" y="2158920"/>
            <a:chExt cx="5372280" cy="3412800"/>
          </a:xfrm>
        </p:grpSpPr>
        <p:grpSp>
          <p:nvGrpSpPr>
            <p:cNvPr id="598" name=""/>
            <p:cNvGrpSpPr/>
            <p:nvPr/>
          </p:nvGrpSpPr>
          <p:grpSpPr>
            <a:xfrm>
              <a:off x="2473200" y="2158920"/>
              <a:ext cx="3430800" cy="1476720"/>
              <a:chOff x="2473200" y="2158920"/>
              <a:chExt cx="3430800" cy="1476720"/>
            </a:xfrm>
          </p:grpSpPr>
          <p:sp>
            <p:nvSpPr>
              <p:cNvPr id="599" name=""/>
              <p:cNvSpPr/>
              <p:nvPr/>
            </p:nvSpPr>
            <p:spPr>
              <a:xfrm>
                <a:off x="5355000" y="2341800"/>
                <a:ext cx="0" cy="129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904000" y="2439000"/>
                <a:ext cx="0" cy="1196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782240" y="2248200"/>
                <a:ext cx="0" cy="1387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4189680" y="2158920"/>
                <a:ext cx="0" cy="1476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594960" y="2251800"/>
                <a:ext cx="0" cy="138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2473200" y="2433600"/>
                <a:ext cx="0" cy="120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3046680" y="2336760"/>
                <a:ext cx="0" cy="1298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6" name=""/>
            <p:cNvGrpSpPr/>
            <p:nvPr/>
          </p:nvGrpSpPr>
          <p:grpSpPr>
            <a:xfrm>
              <a:off x="531720" y="4102200"/>
              <a:ext cx="3433320" cy="1469520"/>
              <a:chOff x="531720" y="4102200"/>
              <a:chExt cx="3433320" cy="1469520"/>
            </a:xfrm>
          </p:grpSpPr>
          <p:sp>
            <p:nvSpPr>
              <p:cNvPr id="607" name=""/>
              <p:cNvSpPr/>
              <p:nvPr/>
            </p:nvSpPr>
            <p:spPr>
              <a:xfrm flipH="1">
                <a:off x="2248920" y="4102200"/>
                <a:ext cx="1440" cy="57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415680" y="4284720"/>
                <a:ext cx="0" cy="1287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3965040" y="4365720"/>
                <a:ext cx="0" cy="1194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842920" y="4197960"/>
                <a:ext cx="0" cy="1368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655280" y="4190400"/>
                <a:ext cx="0" cy="137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31720" y="4368600"/>
                <a:ext cx="720" cy="1195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107000" y="4280400"/>
                <a:ext cx="0" cy="128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4" name=""/>
          <p:cNvGrpSpPr/>
          <p:nvPr/>
        </p:nvGrpSpPr>
        <p:grpSpPr>
          <a:xfrm>
            <a:off x="857160" y="2484360"/>
            <a:ext cx="4724640" cy="2750400"/>
            <a:chOff x="857160" y="2484360"/>
            <a:chExt cx="4724640" cy="2750400"/>
          </a:xfrm>
        </p:grpSpPr>
        <p:grpSp>
          <p:nvGrpSpPr>
            <p:cNvPr id="615" name=""/>
            <p:cNvGrpSpPr/>
            <p:nvPr/>
          </p:nvGrpSpPr>
          <p:grpSpPr>
            <a:xfrm>
              <a:off x="857160" y="3781080"/>
              <a:ext cx="3430800" cy="1453680"/>
              <a:chOff x="857160" y="3781080"/>
              <a:chExt cx="3430800" cy="1453680"/>
            </a:xfrm>
          </p:grpSpPr>
          <p:sp>
            <p:nvSpPr>
              <p:cNvPr id="616" name=""/>
              <p:cNvSpPr/>
              <p:nvPr/>
            </p:nvSpPr>
            <p:spPr>
              <a:xfrm flipV="1">
                <a:off x="857160" y="4044960"/>
                <a:ext cx="0" cy="1189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V="1">
                <a:off x="857160" y="3781080"/>
                <a:ext cx="1715400" cy="264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V="1">
                <a:off x="4287960" y="4044960"/>
                <a:ext cx="0" cy="1189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 flipV="1">
                <a:off x="2572200" y="3781080"/>
                <a:ext cx="1715400" cy="264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0" name=""/>
            <p:cNvGrpSpPr/>
            <p:nvPr/>
          </p:nvGrpSpPr>
          <p:grpSpPr>
            <a:xfrm>
              <a:off x="1180440" y="2484360"/>
              <a:ext cx="4401360" cy="2437920"/>
              <a:chOff x="1180440" y="2484360"/>
              <a:chExt cx="4401360" cy="2437920"/>
            </a:xfrm>
          </p:grpSpPr>
          <p:grpSp>
            <p:nvGrpSpPr>
              <p:cNvPr id="621" name=""/>
              <p:cNvGrpSpPr/>
              <p:nvPr/>
            </p:nvGrpSpPr>
            <p:grpSpPr>
              <a:xfrm>
                <a:off x="1180440" y="3456360"/>
                <a:ext cx="3431520" cy="1465920"/>
                <a:chOff x="1180440" y="3456360"/>
                <a:chExt cx="3431520" cy="1465920"/>
              </a:xfrm>
            </p:grpSpPr>
            <p:sp>
              <p:nvSpPr>
                <p:cNvPr id="622" name=""/>
                <p:cNvSpPr/>
                <p:nvPr/>
              </p:nvSpPr>
              <p:spPr>
                <a:xfrm flipV="1">
                  <a:off x="1180440" y="3722040"/>
                  <a:ext cx="0" cy="1195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 flipV="1">
                  <a:off x="1180440" y="3456360"/>
                  <a:ext cx="1716120" cy="265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 flipV="1">
                  <a:off x="4611960" y="3721680"/>
                  <a:ext cx="0" cy="1200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 flipH="1" flipV="1">
                  <a:off x="2896200" y="3456360"/>
                  <a:ext cx="1715400" cy="265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6" name=""/>
              <p:cNvGrpSpPr/>
              <p:nvPr/>
            </p:nvGrpSpPr>
            <p:grpSpPr>
              <a:xfrm>
                <a:off x="1502280" y="3132000"/>
                <a:ext cx="3432960" cy="1463760"/>
                <a:chOff x="1502280" y="3132000"/>
                <a:chExt cx="3432960" cy="1463760"/>
              </a:xfrm>
            </p:grpSpPr>
            <p:sp>
              <p:nvSpPr>
                <p:cNvPr id="627" name=""/>
                <p:cNvSpPr/>
                <p:nvPr/>
              </p:nvSpPr>
              <p:spPr>
                <a:xfrm flipV="1">
                  <a:off x="1502280" y="3398400"/>
                  <a:ext cx="0" cy="1197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 flipV="1">
                  <a:off x="1502280" y="3132000"/>
                  <a:ext cx="171648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 flipV="1">
                  <a:off x="4935240" y="3398400"/>
                  <a:ext cx="0" cy="1197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 flipH="1" flipV="1">
                  <a:off x="3218760" y="3132000"/>
                  <a:ext cx="171648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1" name=""/>
              <p:cNvGrpSpPr/>
              <p:nvPr/>
            </p:nvGrpSpPr>
            <p:grpSpPr>
              <a:xfrm>
                <a:off x="1827000" y="2808000"/>
                <a:ext cx="3431520" cy="1464480"/>
                <a:chOff x="1827000" y="2808000"/>
                <a:chExt cx="3431520" cy="1464480"/>
              </a:xfrm>
            </p:grpSpPr>
            <p:sp>
              <p:nvSpPr>
                <p:cNvPr id="632" name=""/>
                <p:cNvSpPr/>
                <p:nvPr/>
              </p:nvSpPr>
              <p:spPr>
                <a:xfrm flipV="1">
                  <a:off x="1827000" y="3074400"/>
                  <a:ext cx="0" cy="1198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 flipV="1">
                  <a:off x="1827000" y="2808000"/>
                  <a:ext cx="171576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 flipV="1">
                  <a:off x="5258520" y="3074400"/>
                  <a:ext cx="0" cy="1198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 flipH="1" flipV="1">
                  <a:off x="3542760" y="2808000"/>
                  <a:ext cx="171576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6" name=""/>
              <p:cNvGrpSpPr/>
              <p:nvPr/>
            </p:nvGrpSpPr>
            <p:grpSpPr>
              <a:xfrm>
                <a:off x="2151000" y="2484360"/>
                <a:ext cx="3430800" cy="1472400"/>
                <a:chOff x="2151000" y="2484360"/>
                <a:chExt cx="3430800" cy="1472400"/>
              </a:xfrm>
            </p:grpSpPr>
            <p:sp>
              <p:nvSpPr>
                <p:cNvPr id="637" name=""/>
                <p:cNvSpPr/>
                <p:nvPr/>
              </p:nvSpPr>
              <p:spPr>
                <a:xfrm flipV="1">
                  <a:off x="2151000" y="2751840"/>
                  <a:ext cx="0" cy="1204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 flipV="1">
                  <a:off x="2151000" y="2484360"/>
                  <a:ext cx="1715400" cy="267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 flipV="1">
                  <a:off x="5581800" y="2751840"/>
                  <a:ext cx="0" cy="1204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 flipH="1" flipV="1">
                  <a:off x="3866040" y="2484360"/>
                  <a:ext cx="1715400" cy="267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41" name=""/>
          <p:cNvGrpSpPr/>
          <p:nvPr/>
        </p:nvGrpSpPr>
        <p:grpSpPr>
          <a:xfrm>
            <a:off x="533520" y="2422440"/>
            <a:ext cx="5368320" cy="1944720"/>
            <a:chOff x="533520" y="2422440"/>
            <a:chExt cx="5368320" cy="1944720"/>
          </a:xfrm>
        </p:grpSpPr>
        <p:sp>
          <p:nvSpPr>
            <p:cNvPr id="642" name=""/>
            <p:cNvSpPr/>
            <p:nvPr/>
          </p:nvSpPr>
          <p:spPr>
            <a:xfrm flipV="1">
              <a:off x="3955680" y="2422440"/>
              <a:ext cx="1946160" cy="1944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533520" y="2422440"/>
              <a:ext cx="1940760" cy="1944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779400" y="2204640"/>
            <a:ext cx="4847760" cy="2130480"/>
            <a:chOff x="779400" y="2204640"/>
            <a:chExt cx="4847760" cy="2130480"/>
          </a:xfrm>
        </p:grpSpPr>
        <p:sp>
          <p:nvSpPr>
            <p:cNvPr id="645" name=""/>
            <p:cNvSpPr/>
            <p:nvPr/>
          </p:nvSpPr>
          <p:spPr>
            <a:xfrm flipV="1">
              <a:off x="2548440" y="2204640"/>
              <a:ext cx="193500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2841480" y="2248920"/>
              <a:ext cx="194076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V="1">
              <a:off x="3413160" y="2341080"/>
              <a:ext cx="193212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3681000" y="2384640"/>
              <a:ext cx="194616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779400" y="2381400"/>
              <a:ext cx="1985400" cy="1953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1103040" y="2338560"/>
              <a:ext cx="1938600" cy="1943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V="1">
              <a:off x="1655280" y="2247480"/>
              <a:ext cx="194292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1934640" y="2204640"/>
              <a:ext cx="1973520" cy="19508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V="1">
              <a:off x="1371600" y="2298600"/>
              <a:ext cx="194796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3124440" y="2290680"/>
              <a:ext cx="1940760" cy="1947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 flipV="1">
            <a:off x="2244600" y="2158920"/>
            <a:ext cx="1944720" cy="19382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531720" y="4368600"/>
            <a:ext cx="3430800" cy="1198080"/>
            <a:chOff x="531720" y="4368600"/>
            <a:chExt cx="3430800" cy="1198080"/>
          </a:xfrm>
        </p:grpSpPr>
        <p:sp>
          <p:nvSpPr>
            <p:cNvPr id="657" name=""/>
            <p:cNvSpPr/>
            <p:nvPr/>
          </p:nvSpPr>
          <p:spPr>
            <a:xfrm flipV="1">
              <a:off x="2842200" y="5565600"/>
              <a:ext cx="111780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V="1">
              <a:off x="532080" y="4368600"/>
              <a:ext cx="3430440" cy="3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31720" y="4678920"/>
              <a:ext cx="343008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839320" y="5276880"/>
              <a:ext cx="11217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532080" y="4999320"/>
              <a:ext cx="112284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842200" y="4991400"/>
              <a:ext cx="112032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32800" y="5281200"/>
              <a:ext cx="111960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34240" y="5564520"/>
              <a:ext cx="111672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3960720" y="2754360"/>
            <a:ext cx="1943280" cy="2809800"/>
            <a:chOff x="3960720" y="2754360"/>
            <a:chExt cx="1943280" cy="2809800"/>
          </a:xfrm>
        </p:grpSpPr>
        <p:sp>
          <p:nvSpPr>
            <p:cNvPr id="666" name=""/>
            <p:cNvSpPr/>
            <p:nvPr/>
          </p:nvSpPr>
          <p:spPr>
            <a:xfrm flipV="1">
              <a:off x="3960720" y="3636000"/>
              <a:ext cx="1943280" cy="19281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3964680" y="2754360"/>
              <a:ext cx="1937520" cy="1925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3963240" y="3076200"/>
              <a:ext cx="1939320" cy="19137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3961800" y="3332880"/>
              <a:ext cx="194040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0" name=""/>
          <p:cNvSpPr/>
          <p:nvPr/>
        </p:nvSpPr>
        <p:spPr>
          <a:xfrm flipV="1">
            <a:off x="531720" y="4101840"/>
            <a:ext cx="1714680" cy="26676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 flipV="1">
            <a:off x="2249640" y="4103280"/>
            <a:ext cx="1715760" cy="26676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530280" y="4363920"/>
            <a:ext cx="0" cy="119088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3960720" y="4363920"/>
            <a:ext cx="0" cy="119088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5900760" y="2419200"/>
            <a:ext cx="0" cy="119088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2479680" y="2158560"/>
            <a:ext cx="1714320" cy="2653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 flipV="1">
            <a:off x="4193640" y="2158560"/>
            <a:ext cx="1714680" cy="2653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800760" y="2567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>
            <a:hlinkClick r:id="rId1" action="ppaction://hlinksldjump"/>
          </p:cNvPr>
          <p:cNvSpPr/>
          <p:nvPr/>
        </p:nvSpPr>
        <p:spPr>
          <a:xfrm>
            <a:off x="6873840" y="263376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co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800760" y="29988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>
            <a:hlinkClick r:id="rId2" action="ppaction://hlinksldjump"/>
          </p:cNvPr>
          <p:cNvSpPr/>
          <p:nvPr/>
        </p:nvSpPr>
        <p:spPr>
          <a:xfrm>
            <a:off x="6873840" y="306540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sab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800760" y="343044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>
            <a:hlinkClick r:id="rId3" action="ppaction://hlinksldjump"/>
          </p:cNvPr>
          <p:cNvSpPr/>
          <p:nvPr/>
        </p:nvSpPr>
        <p:spPr>
          <a:xfrm>
            <a:off x="6873840" y="349740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faît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800760" y="386388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>
            <a:hlinkClick r:id="rId4" action="ppaction://hlinksldjump"/>
          </p:cNvPr>
          <p:cNvSpPr/>
          <p:nvPr/>
        </p:nvSpPr>
        <p:spPr>
          <a:xfrm>
            <a:off x="6873840" y="3930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co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800760" y="42958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>
            <a:hlinkClick r:id="rId5" action="ppaction://hlinksldjump"/>
          </p:cNvPr>
          <p:cNvSpPr/>
          <p:nvPr/>
        </p:nvSpPr>
        <p:spPr>
          <a:xfrm>
            <a:off x="6873840" y="4362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Lisse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800760" y="4727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>
            <a:hlinkClick r:id="" action="ppaction://hlinkshowjump?jump=nextslide"/>
          </p:cNvPr>
          <p:cNvSpPr/>
          <p:nvPr/>
        </p:nvSpPr>
        <p:spPr>
          <a:xfrm>
            <a:off x="6873840" y="4794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te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800760" y="5159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>
            <a:hlinkClick r:id="rId6" action="ppaction://hlinksldjump"/>
          </p:cNvPr>
          <p:cNvSpPr/>
          <p:nvPr/>
        </p:nvSpPr>
        <p:spPr>
          <a:xfrm>
            <a:off x="6873840" y="5226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lée de st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800760" y="5591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>
            <a:hlinkClick r:id="rId7" action="ppaction://hlinksldjump"/>
          </p:cNvPr>
          <p:cNvSpPr/>
          <p:nvPr/>
        </p:nvSpPr>
        <p:spPr>
          <a:xfrm>
            <a:off x="6873840" y="565776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800760" y="17082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>
            <a:hlinkClick r:id="rId8" action="ppaction://hlinksldjump"/>
          </p:cNvPr>
          <p:cNvSpPr/>
          <p:nvPr/>
        </p:nvSpPr>
        <p:spPr>
          <a:xfrm>
            <a:off x="6873840" y="1776240"/>
            <a:ext cx="17985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Fo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800760" y="2135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>
            <a:hlinkClick r:id="rId9" action="ppaction://hlinksldjump"/>
          </p:cNvPr>
          <p:cNvSpPr/>
          <p:nvPr/>
        </p:nvSpPr>
        <p:spPr>
          <a:xfrm>
            <a:off x="6873840" y="220824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de 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800760" y="6029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>
            <a:hlinkClick r:id="rId10" action="ppaction://hlinksldjump"/>
          </p:cNvPr>
          <p:cNvSpPr/>
          <p:nvPr/>
        </p:nvSpPr>
        <p:spPr>
          <a:xfrm>
            <a:off x="6873840" y="60958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Bardage couver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678720" y="656892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>
            <a:hlinkClick r:id="" action="ppaction://hlinkshowjump?jump=previousslide"/>
          </p:cNvPr>
          <p:cNvSpPr/>
          <p:nvPr/>
        </p:nvSpPr>
        <p:spPr>
          <a:xfrm>
            <a:off x="243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28520" y="6613560"/>
            <a:ext cx="58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Arriè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525600" y="2160720"/>
            <a:ext cx="5378400" cy="2209320"/>
            <a:chOff x="525600" y="2160720"/>
            <a:chExt cx="5378400" cy="2209320"/>
          </a:xfrm>
        </p:grpSpPr>
        <p:grpSp>
          <p:nvGrpSpPr>
            <p:cNvPr id="703" name=""/>
            <p:cNvGrpSpPr/>
            <p:nvPr/>
          </p:nvGrpSpPr>
          <p:grpSpPr>
            <a:xfrm>
              <a:off x="2151720" y="2160720"/>
              <a:ext cx="3752280" cy="588960"/>
              <a:chOff x="2151720" y="2160720"/>
              <a:chExt cx="3752280" cy="588960"/>
            </a:xfrm>
          </p:grpSpPr>
          <p:sp>
            <p:nvSpPr>
              <p:cNvPr id="704" name=""/>
              <p:cNvSpPr/>
              <p:nvPr/>
            </p:nvSpPr>
            <p:spPr>
              <a:xfrm flipV="1">
                <a:off x="5586480" y="2421000"/>
                <a:ext cx="317520" cy="317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V="1">
                <a:off x="3869280" y="2160720"/>
                <a:ext cx="321840" cy="324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V="1">
                <a:off x="4461840" y="2251440"/>
                <a:ext cx="317520" cy="318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V="1">
                <a:off x="2152080" y="2424960"/>
                <a:ext cx="324360" cy="321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V="1">
                <a:off x="2724120" y="2338200"/>
                <a:ext cx="317520" cy="317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V="1">
                <a:off x="3274920" y="2254320"/>
                <a:ext cx="317520" cy="318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0" name=""/>
              <p:cNvGrpSpPr/>
              <p:nvPr/>
            </p:nvGrpSpPr>
            <p:grpSpPr>
              <a:xfrm>
                <a:off x="2151720" y="2160720"/>
                <a:ext cx="3748320" cy="588960"/>
                <a:chOff x="2151720" y="2160720"/>
                <a:chExt cx="3748320" cy="588960"/>
              </a:xfrm>
            </p:grpSpPr>
            <p:sp>
              <p:nvSpPr>
                <p:cNvPr id="711" name=""/>
                <p:cNvSpPr/>
                <p:nvPr/>
              </p:nvSpPr>
              <p:spPr>
                <a:xfrm flipH="1" flipV="1">
                  <a:off x="4188960" y="2160720"/>
                  <a:ext cx="266400" cy="412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 flipH="1">
                  <a:off x="3274200" y="2161080"/>
                  <a:ext cx="912960" cy="4136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 flipH="1" flipV="1">
                  <a:off x="5353920" y="2337480"/>
                  <a:ext cx="225360" cy="412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 flipV="1">
                  <a:off x="5025240" y="2422080"/>
                  <a:ext cx="874800" cy="2401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 flipH="1" flipV="1">
                  <a:off x="4782240" y="2251800"/>
                  <a:ext cx="242640" cy="4114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 flipH="1">
                  <a:off x="4458240" y="2335320"/>
                  <a:ext cx="896400" cy="2404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 flipH="1">
                  <a:off x="3871800" y="2247840"/>
                  <a:ext cx="909720" cy="2329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 flipH="1" flipV="1">
                  <a:off x="3593160" y="2254680"/>
                  <a:ext cx="285840" cy="2343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 flipH="1" flipV="1">
                  <a:off x="3045960" y="2335320"/>
                  <a:ext cx="236160" cy="2419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 flipH="1">
                  <a:off x="2720520" y="2256480"/>
                  <a:ext cx="873720" cy="4060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 flipH="1" flipV="1">
                  <a:off x="2478600" y="2426400"/>
                  <a:ext cx="239400" cy="2343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 flipH="1">
                  <a:off x="2151720" y="2336760"/>
                  <a:ext cx="894240" cy="4104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 flipV="1">
                  <a:off x="2479680" y="2162880"/>
                  <a:ext cx="1708200" cy="2581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 flipV="1">
                  <a:off x="2167560" y="2481840"/>
                  <a:ext cx="1705320" cy="263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3870360" y="2480400"/>
                  <a:ext cx="1710360" cy="2692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4195080" y="2160720"/>
                  <a:ext cx="1697760" cy="2606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7" name=""/>
              <p:cNvSpPr/>
              <p:nvPr/>
            </p:nvSpPr>
            <p:spPr>
              <a:xfrm flipV="1">
                <a:off x="5026320" y="2337480"/>
                <a:ext cx="326160" cy="326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8" name=""/>
            <p:cNvGrpSpPr/>
            <p:nvPr/>
          </p:nvGrpSpPr>
          <p:grpSpPr>
            <a:xfrm>
              <a:off x="525600" y="3780000"/>
              <a:ext cx="3754440" cy="590040"/>
              <a:chOff x="525600" y="3780000"/>
              <a:chExt cx="3754440" cy="590040"/>
            </a:xfrm>
          </p:grpSpPr>
          <p:sp>
            <p:nvSpPr>
              <p:cNvPr id="729" name=""/>
              <p:cNvSpPr/>
              <p:nvPr/>
            </p:nvSpPr>
            <p:spPr>
              <a:xfrm flipV="1">
                <a:off x="3956760" y="4044600"/>
                <a:ext cx="321840" cy="3211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V="1">
                <a:off x="2839320" y="3871800"/>
                <a:ext cx="320400" cy="320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V="1">
                <a:off x="2243880" y="3784680"/>
                <a:ext cx="316080" cy="315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2240640" y="4100760"/>
                <a:ext cx="1716120" cy="269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H="1" flipV="1">
                <a:off x="2565000" y="3782160"/>
                <a:ext cx="267840" cy="413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H="1" flipV="1">
                <a:off x="3731400" y="3960720"/>
                <a:ext cx="228240" cy="407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V="1">
                <a:off x="3408120" y="4045320"/>
                <a:ext cx="866160" cy="238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H="1" flipV="1">
                <a:off x="3160800" y="3873960"/>
                <a:ext cx="248400" cy="413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H="1">
                <a:off x="2832840" y="3960000"/>
                <a:ext cx="896400" cy="2361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H="1">
                <a:off x="2242440" y="3872520"/>
                <a:ext cx="919440" cy="228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2569680" y="3780720"/>
                <a:ext cx="1710360" cy="264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V="1">
                <a:off x="3409560" y="3960000"/>
                <a:ext cx="320400" cy="321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V="1">
                <a:off x="1652760" y="3868920"/>
                <a:ext cx="320400" cy="322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V="1">
                <a:off x="1101600" y="3952800"/>
                <a:ext cx="322920" cy="325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V="1">
                <a:off x="535320" y="4100760"/>
                <a:ext cx="1704960" cy="2664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V="1">
                <a:off x="851400" y="3780720"/>
                <a:ext cx="1722240" cy="262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H="1">
                <a:off x="1650240" y="3780000"/>
                <a:ext cx="917280" cy="413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H="1" flipV="1">
                <a:off x="1970640" y="3872160"/>
                <a:ext cx="268560" cy="228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H="1" flipV="1">
                <a:off x="1422000" y="3952800"/>
                <a:ext cx="227520" cy="239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H="1">
                <a:off x="1104120" y="3876840"/>
                <a:ext cx="859680" cy="403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H="1" flipV="1">
                <a:off x="852120" y="4042440"/>
                <a:ext cx="246600" cy="235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H="1">
                <a:off x="529200" y="3955680"/>
                <a:ext cx="889920" cy="413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V="1">
                <a:off x="525600" y="4044240"/>
                <a:ext cx="325800" cy="325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6" name=""/>
          <p:cNvSpPr/>
          <p:nvPr/>
        </p:nvSpPr>
        <p:spPr>
          <a:xfrm>
            <a:off x="3903840" y="1798560"/>
            <a:ext cx="524016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ERREUR 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7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8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79" name="" descr=""/>
          <p:cNvPicPr/>
          <p:nvPr/>
        </p:nvPicPr>
        <p:blipFill>
          <a:blip r:embed="rId1"/>
          <a:stretch/>
        </p:blipFill>
        <p:spPr>
          <a:xfrm>
            <a:off x="736560" y="1279440"/>
            <a:ext cx="360216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0" name=""/>
          <p:cNvSpPr/>
          <p:nvPr/>
        </p:nvSpPr>
        <p:spPr>
          <a:xfrm>
            <a:off x="750960" y="4206960"/>
            <a:ext cx="37242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ERREUR 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1" name=""/>
          <p:cNvSpPr/>
          <p:nvPr/>
        </p:nvSpPr>
        <p:spPr>
          <a:xfrm>
            <a:off x="4579920" y="2935440"/>
            <a:ext cx="2403360" cy="2971800"/>
          </a:xfrm>
          <a:custGeom>
            <a:avLst/>
            <a:gdLst/>
            <a:ahLst/>
            <a:rect l="l" t="t" r="r" b="b"/>
            <a:pathLst>
              <a:path w="1514" h="1872">
                <a:moveTo>
                  <a:pt x="1141" y="1662"/>
                </a:moveTo>
                <a:lnTo>
                  <a:pt x="1156" y="1630"/>
                </a:lnTo>
                <a:lnTo>
                  <a:pt x="1178" y="1579"/>
                </a:lnTo>
                <a:lnTo>
                  <a:pt x="1207" y="1512"/>
                </a:lnTo>
                <a:lnTo>
                  <a:pt x="1241" y="1429"/>
                </a:lnTo>
                <a:lnTo>
                  <a:pt x="1279" y="1333"/>
                </a:lnTo>
                <a:lnTo>
                  <a:pt x="1319" y="1227"/>
                </a:lnTo>
                <a:lnTo>
                  <a:pt x="1360" y="1114"/>
                </a:lnTo>
                <a:lnTo>
                  <a:pt x="1398" y="996"/>
                </a:lnTo>
                <a:lnTo>
                  <a:pt x="1433" y="875"/>
                </a:lnTo>
                <a:lnTo>
                  <a:pt x="1464" y="753"/>
                </a:lnTo>
                <a:lnTo>
                  <a:pt x="1489" y="631"/>
                </a:lnTo>
                <a:lnTo>
                  <a:pt x="1506" y="516"/>
                </a:lnTo>
                <a:lnTo>
                  <a:pt x="1514" y="405"/>
                </a:lnTo>
                <a:lnTo>
                  <a:pt x="1510" y="304"/>
                </a:lnTo>
                <a:lnTo>
                  <a:pt x="1494" y="213"/>
                </a:lnTo>
                <a:lnTo>
                  <a:pt x="1464" y="137"/>
                </a:lnTo>
                <a:lnTo>
                  <a:pt x="1447" y="111"/>
                </a:lnTo>
                <a:lnTo>
                  <a:pt x="1428" y="87"/>
                </a:lnTo>
                <a:lnTo>
                  <a:pt x="1406" y="66"/>
                </a:lnTo>
                <a:lnTo>
                  <a:pt x="1383" y="47"/>
                </a:lnTo>
                <a:lnTo>
                  <a:pt x="1357" y="33"/>
                </a:lnTo>
                <a:lnTo>
                  <a:pt x="1329" y="21"/>
                </a:lnTo>
                <a:lnTo>
                  <a:pt x="1299" y="12"/>
                </a:lnTo>
                <a:lnTo>
                  <a:pt x="1268" y="7"/>
                </a:lnTo>
                <a:lnTo>
                  <a:pt x="1220" y="1"/>
                </a:lnTo>
                <a:lnTo>
                  <a:pt x="1173" y="0"/>
                </a:lnTo>
                <a:lnTo>
                  <a:pt x="1124" y="1"/>
                </a:lnTo>
                <a:lnTo>
                  <a:pt x="1076" y="4"/>
                </a:lnTo>
                <a:lnTo>
                  <a:pt x="1026" y="11"/>
                </a:lnTo>
                <a:lnTo>
                  <a:pt x="977" y="18"/>
                </a:lnTo>
                <a:lnTo>
                  <a:pt x="927" y="29"/>
                </a:lnTo>
                <a:lnTo>
                  <a:pt x="877" y="41"/>
                </a:lnTo>
                <a:lnTo>
                  <a:pt x="827" y="54"/>
                </a:lnTo>
                <a:lnTo>
                  <a:pt x="777" y="71"/>
                </a:lnTo>
                <a:lnTo>
                  <a:pt x="728" y="88"/>
                </a:lnTo>
                <a:lnTo>
                  <a:pt x="679" y="107"/>
                </a:lnTo>
                <a:lnTo>
                  <a:pt x="631" y="128"/>
                </a:lnTo>
                <a:lnTo>
                  <a:pt x="583" y="149"/>
                </a:lnTo>
                <a:lnTo>
                  <a:pt x="537" y="171"/>
                </a:lnTo>
                <a:lnTo>
                  <a:pt x="493" y="195"/>
                </a:lnTo>
                <a:lnTo>
                  <a:pt x="448" y="220"/>
                </a:lnTo>
                <a:lnTo>
                  <a:pt x="404" y="245"/>
                </a:lnTo>
                <a:lnTo>
                  <a:pt x="364" y="271"/>
                </a:lnTo>
                <a:lnTo>
                  <a:pt x="324" y="297"/>
                </a:lnTo>
                <a:lnTo>
                  <a:pt x="285" y="324"/>
                </a:lnTo>
                <a:lnTo>
                  <a:pt x="249" y="351"/>
                </a:lnTo>
                <a:lnTo>
                  <a:pt x="215" y="378"/>
                </a:lnTo>
                <a:lnTo>
                  <a:pt x="182" y="405"/>
                </a:lnTo>
                <a:lnTo>
                  <a:pt x="152" y="432"/>
                </a:lnTo>
                <a:lnTo>
                  <a:pt x="124" y="458"/>
                </a:lnTo>
                <a:lnTo>
                  <a:pt x="99" y="484"/>
                </a:lnTo>
                <a:lnTo>
                  <a:pt x="75" y="510"/>
                </a:lnTo>
                <a:lnTo>
                  <a:pt x="56" y="534"/>
                </a:lnTo>
                <a:lnTo>
                  <a:pt x="39" y="559"/>
                </a:lnTo>
                <a:lnTo>
                  <a:pt x="24" y="582"/>
                </a:lnTo>
                <a:lnTo>
                  <a:pt x="14" y="604"/>
                </a:lnTo>
                <a:lnTo>
                  <a:pt x="4" y="629"/>
                </a:lnTo>
                <a:lnTo>
                  <a:pt x="0" y="653"/>
                </a:lnTo>
                <a:lnTo>
                  <a:pt x="0" y="671"/>
                </a:lnTo>
                <a:lnTo>
                  <a:pt x="3" y="688"/>
                </a:lnTo>
                <a:lnTo>
                  <a:pt x="8" y="703"/>
                </a:lnTo>
                <a:lnTo>
                  <a:pt x="15" y="714"/>
                </a:lnTo>
                <a:lnTo>
                  <a:pt x="23" y="724"/>
                </a:lnTo>
                <a:lnTo>
                  <a:pt x="31" y="731"/>
                </a:lnTo>
                <a:lnTo>
                  <a:pt x="57" y="751"/>
                </a:lnTo>
                <a:lnTo>
                  <a:pt x="86" y="770"/>
                </a:lnTo>
                <a:lnTo>
                  <a:pt x="116" y="788"/>
                </a:lnTo>
                <a:lnTo>
                  <a:pt x="148" y="804"/>
                </a:lnTo>
                <a:lnTo>
                  <a:pt x="182" y="820"/>
                </a:lnTo>
                <a:lnTo>
                  <a:pt x="216" y="834"/>
                </a:lnTo>
                <a:lnTo>
                  <a:pt x="252" y="847"/>
                </a:lnTo>
                <a:lnTo>
                  <a:pt x="286" y="859"/>
                </a:lnTo>
                <a:lnTo>
                  <a:pt x="320" y="871"/>
                </a:lnTo>
                <a:lnTo>
                  <a:pt x="354" y="881"/>
                </a:lnTo>
                <a:lnTo>
                  <a:pt x="386" y="891"/>
                </a:lnTo>
                <a:lnTo>
                  <a:pt x="418" y="899"/>
                </a:lnTo>
                <a:lnTo>
                  <a:pt x="447" y="905"/>
                </a:lnTo>
                <a:lnTo>
                  <a:pt x="472" y="912"/>
                </a:lnTo>
                <a:lnTo>
                  <a:pt x="495" y="917"/>
                </a:lnTo>
                <a:lnTo>
                  <a:pt x="515" y="921"/>
                </a:lnTo>
                <a:lnTo>
                  <a:pt x="462" y="1084"/>
                </a:lnTo>
                <a:lnTo>
                  <a:pt x="491" y="1095"/>
                </a:lnTo>
                <a:lnTo>
                  <a:pt x="520" y="1109"/>
                </a:lnTo>
                <a:lnTo>
                  <a:pt x="545" y="1127"/>
                </a:lnTo>
                <a:lnTo>
                  <a:pt x="566" y="1151"/>
                </a:lnTo>
                <a:lnTo>
                  <a:pt x="581" y="1177"/>
                </a:lnTo>
                <a:lnTo>
                  <a:pt x="591" y="1206"/>
                </a:lnTo>
                <a:lnTo>
                  <a:pt x="595" y="1237"/>
                </a:lnTo>
                <a:lnTo>
                  <a:pt x="594" y="1267"/>
                </a:lnTo>
                <a:lnTo>
                  <a:pt x="586" y="1298"/>
                </a:lnTo>
                <a:lnTo>
                  <a:pt x="573" y="1326"/>
                </a:lnTo>
                <a:lnTo>
                  <a:pt x="556" y="1351"/>
                </a:lnTo>
                <a:lnTo>
                  <a:pt x="533" y="1371"/>
                </a:lnTo>
                <a:lnTo>
                  <a:pt x="510" y="1387"/>
                </a:lnTo>
                <a:lnTo>
                  <a:pt x="482" y="1397"/>
                </a:lnTo>
                <a:lnTo>
                  <a:pt x="453" y="1402"/>
                </a:lnTo>
                <a:lnTo>
                  <a:pt x="423" y="1402"/>
                </a:lnTo>
                <a:lnTo>
                  <a:pt x="393" y="1397"/>
                </a:lnTo>
                <a:lnTo>
                  <a:pt x="362" y="1389"/>
                </a:lnTo>
                <a:lnTo>
                  <a:pt x="312" y="1540"/>
                </a:lnTo>
                <a:lnTo>
                  <a:pt x="73" y="1786"/>
                </a:lnTo>
                <a:lnTo>
                  <a:pt x="337" y="1737"/>
                </a:lnTo>
                <a:lnTo>
                  <a:pt x="277" y="1872"/>
                </a:lnTo>
                <a:lnTo>
                  <a:pt x="1154" y="1797"/>
                </a:lnTo>
                <a:lnTo>
                  <a:pt x="1141" y="16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2" name=""/>
          <p:cNvSpPr/>
          <p:nvPr/>
        </p:nvSpPr>
        <p:spPr>
          <a:xfrm>
            <a:off x="4998960" y="5494320"/>
            <a:ext cx="1300320" cy="295200"/>
          </a:xfrm>
          <a:custGeom>
            <a:avLst/>
            <a:gdLst/>
            <a:ahLst/>
            <a:rect l="l" t="t" r="r" b="b"/>
            <a:pathLst>
              <a:path w="819" h="186">
                <a:moveTo>
                  <a:pt x="0" y="72"/>
                </a:moveTo>
                <a:lnTo>
                  <a:pt x="69" y="0"/>
                </a:lnTo>
                <a:lnTo>
                  <a:pt x="814" y="73"/>
                </a:lnTo>
                <a:lnTo>
                  <a:pt x="819" y="126"/>
                </a:lnTo>
                <a:lnTo>
                  <a:pt x="117" y="186"/>
                </a:lnTo>
                <a:lnTo>
                  <a:pt x="181" y="38"/>
                </a:lnTo>
                <a:lnTo>
                  <a:pt x="0" y="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3" name=""/>
          <p:cNvSpPr/>
          <p:nvPr/>
        </p:nvSpPr>
        <p:spPr>
          <a:xfrm>
            <a:off x="4683240" y="3040200"/>
            <a:ext cx="2197080" cy="2468520"/>
          </a:xfrm>
          <a:custGeom>
            <a:avLst/>
            <a:gdLst/>
            <a:ahLst/>
            <a:rect l="l" t="t" r="r" b="b"/>
            <a:pathLst>
              <a:path w="1384" h="1555">
                <a:moveTo>
                  <a:pt x="583" y="1255"/>
                </a:moveTo>
                <a:lnTo>
                  <a:pt x="593" y="1215"/>
                </a:lnTo>
                <a:lnTo>
                  <a:pt x="596" y="1175"/>
                </a:lnTo>
                <a:lnTo>
                  <a:pt x="591" y="1135"/>
                </a:lnTo>
                <a:lnTo>
                  <a:pt x="580" y="1098"/>
                </a:lnTo>
                <a:lnTo>
                  <a:pt x="563" y="1063"/>
                </a:lnTo>
                <a:lnTo>
                  <a:pt x="539" y="1031"/>
                </a:lnTo>
                <a:lnTo>
                  <a:pt x="512" y="1004"/>
                </a:lnTo>
                <a:lnTo>
                  <a:pt x="478" y="981"/>
                </a:lnTo>
                <a:lnTo>
                  <a:pt x="535" y="804"/>
                </a:lnTo>
                <a:lnTo>
                  <a:pt x="499" y="798"/>
                </a:lnTo>
                <a:lnTo>
                  <a:pt x="495" y="797"/>
                </a:lnTo>
                <a:lnTo>
                  <a:pt x="483" y="796"/>
                </a:lnTo>
                <a:lnTo>
                  <a:pt x="464" y="792"/>
                </a:lnTo>
                <a:lnTo>
                  <a:pt x="441" y="786"/>
                </a:lnTo>
                <a:lnTo>
                  <a:pt x="413" y="780"/>
                </a:lnTo>
                <a:lnTo>
                  <a:pt x="380" y="772"/>
                </a:lnTo>
                <a:lnTo>
                  <a:pt x="345" y="763"/>
                </a:lnTo>
                <a:lnTo>
                  <a:pt x="307" y="752"/>
                </a:lnTo>
                <a:lnTo>
                  <a:pt x="267" y="739"/>
                </a:lnTo>
                <a:lnTo>
                  <a:pt x="226" y="726"/>
                </a:lnTo>
                <a:lnTo>
                  <a:pt x="185" y="712"/>
                </a:lnTo>
                <a:lnTo>
                  <a:pt x="146" y="694"/>
                </a:lnTo>
                <a:lnTo>
                  <a:pt x="107" y="677"/>
                </a:lnTo>
                <a:lnTo>
                  <a:pt x="71" y="658"/>
                </a:lnTo>
                <a:lnTo>
                  <a:pt x="37" y="638"/>
                </a:lnTo>
                <a:lnTo>
                  <a:pt x="8" y="615"/>
                </a:lnTo>
                <a:lnTo>
                  <a:pt x="4" y="612"/>
                </a:lnTo>
                <a:lnTo>
                  <a:pt x="0" y="602"/>
                </a:lnTo>
                <a:lnTo>
                  <a:pt x="1" y="588"/>
                </a:lnTo>
                <a:lnTo>
                  <a:pt x="8" y="564"/>
                </a:lnTo>
                <a:lnTo>
                  <a:pt x="18" y="544"/>
                </a:lnTo>
                <a:lnTo>
                  <a:pt x="32" y="523"/>
                </a:lnTo>
                <a:lnTo>
                  <a:pt x="47" y="501"/>
                </a:lnTo>
                <a:lnTo>
                  <a:pt x="66" y="477"/>
                </a:lnTo>
                <a:lnTo>
                  <a:pt x="88" y="454"/>
                </a:lnTo>
                <a:lnTo>
                  <a:pt x="112" y="430"/>
                </a:lnTo>
                <a:lnTo>
                  <a:pt x="138" y="405"/>
                </a:lnTo>
                <a:lnTo>
                  <a:pt x="167" y="380"/>
                </a:lnTo>
                <a:lnTo>
                  <a:pt x="199" y="355"/>
                </a:lnTo>
                <a:lnTo>
                  <a:pt x="232" y="330"/>
                </a:lnTo>
                <a:lnTo>
                  <a:pt x="266" y="305"/>
                </a:lnTo>
                <a:lnTo>
                  <a:pt x="303" y="280"/>
                </a:lnTo>
                <a:lnTo>
                  <a:pt x="341" y="255"/>
                </a:lnTo>
                <a:lnTo>
                  <a:pt x="380" y="231"/>
                </a:lnTo>
                <a:lnTo>
                  <a:pt x="421" y="208"/>
                </a:lnTo>
                <a:lnTo>
                  <a:pt x="463" y="184"/>
                </a:lnTo>
                <a:lnTo>
                  <a:pt x="505" y="162"/>
                </a:lnTo>
                <a:lnTo>
                  <a:pt x="550" y="141"/>
                </a:lnTo>
                <a:lnTo>
                  <a:pt x="595" y="120"/>
                </a:lnTo>
                <a:lnTo>
                  <a:pt x="641" y="101"/>
                </a:lnTo>
                <a:lnTo>
                  <a:pt x="687" y="83"/>
                </a:lnTo>
                <a:lnTo>
                  <a:pt x="733" y="67"/>
                </a:lnTo>
                <a:lnTo>
                  <a:pt x="780" y="51"/>
                </a:lnTo>
                <a:lnTo>
                  <a:pt x="828" y="38"/>
                </a:lnTo>
                <a:lnTo>
                  <a:pt x="875" y="26"/>
                </a:lnTo>
                <a:lnTo>
                  <a:pt x="921" y="17"/>
                </a:lnTo>
                <a:lnTo>
                  <a:pt x="968" y="9"/>
                </a:lnTo>
                <a:lnTo>
                  <a:pt x="1014" y="4"/>
                </a:lnTo>
                <a:lnTo>
                  <a:pt x="1061" y="0"/>
                </a:lnTo>
                <a:lnTo>
                  <a:pt x="1107" y="0"/>
                </a:lnTo>
                <a:lnTo>
                  <a:pt x="1151" y="1"/>
                </a:lnTo>
                <a:lnTo>
                  <a:pt x="1195" y="5"/>
                </a:lnTo>
                <a:lnTo>
                  <a:pt x="1218" y="9"/>
                </a:lnTo>
                <a:lnTo>
                  <a:pt x="1242" y="16"/>
                </a:lnTo>
                <a:lnTo>
                  <a:pt x="1262" y="25"/>
                </a:lnTo>
                <a:lnTo>
                  <a:pt x="1282" y="35"/>
                </a:lnTo>
                <a:lnTo>
                  <a:pt x="1299" y="49"/>
                </a:lnTo>
                <a:lnTo>
                  <a:pt x="1314" y="64"/>
                </a:lnTo>
                <a:lnTo>
                  <a:pt x="1329" y="83"/>
                </a:lnTo>
                <a:lnTo>
                  <a:pt x="1341" y="102"/>
                </a:lnTo>
                <a:lnTo>
                  <a:pt x="1367" y="171"/>
                </a:lnTo>
                <a:lnTo>
                  <a:pt x="1382" y="252"/>
                </a:lnTo>
                <a:lnTo>
                  <a:pt x="1384" y="344"/>
                </a:lnTo>
                <a:lnTo>
                  <a:pt x="1378" y="446"/>
                </a:lnTo>
                <a:lnTo>
                  <a:pt x="1361" y="552"/>
                </a:lnTo>
                <a:lnTo>
                  <a:pt x="1338" y="664"/>
                </a:lnTo>
                <a:lnTo>
                  <a:pt x="1309" y="779"/>
                </a:lnTo>
                <a:lnTo>
                  <a:pt x="1276" y="893"/>
                </a:lnTo>
                <a:lnTo>
                  <a:pt x="1239" y="1005"/>
                </a:lnTo>
                <a:lnTo>
                  <a:pt x="1203" y="1113"/>
                </a:lnTo>
                <a:lnTo>
                  <a:pt x="1164" y="1215"/>
                </a:lnTo>
                <a:lnTo>
                  <a:pt x="1128" y="1309"/>
                </a:lnTo>
                <a:lnTo>
                  <a:pt x="1095" y="1392"/>
                </a:lnTo>
                <a:lnTo>
                  <a:pt x="1064" y="1461"/>
                </a:lnTo>
                <a:lnTo>
                  <a:pt x="1041" y="1517"/>
                </a:lnTo>
                <a:lnTo>
                  <a:pt x="1024" y="1555"/>
                </a:lnTo>
                <a:lnTo>
                  <a:pt x="313" y="1485"/>
                </a:lnTo>
                <a:lnTo>
                  <a:pt x="341" y="1401"/>
                </a:lnTo>
                <a:lnTo>
                  <a:pt x="360" y="1402"/>
                </a:lnTo>
                <a:lnTo>
                  <a:pt x="379" y="1402"/>
                </a:lnTo>
                <a:lnTo>
                  <a:pt x="399" y="1401"/>
                </a:lnTo>
                <a:lnTo>
                  <a:pt x="417" y="1398"/>
                </a:lnTo>
                <a:lnTo>
                  <a:pt x="435" y="1393"/>
                </a:lnTo>
                <a:lnTo>
                  <a:pt x="453" y="1386"/>
                </a:lnTo>
                <a:lnTo>
                  <a:pt x="470" y="1380"/>
                </a:lnTo>
                <a:lnTo>
                  <a:pt x="487" y="1371"/>
                </a:lnTo>
                <a:lnTo>
                  <a:pt x="503" y="1360"/>
                </a:lnTo>
                <a:lnTo>
                  <a:pt x="517" y="1348"/>
                </a:lnTo>
                <a:lnTo>
                  <a:pt x="532" y="1335"/>
                </a:lnTo>
                <a:lnTo>
                  <a:pt x="543" y="1322"/>
                </a:lnTo>
                <a:lnTo>
                  <a:pt x="555" y="1306"/>
                </a:lnTo>
                <a:lnTo>
                  <a:pt x="566" y="1290"/>
                </a:lnTo>
                <a:lnTo>
                  <a:pt x="575" y="1273"/>
                </a:lnTo>
                <a:lnTo>
                  <a:pt x="583" y="12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4" name=""/>
          <p:cNvSpPr/>
          <p:nvPr/>
        </p:nvSpPr>
        <p:spPr>
          <a:xfrm>
            <a:off x="5721480" y="3720960"/>
            <a:ext cx="112680" cy="135000"/>
          </a:xfrm>
          <a:custGeom>
            <a:avLst/>
            <a:gdLst/>
            <a:ahLst/>
            <a:rect l="l" t="t" r="r" b="b"/>
            <a:pathLst>
              <a:path w="71" h="85">
                <a:moveTo>
                  <a:pt x="68" y="54"/>
                </a:moveTo>
                <a:lnTo>
                  <a:pt x="71" y="37"/>
                </a:lnTo>
                <a:lnTo>
                  <a:pt x="70" y="21"/>
                </a:lnTo>
                <a:lnTo>
                  <a:pt x="62" y="9"/>
                </a:lnTo>
                <a:lnTo>
                  <a:pt x="51" y="1"/>
                </a:lnTo>
                <a:lnTo>
                  <a:pt x="45" y="0"/>
                </a:lnTo>
                <a:lnTo>
                  <a:pt x="37" y="0"/>
                </a:lnTo>
                <a:lnTo>
                  <a:pt x="30" y="1"/>
                </a:lnTo>
                <a:lnTo>
                  <a:pt x="24" y="5"/>
                </a:lnTo>
                <a:lnTo>
                  <a:pt x="17" y="9"/>
                </a:lnTo>
                <a:lnTo>
                  <a:pt x="12" y="15"/>
                </a:lnTo>
                <a:lnTo>
                  <a:pt x="8" y="23"/>
                </a:lnTo>
                <a:lnTo>
                  <a:pt x="4" y="31"/>
                </a:lnTo>
                <a:lnTo>
                  <a:pt x="0" y="48"/>
                </a:lnTo>
                <a:lnTo>
                  <a:pt x="3" y="63"/>
                </a:lnTo>
                <a:lnTo>
                  <a:pt x="9" y="76"/>
                </a:lnTo>
                <a:lnTo>
                  <a:pt x="21" y="84"/>
                </a:lnTo>
                <a:lnTo>
                  <a:pt x="28" y="85"/>
                </a:lnTo>
                <a:lnTo>
                  <a:pt x="34" y="85"/>
                </a:lnTo>
                <a:lnTo>
                  <a:pt x="41" y="84"/>
                </a:lnTo>
                <a:lnTo>
                  <a:pt x="47" y="80"/>
                </a:lnTo>
                <a:lnTo>
                  <a:pt x="54" y="76"/>
                </a:lnTo>
                <a:lnTo>
                  <a:pt x="59" y="69"/>
                </a:lnTo>
                <a:lnTo>
                  <a:pt x="64" y="62"/>
                </a:lnTo>
                <a:lnTo>
                  <a:pt x="68" y="54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5" name=""/>
          <p:cNvSpPr/>
          <p:nvPr/>
        </p:nvSpPr>
        <p:spPr>
          <a:xfrm>
            <a:off x="5167440" y="3517920"/>
            <a:ext cx="112680" cy="136440"/>
          </a:xfrm>
          <a:custGeom>
            <a:avLst/>
            <a:gdLst/>
            <a:ahLst/>
            <a:rect l="l" t="t" r="r" b="b"/>
            <a:pathLst>
              <a:path w="71" h="86">
                <a:moveTo>
                  <a:pt x="52" y="1"/>
                </a:moveTo>
                <a:lnTo>
                  <a:pt x="45" y="0"/>
                </a:lnTo>
                <a:lnTo>
                  <a:pt x="37" y="0"/>
                </a:lnTo>
                <a:lnTo>
                  <a:pt x="30" y="1"/>
                </a:lnTo>
                <a:lnTo>
                  <a:pt x="24" y="5"/>
                </a:lnTo>
                <a:lnTo>
                  <a:pt x="17" y="9"/>
                </a:lnTo>
                <a:lnTo>
                  <a:pt x="12" y="16"/>
                </a:lnTo>
                <a:lnTo>
                  <a:pt x="8" y="24"/>
                </a:lnTo>
                <a:lnTo>
                  <a:pt x="4" y="32"/>
                </a:lnTo>
                <a:lnTo>
                  <a:pt x="0" y="49"/>
                </a:lnTo>
                <a:lnTo>
                  <a:pt x="3" y="63"/>
                </a:lnTo>
                <a:lnTo>
                  <a:pt x="9" y="76"/>
                </a:lnTo>
                <a:lnTo>
                  <a:pt x="21" y="84"/>
                </a:lnTo>
                <a:lnTo>
                  <a:pt x="28" y="86"/>
                </a:lnTo>
                <a:lnTo>
                  <a:pt x="34" y="86"/>
                </a:lnTo>
                <a:lnTo>
                  <a:pt x="41" y="84"/>
                </a:lnTo>
                <a:lnTo>
                  <a:pt x="48" y="80"/>
                </a:lnTo>
                <a:lnTo>
                  <a:pt x="54" y="76"/>
                </a:lnTo>
                <a:lnTo>
                  <a:pt x="59" y="70"/>
                </a:lnTo>
                <a:lnTo>
                  <a:pt x="65" y="62"/>
                </a:lnTo>
                <a:lnTo>
                  <a:pt x="69" y="54"/>
                </a:lnTo>
                <a:lnTo>
                  <a:pt x="71" y="37"/>
                </a:lnTo>
                <a:lnTo>
                  <a:pt x="70" y="21"/>
                </a:lnTo>
                <a:lnTo>
                  <a:pt x="62" y="9"/>
                </a:lnTo>
                <a:lnTo>
                  <a:pt x="52" y="1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6" name=""/>
          <p:cNvSpPr/>
          <p:nvPr/>
        </p:nvSpPr>
        <p:spPr>
          <a:xfrm>
            <a:off x="4854600" y="3235320"/>
            <a:ext cx="644400" cy="646200"/>
          </a:xfrm>
          <a:custGeom>
            <a:avLst/>
            <a:gdLst/>
            <a:ahLst/>
            <a:rect l="l" t="t" r="r" b="b"/>
            <a:pathLst>
              <a:path w="406" h="407">
                <a:moveTo>
                  <a:pt x="339" y="271"/>
                </a:moveTo>
                <a:lnTo>
                  <a:pt x="325" y="295"/>
                </a:lnTo>
                <a:lnTo>
                  <a:pt x="306" y="316"/>
                </a:lnTo>
                <a:lnTo>
                  <a:pt x="284" y="332"/>
                </a:lnTo>
                <a:lnTo>
                  <a:pt x="260" y="345"/>
                </a:lnTo>
                <a:lnTo>
                  <a:pt x="234" y="353"/>
                </a:lnTo>
                <a:lnTo>
                  <a:pt x="206" y="357"/>
                </a:lnTo>
                <a:lnTo>
                  <a:pt x="179" y="354"/>
                </a:lnTo>
                <a:lnTo>
                  <a:pt x="151" y="348"/>
                </a:lnTo>
                <a:lnTo>
                  <a:pt x="124" y="335"/>
                </a:lnTo>
                <a:lnTo>
                  <a:pt x="100" y="316"/>
                </a:lnTo>
                <a:lnTo>
                  <a:pt x="80" y="294"/>
                </a:lnTo>
                <a:lnTo>
                  <a:pt x="66" y="269"/>
                </a:lnTo>
                <a:lnTo>
                  <a:pt x="55" y="241"/>
                </a:lnTo>
                <a:lnTo>
                  <a:pt x="51" y="211"/>
                </a:lnTo>
                <a:lnTo>
                  <a:pt x="52" y="182"/>
                </a:lnTo>
                <a:lnTo>
                  <a:pt x="60" y="152"/>
                </a:lnTo>
                <a:lnTo>
                  <a:pt x="74" y="124"/>
                </a:lnTo>
                <a:lnTo>
                  <a:pt x="92" y="100"/>
                </a:lnTo>
                <a:lnTo>
                  <a:pt x="114" y="81"/>
                </a:lnTo>
                <a:lnTo>
                  <a:pt x="139" y="66"/>
                </a:lnTo>
                <a:lnTo>
                  <a:pt x="167" y="56"/>
                </a:lnTo>
                <a:lnTo>
                  <a:pt x="196" y="52"/>
                </a:lnTo>
                <a:lnTo>
                  <a:pt x="225" y="53"/>
                </a:lnTo>
                <a:lnTo>
                  <a:pt x="255" y="61"/>
                </a:lnTo>
                <a:lnTo>
                  <a:pt x="281" y="74"/>
                </a:lnTo>
                <a:lnTo>
                  <a:pt x="304" y="90"/>
                </a:lnTo>
                <a:lnTo>
                  <a:pt x="322" y="110"/>
                </a:lnTo>
                <a:lnTo>
                  <a:pt x="338" y="133"/>
                </a:lnTo>
                <a:lnTo>
                  <a:pt x="349" y="158"/>
                </a:lnTo>
                <a:lnTo>
                  <a:pt x="354" y="185"/>
                </a:lnTo>
                <a:lnTo>
                  <a:pt x="355" y="212"/>
                </a:lnTo>
                <a:lnTo>
                  <a:pt x="351" y="240"/>
                </a:lnTo>
                <a:lnTo>
                  <a:pt x="400" y="258"/>
                </a:lnTo>
                <a:lnTo>
                  <a:pt x="406" y="220"/>
                </a:lnTo>
                <a:lnTo>
                  <a:pt x="406" y="182"/>
                </a:lnTo>
                <a:lnTo>
                  <a:pt x="399" y="145"/>
                </a:lnTo>
                <a:lnTo>
                  <a:pt x="384" y="111"/>
                </a:lnTo>
                <a:lnTo>
                  <a:pt x="364" y="79"/>
                </a:lnTo>
                <a:lnTo>
                  <a:pt x="339" y="52"/>
                </a:lnTo>
                <a:lnTo>
                  <a:pt x="309" y="29"/>
                </a:lnTo>
                <a:lnTo>
                  <a:pt x="274" y="12"/>
                </a:lnTo>
                <a:lnTo>
                  <a:pt x="254" y="6"/>
                </a:lnTo>
                <a:lnTo>
                  <a:pt x="234" y="2"/>
                </a:lnTo>
                <a:lnTo>
                  <a:pt x="213" y="0"/>
                </a:lnTo>
                <a:lnTo>
                  <a:pt x="193" y="0"/>
                </a:lnTo>
                <a:lnTo>
                  <a:pt x="174" y="3"/>
                </a:lnTo>
                <a:lnTo>
                  <a:pt x="155" y="7"/>
                </a:lnTo>
                <a:lnTo>
                  <a:pt x="137" y="12"/>
                </a:lnTo>
                <a:lnTo>
                  <a:pt x="118" y="20"/>
                </a:lnTo>
                <a:lnTo>
                  <a:pt x="101" y="29"/>
                </a:lnTo>
                <a:lnTo>
                  <a:pt x="84" y="40"/>
                </a:lnTo>
                <a:lnTo>
                  <a:pt x="68" y="52"/>
                </a:lnTo>
                <a:lnTo>
                  <a:pt x="55" y="66"/>
                </a:lnTo>
                <a:lnTo>
                  <a:pt x="42" y="81"/>
                </a:lnTo>
                <a:lnTo>
                  <a:pt x="30" y="98"/>
                </a:lnTo>
                <a:lnTo>
                  <a:pt x="20" y="115"/>
                </a:lnTo>
                <a:lnTo>
                  <a:pt x="12" y="135"/>
                </a:lnTo>
                <a:lnTo>
                  <a:pt x="1" y="174"/>
                </a:lnTo>
                <a:lnTo>
                  <a:pt x="0" y="215"/>
                </a:lnTo>
                <a:lnTo>
                  <a:pt x="5" y="253"/>
                </a:lnTo>
                <a:lnTo>
                  <a:pt x="18" y="290"/>
                </a:lnTo>
                <a:lnTo>
                  <a:pt x="38" y="324"/>
                </a:lnTo>
                <a:lnTo>
                  <a:pt x="64" y="353"/>
                </a:lnTo>
                <a:lnTo>
                  <a:pt x="97" y="377"/>
                </a:lnTo>
                <a:lnTo>
                  <a:pt x="134" y="395"/>
                </a:lnTo>
                <a:lnTo>
                  <a:pt x="152" y="400"/>
                </a:lnTo>
                <a:lnTo>
                  <a:pt x="172" y="404"/>
                </a:lnTo>
                <a:lnTo>
                  <a:pt x="191" y="407"/>
                </a:lnTo>
                <a:lnTo>
                  <a:pt x="210" y="407"/>
                </a:lnTo>
                <a:lnTo>
                  <a:pt x="229" y="406"/>
                </a:lnTo>
                <a:lnTo>
                  <a:pt x="247" y="403"/>
                </a:lnTo>
                <a:lnTo>
                  <a:pt x="264" y="398"/>
                </a:lnTo>
                <a:lnTo>
                  <a:pt x="283" y="391"/>
                </a:lnTo>
                <a:lnTo>
                  <a:pt x="299" y="383"/>
                </a:lnTo>
                <a:lnTo>
                  <a:pt x="314" y="374"/>
                </a:lnTo>
                <a:lnTo>
                  <a:pt x="330" y="364"/>
                </a:lnTo>
                <a:lnTo>
                  <a:pt x="345" y="352"/>
                </a:lnTo>
                <a:lnTo>
                  <a:pt x="356" y="337"/>
                </a:lnTo>
                <a:lnTo>
                  <a:pt x="368" y="323"/>
                </a:lnTo>
                <a:lnTo>
                  <a:pt x="379" y="307"/>
                </a:lnTo>
                <a:lnTo>
                  <a:pt x="388" y="290"/>
                </a:lnTo>
                <a:lnTo>
                  <a:pt x="339" y="271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7" name=""/>
          <p:cNvSpPr/>
          <p:nvPr/>
        </p:nvSpPr>
        <p:spPr>
          <a:xfrm>
            <a:off x="5383080" y="3611520"/>
            <a:ext cx="244440" cy="133560"/>
          </a:xfrm>
          <a:custGeom>
            <a:avLst/>
            <a:gdLst/>
            <a:ahLst/>
            <a:rect l="l" t="t" r="r" b="b"/>
            <a:pathLst>
              <a:path w="154" h="84">
                <a:moveTo>
                  <a:pt x="30" y="2"/>
                </a:moveTo>
                <a:lnTo>
                  <a:pt x="21" y="0"/>
                </a:lnTo>
                <a:lnTo>
                  <a:pt x="13" y="2"/>
                </a:lnTo>
                <a:lnTo>
                  <a:pt x="5" y="7"/>
                </a:lnTo>
                <a:lnTo>
                  <a:pt x="1" y="15"/>
                </a:lnTo>
                <a:lnTo>
                  <a:pt x="1" y="15"/>
                </a:lnTo>
                <a:lnTo>
                  <a:pt x="0" y="24"/>
                </a:lnTo>
                <a:lnTo>
                  <a:pt x="2" y="32"/>
                </a:lnTo>
                <a:lnTo>
                  <a:pt x="6" y="40"/>
                </a:lnTo>
                <a:lnTo>
                  <a:pt x="14" y="45"/>
                </a:lnTo>
                <a:lnTo>
                  <a:pt x="122" y="83"/>
                </a:lnTo>
                <a:lnTo>
                  <a:pt x="131" y="84"/>
                </a:lnTo>
                <a:lnTo>
                  <a:pt x="139" y="83"/>
                </a:lnTo>
                <a:lnTo>
                  <a:pt x="147" y="78"/>
                </a:lnTo>
                <a:lnTo>
                  <a:pt x="152" y="70"/>
                </a:lnTo>
                <a:lnTo>
                  <a:pt x="152" y="70"/>
                </a:lnTo>
                <a:lnTo>
                  <a:pt x="154" y="61"/>
                </a:lnTo>
                <a:lnTo>
                  <a:pt x="151" y="53"/>
                </a:lnTo>
                <a:lnTo>
                  <a:pt x="146" y="45"/>
                </a:lnTo>
                <a:lnTo>
                  <a:pt x="138" y="41"/>
                </a:lnTo>
                <a:lnTo>
                  <a:pt x="30" y="2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8" name=""/>
          <p:cNvSpPr/>
          <p:nvPr/>
        </p:nvSpPr>
        <p:spPr>
          <a:xfrm>
            <a:off x="5508720" y="3476520"/>
            <a:ext cx="1295280" cy="814320"/>
          </a:xfrm>
          <a:custGeom>
            <a:avLst/>
            <a:gdLst/>
            <a:ahLst/>
            <a:rect l="l" t="t" r="r" b="b"/>
            <a:pathLst>
              <a:path w="816" h="513">
                <a:moveTo>
                  <a:pt x="816" y="369"/>
                </a:moveTo>
                <a:lnTo>
                  <a:pt x="401" y="244"/>
                </a:lnTo>
                <a:lnTo>
                  <a:pt x="405" y="208"/>
                </a:lnTo>
                <a:lnTo>
                  <a:pt x="404" y="172"/>
                </a:lnTo>
                <a:lnTo>
                  <a:pt x="394" y="137"/>
                </a:lnTo>
                <a:lnTo>
                  <a:pt x="380" y="104"/>
                </a:lnTo>
                <a:lnTo>
                  <a:pt x="360" y="75"/>
                </a:lnTo>
                <a:lnTo>
                  <a:pt x="335" y="48"/>
                </a:lnTo>
                <a:lnTo>
                  <a:pt x="306" y="27"/>
                </a:lnTo>
                <a:lnTo>
                  <a:pt x="272" y="12"/>
                </a:lnTo>
                <a:lnTo>
                  <a:pt x="254" y="5"/>
                </a:lnTo>
                <a:lnTo>
                  <a:pt x="234" y="1"/>
                </a:lnTo>
                <a:lnTo>
                  <a:pt x="215" y="0"/>
                </a:lnTo>
                <a:lnTo>
                  <a:pt x="196" y="0"/>
                </a:lnTo>
                <a:lnTo>
                  <a:pt x="177" y="1"/>
                </a:lnTo>
                <a:lnTo>
                  <a:pt x="159" y="4"/>
                </a:lnTo>
                <a:lnTo>
                  <a:pt x="142" y="9"/>
                </a:lnTo>
                <a:lnTo>
                  <a:pt x="123" y="14"/>
                </a:lnTo>
                <a:lnTo>
                  <a:pt x="108" y="23"/>
                </a:lnTo>
                <a:lnTo>
                  <a:pt x="92" y="33"/>
                </a:lnTo>
                <a:lnTo>
                  <a:pt x="76" y="43"/>
                </a:lnTo>
                <a:lnTo>
                  <a:pt x="63" y="55"/>
                </a:lnTo>
                <a:lnTo>
                  <a:pt x="50" y="68"/>
                </a:lnTo>
                <a:lnTo>
                  <a:pt x="38" y="84"/>
                </a:lnTo>
                <a:lnTo>
                  <a:pt x="27" y="100"/>
                </a:lnTo>
                <a:lnTo>
                  <a:pt x="18" y="117"/>
                </a:lnTo>
                <a:lnTo>
                  <a:pt x="67" y="135"/>
                </a:lnTo>
                <a:lnTo>
                  <a:pt x="81" y="110"/>
                </a:lnTo>
                <a:lnTo>
                  <a:pt x="100" y="91"/>
                </a:lnTo>
                <a:lnTo>
                  <a:pt x="121" y="73"/>
                </a:lnTo>
                <a:lnTo>
                  <a:pt x="144" y="62"/>
                </a:lnTo>
                <a:lnTo>
                  <a:pt x="171" y="54"/>
                </a:lnTo>
                <a:lnTo>
                  <a:pt x="198" y="50"/>
                </a:lnTo>
                <a:lnTo>
                  <a:pt x="226" y="52"/>
                </a:lnTo>
                <a:lnTo>
                  <a:pt x="254" y="59"/>
                </a:lnTo>
                <a:lnTo>
                  <a:pt x="281" y="72"/>
                </a:lnTo>
                <a:lnTo>
                  <a:pt x="305" y="91"/>
                </a:lnTo>
                <a:lnTo>
                  <a:pt x="325" y="113"/>
                </a:lnTo>
                <a:lnTo>
                  <a:pt x="339" y="138"/>
                </a:lnTo>
                <a:lnTo>
                  <a:pt x="350" y="166"/>
                </a:lnTo>
                <a:lnTo>
                  <a:pt x="354" y="194"/>
                </a:lnTo>
                <a:lnTo>
                  <a:pt x="352" y="225"/>
                </a:lnTo>
                <a:lnTo>
                  <a:pt x="344" y="255"/>
                </a:lnTo>
                <a:lnTo>
                  <a:pt x="331" y="283"/>
                </a:lnTo>
                <a:lnTo>
                  <a:pt x="313" y="306"/>
                </a:lnTo>
                <a:lnTo>
                  <a:pt x="291" y="325"/>
                </a:lnTo>
                <a:lnTo>
                  <a:pt x="266" y="339"/>
                </a:lnTo>
                <a:lnTo>
                  <a:pt x="238" y="350"/>
                </a:lnTo>
                <a:lnTo>
                  <a:pt x="209" y="354"/>
                </a:lnTo>
                <a:lnTo>
                  <a:pt x="180" y="352"/>
                </a:lnTo>
                <a:lnTo>
                  <a:pt x="150" y="344"/>
                </a:lnTo>
                <a:lnTo>
                  <a:pt x="125" y="331"/>
                </a:lnTo>
                <a:lnTo>
                  <a:pt x="102" y="315"/>
                </a:lnTo>
                <a:lnTo>
                  <a:pt x="83" y="296"/>
                </a:lnTo>
                <a:lnTo>
                  <a:pt x="68" y="273"/>
                </a:lnTo>
                <a:lnTo>
                  <a:pt x="58" y="248"/>
                </a:lnTo>
                <a:lnTo>
                  <a:pt x="52" y="222"/>
                </a:lnTo>
                <a:lnTo>
                  <a:pt x="51" y="194"/>
                </a:lnTo>
                <a:lnTo>
                  <a:pt x="55" y="167"/>
                </a:lnTo>
                <a:lnTo>
                  <a:pt x="6" y="148"/>
                </a:lnTo>
                <a:lnTo>
                  <a:pt x="0" y="187"/>
                </a:lnTo>
                <a:lnTo>
                  <a:pt x="0" y="225"/>
                </a:lnTo>
                <a:lnTo>
                  <a:pt x="8" y="260"/>
                </a:lnTo>
                <a:lnTo>
                  <a:pt x="22" y="294"/>
                </a:lnTo>
                <a:lnTo>
                  <a:pt x="42" y="326"/>
                </a:lnTo>
                <a:lnTo>
                  <a:pt x="67" y="354"/>
                </a:lnTo>
                <a:lnTo>
                  <a:pt x="97" y="375"/>
                </a:lnTo>
                <a:lnTo>
                  <a:pt x="133" y="392"/>
                </a:lnTo>
                <a:lnTo>
                  <a:pt x="150" y="397"/>
                </a:lnTo>
                <a:lnTo>
                  <a:pt x="167" y="401"/>
                </a:lnTo>
                <a:lnTo>
                  <a:pt x="184" y="404"/>
                </a:lnTo>
                <a:lnTo>
                  <a:pt x="201" y="405"/>
                </a:lnTo>
                <a:lnTo>
                  <a:pt x="218" y="404"/>
                </a:lnTo>
                <a:lnTo>
                  <a:pt x="235" y="402"/>
                </a:lnTo>
                <a:lnTo>
                  <a:pt x="252" y="398"/>
                </a:lnTo>
                <a:lnTo>
                  <a:pt x="268" y="393"/>
                </a:lnTo>
                <a:lnTo>
                  <a:pt x="284" y="388"/>
                </a:lnTo>
                <a:lnTo>
                  <a:pt x="300" y="380"/>
                </a:lnTo>
                <a:lnTo>
                  <a:pt x="314" y="371"/>
                </a:lnTo>
                <a:lnTo>
                  <a:pt x="327" y="362"/>
                </a:lnTo>
                <a:lnTo>
                  <a:pt x="341" y="350"/>
                </a:lnTo>
                <a:lnTo>
                  <a:pt x="352" y="338"/>
                </a:lnTo>
                <a:lnTo>
                  <a:pt x="363" y="325"/>
                </a:lnTo>
                <a:lnTo>
                  <a:pt x="373" y="310"/>
                </a:lnTo>
                <a:lnTo>
                  <a:pt x="764" y="513"/>
                </a:lnTo>
                <a:lnTo>
                  <a:pt x="816" y="369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9" name=""/>
          <p:cNvSpPr/>
          <p:nvPr/>
        </p:nvSpPr>
        <p:spPr>
          <a:xfrm>
            <a:off x="6165720" y="1849320"/>
            <a:ext cx="1551240" cy="1683000"/>
          </a:xfrm>
          <a:custGeom>
            <a:avLst/>
            <a:gdLst/>
            <a:ahLst/>
            <a:rect l="l" t="t" r="r" b="b"/>
            <a:pathLst>
              <a:path w="977" h="1060">
                <a:moveTo>
                  <a:pt x="782" y="955"/>
                </a:moveTo>
                <a:lnTo>
                  <a:pt x="786" y="934"/>
                </a:lnTo>
                <a:lnTo>
                  <a:pt x="798" y="910"/>
                </a:lnTo>
                <a:lnTo>
                  <a:pt x="812" y="885"/>
                </a:lnTo>
                <a:lnTo>
                  <a:pt x="831" y="863"/>
                </a:lnTo>
                <a:lnTo>
                  <a:pt x="849" y="842"/>
                </a:lnTo>
                <a:lnTo>
                  <a:pt x="863" y="825"/>
                </a:lnTo>
                <a:lnTo>
                  <a:pt x="875" y="814"/>
                </a:lnTo>
                <a:lnTo>
                  <a:pt x="879" y="810"/>
                </a:lnTo>
                <a:lnTo>
                  <a:pt x="899" y="862"/>
                </a:lnTo>
                <a:lnTo>
                  <a:pt x="903" y="856"/>
                </a:lnTo>
                <a:lnTo>
                  <a:pt x="913" y="842"/>
                </a:lnTo>
                <a:lnTo>
                  <a:pt x="928" y="820"/>
                </a:lnTo>
                <a:lnTo>
                  <a:pt x="945" y="789"/>
                </a:lnTo>
                <a:lnTo>
                  <a:pt x="959" y="755"/>
                </a:lnTo>
                <a:lnTo>
                  <a:pt x="971" y="716"/>
                </a:lnTo>
                <a:lnTo>
                  <a:pt x="977" y="674"/>
                </a:lnTo>
                <a:lnTo>
                  <a:pt x="974" y="631"/>
                </a:lnTo>
                <a:lnTo>
                  <a:pt x="961" y="591"/>
                </a:lnTo>
                <a:lnTo>
                  <a:pt x="941" y="555"/>
                </a:lnTo>
                <a:lnTo>
                  <a:pt x="916" y="525"/>
                </a:lnTo>
                <a:lnTo>
                  <a:pt x="888" y="499"/>
                </a:lnTo>
                <a:lnTo>
                  <a:pt x="863" y="480"/>
                </a:lnTo>
                <a:lnTo>
                  <a:pt x="841" y="466"/>
                </a:lnTo>
                <a:lnTo>
                  <a:pt x="825" y="456"/>
                </a:lnTo>
                <a:lnTo>
                  <a:pt x="820" y="454"/>
                </a:lnTo>
                <a:lnTo>
                  <a:pt x="952" y="438"/>
                </a:lnTo>
                <a:lnTo>
                  <a:pt x="788" y="391"/>
                </a:lnTo>
                <a:lnTo>
                  <a:pt x="782" y="371"/>
                </a:lnTo>
                <a:lnTo>
                  <a:pt x="773" y="349"/>
                </a:lnTo>
                <a:lnTo>
                  <a:pt x="759" y="328"/>
                </a:lnTo>
                <a:lnTo>
                  <a:pt x="744" y="305"/>
                </a:lnTo>
                <a:lnTo>
                  <a:pt x="724" y="284"/>
                </a:lnTo>
                <a:lnTo>
                  <a:pt x="699" y="263"/>
                </a:lnTo>
                <a:lnTo>
                  <a:pt x="670" y="243"/>
                </a:lnTo>
                <a:lnTo>
                  <a:pt x="634" y="225"/>
                </a:lnTo>
                <a:lnTo>
                  <a:pt x="599" y="209"/>
                </a:lnTo>
                <a:lnTo>
                  <a:pt x="563" y="197"/>
                </a:lnTo>
                <a:lnTo>
                  <a:pt x="528" y="188"/>
                </a:lnTo>
                <a:lnTo>
                  <a:pt x="495" y="180"/>
                </a:lnTo>
                <a:lnTo>
                  <a:pt x="462" y="174"/>
                </a:lnTo>
                <a:lnTo>
                  <a:pt x="430" y="170"/>
                </a:lnTo>
                <a:lnTo>
                  <a:pt x="399" y="166"/>
                </a:lnTo>
                <a:lnTo>
                  <a:pt x="370" y="162"/>
                </a:lnTo>
                <a:lnTo>
                  <a:pt x="341" y="159"/>
                </a:lnTo>
                <a:lnTo>
                  <a:pt x="313" y="157"/>
                </a:lnTo>
                <a:lnTo>
                  <a:pt x="287" y="153"/>
                </a:lnTo>
                <a:lnTo>
                  <a:pt x="263" y="147"/>
                </a:lnTo>
                <a:lnTo>
                  <a:pt x="240" y="141"/>
                </a:lnTo>
                <a:lnTo>
                  <a:pt x="217" y="132"/>
                </a:lnTo>
                <a:lnTo>
                  <a:pt x="196" y="121"/>
                </a:lnTo>
                <a:lnTo>
                  <a:pt x="178" y="108"/>
                </a:lnTo>
                <a:lnTo>
                  <a:pt x="149" y="80"/>
                </a:lnTo>
                <a:lnTo>
                  <a:pt x="132" y="57"/>
                </a:lnTo>
                <a:lnTo>
                  <a:pt x="125" y="38"/>
                </a:lnTo>
                <a:lnTo>
                  <a:pt x="127" y="24"/>
                </a:lnTo>
                <a:lnTo>
                  <a:pt x="132" y="13"/>
                </a:lnTo>
                <a:lnTo>
                  <a:pt x="140" y="5"/>
                </a:lnTo>
                <a:lnTo>
                  <a:pt x="146" y="1"/>
                </a:lnTo>
                <a:lnTo>
                  <a:pt x="149" y="0"/>
                </a:lnTo>
                <a:lnTo>
                  <a:pt x="146" y="1"/>
                </a:lnTo>
                <a:lnTo>
                  <a:pt x="141" y="4"/>
                </a:lnTo>
                <a:lnTo>
                  <a:pt x="132" y="8"/>
                </a:lnTo>
                <a:lnTo>
                  <a:pt x="121" y="13"/>
                </a:lnTo>
                <a:lnTo>
                  <a:pt x="108" y="21"/>
                </a:lnTo>
                <a:lnTo>
                  <a:pt x="96" y="30"/>
                </a:lnTo>
                <a:lnTo>
                  <a:pt x="84" y="41"/>
                </a:lnTo>
                <a:lnTo>
                  <a:pt x="75" y="53"/>
                </a:lnTo>
                <a:lnTo>
                  <a:pt x="67" y="67"/>
                </a:lnTo>
                <a:lnTo>
                  <a:pt x="63" y="83"/>
                </a:lnTo>
                <a:lnTo>
                  <a:pt x="63" y="100"/>
                </a:lnTo>
                <a:lnTo>
                  <a:pt x="69" y="118"/>
                </a:lnTo>
                <a:lnTo>
                  <a:pt x="79" y="138"/>
                </a:lnTo>
                <a:lnTo>
                  <a:pt x="98" y="160"/>
                </a:lnTo>
                <a:lnTo>
                  <a:pt x="124" y="183"/>
                </a:lnTo>
                <a:lnTo>
                  <a:pt x="159" y="208"/>
                </a:lnTo>
                <a:lnTo>
                  <a:pt x="180" y="221"/>
                </a:lnTo>
                <a:lnTo>
                  <a:pt x="200" y="233"/>
                </a:lnTo>
                <a:lnTo>
                  <a:pt x="221" y="243"/>
                </a:lnTo>
                <a:lnTo>
                  <a:pt x="242" y="253"/>
                </a:lnTo>
                <a:lnTo>
                  <a:pt x="263" y="262"/>
                </a:lnTo>
                <a:lnTo>
                  <a:pt x="283" y="271"/>
                </a:lnTo>
                <a:lnTo>
                  <a:pt x="304" y="279"/>
                </a:lnTo>
                <a:lnTo>
                  <a:pt x="324" y="285"/>
                </a:lnTo>
                <a:lnTo>
                  <a:pt x="295" y="289"/>
                </a:lnTo>
                <a:lnTo>
                  <a:pt x="266" y="293"/>
                </a:lnTo>
                <a:lnTo>
                  <a:pt x="238" y="296"/>
                </a:lnTo>
                <a:lnTo>
                  <a:pt x="213" y="297"/>
                </a:lnTo>
                <a:lnTo>
                  <a:pt x="187" y="297"/>
                </a:lnTo>
                <a:lnTo>
                  <a:pt x="163" y="295"/>
                </a:lnTo>
                <a:lnTo>
                  <a:pt x="140" y="289"/>
                </a:lnTo>
                <a:lnTo>
                  <a:pt x="117" y="282"/>
                </a:lnTo>
                <a:lnTo>
                  <a:pt x="82" y="262"/>
                </a:lnTo>
                <a:lnTo>
                  <a:pt x="61" y="245"/>
                </a:lnTo>
                <a:lnTo>
                  <a:pt x="49" y="228"/>
                </a:lnTo>
                <a:lnTo>
                  <a:pt x="46" y="213"/>
                </a:lnTo>
                <a:lnTo>
                  <a:pt x="49" y="201"/>
                </a:lnTo>
                <a:lnTo>
                  <a:pt x="54" y="192"/>
                </a:lnTo>
                <a:lnTo>
                  <a:pt x="59" y="187"/>
                </a:lnTo>
                <a:lnTo>
                  <a:pt x="62" y="184"/>
                </a:lnTo>
                <a:lnTo>
                  <a:pt x="61" y="185"/>
                </a:lnTo>
                <a:lnTo>
                  <a:pt x="55" y="189"/>
                </a:lnTo>
                <a:lnTo>
                  <a:pt x="48" y="196"/>
                </a:lnTo>
                <a:lnTo>
                  <a:pt x="38" y="204"/>
                </a:lnTo>
                <a:lnTo>
                  <a:pt x="29" y="214"/>
                </a:lnTo>
                <a:lnTo>
                  <a:pt x="19" y="226"/>
                </a:lnTo>
                <a:lnTo>
                  <a:pt x="11" y="239"/>
                </a:lnTo>
                <a:lnTo>
                  <a:pt x="4" y="254"/>
                </a:lnTo>
                <a:lnTo>
                  <a:pt x="0" y="270"/>
                </a:lnTo>
                <a:lnTo>
                  <a:pt x="0" y="285"/>
                </a:lnTo>
                <a:lnTo>
                  <a:pt x="5" y="303"/>
                </a:lnTo>
                <a:lnTo>
                  <a:pt x="15" y="320"/>
                </a:lnTo>
                <a:lnTo>
                  <a:pt x="32" y="335"/>
                </a:lnTo>
                <a:lnTo>
                  <a:pt x="54" y="353"/>
                </a:lnTo>
                <a:lnTo>
                  <a:pt x="86" y="368"/>
                </a:lnTo>
                <a:lnTo>
                  <a:pt x="127" y="383"/>
                </a:lnTo>
                <a:lnTo>
                  <a:pt x="149" y="389"/>
                </a:lnTo>
                <a:lnTo>
                  <a:pt x="173" y="396"/>
                </a:lnTo>
                <a:lnTo>
                  <a:pt x="195" y="401"/>
                </a:lnTo>
                <a:lnTo>
                  <a:pt x="216" y="405"/>
                </a:lnTo>
                <a:lnTo>
                  <a:pt x="238" y="409"/>
                </a:lnTo>
                <a:lnTo>
                  <a:pt x="259" y="412"/>
                </a:lnTo>
                <a:lnTo>
                  <a:pt x="282" y="414"/>
                </a:lnTo>
                <a:lnTo>
                  <a:pt x="303" y="416"/>
                </a:lnTo>
                <a:lnTo>
                  <a:pt x="323" y="417"/>
                </a:lnTo>
                <a:lnTo>
                  <a:pt x="344" y="418"/>
                </a:lnTo>
                <a:lnTo>
                  <a:pt x="363" y="418"/>
                </a:lnTo>
                <a:lnTo>
                  <a:pt x="383" y="418"/>
                </a:lnTo>
                <a:lnTo>
                  <a:pt x="403" y="418"/>
                </a:lnTo>
                <a:lnTo>
                  <a:pt x="423" y="418"/>
                </a:lnTo>
                <a:lnTo>
                  <a:pt x="441" y="417"/>
                </a:lnTo>
                <a:lnTo>
                  <a:pt x="459" y="417"/>
                </a:lnTo>
                <a:lnTo>
                  <a:pt x="474" y="420"/>
                </a:lnTo>
                <a:lnTo>
                  <a:pt x="488" y="424"/>
                </a:lnTo>
                <a:lnTo>
                  <a:pt x="503" y="428"/>
                </a:lnTo>
                <a:lnTo>
                  <a:pt x="517" y="430"/>
                </a:lnTo>
                <a:lnTo>
                  <a:pt x="530" y="435"/>
                </a:lnTo>
                <a:lnTo>
                  <a:pt x="544" y="439"/>
                </a:lnTo>
                <a:lnTo>
                  <a:pt x="557" y="443"/>
                </a:lnTo>
                <a:lnTo>
                  <a:pt x="569" y="449"/>
                </a:lnTo>
                <a:lnTo>
                  <a:pt x="600" y="470"/>
                </a:lnTo>
                <a:lnTo>
                  <a:pt x="623" y="500"/>
                </a:lnTo>
                <a:lnTo>
                  <a:pt x="638" y="537"/>
                </a:lnTo>
                <a:lnTo>
                  <a:pt x="648" y="580"/>
                </a:lnTo>
                <a:lnTo>
                  <a:pt x="650" y="626"/>
                </a:lnTo>
                <a:lnTo>
                  <a:pt x="649" y="675"/>
                </a:lnTo>
                <a:lnTo>
                  <a:pt x="644" y="725"/>
                </a:lnTo>
                <a:lnTo>
                  <a:pt x="634" y="775"/>
                </a:lnTo>
                <a:lnTo>
                  <a:pt x="627" y="821"/>
                </a:lnTo>
                <a:lnTo>
                  <a:pt x="627" y="860"/>
                </a:lnTo>
                <a:lnTo>
                  <a:pt x="631" y="895"/>
                </a:lnTo>
                <a:lnTo>
                  <a:pt x="642" y="925"/>
                </a:lnTo>
                <a:lnTo>
                  <a:pt x="659" y="954"/>
                </a:lnTo>
                <a:lnTo>
                  <a:pt x="681" y="980"/>
                </a:lnTo>
                <a:lnTo>
                  <a:pt x="708" y="1005"/>
                </a:lnTo>
                <a:lnTo>
                  <a:pt x="740" y="1031"/>
                </a:lnTo>
                <a:lnTo>
                  <a:pt x="773" y="1052"/>
                </a:lnTo>
                <a:lnTo>
                  <a:pt x="803" y="1060"/>
                </a:lnTo>
                <a:lnTo>
                  <a:pt x="832" y="1060"/>
                </a:lnTo>
                <a:lnTo>
                  <a:pt x="856" y="1055"/>
                </a:lnTo>
                <a:lnTo>
                  <a:pt x="875" y="1045"/>
                </a:lnTo>
                <a:lnTo>
                  <a:pt x="890" y="1035"/>
                </a:lnTo>
                <a:lnTo>
                  <a:pt x="900" y="1027"/>
                </a:lnTo>
                <a:lnTo>
                  <a:pt x="903" y="1023"/>
                </a:lnTo>
                <a:lnTo>
                  <a:pt x="898" y="1022"/>
                </a:lnTo>
                <a:lnTo>
                  <a:pt x="884" y="1021"/>
                </a:lnTo>
                <a:lnTo>
                  <a:pt x="865" y="1016"/>
                </a:lnTo>
                <a:lnTo>
                  <a:pt x="842" y="1009"/>
                </a:lnTo>
                <a:lnTo>
                  <a:pt x="820" y="1000"/>
                </a:lnTo>
                <a:lnTo>
                  <a:pt x="800" y="988"/>
                </a:lnTo>
                <a:lnTo>
                  <a:pt x="787" y="973"/>
                </a:lnTo>
                <a:lnTo>
                  <a:pt x="782" y="955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0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1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2" name="" descr=""/>
          <p:cNvPicPr/>
          <p:nvPr/>
        </p:nvPicPr>
        <p:blipFill>
          <a:blip r:embed="rId1"/>
          <a:stretch/>
        </p:blipFill>
        <p:spPr>
          <a:xfrm>
            <a:off x="708120" y="835200"/>
            <a:ext cx="4432320" cy="4760640"/>
          </a:xfrm>
          <a:prstGeom prst="rect">
            <a:avLst/>
          </a:prstGeom>
          <a:ln w="0">
            <a:noFill/>
          </a:ln>
        </p:spPr>
      </p:pic>
      <p:sp>
        <p:nvSpPr>
          <p:cNvPr id="5993" name=""/>
          <p:cNvSpPr/>
          <p:nvPr/>
        </p:nvSpPr>
        <p:spPr>
          <a:xfrm>
            <a:off x="4826160" y="1522440"/>
            <a:ext cx="374472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Arial"/>
              </a:rPr>
              <a:t>FAUX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 !!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4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5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6" name=""/>
          <p:cNvSpPr/>
          <p:nvPr/>
        </p:nvSpPr>
        <p:spPr>
          <a:xfrm>
            <a:off x="936720" y="1847880"/>
            <a:ext cx="3998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ais non 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97" name="" descr=""/>
          <p:cNvPicPr/>
          <p:nvPr/>
        </p:nvPicPr>
        <p:blipFill>
          <a:blip r:embed="rId1"/>
          <a:stretch/>
        </p:blipFill>
        <p:spPr>
          <a:xfrm>
            <a:off x="5005440" y="1593720"/>
            <a:ext cx="2779560" cy="4888080"/>
          </a:xfrm>
          <a:prstGeom prst="rect">
            <a:avLst/>
          </a:prstGeom>
          <a:ln w="0">
            <a:noFill/>
          </a:ln>
        </p:spPr>
      </p:pic>
      <p:sp>
        <p:nvSpPr>
          <p:cNvPr id="5998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9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0" name=""/>
          <p:cNvSpPr/>
          <p:nvPr/>
        </p:nvSpPr>
        <p:spPr>
          <a:xfrm>
            <a:off x="638280" y="1360440"/>
            <a:ext cx="27162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ccff"/>
                </a:solidFill>
                <a:latin typeface="Arial"/>
              </a:rPr>
              <a:t>Non 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1" name=""/>
          <p:cNvSpPr/>
          <p:nvPr/>
        </p:nvSpPr>
        <p:spPr>
          <a:xfrm>
            <a:off x="4043520" y="2514600"/>
            <a:ext cx="3790800" cy="2031840"/>
          </a:xfrm>
          <a:custGeom>
            <a:avLst/>
            <a:gdLst/>
            <a:ahLst/>
            <a:rect l="l" t="t" r="r" b="b"/>
            <a:pathLst>
              <a:path w="2388" h="1280">
                <a:moveTo>
                  <a:pt x="133" y="1217"/>
                </a:moveTo>
                <a:lnTo>
                  <a:pt x="127" y="1217"/>
                </a:lnTo>
                <a:lnTo>
                  <a:pt x="109" y="1210"/>
                </a:lnTo>
                <a:lnTo>
                  <a:pt x="84" y="1195"/>
                </a:lnTo>
                <a:lnTo>
                  <a:pt x="58" y="1166"/>
                </a:lnTo>
                <a:lnTo>
                  <a:pt x="33" y="1119"/>
                </a:lnTo>
                <a:lnTo>
                  <a:pt x="15" y="1050"/>
                </a:lnTo>
                <a:lnTo>
                  <a:pt x="9" y="954"/>
                </a:lnTo>
                <a:lnTo>
                  <a:pt x="15" y="825"/>
                </a:lnTo>
                <a:lnTo>
                  <a:pt x="29" y="665"/>
                </a:lnTo>
                <a:lnTo>
                  <a:pt x="31" y="546"/>
                </a:lnTo>
                <a:lnTo>
                  <a:pt x="26" y="459"/>
                </a:lnTo>
                <a:lnTo>
                  <a:pt x="17" y="397"/>
                </a:lnTo>
                <a:lnTo>
                  <a:pt x="9" y="355"/>
                </a:lnTo>
                <a:lnTo>
                  <a:pt x="2" y="326"/>
                </a:lnTo>
                <a:lnTo>
                  <a:pt x="0" y="299"/>
                </a:lnTo>
                <a:lnTo>
                  <a:pt x="6" y="270"/>
                </a:lnTo>
                <a:lnTo>
                  <a:pt x="15" y="246"/>
                </a:lnTo>
                <a:lnTo>
                  <a:pt x="24" y="223"/>
                </a:lnTo>
                <a:lnTo>
                  <a:pt x="33" y="201"/>
                </a:lnTo>
                <a:lnTo>
                  <a:pt x="44" y="179"/>
                </a:lnTo>
                <a:lnTo>
                  <a:pt x="55" y="159"/>
                </a:lnTo>
                <a:lnTo>
                  <a:pt x="71" y="141"/>
                </a:lnTo>
                <a:lnTo>
                  <a:pt x="89" y="123"/>
                </a:lnTo>
                <a:lnTo>
                  <a:pt x="111" y="105"/>
                </a:lnTo>
                <a:lnTo>
                  <a:pt x="138" y="92"/>
                </a:lnTo>
                <a:lnTo>
                  <a:pt x="171" y="81"/>
                </a:lnTo>
                <a:lnTo>
                  <a:pt x="209" y="70"/>
                </a:lnTo>
                <a:lnTo>
                  <a:pt x="256" y="63"/>
                </a:lnTo>
                <a:lnTo>
                  <a:pt x="307" y="58"/>
                </a:lnTo>
                <a:lnTo>
                  <a:pt x="368" y="56"/>
                </a:lnTo>
                <a:lnTo>
                  <a:pt x="439" y="56"/>
                </a:lnTo>
                <a:lnTo>
                  <a:pt x="517" y="61"/>
                </a:lnTo>
                <a:lnTo>
                  <a:pt x="597" y="67"/>
                </a:lnTo>
                <a:lnTo>
                  <a:pt x="673" y="74"/>
                </a:lnTo>
                <a:lnTo>
                  <a:pt x="745" y="81"/>
                </a:lnTo>
                <a:lnTo>
                  <a:pt x="809" y="87"/>
                </a:lnTo>
                <a:lnTo>
                  <a:pt x="869" y="94"/>
                </a:lnTo>
                <a:lnTo>
                  <a:pt x="927" y="98"/>
                </a:lnTo>
                <a:lnTo>
                  <a:pt x="981" y="105"/>
                </a:lnTo>
                <a:lnTo>
                  <a:pt x="1032" y="110"/>
                </a:lnTo>
                <a:lnTo>
                  <a:pt x="1084" y="114"/>
                </a:lnTo>
                <a:lnTo>
                  <a:pt x="1130" y="116"/>
                </a:lnTo>
                <a:lnTo>
                  <a:pt x="1179" y="119"/>
                </a:lnTo>
                <a:lnTo>
                  <a:pt x="1226" y="119"/>
                </a:lnTo>
                <a:lnTo>
                  <a:pt x="1275" y="119"/>
                </a:lnTo>
                <a:lnTo>
                  <a:pt x="1324" y="116"/>
                </a:lnTo>
                <a:lnTo>
                  <a:pt x="1373" y="112"/>
                </a:lnTo>
                <a:lnTo>
                  <a:pt x="1427" y="107"/>
                </a:lnTo>
                <a:lnTo>
                  <a:pt x="1481" y="101"/>
                </a:lnTo>
                <a:lnTo>
                  <a:pt x="1532" y="94"/>
                </a:lnTo>
                <a:lnTo>
                  <a:pt x="1581" y="87"/>
                </a:lnTo>
                <a:lnTo>
                  <a:pt x="1630" y="78"/>
                </a:lnTo>
                <a:lnTo>
                  <a:pt x="1677" y="72"/>
                </a:lnTo>
                <a:lnTo>
                  <a:pt x="1724" y="63"/>
                </a:lnTo>
                <a:lnTo>
                  <a:pt x="1768" y="54"/>
                </a:lnTo>
                <a:lnTo>
                  <a:pt x="1813" y="47"/>
                </a:lnTo>
                <a:lnTo>
                  <a:pt x="1855" y="38"/>
                </a:lnTo>
                <a:lnTo>
                  <a:pt x="1895" y="32"/>
                </a:lnTo>
                <a:lnTo>
                  <a:pt x="1938" y="25"/>
                </a:lnTo>
                <a:lnTo>
                  <a:pt x="1978" y="18"/>
                </a:lnTo>
                <a:lnTo>
                  <a:pt x="2016" y="12"/>
                </a:lnTo>
                <a:lnTo>
                  <a:pt x="2056" y="7"/>
                </a:lnTo>
                <a:lnTo>
                  <a:pt x="2094" y="3"/>
                </a:lnTo>
                <a:lnTo>
                  <a:pt x="2132" y="0"/>
                </a:lnTo>
                <a:lnTo>
                  <a:pt x="2194" y="5"/>
                </a:lnTo>
                <a:lnTo>
                  <a:pt x="2245" y="25"/>
                </a:lnTo>
                <a:lnTo>
                  <a:pt x="2288" y="58"/>
                </a:lnTo>
                <a:lnTo>
                  <a:pt x="2321" y="101"/>
                </a:lnTo>
                <a:lnTo>
                  <a:pt x="2346" y="154"/>
                </a:lnTo>
                <a:lnTo>
                  <a:pt x="2366" y="217"/>
                </a:lnTo>
                <a:lnTo>
                  <a:pt x="2377" y="283"/>
                </a:lnTo>
                <a:lnTo>
                  <a:pt x="2386" y="355"/>
                </a:lnTo>
                <a:lnTo>
                  <a:pt x="2388" y="428"/>
                </a:lnTo>
                <a:lnTo>
                  <a:pt x="2386" y="502"/>
                </a:lnTo>
                <a:lnTo>
                  <a:pt x="2384" y="573"/>
                </a:lnTo>
                <a:lnTo>
                  <a:pt x="2377" y="640"/>
                </a:lnTo>
                <a:lnTo>
                  <a:pt x="2370" y="702"/>
                </a:lnTo>
                <a:lnTo>
                  <a:pt x="2364" y="756"/>
                </a:lnTo>
                <a:lnTo>
                  <a:pt x="2355" y="803"/>
                </a:lnTo>
                <a:lnTo>
                  <a:pt x="2350" y="836"/>
                </a:lnTo>
                <a:lnTo>
                  <a:pt x="2344" y="885"/>
                </a:lnTo>
                <a:lnTo>
                  <a:pt x="2344" y="925"/>
                </a:lnTo>
                <a:lnTo>
                  <a:pt x="2341" y="959"/>
                </a:lnTo>
                <a:lnTo>
                  <a:pt x="2339" y="985"/>
                </a:lnTo>
                <a:lnTo>
                  <a:pt x="2330" y="1012"/>
                </a:lnTo>
                <a:lnTo>
                  <a:pt x="2315" y="1039"/>
                </a:lnTo>
                <a:lnTo>
                  <a:pt x="2283" y="1068"/>
                </a:lnTo>
                <a:lnTo>
                  <a:pt x="2239" y="1104"/>
                </a:lnTo>
                <a:lnTo>
                  <a:pt x="2208" y="1124"/>
                </a:lnTo>
                <a:lnTo>
                  <a:pt x="2174" y="1139"/>
                </a:lnTo>
                <a:lnTo>
                  <a:pt x="2136" y="1155"/>
                </a:lnTo>
                <a:lnTo>
                  <a:pt x="2096" y="1168"/>
                </a:lnTo>
                <a:lnTo>
                  <a:pt x="2051" y="1182"/>
                </a:lnTo>
                <a:lnTo>
                  <a:pt x="2007" y="1190"/>
                </a:lnTo>
                <a:lnTo>
                  <a:pt x="1958" y="1199"/>
                </a:lnTo>
                <a:lnTo>
                  <a:pt x="1906" y="1208"/>
                </a:lnTo>
                <a:lnTo>
                  <a:pt x="1855" y="1215"/>
                </a:lnTo>
                <a:lnTo>
                  <a:pt x="1802" y="1219"/>
                </a:lnTo>
                <a:lnTo>
                  <a:pt x="1746" y="1224"/>
                </a:lnTo>
                <a:lnTo>
                  <a:pt x="1690" y="1228"/>
                </a:lnTo>
                <a:lnTo>
                  <a:pt x="1632" y="1231"/>
                </a:lnTo>
                <a:lnTo>
                  <a:pt x="1574" y="1233"/>
                </a:lnTo>
                <a:lnTo>
                  <a:pt x="1518" y="1235"/>
                </a:lnTo>
                <a:lnTo>
                  <a:pt x="1460" y="1235"/>
                </a:lnTo>
                <a:lnTo>
                  <a:pt x="1402" y="1235"/>
                </a:lnTo>
                <a:lnTo>
                  <a:pt x="1344" y="1235"/>
                </a:lnTo>
                <a:lnTo>
                  <a:pt x="1289" y="1235"/>
                </a:lnTo>
                <a:lnTo>
                  <a:pt x="1235" y="1235"/>
                </a:lnTo>
                <a:lnTo>
                  <a:pt x="1182" y="1235"/>
                </a:lnTo>
                <a:lnTo>
                  <a:pt x="1128" y="1235"/>
                </a:lnTo>
                <a:lnTo>
                  <a:pt x="1079" y="1235"/>
                </a:lnTo>
                <a:lnTo>
                  <a:pt x="1030" y="1235"/>
                </a:lnTo>
                <a:lnTo>
                  <a:pt x="983" y="1235"/>
                </a:lnTo>
                <a:lnTo>
                  <a:pt x="941" y="1235"/>
                </a:lnTo>
                <a:lnTo>
                  <a:pt x="901" y="1237"/>
                </a:lnTo>
                <a:lnTo>
                  <a:pt x="863" y="1239"/>
                </a:lnTo>
                <a:lnTo>
                  <a:pt x="829" y="1242"/>
                </a:lnTo>
                <a:lnTo>
                  <a:pt x="800" y="1246"/>
                </a:lnTo>
                <a:lnTo>
                  <a:pt x="774" y="1251"/>
                </a:lnTo>
                <a:lnTo>
                  <a:pt x="751" y="1257"/>
                </a:lnTo>
                <a:lnTo>
                  <a:pt x="709" y="1268"/>
                </a:lnTo>
                <a:lnTo>
                  <a:pt x="664" y="1275"/>
                </a:lnTo>
                <a:lnTo>
                  <a:pt x="615" y="1280"/>
                </a:lnTo>
                <a:lnTo>
                  <a:pt x="566" y="1280"/>
                </a:lnTo>
                <a:lnTo>
                  <a:pt x="515" y="1280"/>
                </a:lnTo>
                <a:lnTo>
                  <a:pt x="463" y="1275"/>
                </a:lnTo>
                <a:lnTo>
                  <a:pt x="412" y="1271"/>
                </a:lnTo>
                <a:lnTo>
                  <a:pt x="363" y="1264"/>
                </a:lnTo>
                <a:lnTo>
                  <a:pt x="316" y="1255"/>
                </a:lnTo>
                <a:lnTo>
                  <a:pt x="274" y="1248"/>
                </a:lnTo>
                <a:lnTo>
                  <a:pt x="234" y="1239"/>
                </a:lnTo>
                <a:lnTo>
                  <a:pt x="200" y="1233"/>
                </a:lnTo>
                <a:lnTo>
                  <a:pt x="171" y="1226"/>
                </a:lnTo>
                <a:lnTo>
                  <a:pt x="151" y="1222"/>
                </a:lnTo>
                <a:lnTo>
                  <a:pt x="138" y="1219"/>
                </a:lnTo>
                <a:lnTo>
                  <a:pt x="133" y="121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2" name=""/>
          <p:cNvSpPr/>
          <p:nvPr/>
        </p:nvSpPr>
        <p:spPr>
          <a:xfrm>
            <a:off x="4006800" y="3976560"/>
            <a:ext cx="3795840" cy="1733760"/>
          </a:xfrm>
          <a:custGeom>
            <a:avLst/>
            <a:gdLst/>
            <a:ahLst/>
            <a:rect l="l" t="t" r="r" b="b"/>
            <a:pathLst>
              <a:path w="2391" h="1092">
                <a:moveTo>
                  <a:pt x="2217" y="18"/>
                </a:moveTo>
                <a:lnTo>
                  <a:pt x="2226" y="15"/>
                </a:lnTo>
                <a:lnTo>
                  <a:pt x="2248" y="11"/>
                </a:lnTo>
                <a:lnTo>
                  <a:pt x="2280" y="13"/>
                </a:lnTo>
                <a:lnTo>
                  <a:pt x="2313" y="27"/>
                </a:lnTo>
                <a:lnTo>
                  <a:pt x="2344" y="58"/>
                </a:lnTo>
                <a:lnTo>
                  <a:pt x="2369" y="113"/>
                </a:lnTo>
                <a:lnTo>
                  <a:pt x="2382" y="200"/>
                </a:lnTo>
                <a:lnTo>
                  <a:pt x="2376" y="325"/>
                </a:lnTo>
                <a:lnTo>
                  <a:pt x="2362" y="486"/>
                </a:lnTo>
                <a:lnTo>
                  <a:pt x="2360" y="604"/>
                </a:lnTo>
                <a:lnTo>
                  <a:pt x="2364" y="691"/>
                </a:lnTo>
                <a:lnTo>
                  <a:pt x="2373" y="751"/>
                </a:lnTo>
                <a:lnTo>
                  <a:pt x="2382" y="793"/>
                </a:lnTo>
                <a:lnTo>
                  <a:pt x="2389" y="824"/>
                </a:lnTo>
                <a:lnTo>
                  <a:pt x="2391" y="851"/>
                </a:lnTo>
                <a:lnTo>
                  <a:pt x="2384" y="880"/>
                </a:lnTo>
                <a:lnTo>
                  <a:pt x="2376" y="902"/>
                </a:lnTo>
                <a:lnTo>
                  <a:pt x="2367" y="925"/>
                </a:lnTo>
                <a:lnTo>
                  <a:pt x="2358" y="947"/>
                </a:lnTo>
                <a:lnTo>
                  <a:pt x="2347" y="969"/>
                </a:lnTo>
                <a:lnTo>
                  <a:pt x="2335" y="989"/>
                </a:lnTo>
                <a:lnTo>
                  <a:pt x="2320" y="1007"/>
                </a:lnTo>
                <a:lnTo>
                  <a:pt x="2302" y="1025"/>
                </a:lnTo>
                <a:lnTo>
                  <a:pt x="2280" y="1040"/>
                </a:lnTo>
                <a:lnTo>
                  <a:pt x="2253" y="1056"/>
                </a:lnTo>
                <a:lnTo>
                  <a:pt x="2222" y="1067"/>
                </a:lnTo>
                <a:lnTo>
                  <a:pt x="2184" y="1076"/>
                </a:lnTo>
                <a:lnTo>
                  <a:pt x="2137" y="1085"/>
                </a:lnTo>
                <a:lnTo>
                  <a:pt x="2086" y="1089"/>
                </a:lnTo>
                <a:lnTo>
                  <a:pt x="2025" y="1092"/>
                </a:lnTo>
                <a:lnTo>
                  <a:pt x="1954" y="1089"/>
                </a:lnTo>
                <a:lnTo>
                  <a:pt x="1876" y="1085"/>
                </a:lnTo>
                <a:lnTo>
                  <a:pt x="1796" y="1078"/>
                </a:lnTo>
                <a:lnTo>
                  <a:pt x="1720" y="1074"/>
                </a:lnTo>
                <a:lnTo>
                  <a:pt x="1648" y="1067"/>
                </a:lnTo>
                <a:lnTo>
                  <a:pt x="1584" y="1061"/>
                </a:lnTo>
                <a:lnTo>
                  <a:pt x="1524" y="1054"/>
                </a:lnTo>
                <a:lnTo>
                  <a:pt x="1466" y="1049"/>
                </a:lnTo>
                <a:lnTo>
                  <a:pt x="1412" y="1043"/>
                </a:lnTo>
                <a:lnTo>
                  <a:pt x="1361" y="1038"/>
                </a:lnTo>
                <a:lnTo>
                  <a:pt x="1309" y="1034"/>
                </a:lnTo>
                <a:lnTo>
                  <a:pt x="1263" y="1032"/>
                </a:lnTo>
                <a:lnTo>
                  <a:pt x="1214" y="1029"/>
                </a:lnTo>
                <a:lnTo>
                  <a:pt x="1167" y="1027"/>
                </a:lnTo>
                <a:lnTo>
                  <a:pt x="1118" y="1029"/>
                </a:lnTo>
                <a:lnTo>
                  <a:pt x="1069" y="1029"/>
                </a:lnTo>
                <a:lnTo>
                  <a:pt x="1020" y="1034"/>
                </a:lnTo>
                <a:lnTo>
                  <a:pt x="966" y="1038"/>
                </a:lnTo>
                <a:lnTo>
                  <a:pt x="912" y="1045"/>
                </a:lnTo>
                <a:lnTo>
                  <a:pt x="861" y="1049"/>
                </a:lnTo>
                <a:lnTo>
                  <a:pt x="810" y="1054"/>
                </a:lnTo>
                <a:lnTo>
                  <a:pt x="761" y="1056"/>
                </a:lnTo>
                <a:lnTo>
                  <a:pt x="714" y="1058"/>
                </a:lnTo>
                <a:lnTo>
                  <a:pt x="667" y="1061"/>
                </a:lnTo>
                <a:lnTo>
                  <a:pt x="620" y="1063"/>
                </a:lnTo>
                <a:lnTo>
                  <a:pt x="576" y="1065"/>
                </a:lnTo>
                <a:lnTo>
                  <a:pt x="533" y="1065"/>
                </a:lnTo>
                <a:lnTo>
                  <a:pt x="491" y="1067"/>
                </a:lnTo>
                <a:lnTo>
                  <a:pt x="449" y="1067"/>
                </a:lnTo>
                <a:lnTo>
                  <a:pt x="408" y="1067"/>
                </a:lnTo>
                <a:lnTo>
                  <a:pt x="368" y="1069"/>
                </a:lnTo>
                <a:lnTo>
                  <a:pt x="328" y="1069"/>
                </a:lnTo>
                <a:lnTo>
                  <a:pt x="290" y="1072"/>
                </a:lnTo>
                <a:lnTo>
                  <a:pt x="252" y="1074"/>
                </a:lnTo>
                <a:lnTo>
                  <a:pt x="190" y="1069"/>
                </a:lnTo>
                <a:lnTo>
                  <a:pt x="139" y="1054"/>
                </a:lnTo>
                <a:lnTo>
                  <a:pt x="96" y="1025"/>
                </a:lnTo>
                <a:lnTo>
                  <a:pt x="63" y="985"/>
                </a:lnTo>
                <a:lnTo>
                  <a:pt x="38" y="936"/>
                </a:lnTo>
                <a:lnTo>
                  <a:pt x="20" y="880"/>
                </a:lnTo>
                <a:lnTo>
                  <a:pt x="9" y="820"/>
                </a:lnTo>
                <a:lnTo>
                  <a:pt x="3" y="757"/>
                </a:lnTo>
                <a:lnTo>
                  <a:pt x="0" y="691"/>
                </a:lnTo>
                <a:lnTo>
                  <a:pt x="3" y="624"/>
                </a:lnTo>
                <a:lnTo>
                  <a:pt x="7" y="559"/>
                </a:lnTo>
                <a:lnTo>
                  <a:pt x="14" y="497"/>
                </a:lnTo>
                <a:lnTo>
                  <a:pt x="20" y="441"/>
                </a:lnTo>
                <a:lnTo>
                  <a:pt x="29" y="390"/>
                </a:lnTo>
                <a:lnTo>
                  <a:pt x="36" y="347"/>
                </a:lnTo>
                <a:lnTo>
                  <a:pt x="40" y="314"/>
                </a:lnTo>
                <a:lnTo>
                  <a:pt x="47" y="263"/>
                </a:lnTo>
                <a:lnTo>
                  <a:pt x="47" y="216"/>
                </a:lnTo>
                <a:lnTo>
                  <a:pt x="47" y="176"/>
                </a:lnTo>
                <a:lnTo>
                  <a:pt x="52" y="142"/>
                </a:lnTo>
                <a:lnTo>
                  <a:pt x="58" y="113"/>
                </a:lnTo>
                <a:lnTo>
                  <a:pt x="76" y="89"/>
                </a:lnTo>
                <a:lnTo>
                  <a:pt x="107" y="67"/>
                </a:lnTo>
                <a:lnTo>
                  <a:pt x="154" y="47"/>
                </a:lnTo>
                <a:lnTo>
                  <a:pt x="197" y="38"/>
                </a:lnTo>
                <a:lnTo>
                  <a:pt x="257" y="33"/>
                </a:lnTo>
                <a:lnTo>
                  <a:pt x="333" y="31"/>
                </a:lnTo>
                <a:lnTo>
                  <a:pt x="422" y="31"/>
                </a:lnTo>
                <a:lnTo>
                  <a:pt x="522" y="33"/>
                </a:lnTo>
                <a:lnTo>
                  <a:pt x="629" y="35"/>
                </a:lnTo>
                <a:lnTo>
                  <a:pt x="743" y="42"/>
                </a:lnTo>
                <a:lnTo>
                  <a:pt x="859" y="47"/>
                </a:lnTo>
                <a:lnTo>
                  <a:pt x="975" y="51"/>
                </a:lnTo>
                <a:lnTo>
                  <a:pt x="1091" y="55"/>
                </a:lnTo>
                <a:lnTo>
                  <a:pt x="1200" y="58"/>
                </a:lnTo>
                <a:lnTo>
                  <a:pt x="1303" y="60"/>
                </a:lnTo>
                <a:lnTo>
                  <a:pt x="1396" y="60"/>
                </a:lnTo>
                <a:lnTo>
                  <a:pt x="1477" y="55"/>
                </a:lnTo>
                <a:lnTo>
                  <a:pt x="1544" y="49"/>
                </a:lnTo>
                <a:lnTo>
                  <a:pt x="1593" y="38"/>
                </a:lnTo>
                <a:lnTo>
                  <a:pt x="1635" y="27"/>
                </a:lnTo>
                <a:lnTo>
                  <a:pt x="1680" y="18"/>
                </a:lnTo>
                <a:lnTo>
                  <a:pt x="1729" y="11"/>
                </a:lnTo>
                <a:lnTo>
                  <a:pt x="1780" y="6"/>
                </a:lnTo>
                <a:lnTo>
                  <a:pt x="1831" y="2"/>
                </a:lnTo>
                <a:lnTo>
                  <a:pt x="1883" y="2"/>
                </a:lnTo>
                <a:lnTo>
                  <a:pt x="1934" y="0"/>
                </a:lnTo>
                <a:lnTo>
                  <a:pt x="1985" y="2"/>
                </a:lnTo>
                <a:lnTo>
                  <a:pt x="2032" y="4"/>
                </a:lnTo>
                <a:lnTo>
                  <a:pt x="2074" y="6"/>
                </a:lnTo>
                <a:lnTo>
                  <a:pt x="2115" y="9"/>
                </a:lnTo>
                <a:lnTo>
                  <a:pt x="2150" y="11"/>
                </a:lnTo>
                <a:lnTo>
                  <a:pt x="2177" y="13"/>
                </a:lnTo>
                <a:lnTo>
                  <a:pt x="2199" y="15"/>
                </a:lnTo>
                <a:lnTo>
                  <a:pt x="2213" y="18"/>
                </a:lnTo>
                <a:lnTo>
                  <a:pt x="2217" y="18"/>
                </a:lnTo>
                <a:close/>
              </a:path>
            </a:pathLst>
          </a:cu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3" name=""/>
          <p:cNvSpPr/>
          <p:nvPr/>
        </p:nvSpPr>
        <p:spPr>
          <a:xfrm>
            <a:off x="4549680" y="2344680"/>
            <a:ext cx="3033720" cy="3484800"/>
          </a:xfrm>
          <a:custGeom>
            <a:avLst/>
            <a:gdLst/>
            <a:ahLst/>
            <a:rect l="l" t="t" r="r" b="b"/>
            <a:pathLst>
              <a:path w="1911" h="2195">
                <a:moveTo>
                  <a:pt x="1911" y="357"/>
                </a:moveTo>
                <a:lnTo>
                  <a:pt x="1909" y="357"/>
                </a:lnTo>
                <a:lnTo>
                  <a:pt x="1898" y="359"/>
                </a:lnTo>
                <a:lnTo>
                  <a:pt x="1884" y="361"/>
                </a:lnTo>
                <a:lnTo>
                  <a:pt x="1864" y="366"/>
                </a:lnTo>
                <a:lnTo>
                  <a:pt x="1837" y="370"/>
                </a:lnTo>
                <a:lnTo>
                  <a:pt x="1806" y="375"/>
                </a:lnTo>
                <a:lnTo>
                  <a:pt x="1770" y="379"/>
                </a:lnTo>
                <a:lnTo>
                  <a:pt x="1732" y="384"/>
                </a:lnTo>
                <a:lnTo>
                  <a:pt x="1688" y="390"/>
                </a:lnTo>
                <a:lnTo>
                  <a:pt x="1641" y="393"/>
                </a:lnTo>
                <a:lnTo>
                  <a:pt x="1590" y="397"/>
                </a:lnTo>
                <a:lnTo>
                  <a:pt x="1536" y="402"/>
                </a:lnTo>
                <a:lnTo>
                  <a:pt x="1480" y="402"/>
                </a:lnTo>
                <a:lnTo>
                  <a:pt x="1420" y="404"/>
                </a:lnTo>
                <a:lnTo>
                  <a:pt x="1358" y="404"/>
                </a:lnTo>
                <a:lnTo>
                  <a:pt x="1295" y="402"/>
                </a:lnTo>
                <a:lnTo>
                  <a:pt x="1231" y="397"/>
                </a:lnTo>
                <a:lnTo>
                  <a:pt x="1164" y="393"/>
                </a:lnTo>
                <a:lnTo>
                  <a:pt x="1097" y="384"/>
                </a:lnTo>
                <a:lnTo>
                  <a:pt x="1028" y="375"/>
                </a:lnTo>
                <a:lnTo>
                  <a:pt x="959" y="361"/>
                </a:lnTo>
                <a:lnTo>
                  <a:pt x="889" y="346"/>
                </a:lnTo>
                <a:lnTo>
                  <a:pt x="820" y="328"/>
                </a:lnTo>
                <a:lnTo>
                  <a:pt x="751" y="306"/>
                </a:lnTo>
                <a:lnTo>
                  <a:pt x="684" y="281"/>
                </a:lnTo>
                <a:lnTo>
                  <a:pt x="617" y="254"/>
                </a:lnTo>
                <a:lnTo>
                  <a:pt x="550" y="221"/>
                </a:lnTo>
                <a:lnTo>
                  <a:pt x="486" y="185"/>
                </a:lnTo>
                <a:lnTo>
                  <a:pt x="426" y="145"/>
                </a:lnTo>
                <a:lnTo>
                  <a:pt x="365" y="103"/>
                </a:lnTo>
                <a:lnTo>
                  <a:pt x="307" y="54"/>
                </a:lnTo>
                <a:lnTo>
                  <a:pt x="252" y="0"/>
                </a:lnTo>
                <a:lnTo>
                  <a:pt x="245" y="21"/>
                </a:lnTo>
                <a:lnTo>
                  <a:pt x="223" y="76"/>
                </a:lnTo>
                <a:lnTo>
                  <a:pt x="194" y="159"/>
                </a:lnTo>
                <a:lnTo>
                  <a:pt x="158" y="254"/>
                </a:lnTo>
                <a:lnTo>
                  <a:pt x="122" y="359"/>
                </a:lnTo>
                <a:lnTo>
                  <a:pt x="89" y="460"/>
                </a:lnTo>
                <a:lnTo>
                  <a:pt x="62" y="549"/>
                </a:lnTo>
                <a:lnTo>
                  <a:pt x="44" y="616"/>
                </a:lnTo>
                <a:lnTo>
                  <a:pt x="40" y="631"/>
                </a:lnTo>
                <a:lnTo>
                  <a:pt x="31" y="660"/>
                </a:lnTo>
                <a:lnTo>
                  <a:pt x="20" y="702"/>
                </a:lnTo>
                <a:lnTo>
                  <a:pt x="11" y="756"/>
                </a:lnTo>
                <a:lnTo>
                  <a:pt x="2" y="816"/>
                </a:lnTo>
                <a:lnTo>
                  <a:pt x="0" y="885"/>
                </a:lnTo>
                <a:lnTo>
                  <a:pt x="6" y="959"/>
                </a:lnTo>
                <a:lnTo>
                  <a:pt x="22" y="1037"/>
                </a:lnTo>
                <a:lnTo>
                  <a:pt x="29" y="1079"/>
                </a:lnTo>
                <a:lnTo>
                  <a:pt x="33" y="1135"/>
                </a:lnTo>
                <a:lnTo>
                  <a:pt x="37" y="1199"/>
                </a:lnTo>
                <a:lnTo>
                  <a:pt x="40" y="1273"/>
                </a:lnTo>
                <a:lnTo>
                  <a:pt x="42" y="1351"/>
                </a:lnTo>
                <a:lnTo>
                  <a:pt x="46" y="1436"/>
                </a:lnTo>
                <a:lnTo>
                  <a:pt x="55" y="1525"/>
                </a:lnTo>
                <a:lnTo>
                  <a:pt x="69" y="1612"/>
                </a:lnTo>
                <a:lnTo>
                  <a:pt x="87" y="1701"/>
                </a:lnTo>
                <a:lnTo>
                  <a:pt x="111" y="1788"/>
                </a:lnTo>
                <a:lnTo>
                  <a:pt x="147" y="1870"/>
                </a:lnTo>
                <a:lnTo>
                  <a:pt x="189" y="1948"/>
                </a:lnTo>
                <a:lnTo>
                  <a:pt x="245" y="2019"/>
                </a:lnTo>
                <a:lnTo>
                  <a:pt x="312" y="2080"/>
                </a:lnTo>
                <a:lnTo>
                  <a:pt x="392" y="2131"/>
                </a:lnTo>
                <a:lnTo>
                  <a:pt x="488" y="2169"/>
                </a:lnTo>
                <a:lnTo>
                  <a:pt x="613" y="2193"/>
                </a:lnTo>
                <a:lnTo>
                  <a:pt x="731" y="2195"/>
                </a:lnTo>
                <a:lnTo>
                  <a:pt x="843" y="2175"/>
                </a:lnTo>
                <a:lnTo>
                  <a:pt x="950" y="2135"/>
                </a:lnTo>
                <a:lnTo>
                  <a:pt x="1048" y="2082"/>
                </a:lnTo>
                <a:lnTo>
                  <a:pt x="1137" y="2017"/>
                </a:lnTo>
                <a:lnTo>
                  <a:pt x="1222" y="1941"/>
                </a:lnTo>
                <a:lnTo>
                  <a:pt x="1298" y="1861"/>
                </a:lnTo>
                <a:lnTo>
                  <a:pt x="1364" y="1779"/>
                </a:lnTo>
                <a:lnTo>
                  <a:pt x="1425" y="1699"/>
                </a:lnTo>
                <a:lnTo>
                  <a:pt x="1476" y="1621"/>
                </a:lnTo>
                <a:lnTo>
                  <a:pt x="1518" y="1549"/>
                </a:lnTo>
                <a:lnTo>
                  <a:pt x="1550" y="1489"/>
                </a:lnTo>
                <a:lnTo>
                  <a:pt x="1574" y="1442"/>
                </a:lnTo>
                <a:lnTo>
                  <a:pt x="1590" y="1411"/>
                </a:lnTo>
                <a:lnTo>
                  <a:pt x="1594" y="1400"/>
                </a:lnTo>
                <a:lnTo>
                  <a:pt x="1601" y="1395"/>
                </a:lnTo>
                <a:lnTo>
                  <a:pt x="1616" y="1378"/>
                </a:lnTo>
                <a:lnTo>
                  <a:pt x="1641" y="1351"/>
                </a:lnTo>
                <a:lnTo>
                  <a:pt x="1668" y="1313"/>
                </a:lnTo>
                <a:lnTo>
                  <a:pt x="1695" y="1264"/>
                </a:lnTo>
                <a:lnTo>
                  <a:pt x="1719" y="1206"/>
                </a:lnTo>
                <a:lnTo>
                  <a:pt x="1735" y="1137"/>
                </a:lnTo>
                <a:lnTo>
                  <a:pt x="1741" y="1059"/>
                </a:lnTo>
                <a:lnTo>
                  <a:pt x="1748" y="965"/>
                </a:lnTo>
                <a:lnTo>
                  <a:pt x="1768" y="856"/>
                </a:lnTo>
                <a:lnTo>
                  <a:pt x="1795" y="740"/>
                </a:lnTo>
                <a:lnTo>
                  <a:pt x="1826" y="624"/>
                </a:lnTo>
                <a:lnTo>
                  <a:pt x="1857" y="522"/>
                </a:lnTo>
                <a:lnTo>
                  <a:pt x="1884" y="435"/>
                </a:lnTo>
                <a:lnTo>
                  <a:pt x="1904" y="377"/>
                </a:lnTo>
                <a:lnTo>
                  <a:pt x="1911" y="357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4" name=""/>
          <p:cNvSpPr/>
          <p:nvPr/>
        </p:nvSpPr>
        <p:spPr>
          <a:xfrm>
            <a:off x="4867200" y="3038400"/>
            <a:ext cx="836640" cy="558720"/>
          </a:xfrm>
          <a:custGeom>
            <a:avLst/>
            <a:gdLst/>
            <a:ahLst/>
            <a:rect l="l" t="t" r="r" b="b"/>
            <a:pathLst>
              <a:path w="527" h="352">
                <a:moveTo>
                  <a:pt x="460" y="0"/>
                </a:moveTo>
                <a:lnTo>
                  <a:pt x="455" y="0"/>
                </a:lnTo>
                <a:lnTo>
                  <a:pt x="440" y="0"/>
                </a:lnTo>
                <a:lnTo>
                  <a:pt x="420" y="2"/>
                </a:lnTo>
                <a:lnTo>
                  <a:pt x="395" y="7"/>
                </a:lnTo>
                <a:lnTo>
                  <a:pt x="366" y="16"/>
                </a:lnTo>
                <a:lnTo>
                  <a:pt x="339" y="25"/>
                </a:lnTo>
                <a:lnTo>
                  <a:pt x="315" y="40"/>
                </a:lnTo>
                <a:lnTo>
                  <a:pt x="295" y="60"/>
                </a:lnTo>
                <a:lnTo>
                  <a:pt x="275" y="83"/>
                </a:lnTo>
                <a:lnTo>
                  <a:pt x="248" y="107"/>
                </a:lnTo>
                <a:lnTo>
                  <a:pt x="217" y="129"/>
                </a:lnTo>
                <a:lnTo>
                  <a:pt x="183" y="152"/>
                </a:lnTo>
                <a:lnTo>
                  <a:pt x="147" y="174"/>
                </a:lnTo>
                <a:lnTo>
                  <a:pt x="114" y="194"/>
                </a:lnTo>
                <a:lnTo>
                  <a:pt x="85" y="210"/>
                </a:lnTo>
                <a:lnTo>
                  <a:pt x="58" y="223"/>
                </a:lnTo>
                <a:lnTo>
                  <a:pt x="38" y="234"/>
                </a:lnTo>
                <a:lnTo>
                  <a:pt x="23" y="245"/>
                </a:lnTo>
                <a:lnTo>
                  <a:pt x="11" y="259"/>
                </a:lnTo>
                <a:lnTo>
                  <a:pt x="2" y="270"/>
                </a:lnTo>
                <a:lnTo>
                  <a:pt x="0" y="283"/>
                </a:lnTo>
                <a:lnTo>
                  <a:pt x="2" y="297"/>
                </a:lnTo>
                <a:lnTo>
                  <a:pt x="9" y="308"/>
                </a:lnTo>
                <a:lnTo>
                  <a:pt x="20" y="319"/>
                </a:lnTo>
                <a:lnTo>
                  <a:pt x="40" y="326"/>
                </a:lnTo>
                <a:lnTo>
                  <a:pt x="67" y="326"/>
                </a:lnTo>
                <a:lnTo>
                  <a:pt x="105" y="321"/>
                </a:lnTo>
                <a:lnTo>
                  <a:pt x="147" y="317"/>
                </a:lnTo>
                <a:lnTo>
                  <a:pt x="197" y="312"/>
                </a:lnTo>
                <a:lnTo>
                  <a:pt x="248" y="310"/>
                </a:lnTo>
                <a:lnTo>
                  <a:pt x="304" y="314"/>
                </a:lnTo>
                <a:lnTo>
                  <a:pt x="362" y="326"/>
                </a:lnTo>
                <a:lnTo>
                  <a:pt x="413" y="339"/>
                </a:lnTo>
                <a:lnTo>
                  <a:pt x="453" y="348"/>
                </a:lnTo>
                <a:lnTo>
                  <a:pt x="482" y="352"/>
                </a:lnTo>
                <a:lnTo>
                  <a:pt x="500" y="350"/>
                </a:lnTo>
                <a:lnTo>
                  <a:pt x="511" y="343"/>
                </a:lnTo>
                <a:lnTo>
                  <a:pt x="515" y="332"/>
                </a:lnTo>
                <a:lnTo>
                  <a:pt x="515" y="317"/>
                </a:lnTo>
                <a:lnTo>
                  <a:pt x="511" y="297"/>
                </a:lnTo>
                <a:lnTo>
                  <a:pt x="509" y="268"/>
                </a:lnTo>
                <a:lnTo>
                  <a:pt x="513" y="225"/>
                </a:lnTo>
                <a:lnTo>
                  <a:pt x="520" y="176"/>
                </a:lnTo>
                <a:lnTo>
                  <a:pt x="527" y="127"/>
                </a:lnTo>
                <a:lnTo>
                  <a:pt x="527" y="78"/>
                </a:lnTo>
                <a:lnTo>
                  <a:pt x="518" y="38"/>
                </a:lnTo>
                <a:lnTo>
                  <a:pt x="498" y="11"/>
                </a:lnTo>
                <a:lnTo>
                  <a:pt x="46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5" name=""/>
          <p:cNvSpPr/>
          <p:nvPr/>
        </p:nvSpPr>
        <p:spPr>
          <a:xfrm>
            <a:off x="6202440" y="3240000"/>
            <a:ext cx="750960" cy="779400"/>
          </a:xfrm>
          <a:custGeom>
            <a:avLst/>
            <a:gdLst/>
            <a:ahLst/>
            <a:rect l="l" t="t" r="r" b="b"/>
            <a:pathLst>
              <a:path w="473" h="491">
                <a:moveTo>
                  <a:pt x="114" y="0"/>
                </a:moveTo>
                <a:lnTo>
                  <a:pt x="121" y="0"/>
                </a:lnTo>
                <a:lnTo>
                  <a:pt x="138" y="2"/>
                </a:lnTo>
                <a:lnTo>
                  <a:pt x="165" y="9"/>
                </a:lnTo>
                <a:lnTo>
                  <a:pt x="194" y="20"/>
                </a:lnTo>
                <a:lnTo>
                  <a:pt x="225" y="38"/>
                </a:lnTo>
                <a:lnTo>
                  <a:pt x="252" y="65"/>
                </a:lnTo>
                <a:lnTo>
                  <a:pt x="274" y="101"/>
                </a:lnTo>
                <a:lnTo>
                  <a:pt x="286" y="147"/>
                </a:lnTo>
                <a:lnTo>
                  <a:pt x="297" y="196"/>
                </a:lnTo>
                <a:lnTo>
                  <a:pt x="317" y="239"/>
                </a:lnTo>
                <a:lnTo>
                  <a:pt x="344" y="274"/>
                </a:lnTo>
                <a:lnTo>
                  <a:pt x="373" y="306"/>
                </a:lnTo>
                <a:lnTo>
                  <a:pt x="402" y="330"/>
                </a:lnTo>
                <a:lnTo>
                  <a:pt x="428" y="352"/>
                </a:lnTo>
                <a:lnTo>
                  <a:pt x="451" y="370"/>
                </a:lnTo>
                <a:lnTo>
                  <a:pt x="464" y="386"/>
                </a:lnTo>
                <a:lnTo>
                  <a:pt x="473" y="421"/>
                </a:lnTo>
                <a:lnTo>
                  <a:pt x="471" y="462"/>
                </a:lnTo>
                <a:lnTo>
                  <a:pt x="455" y="491"/>
                </a:lnTo>
                <a:lnTo>
                  <a:pt x="426" y="488"/>
                </a:lnTo>
                <a:lnTo>
                  <a:pt x="406" y="475"/>
                </a:lnTo>
                <a:lnTo>
                  <a:pt x="379" y="457"/>
                </a:lnTo>
                <a:lnTo>
                  <a:pt x="346" y="437"/>
                </a:lnTo>
                <a:lnTo>
                  <a:pt x="308" y="415"/>
                </a:lnTo>
                <a:lnTo>
                  <a:pt x="265" y="395"/>
                </a:lnTo>
                <a:lnTo>
                  <a:pt x="221" y="375"/>
                </a:lnTo>
                <a:lnTo>
                  <a:pt x="172" y="359"/>
                </a:lnTo>
                <a:lnTo>
                  <a:pt x="123" y="348"/>
                </a:lnTo>
                <a:lnTo>
                  <a:pt x="78" y="339"/>
                </a:lnTo>
                <a:lnTo>
                  <a:pt x="45" y="332"/>
                </a:lnTo>
                <a:lnTo>
                  <a:pt x="22" y="321"/>
                </a:lnTo>
                <a:lnTo>
                  <a:pt x="9" y="312"/>
                </a:lnTo>
                <a:lnTo>
                  <a:pt x="2" y="299"/>
                </a:lnTo>
                <a:lnTo>
                  <a:pt x="0" y="281"/>
                </a:lnTo>
                <a:lnTo>
                  <a:pt x="5" y="261"/>
                </a:lnTo>
                <a:lnTo>
                  <a:pt x="11" y="236"/>
                </a:lnTo>
                <a:lnTo>
                  <a:pt x="18" y="208"/>
                </a:lnTo>
                <a:lnTo>
                  <a:pt x="27" y="172"/>
                </a:lnTo>
                <a:lnTo>
                  <a:pt x="34" y="136"/>
                </a:lnTo>
                <a:lnTo>
                  <a:pt x="42" y="101"/>
                </a:lnTo>
                <a:lnTo>
                  <a:pt x="56" y="69"/>
                </a:lnTo>
                <a:lnTo>
                  <a:pt x="69" y="38"/>
                </a:lnTo>
                <a:lnTo>
                  <a:pt x="89" y="16"/>
                </a:lnTo>
                <a:lnTo>
                  <a:pt x="11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6" name=""/>
          <p:cNvSpPr/>
          <p:nvPr/>
        </p:nvSpPr>
        <p:spPr>
          <a:xfrm>
            <a:off x="4935600" y="2897280"/>
            <a:ext cx="377640" cy="279360"/>
          </a:xfrm>
          <a:custGeom>
            <a:avLst/>
            <a:gdLst/>
            <a:ahLst/>
            <a:rect l="l" t="t" r="r" b="b"/>
            <a:pathLst>
              <a:path w="238" h="176">
                <a:moveTo>
                  <a:pt x="238" y="31"/>
                </a:moveTo>
                <a:lnTo>
                  <a:pt x="234" y="34"/>
                </a:lnTo>
                <a:lnTo>
                  <a:pt x="223" y="42"/>
                </a:lnTo>
                <a:lnTo>
                  <a:pt x="205" y="56"/>
                </a:lnTo>
                <a:lnTo>
                  <a:pt x="185" y="74"/>
                </a:lnTo>
                <a:lnTo>
                  <a:pt x="160" y="91"/>
                </a:lnTo>
                <a:lnTo>
                  <a:pt x="136" y="112"/>
                </a:lnTo>
                <a:lnTo>
                  <a:pt x="111" y="132"/>
                </a:lnTo>
                <a:lnTo>
                  <a:pt x="89" y="149"/>
                </a:lnTo>
                <a:lnTo>
                  <a:pt x="69" y="163"/>
                </a:lnTo>
                <a:lnTo>
                  <a:pt x="46" y="172"/>
                </a:lnTo>
                <a:lnTo>
                  <a:pt x="26" y="176"/>
                </a:lnTo>
                <a:lnTo>
                  <a:pt x="11" y="172"/>
                </a:lnTo>
                <a:lnTo>
                  <a:pt x="2" y="163"/>
                </a:lnTo>
                <a:lnTo>
                  <a:pt x="0" y="147"/>
                </a:lnTo>
                <a:lnTo>
                  <a:pt x="13" y="125"/>
                </a:lnTo>
                <a:lnTo>
                  <a:pt x="38" y="96"/>
                </a:lnTo>
                <a:lnTo>
                  <a:pt x="71" y="65"/>
                </a:lnTo>
                <a:lnTo>
                  <a:pt x="107" y="40"/>
                </a:lnTo>
                <a:lnTo>
                  <a:pt x="142" y="20"/>
                </a:lnTo>
                <a:lnTo>
                  <a:pt x="174" y="7"/>
                </a:lnTo>
                <a:lnTo>
                  <a:pt x="200" y="0"/>
                </a:lnTo>
                <a:lnTo>
                  <a:pt x="223" y="0"/>
                </a:lnTo>
                <a:lnTo>
                  <a:pt x="236" y="11"/>
                </a:lnTo>
                <a:lnTo>
                  <a:pt x="238" y="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7" name=""/>
          <p:cNvSpPr/>
          <p:nvPr/>
        </p:nvSpPr>
        <p:spPr>
          <a:xfrm>
            <a:off x="6821640" y="3216240"/>
            <a:ext cx="339480" cy="611280"/>
          </a:xfrm>
          <a:custGeom>
            <a:avLst/>
            <a:gdLst/>
            <a:ahLst/>
            <a:rect l="l" t="t" r="r" b="b"/>
            <a:pathLst>
              <a:path w="214" h="385">
                <a:moveTo>
                  <a:pt x="0" y="40"/>
                </a:moveTo>
                <a:lnTo>
                  <a:pt x="0" y="46"/>
                </a:lnTo>
                <a:lnTo>
                  <a:pt x="5" y="64"/>
                </a:lnTo>
                <a:lnTo>
                  <a:pt x="9" y="91"/>
                </a:lnTo>
                <a:lnTo>
                  <a:pt x="18" y="124"/>
                </a:lnTo>
                <a:lnTo>
                  <a:pt x="27" y="158"/>
                </a:lnTo>
                <a:lnTo>
                  <a:pt x="38" y="194"/>
                </a:lnTo>
                <a:lnTo>
                  <a:pt x="52" y="223"/>
                </a:lnTo>
                <a:lnTo>
                  <a:pt x="67" y="247"/>
                </a:lnTo>
                <a:lnTo>
                  <a:pt x="83" y="267"/>
                </a:lnTo>
                <a:lnTo>
                  <a:pt x="99" y="289"/>
                </a:lnTo>
                <a:lnTo>
                  <a:pt x="112" y="309"/>
                </a:lnTo>
                <a:lnTo>
                  <a:pt x="123" y="329"/>
                </a:lnTo>
                <a:lnTo>
                  <a:pt x="136" y="347"/>
                </a:lnTo>
                <a:lnTo>
                  <a:pt x="148" y="363"/>
                </a:lnTo>
                <a:lnTo>
                  <a:pt x="159" y="374"/>
                </a:lnTo>
                <a:lnTo>
                  <a:pt x="170" y="381"/>
                </a:lnTo>
                <a:lnTo>
                  <a:pt x="197" y="385"/>
                </a:lnTo>
                <a:lnTo>
                  <a:pt x="210" y="378"/>
                </a:lnTo>
                <a:lnTo>
                  <a:pt x="214" y="367"/>
                </a:lnTo>
                <a:lnTo>
                  <a:pt x="208" y="347"/>
                </a:lnTo>
                <a:lnTo>
                  <a:pt x="197" y="323"/>
                </a:lnTo>
                <a:lnTo>
                  <a:pt x="179" y="292"/>
                </a:lnTo>
                <a:lnTo>
                  <a:pt x="161" y="260"/>
                </a:lnTo>
                <a:lnTo>
                  <a:pt x="141" y="225"/>
                </a:lnTo>
                <a:lnTo>
                  <a:pt x="123" y="189"/>
                </a:lnTo>
                <a:lnTo>
                  <a:pt x="110" y="158"/>
                </a:lnTo>
                <a:lnTo>
                  <a:pt x="99" y="129"/>
                </a:lnTo>
                <a:lnTo>
                  <a:pt x="92" y="104"/>
                </a:lnTo>
                <a:lnTo>
                  <a:pt x="85" y="82"/>
                </a:lnTo>
                <a:lnTo>
                  <a:pt x="81" y="62"/>
                </a:lnTo>
                <a:lnTo>
                  <a:pt x="76" y="46"/>
                </a:lnTo>
                <a:lnTo>
                  <a:pt x="74" y="33"/>
                </a:lnTo>
                <a:lnTo>
                  <a:pt x="70" y="22"/>
                </a:lnTo>
                <a:lnTo>
                  <a:pt x="61" y="11"/>
                </a:lnTo>
                <a:lnTo>
                  <a:pt x="52" y="4"/>
                </a:lnTo>
                <a:lnTo>
                  <a:pt x="41" y="0"/>
                </a:lnTo>
                <a:lnTo>
                  <a:pt x="27" y="0"/>
                </a:lnTo>
                <a:lnTo>
                  <a:pt x="16" y="6"/>
                </a:lnTo>
                <a:lnTo>
                  <a:pt x="7" y="20"/>
                </a:lnTo>
                <a:lnTo>
                  <a:pt x="0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8" name=""/>
          <p:cNvSpPr/>
          <p:nvPr/>
        </p:nvSpPr>
        <p:spPr>
          <a:xfrm>
            <a:off x="4896000" y="4665600"/>
            <a:ext cx="1288800" cy="843120"/>
          </a:xfrm>
          <a:custGeom>
            <a:avLst/>
            <a:gdLst/>
            <a:ahLst/>
            <a:rect l="l" t="t" r="r" b="b"/>
            <a:pathLst>
              <a:path w="812" h="531">
                <a:moveTo>
                  <a:pt x="18" y="132"/>
                </a:moveTo>
                <a:lnTo>
                  <a:pt x="18" y="130"/>
                </a:lnTo>
                <a:lnTo>
                  <a:pt x="22" y="123"/>
                </a:lnTo>
                <a:lnTo>
                  <a:pt x="29" y="116"/>
                </a:lnTo>
                <a:lnTo>
                  <a:pt x="36" y="103"/>
                </a:lnTo>
                <a:lnTo>
                  <a:pt x="49" y="92"/>
                </a:lnTo>
                <a:lnTo>
                  <a:pt x="63" y="76"/>
                </a:lnTo>
                <a:lnTo>
                  <a:pt x="80" y="63"/>
                </a:lnTo>
                <a:lnTo>
                  <a:pt x="103" y="47"/>
                </a:lnTo>
                <a:lnTo>
                  <a:pt x="127" y="34"/>
                </a:lnTo>
                <a:lnTo>
                  <a:pt x="156" y="23"/>
                </a:lnTo>
                <a:lnTo>
                  <a:pt x="190" y="11"/>
                </a:lnTo>
                <a:lnTo>
                  <a:pt x="228" y="5"/>
                </a:lnTo>
                <a:lnTo>
                  <a:pt x="270" y="0"/>
                </a:lnTo>
                <a:lnTo>
                  <a:pt x="317" y="0"/>
                </a:lnTo>
                <a:lnTo>
                  <a:pt x="368" y="5"/>
                </a:lnTo>
                <a:lnTo>
                  <a:pt x="426" y="14"/>
                </a:lnTo>
                <a:lnTo>
                  <a:pt x="484" y="27"/>
                </a:lnTo>
                <a:lnTo>
                  <a:pt x="535" y="45"/>
                </a:lnTo>
                <a:lnTo>
                  <a:pt x="582" y="63"/>
                </a:lnTo>
                <a:lnTo>
                  <a:pt x="625" y="85"/>
                </a:lnTo>
                <a:lnTo>
                  <a:pt x="662" y="107"/>
                </a:lnTo>
                <a:lnTo>
                  <a:pt x="696" y="132"/>
                </a:lnTo>
                <a:lnTo>
                  <a:pt x="725" y="156"/>
                </a:lnTo>
                <a:lnTo>
                  <a:pt x="749" y="183"/>
                </a:lnTo>
                <a:lnTo>
                  <a:pt x="770" y="212"/>
                </a:lnTo>
                <a:lnTo>
                  <a:pt x="785" y="239"/>
                </a:lnTo>
                <a:lnTo>
                  <a:pt x="796" y="268"/>
                </a:lnTo>
                <a:lnTo>
                  <a:pt x="805" y="294"/>
                </a:lnTo>
                <a:lnTo>
                  <a:pt x="812" y="321"/>
                </a:lnTo>
                <a:lnTo>
                  <a:pt x="812" y="348"/>
                </a:lnTo>
                <a:lnTo>
                  <a:pt x="810" y="375"/>
                </a:lnTo>
                <a:lnTo>
                  <a:pt x="805" y="399"/>
                </a:lnTo>
                <a:lnTo>
                  <a:pt x="790" y="442"/>
                </a:lnTo>
                <a:lnTo>
                  <a:pt x="770" y="477"/>
                </a:lnTo>
                <a:lnTo>
                  <a:pt x="745" y="504"/>
                </a:lnTo>
                <a:lnTo>
                  <a:pt x="718" y="522"/>
                </a:lnTo>
                <a:lnTo>
                  <a:pt x="687" y="531"/>
                </a:lnTo>
                <a:lnTo>
                  <a:pt x="656" y="528"/>
                </a:lnTo>
                <a:lnTo>
                  <a:pt x="620" y="517"/>
                </a:lnTo>
                <a:lnTo>
                  <a:pt x="582" y="493"/>
                </a:lnTo>
                <a:lnTo>
                  <a:pt x="547" y="462"/>
                </a:lnTo>
                <a:lnTo>
                  <a:pt x="520" y="428"/>
                </a:lnTo>
                <a:lnTo>
                  <a:pt x="500" y="393"/>
                </a:lnTo>
                <a:lnTo>
                  <a:pt x="480" y="359"/>
                </a:lnTo>
                <a:lnTo>
                  <a:pt x="464" y="328"/>
                </a:lnTo>
                <a:lnTo>
                  <a:pt x="446" y="301"/>
                </a:lnTo>
                <a:lnTo>
                  <a:pt x="424" y="281"/>
                </a:lnTo>
                <a:lnTo>
                  <a:pt x="397" y="266"/>
                </a:lnTo>
                <a:lnTo>
                  <a:pt x="366" y="259"/>
                </a:lnTo>
                <a:lnTo>
                  <a:pt x="335" y="261"/>
                </a:lnTo>
                <a:lnTo>
                  <a:pt x="301" y="270"/>
                </a:lnTo>
                <a:lnTo>
                  <a:pt x="270" y="283"/>
                </a:lnTo>
                <a:lnTo>
                  <a:pt x="239" y="299"/>
                </a:lnTo>
                <a:lnTo>
                  <a:pt x="208" y="315"/>
                </a:lnTo>
                <a:lnTo>
                  <a:pt x="176" y="326"/>
                </a:lnTo>
                <a:lnTo>
                  <a:pt x="145" y="332"/>
                </a:lnTo>
                <a:lnTo>
                  <a:pt x="114" y="332"/>
                </a:lnTo>
                <a:lnTo>
                  <a:pt x="83" y="326"/>
                </a:lnTo>
                <a:lnTo>
                  <a:pt x="54" y="315"/>
                </a:lnTo>
                <a:lnTo>
                  <a:pt x="29" y="294"/>
                </a:lnTo>
                <a:lnTo>
                  <a:pt x="9" y="268"/>
                </a:lnTo>
                <a:lnTo>
                  <a:pt x="0" y="232"/>
                </a:lnTo>
                <a:lnTo>
                  <a:pt x="2" y="188"/>
                </a:lnTo>
                <a:lnTo>
                  <a:pt x="18" y="1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9" name=""/>
          <p:cNvSpPr/>
          <p:nvPr/>
        </p:nvSpPr>
        <p:spPr>
          <a:xfrm>
            <a:off x="5607000" y="3470400"/>
            <a:ext cx="336600" cy="828720"/>
          </a:xfrm>
          <a:custGeom>
            <a:avLst/>
            <a:gdLst/>
            <a:ahLst/>
            <a:rect l="l" t="t" r="r" b="b"/>
            <a:pathLst>
              <a:path w="212" h="522">
                <a:moveTo>
                  <a:pt x="163" y="13"/>
                </a:moveTo>
                <a:lnTo>
                  <a:pt x="163" y="25"/>
                </a:lnTo>
                <a:lnTo>
                  <a:pt x="159" y="54"/>
                </a:lnTo>
                <a:lnTo>
                  <a:pt x="154" y="96"/>
                </a:lnTo>
                <a:lnTo>
                  <a:pt x="145" y="147"/>
                </a:lnTo>
                <a:lnTo>
                  <a:pt x="136" y="205"/>
                </a:lnTo>
                <a:lnTo>
                  <a:pt x="123" y="263"/>
                </a:lnTo>
                <a:lnTo>
                  <a:pt x="107" y="319"/>
                </a:lnTo>
                <a:lnTo>
                  <a:pt x="90" y="366"/>
                </a:lnTo>
                <a:lnTo>
                  <a:pt x="70" y="403"/>
                </a:lnTo>
                <a:lnTo>
                  <a:pt x="52" y="432"/>
                </a:lnTo>
                <a:lnTo>
                  <a:pt x="34" y="457"/>
                </a:lnTo>
                <a:lnTo>
                  <a:pt x="18" y="475"/>
                </a:lnTo>
                <a:lnTo>
                  <a:pt x="7" y="488"/>
                </a:lnTo>
                <a:lnTo>
                  <a:pt x="0" y="497"/>
                </a:lnTo>
                <a:lnTo>
                  <a:pt x="0" y="508"/>
                </a:lnTo>
                <a:lnTo>
                  <a:pt x="7" y="517"/>
                </a:lnTo>
                <a:lnTo>
                  <a:pt x="20" y="522"/>
                </a:lnTo>
                <a:lnTo>
                  <a:pt x="38" y="519"/>
                </a:lnTo>
                <a:lnTo>
                  <a:pt x="61" y="510"/>
                </a:lnTo>
                <a:lnTo>
                  <a:pt x="83" y="493"/>
                </a:lnTo>
                <a:lnTo>
                  <a:pt x="105" y="468"/>
                </a:lnTo>
                <a:lnTo>
                  <a:pt x="128" y="437"/>
                </a:lnTo>
                <a:lnTo>
                  <a:pt x="143" y="399"/>
                </a:lnTo>
                <a:lnTo>
                  <a:pt x="157" y="357"/>
                </a:lnTo>
                <a:lnTo>
                  <a:pt x="168" y="303"/>
                </a:lnTo>
                <a:lnTo>
                  <a:pt x="183" y="239"/>
                </a:lnTo>
                <a:lnTo>
                  <a:pt x="197" y="172"/>
                </a:lnTo>
                <a:lnTo>
                  <a:pt x="208" y="109"/>
                </a:lnTo>
                <a:lnTo>
                  <a:pt x="212" y="56"/>
                </a:lnTo>
                <a:lnTo>
                  <a:pt x="208" y="16"/>
                </a:lnTo>
                <a:lnTo>
                  <a:pt x="192" y="0"/>
                </a:lnTo>
                <a:lnTo>
                  <a:pt x="163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0" name=""/>
          <p:cNvSpPr/>
          <p:nvPr/>
        </p:nvSpPr>
        <p:spPr>
          <a:xfrm>
            <a:off x="5321160" y="4248000"/>
            <a:ext cx="863640" cy="382680"/>
          </a:xfrm>
          <a:custGeom>
            <a:avLst/>
            <a:gdLst/>
            <a:ahLst/>
            <a:rect l="l" t="t" r="r" b="b"/>
            <a:pathLst>
              <a:path w="544" h="241">
                <a:moveTo>
                  <a:pt x="0" y="34"/>
                </a:moveTo>
                <a:lnTo>
                  <a:pt x="0" y="38"/>
                </a:lnTo>
                <a:lnTo>
                  <a:pt x="2" y="49"/>
                </a:lnTo>
                <a:lnTo>
                  <a:pt x="6" y="63"/>
                </a:lnTo>
                <a:lnTo>
                  <a:pt x="13" y="81"/>
                </a:lnTo>
                <a:lnTo>
                  <a:pt x="22" y="101"/>
                </a:lnTo>
                <a:lnTo>
                  <a:pt x="35" y="116"/>
                </a:lnTo>
                <a:lnTo>
                  <a:pt x="53" y="130"/>
                </a:lnTo>
                <a:lnTo>
                  <a:pt x="73" y="136"/>
                </a:lnTo>
                <a:lnTo>
                  <a:pt x="105" y="141"/>
                </a:lnTo>
                <a:lnTo>
                  <a:pt x="116" y="143"/>
                </a:lnTo>
                <a:lnTo>
                  <a:pt x="118" y="141"/>
                </a:lnTo>
                <a:lnTo>
                  <a:pt x="129" y="136"/>
                </a:lnTo>
                <a:lnTo>
                  <a:pt x="136" y="139"/>
                </a:lnTo>
                <a:lnTo>
                  <a:pt x="140" y="145"/>
                </a:lnTo>
                <a:lnTo>
                  <a:pt x="140" y="156"/>
                </a:lnTo>
                <a:lnTo>
                  <a:pt x="142" y="172"/>
                </a:lnTo>
                <a:lnTo>
                  <a:pt x="149" y="188"/>
                </a:lnTo>
                <a:lnTo>
                  <a:pt x="160" y="203"/>
                </a:lnTo>
                <a:lnTo>
                  <a:pt x="178" y="219"/>
                </a:lnTo>
                <a:lnTo>
                  <a:pt x="207" y="230"/>
                </a:lnTo>
                <a:lnTo>
                  <a:pt x="241" y="237"/>
                </a:lnTo>
                <a:lnTo>
                  <a:pt x="272" y="241"/>
                </a:lnTo>
                <a:lnTo>
                  <a:pt x="301" y="239"/>
                </a:lnTo>
                <a:lnTo>
                  <a:pt x="328" y="234"/>
                </a:lnTo>
                <a:lnTo>
                  <a:pt x="348" y="228"/>
                </a:lnTo>
                <a:lnTo>
                  <a:pt x="363" y="219"/>
                </a:lnTo>
                <a:lnTo>
                  <a:pt x="374" y="210"/>
                </a:lnTo>
                <a:lnTo>
                  <a:pt x="379" y="199"/>
                </a:lnTo>
                <a:lnTo>
                  <a:pt x="381" y="192"/>
                </a:lnTo>
                <a:lnTo>
                  <a:pt x="383" y="192"/>
                </a:lnTo>
                <a:lnTo>
                  <a:pt x="386" y="199"/>
                </a:lnTo>
                <a:lnTo>
                  <a:pt x="394" y="208"/>
                </a:lnTo>
                <a:lnTo>
                  <a:pt x="406" y="219"/>
                </a:lnTo>
                <a:lnTo>
                  <a:pt x="423" y="228"/>
                </a:lnTo>
                <a:lnTo>
                  <a:pt x="450" y="237"/>
                </a:lnTo>
                <a:lnTo>
                  <a:pt x="484" y="241"/>
                </a:lnTo>
                <a:lnTo>
                  <a:pt x="515" y="241"/>
                </a:lnTo>
                <a:lnTo>
                  <a:pt x="535" y="241"/>
                </a:lnTo>
                <a:lnTo>
                  <a:pt x="544" y="237"/>
                </a:lnTo>
                <a:lnTo>
                  <a:pt x="544" y="232"/>
                </a:lnTo>
                <a:lnTo>
                  <a:pt x="537" y="225"/>
                </a:lnTo>
                <a:lnTo>
                  <a:pt x="526" y="219"/>
                </a:lnTo>
                <a:lnTo>
                  <a:pt x="513" y="212"/>
                </a:lnTo>
                <a:lnTo>
                  <a:pt x="499" y="203"/>
                </a:lnTo>
                <a:lnTo>
                  <a:pt x="484" y="196"/>
                </a:lnTo>
                <a:lnTo>
                  <a:pt x="468" y="188"/>
                </a:lnTo>
                <a:lnTo>
                  <a:pt x="452" y="179"/>
                </a:lnTo>
                <a:lnTo>
                  <a:pt x="437" y="172"/>
                </a:lnTo>
                <a:lnTo>
                  <a:pt x="421" y="163"/>
                </a:lnTo>
                <a:lnTo>
                  <a:pt x="408" y="156"/>
                </a:lnTo>
                <a:lnTo>
                  <a:pt x="394" y="152"/>
                </a:lnTo>
                <a:lnTo>
                  <a:pt x="383" y="147"/>
                </a:lnTo>
                <a:lnTo>
                  <a:pt x="372" y="147"/>
                </a:lnTo>
                <a:lnTo>
                  <a:pt x="361" y="152"/>
                </a:lnTo>
                <a:lnTo>
                  <a:pt x="345" y="161"/>
                </a:lnTo>
                <a:lnTo>
                  <a:pt x="330" y="172"/>
                </a:lnTo>
                <a:lnTo>
                  <a:pt x="310" y="181"/>
                </a:lnTo>
                <a:lnTo>
                  <a:pt x="290" y="190"/>
                </a:lnTo>
                <a:lnTo>
                  <a:pt x="265" y="192"/>
                </a:lnTo>
                <a:lnTo>
                  <a:pt x="238" y="188"/>
                </a:lnTo>
                <a:lnTo>
                  <a:pt x="205" y="168"/>
                </a:lnTo>
                <a:lnTo>
                  <a:pt x="196" y="141"/>
                </a:lnTo>
                <a:lnTo>
                  <a:pt x="192" y="116"/>
                </a:lnTo>
                <a:lnTo>
                  <a:pt x="183" y="101"/>
                </a:lnTo>
                <a:lnTo>
                  <a:pt x="171" y="98"/>
                </a:lnTo>
                <a:lnTo>
                  <a:pt x="154" y="96"/>
                </a:lnTo>
                <a:lnTo>
                  <a:pt x="136" y="94"/>
                </a:lnTo>
                <a:lnTo>
                  <a:pt x="118" y="94"/>
                </a:lnTo>
                <a:lnTo>
                  <a:pt x="100" y="92"/>
                </a:lnTo>
                <a:lnTo>
                  <a:pt x="84" y="87"/>
                </a:lnTo>
                <a:lnTo>
                  <a:pt x="71" y="83"/>
                </a:lnTo>
                <a:lnTo>
                  <a:pt x="62" y="74"/>
                </a:lnTo>
                <a:lnTo>
                  <a:pt x="49" y="45"/>
                </a:lnTo>
                <a:lnTo>
                  <a:pt x="31" y="14"/>
                </a:lnTo>
                <a:lnTo>
                  <a:pt x="13" y="0"/>
                </a:lnTo>
                <a:lnTo>
                  <a:pt x="0" y="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1" name=""/>
          <p:cNvSpPr/>
          <p:nvPr/>
        </p:nvSpPr>
        <p:spPr>
          <a:xfrm>
            <a:off x="5257800" y="5261040"/>
            <a:ext cx="409680" cy="342720"/>
          </a:xfrm>
          <a:custGeom>
            <a:avLst/>
            <a:gdLst/>
            <a:ahLst/>
            <a:rect l="l" t="t" r="r" b="b"/>
            <a:pathLst>
              <a:path w="258" h="216">
                <a:moveTo>
                  <a:pt x="26" y="38"/>
                </a:moveTo>
                <a:lnTo>
                  <a:pt x="29" y="35"/>
                </a:lnTo>
                <a:lnTo>
                  <a:pt x="35" y="29"/>
                </a:lnTo>
                <a:lnTo>
                  <a:pt x="46" y="20"/>
                </a:lnTo>
                <a:lnTo>
                  <a:pt x="62" y="9"/>
                </a:lnTo>
                <a:lnTo>
                  <a:pt x="80" y="2"/>
                </a:lnTo>
                <a:lnTo>
                  <a:pt x="102" y="0"/>
                </a:lnTo>
                <a:lnTo>
                  <a:pt x="127" y="4"/>
                </a:lnTo>
                <a:lnTo>
                  <a:pt x="153" y="15"/>
                </a:lnTo>
                <a:lnTo>
                  <a:pt x="178" y="31"/>
                </a:lnTo>
                <a:lnTo>
                  <a:pt x="200" y="49"/>
                </a:lnTo>
                <a:lnTo>
                  <a:pt x="216" y="64"/>
                </a:lnTo>
                <a:lnTo>
                  <a:pt x="229" y="80"/>
                </a:lnTo>
                <a:lnTo>
                  <a:pt x="240" y="96"/>
                </a:lnTo>
                <a:lnTo>
                  <a:pt x="249" y="111"/>
                </a:lnTo>
                <a:lnTo>
                  <a:pt x="254" y="129"/>
                </a:lnTo>
                <a:lnTo>
                  <a:pt x="258" y="147"/>
                </a:lnTo>
                <a:lnTo>
                  <a:pt x="258" y="167"/>
                </a:lnTo>
                <a:lnTo>
                  <a:pt x="252" y="185"/>
                </a:lnTo>
                <a:lnTo>
                  <a:pt x="240" y="198"/>
                </a:lnTo>
                <a:lnTo>
                  <a:pt x="227" y="209"/>
                </a:lnTo>
                <a:lnTo>
                  <a:pt x="211" y="216"/>
                </a:lnTo>
                <a:lnTo>
                  <a:pt x="196" y="214"/>
                </a:lnTo>
                <a:lnTo>
                  <a:pt x="182" y="205"/>
                </a:lnTo>
                <a:lnTo>
                  <a:pt x="169" y="185"/>
                </a:lnTo>
                <a:lnTo>
                  <a:pt x="158" y="160"/>
                </a:lnTo>
                <a:lnTo>
                  <a:pt x="147" y="140"/>
                </a:lnTo>
                <a:lnTo>
                  <a:pt x="133" y="122"/>
                </a:lnTo>
                <a:lnTo>
                  <a:pt x="120" y="107"/>
                </a:lnTo>
                <a:lnTo>
                  <a:pt x="107" y="96"/>
                </a:lnTo>
                <a:lnTo>
                  <a:pt x="93" y="89"/>
                </a:lnTo>
                <a:lnTo>
                  <a:pt x="75" y="87"/>
                </a:lnTo>
                <a:lnTo>
                  <a:pt x="58" y="89"/>
                </a:lnTo>
                <a:lnTo>
                  <a:pt x="40" y="93"/>
                </a:lnTo>
                <a:lnTo>
                  <a:pt x="24" y="93"/>
                </a:lnTo>
                <a:lnTo>
                  <a:pt x="11" y="91"/>
                </a:lnTo>
                <a:lnTo>
                  <a:pt x="4" y="87"/>
                </a:lnTo>
                <a:lnTo>
                  <a:pt x="0" y="80"/>
                </a:lnTo>
                <a:lnTo>
                  <a:pt x="2" y="69"/>
                </a:lnTo>
                <a:lnTo>
                  <a:pt x="11" y="55"/>
                </a:lnTo>
                <a:lnTo>
                  <a:pt x="26" y="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2" name=""/>
          <p:cNvSpPr/>
          <p:nvPr/>
        </p:nvSpPr>
        <p:spPr>
          <a:xfrm>
            <a:off x="4811760" y="3675240"/>
            <a:ext cx="639720" cy="137880"/>
          </a:xfrm>
          <a:custGeom>
            <a:avLst/>
            <a:gdLst/>
            <a:ahLst/>
            <a:rect l="l" t="t" r="r" b="b"/>
            <a:pathLst>
              <a:path w="403" h="87">
                <a:moveTo>
                  <a:pt x="376" y="18"/>
                </a:moveTo>
                <a:lnTo>
                  <a:pt x="370" y="16"/>
                </a:lnTo>
                <a:lnTo>
                  <a:pt x="352" y="14"/>
                </a:lnTo>
                <a:lnTo>
                  <a:pt x="327" y="9"/>
                </a:lnTo>
                <a:lnTo>
                  <a:pt x="294" y="5"/>
                </a:lnTo>
                <a:lnTo>
                  <a:pt x="256" y="3"/>
                </a:lnTo>
                <a:lnTo>
                  <a:pt x="216" y="0"/>
                </a:lnTo>
                <a:lnTo>
                  <a:pt x="176" y="3"/>
                </a:lnTo>
                <a:lnTo>
                  <a:pt x="136" y="9"/>
                </a:lnTo>
                <a:lnTo>
                  <a:pt x="100" y="18"/>
                </a:lnTo>
                <a:lnTo>
                  <a:pt x="66" y="25"/>
                </a:lnTo>
                <a:lnTo>
                  <a:pt x="40" y="29"/>
                </a:lnTo>
                <a:lnTo>
                  <a:pt x="20" y="36"/>
                </a:lnTo>
                <a:lnTo>
                  <a:pt x="6" y="43"/>
                </a:lnTo>
                <a:lnTo>
                  <a:pt x="0" y="49"/>
                </a:lnTo>
                <a:lnTo>
                  <a:pt x="0" y="58"/>
                </a:lnTo>
                <a:lnTo>
                  <a:pt x="11" y="72"/>
                </a:lnTo>
                <a:lnTo>
                  <a:pt x="29" y="83"/>
                </a:lnTo>
                <a:lnTo>
                  <a:pt x="49" y="87"/>
                </a:lnTo>
                <a:lnTo>
                  <a:pt x="75" y="87"/>
                </a:lnTo>
                <a:lnTo>
                  <a:pt x="107" y="85"/>
                </a:lnTo>
                <a:lnTo>
                  <a:pt x="142" y="81"/>
                </a:lnTo>
                <a:lnTo>
                  <a:pt x="182" y="78"/>
                </a:lnTo>
                <a:lnTo>
                  <a:pt x="227" y="78"/>
                </a:lnTo>
                <a:lnTo>
                  <a:pt x="276" y="81"/>
                </a:lnTo>
                <a:lnTo>
                  <a:pt x="321" y="85"/>
                </a:lnTo>
                <a:lnTo>
                  <a:pt x="354" y="85"/>
                </a:lnTo>
                <a:lnTo>
                  <a:pt x="381" y="81"/>
                </a:lnTo>
                <a:lnTo>
                  <a:pt x="397" y="72"/>
                </a:lnTo>
                <a:lnTo>
                  <a:pt x="403" y="63"/>
                </a:lnTo>
                <a:lnTo>
                  <a:pt x="403" y="49"/>
                </a:lnTo>
                <a:lnTo>
                  <a:pt x="394" y="36"/>
                </a:lnTo>
                <a:lnTo>
                  <a:pt x="376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3" name=""/>
          <p:cNvSpPr/>
          <p:nvPr/>
        </p:nvSpPr>
        <p:spPr>
          <a:xfrm>
            <a:off x="6159600" y="3887640"/>
            <a:ext cx="588960" cy="282600"/>
          </a:xfrm>
          <a:custGeom>
            <a:avLst/>
            <a:gdLst/>
            <a:ahLst/>
            <a:rect l="l" t="t" r="r" b="b"/>
            <a:pathLst>
              <a:path w="371" h="178">
                <a:moveTo>
                  <a:pt x="43" y="0"/>
                </a:moveTo>
                <a:lnTo>
                  <a:pt x="52" y="2"/>
                </a:lnTo>
                <a:lnTo>
                  <a:pt x="78" y="7"/>
                </a:lnTo>
                <a:lnTo>
                  <a:pt x="119" y="13"/>
                </a:lnTo>
                <a:lnTo>
                  <a:pt x="165" y="25"/>
                </a:lnTo>
                <a:lnTo>
                  <a:pt x="214" y="38"/>
                </a:lnTo>
                <a:lnTo>
                  <a:pt x="263" y="56"/>
                </a:lnTo>
                <a:lnTo>
                  <a:pt x="306" y="78"/>
                </a:lnTo>
                <a:lnTo>
                  <a:pt x="339" y="103"/>
                </a:lnTo>
                <a:lnTo>
                  <a:pt x="359" y="127"/>
                </a:lnTo>
                <a:lnTo>
                  <a:pt x="371" y="145"/>
                </a:lnTo>
                <a:lnTo>
                  <a:pt x="371" y="161"/>
                </a:lnTo>
                <a:lnTo>
                  <a:pt x="364" y="172"/>
                </a:lnTo>
                <a:lnTo>
                  <a:pt x="350" y="176"/>
                </a:lnTo>
                <a:lnTo>
                  <a:pt x="330" y="178"/>
                </a:lnTo>
                <a:lnTo>
                  <a:pt x="306" y="174"/>
                </a:lnTo>
                <a:lnTo>
                  <a:pt x="277" y="165"/>
                </a:lnTo>
                <a:lnTo>
                  <a:pt x="248" y="152"/>
                </a:lnTo>
                <a:lnTo>
                  <a:pt x="219" y="140"/>
                </a:lnTo>
                <a:lnTo>
                  <a:pt x="192" y="125"/>
                </a:lnTo>
                <a:lnTo>
                  <a:pt x="165" y="111"/>
                </a:lnTo>
                <a:lnTo>
                  <a:pt x="141" y="100"/>
                </a:lnTo>
                <a:lnTo>
                  <a:pt x="116" y="89"/>
                </a:lnTo>
                <a:lnTo>
                  <a:pt x="92" y="78"/>
                </a:lnTo>
                <a:lnTo>
                  <a:pt x="67" y="71"/>
                </a:lnTo>
                <a:lnTo>
                  <a:pt x="45" y="65"/>
                </a:lnTo>
                <a:lnTo>
                  <a:pt x="27" y="54"/>
                </a:lnTo>
                <a:lnTo>
                  <a:pt x="11" y="42"/>
                </a:lnTo>
                <a:lnTo>
                  <a:pt x="3" y="29"/>
                </a:lnTo>
                <a:lnTo>
                  <a:pt x="0" y="18"/>
                </a:lnTo>
                <a:lnTo>
                  <a:pt x="5" y="9"/>
                </a:lnTo>
                <a:lnTo>
                  <a:pt x="18" y="2"/>
                </a:lnTo>
                <a:lnTo>
                  <a:pt x="4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4" name=""/>
          <p:cNvSpPr/>
          <p:nvPr/>
        </p:nvSpPr>
        <p:spPr>
          <a:xfrm>
            <a:off x="6049800" y="3110040"/>
            <a:ext cx="233640" cy="529920"/>
          </a:xfrm>
          <a:custGeom>
            <a:avLst/>
            <a:gdLst/>
            <a:ahLst/>
            <a:rect l="l" t="t" r="r" b="b"/>
            <a:pathLst>
              <a:path w="147" h="334">
                <a:moveTo>
                  <a:pt x="96" y="0"/>
                </a:moveTo>
                <a:lnTo>
                  <a:pt x="94" y="2"/>
                </a:lnTo>
                <a:lnTo>
                  <a:pt x="85" y="11"/>
                </a:lnTo>
                <a:lnTo>
                  <a:pt x="74" y="24"/>
                </a:lnTo>
                <a:lnTo>
                  <a:pt x="60" y="42"/>
                </a:lnTo>
                <a:lnTo>
                  <a:pt x="47" y="60"/>
                </a:lnTo>
                <a:lnTo>
                  <a:pt x="34" y="82"/>
                </a:lnTo>
                <a:lnTo>
                  <a:pt x="25" y="102"/>
                </a:lnTo>
                <a:lnTo>
                  <a:pt x="18" y="125"/>
                </a:lnTo>
                <a:lnTo>
                  <a:pt x="9" y="178"/>
                </a:lnTo>
                <a:lnTo>
                  <a:pt x="2" y="243"/>
                </a:lnTo>
                <a:lnTo>
                  <a:pt x="0" y="303"/>
                </a:lnTo>
                <a:lnTo>
                  <a:pt x="18" y="334"/>
                </a:lnTo>
                <a:lnTo>
                  <a:pt x="45" y="325"/>
                </a:lnTo>
                <a:lnTo>
                  <a:pt x="63" y="285"/>
                </a:lnTo>
                <a:lnTo>
                  <a:pt x="74" y="232"/>
                </a:lnTo>
                <a:lnTo>
                  <a:pt x="80" y="178"/>
                </a:lnTo>
                <a:lnTo>
                  <a:pt x="89" y="154"/>
                </a:lnTo>
                <a:lnTo>
                  <a:pt x="105" y="127"/>
                </a:lnTo>
                <a:lnTo>
                  <a:pt x="123" y="98"/>
                </a:lnTo>
                <a:lnTo>
                  <a:pt x="138" y="71"/>
                </a:lnTo>
                <a:lnTo>
                  <a:pt x="147" y="47"/>
                </a:lnTo>
                <a:lnTo>
                  <a:pt x="147" y="27"/>
                </a:lnTo>
                <a:lnTo>
                  <a:pt x="132" y="9"/>
                </a:lnTo>
                <a:lnTo>
                  <a:pt x="9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5" name=""/>
          <p:cNvSpPr/>
          <p:nvPr/>
        </p:nvSpPr>
        <p:spPr>
          <a:xfrm>
            <a:off x="6110280" y="4184640"/>
            <a:ext cx="241200" cy="403200"/>
          </a:xfrm>
          <a:custGeom>
            <a:avLst/>
            <a:gdLst/>
            <a:ahLst/>
            <a:rect l="l" t="t" r="r" b="b"/>
            <a:pathLst>
              <a:path w="152" h="254">
                <a:moveTo>
                  <a:pt x="42" y="0"/>
                </a:moveTo>
                <a:lnTo>
                  <a:pt x="49" y="5"/>
                </a:lnTo>
                <a:lnTo>
                  <a:pt x="67" y="16"/>
                </a:lnTo>
                <a:lnTo>
                  <a:pt x="92" y="34"/>
                </a:lnTo>
                <a:lnTo>
                  <a:pt x="116" y="58"/>
                </a:lnTo>
                <a:lnTo>
                  <a:pt x="138" y="87"/>
                </a:lnTo>
                <a:lnTo>
                  <a:pt x="152" y="121"/>
                </a:lnTo>
                <a:lnTo>
                  <a:pt x="152" y="156"/>
                </a:lnTo>
                <a:lnTo>
                  <a:pt x="136" y="196"/>
                </a:lnTo>
                <a:lnTo>
                  <a:pt x="112" y="230"/>
                </a:lnTo>
                <a:lnTo>
                  <a:pt x="92" y="248"/>
                </a:lnTo>
                <a:lnTo>
                  <a:pt x="76" y="254"/>
                </a:lnTo>
                <a:lnTo>
                  <a:pt x="63" y="252"/>
                </a:lnTo>
                <a:lnTo>
                  <a:pt x="56" y="243"/>
                </a:lnTo>
                <a:lnTo>
                  <a:pt x="51" y="230"/>
                </a:lnTo>
                <a:lnTo>
                  <a:pt x="51" y="216"/>
                </a:lnTo>
                <a:lnTo>
                  <a:pt x="58" y="203"/>
                </a:lnTo>
                <a:lnTo>
                  <a:pt x="71" y="174"/>
                </a:lnTo>
                <a:lnTo>
                  <a:pt x="71" y="138"/>
                </a:lnTo>
                <a:lnTo>
                  <a:pt x="63" y="103"/>
                </a:lnTo>
                <a:lnTo>
                  <a:pt x="42" y="78"/>
                </a:lnTo>
                <a:lnTo>
                  <a:pt x="31" y="69"/>
                </a:lnTo>
                <a:lnTo>
                  <a:pt x="18" y="56"/>
                </a:lnTo>
                <a:lnTo>
                  <a:pt x="9" y="43"/>
                </a:lnTo>
                <a:lnTo>
                  <a:pt x="2" y="29"/>
                </a:lnTo>
                <a:lnTo>
                  <a:pt x="0" y="16"/>
                </a:lnTo>
                <a:lnTo>
                  <a:pt x="5" y="7"/>
                </a:lnTo>
                <a:lnTo>
                  <a:pt x="18" y="0"/>
                </a:lnTo>
                <a:lnTo>
                  <a:pt x="4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6" name=""/>
          <p:cNvSpPr/>
          <p:nvPr/>
        </p:nvSpPr>
        <p:spPr>
          <a:xfrm>
            <a:off x="3919680" y="2271600"/>
            <a:ext cx="2000160" cy="3292560"/>
          </a:xfrm>
          <a:custGeom>
            <a:avLst/>
            <a:gdLst/>
            <a:ahLst/>
            <a:rect l="l" t="t" r="r" b="b"/>
            <a:pathLst>
              <a:path w="1260" h="2074">
                <a:moveTo>
                  <a:pt x="1233" y="343"/>
                </a:moveTo>
                <a:lnTo>
                  <a:pt x="1228" y="343"/>
                </a:lnTo>
                <a:lnTo>
                  <a:pt x="1217" y="338"/>
                </a:lnTo>
                <a:lnTo>
                  <a:pt x="1197" y="332"/>
                </a:lnTo>
                <a:lnTo>
                  <a:pt x="1173" y="325"/>
                </a:lnTo>
                <a:lnTo>
                  <a:pt x="1141" y="314"/>
                </a:lnTo>
                <a:lnTo>
                  <a:pt x="1108" y="298"/>
                </a:lnTo>
                <a:lnTo>
                  <a:pt x="1072" y="280"/>
                </a:lnTo>
                <a:lnTo>
                  <a:pt x="1034" y="260"/>
                </a:lnTo>
                <a:lnTo>
                  <a:pt x="992" y="236"/>
                </a:lnTo>
                <a:lnTo>
                  <a:pt x="943" y="207"/>
                </a:lnTo>
                <a:lnTo>
                  <a:pt x="894" y="176"/>
                </a:lnTo>
                <a:lnTo>
                  <a:pt x="843" y="142"/>
                </a:lnTo>
                <a:lnTo>
                  <a:pt x="794" y="111"/>
                </a:lnTo>
                <a:lnTo>
                  <a:pt x="749" y="78"/>
                </a:lnTo>
                <a:lnTo>
                  <a:pt x="713" y="49"/>
                </a:lnTo>
                <a:lnTo>
                  <a:pt x="684" y="24"/>
                </a:lnTo>
                <a:lnTo>
                  <a:pt x="664" y="6"/>
                </a:lnTo>
                <a:lnTo>
                  <a:pt x="649" y="0"/>
                </a:lnTo>
                <a:lnTo>
                  <a:pt x="633" y="0"/>
                </a:lnTo>
                <a:lnTo>
                  <a:pt x="622" y="6"/>
                </a:lnTo>
                <a:lnTo>
                  <a:pt x="611" y="22"/>
                </a:lnTo>
                <a:lnTo>
                  <a:pt x="602" y="42"/>
                </a:lnTo>
                <a:lnTo>
                  <a:pt x="593" y="64"/>
                </a:lnTo>
                <a:lnTo>
                  <a:pt x="582" y="91"/>
                </a:lnTo>
                <a:lnTo>
                  <a:pt x="568" y="127"/>
                </a:lnTo>
                <a:lnTo>
                  <a:pt x="548" y="180"/>
                </a:lnTo>
                <a:lnTo>
                  <a:pt x="526" y="245"/>
                </a:lnTo>
                <a:lnTo>
                  <a:pt x="501" y="314"/>
                </a:lnTo>
                <a:lnTo>
                  <a:pt x="477" y="385"/>
                </a:lnTo>
                <a:lnTo>
                  <a:pt x="452" y="452"/>
                </a:lnTo>
                <a:lnTo>
                  <a:pt x="432" y="510"/>
                </a:lnTo>
                <a:lnTo>
                  <a:pt x="417" y="552"/>
                </a:lnTo>
                <a:lnTo>
                  <a:pt x="392" y="550"/>
                </a:lnTo>
                <a:lnTo>
                  <a:pt x="359" y="546"/>
                </a:lnTo>
                <a:lnTo>
                  <a:pt x="318" y="539"/>
                </a:lnTo>
                <a:lnTo>
                  <a:pt x="278" y="526"/>
                </a:lnTo>
                <a:lnTo>
                  <a:pt x="240" y="506"/>
                </a:lnTo>
                <a:lnTo>
                  <a:pt x="207" y="479"/>
                </a:lnTo>
                <a:lnTo>
                  <a:pt x="182" y="443"/>
                </a:lnTo>
                <a:lnTo>
                  <a:pt x="171" y="396"/>
                </a:lnTo>
                <a:lnTo>
                  <a:pt x="169" y="336"/>
                </a:lnTo>
                <a:lnTo>
                  <a:pt x="169" y="278"/>
                </a:lnTo>
                <a:lnTo>
                  <a:pt x="169" y="225"/>
                </a:lnTo>
                <a:lnTo>
                  <a:pt x="169" y="176"/>
                </a:lnTo>
                <a:lnTo>
                  <a:pt x="162" y="133"/>
                </a:lnTo>
                <a:lnTo>
                  <a:pt x="147" y="93"/>
                </a:lnTo>
                <a:lnTo>
                  <a:pt x="122" y="60"/>
                </a:lnTo>
                <a:lnTo>
                  <a:pt x="82" y="31"/>
                </a:lnTo>
                <a:lnTo>
                  <a:pt x="42" y="13"/>
                </a:lnTo>
                <a:lnTo>
                  <a:pt x="17" y="11"/>
                </a:lnTo>
                <a:lnTo>
                  <a:pt x="4" y="22"/>
                </a:lnTo>
                <a:lnTo>
                  <a:pt x="0" y="40"/>
                </a:lnTo>
                <a:lnTo>
                  <a:pt x="6" y="62"/>
                </a:lnTo>
                <a:lnTo>
                  <a:pt x="17" y="89"/>
                </a:lnTo>
                <a:lnTo>
                  <a:pt x="33" y="113"/>
                </a:lnTo>
                <a:lnTo>
                  <a:pt x="53" y="136"/>
                </a:lnTo>
                <a:lnTo>
                  <a:pt x="80" y="171"/>
                </a:lnTo>
                <a:lnTo>
                  <a:pt x="93" y="214"/>
                </a:lnTo>
                <a:lnTo>
                  <a:pt x="98" y="256"/>
                </a:lnTo>
                <a:lnTo>
                  <a:pt x="95" y="303"/>
                </a:lnTo>
                <a:lnTo>
                  <a:pt x="91" y="347"/>
                </a:lnTo>
                <a:lnTo>
                  <a:pt x="91" y="390"/>
                </a:lnTo>
                <a:lnTo>
                  <a:pt x="93" y="430"/>
                </a:lnTo>
                <a:lnTo>
                  <a:pt x="104" y="463"/>
                </a:lnTo>
                <a:lnTo>
                  <a:pt x="122" y="492"/>
                </a:lnTo>
                <a:lnTo>
                  <a:pt x="144" y="521"/>
                </a:lnTo>
                <a:lnTo>
                  <a:pt x="171" y="546"/>
                </a:lnTo>
                <a:lnTo>
                  <a:pt x="205" y="568"/>
                </a:lnTo>
                <a:lnTo>
                  <a:pt x="243" y="586"/>
                </a:lnTo>
                <a:lnTo>
                  <a:pt x="287" y="597"/>
                </a:lnTo>
                <a:lnTo>
                  <a:pt x="339" y="604"/>
                </a:lnTo>
                <a:lnTo>
                  <a:pt x="399" y="604"/>
                </a:lnTo>
                <a:lnTo>
                  <a:pt x="379" y="702"/>
                </a:lnTo>
                <a:lnTo>
                  <a:pt x="365" y="820"/>
                </a:lnTo>
                <a:lnTo>
                  <a:pt x="359" y="936"/>
                </a:lnTo>
                <a:lnTo>
                  <a:pt x="365" y="1025"/>
                </a:lnTo>
                <a:lnTo>
                  <a:pt x="381" y="1129"/>
                </a:lnTo>
                <a:lnTo>
                  <a:pt x="394" y="1268"/>
                </a:lnTo>
                <a:lnTo>
                  <a:pt x="403" y="1395"/>
                </a:lnTo>
                <a:lnTo>
                  <a:pt x="403" y="1477"/>
                </a:lnTo>
                <a:lnTo>
                  <a:pt x="403" y="1513"/>
                </a:lnTo>
                <a:lnTo>
                  <a:pt x="410" y="1573"/>
                </a:lnTo>
                <a:lnTo>
                  <a:pt x="419" y="1649"/>
                </a:lnTo>
                <a:lnTo>
                  <a:pt x="437" y="1733"/>
                </a:lnTo>
                <a:lnTo>
                  <a:pt x="457" y="1820"/>
                </a:lnTo>
                <a:lnTo>
                  <a:pt x="484" y="1903"/>
                </a:lnTo>
                <a:lnTo>
                  <a:pt x="517" y="1972"/>
                </a:lnTo>
                <a:lnTo>
                  <a:pt x="553" y="2023"/>
                </a:lnTo>
                <a:lnTo>
                  <a:pt x="586" y="2054"/>
                </a:lnTo>
                <a:lnTo>
                  <a:pt x="613" y="2070"/>
                </a:lnTo>
                <a:lnTo>
                  <a:pt x="633" y="2074"/>
                </a:lnTo>
                <a:lnTo>
                  <a:pt x="646" y="2072"/>
                </a:lnTo>
                <a:lnTo>
                  <a:pt x="653" y="2061"/>
                </a:lnTo>
                <a:lnTo>
                  <a:pt x="653" y="2045"/>
                </a:lnTo>
                <a:lnTo>
                  <a:pt x="649" y="2030"/>
                </a:lnTo>
                <a:lnTo>
                  <a:pt x="640" y="2014"/>
                </a:lnTo>
                <a:lnTo>
                  <a:pt x="628" y="1999"/>
                </a:lnTo>
                <a:lnTo>
                  <a:pt x="615" y="1974"/>
                </a:lnTo>
                <a:lnTo>
                  <a:pt x="599" y="1947"/>
                </a:lnTo>
                <a:lnTo>
                  <a:pt x="586" y="1914"/>
                </a:lnTo>
                <a:lnTo>
                  <a:pt x="570" y="1880"/>
                </a:lnTo>
                <a:lnTo>
                  <a:pt x="555" y="1845"/>
                </a:lnTo>
                <a:lnTo>
                  <a:pt x="541" y="1809"/>
                </a:lnTo>
                <a:lnTo>
                  <a:pt x="530" y="1774"/>
                </a:lnTo>
                <a:lnTo>
                  <a:pt x="521" y="1749"/>
                </a:lnTo>
                <a:lnTo>
                  <a:pt x="515" y="1720"/>
                </a:lnTo>
                <a:lnTo>
                  <a:pt x="506" y="1687"/>
                </a:lnTo>
                <a:lnTo>
                  <a:pt x="497" y="1649"/>
                </a:lnTo>
                <a:lnTo>
                  <a:pt x="504" y="1633"/>
                </a:lnTo>
                <a:lnTo>
                  <a:pt x="510" y="1615"/>
                </a:lnTo>
                <a:lnTo>
                  <a:pt x="519" y="1597"/>
                </a:lnTo>
                <a:lnTo>
                  <a:pt x="530" y="1580"/>
                </a:lnTo>
                <a:lnTo>
                  <a:pt x="539" y="1564"/>
                </a:lnTo>
                <a:lnTo>
                  <a:pt x="553" y="1546"/>
                </a:lnTo>
                <a:lnTo>
                  <a:pt x="566" y="1533"/>
                </a:lnTo>
                <a:lnTo>
                  <a:pt x="582" y="1522"/>
                </a:lnTo>
                <a:lnTo>
                  <a:pt x="604" y="1506"/>
                </a:lnTo>
                <a:lnTo>
                  <a:pt x="620" y="1488"/>
                </a:lnTo>
                <a:lnTo>
                  <a:pt x="628" y="1475"/>
                </a:lnTo>
                <a:lnTo>
                  <a:pt x="633" y="1462"/>
                </a:lnTo>
                <a:lnTo>
                  <a:pt x="633" y="1453"/>
                </a:lnTo>
                <a:lnTo>
                  <a:pt x="624" y="1446"/>
                </a:lnTo>
                <a:lnTo>
                  <a:pt x="613" y="1444"/>
                </a:lnTo>
                <a:lnTo>
                  <a:pt x="595" y="1446"/>
                </a:lnTo>
                <a:lnTo>
                  <a:pt x="579" y="1450"/>
                </a:lnTo>
                <a:lnTo>
                  <a:pt x="564" y="1457"/>
                </a:lnTo>
                <a:lnTo>
                  <a:pt x="548" y="1466"/>
                </a:lnTo>
                <a:lnTo>
                  <a:pt x="533" y="1477"/>
                </a:lnTo>
                <a:lnTo>
                  <a:pt x="517" y="1488"/>
                </a:lnTo>
                <a:lnTo>
                  <a:pt x="501" y="1502"/>
                </a:lnTo>
                <a:lnTo>
                  <a:pt x="488" y="1515"/>
                </a:lnTo>
                <a:lnTo>
                  <a:pt x="477" y="1528"/>
                </a:lnTo>
                <a:lnTo>
                  <a:pt x="470" y="1473"/>
                </a:lnTo>
                <a:lnTo>
                  <a:pt x="466" y="1424"/>
                </a:lnTo>
                <a:lnTo>
                  <a:pt x="466" y="1381"/>
                </a:lnTo>
                <a:lnTo>
                  <a:pt x="470" y="1350"/>
                </a:lnTo>
                <a:lnTo>
                  <a:pt x="481" y="1323"/>
                </a:lnTo>
                <a:lnTo>
                  <a:pt x="499" y="1299"/>
                </a:lnTo>
                <a:lnTo>
                  <a:pt x="517" y="1277"/>
                </a:lnTo>
                <a:lnTo>
                  <a:pt x="537" y="1254"/>
                </a:lnTo>
                <a:lnTo>
                  <a:pt x="557" y="1234"/>
                </a:lnTo>
                <a:lnTo>
                  <a:pt x="573" y="1216"/>
                </a:lnTo>
                <a:lnTo>
                  <a:pt x="584" y="1199"/>
                </a:lnTo>
                <a:lnTo>
                  <a:pt x="588" y="1181"/>
                </a:lnTo>
                <a:lnTo>
                  <a:pt x="582" y="1163"/>
                </a:lnTo>
                <a:lnTo>
                  <a:pt x="566" y="1143"/>
                </a:lnTo>
                <a:lnTo>
                  <a:pt x="544" y="1121"/>
                </a:lnTo>
                <a:lnTo>
                  <a:pt x="517" y="1101"/>
                </a:lnTo>
                <a:lnTo>
                  <a:pt x="490" y="1080"/>
                </a:lnTo>
                <a:lnTo>
                  <a:pt x="468" y="1060"/>
                </a:lnTo>
                <a:lnTo>
                  <a:pt x="450" y="1045"/>
                </a:lnTo>
                <a:lnTo>
                  <a:pt x="441" y="1031"/>
                </a:lnTo>
                <a:lnTo>
                  <a:pt x="437" y="967"/>
                </a:lnTo>
                <a:lnTo>
                  <a:pt x="439" y="844"/>
                </a:lnTo>
                <a:lnTo>
                  <a:pt x="448" y="711"/>
                </a:lnTo>
                <a:lnTo>
                  <a:pt x="470" y="612"/>
                </a:lnTo>
                <a:lnTo>
                  <a:pt x="472" y="608"/>
                </a:lnTo>
                <a:lnTo>
                  <a:pt x="475" y="604"/>
                </a:lnTo>
                <a:lnTo>
                  <a:pt x="475" y="599"/>
                </a:lnTo>
                <a:lnTo>
                  <a:pt x="477" y="595"/>
                </a:lnTo>
                <a:lnTo>
                  <a:pt x="486" y="590"/>
                </a:lnTo>
                <a:lnTo>
                  <a:pt x="488" y="588"/>
                </a:lnTo>
                <a:lnTo>
                  <a:pt x="488" y="584"/>
                </a:lnTo>
                <a:lnTo>
                  <a:pt x="484" y="581"/>
                </a:lnTo>
                <a:lnTo>
                  <a:pt x="501" y="530"/>
                </a:lnTo>
                <a:lnTo>
                  <a:pt x="521" y="465"/>
                </a:lnTo>
                <a:lnTo>
                  <a:pt x="546" y="399"/>
                </a:lnTo>
                <a:lnTo>
                  <a:pt x="570" y="329"/>
                </a:lnTo>
                <a:lnTo>
                  <a:pt x="593" y="267"/>
                </a:lnTo>
                <a:lnTo>
                  <a:pt x="615" y="214"/>
                </a:lnTo>
                <a:lnTo>
                  <a:pt x="633" y="176"/>
                </a:lnTo>
                <a:lnTo>
                  <a:pt x="649" y="158"/>
                </a:lnTo>
                <a:lnTo>
                  <a:pt x="664" y="153"/>
                </a:lnTo>
                <a:lnTo>
                  <a:pt x="686" y="156"/>
                </a:lnTo>
                <a:lnTo>
                  <a:pt x="711" y="160"/>
                </a:lnTo>
                <a:lnTo>
                  <a:pt x="738" y="167"/>
                </a:lnTo>
                <a:lnTo>
                  <a:pt x="765" y="176"/>
                </a:lnTo>
                <a:lnTo>
                  <a:pt x="791" y="189"/>
                </a:lnTo>
                <a:lnTo>
                  <a:pt x="816" y="202"/>
                </a:lnTo>
                <a:lnTo>
                  <a:pt x="838" y="216"/>
                </a:lnTo>
                <a:lnTo>
                  <a:pt x="852" y="225"/>
                </a:lnTo>
                <a:lnTo>
                  <a:pt x="876" y="238"/>
                </a:lnTo>
                <a:lnTo>
                  <a:pt x="905" y="256"/>
                </a:lnTo>
                <a:lnTo>
                  <a:pt x="941" y="276"/>
                </a:lnTo>
                <a:lnTo>
                  <a:pt x="981" y="296"/>
                </a:lnTo>
                <a:lnTo>
                  <a:pt x="1023" y="318"/>
                </a:lnTo>
                <a:lnTo>
                  <a:pt x="1066" y="341"/>
                </a:lnTo>
                <a:lnTo>
                  <a:pt x="1108" y="358"/>
                </a:lnTo>
                <a:lnTo>
                  <a:pt x="1148" y="376"/>
                </a:lnTo>
                <a:lnTo>
                  <a:pt x="1184" y="390"/>
                </a:lnTo>
                <a:lnTo>
                  <a:pt x="1215" y="399"/>
                </a:lnTo>
                <a:lnTo>
                  <a:pt x="1240" y="403"/>
                </a:lnTo>
                <a:lnTo>
                  <a:pt x="1253" y="401"/>
                </a:lnTo>
                <a:lnTo>
                  <a:pt x="1260" y="390"/>
                </a:lnTo>
                <a:lnTo>
                  <a:pt x="1253" y="372"/>
                </a:lnTo>
                <a:lnTo>
                  <a:pt x="1233" y="3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7" name=""/>
          <p:cNvSpPr/>
          <p:nvPr/>
        </p:nvSpPr>
        <p:spPr>
          <a:xfrm>
            <a:off x="5126040" y="2819520"/>
            <a:ext cx="3214800" cy="3035160"/>
          </a:xfrm>
          <a:custGeom>
            <a:avLst/>
            <a:gdLst/>
            <a:ahLst/>
            <a:rect l="l" t="t" r="r" b="b"/>
            <a:pathLst>
              <a:path w="2025" h="1912">
                <a:moveTo>
                  <a:pt x="1956" y="952"/>
                </a:moveTo>
                <a:lnTo>
                  <a:pt x="1911" y="918"/>
                </a:lnTo>
                <a:lnTo>
                  <a:pt x="1882" y="887"/>
                </a:lnTo>
                <a:lnTo>
                  <a:pt x="1865" y="854"/>
                </a:lnTo>
                <a:lnTo>
                  <a:pt x="1858" y="820"/>
                </a:lnTo>
                <a:lnTo>
                  <a:pt x="1853" y="780"/>
                </a:lnTo>
                <a:lnTo>
                  <a:pt x="1851" y="738"/>
                </a:lnTo>
                <a:lnTo>
                  <a:pt x="1845" y="686"/>
                </a:lnTo>
                <a:lnTo>
                  <a:pt x="1833" y="628"/>
                </a:lnTo>
                <a:lnTo>
                  <a:pt x="1822" y="600"/>
                </a:lnTo>
                <a:lnTo>
                  <a:pt x="1804" y="573"/>
                </a:lnTo>
                <a:lnTo>
                  <a:pt x="1782" y="550"/>
                </a:lnTo>
                <a:lnTo>
                  <a:pt x="1758" y="530"/>
                </a:lnTo>
                <a:lnTo>
                  <a:pt x="1729" y="515"/>
                </a:lnTo>
                <a:lnTo>
                  <a:pt x="1697" y="501"/>
                </a:lnTo>
                <a:lnTo>
                  <a:pt x="1666" y="490"/>
                </a:lnTo>
                <a:lnTo>
                  <a:pt x="1635" y="479"/>
                </a:lnTo>
                <a:lnTo>
                  <a:pt x="1601" y="473"/>
                </a:lnTo>
                <a:lnTo>
                  <a:pt x="1572" y="468"/>
                </a:lnTo>
                <a:lnTo>
                  <a:pt x="1543" y="464"/>
                </a:lnTo>
                <a:lnTo>
                  <a:pt x="1519" y="459"/>
                </a:lnTo>
                <a:lnTo>
                  <a:pt x="1497" y="459"/>
                </a:lnTo>
                <a:lnTo>
                  <a:pt x="1481" y="457"/>
                </a:lnTo>
                <a:lnTo>
                  <a:pt x="1472" y="457"/>
                </a:lnTo>
                <a:lnTo>
                  <a:pt x="1468" y="457"/>
                </a:lnTo>
                <a:lnTo>
                  <a:pt x="1479" y="415"/>
                </a:lnTo>
                <a:lnTo>
                  <a:pt x="1492" y="366"/>
                </a:lnTo>
                <a:lnTo>
                  <a:pt x="1508" y="312"/>
                </a:lnTo>
                <a:lnTo>
                  <a:pt x="1526" y="256"/>
                </a:lnTo>
                <a:lnTo>
                  <a:pt x="1541" y="201"/>
                </a:lnTo>
                <a:lnTo>
                  <a:pt x="1557" y="145"/>
                </a:lnTo>
                <a:lnTo>
                  <a:pt x="1568" y="94"/>
                </a:lnTo>
                <a:lnTo>
                  <a:pt x="1577" y="49"/>
                </a:lnTo>
                <a:lnTo>
                  <a:pt x="1577" y="31"/>
                </a:lnTo>
                <a:lnTo>
                  <a:pt x="1568" y="18"/>
                </a:lnTo>
                <a:lnTo>
                  <a:pt x="1555" y="7"/>
                </a:lnTo>
                <a:lnTo>
                  <a:pt x="1537" y="2"/>
                </a:lnTo>
                <a:lnTo>
                  <a:pt x="1512" y="0"/>
                </a:lnTo>
                <a:lnTo>
                  <a:pt x="1485" y="0"/>
                </a:lnTo>
                <a:lnTo>
                  <a:pt x="1454" y="5"/>
                </a:lnTo>
                <a:lnTo>
                  <a:pt x="1419" y="9"/>
                </a:lnTo>
                <a:lnTo>
                  <a:pt x="1381" y="16"/>
                </a:lnTo>
                <a:lnTo>
                  <a:pt x="1343" y="22"/>
                </a:lnTo>
                <a:lnTo>
                  <a:pt x="1300" y="29"/>
                </a:lnTo>
                <a:lnTo>
                  <a:pt x="1258" y="38"/>
                </a:lnTo>
                <a:lnTo>
                  <a:pt x="1216" y="45"/>
                </a:lnTo>
                <a:lnTo>
                  <a:pt x="1173" y="51"/>
                </a:lnTo>
                <a:lnTo>
                  <a:pt x="1131" y="56"/>
                </a:lnTo>
                <a:lnTo>
                  <a:pt x="1088" y="58"/>
                </a:lnTo>
                <a:lnTo>
                  <a:pt x="1048" y="58"/>
                </a:lnTo>
                <a:lnTo>
                  <a:pt x="1008" y="58"/>
                </a:lnTo>
                <a:lnTo>
                  <a:pt x="970" y="58"/>
                </a:lnTo>
                <a:lnTo>
                  <a:pt x="932" y="58"/>
                </a:lnTo>
                <a:lnTo>
                  <a:pt x="894" y="56"/>
                </a:lnTo>
                <a:lnTo>
                  <a:pt x="859" y="54"/>
                </a:lnTo>
                <a:lnTo>
                  <a:pt x="825" y="51"/>
                </a:lnTo>
                <a:lnTo>
                  <a:pt x="794" y="49"/>
                </a:lnTo>
                <a:lnTo>
                  <a:pt x="765" y="47"/>
                </a:lnTo>
                <a:lnTo>
                  <a:pt x="738" y="45"/>
                </a:lnTo>
                <a:lnTo>
                  <a:pt x="716" y="42"/>
                </a:lnTo>
                <a:lnTo>
                  <a:pt x="698" y="40"/>
                </a:lnTo>
                <a:lnTo>
                  <a:pt x="680" y="38"/>
                </a:lnTo>
                <a:lnTo>
                  <a:pt x="669" y="38"/>
                </a:lnTo>
                <a:lnTo>
                  <a:pt x="662" y="36"/>
                </a:lnTo>
                <a:lnTo>
                  <a:pt x="660" y="36"/>
                </a:lnTo>
                <a:lnTo>
                  <a:pt x="636" y="56"/>
                </a:lnTo>
                <a:lnTo>
                  <a:pt x="629" y="71"/>
                </a:lnTo>
                <a:lnTo>
                  <a:pt x="638" y="85"/>
                </a:lnTo>
                <a:lnTo>
                  <a:pt x="658" y="96"/>
                </a:lnTo>
                <a:lnTo>
                  <a:pt x="691" y="105"/>
                </a:lnTo>
                <a:lnTo>
                  <a:pt x="734" y="111"/>
                </a:lnTo>
                <a:lnTo>
                  <a:pt x="785" y="116"/>
                </a:lnTo>
                <a:lnTo>
                  <a:pt x="841" y="120"/>
                </a:lnTo>
                <a:lnTo>
                  <a:pt x="899" y="123"/>
                </a:lnTo>
                <a:lnTo>
                  <a:pt x="959" y="123"/>
                </a:lnTo>
                <a:lnTo>
                  <a:pt x="1019" y="123"/>
                </a:lnTo>
                <a:lnTo>
                  <a:pt x="1077" y="123"/>
                </a:lnTo>
                <a:lnTo>
                  <a:pt x="1133" y="120"/>
                </a:lnTo>
                <a:lnTo>
                  <a:pt x="1180" y="118"/>
                </a:lnTo>
                <a:lnTo>
                  <a:pt x="1220" y="114"/>
                </a:lnTo>
                <a:lnTo>
                  <a:pt x="1249" y="111"/>
                </a:lnTo>
                <a:lnTo>
                  <a:pt x="1296" y="107"/>
                </a:lnTo>
                <a:lnTo>
                  <a:pt x="1340" y="103"/>
                </a:lnTo>
                <a:lnTo>
                  <a:pt x="1381" y="98"/>
                </a:lnTo>
                <a:lnTo>
                  <a:pt x="1419" y="96"/>
                </a:lnTo>
                <a:lnTo>
                  <a:pt x="1448" y="96"/>
                </a:lnTo>
                <a:lnTo>
                  <a:pt x="1470" y="98"/>
                </a:lnTo>
                <a:lnTo>
                  <a:pt x="1483" y="103"/>
                </a:lnTo>
                <a:lnTo>
                  <a:pt x="1483" y="109"/>
                </a:lnTo>
                <a:lnTo>
                  <a:pt x="1474" y="129"/>
                </a:lnTo>
                <a:lnTo>
                  <a:pt x="1463" y="172"/>
                </a:lnTo>
                <a:lnTo>
                  <a:pt x="1448" y="227"/>
                </a:lnTo>
                <a:lnTo>
                  <a:pt x="1432" y="294"/>
                </a:lnTo>
                <a:lnTo>
                  <a:pt x="1414" y="363"/>
                </a:lnTo>
                <a:lnTo>
                  <a:pt x="1398" y="428"/>
                </a:lnTo>
                <a:lnTo>
                  <a:pt x="1387" y="484"/>
                </a:lnTo>
                <a:lnTo>
                  <a:pt x="1378" y="524"/>
                </a:lnTo>
                <a:lnTo>
                  <a:pt x="1369" y="606"/>
                </a:lnTo>
                <a:lnTo>
                  <a:pt x="1361" y="713"/>
                </a:lnTo>
                <a:lnTo>
                  <a:pt x="1352" y="813"/>
                </a:lnTo>
                <a:lnTo>
                  <a:pt x="1334" y="876"/>
                </a:lnTo>
                <a:lnTo>
                  <a:pt x="1316" y="889"/>
                </a:lnTo>
                <a:lnTo>
                  <a:pt x="1285" y="896"/>
                </a:lnTo>
                <a:lnTo>
                  <a:pt x="1247" y="900"/>
                </a:lnTo>
                <a:lnTo>
                  <a:pt x="1202" y="905"/>
                </a:lnTo>
                <a:lnTo>
                  <a:pt x="1153" y="909"/>
                </a:lnTo>
                <a:lnTo>
                  <a:pt x="1109" y="916"/>
                </a:lnTo>
                <a:lnTo>
                  <a:pt x="1066" y="932"/>
                </a:lnTo>
                <a:lnTo>
                  <a:pt x="1030" y="954"/>
                </a:lnTo>
                <a:lnTo>
                  <a:pt x="1010" y="985"/>
                </a:lnTo>
                <a:lnTo>
                  <a:pt x="1008" y="1021"/>
                </a:lnTo>
                <a:lnTo>
                  <a:pt x="1022" y="1059"/>
                </a:lnTo>
                <a:lnTo>
                  <a:pt x="1044" y="1096"/>
                </a:lnTo>
                <a:lnTo>
                  <a:pt x="1071" y="1134"/>
                </a:lnTo>
                <a:lnTo>
                  <a:pt x="1097" y="1170"/>
                </a:lnTo>
                <a:lnTo>
                  <a:pt x="1120" y="1197"/>
                </a:lnTo>
                <a:lnTo>
                  <a:pt x="1131" y="1219"/>
                </a:lnTo>
                <a:lnTo>
                  <a:pt x="1129" y="1246"/>
                </a:lnTo>
                <a:lnTo>
                  <a:pt x="1109" y="1288"/>
                </a:lnTo>
                <a:lnTo>
                  <a:pt x="1077" y="1342"/>
                </a:lnTo>
                <a:lnTo>
                  <a:pt x="1039" y="1404"/>
                </a:lnTo>
                <a:lnTo>
                  <a:pt x="995" y="1464"/>
                </a:lnTo>
                <a:lnTo>
                  <a:pt x="950" y="1524"/>
                </a:lnTo>
                <a:lnTo>
                  <a:pt x="910" y="1573"/>
                </a:lnTo>
                <a:lnTo>
                  <a:pt x="874" y="1609"/>
                </a:lnTo>
                <a:lnTo>
                  <a:pt x="859" y="1622"/>
                </a:lnTo>
                <a:lnTo>
                  <a:pt x="845" y="1636"/>
                </a:lnTo>
                <a:lnTo>
                  <a:pt x="832" y="1649"/>
                </a:lnTo>
                <a:lnTo>
                  <a:pt x="819" y="1663"/>
                </a:lnTo>
                <a:lnTo>
                  <a:pt x="823" y="1634"/>
                </a:lnTo>
                <a:lnTo>
                  <a:pt x="827" y="1598"/>
                </a:lnTo>
                <a:lnTo>
                  <a:pt x="830" y="1553"/>
                </a:lnTo>
                <a:lnTo>
                  <a:pt x="830" y="1502"/>
                </a:lnTo>
                <a:lnTo>
                  <a:pt x="825" y="1442"/>
                </a:lnTo>
                <a:lnTo>
                  <a:pt x="816" y="1393"/>
                </a:lnTo>
                <a:lnTo>
                  <a:pt x="801" y="1355"/>
                </a:lnTo>
                <a:lnTo>
                  <a:pt x="785" y="1324"/>
                </a:lnTo>
                <a:lnTo>
                  <a:pt x="770" y="1299"/>
                </a:lnTo>
                <a:lnTo>
                  <a:pt x="754" y="1284"/>
                </a:lnTo>
                <a:lnTo>
                  <a:pt x="745" y="1275"/>
                </a:lnTo>
                <a:lnTo>
                  <a:pt x="741" y="1273"/>
                </a:lnTo>
                <a:lnTo>
                  <a:pt x="705" y="1255"/>
                </a:lnTo>
                <a:lnTo>
                  <a:pt x="687" y="1252"/>
                </a:lnTo>
                <a:lnTo>
                  <a:pt x="683" y="1264"/>
                </a:lnTo>
                <a:lnTo>
                  <a:pt x="689" y="1281"/>
                </a:lnTo>
                <a:lnTo>
                  <a:pt x="700" y="1308"/>
                </a:lnTo>
                <a:lnTo>
                  <a:pt x="718" y="1337"/>
                </a:lnTo>
                <a:lnTo>
                  <a:pt x="734" y="1368"/>
                </a:lnTo>
                <a:lnTo>
                  <a:pt x="747" y="1397"/>
                </a:lnTo>
                <a:lnTo>
                  <a:pt x="765" y="1462"/>
                </a:lnTo>
                <a:lnTo>
                  <a:pt x="770" y="1535"/>
                </a:lnTo>
                <a:lnTo>
                  <a:pt x="765" y="1607"/>
                </a:lnTo>
                <a:lnTo>
                  <a:pt x="756" y="1669"/>
                </a:lnTo>
                <a:lnTo>
                  <a:pt x="754" y="1687"/>
                </a:lnTo>
                <a:lnTo>
                  <a:pt x="752" y="1700"/>
                </a:lnTo>
                <a:lnTo>
                  <a:pt x="752" y="1714"/>
                </a:lnTo>
                <a:lnTo>
                  <a:pt x="752" y="1723"/>
                </a:lnTo>
                <a:lnTo>
                  <a:pt x="729" y="1738"/>
                </a:lnTo>
                <a:lnTo>
                  <a:pt x="705" y="1756"/>
                </a:lnTo>
                <a:lnTo>
                  <a:pt x="678" y="1772"/>
                </a:lnTo>
                <a:lnTo>
                  <a:pt x="649" y="1785"/>
                </a:lnTo>
                <a:lnTo>
                  <a:pt x="616" y="1801"/>
                </a:lnTo>
                <a:lnTo>
                  <a:pt x="580" y="1812"/>
                </a:lnTo>
                <a:lnTo>
                  <a:pt x="540" y="1825"/>
                </a:lnTo>
                <a:lnTo>
                  <a:pt x="495" y="1834"/>
                </a:lnTo>
                <a:lnTo>
                  <a:pt x="453" y="1841"/>
                </a:lnTo>
                <a:lnTo>
                  <a:pt x="413" y="1847"/>
                </a:lnTo>
                <a:lnTo>
                  <a:pt x="375" y="1850"/>
                </a:lnTo>
                <a:lnTo>
                  <a:pt x="339" y="1852"/>
                </a:lnTo>
                <a:lnTo>
                  <a:pt x="306" y="1854"/>
                </a:lnTo>
                <a:lnTo>
                  <a:pt x="274" y="1852"/>
                </a:lnTo>
                <a:lnTo>
                  <a:pt x="243" y="1850"/>
                </a:lnTo>
                <a:lnTo>
                  <a:pt x="216" y="1847"/>
                </a:lnTo>
                <a:lnTo>
                  <a:pt x="190" y="1845"/>
                </a:lnTo>
                <a:lnTo>
                  <a:pt x="165" y="1841"/>
                </a:lnTo>
                <a:lnTo>
                  <a:pt x="143" y="1836"/>
                </a:lnTo>
                <a:lnTo>
                  <a:pt x="123" y="1832"/>
                </a:lnTo>
                <a:lnTo>
                  <a:pt x="103" y="1825"/>
                </a:lnTo>
                <a:lnTo>
                  <a:pt x="87" y="1821"/>
                </a:lnTo>
                <a:lnTo>
                  <a:pt x="71" y="1816"/>
                </a:lnTo>
                <a:lnTo>
                  <a:pt x="58" y="1812"/>
                </a:lnTo>
                <a:lnTo>
                  <a:pt x="36" y="1807"/>
                </a:lnTo>
                <a:lnTo>
                  <a:pt x="18" y="1810"/>
                </a:lnTo>
                <a:lnTo>
                  <a:pt x="5" y="1818"/>
                </a:lnTo>
                <a:lnTo>
                  <a:pt x="0" y="1830"/>
                </a:lnTo>
                <a:lnTo>
                  <a:pt x="2" y="1843"/>
                </a:lnTo>
                <a:lnTo>
                  <a:pt x="13" y="1859"/>
                </a:lnTo>
                <a:lnTo>
                  <a:pt x="36" y="1872"/>
                </a:lnTo>
                <a:lnTo>
                  <a:pt x="67" y="1885"/>
                </a:lnTo>
                <a:lnTo>
                  <a:pt x="87" y="1892"/>
                </a:lnTo>
                <a:lnTo>
                  <a:pt x="105" y="1896"/>
                </a:lnTo>
                <a:lnTo>
                  <a:pt x="120" y="1901"/>
                </a:lnTo>
                <a:lnTo>
                  <a:pt x="136" y="1903"/>
                </a:lnTo>
                <a:lnTo>
                  <a:pt x="147" y="1905"/>
                </a:lnTo>
                <a:lnTo>
                  <a:pt x="161" y="1908"/>
                </a:lnTo>
                <a:lnTo>
                  <a:pt x="176" y="1910"/>
                </a:lnTo>
                <a:lnTo>
                  <a:pt x="190" y="1912"/>
                </a:lnTo>
                <a:lnTo>
                  <a:pt x="207" y="1912"/>
                </a:lnTo>
                <a:lnTo>
                  <a:pt x="228" y="1912"/>
                </a:lnTo>
                <a:lnTo>
                  <a:pt x="252" y="1912"/>
                </a:lnTo>
                <a:lnTo>
                  <a:pt x="281" y="1912"/>
                </a:lnTo>
                <a:lnTo>
                  <a:pt x="315" y="1912"/>
                </a:lnTo>
                <a:lnTo>
                  <a:pt x="352" y="1912"/>
                </a:lnTo>
                <a:lnTo>
                  <a:pt x="399" y="1912"/>
                </a:lnTo>
                <a:lnTo>
                  <a:pt x="453" y="1912"/>
                </a:lnTo>
                <a:lnTo>
                  <a:pt x="511" y="1908"/>
                </a:lnTo>
                <a:lnTo>
                  <a:pt x="567" y="1892"/>
                </a:lnTo>
                <a:lnTo>
                  <a:pt x="625" y="1868"/>
                </a:lnTo>
                <a:lnTo>
                  <a:pt x="680" y="1836"/>
                </a:lnTo>
                <a:lnTo>
                  <a:pt x="734" y="1801"/>
                </a:lnTo>
                <a:lnTo>
                  <a:pt x="787" y="1758"/>
                </a:lnTo>
                <a:lnTo>
                  <a:pt x="839" y="1714"/>
                </a:lnTo>
                <a:lnTo>
                  <a:pt x="888" y="1667"/>
                </a:lnTo>
                <a:lnTo>
                  <a:pt x="932" y="1620"/>
                </a:lnTo>
                <a:lnTo>
                  <a:pt x="975" y="1573"/>
                </a:lnTo>
                <a:lnTo>
                  <a:pt x="1013" y="1529"/>
                </a:lnTo>
                <a:lnTo>
                  <a:pt x="1048" y="1489"/>
                </a:lnTo>
                <a:lnTo>
                  <a:pt x="1077" y="1451"/>
                </a:lnTo>
                <a:lnTo>
                  <a:pt x="1102" y="1422"/>
                </a:lnTo>
                <a:lnTo>
                  <a:pt x="1120" y="1397"/>
                </a:lnTo>
                <a:lnTo>
                  <a:pt x="1133" y="1384"/>
                </a:lnTo>
                <a:lnTo>
                  <a:pt x="1153" y="1357"/>
                </a:lnTo>
                <a:lnTo>
                  <a:pt x="1175" y="1324"/>
                </a:lnTo>
                <a:lnTo>
                  <a:pt x="1195" y="1284"/>
                </a:lnTo>
                <a:lnTo>
                  <a:pt x="1213" y="1241"/>
                </a:lnTo>
                <a:lnTo>
                  <a:pt x="1229" y="1201"/>
                </a:lnTo>
                <a:lnTo>
                  <a:pt x="1242" y="1170"/>
                </a:lnTo>
                <a:lnTo>
                  <a:pt x="1251" y="1148"/>
                </a:lnTo>
                <a:lnTo>
                  <a:pt x="1253" y="1139"/>
                </a:lnTo>
                <a:lnTo>
                  <a:pt x="1303" y="1096"/>
                </a:lnTo>
                <a:lnTo>
                  <a:pt x="1340" y="1056"/>
                </a:lnTo>
                <a:lnTo>
                  <a:pt x="1365" y="1018"/>
                </a:lnTo>
                <a:lnTo>
                  <a:pt x="1381" y="981"/>
                </a:lnTo>
                <a:lnTo>
                  <a:pt x="1392" y="943"/>
                </a:lnTo>
                <a:lnTo>
                  <a:pt x="1398" y="907"/>
                </a:lnTo>
                <a:lnTo>
                  <a:pt x="1407" y="874"/>
                </a:lnTo>
                <a:lnTo>
                  <a:pt x="1416" y="842"/>
                </a:lnTo>
                <a:lnTo>
                  <a:pt x="1430" y="789"/>
                </a:lnTo>
                <a:lnTo>
                  <a:pt x="1439" y="722"/>
                </a:lnTo>
                <a:lnTo>
                  <a:pt x="1445" y="646"/>
                </a:lnTo>
                <a:lnTo>
                  <a:pt x="1452" y="568"/>
                </a:lnTo>
                <a:lnTo>
                  <a:pt x="1456" y="568"/>
                </a:lnTo>
                <a:lnTo>
                  <a:pt x="1463" y="566"/>
                </a:lnTo>
                <a:lnTo>
                  <a:pt x="1470" y="564"/>
                </a:lnTo>
                <a:lnTo>
                  <a:pt x="1479" y="562"/>
                </a:lnTo>
                <a:lnTo>
                  <a:pt x="1508" y="555"/>
                </a:lnTo>
                <a:lnTo>
                  <a:pt x="1546" y="555"/>
                </a:lnTo>
                <a:lnTo>
                  <a:pt x="1588" y="559"/>
                </a:lnTo>
                <a:lnTo>
                  <a:pt x="1633" y="568"/>
                </a:lnTo>
                <a:lnTo>
                  <a:pt x="1673" y="582"/>
                </a:lnTo>
                <a:lnTo>
                  <a:pt x="1706" y="602"/>
                </a:lnTo>
                <a:lnTo>
                  <a:pt x="1733" y="626"/>
                </a:lnTo>
                <a:lnTo>
                  <a:pt x="1744" y="657"/>
                </a:lnTo>
                <a:lnTo>
                  <a:pt x="1749" y="695"/>
                </a:lnTo>
                <a:lnTo>
                  <a:pt x="1753" y="740"/>
                </a:lnTo>
                <a:lnTo>
                  <a:pt x="1762" y="789"/>
                </a:lnTo>
                <a:lnTo>
                  <a:pt x="1773" y="840"/>
                </a:lnTo>
                <a:lnTo>
                  <a:pt x="1789" y="887"/>
                </a:lnTo>
                <a:lnTo>
                  <a:pt x="1811" y="932"/>
                </a:lnTo>
                <a:lnTo>
                  <a:pt x="1840" y="969"/>
                </a:lnTo>
                <a:lnTo>
                  <a:pt x="1878" y="996"/>
                </a:lnTo>
                <a:lnTo>
                  <a:pt x="1920" y="1014"/>
                </a:lnTo>
                <a:lnTo>
                  <a:pt x="1958" y="1025"/>
                </a:lnTo>
                <a:lnTo>
                  <a:pt x="1989" y="1030"/>
                </a:lnTo>
                <a:lnTo>
                  <a:pt x="2014" y="1027"/>
                </a:lnTo>
                <a:lnTo>
                  <a:pt x="2025" y="1018"/>
                </a:lnTo>
                <a:lnTo>
                  <a:pt x="2021" y="1005"/>
                </a:lnTo>
                <a:lnTo>
                  <a:pt x="1998" y="981"/>
                </a:lnTo>
                <a:lnTo>
                  <a:pt x="1956" y="95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8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9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0" name=""/>
          <p:cNvSpPr/>
          <p:nvPr/>
        </p:nvSpPr>
        <p:spPr>
          <a:xfrm>
            <a:off x="5748480" y="2079720"/>
            <a:ext cx="318600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FAUX 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1" name="" descr=""/>
          <p:cNvPicPr/>
          <p:nvPr/>
        </p:nvPicPr>
        <p:blipFill>
          <a:blip r:embed="rId1"/>
          <a:stretch/>
        </p:blipFill>
        <p:spPr>
          <a:xfrm>
            <a:off x="930240" y="1352520"/>
            <a:ext cx="4460760" cy="4832280"/>
          </a:xfrm>
          <a:prstGeom prst="rect">
            <a:avLst/>
          </a:prstGeom>
          <a:ln w="0">
            <a:noFill/>
          </a:ln>
        </p:spPr>
      </p:pic>
      <p:sp>
        <p:nvSpPr>
          <p:cNvPr id="6022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3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4" name=""/>
          <p:cNvSpPr/>
          <p:nvPr/>
        </p:nvSpPr>
        <p:spPr>
          <a:xfrm>
            <a:off x="531720" y="2227320"/>
            <a:ext cx="8062920" cy="19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on, les charges gravitaires sont équilibrées par d’autres éléments !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5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6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7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8" name=""/>
          <p:cNvSpPr/>
          <p:nvPr/>
        </p:nvSpPr>
        <p:spPr>
          <a:xfrm>
            <a:off x="393840" y="571680"/>
            <a:ext cx="8388360" cy="226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Non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ême s’il existe un effet d’entraînement de la toiture, il reste faible par rapport à l’action principale recherchée dans cette ques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9" name=""/>
          <p:cNvSpPr/>
          <p:nvPr/>
        </p:nvSpPr>
        <p:spPr>
          <a:xfrm flipV="1">
            <a:off x="5238720" y="3955680"/>
            <a:ext cx="0" cy="10112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0" name=""/>
          <p:cNvSpPr/>
          <p:nvPr/>
        </p:nvSpPr>
        <p:spPr>
          <a:xfrm flipV="1">
            <a:off x="4137120" y="5057280"/>
            <a:ext cx="0" cy="10112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1" name=""/>
          <p:cNvSpPr/>
          <p:nvPr/>
        </p:nvSpPr>
        <p:spPr>
          <a:xfrm flipV="1">
            <a:off x="4411800" y="4781160"/>
            <a:ext cx="0" cy="10112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2" name=""/>
          <p:cNvSpPr/>
          <p:nvPr/>
        </p:nvSpPr>
        <p:spPr>
          <a:xfrm flipV="1">
            <a:off x="4687920" y="4506480"/>
            <a:ext cx="0" cy="10112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3" name=""/>
          <p:cNvSpPr/>
          <p:nvPr/>
        </p:nvSpPr>
        <p:spPr>
          <a:xfrm flipV="1">
            <a:off x="4962600" y="4230360"/>
            <a:ext cx="0" cy="10112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4" name=""/>
          <p:cNvGrpSpPr/>
          <p:nvPr/>
        </p:nvGrpSpPr>
        <p:grpSpPr>
          <a:xfrm>
            <a:off x="5233680" y="3688920"/>
            <a:ext cx="281160" cy="1292400"/>
            <a:chOff x="5233680" y="3688920"/>
            <a:chExt cx="281160" cy="1292400"/>
          </a:xfrm>
        </p:grpSpPr>
        <p:sp>
          <p:nvSpPr>
            <p:cNvPr id="6035" name=""/>
            <p:cNvSpPr/>
            <p:nvPr/>
          </p:nvSpPr>
          <p:spPr>
            <a:xfrm flipV="1">
              <a:off x="5238720" y="4228560"/>
              <a:ext cx="275760" cy="7527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6" name=""/>
            <p:cNvSpPr/>
            <p:nvPr/>
          </p:nvSpPr>
          <p:spPr>
            <a:xfrm flipH="1" flipV="1">
              <a:off x="5233680" y="3964320"/>
              <a:ext cx="280440" cy="2642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7" name=""/>
            <p:cNvSpPr/>
            <p:nvPr/>
          </p:nvSpPr>
          <p:spPr>
            <a:xfrm flipH="1" flipV="1">
              <a:off x="5238720" y="4489560"/>
              <a:ext cx="275760" cy="2167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8" name=""/>
            <p:cNvSpPr/>
            <p:nvPr/>
          </p:nvSpPr>
          <p:spPr>
            <a:xfrm flipV="1">
              <a:off x="5238720" y="3693240"/>
              <a:ext cx="275760" cy="7981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9" name=""/>
            <p:cNvSpPr/>
            <p:nvPr/>
          </p:nvSpPr>
          <p:spPr>
            <a:xfrm flipV="1">
              <a:off x="5234040" y="3688920"/>
              <a:ext cx="270720" cy="2703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0" name=""/>
            <p:cNvSpPr/>
            <p:nvPr/>
          </p:nvSpPr>
          <p:spPr>
            <a:xfrm>
              <a:off x="5239080" y="3964680"/>
              <a:ext cx="0" cy="10126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1" name=""/>
            <p:cNvSpPr/>
            <p:nvPr/>
          </p:nvSpPr>
          <p:spPr>
            <a:xfrm flipV="1">
              <a:off x="5239080" y="4224600"/>
              <a:ext cx="270720" cy="2703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2" name=""/>
            <p:cNvSpPr/>
            <p:nvPr/>
          </p:nvSpPr>
          <p:spPr>
            <a:xfrm>
              <a:off x="5514840" y="3699000"/>
              <a:ext cx="0" cy="10126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3" name=""/>
          <p:cNvGrpSpPr/>
          <p:nvPr/>
        </p:nvGrpSpPr>
        <p:grpSpPr>
          <a:xfrm>
            <a:off x="3857400" y="5060520"/>
            <a:ext cx="281160" cy="1292400"/>
            <a:chOff x="3857400" y="5060520"/>
            <a:chExt cx="281160" cy="1292400"/>
          </a:xfrm>
        </p:grpSpPr>
        <p:sp>
          <p:nvSpPr>
            <p:cNvPr id="6044" name=""/>
            <p:cNvSpPr/>
            <p:nvPr/>
          </p:nvSpPr>
          <p:spPr>
            <a:xfrm flipV="1">
              <a:off x="3862440" y="5600160"/>
              <a:ext cx="275760" cy="7527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5" name=""/>
            <p:cNvSpPr/>
            <p:nvPr/>
          </p:nvSpPr>
          <p:spPr>
            <a:xfrm flipH="1" flipV="1">
              <a:off x="3857400" y="5335920"/>
              <a:ext cx="280440" cy="2642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6" name=""/>
            <p:cNvSpPr/>
            <p:nvPr/>
          </p:nvSpPr>
          <p:spPr>
            <a:xfrm flipH="1" flipV="1">
              <a:off x="3862440" y="5861160"/>
              <a:ext cx="275760" cy="2167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7" name=""/>
            <p:cNvSpPr/>
            <p:nvPr/>
          </p:nvSpPr>
          <p:spPr>
            <a:xfrm flipV="1">
              <a:off x="3862440" y="5064840"/>
              <a:ext cx="275760" cy="7981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8" name=""/>
            <p:cNvSpPr/>
            <p:nvPr/>
          </p:nvSpPr>
          <p:spPr>
            <a:xfrm flipV="1">
              <a:off x="3857760" y="5060520"/>
              <a:ext cx="270720" cy="2703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9" name=""/>
            <p:cNvSpPr/>
            <p:nvPr/>
          </p:nvSpPr>
          <p:spPr>
            <a:xfrm>
              <a:off x="3862800" y="5336280"/>
              <a:ext cx="0" cy="10126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0" name=""/>
            <p:cNvSpPr/>
            <p:nvPr/>
          </p:nvSpPr>
          <p:spPr>
            <a:xfrm flipV="1">
              <a:off x="3862800" y="5596200"/>
              <a:ext cx="270720" cy="2703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1" name=""/>
            <p:cNvSpPr/>
            <p:nvPr/>
          </p:nvSpPr>
          <p:spPr>
            <a:xfrm>
              <a:off x="4138560" y="5070600"/>
              <a:ext cx="0" cy="10126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2" name=""/>
          <p:cNvGrpSpPr/>
          <p:nvPr/>
        </p:nvGrpSpPr>
        <p:grpSpPr>
          <a:xfrm>
            <a:off x="3862440" y="3976560"/>
            <a:ext cx="1650960" cy="2371320"/>
            <a:chOff x="3862440" y="3976560"/>
            <a:chExt cx="1650960" cy="2371320"/>
          </a:xfrm>
        </p:grpSpPr>
        <p:sp>
          <p:nvSpPr>
            <p:cNvPr id="6053" name=""/>
            <p:cNvSpPr/>
            <p:nvPr/>
          </p:nvSpPr>
          <p:spPr>
            <a:xfrm flipV="1">
              <a:off x="3862440" y="3976560"/>
              <a:ext cx="1650960" cy="16516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4" name=""/>
            <p:cNvSpPr/>
            <p:nvPr/>
          </p:nvSpPr>
          <p:spPr>
            <a:xfrm flipV="1">
              <a:off x="3862440" y="4229640"/>
              <a:ext cx="1650960" cy="16516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5" name=""/>
            <p:cNvSpPr/>
            <p:nvPr/>
          </p:nvSpPr>
          <p:spPr>
            <a:xfrm flipV="1">
              <a:off x="3862440" y="4454280"/>
              <a:ext cx="1650960" cy="16516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6" name=""/>
            <p:cNvSpPr/>
            <p:nvPr/>
          </p:nvSpPr>
          <p:spPr>
            <a:xfrm flipV="1">
              <a:off x="3862440" y="4696200"/>
              <a:ext cx="1650960" cy="16516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57" name=""/>
          <p:cNvSpPr/>
          <p:nvPr/>
        </p:nvSpPr>
        <p:spPr>
          <a:xfrm>
            <a:off x="5526000" y="3692520"/>
            <a:ext cx="291960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8" name=""/>
          <p:cNvSpPr/>
          <p:nvPr/>
        </p:nvSpPr>
        <p:spPr>
          <a:xfrm>
            <a:off x="5518080" y="3983040"/>
            <a:ext cx="291960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9" name=""/>
          <p:cNvSpPr/>
          <p:nvPr/>
        </p:nvSpPr>
        <p:spPr>
          <a:xfrm>
            <a:off x="5506920" y="4460760"/>
            <a:ext cx="293364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0" name=""/>
          <p:cNvSpPr/>
          <p:nvPr/>
        </p:nvSpPr>
        <p:spPr>
          <a:xfrm>
            <a:off x="5519880" y="4222800"/>
            <a:ext cx="292068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1" name=""/>
          <p:cNvSpPr/>
          <p:nvPr/>
        </p:nvSpPr>
        <p:spPr>
          <a:xfrm>
            <a:off x="5495760" y="4687920"/>
            <a:ext cx="291960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2" name=""/>
          <p:cNvSpPr/>
          <p:nvPr/>
        </p:nvSpPr>
        <p:spPr>
          <a:xfrm>
            <a:off x="7966080" y="3603600"/>
            <a:ext cx="0" cy="10796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3" name=""/>
          <p:cNvSpPr/>
          <p:nvPr/>
        </p:nvSpPr>
        <p:spPr>
          <a:xfrm>
            <a:off x="8432640" y="3684600"/>
            <a:ext cx="0" cy="9986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4" name=""/>
          <p:cNvSpPr/>
          <p:nvPr/>
        </p:nvSpPr>
        <p:spPr>
          <a:xfrm>
            <a:off x="7478640" y="3540240"/>
            <a:ext cx="0" cy="11430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5" name=""/>
          <p:cNvSpPr/>
          <p:nvPr/>
        </p:nvSpPr>
        <p:spPr>
          <a:xfrm>
            <a:off x="6973920" y="3451320"/>
            <a:ext cx="0" cy="123192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6" name=""/>
          <p:cNvSpPr/>
          <p:nvPr/>
        </p:nvSpPr>
        <p:spPr>
          <a:xfrm>
            <a:off x="6467400" y="3529080"/>
            <a:ext cx="0" cy="115416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7" name=""/>
          <p:cNvSpPr/>
          <p:nvPr/>
        </p:nvSpPr>
        <p:spPr>
          <a:xfrm>
            <a:off x="5513400" y="3679920"/>
            <a:ext cx="0" cy="100332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8" name=""/>
          <p:cNvSpPr/>
          <p:nvPr/>
        </p:nvSpPr>
        <p:spPr>
          <a:xfrm>
            <a:off x="6002280" y="3611520"/>
            <a:ext cx="0" cy="107172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69" name=""/>
          <p:cNvGrpSpPr/>
          <p:nvPr/>
        </p:nvGrpSpPr>
        <p:grpSpPr>
          <a:xfrm>
            <a:off x="4062240" y="5022720"/>
            <a:ext cx="1235160" cy="1219320"/>
            <a:chOff x="4062240" y="5022720"/>
            <a:chExt cx="1235160" cy="1219320"/>
          </a:xfrm>
        </p:grpSpPr>
        <p:sp>
          <p:nvSpPr>
            <p:cNvPr id="6070" name=""/>
            <p:cNvSpPr/>
            <p:nvPr/>
          </p:nvSpPr>
          <p:spPr>
            <a:xfrm>
              <a:off x="5162040" y="5022720"/>
              <a:ext cx="135360" cy="13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1" name=""/>
            <p:cNvSpPr/>
            <p:nvPr/>
          </p:nvSpPr>
          <p:spPr>
            <a:xfrm>
              <a:off x="4880880" y="5278680"/>
              <a:ext cx="135360" cy="13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2" name=""/>
            <p:cNvSpPr/>
            <p:nvPr/>
          </p:nvSpPr>
          <p:spPr>
            <a:xfrm>
              <a:off x="4612320" y="5543640"/>
              <a:ext cx="135360" cy="135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3" name=""/>
            <p:cNvSpPr/>
            <p:nvPr/>
          </p:nvSpPr>
          <p:spPr>
            <a:xfrm>
              <a:off x="4334760" y="5819760"/>
              <a:ext cx="136080" cy="135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4" name=""/>
            <p:cNvSpPr/>
            <p:nvPr/>
          </p:nvSpPr>
          <p:spPr>
            <a:xfrm>
              <a:off x="4062240" y="6106680"/>
              <a:ext cx="135360" cy="135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75" name=""/>
          <p:cNvGrpSpPr/>
          <p:nvPr/>
        </p:nvGrpSpPr>
        <p:grpSpPr>
          <a:xfrm>
            <a:off x="6993000" y="5000760"/>
            <a:ext cx="1216080" cy="1233360"/>
            <a:chOff x="6993000" y="5000760"/>
            <a:chExt cx="1216080" cy="1233360"/>
          </a:xfrm>
        </p:grpSpPr>
        <p:sp>
          <p:nvSpPr>
            <p:cNvPr id="6076" name=""/>
            <p:cNvSpPr/>
            <p:nvPr/>
          </p:nvSpPr>
          <p:spPr>
            <a:xfrm>
              <a:off x="8073720" y="5000760"/>
              <a:ext cx="135360" cy="135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7" name=""/>
            <p:cNvSpPr/>
            <p:nvPr/>
          </p:nvSpPr>
          <p:spPr>
            <a:xfrm>
              <a:off x="7802280" y="5270040"/>
              <a:ext cx="135720" cy="13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8" name=""/>
            <p:cNvSpPr/>
            <p:nvPr/>
          </p:nvSpPr>
          <p:spPr>
            <a:xfrm>
              <a:off x="7533360" y="5535360"/>
              <a:ext cx="135360" cy="135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9" name=""/>
            <p:cNvSpPr/>
            <p:nvPr/>
          </p:nvSpPr>
          <p:spPr>
            <a:xfrm>
              <a:off x="7249320" y="5811120"/>
              <a:ext cx="138960" cy="135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0" name=""/>
            <p:cNvSpPr/>
            <p:nvPr/>
          </p:nvSpPr>
          <p:spPr>
            <a:xfrm>
              <a:off x="6993000" y="6098400"/>
              <a:ext cx="135360" cy="135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81" name=""/>
          <p:cNvGrpSpPr/>
          <p:nvPr/>
        </p:nvGrpSpPr>
        <p:grpSpPr>
          <a:xfrm>
            <a:off x="5423040" y="4710240"/>
            <a:ext cx="3063240" cy="139680"/>
            <a:chOff x="5423040" y="4710240"/>
            <a:chExt cx="3063240" cy="139680"/>
          </a:xfrm>
        </p:grpSpPr>
        <p:sp>
          <p:nvSpPr>
            <p:cNvPr id="6082" name=""/>
            <p:cNvSpPr/>
            <p:nvPr/>
          </p:nvSpPr>
          <p:spPr>
            <a:xfrm>
              <a:off x="8350920" y="4713840"/>
              <a:ext cx="135360" cy="13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3" name=""/>
            <p:cNvSpPr/>
            <p:nvPr/>
          </p:nvSpPr>
          <p:spPr>
            <a:xfrm>
              <a:off x="5423040" y="4710240"/>
              <a:ext cx="135720" cy="13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4" name=""/>
            <p:cNvSpPr/>
            <p:nvPr/>
          </p:nvSpPr>
          <p:spPr>
            <a:xfrm>
              <a:off x="7394400" y="4710240"/>
              <a:ext cx="135720" cy="13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5" name=""/>
            <p:cNvSpPr/>
            <p:nvPr/>
          </p:nvSpPr>
          <p:spPr>
            <a:xfrm>
              <a:off x="5918400" y="4710600"/>
              <a:ext cx="135360" cy="13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6" name=""/>
            <p:cNvSpPr/>
            <p:nvPr/>
          </p:nvSpPr>
          <p:spPr>
            <a:xfrm>
              <a:off x="6377040" y="4710600"/>
              <a:ext cx="135360" cy="13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7" name=""/>
            <p:cNvSpPr/>
            <p:nvPr/>
          </p:nvSpPr>
          <p:spPr>
            <a:xfrm>
              <a:off x="6865200" y="4710600"/>
              <a:ext cx="135360" cy="13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8" name=""/>
            <p:cNvSpPr/>
            <p:nvPr/>
          </p:nvSpPr>
          <p:spPr>
            <a:xfrm>
              <a:off x="7884360" y="4710600"/>
              <a:ext cx="135360" cy="13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89" name=""/>
          <p:cNvGrpSpPr/>
          <p:nvPr/>
        </p:nvGrpSpPr>
        <p:grpSpPr>
          <a:xfrm>
            <a:off x="3778200" y="6373800"/>
            <a:ext cx="3057120" cy="136440"/>
            <a:chOff x="3778200" y="6373800"/>
            <a:chExt cx="3057120" cy="136440"/>
          </a:xfrm>
        </p:grpSpPr>
        <p:sp>
          <p:nvSpPr>
            <p:cNvPr id="6090" name=""/>
            <p:cNvSpPr/>
            <p:nvPr/>
          </p:nvSpPr>
          <p:spPr>
            <a:xfrm>
              <a:off x="6699600" y="6373800"/>
              <a:ext cx="135720" cy="13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1" name=""/>
            <p:cNvSpPr/>
            <p:nvPr/>
          </p:nvSpPr>
          <p:spPr>
            <a:xfrm>
              <a:off x="3778200" y="6373800"/>
              <a:ext cx="135360" cy="13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2" name=""/>
            <p:cNvSpPr/>
            <p:nvPr/>
          </p:nvSpPr>
          <p:spPr>
            <a:xfrm>
              <a:off x="4269600" y="6373800"/>
              <a:ext cx="135360" cy="13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3" name=""/>
            <p:cNvSpPr/>
            <p:nvPr/>
          </p:nvSpPr>
          <p:spPr>
            <a:xfrm>
              <a:off x="4738320" y="6373800"/>
              <a:ext cx="135360" cy="13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4" name=""/>
            <p:cNvSpPr/>
            <p:nvPr/>
          </p:nvSpPr>
          <p:spPr>
            <a:xfrm>
              <a:off x="5754240" y="6373800"/>
              <a:ext cx="135360" cy="13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5" name=""/>
            <p:cNvSpPr/>
            <p:nvPr/>
          </p:nvSpPr>
          <p:spPr>
            <a:xfrm>
              <a:off x="6222960" y="6373800"/>
              <a:ext cx="135360" cy="13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96" name=""/>
          <p:cNvSpPr/>
          <p:nvPr/>
        </p:nvSpPr>
        <p:spPr>
          <a:xfrm>
            <a:off x="3860640" y="4280040"/>
            <a:ext cx="3746520" cy="1047600"/>
          </a:xfrm>
          <a:custGeom>
            <a:avLst/>
            <a:gdLst/>
            <a:ahLst/>
            <a:rect l="l" t="t" r="r" b="b"/>
            <a:pathLst>
              <a:path w="2360" h="660">
                <a:moveTo>
                  <a:pt x="0" y="656"/>
                </a:moveTo>
                <a:lnTo>
                  <a:pt x="516" y="144"/>
                </a:lnTo>
                <a:lnTo>
                  <a:pt x="1440" y="0"/>
                </a:lnTo>
                <a:lnTo>
                  <a:pt x="2360" y="144"/>
                </a:lnTo>
                <a:lnTo>
                  <a:pt x="1832" y="660"/>
                </a:lnTo>
                <a:lnTo>
                  <a:pt x="924" y="524"/>
                </a:lnTo>
                <a:lnTo>
                  <a:pt x="0" y="656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7" name=""/>
          <p:cNvSpPr/>
          <p:nvPr/>
        </p:nvSpPr>
        <p:spPr>
          <a:xfrm>
            <a:off x="5835600" y="6350040"/>
            <a:ext cx="95112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8" name=""/>
          <p:cNvSpPr/>
          <p:nvPr/>
        </p:nvSpPr>
        <p:spPr>
          <a:xfrm>
            <a:off x="3875040" y="5338800"/>
            <a:ext cx="291960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9" name=""/>
          <p:cNvSpPr/>
          <p:nvPr/>
        </p:nvSpPr>
        <p:spPr>
          <a:xfrm>
            <a:off x="3867120" y="5629320"/>
            <a:ext cx="291960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0" name=""/>
          <p:cNvSpPr/>
          <p:nvPr/>
        </p:nvSpPr>
        <p:spPr>
          <a:xfrm>
            <a:off x="5830920" y="6107040"/>
            <a:ext cx="95868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1" name=""/>
          <p:cNvSpPr/>
          <p:nvPr/>
        </p:nvSpPr>
        <p:spPr>
          <a:xfrm>
            <a:off x="3859200" y="5869080"/>
            <a:ext cx="96192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2" name=""/>
          <p:cNvSpPr/>
          <p:nvPr/>
        </p:nvSpPr>
        <p:spPr>
          <a:xfrm>
            <a:off x="5830920" y="5869080"/>
            <a:ext cx="95868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3" name=""/>
          <p:cNvSpPr/>
          <p:nvPr/>
        </p:nvSpPr>
        <p:spPr>
          <a:xfrm>
            <a:off x="3867120" y="6107040"/>
            <a:ext cx="96192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4" name=""/>
          <p:cNvSpPr/>
          <p:nvPr/>
        </p:nvSpPr>
        <p:spPr>
          <a:xfrm>
            <a:off x="3867120" y="6343560"/>
            <a:ext cx="95112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5" name=""/>
          <p:cNvSpPr/>
          <p:nvPr/>
        </p:nvSpPr>
        <p:spPr>
          <a:xfrm>
            <a:off x="5327640" y="5122800"/>
            <a:ext cx="0" cy="50472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6" name=""/>
          <p:cNvSpPr/>
          <p:nvPr/>
        </p:nvSpPr>
        <p:spPr>
          <a:xfrm>
            <a:off x="6319800" y="5261040"/>
            <a:ext cx="0" cy="108432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7" name=""/>
          <p:cNvSpPr/>
          <p:nvPr/>
        </p:nvSpPr>
        <p:spPr>
          <a:xfrm>
            <a:off x="6786720" y="5337000"/>
            <a:ext cx="0" cy="9986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8" name=""/>
          <p:cNvSpPr/>
          <p:nvPr/>
        </p:nvSpPr>
        <p:spPr>
          <a:xfrm>
            <a:off x="5832360" y="5192640"/>
            <a:ext cx="0" cy="114768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9" name=""/>
          <p:cNvSpPr/>
          <p:nvPr/>
        </p:nvSpPr>
        <p:spPr>
          <a:xfrm>
            <a:off x="4821120" y="5186520"/>
            <a:ext cx="0" cy="11538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0" name=""/>
          <p:cNvSpPr/>
          <p:nvPr/>
        </p:nvSpPr>
        <p:spPr>
          <a:xfrm flipH="1">
            <a:off x="3855600" y="5332320"/>
            <a:ext cx="9720" cy="10130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1" name=""/>
          <p:cNvSpPr/>
          <p:nvPr/>
        </p:nvSpPr>
        <p:spPr>
          <a:xfrm>
            <a:off x="4354560" y="5268960"/>
            <a:ext cx="0" cy="107136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2" name=""/>
          <p:cNvGrpSpPr/>
          <p:nvPr/>
        </p:nvGrpSpPr>
        <p:grpSpPr>
          <a:xfrm>
            <a:off x="5244840" y="3454200"/>
            <a:ext cx="3195360" cy="501840"/>
            <a:chOff x="5244840" y="3454200"/>
            <a:chExt cx="3195360" cy="501840"/>
          </a:xfrm>
        </p:grpSpPr>
        <p:sp>
          <p:nvSpPr>
            <p:cNvPr id="6113" name=""/>
            <p:cNvSpPr/>
            <p:nvPr/>
          </p:nvSpPr>
          <p:spPr>
            <a:xfrm flipH="1" flipV="1">
              <a:off x="6980400" y="3457080"/>
              <a:ext cx="248400" cy="350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4" name=""/>
            <p:cNvSpPr/>
            <p:nvPr/>
          </p:nvSpPr>
          <p:spPr>
            <a:xfrm flipH="1">
              <a:off x="6189480" y="3457440"/>
              <a:ext cx="790560" cy="350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5" name=""/>
            <p:cNvSpPr/>
            <p:nvPr/>
          </p:nvSpPr>
          <p:spPr>
            <a:xfrm flipH="1" flipV="1">
              <a:off x="7940520" y="3591000"/>
              <a:ext cx="224280" cy="364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6" name=""/>
            <p:cNvSpPr/>
            <p:nvPr/>
          </p:nvSpPr>
          <p:spPr>
            <a:xfrm flipV="1">
              <a:off x="7696800" y="3679560"/>
              <a:ext cx="743400" cy="207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7" name=""/>
            <p:cNvSpPr/>
            <p:nvPr/>
          </p:nvSpPr>
          <p:spPr>
            <a:xfrm flipH="1" flipV="1">
              <a:off x="7470720" y="3539520"/>
              <a:ext cx="226080" cy="347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8" name=""/>
            <p:cNvSpPr/>
            <p:nvPr/>
          </p:nvSpPr>
          <p:spPr>
            <a:xfrm flipH="1">
              <a:off x="7209720" y="3602520"/>
              <a:ext cx="770040" cy="204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9" name=""/>
            <p:cNvSpPr/>
            <p:nvPr/>
          </p:nvSpPr>
          <p:spPr>
            <a:xfrm flipH="1">
              <a:off x="6744960" y="3539520"/>
              <a:ext cx="725760" cy="187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0" name=""/>
            <p:cNvSpPr/>
            <p:nvPr/>
          </p:nvSpPr>
          <p:spPr>
            <a:xfrm flipH="1" flipV="1">
              <a:off x="6465960" y="3523320"/>
              <a:ext cx="278280" cy="203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1" name=""/>
            <p:cNvSpPr/>
            <p:nvPr/>
          </p:nvSpPr>
          <p:spPr>
            <a:xfrm flipH="1" flipV="1">
              <a:off x="6007320" y="3602160"/>
              <a:ext cx="191520" cy="209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2" name=""/>
            <p:cNvSpPr/>
            <p:nvPr/>
          </p:nvSpPr>
          <p:spPr>
            <a:xfrm flipH="1">
              <a:off x="5730480" y="3539520"/>
              <a:ext cx="735480" cy="347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3" name=""/>
            <p:cNvSpPr/>
            <p:nvPr/>
          </p:nvSpPr>
          <p:spPr>
            <a:xfrm flipH="1" flipV="1">
              <a:off x="5520240" y="3679920"/>
              <a:ext cx="213120" cy="197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4" name=""/>
            <p:cNvSpPr/>
            <p:nvPr/>
          </p:nvSpPr>
          <p:spPr>
            <a:xfrm flipH="1">
              <a:off x="5244840" y="3602520"/>
              <a:ext cx="762120" cy="35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5" name=""/>
            <p:cNvSpPr/>
            <p:nvPr/>
          </p:nvSpPr>
          <p:spPr>
            <a:xfrm flipV="1">
              <a:off x="8160840" y="3679560"/>
              <a:ext cx="270360" cy="269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6" name=""/>
            <p:cNvSpPr/>
            <p:nvPr/>
          </p:nvSpPr>
          <p:spPr>
            <a:xfrm flipV="1">
              <a:off x="6725160" y="3454200"/>
              <a:ext cx="270360" cy="269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7" name=""/>
            <p:cNvSpPr/>
            <p:nvPr/>
          </p:nvSpPr>
          <p:spPr>
            <a:xfrm flipV="1">
              <a:off x="7216920" y="3532680"/>
              <a:ext cx="270360" cy="269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8" name=""/>
            <p:cNvSpPr/>
            <p:nvPr/>
          </p:nvSpPr>
          <p:spPr>
            <a:xfrm flipV="1">
              <a:off x="5250240" y="3674880"/>
              <a:ext cx="270360" cy="269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9" name=""/>
            <p:cNvSpPr/>
            <p:nvPr/>
          </p:nvSpPr>
          <p:spPr>
            <a:xfrm flipV="1">
              <a:off x="5742000" y="3601080"/>
              <a:ext cx="270360" cy="269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0" name=""/>
            <p:cNvSpPr/>
            <p:nvPr/>
          </p:nvSpPr>
          <p:spPr>
            <a:xfrm flipV="1">
              <a:off x="6203880" y="3532680"/>
              <a:ext cx="270360" cy="269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1" name=""/>
            <p:cNvSpPr/>
            <p:nvPr/>
          </p:nvSpPr>
          <p:spPr>
            <a:xfrm flipV="1">
              <a:off x="5515560" y="3458880"/>
              <a:ext cx="1469880" cy="220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2" name=""/>
            <p:cNvSpPr/>
            <p:nvPr/>
          </p:nvSpPr>
          <p:spPr>
            <a:xfrm flipV="1">
              <a:off x="5250240" y="3733560"/>
              <a:ext cx="1469880" cy="220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3" name=""/>
            <p:cNvSpPr/>
            <p:nvPr/>
          </p:nvSpPr>
          <p:spPr>
            <a:xfrm>
              <a:off x="6720120" y="3733920"/>
              <a:ext cx="1430280" cy="220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4" name=""/>
            <p:cNvSpPr/>
            <p:nvPr/>
          </p:nvSpPr>
          <p:spPr>
            <a:xfrm>
              <a:off x="6990480" y="3459240"/>
              <a:ext cx="1430640" cy="220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5" name=""/>
            <p:cNvSpPr/>
            <p:nvPr/>
          </p:nvSpPr>
          <p:spPr>
            <a:xfrm flipV="1">
              <a:off x="7683840" y="3615840"/>
              <a:ext cx="270360" cy="269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36" name=""/>
          <p:cNvGrpSpPr/>
          <p:nvPr/>
        </p:nvGrpSpPr>
        <p:grpSpPr>
          <a:xfrm>
            <a:off x="6777000" y="5051160"/>
            <a:ext cx="281160" cy="1292040"/>
            <a:chOff x="6777000" y="5051160"/>
            <a:chExt cx="281160" cy="1292040"/>
          </a:xfrm>
        </p:grpSpPr>
        <p:sp>
          <p:nvSpPr>
            <p:cNvPr id="6137" name=""/>
            <p:cNvSpPr/>
            <p:nvPr/>
          </p:nvSpPr>
          <p:spPr>
            <a:xfrm flipV="1">
              <a:off x="6781680" y="5590440"/>
              <a:ext cx="276120" cy="7527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8" name=""/>
            <p:cNvSpPr/>
            <p:nvPr/>
          </p:nvSpPr>
          <p:spPr>
            <a:xfrm flipH="1" flipV="1">
              <a:off x="6777000" y="5326200"/>
              <a:ext cx="280800" cy="2642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9" name=""/>
            <p:cNvSpPr/>
            <p:nvPr/>
          </p:nvSpPr>
          <p:spPr>
            <a:xfrm flipH="1" flipV="1">
              <a:off x="6781320" y="5851440"/>
              <a:ext cx="276120" cy="2167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0" name=""/>
            <p:cNvSpPr/>
            <p:nvPr/>
          </p:nvSpPr>
          <p:spPr>
            <a:xfrm flipV="1">
              <a:off x="6781680" y="5055840"/>
              <a:ext cx="276120" cy="7977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1" name=""/>
            <p:cNvSpPr/>
            <p:nvPr/>
          </p:nvSpPr>
          <p:spPr>
            <a:xfrm flipV="1">
              <a:off x="6777000" y="5051160"/>
              <a:ext cx="271080" cy="2703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2" name=""/>
            <p:cNvSpPr/>
            <p:nvPr/>
          </p:nvSpPr>
          <p:spPr>
            <a:xfrm>
              <a:off x="6782040" y="5326560"/>
              <a:ext cx="0" cy="10126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3" name=""/>
            <p:cNvSpPr/>
            <p:nvPr/>
          </p:nvSpPr>
          <p:spPr>
            <a:xfrm flipV="1">
              <a:off x="6782040" y="5586840"/>
              <a:ext cx="271080" cy="2703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4" name=""/>
            <p:cNvSpPr/>
            <p:nvPr/>
          </p:nvSpPr>
          <p:spPr>
            <a:xfrm>
              <a:off x="7058160" y="5061240"/>
              <a:ext cx="0" cy="10126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5" name=""/>
          <p:cNvGrpSpPr/>
          <p:nvPr/>
        </p:nvGrpSpPr>
        <p:grpSpPr>
          <a:xfrm>
            <a:off x="8153280" y="3674880"/>
            <a:ext cx="281160" cy="1292040"/>
            <a:chOff x="8153280" y="3674880"/>
            <a:chExt cx="281160" cy="1292040"/>
          </a:xfrm>
        </p:grpSpPr>
        <p:sp>
          <p:nvSpPr>
            <p:cNvPr id="6146" name=""/>
            <p:cNvSpPr/>
            <p:nvPr/>
          </p:nvSpPr>
          <p:spPr>
            <a:xfrm flipV="1">
              <a:off x="8157960" y="4214160"/>
              <a:ext cx="276120" cy="7527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7" name=""/>
            <p:cNvSpPr/>
            <p:nvPr/>
          </p:nvSpPr>
          <p:spPr>
            <a:xfrm flipH="1" flipV="1">
              <a:off x="8153280" y="3949920"/>
              <a:ext cx="280800" cy="2642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8" name=""/>
            <p:cNvSpPr/>
            <p:nvPr/>
          </p:nvSpPr>
          <p:spPr>
            <a:xfrm flipH="1" flipV="1">
              <a:off x="8157600" y="4475160"/>
              <a:ext cx="276120" cy="2167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9" name=""/>
            <p:cNvSpPr/>
            <p:nvPr/>
          </p:nvSpPr>
          <p:spPr>
            <a:xfrm flipV="1">
              <a:off x="8157960" y="3679560"/>
              <a:ext cx="276120" cy="7977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0" name=""/>
            <p:cNvSpPr/>
            <p:nvPr/>
          </p:nvSpPr>
          <p:spPr>
            <a:xfrm flipV="1">
              <a:off x="8153280" y="3674880"/>
              <a:ext cx="271080" cy="2703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1" name=""/>
            <p:cNvSpPr/>
            <p:nvPr/>
          </p:nvSpPr>
          <p:spPr>
            <a:xfrm>
              <a:off x="8158320" y="3950280"/>
              <a:ext cx="0" cy="10126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2" name=""/>
            <p:cNvSpPr/>
            <p:nvPr/>
          </p:nvSpPr>
          <p:spPr>
            <a:xfrm flipV="1">
              <a:off x="8158320" y="4210560"/>
              <a:ext cx="271080" cy="2703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3" name=""/>
            <p:cNvSpPr/>
            <p:nvPr/>
          </p:nvSpPr>
          <p:spPr>
            <a:xfrm>
              <a:off x="8434440" y="3684960"/>
              <a:ext cx="0" cy="10126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54" name=""/>
          <p:cNvSpPr/>
          <p:nvPr/>
        </p:nvSpPr>
        <p:spPr>
          <a:xfrm flipV="1">
            <a:off x="4137120" y="4832280"/>
            <a:ext cx="1460520" cy="22536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5" name=""/>
          <p:cNvSpPr/>
          <p:nvPr/>
        </p:nvSpPr>
        <p:spPr>
          <a:xfrm flipV="1">
            <a:off x="7058160" y="5057280"/>
            <a:ext cx="0" cy="10112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6" name=""/>
          <p:cNvSpPr/>
          <p:nvPr/>
        </p:nvSpPr>
        <p:spPr>
          <a:xfrm flipH="1" flipV="1">
            <a:off x="5597280" y="4832280"/>
            <a:ext cx="1460520" cy="22536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7" name=""/>
          <p:cNvSpPr/>
          <p:nvPr/>
        </p:nvSpPr>
        <p:spPr>
          <a:xfrm flipV="1">
            <a:off x="4411800" y="4557600"/>
            <a:ext cx="1461960" cy="22392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8" name=""/>
          <p:cNvSpPr/>
          <p:nvPr/>
        </p:nvSpPr>
        <p:spPr>
          <a:xfrm flipV="1">
            <a:off x="7334280" y="4781160"/>
            <a:ext cx="0" cy="10112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9" name=""/>
          <p:cNvSpPr/>
          <p:nvPr/>
        </p:nvSpPr>
        <p:spPr>
          <a:xfrm flipH="1" flipV="1">
            <a:off x="5873400" y="4557600"/>
            <a:ext cx="1460520" cy="22392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0" name=""/>
          <p:cNvSpPr/>
          <p:nvPr/>
        </p:nvSpPr>
        <p:spPr>
          <a:xfrm flipV="1">
            <a:off x="4687920" y="4281480"/>
            <a:ext cx="1460520" cy="22536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1" name=""/>
          <p:cNvSpPr/>
          <p:nvPr/>
        </p:nvSpPr>
        <p:spPr>
          <a:xfrm flipV="1">
            <a:off x="7608960" y="4506480"/>
            <a:ext cx="0" cy="10112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2" name=""/>
          <p:cNvSpPr/>
          <p:nvPr/>
        </p:nvSpPr>
        <p:spPr>
          <a:xfrm flipH="1" flipV="1">
            <a:off x="6148080" y="4281480"/>
            <a:ext cx="1460520" cy="22536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3" name=""/>
          <p:cNvSpPr/>
          <p:nvPr/>
        </p:nvSpPr>
        <p:spPr>
          <a:xfrm flipV="1">
            <a:off x="4962600" y="4006800"/>
            <a:ext cx="1461960" cy="22392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4" name=""/>
          <p:cNvSpPr/>
          <p:nvPr/>
        </p:nvSpPr>
        <p:spPr>
          <a:xfrm flipV="1">
            <a:off x="7885080" y="4230360"/>
            <a:ext cx="0" cy="10112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5" name=""/>
          <p:cNvSpPr/>
          <p:nvPr/>
        </p:nvSpPr>
        <p:spPr>
          <a:xfrm flipH="1" flipV="1">
            <a:off x="6424200" y="4006800"/>
            <a:ext cx="1460520" cy="22392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6" name=""/>
          <p:cNvSpPr/>
          <p:nvPr/>
        </p:nvSpPr>
        <p:spPr>
          <a:xfrm flipV="1">
            <a:off x="5238720" y="3730680"/>
            <a:ext cx="1460520" cy="22536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7" name=""/>
          <p:cNvSpPr/>
          <p:nvPr/>
        </p:nvSpPr>
        <p:spPr>
          <a:xfrm flipV="1">
            <a:off x="8159760" y="3955680"/>
            <a:ext cx="0" cy="10112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8" name=""/>
          <p:cNvSpPr/>
          <p:nvPr/>
        </p:nvSpPr>
        <p:spPr>
          <a:xfrm flipH="1" flipV="1">
            <a:off x="6698880" y="3730680"/>
            <a:ext cx="1460520" cy="22536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69" name=""/>
          <p:cNvGrpSpPr/>
          <p:nvPr/>
        </p:nvGrpSpPr>
        <p:grpSpPr>
          <a:xfrm>
            <a:off x="6781680" y="3960720"/>
            <a:ext cx="1650960" cy="2387160"/>
            <a:chOff x="6781680" y="3960720"/>
            <a:chExt cx="1650960" cy="2387160"/>
          </a:xfrm>
        </p:grpSpPr>
        <p:sp>
          <p:nvSpPr>
            <p:cNvPr id="6170" name=""/>
            <p:cNvSpPr/>
            <p:nvPr/>
          </p:nvSpPr>
          <p:spPr>
            <a:xfrm flipV="1">
              <a:off x="6781680" y="4696200"/>
              <a:ext cx="1650960" cy="16516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1" name=""/>
            <p:cNvSpPr/>
            <p:nvPr/>
          </p:nvSpPr>
          <p:spPr>
            <a:xfrm flipV="1">
              <a:off x="6781680" y="3960720"/>
              <a:ext cx="1650960" cy="16516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2" name=""/>
            <p:cNvSpPr/>
            <p:nvPr/>
          </p:nvSpPr>
          <p:spPr>
            <a:xfrm flipV="1">
              <a:off x="6781680" y="4213800"/>
              <a:ext cx="1650960" cy="16516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3" name=""/>
            <p:cNvSpPr/>
            <p:nvPr/>
          </p:nvSpPr>
          <p:spPr>
            <a:xfrm flipV="1">
              <a:off x="6781680" y="4456080"/>
              <a:ext cx="1650960" cy="16516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74" name=""/>
          <p:cNvSpPr/>
          <p:nvPr/>
        </p:nvSpPr>
        <p:spPr>
          <a:xfrm flipV="1">
            <a:off x="6775560" y="3681360"/>
            <a:ext cx="1655640" cy="165096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5" name=""/>
          <p:cNvSpPr/>
          <p:nvPr/>
        </p:nvSpPr>
        <p:spPr>
          <a:xfrm flipV="1">
            <a:off x="3862440" y="3681360"/>
            <a:ext cx="1650960" cy="165096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6" name=""/>
          <p:cNvSpPr/>
          <p:nvPr/>
        </p:nvSpPr>
        <p:spPr>
          <a:xfrm flipV="1">
            <a:off x="5599080" y="3497400"/>
            <a:ext cx="1655640" cy="16524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7" name=""/>
          <p:cNvSpPr/>
          <p:nvPr/>
        </p:nvSpPr>
        <p:spPr>
          <a:xfrm flipV="1">
            <a:off x="5846760" y="3519000"/>
            <a:ext cx="1657440" cy="165276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8" name=""/>
          <p:cNvSpPr/>
          <p:nvPr/>
        </p:nvSpPr>
        <p:spPr>
          <a:xfrm flipV="1">
            <a:off x="6315120" y="3600000"/>
            <a:ext cx="1657440" cy="165276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9" name=""/>
          <p:cNvSpPr/>
          <p:nvPr/>
        </p:nvSpPr>
        <p:spPr>
          <a:xfrm flipV="1">
            <a:off x="6545160" y="3648240"/>
            <a:ext cx="1656000" cy="16524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0" name=""/>
          <p:cNvSpPr/>
          <p:nvPr/>
        </p:nvSpPr>
        <p:spPr>
          <a:xfrm flipV="1">
            <a:off x="4079880" y="3648240"/>
            <a:ext cx="1633680" cy="16524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1" name=""/>
          <p:cNvSpPr/>
          <p:nvPr/>
        </p:nvSpPr>
        <p:spPr>
          <a:xfrm flipV="1">
            <a:off x="4351320" y="3610080"/>
            <a:ext cx="1635120" cy="16524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2" name=""/>
          <p:cNvSpPr/>
          <p:nvPr/>
        </p:nvSpPr>
        <p:spPr>
          <a:xfrm flipV="1">
            <a:off x="4816440" y="3534840"/>
            <a:ext cx="1635120" cy="165276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3" name=""/>
          <p:cNvSpPr/>
          <p:nvPr/>
        </p:nvSpPr>
        <p:spPr>
          <a:xfrm flipV="1">
            <a:off x="5067360" y="3490560"/>
            <a:ext cx="1641240" cy="165276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4" name=""/>
          <p:cNvSpPr/>
          <p:nvPr/>
        </p:nvSpPr>
        <p:spPr>
          <a:xfrm flipV="1">
            <a:off x="4578480" y="3575160"/>
            <a:ext cx="1633320" cy="165096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5" name=""/>
          <p:cNvSpPr/>
          <p:nvPr/>
        </p:nvSpPr>
        <p:spPr>
          <a:xfrm flipV="1">
            <a:off x="6053040" y="3565440"/>
            <a:ext cx="1657440" cy="166392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6" name=""/>
          <p:cNvSpPr/>
          <p:nvPr/>
        </p:nvSpPr>
        <p:spPr>
          <a:xfrm flipV="1">
            <a:off x="3862440" y="5331960"/>
            <a:ext cx="0" cy="101124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7" name=""/>
          <p:cNvSpPr/>
          <p:nvPr/>
        </p:nvSpPr>
        <p:spPr>
          <a:xfrm flipV="1">
            <a:off x="6781680" y="5331960"/>
            <a:ext cx="0" cy="101124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8" name=""/>
          <p:cNvSpPr/>
          <p:nvPr/>
        </p:nvSpPr>
        <p:spPr>
          <a:xfrm flipV="1">
            <a:off x="5513400" y="3681000"/>
            <a:ext cx="0" cy="101124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9" name=""/>
          <p:cNvSpPr/>
          <p:nvPr/>
        </p:nvSpPr>
        <p:spPr>
          <a:xfrm flipV="1">
            <a:off x="8432640" y="3681000"/>
            <a:ext cx="0" cy="101124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0" name=""/>
          <p:cNvSpPr/>
          <p:nvPr/>
        </p:nvSpPr>
        <p:spPr>
          <a:xfrm flipV="1">
            <a:off x="3862440" y="5108400"/>
            <a:ext cx="1460520" cy="2239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1" name=""/>
          <p:cNvSpPr/>
          <p:nvPr/>
        </p:nvSpPr>
        <p:spPr>
          <a:xfrm flipH="1" flipV="1">
            <a:off x="5322960" y="5108400"/>
            <a:ext cx="1458720" cy="2239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2" name=""/>
          <p:cNvSpPr/>
          <p:nvPr/>
        </p:nvSpPr>
        <p:spPr>
          <a:xfrm flipV="1">
            <a:off x="5513400" y="3456000"/>
            <a:ext cx="1460520" cy="22536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3" name=""/>
          <p:cNvSpPr/>
          <p:nvPr/>
        </p:nvSpPr>
        <p:spPr>
          <a:xfrm flipH="1" flipV="1">
            <a:off x="6973920" y="3456000"/>
            <a:ext cx="1458720" cy="22536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94" name=""/>
          <p:cNvGrpSpPr/>
          <p:nvPr/>
        </p:nvGrpSpPr>
        <p:grpSpPr>
          <a:xfrm>
            <a:off x="3860280" y="4830480"/>
            <a:ext cx="3196080" cy="501840"/>
            <a:chOff x="3860280" y="4830480"/>
            <a:chExt cx="3196080" cy="501840"/>
          </a:xfrm>
        </p:grpSpPr>
        <p:sp>
          <p:nvSpPr>
            <p:cNvPr id="6195" name=""/>
            <p:cNvSpPr/>
            <p:nvPr/>
          </p:nvSpPr>
          <p:spPr>
            <a:xfrm flipH="1" flipV="1">
              <a:off x="5596200" y="4833360"/>
              <a:ext cx="248400" cy="350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6" name=""/>
            <p:cNvSpPr/>
            <p:nvPr/>
          </p:nvSpPr>
          <p:spPr>
            <a:xfrm flipH="1">
              <a:off x="4805280" y="4833720"/>
              <a:ext cx="790560" cy="350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7" name=""/>
            <p:cNvSpPr/>
            <p:nvPr/>
          </p:nvSpPr>
          <p:spPr>
            <a:xfrm flipH="1" flipV="1">
              <a:off x="6556320" y="4967280"/>
              <a:ext cx="224280" cy="364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8" name=""/>
            <p:cNvSpPr/>
            <p:nvPr/>
          </p:nvSpPr>
          <p:spPr>
            <a:xfrm flipV="1">
              <a:off x="6312600" y="5055840"/>
              <a:ext cx="743760" cy="207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9" name=""/>
            <p:cNvSpPr/>
            <p:nvPr/>
          </p:nvSpPr>
          <p:spPr>
            <a:xfrm flipH="1" flipV="1">
              <a:off x="6086520" y="4915800"/>
              <a:ext cx="226080" cy="347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0" name=""/>
            <p:cNvSpPr/>
            <p:nvPr/>
          </p:nvSpPr>
          <p:spPr>
            <a:xfrm flipH="1">
              <a:off x="5825160" y="4978800"/>
              <a:ext cx="770040" cy="204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1" name=""/>
            <p:cNvSpPr/>
            <p:nvPr/>
          </p:nvSpPr>
          <p:spPr>
            <a:xfrm flipH="1">
              <a:off x="5360400" y="4915800"/>
              <a:ext cx="725760" cy="187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2" name=""/>
            <p:cNvSpPr/>
            <p:nvPr/>
          </p:nvSpPr>
          <p:spPr>
            <a:xfrm flipH="1" flipV="1">
              <a:off x="5081400" y="4899600"/>
              <a:ext cx="278280" cy="203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3" name=""/>
            <p:cNvSpPr/>
            <p:nvPr/>
          </p:nvSpPr>
          <p:spPr>
            <a:xfrm flipH="1" flipV="1">
              <a:off x="4622760" y="4978440"/>
              <a:ext cx="191520" cy="209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4" name=""/>
            <p:cNvSpPr/>
            <p:nvPr/>
          </p:nvSpPr>
          <p:spPr>
            <a:xfrm flipH="1">
              <a:off x="4345920" y="4915800"/>
              <a:ext cx="735480" cy="347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5" name=""/>
            <p:cNvSpPr/>
            <p:nvPr/>
          </p:nvSpPr>
          <p:spPr>
            <a:xfrm flipH="1" flipV="1">
              <a:off x="4135680" y="5056200"/>
              <a:ext cx="213120" cy="197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6" name=""/>
            <p:cNvSpPr/>
            <p:nvPr/>
          </p:nvSpPr>
          <p:spPr>
            <a:xfrm flipH="1">
              <a:off x="3860280" y="4978800"/>
              <a:ext cx="762120" cy="35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7" name=""/>
            <p:cNvSpPr/>
            <p:nvPr/>
          </p:nvSpPr>
          <p:spPr>
            <a:xfrm flipV="1">
              <a:off x="6776640" y="5055840"/>
              <a:ext cx="270360" cy="269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8" name=""/>
            <p:cNvSpPr/>
            <p:nvPr/>
          </p:nvSpPr>
          <p:spPr>
            <a:xfrm flipV="1">
              <a:off x="5340600" y="4830480"/>
              <a:ext cx="270360" cy="269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9" name=""/>
            <p:cNvSpPr/>
            <p:nvPr/>
          </p:nvSpPr>
          <p:spPr>
            <a:xfrm flipV="1">
              <a:off x="5832360" y="4908960"/>
              <a:ext cx="270360" cy="269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0" name=""/>
            <p:cNvSpPr/>
            <p:nvPr/>
          </p:nvSpPr>
          <p:spPr>
            <a:xfrm flipV="1">
              <a:off x="3865680" y="5051160"/>
              <a:ext cx="270360" cy="269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1" name=""/>
            <p:cNvSpPr/>
            <p:nvPr/>
          </p:nvSpPr>
          <p:spPr>
            <a:xfrm flipV="1">
              <a:off x="4357440" y="4977360"/>
              <a:ext cx="270360" cy="269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2" name=""/>
            <p:cNvSpPr/>
            <p:nvPr/>
          </p:nvSpPr>
          <p:spPr>
            <a:xfrm flipV="1">
              <a:off x="4819680" y="4908960"/>
              <a:ext cx="270360" cy="269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3" name=""/>
            <p:cNvSpPr/>
            <p:nvPr/>
          </p:nvSpPr>
          <p:spPr>
            <a:xfrm flipV="1">
              <a:off x="4131360" y="4835160"/>
              <a:ext cx="1469880" cy="220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4" name=""/>
            <p:cNvSpPr/>
            <p:nvPr/>
          </p:nvSpPr>
          <p:spPr>
            <a:xfrm flipV="1">
              <a:off x="3865680" y="5109840"/>
              <a:ext cx="1469880" cy="220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5" name=""/>
            <p:cNvSpPr/>
            <p:nvPr/>
          </p:nvSpPr>
          <p:spPr>
            <a:xfrm>
              <a:off x="5335920" y="5110200"/>
              <a:ext cx="1430640" cy="220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6" name=""/>
            <p:cNvSpPr/>
            <p:nvPr/>
          </p:nvSpPr>
          <p:spPr>
            <a:xfrm>
              <a:off x="5606280" y="4835520"/>
              <a:ext cx="1430640" cy="220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7" name=""/>
            <p:cNvSpPr/>
            <p:nvPr/>
          </p:nvSpPr>
          <p:spPr>
            <a:xfrm flipV="1">
              <a:off x="6299640" y="4992120"/>
              <a:ext cx="270360" cy="269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8" name=""/>
          <p:cNvSpPr/>
          <p:nvPr/>
        </p:nvSpPr>
        <p:spPr>
          <a:xfrm flipV="1">
            <a:off x="5326200" y="3463560"/>
            <a:ext cx="1655640" cy="165276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9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0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1" name=""/>
          <p:cNvSpPr/>
          <p:nvPr/>
        </p:nvSpPr>
        <p:spPr>
          <a:xfrm>
            <a:off x="393840" y="571680"/>
            <a:ext cx="8388360" cy="205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Non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ême si les éléments doivent équilibrer leur poids propre et les transmettre aux portiques concernés, ce n’est pas une action déterminante pour la poutre au vent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2" name=""/>
          <p:cNvGrpSpPr/>
          <p:nvPr/>
        </p:nvGrpSpPr>
        <p:grpSpPr>
          <a:xfrm>
            <a:off x="1989000" y="3311640"/>
            <a:ext cx="4708080" cy="3058920"/>
            <a:chOff x="1989000" y="3311640"/>
            <a:chExt cx="4708080" cy="3058920"/>
          </a:xfrm>
        </p:grpSpPr>
        <p:sp>
          <p:nvSpPr>
            <p:cNvPr id="6223" name=""/>
            <p:cNvSpPr/>
            <p:nvPr/>
          </p:nvSpPr>
          <p:spPr>
            <a:xfrm flipV="1">
              <a:off x="3449520" y="3816000"/>
              <a:ext cx="0" cy="10112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4" name=""/>
            <p:cNvSpPr/>
            <p:nvPr/>
          </p:nvSpPr>
          <p:spPr>
            <a:xfrm flipV="1">
              <a:off x="2347920" y="4917600"/>
              <a:ext cx="0" cy="10112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5" name=""/>
            <p:cNvSpPr/>
            <p:nvPr/>
          </p:nvSpPr>
          <p:spPr>
            <a:xfrm flipV="1">
              <a:off x="2622600" y="4641480"/>
              <a:ext cx="0" cy="10112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6" name=""/>
            <p:cNvSpPr/>
            <p:nvPr/>
          </p:nvSpPr>
          <p:spPr>
            <a:xfrm flipV="1">
              <a:off x="2898720" y="4366800"/>
              <a:ext cx="0" cy="10112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7" name=""/>
            <p:cNvSpPr/>
            <p:nvPr/>
          </p:nvSpPr>
          <p:spPr>
            <a:xfrm flipV="1">
              <a:off x="3173400" y="4090680"/>
              <a:ext cx="0" cy="10112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28" name=""/>
            <p:cNvGrpSpPr/>
            <p:nvPr/>
          </p:nvGrpSpPr>
          <p:grpSpPr>
            <a:xfrm>
              <a:off x="3444480" y="3549240"/>
              <a:ext cx="281160" cy="1292400"/>
              <a:chOff x="3444480" y="3549240"/>
              <a:chExt cx="281160" cy="1292400"/>
            </a:xfrm>
          </p:grpSpPr>
          <p:sp>
            <p:nvSpPr>
              <p:cNvPr id="6229" name=""/>
              <p:cNvSpPr/>
              <p:nvPr/>
            </p:nvSpPr>
            <p:spPr>
              <a:xfrm flipV="1">
                <a:off x="3449520" y="4088880"/>
                <a:ext cx="275760" cy="752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0" name=""/>
              <p:cNvSpPr/>
              <p:nvPr/>
            </p:nvSpPr>
            <p:spPr>
              <a:xfrm flipH="1" flipV="1">
                <a:off x="3444480" y="3824640"/>
                <a:ext cx="280440" cy="2642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1" name=""/>
              <p:cNvSpPr/>
              <p:nvPr/>
            </p:nvSpPr>
            <p:spPr>
              <a:xfrm flipH="1" flipV="1">
                <a:off x="3449520" y="4349880"/>
                <a:ext cx="275760" cy="2167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2" name=""/>
              <p:cNvSpPr/>
              <p:nvPr/>
            </p:nvSpPr>
            <p:spPr>
              <a:xfrm flipV="1">
                <a:off x="3449520" y="3553560"/>
                <a:ext cx="275760" cy="798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3" name=""/>
              <p:cNvSpPr/>
              <p:nvPr/>
            </p:nvSpPr>
            <p:spPr>
              <a:xfrm flipV="1">
                <a:off x="3444840" y="3549240"/>
                <a:ext cx="270720" cy="270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4" name=""/>
              <p:cNvSpPr/>
              <p:nvPr/>
            </p:nvSpPr>
            <p:spPr>
              <a:xfrm>
                <a:off x="3449880" y="3825000"/>
                <a:ext cx="0" cy="10126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5" name=""/>
              <p:cNvSpPr/>
              <p:nvPr/>
            </p:nvSpPr>
            <p:spPr>
              <a:xfrm flipV="1">
                <a:off x="3449880" y="4084920"/>
                <a:ext cx="270720" cy="270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6" name=""/>
              <p:cNvSpPr/>
              <p:nvPr/>
            </p:nvSpPr>
            <p:spPr>
              <a:xfrm>
                <a:off x="3725640" y="3559320"/>
                <a:ext cx="0" cy="10126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37" name=""/>
            <p:cNvGrpSpPr/>
            <p:nvPr/>
          </p:nvGrpSpPr>
          <p:grpSpPr>
            <a:xfrm>
              <a:off x="2068200" y="4920840"/>
              <a:ext cx="281160" cy="1292400"/>
              <a:chOff x="2068200" y="4920840"/>
              <a:chExt cx="281160" cy="1292400"/>
            </a:xfrm>
          </p:grpSpPr>
          <p:sp>
            <p:nvSpPr>
              <p:cNvPr id="6238" name=""/>
              <p:cNvSpPr/>
              <p:nvPr/>
            </p:nvSpPr>
            <p:spPr>
              <a:xfrm flipV="1">
                <a:off x="2073240" y="5460480"/>
                <a:ext cx="275760" cy="752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9" name=""/>
              <p:cNvSpPr/>
              <p:nvPr/>
            </p:nvSpPr>
            <p:spPr>
              <a:xfrm flipH="1" flipV="1">
                <a:off x="2068200" y="5196240"/>
                <a:ext cx="280440" cy="2642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0" name=""/>
              <p:cNvSpPr/>
              <p:nvPr/>
            </p:nvSpPr>
            <p:spPr>
              <a:xfrm flipH="1" flipV="1">
                <a:off x="2073240" y="5721480"/>
                <a:ext cx="275760" cy="2167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1" name=""/>
              <p:cNvSpPr/>
              <p:nvPr/>
            </p:nvSpPr>
            <p:spPr>
              <a:xfrm flipV="1">
                <a:off x="2073240" y="4925160"/>
                <a:ext cx="275760" cy="798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2" name=""/>
              <p:cNvSpPr/>
              <p:nvPr/>
            </p:nvSpPr>
            <p:spPr>
              <a:xfrm flipV="1">
                <a:off x="2068560" y="4920840"/>
                <a:ext cx="270720" cy="270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3" name=""/>
              <p:cNvSpPr/>
              <p:nvPr/>
            </p:nvSpPr>
            <p:spPr>
              <a:xfrm>
                <a:off x="2073600" y="5196600"/>
                <a:ext cx="0" cy="10126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4" name=""/>
              <p:cNvSpPr/>
              <p:nvPr/>
            </p:nvSpPr>
            <p:spPr>
              <a:xfrm flipV="1">
                <a:off x="2073600" y="5456520"/>
                <a:ext cx="270720" cy="270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5" name=""/>
              <p:cNvSpPr/>
              <p:nvPr/>
            </p:nvSpPr>
            <p:spPr>
              <a:xfrm>
                <a:off x="2349360" y="4930920"/>
                <a:ext cx="0" cy="10126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46" name=""/>
            <p:cNvGrpSpPr/>
            <p:nvPr/>
          </p:nvGrpSpPr>
          <p:grpSpPr>
            <a:xfrm>
              <a:off x="2073240" y="3836880"/>
              <a:ext cx="1650960" cy="2371320"/>
              <a:chOff x="2073240" y="3836880"/>
              <a:chExt cx="1650960" cy="2371320"/>
            </a:xfrm>
          </p:grpSpPr>
          <p:sp>
            <p:nvSpPr>
              <p:cNvPr id="6247" name=""/>
              <p:cNvSpPr/>
              <p:nvPr/>
            </p:nvSpPr>
            <p:spPr>
              <a:xfrm flipV="1">
                <a:off x="2073240" y="3836880"/>
                <a:ext cx="1650960" cy="16516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8" name=""/>
              <p:cNvSpPr/>
              <p:nvPr/>
            </p:nvSpPr>
            <p:spPr>
              <a:xfrm flipV="1">
                <a:off x="2073240" y="4089960"/>
                <a:ext cx="1650960" cy="16516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9" name=""/>
              <p:cNvSpPr/>
              <p:nvPr/>
            </p:nvSpPr>
            <p:spPr>
              <a:xfrm flipV="1">
                <a:off x="2073240" y="4314600"/>
                <a:ext cx="1650960" cy="16516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0" name=""/>
              <p:cNvSpPr/>
              <p:nvPr/>
            </p:nvSpPr>
            <p:spPr>
              <a:xfrm flipV="1">
                <a:off x="2073240" y="4556520"/>
                <a:ext cx="1650960" cy="16516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51" name=""/>
            <p:cNvSpPr/>
            <p:nvPr/>
          </p:nvSpPr>
          <p:spPr>
            <a:xfrm>
              <a:off x="3736800" y="3552840"/>
              <a:ext cx="291960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2" name=""/>
            <p:cNvSpPr/>
            <p:nvPr/>
          </p:nvSpPr>
          <p:spPr>
            <a:xfrm>
              <a:off x="3728880" y="3843360"/>
              <a:ext cx="291960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3" name=""/>
            <p:cNvSpPr/>
            <p:nvPr/>
          </p:nvSpPr>
          <p:spPr>
            <a:xfrm>
              <a:off x="3717720" y="4321080"/>
              <a:ext cx="293364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4" name=""/>
            <p:cNvSpPr/>
            <p:nvPr/>
          </p:nvSpPr>
          <p:spPr>
            <a:xfrm>
              <a:off x="3730680" y="4083120"/>
              <a:ext cx="292068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5" name=""/>
            <p:cNvSpPr/>
            <p:nvPr/>
          </p:nvSpPr>
          <p:spPr>
            <a:xfrm>
              <a:off x="3706560" y="4548240"/>
              <a:ext cx="291960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6" name=""/>
            <p:cNvSpPr/>
            <p:nvPr/>
          </p:nvSpPr>
          <p:spPr>
            <a:xfrm>
              <a:off x="6176880" y="3463920"/>
              <a:ext cx="0" cy="10796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7" name=""/>
            <p:cNvSpPr/>
            <p:nvPr/>
          </p:nvSpPr>
          <p:spPr>
            <a:xfrm>
              <a:off x="6643440" y="3544920"/>
              <a:ext cx="0" cy="9986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8" name=""/>
            <p:cNvSpPr/>
            <p:nvPr/>
          </p:nvSpPr>
          <p:spPr>
            <a:xfrm>
              <a:off x="5689440" y="3400560"/>
              <a:ext cx="0" cy="11430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9" name=""/>
            <p:cNvSpPr/>
            <p:nvPr/>
          </p:nvSpPr>
          <p:spPr>
            <a:xfrm>
              <a:off x="5184720" y="3311640"/>
              <a:ext cx="0" cy="12319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0" name=""/>
            <p:cNvSpPr/>
            <p:nvPr/>
          </p:nvSpPr>
          <p:spPr>
            <a:xfrm>
              <a:off x="4678200" y="3389400"/>
              <a:ext cx="0" cy="11541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1" name=""/>
            <p:cNvSpPr/>
            <p:nvPr/>
          </p:nvSpPr>
          <p:spPr>
            <a:xfrm>
              <a:off x="3724200" y="3540240"/>
              <a:ext cx="0" cy="10033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2" name=""/>
            <p:cNvSpPr/>
            <p:nvPr/>
          </p:nvSpPr>
          <p:spPr>
            <a:xfrm>
              <a:off x="4213080" y="3471840"/>
              <a:ext cx="0" cy="10717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63" name=""/>
            <p:cNvGrpSpPr/>
            <p:nvPr/>
          </p:nvGrpSpPr>
          <p:grpSpPr>
            <a:xfrm>
              <a:off x="2273040" y="4883040"/>
              <a:ext cx="1235160" cy="1219320"/>
              <a:chOff x="2273040" y="4883040"/>
              <a:chExt cx="1235160" cy="1219320"/>
            </a:xfrm>
          </p:grpSpPr>
          <p:sp>
            <p:nvSpPr>
              <p:cNvPr id="6264" name=""/>
              <p:cNvSpPr/>
              <p:nvPr/>
            </p:nvSpPr>
            <p:spPr>
              <a:xfrm>
                <a:off x="3372840" y="4883040"/>
                <a:ext cx="135360" cy="135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5" name=""/>
              <p:cNvSpPr/>
              <p:nvPr/>
            </p:nvSpPr>
            <p:spPr>
              <a:xfrm>
                <a:off x="3091680" y="5139000"/>
                <a:ext cx="135360" cy="13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6" name=""/>
              <p:cNvSpPr/>
              <p:nvPr/>
            </p:nvSpPr>
            <p:spPr>
              <a:xfrm>
                <a:off x="2823120" y="5403960"/>
                <a:ext cx="135360" cy="135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7" name=""/>
              <p:cNvSpPr/>
              <p:nvPr/>
            </p:nvSpPr>
            <p:spPr>
              <a:xfrm>
                <a:off x="2545560" y="5680080"/>
                <a:ext cx="136080" cy="135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8" name=""/>
              <p:cNvSpPr/>
              <p:nvPr/>
            </p:nvSpPr>
            <p:spPr>
              <a:xfrm>
                <a:off x="2273040" y="5967000"/>
                <a:ext cx="135360" cy="135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69" name=""/>
            <p:cNvGrpSpPr/>
            <p:nvPr/>
          </p:nvGrpSpPr>
          <p:grpSpPr>
            <a:xfrm>
              <a:off x="5203800" y="4861080"/>
              <a:ext cx="1216080" cy="1233360"/>
              <a:chOff x="5203800" y="4861080"/>
              <a:chExt cx="1216080" cy="1233360"/>
            </a:xfrm>
          </p:grpSpPr>
          <p:sp>
            <p:nvSpPr>
              <p:cNvPr id="6270" name=""/>
              <p:cNvSpPr/>
              <p:nvPr/>
            </p:nvSpPr>
            <p:spPr>
              <a:xfrm>
                <a:off x="6284520" y="4861080"/>
                <a:ext cx="135360" cy="135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1" name=""/>
              <p:cNvSpPr/>
              <p:nvPr/>
            </p:nvSpPr>
            <p:spPr>
              <a:xfrm>
                <a:off x="6013080" y="5130360"/>
                <a:ext cx="135720" cy="136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2" name=""/>
              <p:cNvSpPr/>
              <p:nvPr/>
            </p:nvSpPr>
            <p:spPr>
              <a:xfrm>
                <a:off x="5744160" y="5395680"/>
                <a:ext cx="135360" cy="135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3" name=""/>
              <p:cNvSpPr/>
              <p:nvPr/>
            </p:nvSpPr>
            <p:spPr>
              <a:xfrm>
                <a:off x="5460120" y="5671440"/>
                <a:ext cx="138960" cy="13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4" name=""/>
              <p:cNvSpPr/>
              <p:nvPr/>
            </p:nvSpPr>
            <p:spPr>
              <a:xfrm>
                <a:off x="5203800" y="5958720"/>
                <a:ext cx="135360" cy="13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75" name=""/>
            <p:cNvGrpSpPr/>
            <p:nvPr/>
          </p:nvGrpSpPr>
          <p:grpSpPr>
            <a:xfrm>
              <a:off x="3633840" y="4570560"/>
              <a:ext cx="3063240" cy="139680"/>
              <a:chOff x="3633840" y="4570560"/>
              <a:chExt cx="3063240" cy="139680"/>
            </a:xfrm>
          </p:grpSpPr>
          <p:sp>
            <p:nvSpPr>
              <p:cNvPr id="6276" name=""/>
              <p:cNvSpPr/>
              <p:nvPr/>
            </p:nvSpPr>
            <p:spPr>
              <a:xfrm>
                <a:off x="6561720" y="4574160"/>
                <a:ext cx="135360" cy="136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7" name=""/>
              <p:cNvSpPr/>
              <p:nvPr/>
            </p:nvSpPr>
            <p:spPr>
              <a:xfrm>
                <a:off x="3633840" y="4570560"/>
                <a:ext cx="135720" cy="13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8" name=""/>
              <p:cNvSpPr/>
              <p:nvPr/>
            </p:nvSpPr>
            <p:spPr>
              <a:xfrm>
                <a:off x="5605200" y="4570560"/>
                <a:ext cx="135720" cy="13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9" name=""/>
              <p:cNvSpPr/>
              <p:nvPr/>
            </p:nvSpPr>
            <p:spPr>
              <a:xfrm>
                <a:off x="4129200" y="4570920"/>
                <a:ext cx="135360" cy="136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0" name=""/>
              <p:cNvSpPr/>
              <p:nvPr/>
            </p:nvSpPr>
            <p:spPr>
              <a:xfrm>
                <a:off x="4587840" y="4570920"/>
                <a:ext cx="135360" cy="136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1" name=""/>
              <p:cNvSpPr/>
              <p:nvPr/>
            </p:nvSpPr>
            <p:spPr>
              <a:xfrm>
                <a:off x="5076000" y="4570920"/>
                <a:ext cx="135360" cy="136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2" name=""/>
              <p:cNvSpPr/>
              <p:nvPr/>
            </p:nvSpPr>
            <p:spPr>
              <a:xfrm>
                <a:off x="6095160" y="4570920"/>
                <a:ext cx="135360" cy="136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3" name=""/>
            <p:cNvGrpSpPr/>
            <p:nvPr/>
          </p:nvGrpSpPr>
          <p:grpSpPr>
            <a:xfrm>
              <a:off x="1989000" y="6234120"/>
              <a:ext cx="3057120" cy="136440"/>
              <a:chOff x="1989000" y="6234120"/>
              <a:chExt cx="3057120" cy="136440"/>
            </a:xfrm>
          </p:grpSpPr>
          <p:sp>
            <p:nvSpPr>
              <p:cNvPr id="6284" name=""/>
              <p:cNvSpPr/>
              <p:nvPr/>
            </p:nvSpPr>
            <p:spPr>
              <a:xfrm>
                <a:off x="4910400" y="6234120"/>
                <a:ext cx="135720" cy="13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5" name=""/>
              <p:cNvSpPr/>
              <p:nvPr/>
            </p:nvSpPr>
            <p:spPr>
              <a:xfrm>
                <a:off x="1989000" y="6234120"/>
                <a:ext cx="135360" cy="136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6" name=""/>
              <p:cNvSpPr/>
              <p:nvPr/>
            </p:nvSpPr>
            <p:spPr>
              <a:xfrm>
                <a:off x="2480400" y="6234120"/>
                <a:ext cx="135360" cy="136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7" name=""/>
              <p:cNvSpPr/>
              <p:nvPr/>
            </p:nvSpPr>
            <p:spPr>
              <a:xfrm>
                <a:off x="2949120" y="6234120"/>
                <a:ext cx="135360" cy="136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8" name=""/>
              <p:cNvSpPr/>
              <p:nvPr/>
            </p:nvSpPr>
            <p:spPr>
              <a:xfrm>
                <a:off x="3965040" y="6234120"/>
                <a:ext cx="135360" cy="136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9" name=""/>
              <p:cNvSpPr/>
              <p:nvPr/>
            </p:nvSpPr>
            <p:spPr>
              <a:xfrm>
                <a:off x="4433760" y="6234120"/>
                <a:ext cx="135360" cy="136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90" name=""/>
            <p:cNvSpPr/>
            <p:nvPr/>
          </p:nvSpPr>
          <p:spPr>
            <a:xfrm>
              <a:off x="4046400" y="6210360"/>
              <a:ext cx="95112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1" name=""/>
            <p:cNvSpPr/>
            <p:nvPr/>
          </p:nvSpPr>
          <p:spPr>
            <a:xfrm>
              <a:off x="2085840" y="5199120"/>
              <a:ext cx="291960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2" name=""/>
            <p:cNvSpPr/>
            <p:nvPr/>
          </p:nvSpPr>
          <p:spPr>
            <a:xfrm>
              <a:off x="2077920" y="5489640"/>
              <a:ext cx="291960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3" name=""/>
            <p:cNvSpPr/>
            <p:nvPr/>
          </p:nvSpPr>
          <p:spPr>
            <a:xfrm>
              <a:off x="4041720" y="5967360"/>
              <a:ext cx="95868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4" name=""/>
            <p:cNvSpPr/>
            <p:nvPr/>
          </p:nvSpPr>
          <p:spPr>
            <a:xfrm>
              <a:off x="2070000" y="5729400"/>
              <a:ext cx="96192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5" name=""/>
            <p:cNvSpPr/>
            <p:nvPr/>
          </p:nvSpPr>
          <p:spPr>
            <a:xfrm>
              <a:off x="4041720" y="5729400"/>
              <a:ext cx="95868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6" name=""/>
            <p:cNvSpPr/>
            <p:nvPr/>
          </p:nvSpPr>
          <p:spPr>
            <a:xfrm>
              <a:off x="2077920" y="5967360"/>
              <a:ext cx="96192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7" name=""/>
            <p:cNvSpPr/>
            <p:nvPr/>
          </p:nvSpPr>
          <p:spPr>
            <a:xfrm>
              <a:off x="2077920" y="6203880"/>
              <a:ext cx="95112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8" name=""/>
            <p:cNvSpPr/>
            <p:nvPr/>
          </p:nvSpPr>
          <p:spPr>
            <a:xfrm>
              <a:off x="3538440" y="4983120"/>
              <a:ext cx="0" cy="5047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9" name=""/>
            <p:cNvSpPr/>
            <p:nvPr/>
          </p:nvSpPr>
          <p:spPr>
            <a:xfrm>
              <a:off x="4530600" y="5121360"/>
              <a:ext cx="0" cy="10843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0" name=""/>
            <p:cNvSpPr/>
            <p:nvPr/>
          </p:nvSpPr>
          <p:spPr>
            <a:xfrm>
              <a:off x="4997520" y="5197320"/>
              <a:ext cx="0" cy="9986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1" name=""/>
            <p:cNvSpPr/>
            <p:nvPr/>
          </p:nvSpPr>
          <p:spPr>
            <a:xfrm>
              <a:off x="4043160" y="5052960"/>
              <a:ext cx="0" cy="11476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2" name=""/>
            <p:cNvSpPr/>
            <p:nvPr/>
          </p:nvSpPr>
          <p:spPr>
            <a:xfrm>
              <a:off x="3031920" y="5046840"/>
              <a:ext cx="0" cy="11538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3" name=""/>
            <p:cNvSpPr/>
            <p:nvPr/>
          </p:nvSpPr>
          <p:spPr>
            <a:xfrm flipH="1">
              <a:off x="2066400" y="5192640"/>
              <a:ext cx="9720" cy="10130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4" name=""/>
            <p:cNvSpPr/>
            <p:nvPr/>
          </p:nvSpPr>
          <p:spPr>
            <a:xfrm>
              <a:off x="2565360" y="5129280"/>
              <a:ext cx="0" cy="10713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05" name=""/>
            <p:cNvGrpSpPr/>
            <p:nvPr/>
          </p:nvGrpSpPr>
          <p:grpSpPr>
            <a:xfrm>
              <a:off x="3455640" y="3314520"/>
              <a:ext cx="3195360" cy="501840"/>
              <a:chOff x="3455640" y="3314520"/>
              <a:chExt cx="3195360" cy="501840"/>
            </a:xfrm>
          </p:grpSpPr>
          <p:sp>
            <p:nvSpPr>
              <p:cNvPr id="6306" name=""/>
              <p:cNvSpPr/>
              <p:nvPr/>
            </p:nvSpPr>
            <p:spPr>
              <a:xfrm flipH="1" flipV="1">
                <a:off x="5191200" y="3317400"/>
                <a:ext cx="248400" cy="350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7" name=""/>
              <p:cNvSpPr/>
              <p:nvPr/>
            </p:nvSpPr>
            <p:spPr>
              <a:xfrm flipH="1">
                <a:off x="4400280" y="3317760"/>
                <a:ext cx="790560" cy="350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8" name=""/>
              <p:cNvSpPr/>
              <p:nvPr/>
            </p:nvSpPr>
            <p:spPr>
              <a:xfrm flipH="1" flipV="1">
                <a:off x="6151320" y="3451320"/>
                <a:ext cx="224280" cy="364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9" name=""/>
              <p:cNvSpPr/>
              <p:nvPr/>
            </p:nvSpPr>
            <p:spPr>
              <a:xfrm flipV="1">
                <a:off x="5907600" y="3539880"/>
                <a:ext cx="743400" cy="207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0" name=""/>
              <p:cNvSpPr/>
              <p:nvPr/>
            </p:nvSpPr>
            <p:spPr>
              <a:xfrm flipH="1" flipV="1">
                <a:off x="5681520" y="3399840"/>
                <a:ext cx="226080" cy="347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1" name=""/>
              <p:cNvSpPr/>
              <p:nvPr/>
            </p:nvSpPr>
            <p:spPr>
              <a:xfrm flipH="1">
                <a:off x="5420520" y="3462840"/>
                <a:ext cx="770040" cy="204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2" name=""/>
              <p:cNvSpPr/>
              <p:nvPr/>
            </p:nvSpPr>
            <p:spPr>
              <a:xfrm flipH="1">
                <a:off x="4955760" y="3399840"/>
                <a:ext cx="725760" cy="187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3" name=""/>
              <p:cNvSpPr/>
              <p:nvPr/>
            </p:nvSpPr>
            <p:spPr>
              <a:xfrm flipH="1" flipV="1">
                <a:off x="4676760" y="3383640"/>
                <a:ext cx="278280" cy="2034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4" name=""/>
              <p:cNvSpPr/>
              <p:nvPr/>
            </p:nvSpPr>
            <p:spPr>
              <a:xfrm flipH="1" flipV="1">
                <a:off x="4218120" y="3462480"/>
                <a:ext cx="191520" cy="209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5" name=""/>
              <p:cNvSpPr/>
              <p:nvPr/>
            </p:nvSpPr>
            <p:spPr>
              <a:xfrm flipH="1">
                <a:off x="3941280" y="3399840"/>
                <a:ext cx="735480" cy="347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6" name=""/>
              <p:cNvSpPr/>
              <p:nvPr/>
            </p:nvSpPr>
            <p:spPr>
              <a:xfrm flipH="1" flipV="1">
                <a:off x="3731040" y="3540240"/>
                <a:ext cx="213120" cy="197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7" name=""/>
              <p:cNvSpPr/>
              <p:nvPr/>
            </p:nvSpPr>
            <p:spPr>
              <a:xfrm flipH="1">
                <a:off x="3455640" y="3462840"/>
                <a:ext cx="762120" cy="353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8" name=""/>
              <p:cNvSpPr/>
              <p:nvPr/>
            </p:nvSpPr>
            <p:spPr>
              <a:xfrm flipV="1">
                <a:off x="6371640" y="3539880"/>
                <a:ext cx="270360" cy="269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9" name=""/>
              <p:cNvSpPr/>
              <p:nvPr/>
            </p:nvSpPr>
            <p:spPr>
              <a:xfrm flipV="1">
                <a:off x="4935960" y="3314520"/>
                <a:ext cx="270360" cy="269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0" name=""/>
              <p:cNvSpPr/>
              <p:nvPr/>
            </p:nvSpPr>
            <p:spPr>
              <a:xfrm flipV="1">
                <a:off x="5427720" y="3393000"/>
                <a:ext cx="270360" cy="269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1" name=""/>
              <p:cNvSpPr/>
              <p:nvPr/>
            </p:nvSpPr>
            <p:spPr>
              <a:xfrm flipV="1">
                <a:off x="3461040" y="3535200"/>
                <a:ext cx="270360" cy="269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2" name=""/>
              <p:cNvSpPr/>
              <p:nvPr/>
            </p:nvSpPr>
            <p:spPr>
              <a:xfrm flipV="1">
                <a:off x="3952800" y="3461400"/>
                <a:ext cx="270360" cy="269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3" name=""/>
              <p:cNvSpPr/>
              <p:nvPr/>
            </p:nvSpPr>
            <p:spPr>
              <a:xfrm flipV="1">
                <a:off x="4414680" y="3393000"/>
                <a:ext cx="270360" cy="269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4" name=""/>
              <p:cNvSpPr/>
              <p:nvPr/>
            </p:nvSpPr>
            <p:spPr>
              <a:xfrm flipV="1">
                <a:off x="3726360" y="3319200"/>
                <a:ext cx="1469880" cy="220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5" name=""/>
              <p:cNvSpPr/>
              <p:nvPr/>
            </p:nvSpPr>
            <p:spPr>
              <a:xfrm flipV="1">
                <a:off x="3461040" y="3593880"/>
                <a:ext cx="1469880" cy="220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6" name=""/>
              <p:cNvSpPr/>
              <p:nvPr/>
            </p:nvSpPr>
            <p:spPr>
              <a:xfrm>
                <a:off x="4930920" y="3594240"/>
                <a:ext cx="1430280" cy="220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7" name=""/>
              <p:cNvSpPr/>
              <p:nvPr/>
            </p:nvSpPr>
            <p:spPr>
              <a:xfrm>
                <a:off x="5201280" y="3319560"/>
                <a:ext cx="1430640" cy="220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8" name=""/>
              <p:cNvSpPr/>
              <p:nvPr/>
            </p:nvSpPr>
            <p:spPr>
              <a:xfrm flipV="1">
                <a:off x="5894640" y="3476160"/>
                <a:ext cx="270360" cy="269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29" name=""/>
            <p:cNvGrpSpPr/>
            <p:nvPr/>
          </p:nvGrpSpPr>
          <p:grpSpPr>
            <a:xfrm>
              <a:off x="4987800" y="4911480"/>
              <a:ext cx="281160" cy="1292040"/>
              <a:chOff x="4987800" y="4911480"/>
              <a:chExt cx="281160" cy="1292040"/>
            </a:xfrm>
          </p:grpSpPr>
          <p:sp>
            <p:nvSpPr>
              <p:cNvPr id="6330" name=""/>
              <p:cNvSpPr/>
              <p:nvPr/>
            </p:nvSpPr>
            <p:spPr>
              <a:xfrm flipV="1">
                <a:off x="4992480" y="5450760"/>
                <a:ext cx="276120" cy="752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1" name=""/>
              <p:cNvSpPr/>
              <p:nvPr/>
            </p:nvSpPr>
            <p:spPr>
              <a:xfrm flipH="1" flipV="1">
                <a:off x="4987800" y="5186520"/>
                <a:ext cx="280800" cy="2642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2" name=""/>
              <p:cNvSpPr/>
              <p:nvPr/>
            </p:nvSpPr>
            <p:spPr>
              <a:xfrm flipH="1" flipV="1">
                <a:off x="4992120" y="5711760"/>
                <a:ext cx="276120" cy="2167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3" name=""/>
              <p:cNvSpPr/>
              <p:nvPr/>
            </p:nvSpPr>
            <p:spPr>
              <a:xfrm flipV="1">
                <a:off x="4992480" y="4916160"/>
                <a:ext cx="276120" cy="797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4" name=""/>
              <p:cNvSpPr/>
              <p:nvPr/>
            </p:nvSpPr>
            <p:spPr>
              <a:xfrm flipV="1">
                <a:off x="4987800" y="4911480"/>
                <a:ext cx="271080" cy="270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5" name=""/>
              <p:cNvSpPr/>
              <p:nvPr/>
            </p:nvSpPr>
            <p:spPr>
              <a:xfrm>
                <a:off x="4992840" y="5186880"/>
                <a:ext cx="0" cy="10126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6" name=""/>
              <p:cNvSpPr/>
              <p:nvPr/>
            </p:nvSpPr>
            <p:spPr>
              <a:xfrm flipV="1">
                <a:off x="4992840" y="5447160"/>
                <a:ext cx="271080" cy="270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7" name=""/>
              <p:cNvSpPr/>
              <p:nvPr/>
            </p:nvSpPr>
            <p:spPr>
              <a:xfrm>
                <a:off x="5268960" y="4921560"/>
                <a:ext cx="0" cy="10126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38" name=""/>
            <p:cNvGrpSpPr/>
            <p:nvPr/>
          </p:nvGrpSpPr>
          <p:grpSpPr>
            <a:xfrm>
              <a:off x="6364080" y="3535200"/>
              <a:ext cx="281160" cy="1292040"/>
              <a:chOff x="6364080" y="3535200"/>
              <a:chExt cx="281160" cy="1292040"/>
            </a:xfrm>
          </p:grpSpPr>
          <p:sp>
            <p:nvSpPr>
              <p:cNvPr id="6339" name=""/>
              <p:cNvSpPr/>
              <p:nvPr/>
            </p:nvSpPr>
            <p:spPr>
              <a:xfrm flipV="1">
                <a:off x="6368760" y="4074480"/>
                <a:ext cx="276120" cy="752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0" name=""/>
              <p:cNvSpPr/>
              <p:nvPr/>
            </p:nvSpPr>
            <p:spPr>
              <a:xfrm flipH="1" flipV="1">
                <a:off x="6364080" y="3810240"/>
                <a:ext cx="280800" cy="2642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1" name=""/>
              <p:cNvSpPr/>
              <p:nvPr/>
            </p:nvSpPr>
            <p:spPr>
              <a:xfrm flipH="1" flipV="1">
                <a:off x="6368400" y="4335480"/>
                <a:ext cx="276120" cy="2167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2" name=""/>
              <p:cNvSpPr/>
              <p:nvPr/>
            </p:nvSpPr>
            <p:spPr>
              <a:xfrm flipV="1">
                <a:off x="6368760" y="3539880"/>
                <a:ext cx="276120" cy="797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3" name=""/>
              <p:cNvSpPr/>
              <p:nvPr/>
            </p:nvSpPr>
            <p:spPr>
              <a:xfrm flipV="1">
                <a:off x="6364080" y="3535200"/>
                <a:ext cx="271080" cy="270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4" name=""/>
              <p:cNvSpPr/>
              <p:nvPr/>
            </p:nvSpPr>
            <p:spPr>
              <a:xfrm>
                <a:off x="6369120" y="3810600"/>
                <a:ext cx="0" cy="10126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5" name=""/>
              <p:cNvSpPr/>
              <p:nvPr/>
            </p:nvSpPr>
            <p:spPr>
              <a:xfrm flipV="1">
                <a:off x="6369120" y="4070880"/>
                <a:ext cx="271080" cy="270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6" name=""/>
              <p:cNvSpPr/>
              <p:nvPr/>
            </p:nvSpPr>
            <p:spPr>
              <a:xfrm>
                <a:off x="6645240" y="3545280"/>
                <a:ext cx="0" cy="10126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47" name=""/>
            <p:cNvSpPr/>
            <p:nvPr/>
          </p:nvSpPr>
          <p:spPr>
            <a:xfrm flipV="1">
              <a:off x="2347920" y="4692600"/>
              <a:ext cx="1460520" cy="2253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8" name=""/>
            <p:cNvSpPr/>
            <p:nvPr/>
          </p:nvSpPr>
          <p:spPr>
            <a:xfrm flipV="1">
              <a:off x="5268960" y="4917600"/>
              <a:ext cx="0" cy="10112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9" name=""/>
            <p:cNvSpPr/>
            <p:nvPr/>
          </p:nvSpPr>
          <p:spPr>
            <a:xfrm flipH="1" flipV="1">
              <a:off x="3808080" y="4692600"/>
              <a:ext cx="1460520" cy="2253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0" name=""/>
            <p:cNvSpPr/>
            <p:nvPr/>
          </p:nvSpPr>
          <p:spPr>
            <a:xfrm flipV="1">
              <a:off x="2622600" y="4417920"/>
              <a:ext cx="1461960" cy="2239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1" name=""/>
            <p:cNvSpPr/>
            <p:nvPr/>
          </p:nvSpPr>
          <p:spPr>
            <a:xfrm flipV="1">
              <a:off x="5545080" y="4641480"/>
              <a:ext cx="0" cy="10112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2" name=""/>
            <p:cNvSpPr/>
            <p:nvPr/>
          </p:nvSpPr>
          <p:spPr>
            <a:xfrm flipH="1" flipV="1">
              <a:off x="4084200" y="4417920"/>
              <a:ext cx="1460520" cy="2239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3" name=""/>
            <p:cNvSpPr/>
            <p:nvPr/>
          </p:nvSpPr>
          <p:spPr>
            <a:xfrm flipV="1">
              <a:off x="2898720" y="4141800"/>
              <a:ext cx="1460520" cy="2253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4" name=""/>
            <p:cNvSpPr/>
            <p:nvPr/>
          </p:nvSpPr>
          <p:spPr>
            <a:xfrm flipV="1">
              <a:off x="5819760" y="4366800"/>
              <a:ext cx="0" cy="10112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5" name=""/>
            <p:cNvSpPr/>
            <p:nvPr/>
          </p:nvSpPr>
          <p:spPr>
            <a:xfrm flipH="1" flipV="1">
              <a:off x="4358880" y="4141800"/>
              <a:ext cx="1460520" cy="2253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6" name=""/>
            <p:cNvSpPr/>
            <p:nvPr/>
          </p:nvSpPr>
          <p:spPr>
            <a:xfrm flipV="1">
              <a:off x="3173400" y="3867120"/>
              <a:ext cx="1461960" cy="2239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7" name=""/>
            <p:cNvSpPr/>
            <p:nvPr/>
          </p:nvSpPr>
          <p:spPr>
            <a:xfrm flipV="1">
              <a:off x="6095880" y="4090680"/>
              <a:ext cx="0" cy="10112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8" name=""/>
            <p:cNvSpPr/>
            <p:nvPr/>
          </p:nvSpPr>
          <p:spPr>
            <a:xfrm flipH="1" flipV="1">
              <a:off x="4635000" y="3867120"/>
              <a:ext cx="1460520" cy="2239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9" name=""/>
            <p:cNvSpPr/>
            <p:nvPr/>
          </p:nvSpPr>
          <p:spPr>
            <a:xfrm flipV="1">
              <a:off x="3449520" y="3591000"/>
              <a:ext cx="1460520" cy="2253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0" name=""/>
            <p:cNvSpPr/>
            <p:nvPr/>
          </p:nvSpPr>
          <p:spPr>
            <a:xfrm flipV="1">
              <a:off x="6370560" y="3816000"/>
              <a:ext cx="0" cy="10112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1" name=""/>
            <p:cNvSpPr/>
            <p:nvPr/>
          </p:nvSpPr>
          <p:spPr>
            <a:xfrm flipH="1" flipV="1">
              <a:off x="4909680" y="3591000"/>
              <a:ext cx="1460520" cy="2253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62" name=""/>
            <p:cNvGrpSpPr/>
            <p:nvPr/>
          </p:nvGrpSpPr>
          <p:grpSpPr>
            <a:xfrm>
              <a:off x="4992480" y="3821040"/>
              <a:ext cx="1650960" cy="2387160"/>
              <a:chOff x="4992480" y="3821040"/>
              <a:chExt cx="1650960" cy="2387160"/>
            </a:xfrm>
          </p:grpSpPr>
          <p:sp>
            <p:nvSpPr>
              <p:cNvPr id="6363" name=""/>
              <p:cNvSpPr/>
              <p:nvPr/>
            </p:nvSpPr>
            <p:spPr>
              <a:xfrm flipV="1">
                <a:off x="4992480" y="4556520"/>
                <a:ext cx="1650960" cy="16516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4" name=""/>
              <p:cNvSpPr/>
              <p:nvPr/>
            </p:nvSpPr>
            <p:spPr>
              <a:xfrm flipV="1">
                <a:off x="4992480" y="3821040"/>
                <a:ext cx="1650960" cy="16516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5" name=""/>
              <p:cNvSpPr/>
              <p:nvPr/>
            </p:nvSpPr>
            <p:spPr>
              <a:xfrm flipV="1">
                <a:off x="4992480" y="4074120"/>
                <a:ext cx="1650960" cy="16516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6" name=""/>
              <p:cNvSpPr/>
              <p:nvPr/>
            </p:nvSpPr>
            <p:spPr>
              <a:xfrm flipV="1">
                <a:off x="4992480" y="4316400"/>
                <a:ext cx="1650960" cy="16516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67" name=""/>
            <p:cNvSpPr/>
            <p:nvPr/>
          </p:nvSpPr>
          <p:spPr>
            <a:xfrm flipV="1">
              <a:off x="4986360" y="3541680"/>
              <a:ext cx="1655640" cy="16509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8" name=""/>
            <p:cNvSpPr/>
            <p:nvPr/>
          </p:nvSpPr>
          <p:spPr>
            <a:xfrm flipV="1">
              <a:off x="2073240" y="3541680"/>
              <a:ext cx="1650960" cy="16509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9" name=""/>
            <p:cNvSpPr/>
            <p:nvPr/>
          </p:nvSpPr>
          <p:spPr>
            <a:xfrm flipV="1">
              <a:off x="3809880" y="3357720"/>
              <a:ext cx="1655640" cy="16524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0" name=""/>
            <p:cNvSpPr/>
            <p:nvPr/>
          </p:nvSpPr>
          <p:spPr>
            <a:xfrm flipV="1">
              <a:off x="4057560" y="3379320"/>
              <a:ext cx="1657440" cy="16527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1" name=""/>
            <p:cNvSpPr/>
            <p:nvPr/>
          </p:nvSpPr>
          <p:spPr>
            <a:xfrm flipV="1">
              <a:off x="4525920" y="3460320"/>
              <a:ext cx="1657440" cy="16527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2" name=""/>
            <p:cNvSpPr/>
            <p:nvPr/>
          </p:nvSpPr>
          <p:spPr>
            <a:xfrm flipV="1">
              <a:off x="4755960" y="3508560"/>
              <a:ext cx="1656000" cy="16524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3" name=""/>
            <p:cNvSpPr/>
            <p:nvPr/>
          </p:nvSpPr>
          <p:spPr>
            <a:xfrm flipV="1">
              <a:off x="2290680" y="3508560"/>
              <a:ext cx="1633680" cy="16524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4" name=""/>
            <p:cNvSpPr/>
            <p:nvPr/>
          </p:nvSpPr>
          <p:spPr>
            <a:xfrm flipV="1">
              <a:off x="2562120" y="3470400"/>
              <a:ext cx="1635120" cy="16524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5" name=""/>
            <p:cNvSpPr/>
            <p:nvPr/>
          </p:nvSpPr>
          <p:spPr>
            <a:xfrm flipV="1">
              <a:off x="3027240" y="3395160"/>
              <a:ext cx="1635120" cy="16527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6" name=""/>
            <p:cNvSpPr/>
            <p:nvPr/>
          </p:nvSpPr>
          <p:spPr>
            <a:xfrm flipV="1">
              <a:off x="3278160" y="3350880"/>
              <a:ext cx="1641240" cy="16527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7" name=""/>
            <p:cNvSpPr/>
            <p:nvPr/>
          </p:nvSpPr>
          <p:spPr>
            <a:xfrm flipV="1">
              <a:off x="2789280" y="3435480"/>
              <a:ext cx="1633320" cy="16509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8" name=""/>
            <p:cNvSpPr/>
            <p:nvPr/>
          </p:nvSpPr>
          <p:spPr>
            <a:xfrm flipV="1">
              <a:off x="4263840" y="3425760"/>
              <a:ext cx="1657440" cy="16639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9" name=""/>
            <p:cNvSpPr/>
            <p:nvPr/>
          </p:nvSpPr>
          <p:spPr>
            <a:xfrm flipV="1">
              <a:off x="2073240" y="5192280"/>
              <a:ext cx="0" cy="10112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0" name=""/>
            <p:cNvSpPr/>
            <p:nvPr/>
          </p:nvSpPr>
          <p:spPr>
            <a:xfrm flipV="1">
              <a:off x="4992480" y="5192280"/>
              <a:ext cx="0" cy="10112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1" name=""/>
            <p:cNvSpPr/>
            <p:nvPr/>
          </p:nvSpPr>
          <p:spPr>
            <a:xfrm flipV="1">
              <a:off x="3724200" y="3541320"/>
              <a:ext cx="0" cy="10112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2" name=""/>
            <p:cNvSpPr/>
            <p:nvPr/>
          </p:nvSpPr>
          <p:spPr>
            <a:xfrm flipV="1">
              <a:off x="6643440" y="3541320"/>
              <a:ext cx="0" cy="10112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3" name=""/>
            <p:cNvSpPr/>
            <p:nvPr/>
          </p:nvSpPr>
          <p:spPr>
            <a:xfrm flipV="1">
              <a:off x="2073240" y="4968720"/>
              <a:ext cx="1460520" cy="2239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4" name=""/>
            <p:cNvSpPr/>
            <p:nvPr/>
          </p:nvSpPr>
          <p:spPr>
            <a:xfrm flipH="1" flipV="1">
              <a:off x="3533760" y="4968720"/>
              <a:ext cx="1458720" cy="2239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5" name=""/>
            <p:cNvSpPr/>
            <p:nvPr/>
          </p:nvSpPr>
          <p:spPr>
            <a:xfrm flipV="1">
              <a:off x="3724200" y="3316320"/>
              <a:ext cx="1460520" cy="2253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6" name=""/>
            <p:cNvSpPr/>
            <p:nvPr/>
          </p:nvSpPr>
          <p:spPr>
            <a:xfrm flipH="1" flipV="1">
              <a:off x="5184720" y="3316320"/>
              <a:ext cx="1458720" cy="2253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87" name=""/>
            <p:cNvGrpSpPr/>
            <p:nvPr/>
          </p:nvGrpSpPr>
          <p:grpSpPr>
            <a:xfrm>
              <a:off x="2071080" y="4690800"/>
              <a:ext cx="3196080" cy="501840"/>
              <a:chOff x="2071080" y="4690800"/>
              <a:chExt cx="3196080" cy="501840"/>
            </a:xfrm>
          </p:grpSpPr>
          <p:sp>
            <p:nvSpPr>
              <p:cNvPr id="6388" name=""/>
              <p:cNvSpPr/>
              <p:nvPr/>
            </p:nvSpPr>
            <p:spPr>
              <a:xfrm flipH="1" flipV="1">
                <a:off x="3807000" y="4693680"/>
                <a:ext cx="248400" cy="350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9" name=""/>
              <p:cNvSpPr/>
              <p:nvPr/>
            </p:nvSpPr>
            <p:spPr>
              <a:xfrm flipH="1">
                <a:off x="3016080" y="4694040"/>
                <a:ext cx="790560" cy="350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0" name=""/>
              <p:cNvSpPr/>
              <p:nvPr/>
            </p:nvSpPr>
            <p:spPr>
              <a:xfrm flipH="1" flipV="1">
                <a:off x="4767120" y="4827600"/>
                <a:ext cx="224280" cy="364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1" name=""/>
              <p:cNvSpPr/>
              <p:nvPr/>
            </p:nvSpPr>
            <p:spPr>
              <a:xfrm flipV="1">
                <a:off x="4523400" y="4916160"/>
                <a:ext cx="743760" cy="207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2" name=""/>
              <p:cNvSpPr/>
              <p:nvPr/>
            </p:nvSpPr>
            <p:spPr>
              <a:xfrm flipH="1" flipV="1">
                <a:off x="4297320" y="4776120"/>
                <a:ext cx="226080" cy="347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3" name=""/>
              <p:cNvSpPr/>
              <p:nvPr/>
            </p:nvSpPr>
            <p:spPr>
              <a:xfrm flipH="1">
                <a:off x="4035960" y="4839120"/>
                <a:ext cx="770040" cy="204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4" name=""/>
              <p:cNvSpPr/>
              <p:nvPr/>
            </p:nvSpPr>
            <p:spPr>
              <a:xfrm flipH="1">
                <a:off x="3571200" y="4776120"/>
                <a:ext cx="725760" cy="187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5" name=""/>
              <p:cNvSpPr/>
              <p:nvPr/>
            </p:nvSpPr>
            <p:spPr>
              <a:xfrm flipH="1" flipV="1">
                <a:off x="3292200" y="4759920"/>
                <a:ext cx="278280" cy="2034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6" name=""/>
              <p:cNvSpPr/>
              <p:nvPr/>
            </p:nvSpPr>
            <p:spPr>
              <a:xfrm flipH="1" flipV="1">
                <a:off x="2833560" y="4838760"/>
                <a:ext cx="191520" cy="209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7" name=""/>
              <p:cNvSpPr/>
              <p:nvPr/>
            </p:nvSpPr>
            <p:spPr>
              <a:xfrm flipH="1">
                <a:off x="2556720" y="4776120"/>
                <a:ext cx="735480" cy="347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8" name=""/>
              <p:cNvSpPr/>
              <p:nvPr/>
            </p:nvSpPr>
            <p:spPr>
              <a:xfrm flipH="1" flipV="1">
                <a:off x="2346480" y="4916520"/>
                <a:ext cx="213120" cy="197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9" name=""/>
              <p:cNvSpPr/>
              <p:nvPr/>
            </p:nvSpPr>
            <p:spPr>
              <a:xfrm flipH="1">
                <a:off x="2071080" y="4839120"/>
                <a:ext cx="762120" cy="353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0" name=""/>
              <p:cNvSpPr/>
              <p:nvPr/>
            </p:nvSpPr>
            <p:spPr>
              <a:xfrm flipV="1">
                <a:off x="4987440" y="4916160"/>
                <a:ext cx="270360" cy="269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1" name=""/>
              <p:cNvSpPr/>
              <p:nvPr/>
            </p:nvSpPr>
            <p:spPr>
              <a:xfrm flipV="1">
                <a:off x="3551400" y="4690800"/>
                <a:ext cx="270360" cy="269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2" name=""/>
              <p:cNvSpPr/>
              <p:nvPr/>
            </p:nvSpPr>
            <p:spPr>
              <a:xfrm flipV="1">
                <a:off x="4043160" y="4769280"/>
                <a:ext cx="270360" cy="269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3" name=""/>
              <p:cNvSpPr/>
              <p:nvPr/>
            </p:nvSpPr>
            <p:spPr>
              <a:xfrm flipV="1">
                <a:off x="2076480" y="4911480"/>
                <a:ext cx="270360" cy="269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4" name=""/>
              <p:cNvSpPr/>
              <p:nvPr/>
            </p:nvSpPr>
            <p:spPr>
              <a:xfrm flipV="1">
                <a:off x="2568240" y="4837680"/>
                <a:ext cx="270360" cy="269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5" name=""/>
              <p:cNvSpPr/>
              <p:nvPr/>
            </p:nvSpPr>
            <p:spPr>
              <a:xfrm flipV="1">
                <a:off x="3030480" y="4769280"/>
                <a:ext cx="270360" cy="269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6" name=""/>
              <p:cNvSpPr/>
              <p:nvPr/>
            </p:nvSpPr>
            <p:spPr>
              <a:xfrm flipV="1">
                <a:off x="2342160" y="4695480"/>
                <a:ext cx="1469880" cy="220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7" name=""/>
              <p:cNvSpPr/>
              <p:nvPr/>
            </p:nvSpPr>
            <p:spPr>
              <a:xfrm flipV="1">
                <a:off x="2076480" y="4970160"/>
                <a:ext cx="1469880" cy="220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8" name=""/>
              <p:cNvSpPr/>
              <p:nvPr/>
            </p:nvSpPr>
            <p:spPr>
              <a:xfrm>
                <a:off x="3546720" y="4970520"/>
                <a:ext cx="1430640" cy="220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9" name=""/>
              <p:cNvSpPr/>
              <p:nvPr/>
            </p:nvSpPr>
            <p:spPr>
              <a:xfrm>
                <a:off x="3817080" y="4695840"/>
                <a:ext cx="1430640" cy="220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0" name=""/>
              <p:cNvSpPr/>
              <p:nvPr/>
            </p:nvSpPr>
            <p:spPr>
              <a:xfrm flipV="1">
                <a:off x="4510440" y="4852440"/>
                <a:ext cx="270360" cy="269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11" name=""/>
            <p:cNvSpPr/>
            <p:nvPr/>
          </p:nvSpPr>
          <p:spPr>
            <a:xfrm flipV="1">
              <a:off x="3537000" y="3323880"/>
              <a:ext cx="1655640" cy="16527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12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"/>
          <p:cNvSpPr/>
          <p:nvPr/>
        </p:nvSpPr>
        <p:spPr>
          <a:xfrm>
            <a:off x="109440" y="425520"/>
            <a:ext cx="878220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BONNE RÉPO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488960" y="915840"/>
            <a:ext cx="61405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es potelets s’appuient sur la poutre au 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2470320" y="2419200"/>
            <a:ext cx="0" cy="119088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533520" y="2418840"/>
            <a:ext cx="5375160" cy="3144960"/>
            <a:chOff x="533520" y="2418840"/>
            <a:chExt cx="5375160" cy="3144960"/>
          </a:xfrm>
        </p:grpSpPr>
        <p:grpSp>
          <p:nvGrpSpPr>
            <p:cNvPr id="756" name=""/>
            <p:cNvGrpSpPr/>
            <p:nvPr/>
          </p:nvGrpSpPr>
          <p:grpSpPr>
            <a:xfrm>
              <a:off x="533520" y="2418840"/>
              <a:ext cx="5372640" cy="3144960"/>
              <a:chOff x="533520" y="2418840"/>
              <a:chExt cx="5372640" cy="3144960"/>
            </a:xfrm>
          </p:grpSpPr>
          <p:grpSp>
            <p:nvGrpSpPr>
              <p:cNvPr id="757" name=""/>
              <p:cNvGrpSpPr/>
              <p:nvPr/>
            </p:nvGrpSpPr>
            <p:grpSpPr>
              <a:xfrm>
                <a:off x="3951720" y="4039920"/>
                <a:ext cx="337680" cy="1517760"/>
                <a:chOff x="3951720" y="4039920"/>
                <a:chExt cx="337680" cy="1517760"/>
              </a:xfrm>
            </p:grpSpPr>
            <p:sp>
              <p:nvSpPr>
                <p:cNvPr id="758" name=""/>
                <p:cNvSpPr/>
                <p:nvPr/>
              </p:nvSpPr>
              <p:spPr>
                <a:xfrm flipV="1">
                  <a:off x="3965760" y="4670640"/>
                  <a:ext cx="322920" cy="887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 flipH="1" flipV="1">
                  <a:off x="3959640" y="4358520"/>
                  <a:ext cx="328680" cy="311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 flipH="1" flipV="1">
                  <a:off x="3965400" y="4987440"/>
                  <a:ext cx="322920" cy="245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 flipV="1">
                  <a:off x="3965760" y="4039920"/>
                  <a:ext cx="322920" cy="940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 flipV="1">
                  <a:off x="3951720" y="4052520"/>
                  <a:ext cx="323280" cy="32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3966120" y="4359600"/>
                  <a:ext cx="0" cy="1193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4289400" y="4046400"/>
                  <a:ext cx="0" cy="1193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5" name=""/>
              <p:cNvGrpSpPr/>
              <p:nvPr/>
            </p:nvGrpSpPr>
            <p:grpSpPr>
              <a:xfrm>
                <a:off x="533520" y="4047480"/>
                <a:ext cx="325080" cy="1516320"/>
                <a:chOff x="533520" y="4047480"/>
                <a:chExt cx="325080" cy="1516320"/>
              </a:xfrm>
            </p:grpSpPr>
            <p:sp>
              <p:nvSpPr>
                <p:cNvPr id="766" name=""/>
                <p:cNvSpPr/>
                <p:nvPr/>
              </p:nvSpPr>
              <p:spPr>
                <a:xfrm flipV="1">
                  <a:off x="534600" y="4673520"/>
                  <a:ext cx="323280" cy="886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 flipH="1" flipV="1">
                  <a:off x="534600" y="4370760"/>
                  <a:ext cx="320400" cy="298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 flipH="1" flipV="1">
                  <a:off x="533520" y="4997880"/>
                  <a:ext cx="323280" cy="241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 flipV="1">
                  <a:off x="534600" y="4047480"/>
                  <a:ext cx="321840" cy="944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 flipV="1">
                  <a:off x="536760" y="404784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535320" y="4371120"/>
                  <a:ext cx="0" cy="1192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 flipH="1">
                  <a:off x="857160" y="4057920"/>
                  <a:ext cx="1440" cy="1179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3" name=""/>
              <p:cNvGrpSpPr/>
              <p:nvPr/>
            </p:nvGrpSpPr>
            <p:grpSpPr>
              <a:xfrm>
                <a:off x="5580360" y="2418840"/>
                <a:ext cx="325800" cy="1538640"/>
                <a:chOff x="5580360" y="2418840"/>
                <a:chExt cx="325800" cy="1538640"/>
              </a:xfrm>
            </p:grpSpPr>
            <p:sp>
              <p:nvSpPr>
                <p:cNvPr id="774" name=""/>
                <p:cNvSpPr/>
                <p:nvPr/>
              </p:nvSpPr>
              <p:spPr>
                <a:xfrm flipV="1">
                  <a:off x="5582880" y="3071160"/>
                  <a:ext cx="320400" cy="880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 flipH="1" flipV="1">
                  <a:off x="5580360" y="2744280"/>
                  <a:ext cx="321840" cy="332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 flipH="1" flipV="1">
                  <a:off x="5582880" y="3388320"/>
                  <a:ext cx="320400" cy="242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 flipV="1">
                  <a:off x="5581440" y="2421360"/>
                  <a:ext cx="317520" cy="972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 flipV="1">
                  <a:off x="5580720" y="2418840"/>
                  <a:ext cx="324720" cy="33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5585040" y="2739240"/>
                  <a:ext cx="0" cy="12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 flipH="1">
                  <a:off x="5905080" y="2424600"/>
                  <a:ext cx="1080" cy="1207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1" name=""/>
              <p:cNvGrpSpPr/>
              <p:nvPr/>
            </p:nvGrpSpPr>
            <p:grpSpPr>
              <a:xfrm>
                <a:off x="2152080" y="2421000"/>
                <a:ext cx="323280" cy="1531440"/>
                <a:chOff x="2152080" y="2421000"/>
                <a:chExt cx="323280" cy="1531440"/>
              </a:xfrm>
            </p:grpSpPr>
            <p:sp>
              <p:nvSpPr>
                <p:cNvPr id="782" name=""/>
                <p:cNvSpPr/>
                <p:nvPr/>
              </p:nvSpPr>
              <p:spPr>
                <a:xfrm flipV="1">
                  <a:off x="2152080" y="3075840"/>
                  <a:ext cx="321840" cy="876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 flipH="1" flipV="1">
                  <a:off x="2153160" y="2748600"/>
                  <a:ext cx="318960" cy="32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 flipH="1" flipV="1">
                  <a:off x="2152080" y="3394800"/>
                  <a:ext cx="323280" cy="234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 flipV="1">
                  <a:off x="2152080" y="2421720"/>
                  <a:ext cx="323280" cy="972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 flipV="1">
                  <a:off x="2153880" y="2422080"/>
                  <a:ext cx="31788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2152440" y="2755080"/>
                  <a:ext cx="0" cy="1192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2473200" y="2421000"/>
                  <a:ext cx="1080" cy="1208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89" name=""/>
            <p:cNvGrpSpPr/>
            <p:nvPr/>
          </p:nvGrpSpPr>
          <p:grpSpPr>
            <a:xfrm>
              <a:off x="537120" y="3070800"/>
              <a:ext cx="5371560" cy="1926000"/>
              <a:chOff x="537120" y="3070800"/>
              <a:chExt cx="5371560" cy="1926000"/>
            </a:xfrm>
          </p:grpSpPr>
          <p:sp>
            <p:nvSpPr>
              <p:cNvPr id="790" name=""/>
              <p:cNvSpPr/>
              <p:nvPr/>
            </p:nvSpPr>
            <p:spPr>
              <a:xfrm flipV="1">
                <a:off x="3969360" y="466776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flipV="1">
                <a:off x="537120" y="4675680"/>
                <a:ext cx="32328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flipV="1">
                <a:off x="5591160" y="3070800"/>
                <a:ext cx="31752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flipV="1">
                <a:off x="2157120" y="3076560"/>
                <a:ext cx="32040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4" name=""/>
          <p:cNvGrpSpPr/>
          <p:nvPr/>
        </p:nvGrpSpPr>
        <p:grpSpPr>
          <a:xfrm>
            <a:off x="431640" y="3668760"/>
            <a:ext cx="5532120" cy="2089080"/>
            <a:chOff x="431640" y="3668760"/>
            <a:chExt cx="5532120" cy="2089080"/>
          </a:xfrm>
        </p:grpSpPr>
        <p:grpSp>
          <p:nvGrpSpPr>
            <p:cNvPr id="795" name=""/>
            <p:cNvGrpSpPr/>
            <p:nvPr/>
          </p:nvGrpSpPr>
          <p:grpSpPr>
            <a:xfrm>
              <a:off x="4189320" y="3987000"/>
              <a:ext cx="1452240" cy="1449360"/>
              <a:chOff x="4189320" y="3987000"/>
              <a:chExt cx="1452240" cy="1449360"/>
            </a:xfrm>
          </p:grpSpPr>
          <p:sp>
            <p:nvSpPr>
              <p:cNvPr id="796" name=""/>
              <p:cNvSpPr/>
              <p:nvPr/>
            </p:nvSpPr>
            <p:spPr>
              <a:xfrm>
                <a:off x="5482440" y="398700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5163480" y="4302720"/>
                <a:ext cx="159840" cy="160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4835880" y="4627080"/>
                <a:ext cx="15984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4513680" y="4947840"/>
                <a:ext cx="1634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189320" y="5276880"/>
                <a:ext cx="15876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1" name=""/>
            <p:cNvGrpSpPr/>
            <p:nvPr/>
          </p:nvGrpSpPr>
          <p:grpSpPr>
            <a:xfrm>
              <a:off x="761760" y="3985920"/>
              <a:ext cx="1447920" cy="1442160"/>
              <a:chOff x="761760" y="3985920"/>
              <a:chExt cx="1447920" cy="1442160"/>
            </a:xfrm>
          </p:grpSpPr>
          <p:sp>
            <p:nvSpPr>
              <p:cNvPr id="802" name=""/>
              <p:cNvSpPr/>
              <p:nvPr/>
            </p:nvSpPr>
            <p:spPr>
              <a:xfrm>
                <a:off x="2050560" y="398592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729800" y="4304520"/>
                <a:ext cx="159120" cy="1612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1408320" y="462708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1080720" y="4948920"/>
                <a:ext cx="16020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761760" y="526860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7" name=""/>
            <p:cNvGrpSpPr/>
            <p:nvPr/>
          </p:nvGrpSpPr>
          <p:grpSpPr>
            <a:xfrm>
              <a:off x="2367720" y="3668760"/>
              <a:ext cx="3596040" cy="162000"/>
              <a:chOff x="2367720" y="3668760"/>
              <a:chExt cx="3596040" cy="162000"/>
            </a:xfrm>
          </p:grpSpPr>
          <p:sp>
            <p:nvSpPr>
              <p:cNvPr id="808" name=""/>
              <p:cNvSpPr/>
              <p:nvPr/>
            </p:nvSpPr>
            <p:spPr>
              <a:xfrm>
                <a:off x="5804640" y="366912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367720" y="366912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4676400" y="366876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938680" y="367092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48804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087080" y="36687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24268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5" name=""/>
            <p:cNvGrpSpPr/>
            <p:nvPr/>
          </p:nvGrpSpPr>
          <p:grpSpPr>
            <a:xfrm>
              <a:off x="431640" y="5596200"/>
              <a:ext cx="3595320" cy="161640"/>
              <a:chOff x="431640" y="5596200"/>
              <a:chExt cx="3595320" cy="161640"/>
            </a:xfrm>
          </p:grpSpPr>
          <p:sp>
            <p:nvSpPr>
              <p:cNvPr id="816" name=""/>
              <p:cNvSpPr/>
              <p:nvPr/>
            </p:nvSpPr>
            <p:spPr>
              <a:xfrm>
                <a:off x="43164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867480" y="5596200"/>
                <a:ext cx="15948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99936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155160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274104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31596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2" name=""/>
          <p:cNvGrpSpPr/>
          <p:nvPr/>
        </p:nvGrpSpPr>
        <p:grpSpPr>
          <a:xfrm>
            <a:off x="2473200" y="2424240"/>
            <a:ext cx="3434040" cy="1209600"/>
            <a:chOff x="2473200" y="2424240"/>
            <a:chExt cx="3434040" cy="1209600"/>
          </a:xfrm>
        </p:grpSpPr>
        <p:sp>
          <p:nvSpPr>
            <p:cNvPr id="823" name=""/>
            <p:cNvSpPr/>
            <p:nvPr/>
          </p:nvSpPr>
          <p:spPr>
            <a:xfrm>
              <a:off x="2473200" y="242424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473560" y="275256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V="1">
              <a:off x="2473920" y="3332880"/>
              <a:ext cx="3427560" cy="140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2475000" y="3075840"/>
              <a:ext cx="342216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476080" y="363384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531720" y="2749680"/>
            <a:ext cx="1941120" cy="2812680"/>
            <a:chOff x="531720" y="2749680"/>
            <a:chExt cx="1941120" cy="2812680"/>
          </a:xfrm>
        </p:grpSpPr>
        <p:sp>
          <p:nvSpPr>
            <p:cNvPr id="829" name=""/>
            <p:cNvSpPr/>
            <p:nvPr/>
          </p:nvSpPr>
          <p:spPr>
            <a:xfrm flipV="1">
              <a:off x="535680" y="2749680"/>
              <a:ext cx="1935720" cy="1926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V="1">
              <a:off x="531720" y="3080160"/>
              <a:ext cx="1940040" cy="19155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V="1">
              <a:off x="532800" y="3346200"/>
              <a:ext cx="1940040" cy="19353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V="1">
              <a:off x="532800" y="3632760"/>
              <a:ext cx="1937160" cy="19296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3" name=""/>
          <p:cNvGrpSpPr/>
          <p:nvPr/>
        </p:nvGrpSpPr>
        <p:grpSpPr>
          <a:xfrm>
            <a:off x="531720" y="2158920"/>
            <a:ext cx="5372280" cy="3412800"/>
            <a:chOff x="531720" y="2158920"/>
            <a:chExt cx="5372280" cy="3412800"/>
          </a:xfrm>
        </p:grpSpPr>
        <p:grpSp>
          <p:nvGrpSpPr>
            <p:cNvPr id="834" name=""/>
            <p:cNvGrpSpPr/>
            <p:nvPr/>
          </p:nvGrpSpPr>
          <p:grpSpPr>
            <a:xfrm>
              <a:off x="2473200" y="2158920"/>
              <a:ext cx="3430800" cy="1476720"/>
              <a:chOff x="2473200" y="2158920"/>
              <a:chExt cx="3430800" cy="1476720"/>
            </a:xfrm>
          </p:grpSpPr>
          <p:sp>
            <p:nvSpPr>
              <p:cNvPr id="835" name=""/>
              <p:cNvSpPr/>
              <p:nvPr/>
            </p:nvSpPr>
            <p:spPr>
              <a:xfrm>
                <a:off x="5355000" y="2341800"/>
                <a:ext cx="0" cy="129384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5904000" y="2439000"/>
                <a:ext cx="0" cy="11962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4782240" y="2248200"/>
                <a:ext cx="0" cy="138744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4189680" y="2158920"/>
                <a:ext cx="0" cy="14767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3594960" y="2251800"/>
                <a:ext cx="0" cy="138384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473200" y="2433600"/>
                <a:ext cx="0" cy="120204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6680" y="2336760"/>
                <a:ext cx="0" cy="12985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2" name=""/>
            <p:cNvGrpSpPr/>
            <p:nvPr/>
          </p:nvGrpSpPr>
          <p:grpSpPr>
            <a:xfrm>
              <a:off x="531720" y="4102200"/>
              <a:ext cx="3433320" cy="1469520"/>
              <a:chOff x="531720" y="4102200"/>
              <a:chExt cx="3433320" cy="1469520"/>
            </a:xfrm>
          </p:grpSpPr>
          <p:sp>
            <p:nvSpPr>
              <p:cNvPr id="843" name=""/>
              <p:cNvSpPr/>
              <p:nvPr/>
            </p:nvSpPr>
            <p:spPr>
              <a:xfrm flipH="1">
                <a:off x="2248920" y="4102200"/>
                <a:ext cx="1440" cy="57204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3415680" y="4284720"/>
                <a:ext cx="0" cy="12870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965040" y="4365720"/>
                <a:ext cx="0" cy="11944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2842920" y="4197960"/>
                <a:ext cx="0" cy="13680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1655280" y="4190400"/>
                <a:ext cx="0" cy="137556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531720" y="4368600"/>
                <a:ext cx="720" cy="11959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107000" y="4280400"/>
                <a:ext cx="0" cy="128556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0" name=""/>
          <p:cNvGrpSpPr/>
          <p:nvPr/>
        </p:nvGrpSpPr>
        <p:grpSpPr>
          <a:xfrm>
            <a:off x="857160" y="2484360"/>
            <a:ext cx="4724640" cy="2750400"/>
            <a:chOff x="857160" y="2484360"/>
            <a:chExt cx="4724640" cy="2750400"/>
          </a:xfrm>
        </p:grpSpPr>
        <p:grpSp>
          <p:nvGrpSpPr>
            <p:cNvPr id="851" name=""/>
            <p:cNvGrpSpPr/>
            <p:nvPr/>
          </p:nvGrpSpPr>
          <p:grpSpPr>
            <a:xfrm>
              <a:off x="857160" y="3781080"/>
              <a:ext cx="3430800" cy="1453680"/>
              <a:chOff x="857160" y="3781080"/>
              <a:chExt cx="3430800" cy="1453680"/>
            </a:xfrm>
          </p:grpSpPr>
          <p:sp>
            <p:nvSpPr>
              <p:cNvPr id="852" name=""/>
              <p:cNvSpPr/>
              <p:nvPr/>
            </p:nvSpPr>
            <p:spPr>
              <a:xfrm flipV="1">
                <a:off x="857160" y="4044960"/>
                <a:ext cx="0" cy="1189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V="1">
                <a:off x="857160" y="3781080"/>
                <a:ext cx="1715400" cy="264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V="1">
                <a:off x="4287960" y="4044960"/>
                <a:ext cx="0" cy="1189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 flipV="1">
                <a:off x="2572200" y="3781080"/>
                <a:ext cx="1715400" cy="264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6" name=""/>
            <p:cNvGrpSpPr/>
            <p:nvPr/>
          </p:nvGrpSpPr>
          <p:grpSpPr>
            <a:xfrm>
              <a:off x="1180440" y="2484360"/>
              <a:ext cx="4401360" cy="2437920"/>
              <a:chOff x="1180440" y="2484360"/>
              <a:chExt cx="4401360" cy="2437920"/>
            </a:xfrm>
          </p:grpSpPr>
          <p:grpSp>
            <p:nvGrpSpPr>
              <p:cNvPr id="857" name=""/>
              <p:cNvGrpSpPr/>
              <p:nvPr/>
            </p:nvGrpSpPr>
            <p:grpSpPr>
              <a:xfrm>
                <a:off x="1180440" y="3456360"/>
                <a:ext cx="3431520" cy="1465920"/>
                <a:chOff x="1180440" y="3456360"/>
                <a:chExt cx="3431520" cy="1465920"/>
              </a:xfrm>
            </p:grpSpPr>
            <p:sp>
              <p:nvSpPr>
                <p:cNvPr id="858" name=""/>
                <p:cNvSpPr/>
                <p:nvPr/>
              </p:nvSpPr>
              <p:spPr>
                <a:xfrm flipV="1">
                  <a:off x="1180440" y="3722040"/>
                  <a:ext cx="0" cy="1195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 flipV="1">
                  <a:off x="1180440" y="3456360"/>
                  <a:ext cx="1716120" cy="265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 flipV="1">
                  <a:off x="4611960" y="3721680"/>
                  <a:ext cx="0" cy="1200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 flipH="1" flipV="1">
                  <a:off x="2896200" y="3456360"/>
                  <a:ext cx="1715400" cy="265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2" name=""/>
              <p:cNvGrpSpPr/>
              <p:nvPr/>
            </p:nvGrpSpPr>
            <p:grpSpPr>
              <a:xfrm>
                <a:off x="1502280" y="3132000"/>
                <a:ext cx="3432960" cy="1463760"/>
                <a:chOff x="1502280" y="3132000"/>
                <a:chExt cx="3432960" cy="1463760"/>
              </a:xfrm>
            </p:grpSpPr>
            <p:sp>
              <p:nvSpPr>
                <p:cNvPr id="863" name=""/>
                <p:cNvSpPr/>
                <p:nvPr/>
              </p:nvSpPr>
              <p:spPr>
                <a:xfrm flipV="1">
                  <a:off x="1502280" y="3398400"/>
                  <a:ext cx="0" cy="1197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 flipV="1">
                  <a:off x="1502280" y="3132000"/>
                  <a:ext cx="171648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 flipV="1">
                  <a:off x="4935240" y="3398400"/>
                  <a:ext cx="0" cy="1197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 flipH="1" flipV="1">
                  <a:off x="3218760" y="3132000"/>
                  <a:ext cx="171648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7" name=""/>
              <p:cNvGrpSpPr/>
              <p:nvPr/>
            </p:nvGrpSpPr>
            <p:grpSpPr>
              <a:xfrm>
                <a:off x="1827000" y="2808000"/>
                <a:ext cx="3431520" cy="1464480"/>
                <a:chOff x="1827000" y="2808000"/>
                <a:chExt cx="3431520" cy="1464480"/>
              </a:xfrm>
            </p:grpSpPr>
            <p:sp>
              <p:nvSpPr>
                <p:cNvPr id="868" name=""/>
                <p:cNvSpPr/>
                <p:nvPr/>
              </p:nvSpPr>
              <p:spPr>
                <a:xfrm flipV="1">
                  <a:off x="1827000" y="3074400"/>
                  <a:ext cx="0" cy="1198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 flipV="1">
                  <a:off x="1827000" y="2808000"/>
                  <a:ext cx="171576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 flipV="1">
                  <a:off x="5258520" y="3074400"/>
                  <a:ext cx="0" cy="1198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 flipH="1" flipV="1">
                  <a:off x="3542760" y="2808000"/>
                  <a:ext cx="171576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2" name=""/>
              <p:cNvGrpSpPr/>
              <p:nvPr/>
            </p:nvGrpSpPr>
            <p:grpSpPr>
              <a:xfrm>
                <a:off x="2151000" y="2484360"/>
                <a:ext cx="3430800" cy="1472400"/>
                <a:chOff x="2151000" y="2484360"/>
                <a:chExt cx="3430800" cy="1472400"/>
              </a:xfrm>
            </p:grpSpPr>
            <p:sp>
              <p:nvSpPr>
                <p:cNvPr id="873" name=""/>
                <p:cNvSpPr/>
                <p:nvPr/>
              </p:nvSpPr>
              <p:spPr>
                <a:xfrm flipV="1">
                  <a:off x="2151000" y="2751840"/>
                  <a:ext cx="0" cy="1204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 flipV="1">
                  <a:off x="2151000" y="2484360"/>
                  <a:ext cx="1715400" cy="267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 flipV="1">
                  <a:off x="5581800" y="2751840"/>
                  <a:ext cx="0" cy="1204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 flipH="1" flipV="1">
                  <a:off x="3866040" y="2484360"/>
                  <a:ext cx="1715400" cy="267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77" name=""/>
          <p:cNvGrpSpPr/>
          <p:nvPr/>
        </p:nvGrpSpPr>
        <p:grpSpPr>
          <a:xfrm>
            <a:off x="533520" y="2422440"/>
            <a:ext cx="5368320" cy="1944720"/>
            <a:chOff x="533520" y="2422440"/>
            <a:chExt cx="5368320" cy="1944720"/>
          </a:xfrm>
        </p:grpSpPr>
        <p:sp>
          <p:nvSpPr>
            <p:cNvPr id="878" name=""/>
            <p:cNvSpPr/>
            <p:nvPr/>
          </p:nvSpPr>
          <p:spPr>
            <a:xfrm flipV="1">
              <a:off x="3955680" y="2422440"/>
              <a:ext cx="1946160" cy="1944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V="1">
              <a:off x="533520" y="2422440"/>
              <a:ext cx="1940760" cy="1944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"/>
          <p:cNvGrpSpPr/>
          <p:nvPr/>
        </p:nvGrpSpPr>
        <p:grpSpPr>
          <a:xfrm>
            <a:off x="779400" y="2204640"/>
            <a:ext cx="4847760" cy="2130480"/>
            <a:chOff x="779400" y="2204640"/>
            <a:chExt cx="4847760" cy="2130480"/>
          </a:xfrm>
        </p:grpSpPr>
        <p:sp>
          <p:nvSpPr>
            <p:cNvPr id="881" name=""/>
            <p:cNvSpPr/>
            <p:nvPr/>
          </p:nvSpPr>
          <p:spPr>
            <a:xfrm flipV="1">
              <a:off x="2548440" y="2204640"/>
              <a:ext cx="193500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V="1">
              <a:off x="2841480" y="2248920"/>
              <a:ext cx="194076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V="1">
              <a:off x="3413160" y="2341080"/>
              <a:ext cx="193212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V="1">
              <a:off x="3681000" y="2384640"/>
              <a:ext cx="194616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V="1">
              <a:off x="779400" y="2381400"/>
              <a:ext cx="1985400" cy="1953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V="1">
              <a:off x="1103040" y="2338560"/>
              <a:ext cx="1938600" cy="1943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V="1">
              <a:off x="1655280" y="2247480"/>
              <a:ext cx="194292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1934640" y="2204640"/>
              <a:ext cx="1973520" cy="19508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V="1">
              <a:off x="1371600" y="2298600"/>
              <a:ext cx="194796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V="1">
              <a:off x="3124440" y="2290680"/>
              <a:ext cx="1940760" cy="1947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1" name=""/>
          <p:cNvSpPr/>
          <p:nvPr/>
        </p:nvSpPr>
        <p:spPr>
          <a:xfrm flipV="1">
            <a:off x="2244600" y="2158920"/>
            <a:ext cx="1944720" cy="19382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2" name=""/>
          <p:cNvGrpSpPr/>
          <p:nvPr/>
        </p:nvGrpSpPr>
        <p:grpSpPr>
          <a:xfrm>
            <a:off x="531720" y="4368600"/>
            <a:ext cx="3430800" cy="1198080"/>
            <a:chOff x="531720" y="4368600"/>
            <a:chExt cx="3430800" cy="1198080"/>
          </a:xfrm>
        </p:grpSpPr>
        <p:sp>
          <p:nvSpPr>
            <p:cNvPr id="893" name=""/>
            <p:cNvSpPr/>
            <p:nvPr/>
          </p:nvSpPr>
          <p:spPr>
            <a:xfrm flipV="1">
              <a:off x="2842200" y="5565600"/>
              <a:ext cx="111780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V="1">
              <a:off x="532080" y="4368600"/>
              <a:ext cx="3430440" cy="3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31720" y="4678920"/>
              <a:ext cx="343008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839320" y="5276880"/>
              <a:ext cx="11217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532080" y="4999320"/>
              <a:ext cx="112284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842200" y="4991400"/>
              <a:ext cx="112032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32800" y="5281200"/>
              <a:ext cx="111960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34240" y="5564520"/>
              <a:ext cx="111672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3960720" y="2754360"/>
            <a:ext cx="1943280" cy="2809800"/>
            <a:chOff x="3960720" y="2754360"/>
            <a:chExt cx="1943280" cy="2809800"/>
          </a:xfrm>
        </p:grpSpPr>
        <p:sp>
          <p:nvSpPr>
            <p:cNvPr id="902" name=""/>
            <p:cNvSpPr/>
            <p:nvPr/>
          </p:nvSpPr>
          <p:spPr>
            <a:xfrm flipV="1">
              <a:off x="3960720" y="3636000"/>
              <a:ext cx="1943280" cy="19281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3964680" y="2754360"/>
              <a:ext cx="1937520" cy="1925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V="1">
              <a:off x="3963240" y="3076200"/>
              <a:ext cx="1939320" cy="19137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3961800" y="3332880"/>
              <a:ext cx="194040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6" name=""/>
          <p:cNvSpPr/>
          <p:nvPr/>
        </p:nvSpPr>
        <p:spPr>
          <a:xfrm flipV="1">
            <a:off x="531720" y="4101840"/>
            <a:ext cx="1714680" cy="26676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H="1" flipV="1">
            <a:off x="2249640" y="4103280"/>
            <a:ext cx="1715760" cy="26676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V="1">
            <a:off x="530280" y="4363920"/>
            <a:ext cx="0" cy="119088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 flipV="1">
            <a:off x="3960720" y="4363920"/>
            <a:ext cx="0" cy="119088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 flipV="1">
            <a:off x="2479680" y="2158560"/>
            <a:ext cx="1714320" cy="2653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 flipH="1" flipV="1">
            <a:off x="4193640" y="2158560"/>
            <a:ext cx="1714680" cy="2653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800760" y="2567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6873840" y="263376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co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6800760" y="29988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6873840" y="306540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sab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800760" y="343044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6873840" y="349740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faît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6800760" y="386388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6873840" y="3930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co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6800760" y="42958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6873840" y="4362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Lisse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6800760" y="4727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6873840" y="4794120"/>
            <a:ext cx="180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te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800760" y="5159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873840" y="5226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lée de st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800760" y="5591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6873840" y="565776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6800760" y="17082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6873840" y="1776240"/>
            <a:ext cx="17985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Fo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6800760" y="2135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873840" y="220824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de 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800760" y="6029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873840" y="60958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Bardage couver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28560" y="661176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Suiv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>
            <a:hlinkClick r:id="" action="ppaction://hlinkshowjump?jump=nextslide"/>
          </p:cNvPr>
          <p:cNvSpPr/>
          <p:nvPr/>
        </p:nvSpPr>
        <p:spPr>
          <a:xfrm>
            <a:off x="765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6" name=""/>
          <p:cNvGrpSpPr/>
          <p:nvPr/>
        </p:nvGrpSpPr>
        <p:grpSpPr>
          <a:xfrm>
            <a:off x="525600" y="2160720"/>
            <a:ext cx="5378400" cy="2209320"/>
            <a:chOff x="525600" y="2160720"/>
            <a:chExt cx="5378400" cy="2209320"/>
          </a:xfrm>
        </p:grpSpPr>
        <p:grpSp>
          <p:nvGrpSpPr>
            <p:cNvPr id="937" name=""/>
            <p:cNvGrpSpPr/>
            <p:nvPr/>
          </p:nvGrpSpPr>
          <p:grpSpPr>
            <a:xfrm>
              <a:off x="2151720" y="2160720"/>
              <a:ext cx="3752280" cy="588960"/>
              <a:chOff x="2151720" y="2160720"/>
              <a:chExt cx="3752280" cy="588960"/>
            </a:xfrm>
          </p:grpSpPr>
          <p:sp>
            <p:nvSpPr>
              <p:cNvPr id="938" name=""/>
              <p:cNvSpPr/>
              <p:nvPr/>
            </p:nvSpPr>
            <p:spPr>
              <a:xfrm flipV="1">
                <a:off x="5586480" y="2421000"/>
                <a:ext cx="317520" cy="317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flipV="1">
                <a:off x="3869280" y="2160720"/>
                <a:ext cx="321840" cy="324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flipV="1">
                <a:off x="4461840" y="2251440"/>
                <a:ext cx="317520" cy="318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flipV="1">
                <a:off x="2152080" y="2424960"/>
                <a:ext cx="324360" cy="321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 flipV="1">
                <a:off x="2724120" y="2338200"/>
                <a:ext cx="317520" cy="317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flipV="1">
                <a:off x="3274920" y="2254320"/>
                <a:ext cx="317520" cy="318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4" name=""/>
              <p:cNvGrpSpPr/>
              <p:nvPr/>
            </p:nvGrpSpPr>
            <p:grpSpPr>
              <a:xfrm>
                <a:off x="2151720" y="2160720"/>
                <a:ext cx="3748320" cy="588960"/>
                <a:chOff x="2151720" y="2160720"/>
                <a:chExt cx="3748320" cy="588960"/>
              </a:xfrm>
            </p:grpSpPr>
            <p:sp>
              <p:nvSpPr>
                <p:cNvPr id="945" name=""/>
                <p:cNvSpPr/>
                <p:nvPr/>
              </p:nvSpPr>
              <p:spPr>
                <a:xfrm flipH="1" flipV="1">
                  <a:off x="4188960" y="2160720"/>
                  <a:ext cx="266400" cy="412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 flipH="1">
                  <a:off x="3274200" y="2161080"/>
                  <a:ext cx="912960" cy="4136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 flipH="1" flipV="1">
                  <a:off x="5353920" y="2337480"/>
                  <a:ext cx="225360" cy="412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 flipV="1">
                  <a:off x="5025240" y="2422080"/>
                  <a:ext cx="874800" cy="2401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 flipH="1" flipV="1">
                  <a:off x="4782240" y="2251800"/>
                  <a:ext cx="242640" cy="4114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 flipH="1">
                  <a:off x="4458240" y="2335320"/>
                  <a:ext cx="896400" cy="2404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 flipH="1">
                  <a:off x="3871800" y="2247840"/>
                  <a:ext cx="909720" cy="2329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 flipH="1" flipV="1">
                  <a:off x="3593160" y="2254680"/>
                  <a:ext cx="285840" cy="2343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 flipH="1" flipV="1">
                  <a:off x="3045960" y="2335320"/>
                  <a:ext cx="236160" cy="2419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 flipH="1">
                  <a:off x="2720520" y="2256480"/>
                  <a:ext cx="873720" cy="4060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 flipH="1" flipV="1">
                  <a:off x="2478600" y="2426400"/>
                  <a:ext cx="239400" cy="2343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 flipH="1">
                  <a:off x="2151720" y="2336760"/>
                  <a:ext cx="894240" cy="4104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 flipV="1">
                  <a:off x="2479680" y="2162880"/>
                  <a:ext cx="1708200" cy="2581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 flipV="1">
                  <a:off x="2167560" y="2481840"/>
                  <a:ext cx="1705320" cy="263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3870360" y="2480400"/>
                  <a:ext cx="1710360" cy="2692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4195080" y="2160720"/>
                  <a:ext cx="1697760" cy="2606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1" name=""/>
              <p:cNvSpPr/>
              <p:nvPr/>
            </p:nvSpPr>
            <p:spPr>
              <a:xfrm flipV="1">
                <a:off x="5026320" y="2337480"/>
                <a:ext cx="326160" cy="326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2" name=""/>
            <p:cNvGrpSpPr/>
            <p:nvPr/>
          </p:nvGrpSpPr>
          <p:grpSpPr>
            <a:xfrm>
              <a:off x="525600" y="3780000"/>
              <a:ext cx="3754440" cy="590040"/>
              <a:chOff x="525600" y="3780000"/>
              <a:chExt cx="3754440" cy="590040"/>
            </a:xfrm>
          </p:grpSpPr>
          <p:sp>
            <p:nvSpPr>
              <p:cNvPr id="963" name=""/>
              <p:cNvSpPr/>
              <p:nvPr/>
            </p:nvSpPr>
            <p:spPr>
              <a:xfrm flipV="1">
                <a:off x="3956760" y="4044600"/>
                <a:ext cx="321840" cy="3211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 flipV="1">
                <a:off x="2839320" y="3871800"/>
                <a:ext cx="320400" cy="320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flipV="1">
                <a:off x="2243880" y="3784680"/>
                <a:ext cx="316080" cy="315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2240640" y="4100760"/>
                <a:ext cx="1716120" cy="269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flipH="1" flipV="1">
                <a:off x="2565000" y="3782160"/>
                <a:ext cx="267840" cy="413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flipH="1" flipV="1">
                <a:off x="3731400" y="3960720"/>
                <a:ext cx="228240" cy="407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 flipV="1">
                <a:off x="3408120" y="4045320"/>
                <a:ext cx="866160" cy="238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 flipH="1" flipV="1">
                <a:off x="3160800" y="3873960"/>
                <a:ext cx="248400" cy="413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 flipH="1">
                <a:off x="2832840" y="3960000"/>
                <a:ext cx="896400" cy="2361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 flipH="1">
                <a:off x="2242440" y="3872520"/>
                <a:ext cx="919440" cy="228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2569680" y="3780720"/>
                <a:ext cx="1710360" cy="264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 flipV="1">
                <a:off x="3409560" y="3960000"/>
                <a:ext cx="320400" cy="321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 flipV="1">
                <a:off x="1652760" y="3868920"/>
                <a:ext cx="320400" cy="322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 flipV="1">
                <a:off x="1101600" y="3952800"/>
                <a:ext cx="322920" cy="325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flipV="1">
                <a:off x="535320" y="4100760"/>
                <a:ext cx="1704960" cy="2664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 flipV="1">
                <a:off x="851400" y="3780720"/>
                <a:ext cx="1722240" cy="262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H="1">
                <a:off x="1650240" y="3780000"/>
                <a:ext cx="917280" cy="413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flipH="1" flipV="1">
                <a:off x="1970640" y="3872160"/>
                <a:ext cx="268560" cy="228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flipH="1" flipV="1">
                <a:off x="1422000" y="3952800"/>
                <a:ext cx="227520" cy="239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 flipH="1">
                <a:off x="1104120" y="3876840"/>
                <a:ext cx="859680" cy="403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flipH="1" flipV="1">
                <a:off x="852120" y="4042440"/>
                <a:ext cx="246600" cy="235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flipH="1">
                <a:off x="529200" y="3955680"/>
                <a:ext cx="889920" cy="413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 flipV="1">
                <a:off x="525600" y="4044240"/>
                <a:ext cx="325800" cy="325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986" name="" descr=""/>
          <p:cNvPicPr/>
          <p:nvPr/>
        </p:nvPicPr>
        <p:blipFill>
          <a:blip r:embed="rId1"/>
          <a:stretch/>
        </p:blipFill>
        <p:spPr>
          <a:xfrm>
            <a:off x="6797520" y="271440"/>
            <a:ext cx="86688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"/>
          <p:cNvSpPr/>
          <p:nvPr/>
        </p:nvSpPr>
        <p:spPr>
          <a:xfrm>
            <a:off x="1149480" y="263700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ent trans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>
            <a:hlinkClick r:id="" action="ppaction://hlinkshowjump?jump=previousslide"/>
          </p:cNvPr>
          <p:cNvSpPr/>
          <p:nvPr/>
        </p:nvSpPr>
        <p:spPr>
          <a:xfrm>
            <a:off x="243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28520" y="6613560"/>
            <a:ext cx="58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Arriè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954680" y="272268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983120" y="278748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5904000" y="272268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>
            <a:hlinkClick r:id="" action="ppaction://hlinkshowjump?jump=nextslide"/>
          </p:cNvPr>
          <p:cNvSpPr/>
          <p:nvPr/>
        </p:nvSpPr>
        <p:spPr>
          <a:xfrm>
            <a:off x="5932440" y="278748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0" y="757080"/>
            <a:ext cx="91440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les sont les catégories de charges reprises par la poutre au ven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695840" y="313524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6" name=""/>
          <p:cNvGrpSpPr/>
          <p:nvPr/>
        </p:nvGrpSpPr>
        <p:grpSpPr>
          <a:xfrm>
            <a:off x="4789440" y="4856040"/>
            <a:ext cx="4276800" cy="1968480"/>
            <a:chOff x="4789440" y="4856040"/>
            <a:chExt cx="4276800" cy="1968480"/>
          </a:xfrm>
        </p:grpSpPr>
        <p:grpSp>
          <p:nvGrpSpPr>
            <p:cNvPr id="997" name=""/>
            <p:cNvGrpSpPr/>
            <p:nvPr/>
          </p:nvGrpSpPr>
          <p:grpSpPr>
            <a:xfrm>
              <a:off x="5641920" y="4986360"/>
              <a:ext cx="2466360" cy="1428840"/>
              <a:chOff x="5641920" y="4986360"/>
              <a:chExt cx="2466360" cy="1428840"/>
            </a:xfrm>
          </p:grpSpPr>
          <p:grpSp>
            <p:nvGrpSpPr>
              <p:cNvPr id="998" name=""/>
              <p:cNvGrpSpPr/>
              <p:nvPr/>
            </p:nvGrpSpPr>
            <p:grpSpPr>
              <a:xfrm>
                <a:off x="6522120" y="4986360"/>
                <a:ext cx="1586160" cy="534960"/>
                <a:chOff x="6522120" y="4986360"/>
                <a:chExt cx="1586160" cy="534960"/>
              </a:xfrm>
            </p:grpSpPr>
            <p:sp>
              <p:nvSpPr>
                <p:cNvPr id="999" name=""/>
                <p:cNvSpPr/>
                <p:nvPr/>
              </p:nvSpPr>
              <p:spPr>
                <a:xfrm>
                  <a:off x="6537960" y="4986360"/>
                  <a:ext cx="1570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6534000" y="5142600"/>
                  <a:ext cx="1570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6528240" y="5399640"/>
                  <a:ext cx="15778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6534360" y="5271120"/>
                  <a:ext cx="15717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6522120" y="5521320"/>
                  <a:ext cx="1570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4" name=""/>
              <p:cNvGrpSpPr/>
              <p:nvPr/>
            </p:nvGrpSpPr>
            <p:grpSpPr>
              <a:xfrm>
                <a:off x="5641920" y="5871960"/>
                <a:ext cx="1578960" cy="543240"/>
                <a:chOff x="5641920" y="5871960"/>
                <a:chExt cx="1578960" cy="543240"/>
              </a:xfrm>
            </p:grpSpPr>
            <p:sp>
              <p:nvSpPr>
                <p:cNvPr id="1005" name=""/>
                <p:cNvSpPr/>
                <p:nvPr/>
              </p:nvSpPr>
              <p:spPr>
                <a:xfrm>
                  <a:off x="6705360" y="6415200"/>
                  <a:ext cx="5112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5650200" y="5871960"/>
                  <a:ext cx="15706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5645880" y="6028200"/>
                  <a:ext cx="15706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6702840" y="6285240"/>
                  <a:ext cx="5155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5641920" y="6156720"/>
                  <a:ext cx="517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6702840" y="6156720"/>
                  <a:ext cx="5155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5645880" y="6285240"/>
                  <a:ext cx="517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5645880" y="6412320"/>
                  <a:ext cx="5112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13" name=""/>
            <p:cNvGrpSpPr/>
            <p:nvPr/>
          </p:nvGrpSpPr>
          <p:grpSpPr>
            <a:xfrm>
              <a:off x="5599080" y="5532480"/>
              <a:ext cx="2531880" cy="968400"/>
              <a:chOff x="5599080" y="5532480"/>
              <a:chExt cx="2531880" cy="968400"/>
            </a:xfrm>
          </p:grpSpPr>
          <p:grpSp>
            <p:nvGrpSpPr>
              <p:cNvPr id="1014" name=""/>
              <p:cNvGrpSpPr/>
              <p:nvPr/>
            </p:nvGrpSpPr>
            <p:grpSpPr>
              <a:xfrm>
                <a:off x="5751360" y="5700600"/>
                <a:ext cx="664560" cy="655920"/>
                <a:chOff x="5751360" y="5700600"/>
                <a:chExt cx="664560" cy="655920"/>
              </a:xfrm>
            </p:grpSpPr>
            <p:sp>
              <p:nvSpPr>
                <p:cNvPr id="1015" name=""/>
                <p:cNvSpPr/>
                <p:nvPr/>
              </p:nvSpPr>
              <p:spPr>
                <a:xfrm>
                  <a:off x="6343200" y="5700600"/>
                  <a:ext cx="7272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6192000" y="5838120"/>
                  <a:ext cx="72720" cy="73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6047280" y="5981040"/>
                  <a:ext cx="7272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5897880" y="6129360"/>
                  <a:ext cx="7308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5751360" y="6283800"/>
                  <a:ext cx="7272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0" name=""/>
              <p:cNvGrpSpPr/>
              <p:nvPr/>
            </p:nvGrpSpPr>
            <p:grpSpPr>
              <a:xfrm>
                <a:off x="7328160" y="5688720"/>
                <a:ext cx="654120" cy="663120"/>
                <a:chOff x="7328160" y="5688720"/>
                <a:chExt cx="654120" cy="663120"/>
              </a:xfrm>
            </p:grpSpPr>
            <p:sp>
              <p:nvSpPr>
                <p:cNvPr id="1021" name=""/>
                <p:cNvSpPr/>
                <p:nvPr/>
              </p:nvSpPr>
              <p:spPr>
                <a:xfrm>
                  <a:off x="7909560" y="5688720"/>
                  <a:ext cx="7272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7763400" y="5833440"/>
                  <a:ext cx="7308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7618680" y="5976000"/>
                  <a:ext cx="7272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7466040" y="6124320"/>
                  <a:ext cx="7488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7328160" y="6279120"/>
                  <a:ext cx="7272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6" name=""/>
              <p:cNvGrpSpPr/>
              <p:nvPr/>
            </p:nvGrpSpPr>
            <p:grpSpPr>
              <a:xfrm>
                <a:off x="6483240" y="5532480"/>
                <a:ext cx="1647720" cy="74880"/>
                <a:chOff x="6483240" y="5532480"/>
                <a:chExt cx="1647720" cy="74880"/>
              </a:xfrm>
            </p:grpSpPr>
            <p:sp>
              <p:nvSpPr>
                <p:cNvPr id="1027" name=""/>
                <p:cNvSpPr/>
                <p:nvPr/>
              </p:nvSpPr>
              <p:spPr>
                <a:xfrm>
                  <a:off x="8058240" y="553428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6483240" y="5532480"/>
                  <a:ext cx="7308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7543440" y="5532480"/>
                  <a:ext cx="7308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6749640" y="553248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6996240" y="553248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7259040" y="553248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7806960" y="553248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4" name=""/>
              <p:cNvGrpSpPr/>
              <p:nvPr/>
            </p:nvGrpSpPr>
            <p:grpSpPr>
              <a:xfrm>
                <a:off x="5599080" y="6427800"/>
                <a:ext cx="1644480" cy="73080"/>
                <a:chOff x="5599080" y="6427800"/>
                <a:chExt cx="1644480" cy="73080"/>
              </a:xfrm>
            </p:grpSpPr>
            <p:sp>
              <p:nvSpPr>
                <p:cNvPr id="1035" name=""/>
                <p:cNvSpPr/>
                <p:nvPr/>
              </p:nvSpPr>
              <p:spPr>
                <a:xfrm>
                  <a:off x="7170480" y="6427800"/>
                  <a:ext cx="7308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5599080" y="642780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5863320" y="642780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6115320" y="642780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6661800" y="642780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6914160" y="642780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41" name=""/>
            <p:cNvGrpSpPr/>
            <p:nvPr/>
          </p:nvGrpSpPr>
          <p:grpSpPr>
            <a:xfrm>
              <a:off x="5640480" y="4856040"/>
              <a:ext cx="2462040" cy="1555920"/>
              <a:chOff x="5640480" y="4856040"/>
              <a:chExt cx="2462040" cy="1555920"/>
            </a:xfrm>
          </p:grpSpPr>
          <p:sp>
            <p:nvSpPr>
              <p:cNvPr id="1042" name=""/>
              <p:cNvSpPr/>
              <p:nvPr/>
            </p:nvSpPr>
            <p:spPr>
              <a:xfrm>
                <a:off x="6431760" y="5754600"/>
                <a:ext cx="0" cy="2710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43" name=""/>
              <p:cNvGrpSpPr/>
              <p:nvPr/>
            </p:nvGrpSpPr>
            <p:grpSpPr>
              <a:xfrm>
                <a:off x="5640480" y="4856040"/>
                <a:ext cx="2462040" cy="1555920"/>
                <a:chOff x="5640480" y="4856040"/>
                <a:chExt cx="2462040" cy="1555920"/>
              </a:xfrm>
            </p:grpSpPr>
            <p:grpSp>
              <p:nvGrpSpPr>
                <p:cNvPr id="1044" name=""/>
                <p:cNvGrpSpPr/>
                <p:nvPr/>
              </p:nvGrpSpPr>
              <p:grpSpPr>
                <a:xfrm>
                  <a:off x="6531480" y="4856040"/>
                  <a:ext cx="1571040" cy="662400"/>
                  <a:chOff x="6531480" y="4856040"/>
                  <a:chExt cx="1571040" cy="662400"/>
                </a:xfrm>
              </p:grpSpPr>
              <p:sp>
                <p:nvSpPr>
                  <p:cNvPr id="1045" name=""/>
                  <p:cNvSpPr/>
                  <p:nvPr/>
                </p:nvSpPr>
                <p:spPr>
                  <a:xfrm>
                    <a:off x="7851240" y="4938120"/>
                    <a:ext cx="0" cy="5803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6" name=""/>
                  <p:cNvSpPr/>
                  <p:nvPr/>
                </p:nvSpPr>
                <p:spPr>
                  <a:xfrm>
                    <a:off x="8102520" y="4981680"/>
                    <a:ext cx="0" cy="5367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7588800" y="4903560"/>
                    <a:ext cx="0" cy="614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8" name=""/>
                  <p:cNvSpPr/>
                  <p:nvPr/>
                </p:nvSpPr>
                <p:spPr>
                  <a:xfrm>
                    <a:off x="7317360" y="4856040"/>
                    <a:ext cx="0" cy="6624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9" name=""/>
                  <p:cNvSpPr/>
                  <p:nvPr/>
                </p:nvSpPr>
                <p:spPr>
                  <a:xfrm>
                    <a:off x="7044840" y="4897800"/>
                    <a:ext cx="0" cy="6206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>
                    <a:off x="6531480" y="4979160"/>
                    <a:ext cx="0" cy="5392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1" name=""/>
                  <p:cNvSpPr/>
                  <p:nvPr/>
                </p:nvSpPr>
                <p:spPr>
                  <a:xfrm>
                    <a:off x="6793920" y="4942080"/>
                    <a:ext cx="0" cy="576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52" name=""/>
                <p:cNvGrpSpPr/>
                <p:nvPr/>
              </p:nvGrpSpPr>
              <p:grpSpPr>
                <a:xfrm>
                  <a:off x="5640480" y="5788440"/>
                  <a:ext cx="1576080" cy="623520"/>
                  <a:chOff x="5640480" y="5788440"/>
                  <a:chExt cx="1576080" cy="623520"/>
                </a:xfrm>
              </p:grpSpPr>
              <p:sp>
                <p:nvSpPr>
                  <p:cNvPr id="1053" name=""/>
                  <p:cNvSpPr/>
                  <p:nvPr/>
                </p:nvSpPr>
                <p:spPr>
                  <a:xfrm>
                    <a:off x="6965280" y="5828760"/>
                    <a:ext cx="0" cy="583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4" name=""/>
                  <p:cNvSpPr/>
                  <p:nvPr/>
                </p:nvSpPr>
                <p:spPr>
                  <a:xfrm>
                    <a:off x="7216560" y="5869800"/>
                    <a:ext cx="0" cy="5367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5" name=""/>
                  <p:cNvSpPr/>
                  <p:nvPr/>
                </p:nvSpPr>
                <p:spPr>
                  <a:xfrm>
                    <a:off x="6703200" y="5791680"/>
                    <a:ext cx="0" cy="6177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6159240" y="5788440"/>
                    <a:ext cx="0" cy="621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7" name=""/>
                  <p:cNvSpPr/>
                  <p:nvPr/>
                </p:nvSpPr>
                <p:spPr>
                  <a:xfrm flipH="1">
                    <a:off x="5640480" y="5867280"/>
                    <a:ext cx="5040" cy="5446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8" name=""/>
                  <p:cNvSpPr/>
                  <p:nvPr/>
                </p:nvSpPr>
                <p:spPr>
                  <a:xfrm>
                    <a:off x="5908320" y="5832720"/>
                    <a:ext cx="0" cy="5763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059" name=""/>
            <p:cNvGrpSpPr/>
            <p:nvPr/>
          </p:nvGrpSpPr>
          <p:grpSpPr>
            <a:xfrm>
              <a:off x="5643720" y="4857480"/>
              <a:ext cx="2461680" cy="1009800"/>
              <a:chOff x="5643720" y="4857480"/>
              <a:chExt cx="2461680" cy="1009800"/>
            </a:xfrm>
          </p:grpSpPr>
          <p:grpSp>
            <p:nvGrpSpPr>
              <p:cNvPr id="1060" name=""/>
              <p:cNvGrpSpPr/>
              <p:nvPr/>
            </p:nvGrpSpPr>
            <p:grpSpPr>
              <a:xfrm>
                <a:off x="5643720" y="5596920"/>
                <a:ext cx="1717560" cy="270360"/>
                <a:chOff x="5643720" y="5596920"/>
                <a:chExt cx="1717560" cy="270360"/>
              </a:xfrm>
            </p:grpSpPr>
            <p:sp>
              <p:nvSpPr>
                <p:cNvPr id="1061" name=""/>
                <p:cNvSpPr/>
                <p:nvPr/>
              </p:nvSpPr>
              <p:spPr>
                <a:xfrm flipH="1" flipV="1">
                  <a:off x="6576120" y="5598720"/>
                  <a:ext cx="133560" cy="188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 flipH="1">
                  <a:off x="6151320" y="5598720"/>
                  <a:ext cx="424800" cy="188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 flipH="1" flipV="1">
                  <a:off x="7092360" y="5670720"/>
                  <a:ext cx="120600" cy="196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 flipV="1">
                  <a:off x="6961680" y="5718240"/>
                  <a:ext cx="399600" cy="111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 flipH="1" flipV="1">
                  <a:off x="6839640" y="5642640"/>
                  <a:ext cx="121320" cy="1868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 flipH="1">
                  <a:off x="6699960" y="5676840"/>
                  <a:ext cx="414000" cy="110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 flipH="1">
                  <a:off x="6449760" y="5643000"/>
                  <a:ext cx="390240" cy="100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 flipH="1" flipV="1">
                  <a:off x="6299640" y="5634360"/>
                  <a:ext cx="149400" cy="109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 flipH="1" flipV="1">
                  <a:off x="6053400" y="5676840"/>
                  <a:ext cx="102960" cy="113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 flipH="1">
                  <a:off x="5904720" y="5643000"/>
                  <a:ext cx="395280" cy="1868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 flipH="1" flipV="1">
                  <a:off x="5791680" y="5718240"/>
                  <a:ext cx="114480" cy="106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 flipH="1">
                  <a:off x="5643720" y="5676840"/>
                  <a:ext cx="409680" cy="19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 flipV="1">
                  <a:off x="7210800" y="571824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 flipV="1">
                  <a:off x="6439320" y="559692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 flipV="1">
                  <a:off x="6703560" y="563904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 flipV="1">
                  <a:off x="5646240" y="571572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 flipV="1">
                  <a:off x="5910480" y="567612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 flipV="1">
                  <a:off x="6159240" y="563904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 flipV="1">
                  <a:off x="5789160" y="5599800"/>
                  <a:ext cx="79020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 flipV="1">
                  <a:off x="5646240" y="5747760"/>
                  <a:ext cx="79020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6436440" y="5747760"/>
                  <a:ext cx="76896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6581880" y="5599800"/>
                  <a:ext cx="76896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 flipV="1">
                  <a:off x="6954480" y="568404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4" name=""/>
              <p:cNvGrpSpPr/>
              <p:nvPr/>
            </p:nvGrpSpPr>
            <p:grpSpPr>
              <a:xfrm>
                <a:off x="6387840" y="4857480"/>
                <a:ext cx="1717560" cy="270360"/>
                <a:chOff x="6387840" y="4857480"/>
                <a:chExt cx="1717560" cy="270360"/>
              </a:xfrm>
            </p:grpSpPr>
            <p:sp>
              <p:nvSpPr>
                <p:cNvPr id="1085" name=""/>
                <p:cNvSpPr/>
                <p:nvPr/>
              </p:nvSpPr>
              <p:spPr>
                <a:xfrm flipH="1" flipV="1">
                  <a:off x="7320240" y="4859280"/>
                  <a:ext cx="133560" cy="188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 flipH="1">
                  <a:off x="6895440" y="4859280"/>
                  <a:ext cx="424800" cy="188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 flipH="1" flipV="1">
                  <a:off x="7836480" y="4931280"/>
                  <a:ext cx="120600" cy="196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 flipV="1">
                  <a:off x="7705800" y="4978800"/>
                  <a:ext cx="399600" cy="111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 flipH="1" flipV="1">
                  <a:off x="7583760" y="4903200"/>
                  <a:ext cx="121320" cy="1868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 flipH="1">
                  <a:off x="7444080" y="4937400"/>
                  <a:ext cx="414000" cy="110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 flipH="1">
                  <a:off x="7193880" y="4903560"/>
                  <a:ext cx="390240" cy="100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 flipH="1" flipV="1">
                  <a:off x="7043760" y="4894920"/>
                  <a:ext cx="149400" cy="109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 flipH="1" flipV="1">
                  <a:off x="6797520" y="4937400"/>
                  <a:ext cx="102960" cy="113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 flipH="1">
                  <a:off x="6648840" y="4903560"/>
                  <a:ext cx="395280" cy="1868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 flipH="1" flipV="1">
                  <a:off x="6535800" y="4978800"/>
                  <a:ext cx="114480" cy="106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 flipH="1">
                  <a:off x="6387840" y="4937400"/>
                  <a:ext cx="409680" cy="19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 flipV="1">
                  <a:off x="7954920" y="497880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 flipV="1">
                  <a:off x="7183440" y="485748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 flipV="1">
                  <a:off x="7447680" y="489960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 flipV="1">
                  <a:off x="6390360" y="497628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 flipV="1">
                  <a:off x="6654600" y="493668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 flipV="1">
                  <a:off x="6903360" y="489960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 flipV="1">
                  <a:off x="6533280" y="4860360"/>
                  <a:ext cx="79020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 flipV="1">
                  <a:off x="6390360" y="5008320"/>
                  <a:ext cx="79020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7180560" y="5008320"/>
                  <a:ext cx="76896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7326000" y="4860360"/>
                  <a:ext cx="76896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 flipV="1">
                  <a:off x="7698600" y="494460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08" name=""/>
            <p:cNvGrpSpPr/>
            <p:nvPr/>
          </p:nvGrpSpPr>
          <p:grpSpPr>
            <a:xfrm>
              <a:off x="5641560" y="4976280"/>
              <a:ext cx="2460960" cy="1440360"/>
              <a:chOff x="5641560" y="4976280"/>
              <a:chExt cx="2460960" cy="1440360"/>
            </a:xfrm>
          </p:grpSpPr>
          <p:grpSp>
            <p:nvGrpSpPr>
              <p:cNvPr id="1109" name=""/>
              <p:cNvGrpSpPr/>
              <p:nvPr/>
            </p:nvGrpSpPr>
            <p:grpSpPr>
              <a:xfrm>
                <a:off x="7211520" y="5716080"/>
                <a:ext cx="151200" cy="695160"/>
                <a:chOff x="7211520" y="5716080"/>
                <a:chExt cx="151200" cy="695160"/>
              </a:xfrm>
            </p:grpSpPr>
            <p:sp>
              <p:nvSpPr>
                <p:cNvPr id="1110" name=""/>
                <p:cNvSpPr/>
                <p:nvPr/>
              </p:nvSpPr>
              <p:spPr>
                <a:xfrm flipV="1">
                  <a:off x="7214400" y="6006600"/>
                  <a:ext cx="147960" cy="404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 flipH="1" flipV="1">
                  <a:off x="7211520" y="5863680"/>
                  <a:ext cx="150840" cy="142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 flipH="1" flipV="1">
                  <a:off x="7214040" y="6146640"/>
                  <a:ext cx="147960" cy="116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 flipV="1">
                  <a:off x="7214400" y="5718600"/>
                  <a:ext cx="147960" cy="429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 flipV="1">
                  <a:off x="7211880" y="571608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7214400" y="586440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 flipV="1">
                  <a:off x="7214400" y="600408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7362720" y="572148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8" name=""/>
              <p:cNvGrpSpPr/>
              <p:nvPr/>
            </p:nvGrpSpPr>
            <p:grpSpPr>
              <a:xfrm>
                <a:off x="5641560" y="5721480"/>
                <a:ext cx="151200" cy="695160"/>
                <a:chOff x="5641560" y="5721480"/>
                <a:chExt cx="151200" cy="695160"/>
              </a:xfrm>
            </p:grpSpPr>
            <p:sp>
              <p:nvSpPr>
                <p:cNvPr id="1119" name=""/>
                <p:cNvSpPr/>
                <p:nvPr/>
              </p:nvSpPr>
              <p:spPr>
                <a:xfrm flipV="1">
                  <a:off x="5644440" y="6012000"/>
                  <a:ext cx="147960" cy="404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 flipH="1" flipV="1">
                  <a:off x="5641560" y="5869080"/>
                  <a:ext cx="150840" cy="142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 flipH="1" flipV="1">
                  <a:off x="5644080" y="6152040"/>
                  <a:ext cx="147960" cy="116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 flipV="1">
                  <a:off x="5644440" y="5724000"/>
                  <a:ext cx="147960" cy="429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 flipV="1">
                  <a:off x="5641920" y="572148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5644440" y="586980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 flipV="1">
                  <a:off x="5644440" y="600948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5792760" y="572688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7" name=""/>
              <p:cNvGrpSpPr/>
              <p:nvPr/>
            </p:nvGrpSpPr>
            <p:grpSpPr>
              <a:xfrm>
                <a:off x="7951320" y="4976280"/>
                <a:ext cx="151200" cy="695160"/>
                <a:chOff x="7951320" y="4976280"/>
                <a:chExt cx="151200" cy="695160"/>
              </a:xfrm>
            </p:grpSpPr>
            <p:sp>
              <p:nvSpPr>
                <p:cNvPr id="1128" name=""/>
                <p:cNvSpPr/>
                <p:nvPr/>
              </p:nvSpPr>
              <p:spPr>
                <a:xfrm flipV="1">
                  <a:off x="7954200" y="5266800"/>
                  <a:ext cx="147960" cy="404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 flipH="1" flipV="1">
                  <a:off x="7951320" y="5123880"/>
                  <a:ext cx="150840" cy="142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 flipH="1" flipV="1">
                  <a:off x="7953840" y="5406840"/>
                  <a:ext cx="147960" cy="116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 flipV="1">
                  <a:off x="7954200" y="4978800"/>
                  <a:ext cx="147960" cy="429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 flipV="1">
                  <a:off x="7951680" y="497628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7954200" y="512460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 flipV="1">
                  <a:off x="7954200" y="526428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8102520" y="498168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6" name=""/>
              <p:cNvGrpSpPr/>
              <p:nvPr/>
            </p:nvGrpSpPr>
            <p:grpSpPr>
              <a:xfrm>
                <a:off x="6381360" y="4983840"/>
                <a:ext cx="151200" cy="695160"/>
                <a:chOff x="6381360" y="4983840"/>
                <a:chExt cx="151200" cy="695160"/>
              </a:xfrm>
            </p:grpSpPr>
            <p:sp>
              <p:nvSpPr>
                <p:cNvPr id="1137" name=""/>
                <p:cNvSpPr/>
                <p:nvPr/>
              </p:nvSpPr>
              <p:spPr>
                <a:xfrm flipV="1">
                  <a:off x="6384240" y="5274360"/>
                  <a:ext cx="147960" cy="404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 flipH="1" flipV="1">
                  <a:off x="6381360" y="5131440"/>
                  <a:ext cx="150840" cy="142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 flipH="1" flipV="1">
                  <a:off x="6383880" y="5414400"/>
                  <a:ext cx="147960" cy="116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 flipV="1">
                  <a:off x="6384240" y="4986360"/>
                  <a:ext cx="147960" cy="429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 flipV="1">
                  <a:off x="6381720" y="498384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6384240" y="513216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 flipV="1">
                  <a:off x="6384240" y="527184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6532560" y="498924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45" name=""/>
            <p:cNvGrpSpPr/>
            <p:nvPr/>
          </p:nvGrpSpPr>
          <p:grpSpPr>
            <a:xfrm>
              <a:off x="5792760" y="5006520"/>
              <a:ext cx="2162160" cy="1255680"/>
              <a:chOff x="5792760" y="5006520"/>
              <a:chExt cx="2162160" cy="1255680"/>
            </a:xfrm>
          </p:grpSpPr>
          <p:grpSp>
            <p:nvGrpSpPr>
              <p:cNvPr id="1146" name=""/>
              <p:cNvGrpSpPr/>
              <p:nvPr/>
            </p:nvGrpSpPr>
            <p:grpSpPr>
              <a:xfrm>
                <a:off x="5792760" y="5598360"/>
                <a:ext cx="1570320" cy="663840"/>
                <a:chOff x="5792760" y="5598360"/>
                <a:chExt cx="1570320" cy="663840"/>
              </a:xfrm>
            </p:grpSpPr>
            <p:sp>
              <p:nvSpPr>
                <p:cNvPr id="1147" name=""/>
                <p:cNvSpPr/>
                <p:nvPr/>
              </p:nvSpPr>
              <p:spPr>
                <a:xfrm flipV="1">
                  <a:off x="5792760" y="571896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 flipV="1">
                  <a:off x="5792760" y="559836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 flipV="1">
                  <a:off x="7363080" y="571896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 flipH="1" flipV="1">
                  <a:off x="6577560" y="559836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1" name=""/>
              <p:cNvGrpSpPr/>
              <p:nvPr/>
            </p:nvGrpSpPr>
            <p:grpSpPr>
              <a:xfrm>
                <a:off x="5940720" y="5450400"/>
                <a:ext cx="1570320" cy="663840"/>
                <a:chOff x="5940720" y="5450400"/>
                <a:chExt cx="1570320" cy="663840"/>
              </a:xfrm>
            </p:grpSpPr>
            <p:sp>
              <p:nvSpPr>
                <p:cNvPr id="1152" name=""/>
                <p:cNvSpPr/>
                <p:nvPr/>
              </p:nvSpPr>
              <p:spPr>
                <a:xfrm flipV="1">
                  <a:off x="5940720" y="557100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 flipV="1">
                  <a:off x="5940720" y="545040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 flipV="1">
                  <a:off x="7511040" y="557100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 flipH="1" flipV="1">
                  <a:off x="6725520" y="545040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6" name=""/>
              <p:cNvGrpSpPr/>
              <p:nvPr/>
            </p:nvGrpSpPr>
            <p:grpSpPr>
              <a:xfrm>
                <a:off x="6088680" y="5302440"/>
                <a:ext cx="1570320" cy="663840"/>
                <a:chOff x="6088680" y="5302440"/>
                <a:chExt cx="1570320" cy="663840"/>
              </a:xfrm>
            </p:grpSpPr>
            <p:sp>
              <p:nvSpPr>
                <p:cNvPr id="1157" name=""/>
                <p:cNvSpPr/>
                <p:nvPr/>
              </p:nvSpPr>
              <p:spPr>
                <a:xfrm flipV="1">
                  <a:off x="6088680" y="542304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 flipV="1">
                  <a:off x="6088680" y="530244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 flipV="1">
                  <a:off x="7659000" y="542304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 flipH="1" flipV="1">
                  <a:off x="6873480" y="530244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1" name=""/>
              <p:cNvGrpSpPr/>
              <p:nvPr/>
            </p:nvGrpSpPr>
            <p:grpSpPr>
              <a:xfrm>
                <a:off x="6236640" y="5154120"/>
                <a:ext cx="1570320" cy="663840"/>
                <a:chOff x="6236640" y="5154120"/>
                <a:chExt cx="1570320" cy="663840"/>
              </a:xfrm>
            </p:grpSpPr>
            <p:sp>
              <p:nvSpPr>
                <p:cNvPr id="1162" name=""/>
                <p:cNvSpPr/>
                <p:nvPr/>
              </p:nvSpPr>
              <p:spPr>
                <a:xfrm flipV="1">
                  <a:off x="6236640" y="527472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 flipV="1">
                  <a:off x="6236640" y="515412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 flipV="1">
                  <a:off x="7806960" y="527472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 flipH="1" flipV="1">
                  <a:off x="7021440" y="515412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6" name=""/>
              <p:cNvGrpSpPr/>
              <p:nvPr/>
            </p:nvGrpSpPr>
            <p:grpSpPr>
              <a:xfrm>
                <a:off x="6384600" y="5006520"/>
                <a:ext cx="1570320" cy="663840"/>
                <a:chOff x="6384600" y="5006520"/>
                <a:chExt cx="1570320" cy="663840"/>
              </a:xfrm>
            </p:grpSpPr>
            <p:sp>
              <p:nvSpPr>
                <p:cNvPr id="1167" name=""/>
                <p:cNvSpPr/>
                <p:nvPr/>
              </p:nvSpPr>
              <p:spPr>
                <a:xfrm flipV="1">
                  <a:off x="6384600" y="512712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 flipV="1">
                  <a:off x="6384600" y="500652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 flipV="1">
                  <a:off x="7954920" y="512712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 flipH="1" flipV="1">
                  <a:off x="7169400" y="500652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71" name=""/>
            <p:cNvGrpSpPr/>
            <p:nvPr/>
          </p:nvGrpSpPr>
          <p:grpSpPr>
            <a:xfrm>
              <a:off x="5643720" y="5130360"/>
              <a:ext cx="2458800" cy="1283040"/>
              <a:chOff x="5643720" y="5130360"/>
              <a:chExt cx="2458800" cy="1283040"/>
            </a:xfrm>
          </p:grpSpPr>
          <p:grpSp>
            <p:nvGrpSpPr>
              <p:cNvPr id="1172" name=""/>
              <p:cNvGrpSpPr/>
              <p:nvPr/>
            </p:nvGrpSpPr>
            <p:grpSpPr>
              <a:xfrm>
                <a:off x="5643720" y="5139000"/>
                <a:ext cx="888120" cy="1274400"/>
                <a:chOff x="5643720" y="5139000"/>
                <a:chExt cx="888120" cy="1274400"/>
              </a:xfrm>
            </p:grpSpPr>
            <p:sp>
              <p:nvSpPr>
                <p:cNvPr id="1173" name=""/>
                <p:cNvSpPr/>
                <p:nvPr/>
              </p:nvSpPr>
              <p:spPr>
                <a:xfrm flipV="1">
                  <a:off x="5643720" y="5139000"/>
                  <a:ext cx="888120" cy="887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 flipV="1">
                  <a:off x="5643720" y="5275080"/>
                  <a:ext cx="888120" cy="887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 flipV="1">
                  <a:off x="5643720" y="5395680"/>
                  <a:ext cx="888120" cy="887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 flipV="1">
                  <a:off x="5643720" y="5525640"/>
                  <a:ext cx="888120" cy="887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7" name=""/>
              <p:cNvGrpSpPr/>
              <p:nvPr/>
            </p:nvGrpSpPr>
            <p:grpSpPr>
              <a:xfrm>
                <a:off x="7214400" y="5130360"/>
                <a:ext cx="888120" cy="1282680"/>
                <a:chOff x="7214400" y="5130360"/>
                <a:chExt cx="888120" cy="1282680"/>
              </a:xfrm>
            </p:grpSpPr>
            <p:sp>
              <p:nvSpPr>
                <p:cNvPr id="1178" name=""/>
                <p:cNvSpPr/>
                <p:nvPr/>
              </p:nvSpPr>
              <p:spPr>
                <a:xfrm flipV="1">
                  <a:off x="7214400" y="5525640"/>
                  <a:ext cx="888120" cy="887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 flipV="1">
                  <a:off x="7214400" y="5130360"/>
                  <a:ext cx="888120" cy="887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 flipV="1">
                  <a:off x="7214400" y="5266080"/>
                  <a:ext cx="888120" cy="887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 flipV="1">
                  <a:off x="7214400" y="5396400"/>
                  <a:ext cx="888120" cy="887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82" name=""/>
            <p:cNvSpPr/>
            <p:nvPr/>
          </p:nvSpPr>
          <p:spPr>
            <a:xfrm flipV="1">
              <a:off x="6431040" y="4863600"/>
              <a:ext cx="890640" cy="8874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3" name=""/>
            <p:cNvGrpSpPr/>
            <p:nvPr/>
          </p:nvGrpSpPr>
          <p:grpSpPr>
            <a:xfrm>
              <a:off x="5643720" y="4979520"/>
              <a:ext cx="2457000" cy="887400"/>
              <a:chOff x="5643720" y="4979520"/>
              <a:chExt cx="2457000" cy="887400"/>
            </a:xfrm>
          </p:grpSpPr>
          <p:sp>
            <p:nvSpPr>
              <p:cNvPr id="1184" name=""/>
              <p:cNvSpPr/>
              <p:nvPr/>
            </p:nvSpPr>
            <p:spPr>
              <a:xfrm flipV="1">
                <a:off x="7210080" y="4979520"/>
                <a:ext cx="890640" cy="887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 flipV="1">
                <a:off x="5643720" y="4979520"/>
                <a:ext cx="888120" cy="887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6" name=""/>
            <p:cNvGrpSpPr/>
            <p:nvPr/>
          </p:nvGrpSpPr>
          <p:grpSpPr>
            <a:xfrm>
              <a:off x="5761080" y="4878360"/>
              <a:ext cx="2216160" cy="973080"/>
              <a:chOff x="5761080" y="4878360"/>
              <a:chExt cx="2216160" cy="973080"/>
            </a:xfrm>
          </p:grpSpPr>
          <p:sp>
            <p:nvSpPr>
              <p:cNvPr id="1187" name=""/>
              <p:cNvSpPr/>
              <p:nvPr/>
            </p:nvSpPr>
            <p:spPr>
              <a:xfrm flipV="1">
                <a:off x="6577560" y="4881960"/>
                <a:ext cx="89064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 flipV="1">
                <a:off x="6711480" y="4893840"/>
                <a:ext cx="89064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 flipV="1">
                <a:off x="6963120" y="4937400"/>
                <a:ext cx="89064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 flipV="1">
                <a:off x="7086600" y="4962960"/>
                <a:ext cx="89064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 flipV="1">
                <a:off x="5761080" y="4962960"/>
                <a:ext cx="87876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 flipV="1">
                <a:off x="5907240" y="4942440"/>
                <a:ext cx="87876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 flipV="1">
                <a:off x="6157440" y="4902480"/>
                <a:ext cx="87876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 flipV="1">
                <a:off x="6292440" y="4878360"/>
                <a:ext cx="88200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 flipV="1">
                <a:off x="6028560" y="4923000"/>
                <a:ext cx="87876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 flipV="1">
                <a:off x="6822360" y="4917960"/>
                <a:ext cx="890640" cy="894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7" name=""/>
            <p:cNvGrpSpPr/>
            <p:nvPr/>
          </p:nvGrpSpPr>
          <p:grpSpPr>
            <a:xfrm>
              <a:off x="5645160" y="4858920"/>
              <a:ext cx="2457360" cy="1553040"/>
              <a:chOff x="5645160" y="4858920"/>
              <a:chExt cx="2457360" cy="1553040"/>
            </a:xfrm>
          </p:grpSpPr>
          <p:sp>
            <p:nvSpPr>
              <p:cNvPr id="1198" name=""/>
              <p:cNvSpPr/>
              <p:nvPr/>
            </p:nvSpPr>
            <p:spPr>
              <a:xfrm flipV="1">
                <a:off x="5645160" y="5747040"/>
                <a:ext cx="784800" cy="12060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 flipH="1" flipV="1">
                <a:off x="6429960" y="5747040"/>
                <a:ext cx="784800" cy="12060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 flipV="1">
                <a:off x="6532920" y="4858920"/>
                <a:ext cx="784800" cy="12060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01" name=""/>
              <p:cNvGrpSpPr/>
              <p:nvPr/>
            </p:nvGrpSpPr>
            <p:grpSpPr>
              <a:xfrm>
                <a:off x="5645160" y="4979880"/>
                <a:ext cx="2457360" cy="1432080"/>
                <a:chOff x="5645160" y="4979880"/>
                <a:chExt cx="2457360" cy="1432080"/>
              </a:xfrm>
            </p:grpSpPr>
            <p:sp>
              <p:nvSpPr>
                <p:cNvPr id="1202" name=""/>
                <p:cNvSpPr/>
                <p:nvPr/>
              </p:nvSpPr>
              <p:spPr>
                <a:xfrm flipV="1">
                  <a:off x="5645160" y="5868360"/>
                  <a:ext cx="0" cy="54360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 flipV="1">
                  <a:off x="7214760" y="5868360"/>
                  <a:ext cx="0" cy="54360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 flipV="1">
                  <a:off x="6532920" y="4979880"/>
                  <a:ext cx="0" cy="54360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 flipV="1">
                  <a:off x="8102520" y="4979880"/>
                  <a:ext cx="0" cy="54360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6" name=""/>
              <p:cNvSpPr/>
              <p:nvPr/>
            </p:nvSpPr>
            <p:spPr>
              <a:xfrm flipH="1" flipV="1">
                <a:off x="7317720" y="4858920"/>
                <a:ext cx="784800" cy="12060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7" name=""/>
            <p:cNvSpPr/>
            <p:nvPr/>
          </p:nvSpPr>
          <p:spPr>
            <a:xfrm>
              <a:off x="8097840" y="5624640"/>
              <a:ext cx="968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ffcc"/>
                  </a:solidFill>
                  <a:latin typeface="Arial"/>
                </a:rPr>
                <a:t>Vent transvers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789440" y="6561000"/>
              <a:ext cx="134784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ffcc"/>
                  </a:solidFill>
                  <a:latin typeface="Arial"/>
                </a:rPr>
                <a:t>Vent longitudi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rot="8034000">
              <a:off x="6047640" y="6285600"/>
              <a:ext cx="564840" cy="334800"/>
            </a:xfrm>
            <a:prstGeom prst="leftArrow">
              <a:avLst>
                <a:gd name="adj1" fmla="val 50000"/>
                <a:gd name="adj2" fmla="val 4217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H="1">
              <a:off x="7660440" y="5629320"/>
              <a:ext cx="592200" cy="287280"/>
            </a:xfrm>
            <a:prstGeom prst="rightArrow">
              <a:avLst>
                <a:gd name="adj1" fmla="val 50000"/>
                <a:gd name="adj2" fmla="val 51535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"/>
          <p:cNvSpPr/>
          <p:nvPr/>
        </p:nvSpPr>
        <p:spPr>
          <a:xfrm>
            <a:off x="1149480" y="263700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ent trans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1149480" y="324000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ent longitud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4954680" y="334332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>
            <a:hlinkClick r:id="" action="ppaction://hlinkshowjump?jump=nextslide"/>
          </p:cNvPr>
          <p:cNvSpPr/>
          <p:nvPr/>
        </p:nvSpPr>
        <p:spPr>
          <a:xfrm>
            <a:off x="4983120" y="3408480"/>
            <a:ext cx="69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5904000" y="334332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5932440" y="3408480"/>
            <a:ext cx="69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4954680" y="272268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983120" y="278748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5904000" y="272268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932440" y="278748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4695840" y="376236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0" y="757080"/>
            <a:ext cx="91440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les sont les catégories de charges reprises par la poutre au ven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3" name=""/>
          <p:cNvGrpSpPr/>
          <p:nvPr/>
        </p:nvGrpSpPr>
        <p:grpSpPr>
          <a:xfrm>
            <a:off x="4789440" y="4856040"/>
            <a:ext cx="4276800" cy="1968480"/>
            <a:chOff x="4789440" y="4856040"/>
            <a:chExt cx="4276800" cy="1968480"/>
          </a:xfrm>
        </p:grpSpPr>
        <p:grpSp>
          <p:nvGrpSpPr>
            <p:cNvPr id="1224" name=""/>
            <p:cNvGrpSpPr/>
            <p:nvPr/>
          </p:nvGrpSpPr>
          <p:grpSpPr>
            <a:xfrm>
              <a:off x="5641920" y="4986360"/>
              <a:ext cx="2466360" cy="1428840"/>
              <a:chOff x="5641920" y="4986360"/>
              <a:chExt cx="2466360" cy="1428840"/>
            </a:xfrm>
          </p:grpSpPr>
          <p:grpSp>
            <p:nvGrpSpPr>
              <p:cNvPr id="1225" name=""/>
              <p:cNvGrpSpPr/>
              <p:nvPr/>
            </p:nvGrpSpPr>
            <p:grpSpPr>
              <a:xfrm>
                <a:off x="6522120" y="4986360"/>
                <a:ext cx="1586160" cy="534960"/>
                <a:chOff x="6522120" y="4986360"/>
                <a:chExt cx="1586160" cy="534960"/>
              </a:xfrm>
            </p:grpSpPr>
            <p:sp>
              <p:nvSpPr>
                <p:cNvPr id="1226" name=""/>
                <p:cNvSpPr/>
                <p:nvPr/>
              </p:nvSpPr>
              <p:spPr>
                <a:xfrm>
                  <a:off x="6537960" y="4986360"/>
                  <a:ext cx="1570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6534000" y="5142600"/>
                  <a:ext cx="1570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6528240" y="5399640"/>
                  <a:ext cx="15778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6534360" y="5271120"/>
                  <a:ext cx="15717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6522120" y="5521320"/>
                  <a:ext cx="1570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1" name=""/>
              <p:cNvGrpSpPr/>
              <p:nvPr/>
            </p:nvGrpSpPr>
            <p:grpSpPr>
              <a:xfrm>
                <a:off x="5641920" y="5871960"/>
                <a:ext cx="1578960" cy="543240"/>
                <a:chOff x="5641920" y="5871960"/>
                <a:chExt cx="1578960" cy="543240"/>
              </a:xfrm>
            </p:grpSpPr>
            <p:sp>
              <p:nvSpPr>
                <p:cNvPr id="1232" name=""/>
                <p:cNvSpPr/>
                <p:nvPr/>
              </p:nvSpPr>
              <p:spPr>
                <a:xfrm>
                  <a:off x="6705360" y="6415200"/>
                  <a:ext cx="5112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5650200" y="5871960"/>
                  <a:ext cx="15706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5645880" y="6028200"/>
                  <a:ext cx="15706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6702840" y="6285240"/>
                  <a:ext cx="5155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5641920" y="6156720"/>
                  <a:ext cx="517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6702840" y="6156720"/>
                  <a:ext cx="5155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5645880" y="6285240"/>
                  <a:ext cx="517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5645880" y="6412320"/>
                  <a:ext cx="5112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40" name=""/>
            <p:cNvGrpSpPr/>
            <p:nvPr/>
          </p:nvGrpSpPr>
          <p:grpSpPr>
            <a:xfrm>
              <a:off x="5599080" y="5532480"/>
              <a:ext cx="2531880" cy="968400"/>
              <a:chOff x="5599080" y="5532480"/>
              <a:chExt cx="2531880" cy="968400"/>
            </a:xfrm>
          </p:grpSpPr>
          <p:grpSp>
            <p:nvGrpSpPr>
              <p:cNvPr id="1241" name=""/>
              <p:cNvGrpSpPr/>
              <p:nvPr/>
            </p:nvGrpSpPr>
            <p:grpSpPr>
              <a:xfrm>
                <a:off x="5751360" y="5700600"/>
                <a:ext cx="664560" cy="655920"/>
                <a:chOff x="5751360" y="5700600"/>
                <a:chExt cx="664560" cy="655920"/>
              </a:xfrm>
            </p:grpSpPr>
            <p:sp>
              <p:nvSpPr>
                <p:cNvPr id="1242" name=""/>
                <p:cNvSpPr/>
                <p:nvPr/>
              </p:nvSpPr>
              <p:spPr>
                <a:xfrm>
                  <a:off x="6343200" y="5700600"/>
                  <a:ext cx="7272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6192000" y="5838120"/>
                  <a:ext cx="72720" cy="73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6047280" y="5981040"/>
                  <a:ext cx="7272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>
                  <a:off x="5897880" y="6129360"/>
                  <a:ext cx="7308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5751360" y="6283800"/>
                  <a:ext cx="7272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7" name=""/>
              <p:cNvGrpSpPr/>
              <p:nvPr/>
            </p:nvGrpSpPr>
            <p:grpSpPr>
              <a:xfrm>
                <a:off x="7328160" y="5688720"/>
                <a:ext cx="654120" cy="663120"/>
                <a:chOff x="7328160" y="5688720"/>
                <a:chExt cx="654120" cy="663120"/>
              </a:xfrm>
            </p:grpSpPr>
            <p:sp>
              <p:nvSpPr>
                <p:cNvPr id="1248" name=""/>
                <p:cNvSpPr/>
                <p:nvPr/>
              </p:nvSpPr>
              <p:spPr>
                <a:xfrm>
                  <a:off x="7909560" y="5688720"/>
                  <a:ext cx="7272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7763400" y="5833440"/>
                  <a:ext cx="7308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7618680" y="5976000"/>
                  <a:ext cx="7272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7466040" y="6124320"/>
                  <a:ext cx="7488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7328160" y="6279120"/>
                  <a:ext cx="72720" cy="7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3" name=""/>
              <p:cNvGrpSpPr/>
              <p:nvPr/>
            </p:nvGrpSpPr>
            <p:grpSpPr>
              <a:xfrm>
                <a:off x="6483240" y="5532480"/>
                <a:ext cx="1647720" cy="74880"/>
                <a:chOff x="6483240" y="5532480"/>
                <a:chExt cx="1647720" cy="74880"/>
              </a:xfrm>
            </p:grpSpPr>
            <p:sp>
              <p:nvSpPr>
                <p:cNvPr id="1254" name=""/>
                <p:cNvSpPr/>
                <p:nvPr/>
              </p:nvSpPr>
              <p:spPr>
                <a:xfrm>
                  <a:off x="8058240" y="553428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6483240" y="5532480"/>
                  <a:ext cx="7308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7543440" y="5532480"/>
                  <a:ext cx="7308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>
                  <a:off x="6749640" y="553248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6996240" y="553248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>
                  <a:off x="7259040" y="553248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>
                  <a:off x="7806960" y="553248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1" name=""/>
              <p:cNvGrpSpPr/>
              <p:nvPr/>
            </p:nvGrpSpPr>
            <p:grpSpPr>
              <a:xfrm>
                <a:off x="5599080" y="6427800"/>
                <a:ext cx="1644480" cy="73080"/>
                <a:chOff x="5599080" y="6427800"/>
                <a:chExt cx="1644480" cy="73080"/>
              </a:xfrm>
            </p:grpSpPr>
            <p:sp>
              <p:nvSpPr>
                <p:cNvPr id="1262" name=""/>
                <p:cNvSpPr/>
                <p:nvPr/>
              </p:nvSpPr>
              <p:spPr>
                <a:xfrm>
                  <a:off x="7170480" y="6427800"/>
                  <a:ext cx="7308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5599080" y="642780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5863320" y="642780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6115320" y="642780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6661800" y="642780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6914160" y="6427800"/>
                  <a:ext cx="72720" cy="7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68" name=""/>
            <p:cNvGrpSpPr/>
            <p:nvPr/>
          </p:nvGrpSpPr>
          <p:grpSpPr>
            <a:xfrm>
              <a:off x="5640480" y="4856040"/>
              <a:ext cx="2462040" cy="1555920"/>
              <a:chOff x="5640480" y="4856040"/>
              <a:chExt cx="2462040" cy="1555920"/>
            </a:xfrm>
          </p:grpSpPr>
          <p:sp>
            <p:nvSpPr>
              <p:cNvPr id="1269" name=""/>
              <p:cNvSpPr/>
              <p:nvPr/>
            </p:nvSpPr>
            <p:spPr>
              <a:xfrm>
                <a:off x="6431760" y="5754600"/>
                <a:ext cx="0" cy="2710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0" name=""/>
              <p:cNvGrpSpPr/>
              <p:nvPr/>
            </p:nvGrpSpPr>
            <p:grpSpPr>
              <a:xfrm>
                <a:off x="5640480" y="4856040"/>
                <a:ext cx="2462040" cy="1555920"/>
                <a:chOff x="5640480" y="4856040"/>
                <a:chExt cx="2462040" cy="1555920"/>
              </a:xfrm>
            </p:grpSpPr>
            <p:grpSp>
              <p:nvGrpSpPr>
                <p:cNvPr id="1271" name=""/>
                <p:cNvGrpSpPr/>
                <p:nvPr/>
              </p:nvGrpSpPr>
              <p:grpSpPr>
                <a:xfrm>
                  <a:off x="6531480" y="4856040"/>
                  <a:ext cx="1571040" cy="662400"/>
                  <a:chOff x="6531480" y="4856040"/>
                  <a:chExt cx="1571040" cy="662400"/>
                </a:xfrm>
              </p:grpSpPr>
              <p:sp>
                <p:nvSpPr>
                  <p:cNvPr id="1272" name=""/>
                  <p:cNvSpPr/>
                  <p:nvPr/>
                </p:nvSpPr>
                <p:spPr>
                  <a:xfrm>
                    <a:off x="7851240" y="4938120"/>
                    <a:ext cx="0" cy="5803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3" name=""/>
                  <p:cNvSpPr/>
                  <p:nvPr/>
                </p:nvSpPr>
                <p:spPr>
                  <a:xfrm>
                    <a:off x="8102520" y="4981680"/>
                    <a:ext cx="0" cy="5367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4" name=""/>
                  <p:cNvSpPr/>
                  <p:nvPr/>
                </p:nvSpPr>
                <p:spPr>
                  <a:xfrm>
                    <a:off x="7588800" y="4903560"/>
                    <a:ext cx="0" cy="614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5" name=""/>
                  <p:cNvSpPr/>
                  <p:nvPr/>
                </p:nvSpPr>
                <p:spPr>
                  <a:xfrm>
                    <a:off x="7317360" y="4856040"/>
                    <a:ext cx="0" cy="6624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6" name=""/>
                  <p:cNvSpPr/>
                  <p:nvPr/>
                </p:nvSpPr>
                <p:spPr>
                  <a:xfrm>
                    <a:off x="7044840" y="4897800"/>
                    <a:ext cx="0" cy="6206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7" name=""/>
                  <p:cNvSpPr/>
                  <p:nvPr/>
                </p:nvSpPr>
                <p:spPr>
                  <a:xfrm>
                    <a:off x="6531480" y="4979160"/>
                    <a:ext cx="0" cy="5392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8" name=""/>
                  <p:cNvSpPr/>
                  <p:nvPr/>
                </p:nvSpPr>
                <p:spPr>
                  <a:xfrm>
                    <a:off x="6793920" y="4942080"/>
                    <a:ext cx="0" cy="576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79" name=""/>
                <p:cNvGrpSpPr/>
                <p:nvPr/>
              </p:nvGrpSpPr>
              <p:grpSpPr>
                <a:xfrm>
                  <a:off x="5640480" y="5788440"/>
                  <a:ext cx="1576080" cy="623520"/>
                  <a:chOff x="5640480" y="5788440"/>
                  <a:chExt cx="1576080" cy="623520"/>
                </a:xfrm>
              </p:grpSpPr>
              <p:sp>
                <p:nvSpPr>
                  <p:cNvPr id="1280" name=""/>
                  <p:cNvSpPr/>
                  <p:nvPr/>
                </p:nvSpPr>
                <p:spPr>
                  <a:xfrm>
                    <a:off x="6965280" y="5828760"/>
                    <a:ext cx="0" cy="5832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1" name=""/>
                  <p:cNvSpPr/>
                  <p:nvPr/>
                </p:nvSpPr>
                <p:spPr>
                  <a:xfrm>
                    <a:off x="7216560" y="5869800"/>
                    <a:ext cx="0" cy="5367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2" name=""/>
                  <p:cNvSpPr/>
                  <p:nvPr/>
                </p:nvSpPr>
                <p:spPr>
                  <a:xfrm>
                    <a:off x="6703200" y="5791680"/>
                    <a:ext cx="0" cy="6177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3" name=""/>
                  <p:cNvSpPr/>
                  <p:nvPr/>
                </p:nvSpPr>
                <p:spPr>
                  <a:xfrm>
                    <a:off x="6159240" y="5788440"/>
                    <a:ext cx="0" cy="6210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4" name=""/>
                  <p:cNvSpPr/>
                  <p:nvPr/>
                </p:nvSpPr>
                <p:spPr>
                  <a:xfrm flipH="1">
                    <a:off x="5640480" y="5867280"/>
                    <a:ext cx="5040" cy="5446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5" name=""/>
                  <p:cNvSpPr/>
                  <p:nvPr/>
                </p:nvSpPr>
                <p:spPr>
                  <a:xfrm>
                    <a:off x="5908320" y="5832720"/>
                    <a:ext cx="0" cy="57636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286" name=""/>
            <p:cNvGrpSpPr/>
            <p:nvPr/>
          </p:nvGrpSpPr>
          <p:grpSpPr>
            <a:xfrm>
              <a:off x="5643720" y="4857480"/>
              <a:ext cx="2461680" cy="1009800"/>
              <a:chOff x="5643720" y="4857480"/>
              <a:chExt cx="2461680" cy="1009800"/>
            </a:xfrm>
          </p:grpSpPr>
          <p:grpSp>
            <p:nvGrpSpPr>
              <p:cNvPr id="1287" name=""/>
              <p:cNvGrpSpPr/>
              <p:nvPr/>
            </p:nvGrpSpPr>
            <p:grpSpPr>
              <a:xfrm>
                <a:off x="5643720" y="5596920"/>
                <a:ext cx="1717560" cy="270360"/>
                <a:chOff x="5643720" y="5596920"/>
                <a:chExt cx="1717560" cy="270360"/>
              </a:xfrm>
            </p:grpSpPr>
            <p:sp>
              <p:nvSpPr>
                <p:cNvPr id="1288" name=""/>
                <p:cNvSpPr/>
                <p:nvPr/>
              </p:nvSpPr>
              <p:spPr>
                <a:xfrm flipH="1" flipV="1">
                  <a:off x="6576120" y="5598720"/>
                  <a:ext cx="133560" cy="188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 flipH="1">
                  <a:off x="6151320" y="5598720"/>
                  <a:ext cx="424800" cy="188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 flipH="1" flipV="1">
                  <a:off x="7092360" y="5670720"/>
                  <a:ext cx="120600" cy="196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 flipV="1">
                  <a:off x="6961680" y="5718240"/>
                  <a:ext cx="399600" cy="111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 flipH="1" flipV="1">
                  <a:off x="6839640" y="5642640"/>
                  <a:ext cx="121320" cy="1868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 flipH="1">
                  <a:off x="6699960" y="5676840"/>
                  <a:ext cx="414000" cy="110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 flipH="1">
                  <a:off x="6449760" y="5643000"/>
                  <a:ext cx="390240" cy="100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 flipH="1" flipV="1">
                  <a:off x="6299640" y="5634360"/>
                  <a:ext cx="149400" cy="109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 flipH="1" flipV="1">
                  <a:off x="6053400" y="5676840"/>
                  <a:ext cx="102960" cy="113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 flipH="1">
                  <a:off x="5904720" y="5643000"/>
                  <a:ext cx="395280" cy="1868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 flipH="1" flipV="1">
                  <a:off x="5791680" y="5718240"/>
                  <a:ext cx="114480" cy="106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 flipH="1">
                  <a:off x="5643720" y="5676840"/>
                  <a:ext cx="409680" cy="19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 flipV="1">
                  <a:off x="7210800" y="571824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 flipV="1">
                  <a:off x="6439320" y="559692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 flipV="1">
                  <a:off x="6703560" y="563904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 flipV="1">
                  <a:off x="5646240" y="571572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 flipV="1">
                  <a:off x="5910480" y="567612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 flipV="1">
                  <a:off x="6159240" y="563904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 flipV="1">
                  <a:off x="5789160" y="5599800"/>
                  <a:ext cx="79020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 flipV="1">
                  <a:off x="5646240" y="5747760"/>
                  <a:ext cx="79020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>
                  <a:off x="6436440" y="5747760"/>
                  <a:ext cx="76896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6581880" y="5599800"/>
                  <a:ext cx="76896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 flipV="1">
                  <a:off x="6954480" y="568404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1" name=""/>
              <p:cNvGrpSpPr/>
              <p:nvPr/>
            </p:nvGrpSpPr>
            <p:grpSpPr>
              <a:xfrm>
                <a:off x="6387840" y="4857480"/>
                <a:ext cx="1717560" cy="270360"/>
                <a:chOff x="6387840" y="4857480"/>
                <a:chExt cx="1717560" cy="270360"/>
              </a:xfrm>
            </p:grpSpPr>
            <p:sp>
              <p:nvSpPr>
                <p:cNvPr id="1312" name=""/>
                <p:cNvSpPr/>
                <p:nvPr/>
              </p:nvSpPr>
              <p:spPr>
                <a:xfrm flipH="1" flipV="1">
                  <a:off x="7320240" y="4859280"/>
                  <a:ext cx="133560" cy="188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 flipH="1">
                  <a:off x="6895440" y="4859280"/>
                  <a:ext cx="424800" cy="188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 flipH="1" flipV="1">
                  <a:off x="7836480" y="4931280"/>
                  <a:ext cx="120600" cy="196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 flipV="1">
                  <a:off x="7705800" y="4978800"/>
                  <a:ext cx="399600" cy="111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 flipH="1" flipV="1">
                  <a:off x="7583760" y="4903200"/>
                  <a:ext cx="121320" cy="1868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 flipH="1">
                  <a:off x="7444080" y="4937400"/>
                  <a:ext cx="414000" cy="1101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 flipH="1">
                  <a:off x="7193880" y="4903560"/>
                  <a:ext cx="390240" cy="100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 flipH="1" flipV="1">
                  <a:off x="7043760" y="4894920"/>
                  <a:ext cx="149400" cy="109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 flipH="1" flipV="1">
                  <a:off x="6797520" y="4937400"/>
                  <a:ext cx="102960" cy="113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 flipH="1">
                  <a:off x="6648840" y="4903560"/>
                  <a:ext cx="395280" cy="1868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 flipH="1" flipV="1">
                  <a:off x="6535800" y="4978800"/>
                  <a:ext cx="114480" cy="106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 flipH="1">
                  <a:off x="6387840" y="4937400"/>
                  <a:ext cx="409680" cy="1904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 flipV="1">
                  <a:off x="7954920" y="497880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 flipV="1">
                  <a:off x="7183440" y="485748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 flipV="1">
                  <a:off x="7447680" y="489960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 flipV="1">
                  <a:off x="6390360" y="497628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 flipV="1">
                  <a:off x="6654600" y="493668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 flipV="1">
                  <a:off x="6903360" y="489960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 flipV="1">
                  <a:off x="6533280" y="4860360"/>
                  <a:ext cx="79020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 flipV="1">
                  <a:off x="6390360" y="5008320"/>
                  <a:ext cx="79020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7180560" y="5008320"/>
                  <a:ext cx="76896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7326000" y="4860360"/>
                  <a:ext cx="768960" cy="1188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 flipV="1">
                  <a:off x="7698600" y="4944600"/>
                  <a:ext cx="14508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5" name=""/>
            <p:cNvGrpSpPr/>
            <p:nvPr/>
          </p:nvGrpSpPr>
          <p:grpSpPr>
            <a:xfrm>
              <a:off x="5641560" y="4976280"/>
              <a:ext cx="2460960" cy="1440360"/>
              <a:chOff x="5641560" y="4976280"/>
              <a:chExt cx="2460960" cy="1440360"/>
            </a:xfrm>
          </p:grpSpPr>
          <p:grpSp>
            <p:nvGrpSpPr>
              <p:cNvPr id="1336" name=""/>
              <p:cNvGrpSpPr/>
              <p:nvPr/>
            </p:nvGrpSpPr>
            <p:grpSpPr>
              <a:xfrm>
                <a:off x="7211520" y="5716080"/>
                <a:ext cx="151200" cy="695160"/>
                <a:chOff x="7211520" y="5716080"/>
                <a:chExt cx="151200" cy="695160"/>
              </a:xfrm>
            </p:grpSpPr>
            <p:sp>
              <p:nvSpPr>
                <p:cNvPr id="1337" name=""/>
                <p:cNvSpPr/>
                <p:nvPr/>
              </p:nvSpPr>
              <p:spPr>
                <a:xfrm flipV="1">
                  <a:off x="7214400" y="6006600"/>
                  <a:ext cx="147960" cy="404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 flipH="1" flipV="1">
                  <a:off x="7211520" y="5863680"/>
                  <a:ext cx="150840" cy="142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 flipH="1" flipV="1">
                  <a:off x="7214040" y="6146640"/>
                  <a:ext cx="147960" cy="116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 flipV="1">
                  <a:off x="7214400" y="5718600"/>
                  <a:ext cx="147960" cy="429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 flipV="1">
                  <a:off x="7211880" y="571608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>
                  <a:off x="7214400" y="586440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 flipV="1">
                  <a:off x="7214400" y="600408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>
                  <a:off x="7362720" y="572148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5" name=""/>
              <p:cNvGrpSpPr/>
              <p:nvPr/>
            </p:nvGrpSpPr>
            <p:grpSpPr>
              <a:xfrm>
                <a:off x="5641560" y="5721480"/>
                <a:ext cx="151200" cy="695160"/>
                <a:chOff x="5641560" y="5721480"/>
                <a:chExt cx="151200" cy="695160"/>
              </a:xfrm>
            </p:grpSpPr>
            <p:sp>
              <p:nvSpPr>
                <p:cNvPr id="1346" name=""/>
                <p:cNvSpPr/>
                <p:nvPr/>
              </p:nvSpPr>
              <p:spPr>
                <a:xfrm flipV="1">
                  <a:off x="5644440" y="6012000"/>
                  <a:ext cx="147960" cy="404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 flipH="1" flipV="1">
                  <a:off x="5641560" y="5869080"/>
                  <a:ext cx="150840" cy="142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 flipH="1" flipV="1">
                  <a:off x="5644080" y="6152040"/>
                  <a:ext cx="147960" cy="116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 flipV="1">
                  <a:off x="5644440" y="5724000"/>
                  <a:ext cx="147960" cy="429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 flipV="1">
                  <a:off x="5641920" y="572148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5644440" y="586980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 flipV="1">
                  <a:off x="5644440" y="600948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3" name=""/>
                <p:cNvSpPr/>
                <p:nvPr/>
              </p:nvSpPr>
              <p:spPr>
                <a:xfrm>
                  <a:off x="5792760" y="572688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4" name=""/>
              <p:cNvGrpSpPr/>
              <p:nvPr/>
            </p:nvGrpSpPr>
            <p:grpSpPr>
              <a:xfrm>
                <a:off x="7951320" y="4976280"/>
                <a:ext cx="151200" cy="695160"/>
                <a:chOff x="7951320" y="4976280"/>
                <a:chExt cx="151200" cy="695160"/>
              </a:xfrm>
            </p:grpSpPr>
            <p:sp>
              <p:nvSpPr>
                <p:cNvPr id="1355" name=""/>
                <p:cNvSpPr/>
                <p:nvPr/>
              </p:nvSpPr>
              <p:spPr>
                <a:xfrm flipV="1">
                  <a:off x="7954200" y="5266800"/>
                  <a:ext cx="147960" cy="404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 flipH="1" flipV="1">
                  <a:off x="7951320" y="5123880"/>
                  <a:ext cx="150840" cy="142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 flipH="1" flipV="1">
                  <a:off x="7953840" y="5406840"/>
                  <a:ext cx="147960" cy="116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 flipV="1">
                  <a:off x="7954200" y="4978800"/>
                  <a:ext cx="147960" cy="429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 flipV="1">
                  <a:off x="7951680" y="497628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7954200" y="512460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 flipV="1">
                  <a:off x="7954200" y="526428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>
                  <a:off x="8102520" y="498168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3" name=""/>
              <p:cNvGrpSpPr/>
              <p:nvPr/>
            </p:nvGrpSpPr>
            <p:grpSpPr>
              <a:xfrm>
                <a:off x="6381360" y="4983840"/>
                <a:ext cx="151200" cy="695160"/>
                <a:chOff x="6381360" y="4983840"/>
                <a:chExt cx="151200" cy="695160"/>
              </a:xfrm>
            </p:grpSpPr>
            <p:sp>
              <p:nvSpPr>
                <p:cNvPr id="1364" name=""/>
                <p:cNvSpPr/>
                <p:nvPr/>
              </p:nvSpPr>
              <p:spPr>
                <a:xfrm flipV="1">
                  <a:off x="6384240" y="5274360"/>
                  <a:ext cx="147960" cy="404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 flipH="1" flipV="1">
                  <a:off x="6381360" y="5131440"/>
                  <a:ext cx="150840" cy="142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 flipH="1" flipV="1">
                  <a:off x="6383880" y="5414400"/>
                  <a:ext cx="147960" cy="116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 flipV="1">
                  <a:off x="6384240" y="4986360"/>
                  <a:ext cx="147960" cy="429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 flipV="1">
                  <a:off x="6381720" y="498384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9" name=""/>
                <p:cNvSpPr/>
                <p:nvPr/>
              </p:nvSpPr>
              <p:spPr>
                <a:xfrm>
                  <a:off x="6384240" y="513216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 flipV="1">
                  <a:off x="6384240" y="5271840"/>
                  <a:ext cx="145440" cy="1450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6532560" y="4989240"/>
                  <a:ext cx="0" cy="54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72" name=""/>
            <p:cNvGrpSpPr/>
            <p:nvPr/>
          </p:nvGrpSpPr>
          <p:grpSpPr>
            <a:xfrm>
              <a:off x="5792760" y="5006520"/>
              <a:ext cx="2162160" cy="1255680"/>
              <a:chOff x="5792760" y="5006520"/>
              <a:chExt cx="2162160" cy="1255680"/>
            </a:xfrm>
          </p:grpSpPr>
          <p:grpSp>
            <p:nvGrpSpPr>
              <p:cNvPr id="1373" name=""/>
              <p:cNvGrpSpPr/>
              <p:nvPr/>
            </p:nvGrpSpPr>
            <p:grpSpPr>
              <a:xfrm>
                <a:off x="5792760" y="5598360"/>
                <a:ext cx="1570320" cy="663840"/>
                <a:chOff x="5792760" y="5598360"/>
                <a:chExt cx="1570320" cy="663840"/>
              </a:xfrm>
            </p:grpSpPr>
            <p:sp>
              <p:nvSpPr>
                <p:cNvPr id="1374" name=""/>
                <p:cNvSpPr/>
                <p:nvPr/>
              </p:nvSpPr>
              <p:spPr>
                <a:xfrm flipV="1">
                  <a:off x="5792760" y="571896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 flipV="1">
                  <a:off x="5792760" y="559836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 flipV="1">
                  <a:off x="7363080" y="571896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 flipH="1" flipV="1">
                  <a:off x="6577560" y="559836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8" name=""/>
              <p:cNvGrpSpPr/>
              <p:nvPr/>
            </p:nvGrpSpPr>
            <p:grpSpPr>
              <a:xfrm>
                <a:off x="5940720" y="5450400"/>
                <a:ext cx="1570320" cy="663840"/>
                <a:chOff x="5940720" y="5450400"/>
                <a:chExt cx="1570320" cy="663840"/>
              </a:xfrm>
            </p:grpSpPr>
            <p:sp>
              <p:nvSpPr>
                <p:cNvPr id="1379" name=""/>
                <p:cNvSpPr/>
                <p:nvPr/>
              </p:nvSpPr>
              <p:spPr>
                <a:xfrm flipV="1">
                  <a:off x="5940720" y="557100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 flipV="1">
                  <a:off x="5940720" y="545040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 flipV="1">
                  <a:off x="7511040" y="557100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 flipH="1" flipV="1">
                  <a:off x="6725520" y="545040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3" name=""/>
              <p:cNvGrpSpPr/>
              <p:nvPr/>
            </p:nvGrpSpPr>
            <p:grpSpPr>
              <a:xfrm>
                <a:off x="6088680" y="5302440"/>
                <a:ext cx="1570320" cy="663840"/>
                <a:chOff x="6088680" y="5302440"/>
                <a:chExt cx="1570320" cy="663840"/>
              </a:xfrm>
            </p:grpSpPr>
            <p:sp>
              <p:nvSpPr>
                <p:cNvPr id="1384" name=""/>
                <p:cNvSpPr/>
                <p:nvPr/>
              </p:nvSpPr>
              <p:spPr>
                <a:xfrm flipV="1">
                  <a:off x="6088680" y="542304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 flipV="1">
                  <a:off x="6088680" y="530244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 flipV="1">
                  <a:off x="7659000" y="542304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 flipH="1" flipV="1">
                  <a:off x="6873480" y="530244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8" name=""/>
              <p:cNvGrpSpPr/>
              <p:nvPr/>
            </p:nvGrpSpPr>
            <p:grpSpPr>
              <a:xfrm>
                <a:off x="6236640" y="5154120"/>
                <a:ext cx="1570320" cy="663840"/>
                <a:chOff x="6236640" y="5154120"/>
                <a:chExt cx="1570320" cy="663840"/>
              </a:xfrm>
            </p:grpSpPr>
            <p:sp>
              <p:nvSpPr>
                <p:cNvPr id="1389" name=""/>
                <p:cNvSpPr/>
                <p:nvPr/>
              </p:nvSpPr>
              <p:spPr>
                <a:xfrm flipV="1">
                  <a:off x="6236640" y="527472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 flipV="1">
                  <a:off x="6236640" y="515412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 flipV="1">
                  <a:off x="7806960" y="527472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 flipH="1" flipV="1">
                  <a:off x="7021440" y="515412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3" name=""/>
              <p:cNvGrpSpPr/>
              <p:nvPr/>
            </p:nvGrpSpPr>
            <p:grpSpPr>
              <a:xfrm>
                <a:off x="6384600" y="5006520"/>
                <a:ext cx="1570320" cy="663840"/>
                <a:chOff x="6384600" y="5006520"/>
                <a:chExt cx="1570320" cy="663840"/>
              </a:xfrm>
            </p:grpSpPr>
            <p:sp>
              <p:nvSpPr>
                <p:cNvPr id="1394" name=""/>
                <p:cNvSpPr/>
                <p:nvPr/>
              </p:nvSpPr>
              <p:spPr>
                <a:xfrm flipV="1">
                  <a:off x="6384600" y="512712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 flipV="1">
                  <a:off x="6384600" y="500652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 flipV="1">
                  <a:off x="7954920" y="5127120"/>
                  <a:ext cx="0" cy="543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 flipH="1" flipV="1">
                  <a:off x="7169400" y="5006520"/>
                  <a:ext cx="785160" cy="12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98" name=""/>
            <p:cNvGrpSpPr/>
            <p:nvPr/>
          </p:nvGrpSpPr>
          <p:grpSpPr>
            <a:xfrm>
              <a:off x="5643720" y="5130360"/>
              <a:ext cx="2458800" cy="1283040"/>
              <a:chOff x="5643720" y="5130360"/>
              <a:chExt cx="2458800" cy="1283040"/>
            </a:xfrm>
          </p:grpSpPr>
          <p:grpSp>
            <p:nvGrpSpPr>
              <p:cNvPr id="1399" name=""/>
              <p:cNvGrpSpPr/>
              <p:nvPr/>
            </p:nvGrpSpPr>
            <p:grpSpPr>
              <a:xfrm>
                <a:off x="5643720" y="5139000"/>
                <a:ext cx="888120" cy="1274400"/>
                <a:chOff x="5643720" y="5139000"/>
                <a:chExt cx="888120" cy="1274400"/>
              </a:xfrm>
            </p:grpSpPr>
            <p:sp>
              <p:nvSpPr>
                <p:cNvPr id="1400" name=""/>
                <p:cNvSpPr/>
                <p:nvPr/>
              </p:nvSpPr>
              <p:spPr>
                <a:xfrm flipV="1">
                  <a:off x="5643720" y="5139000"/>
                  <a:ext cx="888120" cy="887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1" name=""/>
                <p:cNvSpPr/>
                <p:nvPr/>
              </p:nvSpPr>
              <p:spPr>
                <a:xfrm flipV="1">
                  <a:off x="5643720" y="5275080"/>
                  <a:ext cx="888120" cy="887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 flipV="1">
                  <a:off x="5643720" y="5395680"/>
                  <a:ext cx="888120" cy="887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 flipV="1">
                  <a:off x="5643720" y="5525640"/>
                  <a:ext cx="888120" cy="887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4" name=""/>
              <p:cNvGrpSpPr/>
              <p:nvPr/>
            </p:nvGrpSpPr>
            <p:grpSpPr>
              <a:xfrm>
                <a:off x="7214400" y="5130360"/>
                <a:ext cx="888120" cy="1282680"/>
                <a:chOff x="7214400" y="5130360"/>
                <a:chExt cx="888120" cy="1282680"/>
              </a:xfrm>
            </p:grpSpPr>
            <p:sp>
              <p:nvSpPr>
                <p:cNvPr id="1405" name=""/>
                <p:cNvSpPr/>
                <p:nvPr/>
              </p:nvSpPr>
              <p:spPr>
                <a:xfrm flipV="1">
                  <a:off x="7214400" y="5525640"/>
                  <a:ext cx="888120" cy="887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 flipV="1">
                  <a:off x="7214400" y="5130360"/>
                  <a:ext cx="888120" cy="887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 flipV="1">
                  <a:off x="7214400" y="5266080"/>
                  <a:ext cx="888120" cy="887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 flipV="1">
                  <a:off x="7214400" y="5396400"/>
                  <a:ext cx="888120" cy="887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09" name=""/>
            <p:cNvSpPr/>
            <p:nvPr/>
          </p:nvSpPr>
          <p:spPr>
            <a:xfrm flipV="1">
              <a:off x="6431040" y="4863600"/>
              <a:ext cx="890640" cy="8874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0" name=""/>
            <p:cNvGrpSpPr/>
            <p:nvPr/>
          </p:nvGrpSpPr>
          <p:grpSpPr>
            <a:xfrm>
              <a:off x="5643720" y="4979520"/>
              <a:ext cx="2457000" cy="887400"/>
              <a:chOff x="5643720" y="4979520"/>
              <a:chExt cx="2457000" cy="887400"/>
            </a:xfrm>
          </p:grpSpPr>
          <p:sp>
            <p:nvSpPr>
              <p:cNvPr id="1411" name=""/>
              <p:cNvSpPr/>
              <p:nvPr/>
            </p:nvSpPr>
            <p:spPr>
              <a:xfrm flipV="1">
                <a:off x="7210080" y="4979520"/>
                <a:ext cx="890640" cy="887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 flipV="1">
                <a:off x="5643720" y="4979520"/>
                <a:ext cx="888120" cy="887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3" name=""/>
            <p:cNvGrpSpPr/>
            <p:nvPr/>
          </p:nvGrpSpPr>
          <p:grpSpPr>
            <a:xfrm>
              <a:off x="5761080" y="4878360"/>
              <a:ext cx="2216160" cy="973080"/>
              <a:chOff x="5761080" y="4878360"/>
              <a:chExt cx="2216160" cy="973080"/>
            </a:xfrm>
          </p:grpSpPr>
          <p:sp>
            <p:nvSpPr>
              <p:cNvPr id="1414" name=""/>
              <p:cNvSpPr/>
              <p:nvPr/>
            </p:nvSpPr>
            <p:spPr>
              <a:xfrm flipV="1">
                <a:off x="6577560" y="4881960"/>
                <a:ext cx="89064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 flipV="1">
                <a:off x="6711480" y="4893840"/>
                <a:ext cx="89064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 flipV="1">
                <a:off x="6963120" y="4937400"/>
                <a:ext cx="89064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 flipV="1">
                <a:off x="7086600" y="4962960"/>
                <a:ext cx="89064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 flipV="1">
                <a:off x="5761080" y="4962960"/>
                <a:ext cx="87876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 flipV="1">
                <a:off x="5907240" y="4942440"/>
                <a:ext cx="87876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 flipV="1">
                <a:off x="6157440" y="4902480"/>
                <a:ext cx="87876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 flipV="1">
                <a:off x="6292440" y="4878360"/>
                <a:ext cx="88200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 flipV="1">
                <a:off x="6028560" y="4923000"/>
                <a:ext cx="878760" cy="8884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 flipV="1">
                <a:off x="6822360" y="4917960"/>
                <a:ext cx="890640" cy="894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4" name=""/>
            <p:cNvGrpSpPr/>
            <p:nvPr/>
          </p:nvGrpSpPr>
          <p:grpSpPr>
            <a:xfrm>
              <a:off x="5645160" y="4858920"/>
              <a:ext cx="2457360" cy="1553040"/>
              <a:chOff x="5645160" y="4858920"/>
              <a:chExt cx="2457360" cy="1553040"/>
            </a:xfrm>
          </p:grpSpPr>
          <p:sp>
            <p:nvSpPr>
              <p:cNvPr id="1425" name=""/>
              <p:cNvSpPr/>
              <p:nvPr/>
            </p:nvSpPr>
            <p:spPr>
              <a:xfrm flipV="1">
                <a:off x="5645160" y="5747040"/>
                <a:ext cx="784800" cy="12060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 flipH="1" flipV="1">
                <a:off x="6429960" y="5747040"/>
                <a:ext cx="784800" cy="12060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 flipV="1">
                <a:off x="6532920" y="4858920"/>
                <a:ext cx="784800" cy="12060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28" name=""/>
              <p:cNvGrpSpPr/>
              <p:nvPr/>
            </p:nvGrpSpPr>
            <p:grpSpPr>
              <a:xfrm>
                <a:off x="5645160" y="4979880"/>
                <a:ext cx="2457360" cy="1432080"/>
                <a:chOff x="5645160" y="4979880"/>
                <a:chExt cx="2457360" cy="1432080"/>
              </a:xfrm>
            </p:grpSpPr>
            <p:sp>
              <p:nvSpPr>
                <p:cNvPr id="1429" name=""/>
                <p:cNvSpPr/>
                <p:nvPr/>
              </p:nvSpPr>
              <p:spPr>
                <a:xfrm flipV="1">
                  <a:off x="5645160" y="5868360"/>
                  <a:ext cx="0" cy="54360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 flipV="1">
                  <a:off x="7214760" y="5868360"/>
                  <a:ext cx="0" cy="54360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1" name=""/>
                <p:cNvSpPr/>
                <p:nvPr/>
              </p:nvSpPr>
              <p:spPr>
                <a:xfrm flipV="1">
                  <a:off x="6532920" y="4979880"/>
                  <a:ext cx="0" cy="54360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2" name=""/>
                <p:cNvSpPr/>
                <p:nvPr/>
              </p:nvSpPr>
              <p:spPr>
                <a:xfrm flipV="1">
                  <a:off x="8102520" y="4979880"/>
                  <a:ext cx="0" cy="54360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3" name=""/>
              <p:cNvSpPr/>
              <p:nvPr/>
            </p:nvSpPr>
            <p:spPr>
              <a:xfrm flipH="1" flipV="1">
                <a:off x="7317720" y="4858920"/>
                <a:ext cx="784800" cy="12060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4" name=""/>
            <p:cNvSpPr/>
            <p:nvPr/>
          </p:nvSpPr>
          <p:spPr>
            <a:xfrm>
              <a:off x="8097840" y="5624640"/>
              <a:ext cx="968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ffcc"/>
                  </a:solidFill>
                  <a:latin typeface="Arial"/>
                </a:rPr>
                <a:t>Vent transvers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4789440" y="6561000"/>
              <a:ext cx="134784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ffcc"/>
                  </a:solidFill>
                  <a:latin typeface="Arial"/>
                </a:rPr>
                <a:t>Vent longitudi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 rot="8034000">
              <a:off x="6047640" y="6285600"/>
              <a:ext cx="564840" cy="334800"/>
            </a:xfrm>
            <a:prstGeom prst="leftArrow">
              <a:avLst>
                <a:gd name="adj1" fmla="val 50000"/>
                <a:gd name="adj2" fmla="val 4217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 flipH="1">
              <a:off x="7660440" y="5629320"/>
              <a:ext cx="592200" cy="287280"/>
            </a:xfrm>
            <a:prstGeom prst="rightArrow">
              <a:avLst>
                <a:gd name="adj1" fmla="val 50000"/>
                <a:gd name="adj2" fmla="val 51535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"/>
          <p:cNvSpPr/>
          <p:nvPr/>
        </p:nvSpPr>
        <p:spPr>
          <a:xfrm>
            <a:off x="1149480" y="263700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ent trans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1149480" y="324000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ent longitud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1149480" y="387360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ei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4954680" y="334332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4983120" y="3408480"/>
            <a:ext cx="693720" cy="2156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4954680" y="396396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4983120" y="402912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5904000" y="334332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5932440" y="3408480"/>
            <a:ext cx="693720" cy="2156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5904000" y="396396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>
            <a:hlinkClick r:id="" action="ppaction://hlinkshowjump?jump=nextslide"/>
          </p:cNvPr>
          <p:cNvSpPr/>
          <p:nvPr/>
        </p:nvSpPr>
        <p:spPr>
          <a:xfrm>
            <a:off x="5932440" y="402912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4954680" y="272268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4983120" y="278748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5904000" y="272268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932440" y="278748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4695840" y="438948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0" y="757080"/>
            <a:ext cx="91440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les sont les catégories de charges reprises par la poutre au ven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"/>
          <p:cNvSpPr/>
          <p:nvPr/>
        </p:nvSpPr>
        <p:spPr>
          <a:xfrm>
            <a:off x="1149480" y="263700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ent trans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1149480" y="451476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harges perman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1149480" y="324000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ent longitud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1149480" y="387360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ei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954680" y="396396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4983120" y="402912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4954680" y="458640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4983120" y="465120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5904000" y="396396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5932440" y="402912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5904000" y="458640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>
            <a:hlinkClick r:id="" action="ppaction://hlinkshowjump?jump=nextslide"/>
          </p:cNvPr>
          <p:cNvSpPr/>
          <p:nvPr/>
        </p:nvSpPr>
        <p:spPr>
          <a:xfrm>
            <a:off x="5932440" y="465120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4680000" y="500220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4954680" y="334332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4983120" y="3408480"/>
            <a:ext cx="693720" cy="2156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5904000" y="334332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5932440" y="3408480"/>
            <a:ext cx="693720" cy="2156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4954680" y="272268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4983120" y="278748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5904000" y="272268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5932440" y="278748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0" y="757080"/>
            <a:ext cx="91440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les sont les catégories de charges reprises par la poutre au ven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5T10:47:34Z</dcterms:created>
  <dc:creator>Jean-Pierre Muzeau et Cédric Brassier</dc:creator>
  <dc:description/>
  <dc:language>en-US</dc:language>
  <cp:lastModifiedBy>Muzeau Jean-Pierre</cp:lastModifiedBy>
  <dcterms:modified xsi:type="dcterms:W3CDTF">2003-10-23T07:00:40Z</dcterms:modified>
  <cp:revision>164</cp:revision>
  <dc:subject/>
  <dc:title>Leçon sur les poutres au vent</dc:title>
</cp:coreProperties>
</file>