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9.wmf" ContentType="image/x-wmf"/>
  <Override PartName="/ppt/media/image7.gif" ContentType="image/gif"/>
  <Override PartName="/ppt/media/image12.gif" ContentType="image/gi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Liern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7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23.xml"/><Relationship Id="rId6" Type="http://schemas.openxmlformats.org/officeDocument/2006/relationships/slide" Target="slide24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7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33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7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  <a:ea typeface="Arial"/>
              </a:rPr>
              <a:t>LIER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: Jean-Pierre Muzeau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Mise sous forme PowerPoint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: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1b0_003" descr=""/>
          <p:cNvPicPr/>
          <p:nvPr/>
        </p:nvPicPr>
        <p:blipFill>
          <a:blip r:embed="rId3"/>
          <a:srcRect l="37504" t="0" r="0" b="34270"/>
          <a:stretch/>
        </p:blipFill>
        <p:spPr>
          <a:xfrm>
            <a:off x="2736720" y="706320"/>
            <a:ext cx="3651480" cy="245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147480" y="1393920"/>
            <a:ext cx="12708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>
            <a:hlinkClick r:id="rId1" action="ppaction://hlinksldjump"/>
          </p:cNvPr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>
            <a:hlinkClick r:id="" action="ppaction://hlinkshowjump?jump=nextslide"/>
          </p:cNvPr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a portée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2525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2527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2528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0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2542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2543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5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3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0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2572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5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2576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2582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2587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2588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2593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7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2598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2607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4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2615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2616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2617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4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2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0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8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2649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3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2654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2655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2660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5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2666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0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2671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5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80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2681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2682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8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5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2707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0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2731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2735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2744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2749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4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2755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9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2760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2761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2762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4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2765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7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0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2771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3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2774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2775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7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2778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0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2781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3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2784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86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2787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1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2792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5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2806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4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2815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5" name=""/>
          <p:cNvSpPr/>
          <p:nvPr/>
        </p:nvSpPr>
        <p:spPr>
          <a:xfrm>
            <a:off x="6854760" y="481968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>
            <a:hlinkClick r:id="" action="ppaction://hlinkshowjump?jump=nextslide"/>
          </p:cNvPr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a portée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7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2848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9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2850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2851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3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4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2865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2866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2867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2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2873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8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3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4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2895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8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2899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4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2905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9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2910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2911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2916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0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2921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9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2930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7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2938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2939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2940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7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2948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5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2956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3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2964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1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2972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6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2977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2978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2983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2984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8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2989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3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2994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8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2999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03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3004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3005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1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3012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8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9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3030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3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3054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6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3067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3072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7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2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3083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3084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3085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7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3088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0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3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3094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6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3097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3098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0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3101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3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3104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6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3107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09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3110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4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3115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9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7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8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3129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7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3138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8" name=""/>
          <p:cNvSpPr/>
          <p:nvPr/>
        </p:nvSpPr>
        <p:spPr>
          <a:xfrm>
            <a:off x="6854760" y="522612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98508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7013520" y="5227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>
            <a:hlinkClick r:id="" action="ppaction://hlinkshowjump?jump=nextslide"/>
          </p:cNvPr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a portée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tout autant efficaces avec des pannes contin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5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3176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7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3178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3179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1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2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3193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3194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3195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0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6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3207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1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2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3223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6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3227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3233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3238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3239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3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3244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8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3249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3250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3258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5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3266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3267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3268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5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3276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3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3284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1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99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3300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4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3305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3306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3311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3312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6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3317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1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6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3327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1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3332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3333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9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6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7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3358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1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3382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4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5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3386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3395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3400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5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3406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0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3411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3412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3413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5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3416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8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3419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1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3422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4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3425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3426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8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3429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1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3432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4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37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3438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2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3443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7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5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3457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5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3466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6" name=""/>
          <p:cNvSpPr/>
          <p:nvPr/>
        </p:nvSpPr>
        <p:spPr>
          <a:xfrm>
            <a:off x="6854760" y="561960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"/>
          <p:cNvSpPr/>
          <p:nvPr/>
        </p:nvSpPr>
        <p:spPr>
          <a:xfrm>
            <a:off x="698508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7013520" y="5227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698508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>
            <a:hlinkClick r:id="" action="ppaction://hlinkshowjump?jump=nextslide"/>
          </p:cNvPr>
          <p:cNvSpPr/>
          <p:nvPr/>
        </p:nvSpPr>
        <p:spPr>
          <a:xfrm>
            <a:off x="7013520" y="5622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793440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7962840" y="5622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793440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7962840" y="48322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98508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7013520" y="44370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a portée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338040" y="5573880"/>
            <a:ext cx="6297840" cy="31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peuvent éviter le déversement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tout autant efficaces avec des pannes contin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8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3509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0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3511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3512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4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5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3526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3527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3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3534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9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3540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7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3548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4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5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3556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8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9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3560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5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3566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3571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3572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6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3577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81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3582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0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3591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8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3599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3600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3601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8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3609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6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3617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4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3625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2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3633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7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3638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3639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3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3644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3645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9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4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3655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9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3660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64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3665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3666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2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3673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9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3691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14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3715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8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3719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3728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2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3733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8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3739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3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3744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3745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3746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8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3749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0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1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3752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4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3755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6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7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3758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3759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1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3762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3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4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3765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7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3768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9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70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3771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5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3776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0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8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9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3790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3799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9" name=""/>
          <p:cNvSpPr/>
          <p:nvPr/>
        </p:nvSpPr>
        <p:spPr>
          <a:xfrm>
            <a:off x="6854760" y="602604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6985080" y="55576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7013520" y="56228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7934400" y="51624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7962840" y="5227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6985080" y="47671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7013520" y="48322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93440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796284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338040" y="4387680"/>
            <a:ext cx="6297840" cy="31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a portée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338040" y="47847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des éléments ten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338040" y="5573880"/>
            <a:ext cx="6297840" cy="31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peuvent éviter le déversement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38040" y="5165640"/>
            <a:ext cx="6297840" cy="341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sont tout autant efficaces avec des pannes contin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1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3832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3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3834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3835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7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8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3849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3850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3851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6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3857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2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3863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0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3871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7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8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3879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1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2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3883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8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3889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3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3894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3895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9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3900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4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3905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3906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3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3914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1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3922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3923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1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3932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9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3940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7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3948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55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3956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0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3961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3962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6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3967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3968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2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3973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7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3978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2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3983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87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3988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3989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5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3996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9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0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3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12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3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4014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7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4038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0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1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4042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4051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5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4056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4057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1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4062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66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4067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4068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4069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1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4072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4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4075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7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4078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0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4081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4082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4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4085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7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4088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0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4091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93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4094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8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4099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3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1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2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4113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1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4122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698508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013520" y="4613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93440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>
            <a:hlinkClick r:id="" action="ppaction://hlinkshowjump?jump=nextslide"/>
          </p:cNvPr>
          <p:cNvSpPr/>
          <p:nvPr/>
        </p:nvSpPr>
        <p:spPr>
          <a:xfrm>
            <a:off x="7962840" y="4613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338040" y="4564080"/>
            <a:ext cx="6297840" cy="31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 n’y aucune autr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63440" y="509760"/>
            <a:ext cx="875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ent faire pour éviter d’utiliser des liern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2046240" y="1169640"/>
            <a:ext cx="4932360" cy="3208320"/>
            <a:chOff x="2046240" y="1169640"/>
            <a:chExt cx="4932360" cy="3208320"/>
          </a:xfrm>
        </p:grpSpPr>
        <p:grpSp>
          <p:nvGrpSpPr>
            <p:cNvPr id="4141" name=""/>
            <p:cNvGrpSpPr/>
            <p:nvPr/>
          </p:nvGrpSpPr>
          <p:grpSpPr>
            <a:xfrm>
              <a:off x="2046240" y="2516040"/>
              <a:ext cx="4932360" cy="1861920"/>
              <a:chOff x="2046240" y="2516040"/>
              <a:chExt cx="4932360" cy="1861920"/>
            </a:xfrm>
          </p:grpSpPr>
          <p:grpSp>
            <p:nvGrpSpPr>
              <p:cNvPr id="4142" name=""/>
              <p:cNvGrpSpPr/>
              <p:nvPr/>
            </p:nvGrpSpPr>
            <p:grpSpPr>
              <a:xfrm>
                <a:off x="5396400" y="2799720"/>
                <a:ext cx="1294560" cy="1292400"/>
                <a:chOff x="5396400" y="2799720"/>
                <a:chExt cx="1294560" cy="1292400"/>
              </a:xfrm>
            </p:grpSpPr>
            <p:sp>
              <p:nvSpPr>
                <p:cNvPr id="4143" name=""/>
                <p:cNvSpPr/>
                <p:nvPr/>
              </p:nvSpPr>
              <p:spPr>
                <a:xfrm>
                  <a:off x="6549120" y="279972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6265080" y="3081240"/>
                  <a:ext cx="142200" cy="143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5972760" y="3370320"/>
                  <a:ext cx="14220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5685480" y="3656160"/>
                  <a:ext cx="1458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5396400" y="3949920"/>
                  <a:ext cx="14148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8" name=""/>
              <p:cNvGrpSpPr/>
              <p:nvPr/>
            </p:nvGrpSpPr>
            <p:grpSpPr>
              <a:xfrm>
                <a:off x="2340720" y="2798640"/>
                <a:ext cx="1290960" cy="1285920"/>
                <a:chOff x="2340720" y="2798640"/>
                <a:chExt cx="1290960" cy="1285920"/>
              </a:xfrm>
            </p:grpSpPr>
            <p:sp>
              <p:nvSpPr>
                <p:cNvPr id="4149" name=""/>
                <p:cNvSpPr/>
                <p:nvPr/>
              </p:nvSpPr>
              <p:spPr>
                <a:xfrm>
                  <a:off x="3489840" y="279864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3204000" y="3082680"/>
                  <a:ext cx="141840" cy="143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2917440" y="337032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2625120" y="3657240"/>
                  <a:ext cx="14256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2340720" y="39423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4" name=""/>
              <p:cNvGrpSpPr/>
              <p:nvPr/>
            </p:nvGrpSpPr>
            <p:grpSpPr>
              <a:xfrm>
                <a:off x="3772440" y="2516040"/>
                <a:ext cx="3206160" cy="144000"/>
                <a:chOff x="3772440" y="2516040"/>
                <a:chExt cx="3206160" cy="144000"/>
              </a:xfrm>
            </p:grpSpPr>
            <p:sp>
              <p:nvSpPr>
                <p:cNvPr id="4155" name=""/>
                <p:cNvSpPr/>
                <p:nvPr/>
              </p:nvSpPr>
              <p:spPr>
                <a:xfrm>
                  <a:off x="6836760" y="251640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>
                  <a:off x="3772440" y="251640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"/>
                <p:cNvSpPr/>
                <p:nvPr/>
              </p:nvSpPr>
              <p:spPr>
                <a:xfrm>
                  <a:off x="5830920" y="251604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4281480" y="25178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>
                  <a:off x="477108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>
                  <a:off x="5305320" y="25160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633600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2" name=""/>
              <p:cNvGrpSpPr/>
              <p:nvPr/>
            </p:nvGrpSpPr>
            <p:grpSpPr>
              <a:xfrm>
                <a:off x="2046240" y="4234320"/>
                <a:ext cx="3205440" cy="143640"/>
                <a:chOff x="2046240" y="4234320"/>
                <a:chExt cx="3205440" cy="143640"/>
              </a:xfrm>
            </p:grpSpPr>
            <p:sp>
              <p:nvSpPr>
                <p:cNvPr id="4163" name=""/>
                <p:cNvSpPr/>
                <p:nvPr/>
              </p:nvSpPr>
              <p:spPr>
                <a:xfrm>
                  <a:off x="204624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5109480" y="4234320"/>
                  <a:ext cx="142200" cy="142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5" name=""/>
                <p:cNvSpPr/>
                <p:nvPr/>
              </p:nvSpPr>
              <p:spPr>
                <a:xfrm>
                  <a:off x="255240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304452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4105080" y="42357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>
                  <a:off x="461736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69" name=""/>
            <p:cNvSpPr/>
            <p:nvPr/>
          </p:nvSpPr>
          <p:spPr>
            <a:xfrm>
              <a:off x="3137040" y="2989440"/>
              <a:ext cx="0" cy="780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0" name=""/>
            <p:cNvGrpSpPr/>
            <p:nvPr/>
          </p:nvGrpSpPr>
          <p:grpSpPr>
            <a:xfrm>
              <a:off x="3137040" y="2979720"/>
              <a:ext cx="1055520" cy="434880"/>
              <a:chOff x="3137040" y="2979720"/>
              <a:chExt cx="1055520" cy="434880"/>
            </a:xfrm>
          </p:grpSpPr>
          <p:sp>
            <p:nvSpPr>
              <p:cNvPr id="4171" name=""/>
              <p:cNvSpPr/>
              <p:nvPr/>
            </p:nvSpPr>
            <p:spPr>
              <a:xfrm>
                <a:off x="3137040" y="2979720"/>
                <a:ext cx="532440" cy="43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3668040" y="2985480"/>
                <a:ext cx="524520" cy="428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3" name=""/>
            <p:cNvSpPr/>
            <p:nvPr/>
          </p:nvSpPr>
          <p:spPr>
            <a:xfrm>
              <a:off x="3664080" y="2895480"/>
              <a:ext cx="0" cy="51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4" name=""/>
            <p:cNvGrpSpPr/>
            <p:nvPr/>
          </p:nvGrpSpPr>
          <p:grpSpPr>
            <a:xfrm>
              <a:off x="3867120" y="1406520"/>
              <a:ext cx="3060720" cy="1079640"/>
              <a:chOff x="3867120" y="1406520"/>
              <a:chExt cx="3060720" cy="1079640"/>
            </a:xfrm>
          </p:grpSpPr>
          <p:sp>
            <p:nvSpPr>
              <p:cNvPr id="4175" name=""/>
              <p:cNvSpPr/>
              <p:nvPr/>
            </p:nvSpPr>
            <p:spPr>
              <a:xfrm>
                <a:off x="3867120" y="140652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67480" y="16995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 flipV="1">
                <a:off x="3867840" y="2217600"/>
                <a:ext cx="3054960" cy="12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V="1">
                <a:off x="3868560" y="1988280"/>
                <a:ext cx="3050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869640" y="24861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0" name=""/>
            <p:cNvGrpSpPr/>
            <p:nvPr/>
          </p:nvGrpSpPr>
          <p:grpSpPr>
            <a:xfrm>
              <a:off x="2135160" y="1695600"/>
              <a:ext cx="1731960" cy="2507760"/>
              <a:chOff x="2135160" y="1695600"/>
              <a:chExt cx="1731960" cy="250776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2138760" y="1695600"/>
                <a:ext cx="1726920" cy="1717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V="1">
                <a:off x="2135160" y="1990440"/>
                <a:ext cx="1730880" cy="1707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V="1">
                <a:off x="2136240" y="2227320"/>
                <a:ext cx="1730880" cy="1725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V="1">
                <a:off x="2136240" y="2482920"/>
                <a:ext cx="1728360" cy="1720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5" name=""/>
            <p:cNvGrpSpPr/>
            <p:nvPr/>
          </p:nvGrpSpPr>
          <p:grpSpPr>
            <a:xfrm>
              <a:off x="2130480" y="1169640"/>
              <a:ext cx="4787640" cy="3027240"/>
              <a:chOff x="2130480" y="1169640"/>
              <a:chExt cx="4787640" cy="3027240"/>
            </a:xfrm>
          </p:grpSpPr>
          <p:grpSp>
            <p:nvGrpSpPr>
              <p:cNvPr id="4186" name=""/>
              <p:cNvGrpSpPr/>
              <p:nvPr/>
            </p:nvGrpSpPr>
            <p:grpSpPr>
              <a:xfrm>
                <a:off x="2130480" y="2901600"/>
                <a:ext cx="3063960" cy="1295280"/>
                <a:chOff x="2130480" y="2901600"/>
                <a:chExt cx="3063960" cy="1295280"/>
              </a:xfrm>
            </p:grpSpPr>
            <p:sp>
              <p:nvSpPr>
                <p:cNvPr id="4187" name=""/>
                <p:cNvSpPr/>
                <p:nvPr/>
              </p:nvSpPr>
              <p:spPr>
                <a:xfrm flipV="1">
                  <a:off x="2131920" y="2901600"/>
                  <a:ext cx="152856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 flipH="1" flipV="1">
                  <a:off x="3664440" y="2902680"/>
                  <a:ext cx="153000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 flipV="1">
                  <a:off x="213048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 flipV="1">
                  <a:off x="519012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1" name=""/>
              <p:cNvGrpSpPr/>
              <p:nvPr/>
            </p:nvGrpSpPr>
            <p:grpSpPr>
              <a:xfrm>
                <a:off x="3864600" y="1169640"/>
                <a:ext cx="3053520" cy="1320480"/>
                <a:chOff x="3864600" y="1169640"/>
                <a:chExt cx="3053520" cy="1320480"/>
              </a:xfrm>
            </p:grpSpPr>
            <p:sp>
              <p:nvSpPr>
                <p:cNvPr id="4192" name=""/>
                <p:cNvSpPr/>
                <p:nvPr/>
              </p:nvSpPr>
              <p:spPr>
                <a:xfrm flipV="1">
                  <a:off x="3865320" y="1404720"/>
                  <a:ext cx="1080" cy="1085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 flipV="1">
                  <a:off x="6917760" y="140256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 flipV="1">
                  <a:off x="3864600" y="1169640"/>
                  <a:ext cx="152856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 flipH="1" flipV="1">
                  <a:off x="5388120" y="1170720"/>
                  <a:ext cx="153000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6" name=""/>
            <p:cNvGrpSpPr/>
            <p:nvPr/>
          </p:nvGrpSpPr>
          <p:grpSpPr>
            <a:xfrm>
              <a:off x="2138400" y="1174680"/>
              <a:ext cx="4784040" cy="3046320"/>
              <a:chOff x="2138400" y="1174680"/>
              <a:chExt cx="4784040" cy="3046320"/>
            </a:xfrm>
          </p:grpSpPr>
          <p:grpSp>
            <p:nvGrpSpPr>
              <p:cNvPr id="4197" name=""/>
              <p:cNvGrpSpPr/>
              <p:nvPr/>
            </p:nvGrpSpPr>
            <p:grpSpPr>
              <a:xfrm>
                <a:off x="3864600" y="1174680"/>
                <a:ext cx="3057840" cy="1320120"/>
                <a:chOff x="3864600" y="1174680"/>
                <a:chExt cx="3057840" cy="1320120"/>
              </a:xfrm>
            </p:grpSpPr>
            <p:sp>
              <p:nvSpPr>
                <p:cNvPr id="4198" name=""/>
                <p:cNvSpPr/>
                <p:nvPr/>
              </p:nvSpPr>
              <p:spPr>
                <a:xfrm>
                  <a:off x="6424560" y="1334880"/>
                  <a:ext cx="0" cy="115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 flipH="1">
                  <a:off x="6921360" y="1406880"/>
                  <a:ext cx="1080" cy="1087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5920560" y="1254240"/>
                  <a:ext cx="0" cy="1236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5392440" y="1174680"/>
                  <a:ext cx="0" cy="13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4862160" y="1257480"/>
                  <a:ext cx="0" cy="1233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 flipH="1">
                  <a:off x="3864600" y="1401840"/>
                  <a:ext cx="2520" cy="1084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4373640" y="1333440"/>
                  <a:ext cx="0" cy="115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5" name=""/>
              <p:cNvGrpSpPr/>
              <p:nvPr/>
            </p:nvGrpSpPr>
            <p:grpSpPr>
              <a:xfrm>
                <a:off x="2138400" y="2910960"/>
                <a:ext cx="3060360" cy="1310040"/>
                <a:chOff x="2138400" y="2910960"/>
                <a:chExt cx="3060360" cy="1310040"/>
              </a:xfrm>
            </p:grpSpPr>
            <p:sp>
              <p:nvSpPr>
                <p:cNvPr id="4206" name=""/>
                <p:cNvSpPr/>
                <p:nvPr/>
              </p:nvSpPr>
              <p:spPr>
                <a:xfrm flipH="1">
                  <a:off x="3668760" y="2910960"/>
                  <a:ext cx="1080" cy="509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4709160" y="3073680"/>
                  <a:ext cx="0" cy="11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5198760" y="3146040"/>
                  <a:ext cx="0" cy="106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4198680" y="2996280"/>
                  <a:ext cx="0" cy="1219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3139920" y="2989800"/>
                  <a:ext cx="0" cy="1226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2138400" y="3148560"/>
                  <a:ext cx="720" cy="1065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2651400" y="3069720"/>
                  <a:ext cx="0" cy="1146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13" name=""/>
            <p:cNvGrpSpPr/>
            <p:nvPr/>
          </p:nvGrpSpPr>
          <p:grpSpPr>
            <a:xfrm>
              <a:off x="2130480" y="1401480"/>
              <a:ext cx="4792680" cy="2803680"/>
              <a:chOff x="2130480" y="1401480"/>
              <a:chExt cx="4792680" cy="2803680"/>
            </a:xfrm>
          </p:grpSpPr>
          <p:grpSp>
            <p:nvGrpSpPr>
              <p:cNvPr id="4214" name=""/>
              <p:cNvGrpSpPr/>
              <p:nvPr/>
            </p:nvGrpSpPr>
            <p:grpSpPr>
              <a:xfrm>
                <a:off x="2130480" y="1401480"/>
                <a:ext cx="4790520" cy="2803680"/>
                <a:chOff x="2130480" y="1401480"/>
                <a:chExt cx="4790520" cy="2803680"/>
              </a:xfrm>
            </p:grpSpPr>
            <p:grpSp>
              <p:nvGrpSpPr>
                <p:cNvPr id="4215" name=""/>
                <p:cNvGrpSpPr/>
                <p:nvPr/>
              </p:nvGrpSpPr>
              <p:grpSpPr>
                <a:xfrm>
                  <a:off x="5178240" y="2846520"/>
                  <a:ext cx="301320" cy="1352880"/>
                  <a:chOff x="5178240" y="2846520"/>
                  <a:chExt cx="301320" cy="1352880"/>
                </a:xfrm>
              </p:grpSpPr>
              <p:sp>
                <p:nvSpPr>
                  <p:cNvPr id="4216" name=""/>
                  <p:cNvSpPr/>
                  <p:nvPr/>
                </p:nvSpPr>
                <p:spPr>
                  <a:xfrm flipV="1">
                    <a:off x="5190840" y="3408480"/>
                    <a:ext cx="288360" cy="790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 flipH="1" flipV="1">
                    <a:off x="5185440" y="3130560"/>
                    <a:ext cx="293400" cy="27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 flipH="1" flipV="1">
                    <a:off x="5190480" y="3691080"/>
                    <a:ext cx="288360" cy="219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 flipV="1">
                    <a:off x="5190840" y="2846520"/>
                    <a:ext cx="288360" cy="83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 flipV="1">
                    <a:off x="5178240" y="2858040"/>
                    <a:ext cx="288360" cy="288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1" name=""/>
                  <p:cNvSpPr/>
                  <p:nvPr/>
                </p:nvSpPr>
                <p:spPr>
                  <a:xfrm>
                    <a:off x="5191200" y="3131280"/>
                    <a:ext cx="0" cy="1063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"/>
                  <p:cNvSpPr/>
                  <p:nvPr/>
                </p:nvSpPr>
                <p:spPr>
                  <a:xfrm>
                    <a:off x="5479560" y="2852280"/>
                    <a:ext cx="0" cy="1064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3" name=""/>
                <p:cNvGrpSpPr/>
                <p:nvPr/>
              </p:nvGrpSpPr>
              <p:grpSpPr>
                <a:xfrm>
                  <a:off x="2130480" y="2853720"/>
                  <a:ext cx="289440" cy="1351440"/>
                  <a:chOff x="2130480" y="2853720"/>
                  <a:chExt cx="289440" cy="1351440"/>
                </a:xfrm>
              </p:grpSpPr>
              <p:sp>
                <p:nvSpPr>
                  <p:cNvPr id="4224" name=""/>
                  <p:cNvSpPr/>
                  <p:nvPr/>
                </p:nvSpPr>
                <p:spPr>
                  <a:xfrm flipV="1">
                    <a:off x="2131560" y="3411720"/>
                    <a:ext cx="288000" cy="790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 flipH="1" flipV="1">
                    <a:off x="2131560" y="3141360"/>
                    <a:ext cx="285840" cy="266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 flipH="1" flipV="1">
                    <a:off x="2130480" y="3700080"/>
                    <a:ext cx="288000" cy="214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7" name=""/>
                  <p:cNvSpPr/>
                  <p:nvPr/>
                </p:nvSpPr>
                <p:spPr>
                  <a:xfrm flipV="1">
                    <a:off x="2131560" y="2853720"/>
                    <a:ext cx="286920" cy="841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8" name=""/>
                  <p:cNvSpPr/>
                  <p:nvPr/>
                </p:nvSpPr>
                <p:spPr>
                  <a:xfrm flipV="1">
                    <a:off x="2133360" y="285372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2131920" y="314208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 flipH="1">
                    <a:off x="2418840" y="2862720"/>
                    <a:ext cx="1080" cy="10508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1" name=""/>
                <p:cNvGrpSpPr/>
                <p:nvPr/>
              </p:nvGrpSpPr>
              <p:grpSpPr>
                <a:xfrm>
                  <a:off x="6630120" y="1401480"/>
                  <a:ext cx="290880" cy="1371240"/>
                  <a:chOff x="6630120" y="1401480"/>
                  <a:chExt cx="290880" cy="1371240"/>
                </a:xfrm>
              </p:grpSpPr>
              <p:sp>
                <p:nvSpPr>
                  <p:cNvPr id="4232" name=""/>
                  <p:cNvSpPr/>
                  <p:nvPr/>
                </p:nvSpPr>
                <p:spPr>
                  <a:xfrm flipV="1">
                    <a:off x="6632280" y="1983240"/>
                    <a:ext cx="285840" cy="785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 flipH="1" flipV="1">
                    <a:off x="6630120" y="1691640"/>
                    <a:ext cx="287280" cy="29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 flipH="1" flipV="1">
                    <a:off x="6632280" y="2265840"/>
                    <a:ext cx="285840" cy="216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 flipV="1">
                    <a:off x="6631200" y="1403280"/>
                    <a:ext cx="28332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 flipV="1">
                    <a:off x="6630480" y="1401480"/>
                    <a:ext cx="289800" cy="294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6634080" y="1686960"/>
                    <a:ext cx="0" cy="108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 flipH="1">
                    <a:off x="6919920" y="1406880"/>
                    <a:ext cx="1080" cy="1076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9" name=""/>
                <p:cNvGrpSpPr/>
                <p:nvPr/>
              </p:nvGrpSpPr>
              <p:grpSpPr>
                <a:xfrm>
                  <a:off x="3573360" y="1403280"/>
                  <a:ext cx="288000" cy="1365480"/>
                  <a:chOff x="3573360" y="1403280"/>
                  <a:chExt cx="288000" cy="1365480"/>
                </a:xfrm>
              </p:grpSpPr>
              <p:sp>
                <p:nvSpPr>
                  <p:cNvPr id="4240" name=""/>
                  <p:cNvSpPr/>
                  <p:nvPr/>
                </p:nvSpPr>
                <p:spPr>
                  <a:xfrm flipV="1">
                    <a:off x="3573360" y="1987200"/>
                    <a:ext cx="286920" cy="781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 flipH="1" flipV="1">
                    <a:off x="3574440" y="1695240"/>
                    <a:ext cx="284400" cy="289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 flipH="1" flipV="1">
                    <a:off x="3573360" y="2270880"/>
                    <a:ext cx="288000" cy="20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 flipV="1">
                    <a:off x="3573360" y="1403640"/>
                    <a:ext cx="28800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 flipV="1">
                    <a:off x="3574800" y="140400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3573720" y="170136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6" name=""/>
                  <p:cNvSpPr/>
                  <p:nvPr/>
                </p:nvSpPr>
                <p:spPr>
                  <a:xfrm>
                    <a:off x="3859200" y="1403280"/>
                    <a:ext cx="1080" cy="10774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7" name=""/>
              <p:cNvGrpSpPr/>
              <p:nvPr/>
            </p:nvGrpSpPr>
            <p:grpSpPr>
              <a:xfrm>
                <a:off x="2133720" y="1982520"/>
                <a:ext cx="4789440" cy="1716480"/>
                <a:chOff x="2133720" y="1982520"/>
                <a:chExt cx="4789440" cy="1716480"/>
              </a:xfrm>
            </p:grpSpPr>
            <p:sp>
              <p:nvSpPr>
                <p:cNvPr id="4248" name=""/>
                <p:cNvSpPr/>
                <p:nvPr/>
              </p:nvSpPr>
              <p:spPr>
                <a:xfrm flipV="1">
                  <a:off x="5194080" y="340596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 flipV="1">
                  <a:off x="2133720" y="3412800"/>
                  <a:ext cx="28800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 flipV="1">
                  <a:off x="6639840" y="1982520"/>
                  <a:ext cx="28332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 flipV="1">
                  <a:off x="3578040" y="1987920"/>
                  <a:ext cx="28548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2" name=""/>
            <p:cNvGrpSpPr/>
            <p:nvPr/>
          </p:nvGrpSpPr>
          <p:grpSpPr>
            <a:xfrm>
              <a:off x="2425680" y="1460160"/>
              <a:ext cx="4211640" cy="2452680"/>
              <a:chOff x="2425680" y="1460160"/>
              <a:chExt cx="4211640" cy="2452680"/>
            </a:xfrm>
          </p:grpSpPr>
          <p:grpSp>
            <p:nvGrpSpPr>
              <p:cNvPr id="4253" name=""/>
              <p:cNvGrpSpPr/>
              <p:nvPr/>
            </p:nvGrpSpPr>
            <p:grpSpPr>
              <a:xfrm>
                <a:off x="2425680" y="2616120"/>
                <a:ext cx="3058560" cy="1296720"/>
                <a:chOff x="2425680" y="2616120"/>
                <a:chExt cx="3058560" cy="1296720"/>
              </a:xfrm>
            </p:grpSpPr>
            <p:sp>
              <p:nvSpPr>
                <p:cNvPr id="4254" name=""/>
                <p:cNvSpPr/>
                <p:nvPr/>
              </p:nvSpPr>
              <p:spPr>
                <a:xfrm flipV="1">
                  <a:off x="242568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 flipV="1">
                  <a:off x="242568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 flipV="1">
                  <a:off x="548424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 flipH="1" flipV="1">
                  <a:off x="395496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8" name=""/>
              <p:cNvGrpSpPr/>
              <p:nvPr/>
            </p:nvGrpSpPr>
            <p:grpSpPr>
              <a:xfrm>
                <a:off x="2713680" y="1460160"/>
                <a:ext cx="3923640" cy="2173680"/>
                <a:chOff x="2713680" y="1460160"/>
                <a:chExt cx="3923640" cy="2173680"/>
              </a:xfrm>
            </p:grpSpPr>
            <p:grpSp>
              <p:nvGrpSpPr>
                <p:cNvPr id="4259" name=""/>
                <p:cNvGrpSpPr/>
                <p:nvPr/>
              </p:nvGrpSpPr>
              <p:grpSpPr>
                <a:xfrm>
                  <a:off x="2713680" y="2327040"/>
                  <a:ext cx="3058920" cy="1306800"/>
                  <a:chOff x="2713680" y="2327040"/>
                  <a:chExt cx="3058920" cy="1306800"/>
                </a:xfrm>
              </p:grpSpPr>
              <p:sp>
                <p:nvSpPr>
                  <p:cNvPr id="4260" name=""/>
                  <p:cNvSpPr/>
                  <p:nvPr/>
                </p:nvSpPr>
                <p:spPr>
                  <a:xfrm flipV="1">
                    <a:off x="2713680" y="2563920"/>
                    <a:ext cx="0" cy="10663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 flipV="1">
                    <a:off x="2713680" y="2327040"/>
                    <a:ext cx="152964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 flipV="1">
                    <a:off x="5772600" y="2563560"/>
                    <a:ext cx="0" cy="10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 flipH="1" flipV="1">
                    <a:off x="4243320" y="2327040"/>
                    <a:ext cx="152928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64" name=""/>
                <p:cNvGrpSpPr/>
                <p:nvPr/>
              </p:nvGrpSpPr>
              <p:grpSpPr>
                <a:xfrm>
                  <a:off x="3000600" y="2038320"/>
                  <a:ext cx="3060360" cy="1303920"/>
                  <a:chOff x="3000600" y="2038320"/>
                  <a:chExt cx="3060360" cy="1303920"/>
                </a:xfrm>
              </p:grpSpPr>
              <p:sp>
                <p:nvSpPr>
                  <p:cNvPr id="4265" name=""/>
                  <p:cNvSpPr/>
                  <p:nvPr/>
                </p:nvSpPr>
                <p:spPr>
                  <a:xfrm flipV="1">
                    <a:off x="300060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 flipV="1">
                    <a:off x="300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 flipV="1">
                    <a:off x="606096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 flipH="1" flipV="1">
                    <a:off x="453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69" name=""/>
                <p:cNvGrpSpPr/>
                <p:nvPr/>
              </p:nvGrpSpPr>
              <p:grpSpPr>
                <a:xfrm>
                  <a:off x="3290040" y="1749240"/>
                  <a:ext cx="3058920" cy="1305360"/>
                  <a:chOff x="3290040" y="1749240"/>
                  <a:chExt cx="3058920" cy="1305360"/>
                </a:xfrm>
              </p:grpSpPr>
              <p:sp>
                <p:nvSpPr>
                  <p:cNvPr id="4270" name=""/>
                  <p:cNvSpPr/>
                  <p:nvPr/>
                </p:nvSpPr>
                <p:spPr>
                  <a:xfrm flipV="1">
                    <a:off x="329004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1" name=""/>
                  <p:cNvSpPr/>
                  <p:nvPr/>
                </p:nvSpPr>
                <p:spPr>
                  <a:xfrm flipV="1">
                    <a:off x="3290040" y="1749240"/>
                    <a:ext cx="152928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2" name=""/>
                  <p:cNvSpPr/>
                  <p:nvPr/>
                </p:nvSpPr>
                <p:spPr>
                  <a:xfrm flipV="1">
                    <a:off x="634896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 flipH="1" flipV="1">
                    <a:off x="4818960" y="1749240"/>
                    <a:ext cx="152964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4" name=""/>
                <p:cNvGrpSpPr/>
                <p:nvPr/>
              </p:nvGrpSpPr>
              <p:grpSpPr>
                <a:xfrm>
                  <a:off x="3578760" y="1460160"/>
                  <a:ext cx="3058560" cy="1313280"/>
                  <a:chOff x="3578760" y="1460160"/>
                  <a:chExt cx="3058560" cy="1313280"/>
                </a:xfrm>
              </p:grpSpPr>
              <p:sp>
                <p:nvSpPr>
                  <p:cNvPr id="4275" name=""/>
                  <p:cNvSpPr/>
                  <p:nvPr/>
                </p:nvSpPr>
                <p:spPr>
                  <a:xfrm flipV="1">
                    <a:off x="357876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6" name=""/>
                  <p:cNvSpPr/>
                  <p:nvPr/>
                </p:nvSpPr>
                <p:spPr>
                  <a:xfrm flipV="1">
                    <a:off x="357876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 flipV="1">
                    <a:off x="663732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8" name=""/>
                  <p:cNvSpPr/>
                  <p:nvPr/>
                </p:nvSpPr>
                <p:spPr>
                  <a:xfrm flipH="1" flipV="1">
                    <a:off x="510804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79" name=""/>
            <p:cNvGrpSpPr/>
            <p:nvPr/>
          </p:nvGrpSpPr>
          <p:grpSpPr>
            <a:xfrm>
              <a:off x="2125800" y="1171080"/>
              <a:ext cx="4795560" cy="1970280"/>
              <a:chOff x="2125800" y="1171080"/>
              <a:chExt cx="4795560" cy="1970280"/>
            </a:xfrm>
          </p:grpSpPr>
          <p:grpSp>
            <p:nvGrpSpPr>
              <p:cNvPr id="4280" name=""/>
              <p:cNvGrpSpPr/>
              <p:nvPr/>
            </p:nvGrpSpPr>
            <p:grpSpPr>
              <a:xfrm>
                <a:off x="3575520" y="1171080"/>
                <a:ext cx="3345840" cy="525600"/>
                <a:chOff x="3575520" y="1171080"/>
                <a:chExt cx="3345840" cy="525600"/>
              </a:xfrm>
            </p:grpSpPr>
            <p:sp>
              <p:nvSpPr>
                <p:cNvPr id="4281" name=""/>
                <p:cNvSpPr/>
                <p:nvPr/>
              </p:nvSpPr>
              <p:spPr>
                <a:xfrm flipV="1">
                  <a:off x="6638400" y="14040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V="1">
                  <a:off x="5107320" y="1171080"/>
                  <a:ext cx="286920" cy="289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V="1">
                  <a:off x="5635800" y="125244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V="1">
                  <a:off x="3576240" y="1407240"/>
                  <a:ext cx="28944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V="1">
                  <a:off x="4086000" y="13302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V="1">
                  <a:off x="4577400" y="125460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7" name=""/>
                <p:cNvGrpSpPr/>
                <p:nvPr/>
              </p:nvGrpSpPr>
              <p:grpSpPr>
                <a:xfrm>
                  <a:off x="3575520" y="1171440"/>
                  <a:ext cx="3342240" cy="525240"/>
                  <a:chOff x="3575520" y="1171440"/>
                  <a:chExt cx="3342240" cy="525240"/>
                </a:xfrm>
              </p:grpSpPr>
              <p:sp>
                <p:nvSpPr>
                  <p:cNvPr id="4288" name=""/>
                  <p:cNvSpPr/>
                  <p:nvPr/>
                </p:nvSpPr>
                <p:spPr>
                  <a:xfrm flipH="1" flipV="1">
                    <a:off x="5392080" y="1171440"/>
                    <a:ext cx="23760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 flipH="1">
                    <a:off x="4576320" y="1171800"/>
                    <a:ext cx="813960" cy="36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 flipH="1" flipV="1">
                    <a:off x="6431040" y="1329120"/>
                    <a:ext cx="20088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 flipV="1">
                    <a:off x="6137640" y="1404360"/>
                    <a:ext cx="780120" cy="214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 flipH="1" flipV="1">
                    <a:off x="5920920" y="1253160"/>
                    <a:ext cx="216360" cy="367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 flipH="1">
                    <a:off x="5632560" y="1327320"/>
                    <a:ext cx="799200" cy="214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 flipH="1">
                    <a:off x="5109480" y="1249200"/>
                    <a:ext cx="811080" cy="207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 flipH="1" flipV="1">
                    <a:off x="4861080" y="1255680"/>
                    <a:ext cx="254880" cy="208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 flipH="1" flipV="1">
                    <a:off x="4372920" y="1326960"/>
                    <a:ext cx="210600" cy="215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 flipH="1">
                    <a:off x="4083120" y="1256760"/>
                    <a:ext cx="779040" cy="362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 flipH="1" flipV="1">
                    <a:off x="3867480" y="1408320"/>
                    <a:ext cx="213480" cy="209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 flipH="1">
                    <a:off x="3575520" y="1328400"/>
                    <a:ext cx="797400" cy="36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 flipV="1">
                    <a:off x="3868200" y="1173240"/>
                    <a:ext cx="1522800" cy="230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 flipV="1">
                    <a:off x="3589920" y="1457640"/>
                    <a:ext cx="1520640" cy="235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5108040" y="1456560"/>
                    <a:ext cx="1524960" cy="240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5397840" y="1171440"/>
                    <a:ext cx="1513440" cy="232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04" name=""/>
                <p:cNvSpPr/>
                <p:nvPr/>
              </p:nvSpPr>
              <p:spPr>
                <a:xfrm flipV="1">
                  <a:off x="6138720" y="1329120"/>
                  <a:ext cx="290520" cy="291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5" name=""/>
              <p:cNvGrpSpPr/>
              <p:nvPr/>
            </p:nvGrpSpPr>
            <p:grpSpPr>
              <a:xfrm>
                <a:off x="2125800" y="2615040"/>
                <a:ext cx="3347640" cy="526320"/>
                <a:chOff x="2125800" y="2615040"/>
                <a:chExt cx="3347640" cy="526320"/>
              </a:xfrm>
            </p:grpSpPr>
            <p:sp>
              <p:nvSpPr>
                <p:cNvPr id="4306" name=""/>
                <p:cNvSpPr/>
                <p:nvPr/>
              </p:nvSpPr>
              <p:spPr>
                <a:xfrm flipV="1">
                  <a:off x="5185440" y="2850480"/>
                  <a:ext cx="28692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V="1">
                  <a:off x="4188960" y="2697120"/>
                  <a:ext cx="285480" cy="285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V="1">
                  <a:off x="3657960" y="2619360"/>
                  <a:ext cx="281880" cy="281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>
                  <a:off x="3655080" y="2901240"/>
                  <a:ext cx="1530000" cy="240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 flipH="1" flipV="1">
                  <a:off x="3943800" y="2617200"/>
                  <a:ext cx="23868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 flipH="1" flipV="1">
                  <a:off x="4983840" y="2776320"/>
                  <a:ext cx="203400" cy="36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V="1">
                  <a:off x="4695840" y="2851560"/>
                  <a:ext cx="772200" cy="212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H="1" flipV="1">
                  <a:off x="4475160" y="2698200"/>
                  <a:ext cx="22140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 flipH="1">
                  <a:off x="4183200" y="2775600"/>
                  <a:ext cx="799200" cy="210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 flipH="1">
                  <a:off x="3656880" y="2697480"/>
                  <a:ext cx="82008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8480" y="2615760"/>
                  <a:ext cx="152496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V="1">
                  <a:off x="4697280" y="2775960"/>
                  <a:ext cx="28548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 flipV="1">
                  <a:off x="3130560" y="2694240"/>
                  <a:ext cx="285480" cy="287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 flipV="1">
                  <a:off x="2639520" y="2769120"/>
                  <a:ext cx="288000" cy="289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V="1">
                  <a:off x="2134440" y="2901240"/>
                  <a:ext cx="1520280" cy="237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V="1">
                  <a:off x="2416320" y="2615400"/>
                  <a:ext cx="1535400" cy="233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 flipH="1">
                  <a:off x="3128760" y="2615040"/>
                  <a:ext cx="81792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H="1" flipV="1">
                  <a:off x="3414240" y="2697480"/>
                  <a:ext cx="23976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 flipH="1" flipV="1">
                  <a:off x="2925000" y="2769120"/>
                  <a:ext cx="203040" cy="213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 flipH="1">
                  <a:off x="2641320" y="2701440"/>
                  <a:ext cx="766440" cy="359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 flipH="1" flipV="1">
                  <a:off x="2417040" y="2849400"/>
                  <a:ext cx="219960" cy="210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 flipH="1">
                  <a:off x="2129040" y="2771640"/>
                  <a:ext cx="79344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 flipV="1">
                  <a:off x="2125800" y="2850480"/>
                  <a:ext cx="290520" cy="290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29" name=""/>
            <p:cNvGrpSpPr/>
            <p:nvPr/>
          </p:nvGrpSpPr>
          <p:grpSpPr>
            <a:xfrm>
              <a:off x="2136600" y="1404720"/>
              <a:ext cx="4784400" cy="1733400"/>
              <a:chOff x="2136600" y="1404720"/>
              <a:chExt cx="4784400" cy="1733400"/>
            </a:xfrm>
          </p:grpSpPr>
          <p:sp>
            <p:nvSpPr>
              <p:cNvPr id="4330" name=""/>
              <p:cNvSpPr/>
              <p:nvPr/>
            </p:nvSpPr>
            <p:spPr>
              <a:xfrm flipV="1">
                <a:off x="5186520" y="1404720"/>
                <a:ext cx="173448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2136600" y="1404720"/>
                <a:ext cx="172944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2" name=""/>
            <p:cNvGrpSpPr/>
            <p:nvPr/>
          </p:nvGrpSpPr>
          <p:grpSpPr>
            <a:xfrm>
              <a:off x="2355840" y="1211040"/>
              <a:ext cx="4322880" cy="1899000"/>
              <a:chOff x="2355840" y="1211040"/>
              <a:chExt cx="4322880" cy="1899000"/>
            </a:xfrm>
          </p:grpSpPr>
          <p:sp>
            <p:nvSpPr>
              <p:cNvPr id="4333" name=""/>
              <p:cNvSpPr/>
              <p:nvPr/>
            </p:nvSpPr>
            <p:spPr>
              <a:xfrm flipV="1">
                <a:off x="3933360" y="1211040"/>
                <a:ext cx="172512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4194720" y="1250640"/>
                <a:ext cx="17301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4704120" y="1332720"/>
                <a:ext cx="172296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4943160" y="1371600"/>
                <a:ext cx="17355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2355840" y="1369080"/>
                <a:ext cx="1770480" cy="1740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V="1">
                <a:off x="2644560" y="1330200"/>
                <a:ext cx="17287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3137040" y="1249200"/>
                <a:ext cx="17323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V="1">
                <a:off x="3386160" y="1211040"/>
                <a:ext cx="1759680" cy="1738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V="1">
                <a:off x="2883960" y="1295280"/>
                <a:ext cx="1737000" cy="1732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4446720" y="1288080"/>
                <a:ext cx="1730160" cy="1735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3" name=""/>
            <p:cNvSpPr/>
            <p:nvPr/>
          </p:nvSpPr>
          <p:spPr>
            <a:xfrm flipV="1">
              <a:off x="3662280" y="1170000"/>
              <a:ext cx="1735200" cy="1727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4" name=""/>
            <p:cNvGrpSpPr/>
            <p:nvPr/>
          </p:nvGrpSpPr>
          <p:grpSpPr>
            <a:xfrm>
              <a:off x="2135160" y="3138480"/>
              <a:ext cx="3059280" cy="1069560"/>
              <a:chOff x="2135160" y="3138480"/>
              <a:chExt cx="3059280" cy="1069560"/>
            </a:xfrm>
          </p:grpSpPr>
          <p:sp>
            <p:nvSpPr>
              <p:cNvPr id="4345" name=""/>
              <p:cNvSpPr/>
              <p:nvPr/>
            </p:nvSpPr>
            <p:spPr>
              <a:xfrm flipV="1">
                <a:off x="4195440" y="4206960"/>
                <a:ext cx="99684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2135520" y="3138480"/>
                <a:ext cx="3058920" cy="3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2135160" y="3415320"/>
                <a:ext cx="30585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192920" y="3948840"/>
                <a:ext cx="100008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V="1">
                <a:off x="2135520" y="3701160"/>
                <a:ext cx="100116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195440" y="3693960"/>
                <a:ext cx="9990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2136240" y="3952800"/>
                <a:ext cx="998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2137320" y="4205880"/>
                <a:ext cx="9957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3" name=""/>
            <p:cNvGrpSpPr/>
            <p:nvPr/>
          </p:nvGrpSpPr>
          <p:grpSpPr>
            <a:xfrm>
              <a:off x="5192640" y="1699920"/>
              <a:ext cx="1731960" cy="2504880"/>
              <a:chOff x="5192640" y="1699920"/>
              <a:chExt cx="1731960" cy="2504880"/>
            </a:xfrm>
          </p:grpSpPr>
          <p:sp>
            <p:nvSpPr>
              <p:cNvPr id="4354" name=""/>
              <p:cNvSpPr/>
              <p:nvPr/>
            </p:nvSpPr>
            <p:spPr>
              <a:xfrm flipV="1">
                <a:off x="5192640" y="2485800"/>
                <a:ext cx="1731960" cy="1719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5196240" y="1699920"/>
                <a:ext cx="1726920" cy="1716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5194800" y="1986840"/>
                <a:ext cx="1728360" cy="1706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5193720" y="2216520"/>
                <a:ext cx="1729440" cy="173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"/>
            <p:cNvGrpSpPr/>
            <p:nvPr/>
          </p:nvGrpSpPr>
          <p:grpSpPr>
            <a:xfrm>
              <a:off x="2584440" y="2104920"/>
              <a:ext cx="3930840" cy="1653840"/>
              <a:chOff x="2584440" y="2104920"/>
              <a:chExt cx="3930840" cy="1653840"/>
            </a:xfrm>
          </p:grpSpPr>
          <p:grpSp>
            <p:nvGrpSpPr>
              <p:cNvPr id="4359" name=""/>
              <p:cNvGrpSpPr/>
              <p:nvPr/>
            </p:nvGrpSpPr>
            <p:grpSpPr>
              <a:xfrm>
                <a:off x="2584440" y="2106360"/>
                <a:ext cx="867600" cy="1652400"/>
                <a:chOff x="2584440" y="2106360"/>
                <a:chExt cx="867600" cy="1652400"/>
              </a:xfrm>
            </p:grpSpPr>
            <p:sp>
              <p:nvSpPr>
                <p:cNvPr id="4360" name=""/>
                <p:cNvSpPr/>
                <p:nvPr/>
              </p:nvSpPr>
              <p:spPr>
                <a:xfrm>
                  <a:off x="2584440" y="297108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>
                  <a:off x="3160800" y="239436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>
                  <a:off x="3452040" y="210636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>
                  <a:off x="2874960" y="268452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4" name=""/>
              <p:cNvGrpSpPr/>
              <p:nvPr/>
            </p:nvGrpSpPr>
            <p:grpSpPr>
              <a:xfrm>
                <a:off x="5646600" y="2104920"/>
                <a:ext cx="868680" cy="1652400"/>
                <a:chOff x="5646600" y="2104920"/>
                <a:chExt cx="868680" cy="1652400"/>
              </a:xfrm>
            </p:grpSpPr>
            <p:sp>
              <p:nvSpPr>
                <p:cNvPr id="4365" name=""/>
                <p:cNvSpPr/>
                <p:nvPr/>
              </p:nvSpPr>
              <p:spPr>
                <a:xfrm>
                  <a:off x="5646600" y="2969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6224040" y="239292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6515280" y="210492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5934240" y="2681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9" name=""/>
            <p:cNvGrpSpPr/>
            <p:nvPr/>
          </p:nvGrpSpPr>
          <p:grpSpPr>
            <a:xfrm>
              <a:off x="2427120" y="1458720"/>
              <a:ext cx="4208040" cy="1509480"/>
              <a:chOff x="2427120" y="1458720"/>
              <a:chExt cx="4208040" cy="1509480"/>
            </a:xfrm>
          </p:grpSpPr>
          <p:grpSp>
            <p:nvGrpSpPr>
              <p:cNvPr id="4370" name=""/>
              <p:cNvGrpSpPr/>
              <p:nvPr/>
            </p:nvGrpSpPr>
            <p:grpSpPr>
              <a:xfrm>
                <a:off x="2427120" y="1702080"/>
                <a:ext cx="4208040" cy="1266120"/>
                <a:chOff x="2427120" y="1702080"/>
                <a:chExt cx="4208040" cy="1266120"/>
              </a:xfrm>
            </p:grpSpPr>
            <p:grpSp>
              <p:nvGrpSpPr>
                <p:cNvPr id="4371" name=""/>
                <p:cNvGrpSpPr/>
                <p:nvPr/>
              </p:nvGrpSpPr>
              <p:grpSpPr>
                <a:xfrm>
                  <a:off x="2427120" y="1703880"/>
                  <a:ext cx="1149840" cy="1264320"/>
                  <a:chOff x="2427120" y="1703880"/>
                  <a:chExt cx="1149840" cy="1264320"/>
                </a:xfrm>
              </p:grpSpPr>
              <p:grpSp>
                <p:nvGrpSpPr>
                  <p:cNvPr id="4372" name=""/>
                  <p:cNvGrpSpPr/>
                  <p:nvPr/>
                </p:nvGrpSpPr>
                <p:grpSpPr>
                  <a:xfrm>
                    <a:off x="2427120" y="2567160"/>
                    <a:ext cx="282960" cy="401040"/>
                    <a:chOff x="2427120" y="2567160"/>
                    <a:chExt cx="282960" cy="401040"/>
                  </a:xfrm>
                </p:grpSpPr>
                <p:sp>
                  <p:nvSpPr>
                    <p:cNvPr id="4373" name=""/>
                    <p:cNvSpPr/>
                    <p:nvPr/>
                  </p:nvSpPr>
                  <p:spPr>
                    <a:xfrm>
                      <a:off x="2427120" y="28515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4" name=""/>
                    <p:cNvSpPr/>
                    <p:nvPr/>
                  </p:nvSpPr>
                  <p:spPr>
                    <a:xfrm flipH="1">
                      <a:off x="2585160" y="25671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75" name=""/>
                  <p:cNvGrpSpPr/>
                  <p:nvPr/>
                </p:nvGrpSpPr>
                <p:grpSpPr>
                  <a:xfrm>
                    <a:off x="2716560" y="2277720"/>
                    <a:ext cx="282960" cy="401040"/>
                    <a:chOff x="2716560" y="2277720"/>
                    <a:chExt cx="282960" cy="401040"/>
                  </a:xfrm>
                </p:grpSpPr>
                <p:sp>
                  <p:nvSpPr>
                    <p:cNvPr id="4376" name=""/>
                    <p:cNvSpPr/>
                    <p:nvPr/>
                  </p:nvSpPr>
                  <p:spPr>
                    <a:xfrm>
                      <a:off x="2716560" y="25621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7" name=""/>
                    <p:cNvSpPr/>
                    <p:nvPr/>
                  </p:nvSpPr>
                  <p:spPr>
                    <a:xfrm flipH="1">
                      <a:off x="2874600" y="22777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78" name=""/>
                  <p:cNvGrpSpPr/>
                  <p:nvPr/>
                </p:nvGrpSpPr>
                <p:grpSpPr>
                  <a:xfrm>
                    <a:off x="3003480" y="1993320"/>
                    <a:ext cx="282960" cy="401040"/>
                    <a:chOff x="3003480" y="1993320"/>
                    <a:chExt cx="282960" cy="401040"/>
                  </a:xfrm>
                </p:grpSpPr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3003480" y="22777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 flipH="1">
                      <a:off x="3161520" y="19933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1" name=""/>
                  <p:cNvGrpSpPr/>
                  <p:nvPr/>
                </p:nvGrpSpPr>
                <p:grpSpPr>
                  <a:xfrm>
                    <a:off x="3294000" y="1703880"/>
                    <a:ext cx="282960" cy="401040"/>
                    <a:chOff x="3294000" y="1703880"/>
                    <a:chExt cx="282960" cy="401040"/>
                  </a:xfrm>
                </p:grpSpPr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3294000" y="19882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 flipH="1">
                      <a:off x="3452040" y="17038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84" name=""/>
                <p:cNvGrpSpPr/>
                <p:nvPr/>
              </p:nvGrpSpPr>
              <p:grpSpPr>
                <a:xfrm>
                  <a:off x="5485320" y="1702080"/>
                  <a:ext cx="1149840" cy="1264320"/>
                  <a:chOff x="5485320" y="1702080"/>
                  <a:chExt cx="1149840" cy="1264320"/>
                </a:xfrm>
              </p:grpSpPr>
              <p:grpSp>
                <p:nvGrpSpPr>
                  <p:cNvPr id="4385" name=""/>
                  <p:cNvGrpSpPr/>
                  <p:nvPr/>
                </p:nvGrpSpPr>
                <p:grpSpPr>
                  <a:xfrm>
                    <a:off x="5485320" y="2565360"/>
                    <a:ext cx="282960" cy="401040"/>
                    <a:chOff x="5485320" y="2565360"/>
                    <a:chExt cx="282960" cy="401040"/>
                  </a:xfrm>
                </p:grpSpPr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5485320" y="28497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 flipH="1">
                      <a:off x="5643360" y="25653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8" name=""/>
                  <p:cNvGrpSpPr/>
                  <p:nvPr/>
                </p:nvGrpSpPr>
                <p:grpSpPr>
                  <a:xfrm>
                    <a:off x="5774760" y="2275920"/>
                    <a:ext cx="282960" cy="401040"/>
                    <a:chOff x="5774760" y="2275920"/>
                    <a:chExt cx="282960" cy="401040"/>
                  </a:xfrm>
                </p:grpSpPr>
                <p:sp>
                  <p:nvSpPr>
                    <p:cNvPr id="4389" name=""/>
                    <p:cNvSpPr/>
                    <p:nvPr/>
                  </p:nvSpPr>
                  <p:spPr>
                    <a:xfrm>
                      <a:off x="5774760" y="25603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0" name=""/>
                    <p:cNvSpPr/>
                    <p:nvPr/>
                  </p:nvSpPr>
                  <p:spPr>
                    <a:xfrm flipH="1">
                      <a:off x="5932800" y="22759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1" name=""/>
                  <p:cNvGrpSpPr/>
                  <p:nvPr/>
                </p:nvGrpSpPr>
                <p:grpSpPr>
                  <a:xfrm>
                    <a:off x="6061680" y="1991520"/>
                    <a:ext cx="282960" cy="401040"/>
                    <a:chOff x="6061680" y="1991520"/>
                    <a:chExt cx="282960" cy="401040"/>
                  </a:xfrm>
                </p:grpSpPr>
                <p:sp>
                  <p:nvSpPr>
                    <p:cNvPr id="4392" name=""/>
                    <p:cNvSpPr/>
                    <p:nvPr/>
                  </p:nvSpPr>
                  <p:spPr>
                    <a:xfrm>
                      <a:off x="6061680" y="22759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3" name=""/>
                    <p:cNvSpPr/>
                    <p:nvPr/>
                  </p:nvSpPr>
                  <p:spPr>
                    <a:xfrm flipH="1">
                      <a:off x="6219720" y="19915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4" name=""/>
                  <p:cNvGrpSpPr/>
                  <p:nvPr/>
                </p:nvGrpSpPr>
                <p:grpSpPr>
                  <a:xfrm>
                    <a:off x="6352200" y="1702080"/>
                    <a:ext cx="282960" cy="401040"/>
                    <a:chOff x="6352200" y="1702080"/>
                    <a:chExt cx="282960" cy="401040"/>
                  </a:xfrm>
                </p:grpSpPr>
                <p:sp>
                  <p:nvSpPr>
                    <p:cNvPr id="4395" name=""/>
                    <p:cNvSpPr/>
                    <p:nvPr/>
                  </p:nvSpPr>
                  <p:spPr>
                    <a:xfrm>
                      <a:off x="6352200" y="19864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6" name=""/>
                    <p:cNvSpPr/>
                    <p:nvPr/>
                  </p:nvSpPr>
                  <p:spPr>
                    <a:xfrm flipH="1">
                      <a:off x="6510240" y="17020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97" name=""/>
              <p:cNvGrpSpPr/>
              <p:nvPr/>
            </p:nvGrpSpPr>
            <p:grpSpPr>
              <a:xfrm>
                <a:off x="3843000" y="1458720"/>
                <a:ext cx="1398240" cy="1156320"/>
                <a:chOff x="3843000" y="1458720"/>
                <a:chExt cx="1398240" cy="1156320"/>
              </a:xfrm>
            </p:grpSpPr>
            <p:sp>
              <p:nvSpPr>
                <p:cNvPr id="4398" name=""/>
                <p:cNvSpPr/>
                <p:nvPr/>
              </p:nvSpPr>
              <p:spPr>
                <a:xfrm flipH="1" flipV="1">
                  <a:off x="4235040" y="2325960"/>
                  <a:ext cx="140040" cy="170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 flipH="1">
                  <a:off x="3945240" y="2495520"/>
                  <a:ext cx="4323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 flipV="1">
                  <a:off x="3844080" y="2329560"/>
                  <a:ext cx="38736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3843000" y="2497680"/>
                  <a:ext cx="10116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2" name=""/>
                <p:cNvGrpSpPr/>
                <p:nvPr/>
              </p:nvGrpSpPr>
              <p:grpSpPr>
                <a:xfrm>
                  <a:off x="4133520" y="2036160"/>
                  <a:ext cx="537120" cy="289080"/>
                  <a:chOff x="4133520" y="2036160"/>
                  <a:chExt cx="537120" cy="289080"/>
                </a:xfrm>
              </p:grpSpPr>
              <p:sp>
                <p:nvSpPr>
                  <p:cNvPr id="4403" name=""/>
                  <p:cNvSpPr/>
                  <p:nvPr/>
                </p:nvSpPr>
                <p:spPr>
                  <a:xfrm flipH="1" flipV="1">
                    <a:off x="4528440" y="2036160"/>
                    <a:ext cx="140040" cy="1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 flipH="1">
                    <a:off x="4238280" y="2205720"/>
                    <a:ext cx="432360" cy="119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4133520" y="2039760"/>
                    <a:ext cx="391320" cy="1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>
                    <a:off x="4136040" y="2207880"/>
                    <a:ext cx="101160" cy="11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7" name=""/>
                <p:cNvSpPr/>
                <p:nvPr/>
              </p:nvSpPr>
              <p:spPr>
                <a:xfrm flipH="1" flipV="1">
                  <a:off x="4818240" y="1746720"/>
                  <a:ext cx="137520" cy="171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H="1">
                  <a:off x="4528080" y="1916640"/>
                  <a:ext cx="4287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V="1">
                  <a:off x="4429440" y="1750680"/>
                  <a:ext cx="38484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>
                  <a:off x="4426920" y="1918440"/>
                  <a:ext cx="10008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H="1" flipV="1">
                  <a:off x="5107680" y="1458720"/>
                  <a:ext cx="132480" cy="166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H="1">
                  <a:off x="4817520" y="1628280"/>
                  <a:ext cx="42372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V="1">
                  <a:off x="4717440" y="1462320"/>
                  <a:ext cx="38628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>
                  <a:off x="4718880" y="1631520"/>
                  <a:ext cx="97560" cy="115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5" name=""/>
            <p:cNvSpPr/>
            <p:nvPr/>
          </p:nvSpPr>
          <p:spPr>
            <a:xfrm>
              <a:off x="3138480" y="3416400"/>
              <a:ext cx="20559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6" name=""/>
            <p:cNvGrpSpPr/>
            <p:nvPr/>
          </p:nvGrpSpPr>
          <p:grpSpPr>
            <a:xfrm>
              <a:off x="2595600" y="1630440"/>
              <a:ext cx="3903120" cy="1062720"/>
              <a:chOff x="2595600" y="1630440"/>
              <a:chExt cx="3903120" cy="1062720"/>
            </a:xfrm>
          </p:grpSpPr>
          <p:sp>
            <p:nvSpPr>
              <p:cNvPr id="4417" name=""/>
              <p:cNvSpPr/>
              <p:nvPr/>
            </p:nvSpPr>
            <p:spPr>
              <a:xfrm flipH="1" flipV="1">
                <a:off x="4377600" y="2498400"/>
                <a:ext cx="1249920" cy="19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V="1">
                <a:off x="3168360" y="1920240"/>
                <a:ext cx="125568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V="1">
                <a:off x="2880000" y="2204640"/>
                <a:ext cx="1254240" cy="18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flipV="1">
                <a:off x="3453840" y="1631880"/>
                <a:ext cx="125856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flipV="1">
                <a:off x="2595600" y="2494440"/>
                <a:ext cx="1251720" cy="18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flipH="1" flipV="1">
                <a:off x="4952520" y="1915920"/>
                <a:ext cx="1257480" cy="19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flipH="1" flipV="1">
                <a:off x="4668840" y="2207520"/>
                <a:ext cx="1255680" cy="19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flipH="1" flipV="1">
                <a:off x="5244480" y="1630440"/>
                <a:ext cx="1254240" cy="195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5" name=""/>
            <p:cNvGrpSpPr/>
            <p:nvPr/>
          </p:nvGrpSpPr>
          <p:grpSpPr>
            <a:xfrm>
              <a:off x="2408400" y="1207800"/>
              <a:ext cx="4235760" cy="1892880"/>
              <a:chOff x="2408400" y="1207800"/>
              <a:chExt cx="4235760" cy="1892880"/>
            </a:xfrm>
          </p:grpSpPr>
          <p:grpSp>
            <p:nvGrpSpPr>
              <p:cNvPr id="4426" name=""/>
              <p:cNvGrpSpPr/>
              <p:nvPr/>
            </p:nvGrpSpPr>
            <p:grpSpPr>
              <a:xfrm>
                <a:off x="2682000" y="1207800"/>
                <a:ext cx="3962160" cy="1858680"/>
                <a:chOff x="2682000" y="1207800"/>
                <a:chExt cx="3962160" cy="1858680"/>
              </a:xfrm>
            </p:grpSpPr>
            <p:sp>
              <p:nvSpPr>
                <p:cNvPr id="4427" name=""/>
                <p:cNvSpPr/>
                <p:nvPr/>
              </p:nvSpPr>
              <p:spPr>
                <a:xfrm flipV="1">
                  <a:off x="3824640" y="162108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8" name=""/>
                <p:cNvGrpSpPr/>
                <p:nvPr/>
              </p:nvGrpSpPr>
              <p:grpSpPr>
                <a:xfrm>
                  <a:off x="2682000" y="1207800"/>
                  <a:ext cx="3962160" cy="1858680"/>
                  <a:chOff x="2682000" y="1207800"/>
                  <a:chExt cx="3962160" cy="1858680"/>
                </a:xfrm>
              </p:grpSpPr>
              <p:sp>
                <p:nvSpPr>
                  <p:cNvPr id="4429" name=""/>
                  <p:cNvSpPr/>
                  <p:nvPr/>
                </p:nvSpPr>
                <p:spPr>
                  <a:xfrm flipV="1">
                    <a:off x="4260960" y="23666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 flipV="1">
                    <a:off x="4832280" y="17910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 flipV="1">
                    <a:off x="5403960" y="12078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 flipV="1">
                    <a:off x="420228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 flipV="1">
                    <a:off x="4773600" y="2127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 flipV="1">
                    <a:off x="5345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 flipV="1">
                    <a:off x="4732920" y="245448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 flipV="1">
                    <a:off x="5304600" y="187704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 flipV="1">
                    <a:off x="5875920" y="1293840"/>
                    <a:ext cx="284400" cy="2862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 flipV="1">
                    <a:off x="4674240" y="2793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 flipV="1">
                    <a:off x="5245920" y="22150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 flipV="1">
                    <a:off x="5817240" y="16326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 flipV="1">
                    <a:off x="5216760" y="253440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 flipV="1">
                    <a:off x="5788080" y="19580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 flipV="1">
                    <a:off x="6359400" y="13752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 flipV="1">
                    <a:off x="3165120" y="247752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 flipV="1">
                    <a:off x="3736440" y="19008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 flipV="1">
                    <a:off x="4308120" y="131868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7" name=""/>
                  <p:cNvSpPr/>
                  <p:nvPr/>
                </p:nvSpPr>
                <p:spPr>
                  <a:xfrm flipV="1">
                    <a:off x="2688120" y="255240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 flipV="1">
                    <a:off x="3259440" y="19756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 flipV="1">
                    <a:off x="3831120" y="139356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 flipV="1">
                    <a:off x="2682000" y="278064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 flipV="1">
                    <a:off x="3253320" y="2204280"/>
                    <a:ext cx="27288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flipV="1">
                    <a:off x="3707280" y="23828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 flipV="1">
                    <a:off x="4278960" y="18072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 flipV="1">
                    <a:off x="4850280" y="1224000"/>
                    <a:ext cx="28440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 flipV="1">
                    <a:off x="315864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 flipV="1">
                    <a:off x="3730320" y="21272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 flipV="1">
                    <a:off x="4301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8" name=""/>
              <p:cNvGrpSpPr/>
              <p:nvPr/>
            </p:nvGrpSpPr>
            <p:grpSpPr>
              <a:xfrm>
                <a:off x="2408400" y="1265040"/>
                <a:ext cx="3974040" cy="1835640"/>
                <a:chOff x="2408400" y="1265040"/>
                <a:chExt cx="3974040" cy="1835640"/>
              </a:xfrm>
            </p:grpSpPr>
            <p:sp>
              <p:nvSpPr>
                <p:cNvPr id="4459" name=""/>
                <p:cNvSpPr/>
                <p:nvPr/>
              </p:nvSpPr>
              <p:spPr>
                <a:xfrm flipV="1">
                  <a:off x="4541400" y="207036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 flipV="1">
                  <a:off x="5112360" y="149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 flipV="1">
                  <a:off x="3981240" y="2624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V="1">
                  <a:off x="4482720" y="240768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V="1">
                  <a:off x="505404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V="1">
                  <a:off x="5618880" y="1265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V="1">
                  <a:off x="5013360" y="215676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V="1">
                  <a:off x="5584680" y="15804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V="1">
                  <a:off x="4453560" y="27122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V="1">
                  <a:off x="4954680" y="24955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V="1">
                  <a:off x="5526360" y="191772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0" name=""/>
                <p:cNvSpPr/>
                <p:nvPr/>
              </p:nvSpPr>
              <p:spPr>
                <a:xfrm flipV="1">
                  <a:off x="6091200" y="135288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V="1">
                  <a:off x="5496840" y="223848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 flipV="1">
                  <a:off x="6068520" y="16603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 flipV="1">
                  <a:off x="4936680" y="27918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3445560" y="21812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V="1">
                  <a:off x="4016880" y="16034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V="1">
                  <a:off x="2885400" y="27349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V="1">
                  <a:off x="2968200" y="22561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 flipV="1">
                  <a:off x="3539880" y="16783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2408400" y="28094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V="1">
                  <a:off x="2961720" y="248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V="1">
                  <a:off x="3533400" y="190620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V="1">
                  <a:off x="4098240" y="134136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V="1">
                  <a:off x="3987360" y="2086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V="1">
                  <a:off x="4559040" y="15087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 flipV="1">
                  <a:off x="3427200" y="264060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 flipV="1">
                  <a:off x="3438720" y="240768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V="1">
                  <a:off x="401040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 flipV="1">
                  <a:off x="4575240" y="126504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9" name=""/>
          <p:cNvSpPr/>
          <p:nvPr/>
        </p:nvSpPr>
        <p:spPr>
          <a:xfrm>
            <a:off x="6905520" y="500220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"/>
          <p:cNvSpPr/>
          <p:nvPr/>
        </p:nvSpPr>
        <p:spPr>
          <a:xfrm>
            <a:off x="698508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>
            <a:hlinkClick r:id="" action="ppaction://hlinkshowjump?jump=nextslide"/>
          </p:cNvPr>
          <p:cNvSpPr/>
          <p:nvPr/>
        </p:nvSpPr>
        <p:spPr>
          <a:xfrm>
            <a:off x="7013520" y="50086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93440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7962840" y="50086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338040" y="4959360"/>
            <a:ext cx="6297840" cy="31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augmenter la section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338040" y="4564080"/>
            <a:ext cx="6297840" cy="31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 n’y aucune autr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698508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7013520" y="46134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793440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962840" y="4613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0" name=""/>
          <p:cNvGrpSpPr/>
          <p:nvPr/>
        </p:nvGrpSpPr>
        <p:grpSpPr>
          <a:xfrm>
            <a:off x="2046240" y="1169640"/>
            <a:ext cx="4932360" cy="3208320"/>
            <a:chOff x="2046240" y="1169640"/>
            <a:chExt cx="4932360" cy="3208320"/>
          </a:xfrm>
        </p:grpSpPr>
        <p:grpSp>
          <p:nvGrpSpPr>
            <p:cNvPr id="4501" name=""/>
            <p:cNvGrpSpPr/>
            <p:nvPr/>
          </p:nvGrpSpPr>
          <p:grpSpPr>
            <a:xfrm>
              <a:off x="2046240" y="2516040"/>
              <a:ext cx="4932360" cy="1861920"/>
              <a:chOff x="2046240" y="2516040"/>
              <a:chExt cx="4932360" cy="1861920"/>
            </a:xfrm>
          </p:grpSpPr>
          <p:grpSp>
            <p:nvGrpSpPr>
              <p:cNvPr id="4502" name=""/>
              <p:cNvGrpSpPr/>
              <p:nvPr/>
            </p:nvGrpSpPr>
            <p:grpSpPr>
              <a:xfrm>
                <a:off x="5396400" y="2799720"/>
                <a:ext cx="1294560" cy="1292400"/>
                <a:chOff x="5396400" y="2799720"/>
                <a:chExt cx="1294560" cy="1292400"/>
              </a:xfrm>
            </p:grpSpPr>
            <p:sp>
              <p:nvSpPr>
                <p:cNvPr id="4503" name=""/>
                <p:cNvSpPr/>
                <p:nvPr/>
              </p:nvSpPr>
              <p:spPr>
                <a:xfrm>
                  <a:off x="6549120" y="279972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>
                  <a:off x="6265080" y="3081240"/>
                  <a:ext cx="142200" cy="143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5" name=""/>
                <p:cNvSpPr/>
                <p:nvPr/>
              </p:nvSpPr>
              <p:spPr>
                <a:xfrm>
                  <a:off x="5972760" y="3370320"/>
                  <a:ext cx="14220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6" name=""/>
                <p:cNvSpPr/>
                <p:nvPr/>
              </p:nvSpPr>
              <p:spPr>
                <a:xfrm>
                  <a:off x="5685480" y="3656160"/>
                  <a:ext cx="1458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7" name=""/>
                <p:cNvSpPr/>
                <p:nvPr/>
              </p:nvSpPr>
              <p:spPr>
                <a:xfrm>
                  <a:off x="5396400" y="3949920"/>
                  <a:ext cx="14148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8" name=""/>
              <p:cNvGrpSpPr/>
              <p:nvPr/>
            </p:nvGrpSpPr>
            <p:grpSpPr>
              <a:xfrm>
                <a:off x="2340720" y="2798640"/>
                <a:ext cx="1290960" cy="1285920"/>
                <a:chOff x="2340720" y="2798640"/>
                <a:chExt cx="1290960" cy="1285920"/>
              </a:xfrm>
            </p:grpSpPr>
            <p:sp>
              <p:nvSpPr>
                <p:cNvPr id="4509" name=""/>
                <p:cNvSpPr/>
                <p:nvPr/>
              </p:nvSpPr>
              <p:spPr>
                <a:xfrm>
                  <a:off x="3489840" y="279864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0" name=""/>
                <p:cNvSpPr/>
                <p:nvPr/>
              </p:nvSpPr>
              <p:spPr>
                <a:xfrm>
                  <a:off x="3204000" y="3082680"/>
                  <a:ext cx="141840" cy="143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"/>
                <p:cNvSpPr/>
                <p:nvPr/>
              </p:nvSpPr>
              <p:spPr>
                <a:xfrm>
                  <a:off x="2917440" y="337032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>
                  <a:off x="2625120" y="3657240"/>
                  <a:ext cx="14256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>
                  <a:off x="2340720" y="39423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4" name=""/>
              <p:cNvGrpSpPr/>
              <p:nvPr/>
            </p:nvGrpSpPr>
            <p:grpSpPr>
              <a:xfrm>
                <a:off x="3772440" y="2516040"/>
                <a:ext cx="3206160" cy="144000"/>
                <a:chOff x="3772440" y="2516040"/>
                <a:chExt cx="3206160" cy="14400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6836760" y="251640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3772440" y="251640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>
                  <a:off x="5830920" y="251604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4281480" y="25178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477108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>
                  <a:off x="5305320" y="25160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633600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2" name=""/>
              <p:cNvGrpSpPr/>
              <p:nvPr/>
            </p:nvGrpSpPr>
            <p:grpSpPr>
              <a:xfrm>
                <a:off x="2046240" y="4234320"/>
                <a:ext cx="3205440" cy="143640"/>
                <a:chOff x="2046240" y="4234320"/>
                <a:chExt cx="3205440" cy="143640"/>
              </a:xfrm>
            </p:grpSpPr>
            <p:sp>
              <p:nvSpPr>
                <p:cNvPr id="4523" name=""/>
                <p:cNvSpPr/>
                <p:nvPr/>
              </p:nvSpPr>
              <p:spPr>
                <a:xfrm>
                  <a:off x="204624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>
                  <a:off x="5109480" y="4234320"/>
                  <a:ext cx="142200" cy="142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255240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>
                  <a:off x="304452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4105080" y="42357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461736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9" name=""/>
            <p:cNvSpPr/>
            <p:nvPr/>
          </p:nvSpPr>
          <p:spPr>
            <a:xfrm>
              <a:off x="3137040" y="2989440"/>
              <a:ext cx="0" cy="780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0" name=""/>
            <p:cNvGrpSpPr/>
            <p:nvPr/>
          </p:nvGrpSpPr>
          <p:grpSpPr>
            <a:xfrm>
              <a:off x="3137040" y="2979720"/>
              <a:ext cx="1055520" cy="434880"/>
              <a:chOff x="3137040" y="2979720"/>
              <a:chExt cx="1055520" cy="434880"/>
            </a:xfrm>
          </p:grpSpPr>
          <p:sp>
            <p:nvSpPr>
              <p:cNvPr id="4531" name=""/>
              <p:cNvSpPr/>
              <p:nvPr/>
            </p:nvSpPr>
            <p:spPr>
              <a:xfrm>
                <a:off x="3137040" y="2979720"/>
                <a:ext cx="532440" cy="43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3668040" y="2985480"/>
                <a:ext cx="524520" cy="428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3" name=""/>
            <p:cNvSpPr/>
            <p:nvPr/>
          </p:nvSpPr>
          <p:spPr>
            <a:xfrm>
              <a:off x="3664080" y="2895480"/>
              <a:ext cx="0" cy="51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4" name=""/>
            <p:cNvGrpSpPr/>
            <p:nvPr/>
          </p:nvGrpSpPr>
          <p:grpSpPr>
            <a:xfrm>
              <a:off x="3867120" y="1406520"/>
              <a:ext cx="3060720" cy="1079640"/>
              <a:chOff x="3867120" y="1406520"/>
              <a:chExt cx="3060720" cy="1079640"/>
            </a:xfrm>
          </p:grpSpPr>
          <p:sp>
            <p:nvSpPr>
              <p:cNvPr id="4535" name=""/>
              <p:cNvSpPr/>
              <p:nvPr/>
            </p:nvSpPr>
            <p:spPr>
              <a:xfrm>
                <a:off x="3867120" y="140652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3867480" y="16995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3867840" y="2217600"/>
                <a:ext cx="3054960" cy="12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3868560" y="1988280"/>
                <a:ext cx="3050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3869640" y="24861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2135160" y="1695600"/>
              <a:ext cx="1731960" cy="2507760"/>
              <a:chOff x="2135160" y="1695600"/>
              <a:chExt cx="1731960" cy="2507760"/>
            </a:xfrm>
          </p:grpSpPr>
          <p:sp>
            <p:nvSpPr>
              <p:cNvPr id="4541" name=""/>
              <p:cNvSpPr/>
              <p:nvPr/>
            </p:nvSpPr>
            <p:spPr>
              <a:xfrm flipV="1">
                <a:off x="2138760" y="1695600"/>
                <a:ext cx="1726920" cy="1717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5160" y="1990440"/>
                <a:ext cx="1730880" cy="1707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2136240" y="2227320"/>
                <a:ext cx="1730880" cy="1725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2136240" y="2482920"/>
                <a:ext cx="1728360" cy="1720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2130480" y="1169640"/>
              <a:ext cx="4787640" cy="3027240"/>
              <a:chOff x="2130480" y="1169640"/>
              <a:chExt cx="4787640" cy="3027240"/>
            </a:xfrm>
          </p:grpSpPr>
          <p:grpSp>
            <p:nvGrpSpPr>
              <p:cNvPr id="4546" name=""/>
              <p:cNvGrpSpPr/>
              <p:nvPr/>
            </p:nvGrpSpPr>
            <p:grpSpPr>
              <a:xfrm>
                <a:off x="2130480" y="2901600"/>
                <a:ext cx="3063960" cy="1295280"/>
                <a:chOff x="2130480" y="2901600"/>
                <a:chExt cx="3063960" cy="1295280"/>
              </a:xfrm>
            </p:grpSpPr>
            <p:sp>
              <p:nvSpPr>
                <p:cNvPr id="4547" name=""/>
                <p:cNvSpPr/>
                <p:nvPr/>
              </p:nvSpPr>
              <p:spPr>
                <a:xfrm flipV="1">
                  <a:off x="2131920" y="2901600"/>
                  <a:ext cx="152856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H="1" flipV="1">
                  <a:off x="3664440" y="2902680"/>
                  <a:ext cx="153000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 flipV="1">
                  <a:off x="213048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 flipV="1">
                  <a:off x="519012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1" name=""/>
              <p:cNvGrpSpPr/>
              <p:nvPr/>
            </p:nvGrpSpPr>
            <p:grpSpPr>
              <a:xfrm>
                <a:off x="3864600" y="1169640"/>
                <a:ext cx="3053520" cy="1320480"/>
                <a:chOff x="3864600" y="1169640"/>
                <a:chExt cx="3053520" cy="1320480"/>
              </a:xfrm>
            </p:grpSpPr>
            <p:sp>
              <p:nvSpPr>
                <p:cNvPr id="4552" name=""/>
                <p:cNvSpPr/>
                <p:nvPr/>
              </p:nvSpPr>
              <p:spPr>
                <a:xfrm flipV="1">
                  <a:off x="3865320" y="1404720"/>
                  <a:ext cx="1080" cy="1085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 flipV="1">
                  <a:off x="6917760" y="140256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 flipV="1">
                  <a:off x="3864600" y="1169640"/>
                  <a:ext cx="152856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 flipH="1" flipV="1">
                  <a:off x="5388120" y="1170720"/>
                  <a:ext cx="153000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56" name=""/>
            <p:cNvGrpSpPr/>
            <p:nvPr/>
          </p:nvGrpSpPr>
          <p:grpSpPr>
            <a:xfrm>
              <a:off x="2138400" y="1174680"/>
              <a:ext cx="4784040" cy="3046320"/>
              <a:chOff x="2138400" y="1174680"/>
              <a:chExt cx="4784040" cy="3046320"/>
            </a:xfrm>
          </p:grpSpPr>
          <p:grpSp>
            <p:nvGrpSpPr>
              <p:cNvPr id="4557" name=""/>
              <p:cNvGrpSpPr/>
              <p:nvPr/>
            </p:nvGrpSpPr>
            <p:grpSpPr>
              <a:xfrm>
                <a:off x="3864600" y="1174680"/>
                <a:ext cx="3057840" cy="1320120"/>
                <a:chOff x="3864600" y="1174680"/>
                <a:chExt cx="3057840" cy="1320120"/>
              </a:xfrm>
            </p:grpSpPr>
            <p:sp>
              <p:nvSpPr>
                <p:cNvPr id="4558" name=""/>
                <p:cNvSpPr/>
                <p:nvPr/>
              </p:nvSpPr>
              <p:spPr>
                <a:xfrm>
                  <a:off x="6424560" y="1334880"/>
                  <a:ext cx="0" cy="115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 flipH="1">
                  <a:off x="6921360" y="1406880"/>
                  <a:ext cx="1080" cy="1087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5920560" y="1254240"/>
                  <a:ext cx="0" cy="1236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5392440" y="1174680"/>
                  <a:ext cx="0" cy="13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4862160" y="1257480"/>
                  <a:ext cx="0" cy="1233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flipH="1">
                  <a:off x="3864600" y="1401840"/>
                  <a:ext cx="2520" cy="1084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4373640" y="1333440"/>
                  <a:ext cx="0" cy="115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5" name=""/>
              <p:cNvGrpSpPr/>
              <p:nvPr/>
            </p:nvGrpSpPr>
            <p:grpSpPr>
              <a:xfrm>
                <a:off x="2138400" y="2910960"/>
                <a:ext cx="3060360" cy="1310040"/>
                <a:chOff x="2138400" y="2910960"/>
                <a:chExt cx="3060360" cy="1310040"/>
              </a:xfrm>
            </p:grpSpPr>
            <p:sp>
              <p:nvSpPr>
                <p:cNvPr id="4566" name=""/>
                <p:cNvSpPr/>
                <p:nvPr/>
              </p:nvSpPr>
              <p:spPr>
                <a:xfrm flipH="1">
                  <a:off x="3668760" y="2910960"/>
                  <a:ext cx="1080" cy="509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4709160" y="3073680"/>
                  <a:ext cx="0" cy="11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5198760" y="3146040"/>
                  <a:ext cx="0" cy="106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4198680" y="2996280"/>
                  <a:ext cx="0" cy="1219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3139920" y="2989800"/>
                  <a:ext cx="0" cy="1226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>
                  <a:off x="2138400" y="3148560"/>
                  <a:ext cx="720" cy="1065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2651400" y="3069720"/>
                  <a:ext cx="0" cy="1146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3" name=""/>
            <p:cNvGrpSpPr/>
            <p:nvPr/>
          </p:nvGrpSpPr>
          <p:grpSpPr>
            <a:xfrm>
              <a:off x="2130480" y="1401480"/>
              <a:ext cx="4792680" cy="2803680"/>
              <a:chOff x="2130480" y="1401480"/>
              <a:chExt cx="4792680" cy="2803680"/>
            </a:xfrm>
          </p:grpSpPr>
          <p:grpSp>
            <p:nvGrpSpPr>
              <p:cNvPr id="4574" name=""/>
              <p:cNvGrpSpPr/>
              <p:nvPr/>
            </p:nvGrpSpPr>
            <p:grpSpPr>
              <a:xfrm>
                <a:off x="2130480" y="1401480"/>
                <a:ext cx="4790520" cy="2803680"/>
                <a:chOff x="2130480" y="1401480"/>
                <a:chExt cx="4790520" cy="2803680"/>
              </a:xfrm>
            </p:grpSpPr>
            <p:grpSp>
              <p:nvGrpSpPr>
                <p:cNvPr id="4575" name=""/>
                <p:cNvGrpSpPr/>
                <p:nvPr/>
              </p:nvGrpSpPr>
              <p:grpSpPr>
                <a:xfrm>
                  <a:off x="5178240" y="2846520"/>
                  <a:ext cx="301320" cy="1352880"/>
                  <a:chOff x="5178240" y="2846520"/>
                  <a:chExt cx="301320" cy="1352880"/>
                </a:xfrm>
              </p:grpSpPr>
              <p:sp>
                <p:nvSpPr>
                  <p:cNvPr id="4576" name=""/>
                  <p:cNvSpPr/>
                  <p:nvPr/>
                </p:nvSpPr>
                <p:spPr>
                  <a:xfrm flipV="1">
                    <a:off x="5190840" y="3408480"/>
                    <a:ext cx="288360" cy="790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"/>
                  <p:cNvSpPr/>
                  <p:nvPr/>
                </p:nvSpPr>
                <p:spPr>
                  <a:xfrm flipH="1" flipV="1">
                    <a:off x="5185440" y="3130560"/>
                    <a:ext cx="293400" cy="27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 flipH="1" flipV="1">
                    <a:off x="5190480" y="3691080"/>
                    <a:ext cx="288360" cy="219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9" name=""/>
                  <p:cNvSpPr/>
                  <p:nvPr/>
                </p:nvSpPr>
                <p:spPr>
                  <a:xfrm flipV="1">
                    <a:off x="5190840" y="2846520"/>
                    <a:ext cx="288360" cy="83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0" name=""/>
                  <p:cNvSpPr/>
                  <p:nvPr/>
                </p:nvSpPr>
                <p:spPr>
                  <a:xfrm flipV="1">
                    <a:off x="5178240" y="2858040"/>
                    <a:ext cx="288360" cy="288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5191200" y="3131280"/>
                    <a:ext cx="0" cy="1063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>
                    <a:off x="5479560" y="2852280"/>
                    <a:ext cx="0" cy="1064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3" name=""/>
                <p:cNvGrpSpPr/>
                <p:nvPr/>
              </p:nvGrpSpPr>
              <p:grpSpPr>
                <a:xfrm>
                  <a:off x="2130480" y="2853720"/>
                  <a:ext cx="289440" cy="1351440"/>
                  <a:chOff x="2130480" y="2853720"/>
                  <a:chExt cx="289440" cy="1351440"/>
                </a:xfrm>
              </p:grpSpPr>
              <p:sp>
                <p:nvSpPr>
                  <p:cNvPr id="4584" name=""/>
                  <p:cNvSpPr/>
                  <p:nvPr/>
                </p:nvSpPr>
                <p:spPr>
                  <a:xfrm flipV="1">
                    <a:off x="2131560" y="3411720"/>
                    <a:ext cx="288000" cy="790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"/>
                  <p:cNvSpPr/>
                  <p:nvPr/>
                </p:nvSpPr>
                <p:spPr>
                  <a:xfrm flipH="1" flipV="1">
                    <a:off x="2131560" y="3141360"/>
                    <a:ext cx="285840" cy="266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 flipH="1" flipV="1">
                    <a:off x="2130480" y="3700080"/>
                    <a:ext cx="288000" cy="214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 flipV="1">
                    <a:off x="2131560" y="2853720"/>
                    <a:ext cx="286920" cy="841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"/>
                  <p:cNvSpPr/>
                  <p:nvPr/>
                </p:nvSpPr>
                <p:spPr>
                  <a:xfrm flipV="1">
                    <a:off x="2133360" y="285372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>
                    <a:off x="2131920" y="314208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 flipH="1">
                    <a:off x="2418840" y="2862720"/>
                    <a:ext cx="1080" cy="10508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6630120" y="1401480"/>
                  <a:ext cx="290880" cy="1371240"/>
                  <a:chOff x="6630120" y="1401480"/>
                  <a:chExt cx="290880" cy="137124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 flipV="1">
                    <a:off x="6632280" y="1983240"/>
                    <a:ext cx="285840" cy="785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 flipH="1" flipV="1">
                    <a:off x="6630120" y="1691640"/>
                    <a:ext cx="287280" cy="29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 flipH="1" flipV="1">
                    <a:off x="6632280" y="2265840"/>
                    <a:ext cx="285840" cy="216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 flipV="1">
                    <a:off x="6631200" y="1403280"/>
                    <a:ext cx="28332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 flipV="1">
                    <a:off x="6630480" y="1401480"/>
                    <a:ext cx="289800" cy="294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6634080" y="1686960"/>
                    <a:ext cx="0" cy="108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 flipH="1">
                    <a:off x="6919920" y="1406880"/>
                    <a:ext cx="1080" cy="1076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9" name=""/>
                <p:cNvGrpSpPr/>
                <p:nvPr/>
              </p:nvGrpSpPr>
              <p:grpSpPr>
                <a:xfrm>
                  <a:off x="3573360" y="1403280"/>
                  <a:ext cx="288000" cy="1365480"/>
                  <a:chOff x="3573360" y="1403280"/>
                  <a:chExt cx="288000" cy="1365480"/>
                </a:xfrm>
              </p:grpSpPr>
              <p:sp>
                <p:nvSpPr>
                  <p:cNvPr id="4600" name=""/>
                  <p:cNvSpPr/>
                  <p:nvPr/>
                </p:nvSpPr>
                <p:spPr>
                  <a:xfrm flipV="1">
                    <a:off x="3573360" y="1987200"/>
                    <a:ext cx="286920" cy="781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 flipH="1" flipV="1">
                    <a:off x="3574440" y="1695240"/>
                    <a:ext cx="284400" cy="289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 flipH="1" flipV="1">
                    <a:off x="3573360" y="2270880"/>
                    <a:ext cx="288000" cy="20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 flipV="1">
                    <a:off x="3573360" y="1403640"/>
                    <a:ext cx="28800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 flipV="1">
                    <a:off x="3574800" y="140400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3573720" y="170136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3859200" y="1403280"/>
                    <a:ext cx="1080" cy="10774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7" name=""/>
              <p:cNvGrpSpPr/>
              <p:nvPr/>
            </p:nvGrpSpPr>
            <p:grpSpPr>
              <a:xfrm>
                <a:off x="2133720" y="1982520"/>
                <a:ext cx="4789440" cy="1716480"/>
                <a:chOff x="2133720" y="1982520"/>
                <a:chExt cx="4789440" cy="1716480"/>
              </a:xfrm>
            </p:grpSpPr>
            <p:sp>
              <p:nvSpPr>
                <p:cNvPr id="4608" name=""/>
                <p:cNvSpPr/>
                <p:nvPr/>
              </p:nvSpPr>
              <p:spPr>
                <a:xfrm flipV="1">
                  <a:off x="5194080" y="340596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 flipV="1">
                  <a:off x="2133720" y="3412800"/>
                  <a:ext cx="28800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 flipV="1">
                  <a:off x="6639840" y="1982520"/>
                  <a:ext cx="28332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 flipV="1">
                  <a:off x="3578040" y="1987920"/>
                  <a:ext cx="28548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2" name=""/>
            <p:cNvGrpSpPr/>
            <p:nvPr/>
          </p:nvGrpSpPr>
          <p:grpSpPr>
            <a:xfrm>
              <a:off x="2425680" y="1460160"/>
              <a:ext cx="4211640" cy="2452680"/>
              <a:chOff x="2425680" y="1460160"/>
              <a:chExt cx="4211640" cy="2452680"/>
            </a:xfrm>
          </p:grpSpPr>
          <p:grpSp>
            <p:nvGrpSpPr>
              <p:cNvPr id="4613" name=""/>
              <p:cNvGrpSpPr/>
              <p:nvPr/>
            </p:nvGrpSpPr>
            <p:grpSpPr>
              <a:xfrm>
                <a:off x="2425680" y="2616120"/>
                <a:ext cx="3058560" cy="1296720"/>
                <a:chOff x="2425680" y="2616120"/>
                <a:chExt cx="3058560" cy="1296720"/>
              </a:xfrm>
            </p:grpSpPr>
            <p:sp>
              <p:nvSpPr>
                <p:cNvPr id="4614" name=""/>
                <p:cNvSpPr/>
                <p:nvPr/>
              </p:nvSpPr>
              <p:spPr>
                <a:xfrm flipV="1">
                  <a:off x="242568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 flipV="1">
                  <a:off x="242568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 flipV="1">
                  <a:off x="548424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 flipH="1" flipV="1">
                  <a:off x="395496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8" name=""/>
              <p:cNvGrpSpPr/>
              <p:nvPr/>
            </p:nvGrpSpPr>
            <p:grpSpPr>
              <a:xfrm>
                <a:off x="2713680" y="1460160"/>
                <a:ext cx="3923640" cy="2173680"/>
                <a:chOff x="2713680" y="1460160"/>
                <a:chExt cx="3923640" cy="2173680"/>
              </a:xfrm>
            </p:grpSpPr>
            <p:grpSp>
              <p:nvGrpSpPr>
                <p:cNvPr id="4619" name=""/>
                <p:cNvGrpSpPr/>
                <p:nvPr/>
              </p:nvGrpSpPr>
              <p:grpSpPr>
                <a:xfrm>
                  <a:off x="2713680" y="2327040"/>
                  <a:ext cx="3058920" cy="1306800"/>
                  <a:chOff x="2713680" y="2327040"/>
                  <a:chExt cx="3058920" cy="1306800"/>
                </a:xfrm>
              </p:grpSpPr>
              <p:sp>
                <p:nvSpPr>
                  <p:cNvPr id="4620" name=""/>
                  <p:cNvSpPr/>
                  <p:nvPr/>
                </p:nvSpPr>
                <p:spPr>
                  <a:xfrm flipV="1">
                    <a:off x="2713680" y="2563920"/>
                    <a:ext cx="0" cy="10663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 flipV="1">
                    <a:off x="2713680" y="2327040"/>
                    <a:ext cx="152964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 flipV="1">
                    <a:off x="5772600" y="2563560"/>
                    <a:ext cx="0" cy="10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 flipH="1" flipV="1">
                    <a:off x="4243320" y="2327040"/>
                    <a:ext cx="152928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4" name=""/>
                <p:cNvGrpSpPr/>
                <p:nvPr/>
              </p:nvGrpSpPr>
              <p:grpSpPr>
                <a:xfrm>
                  <a:off x="3000600" y="2038320"/>
                  <a:ext cx="3060360" cy="1303920"/>
                  <a:chOff x="3000600" y="2038320"/>
                  <a:chExt cx="3060360" cy="1303920"/>
                </a:xfrm>
              </p:grpSpPr>
              <p:sp>
                <p:nvSpPr>
                  <p:cNvPr id="4625" name=""/>
                  <p:cNvSpPr/>
                  <p:nvPr/>
                </p:nvSpPr>
                <p:spPr>
                  <a:xfrm flipV="1">
                    <a:off x="300060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 flipV="1">
                    <a:off x="300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 flipV="1">
                    <a:off x="606096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 flipH="1" flipV="1">
                    <a:off x="453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9" name=""/>
                <p:cNvGrpSpPr/>
                <p:nvPr/>
              </p:nvGrpSpPr>
              <p:grpSpPr>
                <a:xfrm>
                  <a:off x="3290040" y="1749240"/>
                  <a:ext cx="3058920" cy="1305360"/>
                  <a:chOff x="3290040" y="1749240"/>
                  <a:chExt cx="3058920" cy="1305360"/>
                </a:xfrm>
              </p:grpSpPr>
              <p:sp>
                <p:nvSpPr>
                  <p:cNvPr id="4630" name=""/>
                  <p:cNvSpPr/>
                  <p:nvPr/>
                </p:nvSpPr>
                <p:spPr>
                  <a:xfrm flipV="1">
                    <a:off x="329004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 flipV="1">
                    <a:off x="3290040" y="1749240"/>
                    <a:ext cx="152928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 flipV="1">
                    <a:off x="634896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 flipH="1" flipV="1">
                    <a:off x="4818960" y="1749240"/>
                    <a:ext cx="152964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4" name=""/>
                <p:cNvGrpSpPr/>
                <p:nvPr/>
              </p:nvGrpSpPr>
              <p:grpSpPr>
                <a:xfrm>
                  <a:off x="3578760" y="1460160"/>
                  <a:ext cx="3058560" cy="1313280"/>
                  <a:chOff x="3578760" y="1460160"/>
                  <a:chExt cx="3058560" cy="1313280"/>
                </a:xfrm>
              </p:grpSpPr>
              <p:sp>
                <p:nvSpPr>
                  <p:cNvPr id="4635" name=""/>
                  <p:cNvSpPr/>
                  <p:nvPr/>
                </p:nvSpPr>
                <p:spPr>
                  <a:xfrm flipV="1">
                    <a:off x="357876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 flipV="1">
                    <a:off x="357876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 flipV="1">
                    <a:off x="663732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 flipH="1" flipV="1">
                    <a:off x="510804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39" name=""/>
            <p:cNvGrpSpPr/>
            <p:nvPr/>
          </p:nvGrpSpPr>
          <p:grpSpPr>
            <a:xfrm>
              <a:off x="2125800" y="1171080"/>
              <a:ext cx="4795560" cy="1970280"/>
              <a:chOff x="2125800" y="1171080"/>
              <a:chExt cx="4795560" cy="1970280"/>
            </a:xfrm>
          </p:grpSpPr>
          <p:grpSp>
            <p:nvGrpSpPr>
              <p:cNvPr id="4640" name=""/>
              <p:cNvGrpSpPr/>
              <p:nvPr/>
            </p:nvGrpSpPr>
            <p:grpSpPr>
              <a:xfrm>
                <a:off x="3575520" y="1171080"/>
                <a:ext cx="3345840" cy="525600"/>
                <a:chOff x="3575520" y="1171080"/>
                <a:chExt cx="3345840" cy="525600"/>
              </a:xfrm>
            </p:grpSpPr>
            <p:sp>
              <p:nvSpPr>
                <p:cNvPr id="4641" name=""/>
                <p:cNvSpPr/>
                <p:nvPr/>
              </p:nvSpPr>
              <p:spPr>
                <a:xfrm flipV="1">
                  <a:off x="6638400" y="14040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 flipV="1">
                  <a:off x="5107320" y="1171080"/>
                  <a:ext cx="286920" cy="289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 flipV="1">
                  <a:off x="5635800" y="125244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 flipV="1">
                  <a:off x="3576240" y="1407240"/>
                  <a:ext cx="28944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 flipV="1">
                  <a:off x="4086000" y="13302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 flipV="1">
                  <a:off x="4577400" y="125460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7" name=""/>
                <p:cNvGrpSpPr/>
                <p:nvPr/>
              </p:nvGrpSpPr>
              <p:grpSpPr>
                <a:xfrm>
                  <a:off x="3575520" y="1171440"/>
                  <a:ext cx="3342240" cy="525240"/>
                  <a:chOff x="3575520" y="1171440"/>
                  <a:chExt cx="3342240" cy="525240"/>
                </a:xfrm>
              </p:grpSpPr>
              <p:sp>
                <p:nvSpPr>
                  <p:cNvPr id="4648" name=""/>
                  <p:cNvSpPr/>
                  <p:nvPr/>
                </p:nvSpPr>
                <p:spPr>
                  <a:xfrm flipH="1" flipV="1">
                    <a:off x="5392080" y="1171440"/>
                    <a:ext cx="23760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 flipH="1">
                    <a:off x="4576320" y="1171800"/>
                    <a:ext cx="813960" cy="36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 flipH="1" flipV="1">
                    <a:off x="6431040" y="1329120"/>
                    <a:ext cx="20088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 flipV="1">
                    <a:off x="6137640" y="1404360"/>
                    <a:ext cx="780120" cy="214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 flipH="1" flipV="1">
                    <a:off x="5920920" y="1253160"/>
                    <a:ext cx="216360" cy="367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 flipH="1">
                    <a:off x="5632560" y="1327320"/>
                    <a:ext cx="799200" cy="214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 flipH="1">
                    <a:off x="5109480" y="1249200"/>
                    <a:ext cx="811080" cy="207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 flipH="1" flipV="1">
                    <a:off x="4861080" y="1255680"/>
                    <a:ext cx="254880" cy="208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"/>
                  <p:cNvSpPr/>
                  <p:nvPr/>
                </p:nvSpPr>
                <p:spPr>
                  <a:xfrm flipH="1" flipV="1">
                    <a:off x="4372920" y="1326960"/>
                    <a:ext cx="210600" cy="215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 flipH="1">
                    <a:off x="4083120" y="1256760"/>
                    <a:ext cx="779040" cy="362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 flipH="1" flipV="1">
                    <a:off x="3867480" y="1408320"/>
                    <a:ext cx="213480" cy="209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 flipH="1">
                    <a:off x="3575520" y="1328400"/>
                    <a:ext cx="797400" cy="36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 flipV="1">
                    <a:off x="3868200" y="1173240"/>
                    <a:ext cx="1522800" cy="230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 flipV="1">
                    <a:off x="3589920" y="1457640"/>
                    <a:ext cx="1520640" cy="235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5108040" y="1456560"/>
                    <a:ext cx="1524960" cy="240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5397840" y="1171440"/>
                    <a:ext cx="1513440" cy="232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4" name=""/>
                <p:cNvSpPr/>
                <p:nvPr/>
              </p:nvSpPr>
              <p:spPr>
                <a:xfrm flipV="1">
                  <a:off x="6138720" y="1329120"/>
                  <a:ext cx="290520" cy="291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5" name=""/>
              <p:cNvGrpSpPr/>
              <p:nvPr/>
            </p:nvGrpSpPr>
            <p:grpSpPr>
              <a:xfrm>
                <a:off x="2125800" y="2615040"/>
                <a:ext cx="3347640" cy="526320"/>
                <a:chOff x="2125800" y="2615040"/>
                <a:chExt cx="3347640" cy="526320"/>
              </a:xfrm>
            </p:grpSpPr>
            <p:sp>
              <p:nvSpPr>
                <p:cNvPr id="4666" name=""/>
                <p:cNvSpPr/>
                <p:nvPr/>
              </p:nvSpPr>
              <p:spPr>
                <a:xfrm flipV="1">
                  <a:off x="5185440" y="2850480"/>
                  <a:ext cx="28692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 flipV="1">
                  <a:off x="4188960" y="2697120"/>
                  <a:ext cx="285480" cy="285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 flipV="1">
                  <a:off x="3657960" y="2619360"/>
                  <a:ext cx="281880" cy="281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3655080" y="2901240"/>
                  <a:ext cx="1530000" cy="240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 flipH="1" flipV="1">
                  <a:off x="3943800" y="2617200"/>
                  <a:ext cx="23868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 flipH="1" flipV="1">
                  <a:off x="4983840" y="2776320"/>
                  <a:ext cx="203400" cy="36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 flipV="1">
                  <a:off x="4695840" y="2851560"/>
                  <a:ext cx="772200" cy="212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 flipH="1" flipV="1">
                  <a:off x="4475160" y="2698200"/>
                  <a:ext cx="22140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 flipH="1">
                  <a:off x="4183200" y="2775600"/>
                  <a:ext cx="799200" cy="210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 flipH="1">
                  <a:off x="3656880" y="2697480"/>
                  <a:ext cx="82008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>
                  <a:off x="3948480" y="2615760"/>
                  <a:ext cx="152496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 flipV="1">
                  <a:off x="4697280" y="2775960"/>
                  <a:ext cx="28548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 flipV="1">
                  <a:off x="3130560" y="2694240"/>
                  <a:ext cx="285480" cy="287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 flipV="1">
                  <a:off x="2639520" y="2769120"/>
                  <a:ext cx="288000" cy="289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 flipV="1">
                  <a:off x="2134440" y="2901240"/>
                  <a:ext cx="1520280" cy="237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 flipV="1">
                  <a:off x="2416320" y="2615400"/>
                  <a:ext cx="1535400" cy="233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 flipH="1">
                  <a:off x="3128760" y="2615040"/>
                  <a:ext cx="81792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 flipH="1" flipV="1">
                  <a:off x="3414240" y="2697480"/>
                  <a:ext cx="23976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 flipH="1" flipV="1">
                  <a:off x="2925000" y="2769120"/>
                  <a:ext cx="203040" cy="213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 flipH="1">
                  <a:off x="2641320" y="2701440"/>
                  <a:ext cx="766440" cy="359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 flipH="1" flipV="1">
                  <a:off x="2417040" y="2849400"/>
                  <a:ext cx="219960" cy="210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H="1">
                  <a:off x="2129040" y="2771640"/>
                  <a:ext cx="79344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 flipV="1">
                  <a:off x="2125800" y="2850480"/>
                  <a:ext cx="290520" cy="290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89" name=""/>
            <p:cNvGrpSpPr/>
            <p:nvPr/>
          </p:nvGrpSpPr>
          <p:grpSpPr>
            <a:xfrm>
              <a:off x="2136600" y="1404720"/>
              <a:ext cx="4784400" cy="1733400"/>
              <a:chOff x="2136600" y="1404720"/>
              <a:chExt cx="4784400" cy="1733400"/>
            </a:xfrm>
          </p:grpSpPr>
          <p:sp>
            <p:nvSpPr>
              <p:cNvPr id="4690" name=""/>
              <p:cNvSpPr/>
              <p:nvPr/>
            </p:nvSpPr>
            <p:spPr>
              <a:xfrm flipV="1">
                <a:off x="5186520" y="1404720"/>
                <a:ext cx="173448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136600" y="1404720"/>
                <a:ext cx="172944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2355840" y="1211040"/>
              <a:ext cx="4322880" cy="1899000"/>
              <a:chOff x="2355840" y="1211040"/>
              <a:chExt cx="4322880" cy="1899000"/>
            </a:xfrm>
          </p:grpSpPr>
          <p:sp>
            <p:nvSpPr>
              <p:cNvPr id="4693" name=""/>
              <p:cNvSpPr/>
              <p:nvPr/>
            </p:nvSpPr>
            <p:spPr>
              <a:xfrm flipV="1">
                <a:off x="3933360" y="1211040"/>
                <a:ext cx="172512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4194720" y="1250640"/>
                <a:ext cx="17301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4704120" y="1332720"/>
                <a:ext cx="172296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4943160" y="1371600"/>
                <a:ext cx="17355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2355840" y="1369080"/>
                <a:ext cx="1770480" cy="1740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2644560" y="1330200"/>
                <a:ext cx="17287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3137040" y="1249200"/>
                <a:ext cx="17323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3386160" y="1211040"/>
                <a:ext cx="1759680" cy="1738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883960" y="1295280"/>
                <a:ext cx="1737000" cy="1732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4446720" y="1288080"/>
                <a:ext cx="1730160" cy="1735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3" name=""/>
            <p:cNvSpPr/>
            <p:nvPr/>
          </p:nvSpPr>
          <p:spPr>
            <a:xfrm flipV="1">
              <a:off x="3662280" y="1170000"/>
              <a:ext cx="1735200" cy="1727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2135160" y="3138480"/>
              <a:ext cx="3059280" cy="1069560"/>
              <a:chOff x="2135160" y="3138480"/>
              <a:chExt cx="3059280" cy="1069560"/>
            </a:xfrm>
          </p:grpSpPr>
          <p:sp>
            <p:nvSpPr>
              <p:cNvPr id="4705" name=""/>
              <p:cNvSpPr/>
              <p:nvPr/>
            </p:nvSpPr>
            <p:spPr>
              <a:xfrm flipV="1">
                <a:off x="4195440" y="4206960"/>
                <a:ext cx="99684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2135520" y="3138480"/>
                <a:ext cx="3058920" cy="3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2135160" y="3415320"/>
                <a:ext cx="30585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192920" y="3948840"/>
                <a:ext cx="100008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2135520" y="3701160"/>
                <a:ext cx="100116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195440" y="3693960"/>
                <a:ext cx="9990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2136240" y="3952800"/>
                <a:ext cx="998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2137320" y="4205880"/>
                <a:ext cx="9957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3" name=""/>
            <p:cNvGrpSpPr/>
            <p:nvPr/>
          </p:nvGrpSpPr>
          <p:grpSpPr>
            <a:xfrm>
              <a:off x="5192640" y="1699920"/>
              <a:ext cx="1731960" cy="2504880"/>
              <a:chOff x="5192640" y="1699920"/>
              <a:chExt cx="1731960" cy="2504880"/>
            </a:xfrm>
          </p:grpSpPr>
          <p:sp>
            <p:nvSpPr>
              <p:cNvPr id="4714" name=""/>
              <p:cNvSpPr/>
              <p:nvPr/>
            </p:nvSpPr>
            <p:spPr>
              <a:xfrm flipV="1">
                <a:off x="5192640" y="2485800"/>
                <a:ext cx="1731960" cy="1719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5196240" y="1699920"/>
                <a:ext cx="1726920" cy="1716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5194800" y="1986840"/>
                <a:ext cx="1728360" cy="1706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5193720" y="2216520"/>
                <a:ext cx="1729440" cy="173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2584440" y="2104920"/>
              <a:ext cx="3930840" cy="1653840"/>
              <a:chOff x="2584440" y="2104920"/>
              <a:chExt cx="3930840" cy="1653840"/>
            </a:xfrm>
          </p:grpSpPr>
          <p:grpSp>
            <p:nvGrpSpPr>
              <p:cNvPr id="4719" name=""/>
              <p:cNvGrpSpPr/>
              <p:nvPr/>
            </p:nvGrpSpPr>
            <p:grpSpPr>
              <a:xfrm>
                <a:off x="2584440" y="2106360"/>
                <a:ext cx="867600" cy="1652400"/>
                <a:chOff x="2584440" y="2106360"/>
                <a:chExt cx="867600" cy="1652400"/>
              </a:xfrm>
            </p:grpSpPr>
            <p:sp>
              <p:nvSpPr>
                <p:cNvPr id="4720" name=""/>
                <p:cNvSpPr/>
                <p:nvPr/>
              </p:nvSpPr>
              <p:spPr>
                <a:xfrm>
                  <a:off x="2584440" y="297108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3160800" y="239436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3452040" y="210636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>
                  <a:off x="2874960" y="268452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4" name=""/>
              <p:cNvGrpSpPr/>
              <p:nvPr/>
            </p:nvGrpSpPr>
            <p:grpSpPr>
              <a:xfrm>
                <a:off x="5646600" y="2104920"/>
                <a:ext cx="868680" cy="1652400"/>
                <a:chOff x="5646600" y="2104920"/>
                <a:chExt cx="868680" cy="1652400"/>
              </a:xfrm>
            </p:grpSpPr>
            <p:sp>
              <p:nvSpPr>
                <p:cNvPr id="4725" name=""/>
                <p:cNvSpPr/>
                <p:nvPr/>
              </p:nvSpPr>
              <p:spPr>
                <a:xfrm>
                  <a:off x="5646600" y="2969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6224040" y="239292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6515280" y="210492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>
                  <a:off x="5934240" y="2681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9" name=""/>
            <p:cNvGrpSpPr/>
            <p:nvPr/>
          </p:nvGrpSpPr>
          <p:grpSpPr>
            <a:xfrm>
              <a:off x="2427120" y="1458720"/>
              <a:ext cx="4208040" cy="1509480"/>
              <a:chOff x="2427120" y="1458720"/>
              <a:chExt cx="4208040" cy="1509480"/>
            </a:xfrm>
          </p:grpSpPr>
          <p:grpSp>
            <p:nvGrpSpPr>
              <p:cNvPr id="4730" name=""/>
              <p:cNvGrpSpPr/>
              <p:nvPr/>
            </p:nvGrpSpPr>
            <p:grpSpPr>
              <a:xfrm>
                <a:off x="2427120" y="1702080"/>
                <a:ext cx="4208040" cy="1266120"/>
                <a:chOff x="2427120" y="1702080"/>
                <a:chExt cx="4208040" cy="1266120"/>
              </a:xfrm>
            </p:grpSpPr>
            <p:grpSp>
              <p:nvGrpSpPr>
                <p:cNvPr id="4731" name=""/>
                <p:cNvGrpSpPr/>
                <p:nvPr/>
              </p:nvGrpSpPr>
              <p:grpSpPr>
                <a:xfrm>
                  <a:off x="2427120" y="1703880"/>
                  <a:ext cx="1149840" cy="1264320"/>
                  <a:chOff x="2427120" y="1703880"/>
                  <a:chExt cx="1149840" cy="1264320"/>
                </a:xfrm>
              </p:grpSpPr>
              <p:grpSp>
                <p:nvGrpSpPr>
                  <p:cNvPr id="4732" name=""/>
                  <p:cNvGrpSpPr/>
                  <p:nvPr/>
                </p:nvGrpSpPr>
                <p:grpSpPr>
                  <a:xfrm>
                    <a:off x="2427120" y="2567160"/>
                    <a:ext cx="282960" cy="401040"/>
                    <a:chOff x="2427120" y="2567160"/>
                    <a:chExt cx="282960" cy="401040"/>
                  </a:xfrm>
                </p:grpSpPr>
                <p:sp>
                  <p:nvSpPr>
                    <p:cNvPr id="4733" name=""/>
                    <p:cNvSpPr/>
                    <p:nvPr/>
                  </p:nvSpPr>
                  <p:spPr>
                    <a:xfrm>
                      <a:off x="2427120" y="28515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4" name=""/>
                    <p:cNvSpPr/>
                    <p:nvPr/>
                  </p:nvSpPr>
                  <p:spPr>
                    <a:xfrm flipH="1">
                      <a:off x="2585160" y="25671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5" name=""/>
                  <p:cNvGrpSpPr/>
                  <p:nvPr/>
                </p:nvGrpSpPr>
                <p:grpSpPr>
                  <a:xfrm>
                    <a:off x="2716560" y="2277720"/>
                    <a:ext cx="282960" cy="401040"/>
                    <a:chOff x="2716560" y="2277720"/>
                    <a:chExt cx="282960" cy="401040"/>
                  </a:xfrm>
                </p:grpSpPr>
                <p:sp>
                  <p:nvSpPr>
                    <p:cNvPr id="4736" name=""/>
                    <p:cNvSpPr/>
                    <p:nvPr/>
                  </p:nvSpPr>
                  <p:spPr>
                    <a:xfrm>
                      <a:off x="2716560" y="25621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7" name=""/>
                    <p:cNvSpPr/>
                    <p:nvPr/>
                  </p:nvSpPr>
                  <p:spPr>
                    <a:xfrm flipH="1">
                      <a:off x="2874600" y="22777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8" name=""/>
                  <p:cNvGrpSpPr/>
                  <p:nvPr/>
                </p:nvGrpSpPr>
                <p:grpSpPr>
                  <a:xfrm>
                    <a:off x="3003480" y="1993320"/>
                    <a:ext cx="282960" cy="401040"/>
                    <a:chOff x="3003480" y="1993320"/>
                    <a:chExt cx="282960" cy="401040"/>
                  </a:xfrm>
                </p:grpSpPr>
                <p:sp>
                  <p:nvSpPr>
                    <p:cNvPr id="4739" name=""/>
                    <p:cNvSpPr/>
                    <p:nvPr/>
                  </p:nvSpPr>
                  <p:spPr>
                    <a:xfrm>
                      <a:off x="3003480" y="22777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0" name=""/>
                    <p:cNvSpPr/>
                    <p:nvPr/>
                  </p:nvSpPr>
                  <p:spPr>
                    <a:xfrm flipH="1">
                      <a:off x="3161520" y="19933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1" name=""/>
                  <p:cNvGrpSpPr/>
                  <p:nvPr/>
                </p:nvGrpSpPr>
                <p:grpSpPr>
                  <a:xfrm>
                    <a:off x="3294000" y="1703880"/>
                    <a:ext cx="282960" cy="401040"/>
                    <a:chOff x="3294000" y="1703880"/>
                    <a:chExt cx="282960" cy="401040"/>
                  </a:xfrm>
                </p:grpSpPr>
                <p:sp>
                  <p:nvSpPr>
                    <p:cNvPr id="4742" name=""/>
                    <p:cNvSpPr/>
                    <p:nvPr/>
                  </p:nvSpPr>
                  <p:spPr>
                    <a:xfrm>
                      <a:off x="3294000" y="19882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3" name=""/>
                    <p:cNvSpPr/>
                    <p:nvPr/>
                  </p:nvSpPr>
                  <p:spPr>
                    <a:xfrm flipH="1">
                      <a:off x="3452040" y="17038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44" name=""/>
                <p:cNvGrpSpPr/>
                <p:nvPr/>
              </p:nvGrpSpPr>
              <p:grpSpPr>
                <a:xfrm>
                  <a:off x="5485320" y="1702080"/>
                  <a:ext cx="1149840" cy="1264320"/>
                  <a:chOff x="5485320" y="1702080"/>
                  <a:chExt cx="1149840" cy="1264320"/>
                </a:xfrm>
              </p:grpSpPr>
              <p:grpSp>
                <p:nvGrpSpPr>
                  <p:cNvPr id="4745" name=""/>
                  <p:cNvGrpSpPr/>
                  <p:nvPr/>
                </p:nvGrpSpPr>
                <p:grpSpPr>
                  <a:xfrm>
                    <a:off x="5485320" y="2565360"/>
                    <a:ext cx="282960" cy="401040"/>
                    <a:chOff x="5485320" y="2565360"/>
                    <a:chExt cx="282960" cy="401040"/>
                  </a:xfrm>
                </p:grpSpPr>
                <p:sp>
                  <p:nvSpPr>
                    <p:cNvPr id="4746" name=""/>
                    <p:cNvSpPr/>
                    <p:nvPr/>
                  </p:nvSpPr>
                  <p:spPr>
                    <a:xfrm>
                      <a:off x="5485320" y="28497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7" name=""/>
                    <p:cNvSpPr/>
                    <p:nvPr/>
                  </p:nvSpPr>
                  <p:spPr>
                    <a:xfrm flipH="1">
                      <a:off x="5643360" y="25653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8" name=""/>
                  <p:cNvGrpSpPr/>
                  <p:nvPr/>
                </p:nvGrpSpPr>
                <p:grpSpPr>
                  <a:xfrm>
                    <a:off x="5774760" y="2275920"/>
                    <a:ext cx="282960" cy="401040"/>
                    <a:chOff x="5774760" y="2275920"/>
                    <a:chExt cx="282960" cy="401040"/>
                  </a:xfrm>
                </p:grpSpPr>
                <p:sp>
                  <p:nvSpPr>
                    <p:cNvPr id="4749" name=""/>
                    <p:cNvSpPr/>
                    <p:nvPr/>
                  </p:nvSpPr>
                  <p:spPr>
                    <a:xfrm>
                      <a:off x="5774760" y="25603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0" name=""/>
                    <p:cNvSpPr/>
                    <p:nvPr/>
                  </p:nvSpPr>
                  <p:spPr>
                    <a:xfrm flipH="1">
                      <a:off x="5932800" y="22759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51" name=""/>
                  <p:cNvGrpSpPr/>
                  <p:nvPr/>
                </p:nvGrpSpPr>
                <p:grpSpPr>
                  <a:xfrm>
                    <a:off x="6061680" y="1991520"/>
                    <a:ext cx="282960" cy="401040"/>
                    <a:chOff x="6061680" y="1991520"/>
                    <a:chExt cx="282960" cy="401040"/>
                  </a:xfrm>
                </p:grpSpPr>
                <p:sp>
                  <p:nvSpPr>
                    <p:cNvPr id="4752" name=""/>
                    <p:cNvSpPr/>
                    <p:nvPr/>
                  </p:nvSpPr>
                  <p:spPr>
                    <a:xfrm>
                      <a:off x="6061680" y="22759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3" name=""/>
                    <p:cNvSpPr/>
                    <p:nvPr/>
                  </p:nvSpPr>
                  <p:spPr>
                    <a:xfrm flipH="1">
                      <a:off x="6219720" y="19915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54" name=""/>
                  <p:cNvGrpSpPr/>
                  <p:nvPr/>
                </p:nvGrpSpPr>
                <p:grpSpPr>
                  <a:xfrm>
                    <a:off x="6352200" y="1702080"/>
                    <a:ext cx="282960" cy="401040"/>
                    <a:chOff x="6352200" y="1702080"/>
                    <a:chExt cx="282960" cy="401040"/>
                  </a:xfrm>
                </p:grpSpPr>
                <p:sp>
                  <p:nvSpPr>
                    <p:cNvPr id="4755" name=""/>
                    <p:cNvSpPr/>
                    <p:nvPr/>
                  </p:nvSpPr>
                  <p:spPr>
                    <a:xfrm>
                      <a:off x="6352200" y="19864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6" name=""/>
                    <p:cNvSpPr/>
                    <p:nvPr/>
                  </p:nvSpPr>
                  <p:spPr>
                    <a:xfrm flipH="1">
                      <a:off x="6510240" y="17020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57" name=""/>
              <p:cNvGrpSpPr/>
              <p:nvPr/>
            </p:nvGrpSpPr>
            <p:grpSpPr>
              <a:xfrm>
                <a:off x="3843000" y="1458720"/>
                <a:ext cx="1398240" cy="1156320"/>
                <a:chOff x="3843000" y="1458720"/>
                <a:chExt cx="1398240" cy="1156320"/>
              </a:xfrm>
            </p:grpSpPr>
            <p:sp>
              <p:nvSpPr>
                <p:cNvPr id="4758" name=""/>
                <p:cNvSpPr/>
                <p:nvPr/>
              </p:nvSpPr>
              <p:spPr>
                <a:xfrm flipH="1" flipV="1">
                  <a:off x="4235040" y="2325960"/>
                  <a:ext cx="140040" cy="170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 flipH="1">
                  <a:off x="3945240" y="2495520"/>
                  <a:ext cx="4323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 flipV="1">
                  <a:off x="3844080" y="2329560"/>
                  <a:ext cx="38736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3843000" y="2497680"/>
                  <a:ext cx="10116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2" name=""/>
                <p:cNvGrpSpPr/>
                <p:nvPr/>
              </p:nvGrpSpPr>
              <p:grpSpPr>
                <a:xfrm>
                  <a:off x="4133520" y="2036160"/>
                  <a:ext cx="537120" cy="289080"/>
                  <a:chOff x="4133520" y="2036160"/>
                  <a:chExt cx="537120" cy="289080"/>
                </a:xfrm>
              </p:grpSpPr>
              <p:sp>
                <p:nvSpPr>
                  <p:cNvPr id="4763" name=""/>
                  <p:cNvSpPr/>
                  <p:nvPr/>
                </p:nvSpPr>
                <p:spPr>
                  <a:xfrm flipH="1" flipV="1">
                    <a:off x="4528440" y="2036160"/>
                    <a:ext cx="140040" cy="1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 flipH="1">
                    <a:off x="4238280" y="2205720"/>
                    <a:ext cx="432360" cy="119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 flipV="1">
                    <a:off x="4133520" y="2039760"/>
                    <a:ext cx="391320" cy="1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4136040" y="2207880"/>
                    <a:ext cx="101160" cy="11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7" name=""/>
                <p:cNvSpPr/>
                <p:nvPr/>
              </p:nvSpPr>
              <p:spPr>
                <a:xfrm flipH="1" flipV="1">
                  <a:off x="4818240" y="1746720"/>
                  <a:ext cx="137520" cy="171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 flipH="1">
                  <a:off x="4528080" y="1916640"/>
                  <a:ext cx="4287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 flipV="1">
                  <a:off x="4429440" y="1750680"/>
                  <a:ext cx="38484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>
                  <a:off x="4426920" y="1918440"/>
                  <a:ext cx="10008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 flipH="1" flipV="1">
                  <a:off x="5107680" y="1458720"/>
                  <a:ext cx="132480" cy="166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 flipH="1">
                  <a:off x="4817520" y="1628280"/>
                  <a:ext cx="42372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 flipV="1">
                  <a:off x="4717440" y="1462320"/>
                  <a:ext cx="38628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>
                  <a:off x="4718880" y="1631520"/>
                  <a:ext cx="97560" cy="115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5" name=""/>
            <p:cNvSpPr/>
            <p:nvPr/>
          </p:nvSpPr>
          <p:spPr>
            <a:xfrm>
              <a:off x="3138480" y="3416400"/>
              <a:ext cx="20559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6" name=""/>
            <p:cNvGrpSpPr/>
            <p:nvPr/>
          </p:nvGrpSpPr>
          <p:grpSpPr>
            <a:xfrm>
              <a:off x="2595600" y="1630440"/>
              <a:ext cx="3903120" cy="1062720"/>
              <a:chOff x="2595600" y="1630440"/>
              <a:chExt cx="3903120" cy="1062720"/>
            </a:xfrm>
          </p:grpSpPr>
          <p:sp>
            <p:nvSpPr>
              <p:cNvPr id="4777" name=""/>
              <p:cNvSpPr/>
              <p:nvPr/>
            </p:nvSpPr>
            <p:spPr>
              <a:xfrm flipH="1" flipV="1">
                <a:off x="4377600" y="2498400"/>
                <a:ext cx="1249920" cy="19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3168360" y="1920240"/>
                <a:ext cx="125568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2880000" y="2204640"/>
                <a:ext cx="1254240" cy="18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3453840" y="1631880"/>
                <a:ext cx="125856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2595600" y="2494440"/>
                <a:ext cx="1251720" cy="18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H="1" flipV="1">
                <a:off x="4952520" y="1915920"/>
                <a:ext cx="1257480" cy="19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H="1" flipV="1">
                <a:off x="4668840" y="2207520"/>
                <a:ext cx="1255680" cy="19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244480" y="1630440"/>
                <a:ext cx="1254240" cy="195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5" name=""/>
            <p:cNvGrpSpPr/>
            <p:nvPr/>
          </p:nvGrpSpPr>
          <p:grpSpPr>
            <a:xfrm>
              <a:off x="2408400" y="1207800"/>
              <a:ext cx="4235760" cy="1892880"/>
              <a:chOff x="2408400" y="1207800"/>
              <a:chExt cx="4235760" cy="1892880"/>
            </a:xfrm>
          </p:grpSpPr>
          <p:grpSp>
            <p:nvGrpSpPr>
              <p:cNvPr id="4786" name=""/>
              <p:cNvGrpSpPr/>
              <p:nvPr/>
            </p:nvGrpSpPr>
            <p:grpSpPr>
              <a:xfrm>
                <a:off x="2682000" y="1207800"/>
                <a:ext cx="3962160" cy="1858680"/>
                <a:chOff x="2682000" y="1207800"/>
                <a:chExt cx="3962160" cy="1858680"/>
              </a:xfrm>
            </p:grpSpPr>
            <p:sp>
              <p:nvSpPr>
                <p:cNvPr id="4787" name=""/>
                <p:cNvSpPr/>
                <p:nvPr/>
              </p:nvSpPr>
              <p:spPr>
                <a:xfrm flipV="1">
                  <a:off x="3824640" y="162108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8" name=""/>
                <p:cNvGrpSpPr/>
                <p:nvPr/>
              </p:nvGrpSpPr>
              <p:grpSpPr>
                <a:xfrm>
                  <a:off x="2682000" y="1207800"/>
                  <a:ext cx="3962160" cy="1858680"/>
                  <a:chOff x="2682000" y="1207800"/>
                  <a:chExt cx="3962160" cy="1858680"/>
                </a:xfrm>
              </p:grpSpPr>
              <p:sp>
                <p:nvSpPr>
                  <p:cNvPr id="4789" name=""/>
                  <p:cNvSpPr/>
                  <p:nvPr/>
                </p:nvSpPr>
                <p:spPr>
                  <a:xfrm flipV="1">
                    <a:off x="4260960" y="23666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 flipV="1">
                    <a:off x="4832280" y="17910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 flipV="1">
                    <a:off x="5403960" y="12078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 flipV="1">
                    <a:off x="420228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 flipV="1">
                    <a:off x="4773600" y="2127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 flipV="1">
                    <a:off x="5345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 flipV="1">
                    <a:off x="4732920" y="245448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"/>
                  <p:cNvSpPr/>
                  <p:nvPr/>
                </p:nvSpPr>
                <p:spPr>
                  <a:xfrm flipV="1">
                    <a:off x="5304600" y="187704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 flipV="1">
                    <a:off x="5875920" y="1293840"/>
                    <a:ext cx="284400" cy="2862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 flipV="1">
                    <a:off x="4674240" y="2793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"/>
                  <p:cNvSpPr/>
                  <p:nvPr/>
                </p:nvSpPr>
                <p:spPr>
                  <a:xfrm flipV="1">
                    <a:off x="5245920" y="22150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"/>
                  <p:cNvSpPr/>
                  <p:nvPr/>
                </p:nvSpPr>
                <p:spPr>
                  <a:xfrm flipV="1">
                    <a:off x="5817240" y="16326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 flipV="1">
                    <a:off x="5216760" y="253440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 flipV="1">
                    <a:off x="5788080" y="19580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 flipV="1">
                    <a:off x="6359400" y="13752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 flipV="1">
                    <a:off x="3165120" y="247752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"/>
                  <p:cNvSpPr/>
                  <p:nvPr/>
                </p:nvSpPr>
                <p:spPr>
                  <a:xfrm flipV="1">
                    <a:off x="3736440" y="19008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"/>
                  <p:cNvSpPr/>
                  <p:nvPr/>
                </p:nvSpPr>
                <p:spPr>
                  <a:xfrm flipV="1">
                    <a:off x="4308120" y="131868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 flipV="1">
                    <a:off x="2688120" y="255240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 flipV="1">
                    <a:off x="3259440" y="19756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 flipV="1">
                    <a:off x="3831120" y="139356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 flipV="1">
                    <a:off x="2682000" y="278064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 flipV="1">
                    <a:off x="3253320" y="2204280"/>
                    <a:ext cx="27288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 flipV="1">
                    <a:off x="3707280" y="23828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 flipV="1">
                    <a:off x="4278960" y="18072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 flipV="1">
                    <a:off x="4850280" y="1224000"/>
                    <a:ext cx="28440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 flipV="1">
                    <a:off x="315864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 flipV="1">
                    <a:off x="3730320" y="21272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 flipV="1">
                    <a:off x="4301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8" name=""/>
              <p:cNvGrpSpPr/>
              <p:nvPr/>
            </p:nvGrpSpPr>
            <p:grpSpPr>
              <a:xfrm>
                <a:off x="2408400" y="1265040"/>
                <a:ext cx="3974040" cy="1835640"/>
                <a:chOff x="2408400" y="1265040"/>
                <a:chExt cx="3974040" cy="1835640"/>
              </a:xfrm>
            </p:grpSpPr>
            <p:sp>
              <p:nvSpPr>
                <p:cNvPr id="4819" name=""/>
                <p:cNvSpPr/>
                <p:nvPr/>
              </p:nvSpPr>
              <p:spPr>
                <a:xfrm flipV="1">
                  <a:off x="4541400" y="207036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 flipV="1">
                  <a:off x="5112360" y="149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V="1">
                  <a:off x="3981240" y="2624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flipV="1">
                  <a:off x="4482720" y="240768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V="1">
                  <a:off x="505404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flipV="1">
                  <a:off x="5618880" y="1265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flipV="1">
                  <a:off x="5013360" y="215676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flipV="1">
                  <a:off x="5584680" y="15804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flipV="1">
                  <a:off x="4453560" y="27122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 flipV="1">
                  <a:off x="4954680" y="24955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 flipV="1">
                  <a:off x="5526360" y="191772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 flipV="1">
                  <a:off x="6091200" y="135288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 flipV="1">
                  <a:off x="5496840" y="223848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 flipV="1">
                  <a:off x="6068520" y="16603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 flipV="1">
                  <a:off x="4936680" y="27918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 flipV="1">
                  <a:off x="3445560" y="21812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 flipV="1">
                  <a:off x="4016880" y="16034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 flipV="1">
                  <a:off x="2885400" y="27349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 flipV="1">
                  <a:off x="2968200" y="22561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 flipV="1">
                  <a:off x="3539880" y="16783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 flipV="1">
                  <a:off x="2408400" y="28094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 flipV="1">
                  <a:off x="2961720" y="248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 flipV="1">
                  <a:off x="3533400" y="190620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 flipV="1">
                  <a:off x="4098240" y="134136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 flipV="1">
                  <a:off x="3987360" y="2086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 flipV="1">
                  <a:off x="4559040" y="15087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 flipV="1">
                  <a:off x="3427200" y="264060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 flipV="1">
                  <a:off x="3438720" y="240768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 flipV="1">
                  <a:off x="401040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 flipV="1">
                  <a:off x="4575240" y="126504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9" name=""/>
          <p:cNvSpPr/>
          <p:nvPr/>
        </p:nvSpPr>
        <p:spPr>
          <a:xfrm>
            <a:off x="163440" y="509760"/>
            <a:ext cx="875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ent faire pour éviter d’utiliser des liern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905520" y="539604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"/>
          <p:cNvSpPr/>
          <p:nvPr/>
        </p:nvSpPr>
        <p:spPr>
          <a:xfrm>
            <a:off x="6985080" y="533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>
            <a:hlinkClick r:id="" action="ppaction://hlinkshowjump?jump=nextslide"/>
          </p:cNvPr>
          <p:cNvSpPr/>
          <p:nvPr/>
        </p:nvSpPr>
        <p:spPr>
          <a:xfrm>
            <a:off x="7013520" y="54039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7934400" y="533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7962840" y="54039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38040" y="5354640"/>
            <a:ext cx="6297840" cy="3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changer de type de profilé (H au lieu de I par exe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338040" y="4959360"/>
            <a:ext cx="6297840" cy="31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augmenter la section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338040" y="4564080"/>
            <a:ext cx="6297840" cy="31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 n’y aucune autr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698508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7013520" y="50086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793440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7962840" y="50086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698508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7013520" y="46134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793440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7962840" y="4613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6" name=""/>
          <p:cNvGrpSpPr/>
          <p:nvPr/>
        </p:nvGrpSpPr>
        <p:grpSpPr>
          <a:xfrm>
            <a:off x="2046240" y="1169640"/>
            <a:ext cx="4932360" cy="3208320"/>
            <a:chOff x="2046240" y="1169640"/>
            <a:chExt cx="4932360" cy="3208320"/>
          </a:xfrm>
        </p:grpSpPr>
        <p:grpSp>
          <p:nvGrpSpPr>
            <p:cNvPr id="4867" name=""/>
            <p:cNvGrpSpPr/>
            <p:nvPr/>
          </p:nvGrpSpPr>
          <p:grpSpPr>
            <a:xfrm>
              <a:off x="2046240" y="2516040"/>
              <a:ext cx="4932360" cy="1861920"/>
              <a:chOff x="2046240" y="2516040"/>
              <a:chExt cx="4932360" cy="1861920"/>
            </a:xfrm>
          </p:grpSpPr>
          <p:grpSp>
            <p:nvGrpSpPr>
              <p:cNvPr id="4868" name=""/>
              <p:cNvGrpSpPr/>
              <p:nvPr/>
            </p:nvGrpSpPr>
            <p:grpSpPr>
              <a:xfrm>
                <a:off x="5396400" y="2799720"/>
                <a:ext cx="1294560" cy="1292400"/>
                <a:chOff x="5396400" y="2799720"/>
                <a:chExt cx="1294560" cy="1292400"/>
              </a:xfrm>
            </p:grpSpPr>
            <p:sp>
              <p:nvSpPr>
                <p:cNvPr id="4869" name=""/>
                <p:cNvSpPr/>
                <p:nvPr/>
              </p:nvSpPr>
              <p:spPr>
                <a:xfrm>
                  <a:off x="6549120" y="279972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0" name=""/>
                <p:cNvSpPr/>
                <p:nvPr/>
              </p:nvSpPr>
              <p:spPr>
                <a:xfrm>
                  <a:off x="6265080" y="3081240"/>
                  <a:ext cx="142200" cy="143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1" name=""/>
                <p:cNvSpPr/>
                <p:nvPr/>
              </p:nvSpPr>
              <p:spPr>
                <a:xfrm>
                  <a:off x="5972760" y="3370320"/>
                  <a:ext cx="14220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2" name=""/>
                <p:cNvSpPr/>
                <p:nvPr/>
              </p:nvSpPr>
              <p:spPr>
                <a:xfrm>
                  <a:off x="5685480" y="3656160"/>
                  <a:ext cx="1458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5396400" y="3949920"/>
                  <a:ext cx="14148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4" name=""/>
              <p:cNvGrpSpPr/>
              <p:nvPr/>
            </p:nvGrpSpPr>
            <p:grpSpPr>
              <a:xfrm>
                <a:off x="2340720" y="2798640"/>
                <a:ext cx="1290960" cy="1285920"/>
                <a:chOff x="2340720" y="2798640"/>
                <a:chExt cx="1290960" cy="1285920"/>
              </a:xfrm>
            </p:grpSpPr>
            <p:sp>
              <p:nvSpPr>
                <p:cNvPr id="4875" name=""/>
                <p:cNvSpPr/>
                <p:nvPr/>
              </p:nvSpPr>
              <p:spPr>
                <a:xfrm>
                  <a:off x="3489840" y="279864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3204000" y="3082680"/>
                  <a:ext cx="141840" cy="143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2917440" y="337032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8" name=""/>
                <p:cNvSpPr/>
                <p:nvPr/>
              </p:nvSpPr>
              <p:spPr>
                <a:xfrm>
                  <a:off x="2625120" y="3657240"/>
                  <a:ext cx="14256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>
                  <a:off x="2340720" y="39423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0" name=""/>
              <p:cNvGrpSpPr/>
              <p:nvPr/>
            </p:nvGrpSpPr>
            <p:grpSpPr>
              <a:xfrm>
                <a:off x="3772440" y="2516040"/>
                <a:ext cx="3206160" cy="144000"/>
                <a:chOff x="3772440" y="2516040"/>
                <a:chExt cx="3206160" cy="144000"/>
              </a:xfrm>
            </p:grpSpPr>
            <p:sp>
              <p:nvSpPr>
                <p:cNvPr id="4881" name=""/>
                <p:cNvSpPr/>
                <p:nvPr/>
              </p:nvSpPr>
              <p:spPr>
                <a:xfrm>
                  <a:off x="6836760" y="251640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3772440" y="251640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5830920" y="251604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4281480" y="25178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477108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5305320" y="25160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633600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8" name=""/>
              <p:cNvGrpSpPr/>
              <p:nvPr/>
            </p:nvGrpSpPr>
            <p:grpSpPr>
              <a:xfrm>
                <a:off x="2046240" y="4234320"/>
                <a:ext cx="3205440" cy="143640"/>
                <a:chOff x="2046240" y="4234320"/>
                <a:chExt cx="3205440" cy="143640"/>
              </a:xfrm>
            </p:grpSpPr>
            <p:sp>
              <p:nvSpPr>
                <p:cNvPr id="4889" name=""/>
                <p:cNvSpPr/>
                <p:nvPr/>
              </p:nvSpPr>
              <p:spPr>
                <a:xfrm>
                  <a:off x="204624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0" name=""/>
                <p:cNvSpPr/>
                <p:nvPr/>
              </p:nvSpPr>
              <p:spPr>
                <a:xfrm>
                  <a:off x="5109480" y="4234320"/>
                  <a:ext cx="142200" cy="142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1" name=""/>
                <p:cNvSpPr/>
                <p:nvPr/>
              </p:nvSpPr>
              <p:spPr>
                <a:xfrm>
                  <a:off x="255240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304452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3" name=""/>
                <p:cNvSpPr/>
                <p:nvPr/>
              </p:nvSpPr>
              <p:spPr>
                <a:xfrm>
                  <a:off x="4105080" y="42357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461736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5" name=""/>
            <p:cNvSpPr/>
            <p:nvPr/>
          </p:nvSpPr>
          <p:spPr>
            <a:xfrm>
              <a:off x="3137040" y="2989440"/>
              <a:ext cx="0" cy="780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6" name=""/>
            <p:cNvGrpSpPr/>
            <p:nvPr/>
          </p:nvGrpSpPr>
          <p:grpSpPr>
            <a:xfrm>
              <a:off x="3137040" y="2979720"/>
              <a:ext cx="1055520" cy="434880"/>
              <a:chOff x="3137040" y="2979720"/>
              <a:chExt cx="1055520" cy="434880"/>
            </a:xfrm>
          </p:grpSpPr>
          <p:sp>
            <p:nvSpPr>
              <p:cNvPr id="4897" name=""/>
              <p:cNvSpPr/>
              <p:nvPr/>
            </p:nvSpPr>
            <p:spPr>
              <a:xfrm>
                <a:off x="3137040" y="2979720"/>
                <a:ext cx="532440" cy="43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flipV="1">
                <a:off x="3668040" y="2985480"/>
                <a:ext cx="524520" cy="428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9" name=""/>
            <p:cNvSpPr/>
            <p:nvPr/>
          </p:nvSpPr>
          <p:spPr>
            <a:xfrm>
              <a:off x="3664080" y="2895480"/>
              <a:ext cx="0" cy="51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0" name=""/>
            <p:cNvGrpSpPr/>
            <p:nvPr/>
          </p:nvGrpSpPr>
          <p:grpSpPr>
            <a:xfrm>
              <a:off x="3867120" y="1406520"/>
              <a:ext cx="3060720" cy="1079640"/>
              <a:chOff x="3867120" y="1406520"/>
              <a:chExt cx="3060720" cy="1079640"/>
            </a:xfrm>
          </p:grpSpPr>
          <p:sp>
            <p:nvSpPr>
              <p:cNvPr id="4901" name=""/>
              <p:cNvSpPr/>
              <p:nvPr/>
            </p:nvSpPr>
            <p:spPr>
              <a:xfrm>
                <a:off x="3867120" y="140652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67480" y="16995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flipV="1">
                <a:off x="3867840" y="2217600"/>
                <a:ext cx="3054960" cy="12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flipV="1">
                <a:off x="3868560" y="1988280"/>
                <a:ext cx="3050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869640" y="24861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6" name=""/>
            <p:cNvGrpSpPr/>
            <p:nvPr/>
          </p:nvGrpSpPr>
          <p:grpSpPr>
            <a:xfrm>
              <a:off x="2135160" y="1695600"/>
              <a:ext cx="1731960" cy="2507760"/>
              <a:chOff x="2135160" y="1695600"/>
              <a:chExt cx="1731960" cy="2507760"/>
            </a:xfrm>
          </p:grpSpPr>
          <p:sp>
            <p:nvSpPr>
              <p:cNvPr id="4907" name=""/>
              <p:cNvSpPr/>
              <p:nvPr/>
            </p:nvSpPr>
            <p:spPr>
              <a:xfrm flipV="1">
                <a:off x="2138760" y="1695600"/>
                <a:ext cx="1726920" cy="1717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V="1">
                <a:off x="2135160" y="1990440"/>
                <a:ext cx="1730880" cy="1707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 flipV="1">
                <a:off x="2136240" y="2227320"/>
                <a:ext cx="1730880" cy="1725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 flipV="1">
                <a:off x="2136240" y="2482920"/>
                <a:ext cx="1728360" cy="1720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1" name=""/>
            <p:cNvGrpSpPr/>
            <p:nvPr/>
          </p:nvGrpSpPr>
          <p:grpSpPr>
            <a:xfrm>
              <a:off x="2130480" y="1169640"/>
              <a:ext cx="4787640" cy="3027240"/>
              <a:chOff x="2130480" y="1169640"/>
              <a:chExt cx="4787640" cy="3027240"/>
            </a:xfrm>
          </p:grpSpPr>
          <p:grpSp>
            <p:nvGrpSpPr>
              <p:cNvPr id="4912" name=""/>
              <p:cNvGrpSpPr/>
              <p:nvPr/>
            </p:nvGrpSpPr>
            <p:grpSpPr>
              <a:xfrm>
                <a:off x="2130480" y="2901600"/>
                <a:ext cx="3063960" cy="1295280"/>
                <a:chOff x="2130480" y="2901600"/>
                <a:chExt cx="3063960" cy="1295280"/>
              </a:xfrm>
            </p:grpSpPr>
            <p:sp>
              <p:nvSpPr>
                <p:cNvPr id="4913" name=""/>
                <p:cNvSpPr/>
                <p:nvPr/>
              </p:nvSpPr>
              <p:spPr>
                <a:xfrm flipV="1">
                  <a:off x="2131920" y="2901600"/>
                  <a:ext cx="152856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 flipH="1" flipV="1">
                  <a:off x="3664440" y="2902680"/>
                  <a:ext cx="153000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 flipV="1">
                  <a:off x="213048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 flipV="1">
                  <a:off x="519012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7" name=""/>
              <p:cNvGrpSpPr/>
              <p:nvPr/>
            </p:nvGrpSpPr>
            <p:grpSpPr>
              <a:xfrm>
                <a:off x="3864600" y="1169640"/>
                <a:ext cx="3053520" cy="1320480"/>
                <a:chOff x="3864600" y="1169640"/>
                <a:chExt cx="3053520" cy="1320480"/>
              </a:xfrm>
            </p:grpSpPr>
            <p:sp>
              <p:nvSpPr>
                <p:cNvPr id="4918" name=""/>
                <p:cNvSpPr/>
                <p:nvPr/>
              </p:nvSpPr>
              <p:spPr>
                <a:xfrm flipV="1">
                  <a:off x="3865320" y="1404720"/>
                  <a:ext cx="1080" cy="1085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 flipV="1">
                  <a:off x="6917760" y="140256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 flipV="1">
                  <a:off x="3864600" y="1169640"/>
                  <a:ext cx="152856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 flipH="1" flipV="1">
                  <a:off x="5388120" y="1170720"/>
                  <a:ext cx="153000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2" name=""/>
            <p:cNvGrpSpPr/>
            <p:nvPr/>
          </p:nvGrpSpPr>
          <p:grpSpPr>
            <a:xfrm>
              <a:off x="2138400" y="1174680"/>
              <a:ext cx="4784040" cy="3046320"/>
              <a:chOff x="2138400" y="1174680"/>
              <a:chExt cx="4784040" cy="3046320"/>
            </a:xfrm>
          </p:grpSpPr>
          <p:grpSp>
            <p:nvGrpSpPr>
              <p:cNvPr id="4923" name=""/>
              <p:cNvGrpSpPr/>
              <p:nvPr/>
            </p:nvGrpSpPr>
            <p:grpSpPr>
              <a:xfrm>
                <a:off x="3864600" y="1174680"/>
                <a:ext cx="3057840" cy="1320120"/>
                <a:chOff x="3864600" y="1174680"/>
                <a:chExt cx="3057840" cy="1320120"/>
              </a:xfrm>
            </p:grpSpPr>
            <p:sp>
              <p:nvSpPr>
                <p:cNvPr id="4924" name=""/>
                <p:cNvSpPr/>
                <p:nvPr/>
              </p:nvSpPr>
              <p:spPr>
                <a:xfrm>
                  <a:off x="6424560" y="1334880"/>
                  <a:ext cx="0" cy="115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 flipH="1">
                  <a:off x="6921360" y="1406880"/>
                  <a:ext cx="1080" cy="1087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>
                  <a:off x="5920560" y="1254240"/>
                  <a:ext cx="0" cy="1236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5392440" y="1174680"/>
                  <a:ext cx="0" cy="13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4862160" y="1257480"/>
                  <a:ext cx="0" cy="1233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 flipH="1">
                  <a:off x="3864600" y="1401840"/>
                  <a:ext cx="2520" cy="1084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4373640" y="1333440"/>
                  <a:ext cx="0" cy="115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1" name=""/>
              <p:cNvGrpSpPr/>
              <p:nvPr/>
            </p:nvGrpSpPr>
            <p:grpSpPr>
              <a:xfrm>
                <a:off x="2138400" y="2910960"/>
                <a:ext cx="3060360" cy="1310040"/>
                <a:chOff x="2138400" y="2910960"/>
                <a:chExt cx="3060360" cy="1310040"/>
              </a:xfrm>
            </p:grpSpPr>
            <p:sp>
              <p:nvSpPr>
                <p:cNvPr id="4932" name=""/>
                <p:cNvSpPr/>
                <p:nvPr/>
              </p:nvSpPr>
              <p:spPr>
                <a:xfrm flipH="1">
                  <a:off x="3668760" y="2910960"/>
                  <a:ext cx="1080" cy="509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4709160" y="3073680"/>
                  <a:ext cx="0" cy="11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5198760" y="3146040"/>
                  <a:ext cx="0" cy="106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4198680" y="2996280"/>
                  <a:ext cx="0" cy="1219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3139920" y="2989800"/>
                  <a:ext cx="0" cy="1226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2138400" y="3148560"/>
                  <a:ext cx="720" cy="1065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2651400" y="3069720"/>
                  <a:ext cx="0" cy="1146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9" name=""/>
            <p:cNvGrpSpPr/>
            <p:nvPr/>
          </p:nvGrpSpPr>
          <p:grpSpPr>
            <a:xfrm>
              <a:off x="2130480" y="1401480"/>
              <a:ext cx="4792680" cy="2803680"/>
              <a:chOff x="2130480" y="1401480"/>
              <a:chExt cx="4792680" cy="2803680"/>
            </a:xfrm>
          </p:grpSpPr>
          <p:grpSp>
            <p:nvGrpSpPr>
              <p:cNvPr id="4940" name=""/>
              <p:cNvGrpSpPr/>
              <p:nvPr/>
            </p:nvGrpSpPr>
            <p:grpSpPr>
              <a:xfrm>
                <a:off x="2130480" y="1401480"/>
                <a:ext cx="4790520" cy="2803680"/>
                <a:chOff x="2130480" y="1401480"/>
                <a:chExt cx="4790520" cy="2803680"/>
              </a:xfrm>
            </p:grpSpPr>
            <p:grpSp>
              <p:nvGrpSpPr>
                <p:cNvPr id="4941" name=""/>
                <p:cNvGrpSpPr/>
                <p:nvPr/>
              </p:nvGrpSpPr>
              <p:grpSpPr>
                <a:xfrm>
                  <a:off x="5178240" y="2846520"/>
                  <a:ext cx="301320" cy="1352880"/>
                  <a:chOff x="5178240" y="2846520"/>
                  <a:chExt cx="301320" cy="1352880"/>
                </a:xfrm>
              </p:grpSpPr>
              <p:sp>
                <p:nvSpPr>
                  <p:cNvPr id="4942" name=""/>
                  <p:cNvSpPr/>
                  <p:nvPr/>
                </p:nvSpPr>
                <p:spPr>
                  <a:xfrm flipV="1">
                    <a:off x="5190840" y="3408480"/>
                    <a:ext cx="288360" cy="790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"/>
                  <p:cNvSpPr/>
                  <p:nvPr/>
                </p:nvSpPr>
                <p:spPr>
                  <a:xfrm flipH="1" flipV="1">
                    <a:off x="5185440" y="3130560"/>
                    <a:ext cx="293400" cy="27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 flipH="1" flipV="1">
                    <a:off x="5190480" y="3691080"/>
                    <a:ext cx="288360" cy="219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5" name=""/>
                  <p:cNvSpPr/>
                  <p:nvPr/>
                </p:nvSpPr>
                <p:spPr>
                  <a:xfrm flipV="1">
                    <a:off x="5190840" y="2846520"/>
                    <a:ext cx="288360" cy="83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6" name=""/>
                  <p:cNvSpPr/>
                  <p:nvPr/>
                </p:nvSpPr>
                <p:spPr>
                  <a:xfrm flipV="1">
                    <a:off x="5178240" y="2858040"/>
                    <a:ext cx="288360" cy="288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>
                    <a:off x="5191200" y="3131280"/>
                    <a:ext cx="0" cy="1063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"/>
                  <p:cNvSpPr/>
                  <p:nvPr/>
                </p:nvSpPr>
                <p:spPr>
                  <a:xfrm>
                    <a:off x="5479560" y="2852280"/>
                    <a:ext cx="0" cy="1064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9" name=""/>
                <p:cNvGrpSpPr/>
                <p:nvPr/>
              </p:nvGrpSpPr>
              <p:grpSpPr>
                <a:xfrm>
                  <a:off x="2130480" y="2853720"/>
                  <a:ext cx="289440" cy="1351440"/>
                  <a:chOff x="2130480" y="2853720"/>
                  <a:chExt cx="289440" cy="1351440"/>
                </a:xfrm>
              </p:grpSpPr>
              <p:sp>
                <p:nvSpPr>
                  <p:cNvPr id="4950" name=""/>
                  <p:cNvSpPr/>
                  <p:nvPr/>
                </p:nvSpPr>
                <p:spPr>
                  <a:xfrm flipV="1">
                    <a:off x="2131560" y="3411720"/>
                    <a:ext cx="288000" cy="790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 flipH="1" flipV="1">
                    <a:off x="2131560" y="3141360"/>
                    <a:ext cx="285840" cy="266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"/>
                  <p:cNvSpPr/>
                  <p:nvPr/>
                </p:nvSpPr>
                <p:spPr>
                  <a:xfrm flipH="1" flipV="1">
                    <a:off x="2130480" y="3700080"/>
                    <a:ext cx="288000" cy="214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 flipV="1">
                    <a:off x="2131560" y="2853720"/>
                    <a:ext cx="286920" cy="841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 flipV="1">
                    <a:off x="2133360" y="285372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"/>
                  <p:cNvSpPr/>
                  <p:nvPr/>
                </p:nvSpPr>
                <p:spPr>
                  <a:xfrm>
                    <a:off x="2131920" y="314208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 flipH="1">
                    <a:off x="2418840" y="2862720"/>
                    <a:ext cx="1080" cy="10508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7" name=""/>
                <p:cNvGrpSpPr/>
                <p:nvPr/>
              </p:nvGrpSpPr>
              <p:grpSpPr>
                <a:xfrm>
                  <a:off x="6630120" y="1401480"/>
                  <a:ext cx="290880" cy="1371240"/>
                  <a:chOff x="6630120" y="1401480"/>
                  <a:chExt cx="290880" cy="1371240"/>
                </a:xfrm>
              </p:grpSpPr>
              <p:sp>
                <p:nvSpPr>
                  <p:cNvPr id="4958" name=""/>
                  <p:cNvSpPr/>
                  <p:nvPr/>
                </p:nvSpPr>
                <p:spPr>
                  <a:xfrm flipV="1">
                    <a:off x="6632280" y="1983240"/>
                    <a:ext cx="285840" cy="785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 flipH="1" flipV="1">
                    <a:off x="6630120" y="1691640"/>
                    <a:ext cx="287280" cy="29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"/>
                  <p:cNvSpPr/>
                  <p:nvPr/>
                </p:nvSpPr>
                <p:spPr>
                  <a:xfrm flipH="1" flipV="1">
                    <a:off x="6632280" y="2265840"/>
                    <a:ext cx="285840" cy="216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 flipV="1">
                    <a:off x="6631200" y="1403280"/>
                    <a:ext cx="28332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 flipV="1">
                    <a:off x="6630480" y="1401480"/>
                    <a:ext cx="289800" cy="294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>
                    <a:off x="6634080" y="1686960"/>
                    <a:ext cx="0" cy="108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"/>
                  <p:cNvSpPr/>
                  <p:nvPr/>
                </p:nvSpPr>
                <p:spPr>
                  <a:xfrm flipH="1">
                    <a:off x="6919920" y="1406880"/>
                    <a:ext cx="1080" cy="1076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5" name=""/>
                <p:cNvGrpSpPr/>
                <p:nvPr/>
              </p:nvGrpSpPr>
              <p:grpSpPr>
                <a:xfrm>
                  <a:off x="3573360" y="1403280"/>
                  <a:ext cx="288000" cy="1365480"/>
                  <a:chOff x="3573360" y="1403280"/>
                  <a:chExt cx="288000" cy="1365480"/>
                </a:xfrm>
              </p:grpSpPr>
              <p:sp>
                <p:nvSpPr>
                  <p:cNvPr id="4966" name=""/>
                  <p:cNvSpPr/>
                  <p:nvPr/>
                </p:nvSpPr>
                <p:spPr>
                  <a:xfrm flipV="1">
                    <a:off x="3573360" y="1987200"/>
                    <a:ext cx="286920" cy="781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"/>
                  <p:cNvSpPr/>
                  <p:nvPr/>
                </p:nvSpPr>
                <p:spPr>
                  <a:xfrm flipH="1" flipV="1">
                    <a:off x="3574440" y="1695240"/>
                    <a:ext cx="284400" cy="289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8" name=""/>
                  <p:cNvSpPr/>
                  <p:nvPr/>
                </p:nvSpPr>
                <p:spPr>
                  <a:xfrm flipH="1" flipV="1">
                    <a:off x="3573360" y="2270880"/>
                    <a:ext cx="288000" cy="20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"/>
                  <p:cNvSpPr/>
                  <p:nvPr/>
                </p:nvSpPr>
                <p:spPr>
                  <a:xfrm flipV="1">
                    <a:off x="3573360" y="1403640"/>
                    <a:ext cx="28800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 flipV="1">
                    <a:off x="3574800" y="140400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>
                    <a:off x="3573720" y="170136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"/>
                  <p:cNvSpPr/>
                  <p:nvPr/>
                </p:nvSpPr>
                <p:spPr>
                  <a:xfrm>
                    <a:off x="3859200" y="1403280"/>
                    <a:ext cx="1080" cy="10774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3" name=""/>
              <p:cNvGrpSpPr/>
              <p:nvPr/>
            </p:nvGrpSpPr>
            <p:grpSpPr>
              <a:xfrm>
                <a:off x="2133720" y="1982520"/>
                <a:ext cx="4789440" cy="1716480"/>
                <a:chOff x="2133720" y="1982520"/>
                <a:chExt cx="4789440" cy="1716480"/>
              </a:xfrm>
            </p:grpSpPr>
            <p:sp>
              <p:nvSpPr>
                <p:cNvPr id="4974" name=""/>
                <p:cNvSpPr/>
                <p:nvPr/>
              </p:nvSpPr>
              <p:spPr>
                <a:xfrm flipV="1">
                  <a:off x="5194080" y="340596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 flipV="1">
                  <a:off x="2133720" y="3412800"/>
                  <a:ext cx="28800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 flipV="1">
                  <a:off x="6639840" y="1982520"/>
                  <a:ext cx="28332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 flipV="1">
                  <a:off x="3578040" y="1987920"/>
                  <a:ext cx="28548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8" name=""/>
            <p:cNvGrpSpPr/>
            <p:nvPr/>
          </p:nvGrpSpPr>
          <p:grpSpPr>
            <a:xfrm>
              <a:off x="2425680" y="1460160"/>
              <a:ext cx="4211640" cy="2452680"/>
              <a:chOff x="2425680" y="1460160"/>
              <a:chExt cx="4211640" cy="2452680"/>
            </a:xfrm>
          </p:grpSpPr>
          <p:grpSp>
            <p:nvGrpSpPr>
              <p:cNvPr id="4979" name=""/>
              <p:cNvGrpSpPr/>
              <p:nvPr/>
            </p:nvGrpSpPr>
            <p:grpSpPr>
              <a:xfrm>
                <a:off x="2425680" y="2616120"/>
                <a:ext cx="3058560" cy="1296720"/>
                <a:chOff x="2425680" y="2616120"/>
                <a:chExt cx="3058560" cy="1296720"/>
              </a:xfrm>
            </p:grpSpPr>
            <p:sp>
              <p:nvSpPr>
                <p:cNvPr id="4980" name=""/>
                <p:cNvSpPr/>
                <p:nvPr/>
              </p:nvSpPr>
              <p:spPr>
                <a:xfrm flipV="1">
                  <a:off x="242568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 flipV="1">
                  <a:off x="242568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 flipV="1">
                  <a:off x="548424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 flipH="1" flipV="1">
                  <a:off x="395496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4" name=""/>
              <p:cNvGrpSpPr/>
              <p:nvPr/>
            </p:nvGrpSpPr>
            <p:grpSpPr>
              <a:xfrm>
                <a:off x="2713680" y="1460160"/>
                <a:ext cx="3923640" cy="2173680"/>
                <a:chOff x="2713680" y="1460160"/>
                <a:chExt cx="3923640" cy="2173680"/>
              </a:xfrm>
            </p:grpSpPr>
            <p:grpSp>
              <p:nvGrpSpPr>
                <p:cNvPr id="4985" name=""/>
                <p:cNvGrpSpPr/>
                <p:nvPr/>
              </p:nvGrpSpPr>
              <p:grpSpPr>
                <a:xfrm>
                  <a:off x="2713680" y="2327040"/>
                  <a:ext cx="3058920" cy="1306800"/>
                  <a:chOff x="2713680" y="2327040"/>
                  <a:chExt cx="3058920" cy="1306800"/>
                </a:xfrm>
              </p:grpSpPr>
              <p:sp>
                <p:nvSpPr>
                  <p:cNvPr id="4986" name=""/>
                  <p:cNvSpPr/>
                  <p:nvPr/>
                </p:nvSpPr>
                <p:spPr>
                  <a:xfrm flipV="1">
                    <a:off x="2713680" y="2563920"/>
                    <a:ext cx="0" cy="10663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"/>
                  <p:cNvSpPr/>
                  <p:nvPr/>
                </p:nvSpPr>
                <p:spPr>
                  <a:xfrm flipV="1">
                    <a:off x="2713680" y="2327040"/>
                    <a:ext cx="152964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"/>
                  <p:cNvSpPr/>
                  <p:nvPr/>
                </p:nvSpPr>
                <p:spPr>
                  <a:xfrm flipV="1">
                    <a:off x="5772600" y="2563560"/>
                    <a:ext cx="0" cy="10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9" name=""/>
                  <p:cNvSpPr/>
                  <p:nvPr/>
                </p:nvSpPr>
                <p:spPr>
                  <a:xfrm flipH="1" flipV="1">
                    <a:off x="4243320" y="2327040"/>
                    <a:ext cx="152928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0" name=""/>
                <p:cNvGrpSpPr/>
                <p:nvPr/>
              </p:nvGrpSpPr>
              <p:grpSpPr>
                <a:xfrm>
                  <a:off x="3000600" y="2038320"/>
                  <a:ext cx="3060360" cy="1303920"/>
                  <a:chOff x="3000600" y="2038320"/>
                  <a:chExt cx="3060360" cy="1303920"/>
                </a:xfrm>
              </p:grpSpPr>
              <p:sp>
                <p:nvSpPr>
                  <p:cNvPr id="4991" name=""/>
                  <p:cNvSpPr/>
                  <p:nvPr/>
                </p:nvSpPr>
                <p:spPr>
                  <a:xfrm flipV="1">
                    <a:off x="300060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"/>
                  <p:cNvSpPr/>
                  <p:nvPr/>
                </p:nvSpPr>
                <p:spPr>
                  <a:xfrm flipV="1">
                    <a:off x="300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"/>
                  <p:cNvSpPr/>
                  <p:nvPr/>
                </p:nvSpPr>
                <p:spPr>
                  <a:xfrm flipV="1">
                    <a:off x="606096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4" name=""/>
                  <p:cNvSpPr/>
                  <p:nvPr/>
                </p:nvSpPr>
                <p:spPr>
                  <a:xfrm flipH="1" flipV="1">
                    <a:off x="453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5" name=""/>
                <p:cNvGrpSpPr/>
                <p:nvPr/>
              </p:nvGrpSpPr>
              <p:grpSpPr>
                <a:xfrm>
                  <a:off x="3290040" y="1749240"/>
                  <a:ext cx="3058920" cy="1305360"/>
                  <a:chOff x="3290040" y="1749240"/>
                  <a:chExt cx="3058920" cy="1305360"/>
                </a:xfrm>
              </p:grpSpPr>
              <p:sp>
                <p:nvSpPr>
                  <p:cNvPr id="4996" name=""/>
                  <p:cNvSpPr/>
                  <p:nvPr/>
                </p:nvSpPr>
                <p:spPr>
                  <a:xfrm flipV="1">
                    <a:off x="329004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"/>
                  <p:cNvSpPr/>
                  <p:nvPr/>
                </p:nvSpPr>
                <p:spPr>
                  <a:xfrm flipV="1">
                    <a:off x="3290040" y="1749240"/>
                    <a:ext cx="152928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"/>
                  <p:cNvSpPr/>
                  <p:nvPr/>
                </p:nvSpPr>
                <p:spPr>
                  <a:xfrm flipV="1">
                    <a:off x="634896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"/>
                  <p:cNvSpPr/>
                  <p:nvPr/>
                </p:nvSpPr>
                <p:spPr>
                  <a:xfrm flipH="1" flipV="1">
                    <a:off x="4818960" y="1749240"/>
                    <a:ext cx="152964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0" name=""/>
                <p:cNvGrpSpPr/>
                <p:nvPr/>
              </p:nvGrpSpPr>
              <p:grpSpPr>
                <a:xfrm>
                  <a:off x="3578760" y="1460160"/>
                  <a:ext cx="3058560" cy="1313280"/>
                  <a:chOff x="3578760" y="1460160"/>
                  <a:chExt cx="3058560" cy="1313280"/>
                </a:xfrm>
              </p:grpSpPr>
              <p:sp>
                <p:nvSpPr>
                  <p:cNvPr id="5001" name=""/>
                  <p:cNvSpPr/>
                  <p:nvPr/>
                </p:nvSpPr>
                <p:spPr>
                  <a:xfrm flipV="1">
                    <a:off x="357876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 flipV="1">
                    <a:off x="357876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 flipV="1">
                    <a:off x="663732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"/>
                  <p:cNvSpPr/>
                  <p:nvPr/>
                </p:nvSpPr>
                <p:spPr>
                  <a:xfrm flipH="1" flipV="1">
                    <a:off x="510804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05" name=""/>
            <p:cNvGrpSpPr/>
            <p:nvPr/>
          </p:nvGrpSpPr>
          <p:grpSpPr>
            <a:xfrm>
              <a:off x="2125800" y="1171080"/>
              <a:ext cx="4795560" cy="1970280"/>
              <a:chOff x="2125800" y="1171080"/>
              <a:chExt cx="4795560" cy="1970280"/>
            </a:xfrm>
          </p:grpSpPr>
          <p:grpSp>
            <p:nvGrpSpPr>
              <p:cNvPr id="5006" name=""/>
              <p:cNvGrpSpPr/>
              <p:nvPr/>
            </p:nvGrpSpPr>
            <p:grpSpPr>
              <a:xfrm>
                <a:off x="3575520" y="1171080"/>
                <a:ext cx="3345840" cy="525600"/>
                <a:chOff x="3575520" y="1171080"/>
                <a:chExt cx="3345840" cy="525600"/>
              </a:xfrm>
            </p:grpSpPr>
            <p:sp>
              <p:nvSpPr>
                <p:cNvPr id="5007" name=""/>
                <p:cNvSpPr/>
                <p:nvPr/>
              </p:nvSpPr>
              <p:spPr>
                <a:xfrm flipV="1">
                  <a:off x="6638400" y="14040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8" name=""/>
                <p:cNvSpPr/>
                <p:nvPr/>
              </p:nvSpPr>
              <p:spPr>
                <a:xfrm flipV="1">
                  <a:off x="5107320" y="1171080"/>
                  <a:ext cx="286920" cy="289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 flipV="1">
                  <a:off x="5635800" y="125244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 flipV="1">
                  <a:off x="3576240" y="1407240"/>
                  <a:ext cx="28944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 flipV="1">
                  <a:off x="4086000" y="13302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 flipV="1">
                  <a:off x="4577400" y="125460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3" name=""/>
                <p:cNvGrpSpPr/>
                <p:nvPr/>
              </p:nvGrpSpPr>
              <p:grpSpPr>
                <a:xfrm>
                  <a:off x="3575520" y="1171440"/>
                  <a:ext cx="3342240" cy="525240"/>
                  <a:chOff x="3575520" y="1171440"/>
                  <a:chExt cx="3342240" cy="52524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 flipH="1" flipV="1">
                    <a:off x="5392080" y="1171440"/>
                    <a:ext cx="23760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 flipH="1">
                    <a:off x="4576320" y="1171800"/>
                    <a:ext cx="813960" cy="36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 flipH="1" flipV="1">
                    <a:off x="6431040" y="1329120"/>
                    <a:ext cx="20088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 flipV="1">
                    <a:off x="6137640" y="1404360"/>
                    <a:ext cx="780120" cy="214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 flipH="1" flipV="1">
                    <a:off x="5920920" y="1253160"/>
                    <a:ext cx="216360" cy="367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 flipH="1">
                    <a:off x="5632560" y="1327320"/>
                    <a:ext cx="799200" cy="214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 flipH="1">
                    <a:off x="5109480" y="1249200"/>
                    <a:ext cx="811080" cy="207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 flipH="1" flipV="1">
                    <a:off x="4861080" y="1255680"/>
                    <a:ext cx="254880" cy="208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 flipH="1" flipV="1">
                    <a:off x="4372920" y="1326960"/>
                    <a:ext cx="210600" cy="215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 flipH="1">
                    <a:off x="4083120" y="1256760"/>
                    <a:ext cx="779040" cy="362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 flipH="1" flipV="1">
                    <a:off x="3867480" y="1408320"/>
                    <a:ext cx="213480" cy="209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H="1">
                    <a:off x="3575520" y="1328400"/>
                    <a:ext cx="797400" cy="36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 flipV="1">
                    <a:off x="3868200" y="1173240"/>
                    <a:ext cx="1522800" cy="230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 flipV="1">
                    <a:off x="3589920" y="1457640"/>
                    <a:ext cx="1520640" cy="235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>
                    <a:off x="5108040" y="1456560"/>
                    <a:ext cx="1524960" cy="240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5397840" y="1171440"/>
                    <a:ext cx="1513440" cy="232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0" name=""/>
                <p:cNvSpPr/>
                <p:nvPr/>
              </p:nvSpPr>
              <p:spPr>
                <a:xfrm flipV="1">
                  <a:off x="6138720" y="1329120"/>
                  <a:ext cx="290520" cy="291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1" name=""/>
              <p:cNvGrpSpPr/>
              <p:nvPr/>
            </p:nvGrpSpPr>
            <p:grpSpPr>
              <a:xfrm>
                <a:off x="2125800" y="2615040"/>
                <a:ext cx="3347640" cy="526320"/>
                <a:chOff x="2125800" y="2615040"/>
                <a:chExt cx="3347640" cy="526320"/>
              </a:xfrm>
            </p:grpSpPr>
            <p:sp>
              <p:nvSpPr>
                <p:cNvPr id="5032" name=""/>
                <p:cNvSpPr/>
                <p:nvPr/>
              </p:nvSpPr>
              <p:spPr>
                <a:xfrm flipV="1">
                  <a:off x="5185440" y="2850480"/>
                  <a:ext cx="28692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 flipV="1">
                  <a:off x="4188960" y="2697120"/>
                  <a:ext cx="285480" cy="285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 flipV="1">
                  <a:off x="3657960" y="2619360"/>
                  <a:ext cx="281880" cy="281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3655080" y="2901240"/>
                  <a:ext cx="1530000" cy="240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 flipH="1" flipV="1">
                  <a:off x="3943800" y="2617200"/>
                  <a:ext cx="23868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 flipH="1" flipV="1">
                  <a:off x="4983840" y="2776320"/>
                  <a:ext cx="203400" cy="36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V="1">
                  <a:off x="4695840" y="2851560"/>
                  <a:ext cx="772200" cy="212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 flipH="1" flipV="1">
                  <a:off x="4475160" y="2698200"/>
                  <a:ext cx="22140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0" name=""/>
                <p:cNvSpPr/>
                <p:nvPr/>
              </p:nvSpPr>
              <p:spPr>
                <a:xfrm flipH="1">
                  <a:off x="4183200" y="2775600"/>
                  <a:ext cx="799200" cy="210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 flipH="1">
                  <a:off x="3656880" y="2697480"/>
                  <a:ext cx="82008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>
                  <a:off x="3948480" y="2615760"/>
                  <a:ext cx="152496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3" name=""/>
                <p:cNvSpPr/>
                <p:nvPr/>
              </p:nvSpPr>
              <p:spPr>
                <a:xfrm flipV="1">
                  <a:off x="4697280" y="2775960"/>
                  <a:ext cx="28548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 flipV="1">
                  <a:off x="3130560" y="2694240"/>
                  <a:ext cx="285480" cy="287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 flipV="1">
                  <a:off x="2639520" y="2769120"/>
                  <a:ext cx="288000" cy="289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 flipV="1">
                  <a:off x="2134440" y="2901240"/>
                  <a:ext cx="1520280" cy="237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 flipV="1">
                  <a:off x="2416320" y="2615400"/>
                  <a:ext cx="1535400" cy="233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 flipH="1">
                  <a:off x="3128760" y="2615040"/>
                  <a:ext cx="81792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 flipH="1" flipV="1">
                  <a:off x="3414240" y="2697480"/>
                  <a:ext cx="23976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 flipH="1" flipV="1">
                  <a:off x="2925000" y="2769120"/>
                  <a:ext cx="203040" cy="213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 flipH="1">
                  <a:off x="2641320" y="2701440"/>
                  <a:ext cx="766440" cy="359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2" name=""/>
                <p:cNvSpPr/>
                <p:nvPr/>
              </p:nvSpPr>
              <p:spPr>
                <a:xfrm flipH="1" flipV="1">
                  <a:off x="2417040" y="2849400"/>
                  <a:ext cx="219960" cy="210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 flipH="1">
                  <a:off x="2129040" y="2771640"/>
                  <a:ext cx="79344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 flipV="1">
                  <a:off x="2125800" y="2850480"/>
                  <a:ext cx="290520" cy="290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55" name=""/>
            <p:cNvGrpSpPr/>
            <p:nvPr/>
          </p:nvGrpSpPr>
          <p:grpSpPr>
            <a:xfrm>
              <a:off x="2136600" y="1404720"/>
              <a:ext cx="4784400" cy="1733400"/>
              <a:chOff x="2136600" y="1404720"/>
              <a:chExt cx="4784400" cy="1733400"/>
            </a:xfrm>
          </p:grpSpPr>
          <p:sp>
            <p:nvSpPr>
              <p:cNvPr id="5056" name=""/>
              <p:cNvSpPr/>
              <p:nvPr/>
            </p:nvSpPr>
            <p:spPr>
              <a:xfrm flipV="1">
                <a:off x="5186520" y="1404720"/>
                <a:ext cx="173448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136600" y="1404720"/>
                <a:ext cx="172944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8" name=""/>
            <p:cNvGrpSpPr/>
            <p:nvPr/>
          </p:nvGrpSpPr>
          <p:grpSpPr>
            <a:xfrm>
              <a:off x="2355840" y="1211040"/>
              <a:ext cx="4322880" cy="1899000"/>
              <a:chOff x="2355840" y="1211040"/>
              <a:chExt cx="4322880" cy="1899000"/>
            </a:xfrm>
          </p:grpSpPr>
          <p:sp>
            <p:nvSpPr>
              <p:cNvPr id="5059" name=""/>
              <p:cNvSpPr/>
              <p:nvPr/>
            </p:nvSpPr>
            <p:spPr>
              <a:xfrm flipV="1">
                <a:off x="3933360" y="1211040"/>
                <a:ext cx="172512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V="1">
                <a:off x="4194720" y="1250640"/>
                <a:ext cx="17301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flipV="1">
                <a:off x="4704120" y="1332720"/>
                <a:ext cx="172296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flipV="1">
                <a:off x="4943160" y="1371600"/>
                <a:ext cx="17355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flipV="1">
                <a:off x="2355840" y="1369080"/>
                <a:ext cx="1770480" cy="1740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flipV="1">
                <a:off x="2644560" y="1330200"/>
                <a:ext cx="17287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3137040" y="1249200"/>
                <a:ext cx="17323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V="1">
                <a:off x="3386160" y="1211040"/>
                <a:ext cx="1759680" cy="1738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 flipV="1">
                <a:off x="2883960" y="1295280"/>
                <a:ext cx="1737000" cy="1732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flipV="1">
                <a:off x="4446720" y="1288080"/>
                <a:ext cx="1730160" cy="1735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9" name=""/>
            <p:cNvSpPr/>
            <p:nvPr/>
          </p:nvSpPr>
          <p:spPr>
            <a:xfrm flipV="1">
              <a:off x="3662280" y="1170000"/>
              <a:ext cx="1735200" cy="1727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0" name=""/>
            <p:cNvGrpSpPr/>
            <p:nvPr/>
          </p:nvGrpSpPr>
          <p:grpSpPr>
            <a:xfrm>
              <a:off x="2135160" y="3138480"/>
              <a:ext cx="3059280" cy="1069560"/>
              <a:chOff x="2135160" y="3138480"/>
              <a:chExt cx="3059280" cy="1069560"/>
            </a:xfrm>
          </p:grpSpPr>
          <p:sp>
            <p:nvSpPr>
              <p:cNvPr id="5071" name=""/>
              <p:cNvSpPr/>
              <p:nvPr/>
            </p:nvSpPr>
            <p:spPr>
              <a:xfrm flipV="1">
                <a:off x="4195440" y="4206960"/>
                <a:ext cx="99684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flipV="1">
                <a:off x="2135520" y="3138480"/>
                <a:ext cx="3058920" cy="3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2135160" y="3415320"/>
                <a:ext cx="30585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4192920" y="3948840"/>
                <a:ext cx="100008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flipV="1">
                <a:off x="2135520" y="3701160"/>
                <a:ext cx="100116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4195440" y="3693960"/>
                <a:ext cx="9990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2136240" y="3952800"/>
                <a:ext cx="998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2137320" y="4205880"/>
                <a:ext cx="9957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9" name=""/>
            <p:cNvGrpSpPr/>
            <p:nvPr/>
          </p:nvGrpSpPr>
          <p:grpSpPr>
            <a:xfrm>
              <a:off x="5192640" y="1699920"/>
              <a:ext cx="1731960" cy="2504880"/>
              <a:chOff x="5192640" y="1699920"/>
              <a:chExt cx="1731960" cy="2504880"/>
            </a:xfrm>
          </p:grpSpPr>
          <p:sp>
            <p:nvSpPr>
              <p:cNvPr id="5080" name=""/>
              <p:cNvSpPr/>
              <p:nvPr/>
            </p:nvSpPr>
            <p:spPr>
              <a:xfrm flipV="1">
                <a:off x="5192640" y="2485800"/>
                <a:ext cx="1731960" cy="1719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5196240" y="1699920"/>
                <a:ext cx="1726920" cy="1716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 flipV="1">
                <a:off x="5194800" y="1986840"/>
                <a:ext cx="1728360" cy="1706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 flipV="1">
                <a:off x="5193720" y="2216520"/>
                <a:ext cx="1729440" cy="173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4" name=""/>
            <p:cNvGrpSpPr/>
            <p:nvPr/>
          </p:nvGrpSpPr>
          <p:grpSpPr>
            <a:xfrm>
              <a:off x="2584440" y="2104920"/>
              <a:ext cx="3930840" cy="1653840"/>
              <a:chOff x="2584440" y="2104920"/>
              <a:chExt cx="3930840" cy="1653840"/>
            </a:xfrm>
          </p:grpSpPr>
          <p:grpSp>
            <p:nvGrpSpPr>
              <p:cNvPr id="5085" name=""/>
              <p:cNvGrpSpPr/>
              <p:nvPr/>
            </p:nvGrpSpPr>
            <p:grpSpPr>
              <a:xfrm>
                <a:off x="2584440" y="2106360"/>
                <a:ext cx="867600" cy="1652400"/>
                <a:chOff x="2584440" y="2106360"/>
                <a:chExt cx="867600" cy="1652400"/>
              </a:xfrm>
            </p:grpSpPr>
            <p:sp>
              <p:nvSpPr>
                <p:cNvPr id="5086" name=""/>
                <p:cNvSpPr/>
                <p:nvPr/>
              </p:nvSpPr>
              <p:spPr>
                <a:xfrm>
                  <a:off x="2584440" y="297108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3160800" y="239436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3452040" y="210636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2874960" y="268452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0" name=""/>
              <p:cNvGrpSpPr/>
              <p:nvPr/>
            </p:nvGrpSpPr>
            <p:grpSpPr>
              <a:xfrm>
                <a:off x="5646600" y="2104920"/>
                <a:ext cx="868680" cy="1652400"/>
                <a:chOff x="5646600" y="2104920"/>
                <a:chExt cx="868680" cy="1652400"/>
              </a:xfrm>
            </p:grpSpPr>
            <p:sp>
              <p:nvSpPr>
                <p:cNvPr id="5091" name=""/>
                <p:cNvSpPr/>
                <p:nvPr/>
              </p:nvSpPr>
              <p:spPr>
                <a:xfrm>
                  <a:off x="5646600" y="2969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6224040" y="239292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515280" y="210492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5934240" y="2681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5" name=""/>
            <p:cNvGrpSpPr/>
            <p:nvPr/>
          </p:nvGrpSpPr>
          <p:grpSpPr>
            <a:xfrm>
              <a:off x="2427120" y="1458720"/>
              <a:ext cx="4208040" cy="1509480"/>
              <a:chOff x="2427120" y="1458720"/>
              <a:chExt cx="4208040" cy="1509480"/>
            </a:xfrm>
          </p:grpSpPr>
          <p:grpSp>
            <p:nvGrpSpPr>
              <p:cNvPr id="5096" name=""/>
              <p:cNvGrpSpPr/>
              <p:nvPr/>
            </p:nvGrpSpPr>
            <p:grpSpPr>
              <a:xfrm>
                <a:off x="2427120" y="1702080"/>
                <a:ext cx="4208040" cy="1266120"/>
                <a:chOff x="2427120" y="1702080"/>
                <a:chExt cx="4208040" cy="1266120"/>
              </a:xfrm>
            </p:grpSpPr>
            <p:grpSp>
              <p:nvGrpSpPr>
                <p:cNvPr id="5097" name=""/>
                <p:cNvGrpSpPr/>
                <p:nvPr/>
              </p:nvGrpSpPr>
              <p:grpSpPr>
                <a:xfrm>
                  <a:off x="2427120" y="1703880"/>
                  <a:ext cx="1149840" cy="1264320"/>
                  <a:chOff x="2427120" y="1703880"/>
                  <a:chExt cx="1149840" cy="1264320"/>
                </a:xfrm>
              </p:grpSpPr>
              <p:grpSp>
                <p:nvGrpSpPr>
                  <p:cNvPr id="5098" name=""/>
                  <p:cNvGrpSpPr/>
                  <p:nvPr/>
                </p:nvGrpSpPr>
                <p:grpSpPr>
                  <a:xfrm>
                    <a:off x="2427120" y="2567160"/>
                    <a:ext cx="282960" cy="401040"/>
                    <a:chOff x="2427120" y="2567160"/>
                    <a:chExt cx="282960" cy="401040"/>
                  </a:xfrm>
                </p:grpSpPr>
                <p:sp>
                  <p:nvSpPr>
                    <p:cNvPr id="5099" name=""/>
                    <p:cNvSpPr/>
                    <p:nvPr/>
                  </p:nvSpPr>
                  <p:spPr>
                    <a:xfrm>
                      <a:off x="2427120" y="28515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0" name=""/>
                    <p:cNvSpPr/>
                    <p:nvPr/>
                  </p:nvSpPr>
                  <p:spPr>
                    <a:xfrm flipH="1">
                      <a:off x="2585160" y="25671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01" name=""/>
                  <p:cNvGrpSpPr/>
                  <p:nvPr/>
                </p:nvGrpSpPr>
                <p:grpSpPr>
                  <a:xfrm>
                    <a:off x="2716560" y="2277720"/>
                    <a:ext cx="282960" cy="401040"/>
                    <a:chOff x="2716560" y="2277720"/>
                    <a:chExt cx="282960" cy="401040"/>
                  </a:xfrm>
                </p:grpSpPr>
                <p:sp>
                  <p:nvSpPr>
                    <p:cNvPr id="5102" name=""/>
                    <p:cNvSpPr/>
                    <p:nvPr/>
                  </p:nvSpPr>
                  <p:spPr>
                    <a:xfrm>
                      <a:off x="2716560" y="25621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3" name=""/>
                    <p:cNvSpPr/>
                    <p:nvPr/>
                  </p:nvSpPr>
                  <p:spPr>
                    <a:xfrm flipH="1">
                      <a:off x="2874600" y="22777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04" name=""/>
                  <p:cNvGrpSpPr/>
                  <p:nvPr/>
                </p:nvGrpSpPr>
                <p:grpSpPr>
                  <a:xfrm>
                    <a:off x="3003480" y="1993320"/>
                    <a:ext cx="282960" cy="401040"/>
                    <a:chOff x="3003480" y="1993320"/>
                    <a:chExt cx="282960" cy="401040"/>
                  </a:xfrm>
                </p:grpSpPr>
                <p:sp>
                  <p:nvSpPr>
                    <p:cNvPr id="5105" name=""/>
                    <p:cNvSpPr/>
                    <p:nvPr/>
                  </p:nvSpPr>
                  <p:spPr>
                    <a:xfrm>
                      <a:off x="3003480" y="22777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6" name=""/>
                    <p:cNvSpPr/>
                    <p:nvPr/>
                  </p:nvSpPr>
                  <p:spPr>
                    <a:xfrm flipH="1">
                      <a:off x="3161520" y="19933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07" name=""/>
                  <p:cNvGrpSpPr/>
                  <p:nvPr/>
                </p:nvGrpSpPr>
                <p:grpSpPr>
                  <a:xfrm>
                    <a:off x="3294000" y="1703880"/>
                    <a:ext cx="282960" cy="401040"/>
                    <a:chOff x="3294000" y="1703880"/>
                    <a:chExt cx="282960" cy="401040"/>
                  </a:xfrm>
                </p:grpSpPr>
                <p:sp>
                  <p:nvSpPr>
                    <p:cNvPr id="5108" name=""/>
                    <p:cNvSpPr/>
                    <p:nvPr/>
                  </p:nvSpPr>
                  <p:spPr>
                    <a:xfrm>
                      <a:off x="3294000" y="19882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9" name=""/>
                    <p:cNvSpPr/>
                    <p:nvPr/>
                  </p:nvSpPr>
                  <p:spPr>
                    <a:xfrm flipH="1">
                      <a:off x="3452040" y="17038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10" name=""/>
                <p:cNvGrpSpPr/>
                <p:nvPr/>
              </p:nvGrpSpPr>
              <p:grpSpPr>
                <a:xfrm>
                  <a:off x="5485320" y="1702080"/>
                  <a:ext cx="1149840" cy="1264320"/>
                  <a:chOff x="5485320" y="1702080"/>
                  <a:chExt cx="1149840" cy="1264320"/>
                </a:xfrm>
              </p:grpSpPr>
              <p:grpSp>
                <p:nvGrpSpPr>
                  <p:cNvPr id="5111" name=""/>
                  <p:cNvGrpSpPr/>
                  <p:nvPr/>
                </p:nvGrpSpPr>
                <p:grpSpPr>
                  <a:xfrm>
                    <a:off x="5485320" y="2565360"/>
                    <a:ext cx="282960" cy="401040"/>
                    <a:chOff x="5485320" y="2565360"/>
                    <a:chExt cx="282960" cy="401040"/>
                  </a:xfrm>
                </p:grpSpPr>
                <p:sp>
                  <p:nvSpPr>
                    <p:cNvPr id="5112" name=""/>
                    <p:cNvSpPr/>
                    <p:nvPr/>
                  </p:nvSpPr>
                  <p:spPr>
                    <a:xfrm>
                      <a:off x="5485320" y="28497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3" name=""/>
                    <p:cNvSpPr/>
                    <p:nvPr/>
                  </p:nvSpPr>
                  <p:spPr>
                    <a:xfrm flipH="1">
                      <a:off x="5643360" y="25653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4" name=""/>
                  <p:cNvGrpSpPr/>
                  <p:nvPr/>
                </p:nvGrpSpPr>
                <p:grpSpPr>
                  <a:xfrm>
                    <a:off x="5774760" y="2275920"/>
                    <a:ext cx="282960" cy="401040"/>
                    <a:chOff x="5774760" y="2275920"/>
                    <a:chExt cx="282960" cy="401040"/>
                  </a:xfrm>
                </p:grpSpPr>
                <p:sp>
                  <p:nvSpPr>
                    <p:cNvPr id="5115" name=""/>
                    <p:cNvSpPr/>
                    <p:nvPr/>
                  </p:nvSpPr>
                  <p:spPr>
                    <a:xfrm>
                      <a:off x="5774760" y="25603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6" name=""/>
                    <p:cNvSpPr/>
                    <p:nvPr/>
                  </p:nvSpPr>
                  <p:spPr>
                    <a:xfrm flipH="1">
                      <a:off x="5932800" y="22759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7" name=""/>
                  <p:cNvGrpSpPr/>
                  <p:nvPr/>
                </p:nvGrpSpPr>
                <p:grpSpPr>
                  <a:xfrm>
                    <a:off x="6061680" y="1991520"/>
                    <a:ext cx="282960" cy="401040"/>
                    <a:chOff x="6061680" y="1991520"/>
                    <a:chExt cx="282960" cy="401040"/>
                  </a:xfrm>
                </p:grpSpPr>
                <p:sp>
                  <p:nvSpPr>
                    <p:cNvPr id="5118" name=""/>
                    <p:cNvSpPr/>
                    <p:nvPr/>
                  </p:nvSpPr>
                  <p:spPr>
                    <a:xfrm>
                      <a:off x="6061680" y="22759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9" name=""/>
                    <p:cNvSpPr/>
                    <p:nvPr/>
                  </p:nvSpPr>
                  <p:spPr>
                    <a:xfrm flipH="1">
                      <a:off x="6219720" y="19915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0" name=""/>
                  <p:cNvGrpSpPr/>
                  <p:nvPr/>
                </p:nvGrpSpPr>
                <p:grpSpPr>
                  <a:xfrm>
                    <a:off x="6352200" y="1702080"/>
                    <a:ext cx="282960" cy="401040"/>
                    <a:chOff x="6352200" y="1702080"/>
                    <a:chExt cx="282960" cy="401040"/>
                  </a:xfrm>
                </p:grpSpPr>
                <p:sp>
                  <p:nvSpPr>
                    <p:cNvPr id="5121" name=""/>
                    <p:cNvSpPr/>
                    <p:nvPr/>
                  </p:nvSpPr>
                  <p:spPr>
                    <a:xfrm>
                      <a:off x="6352200" y="19864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2" name=""/>
                    <p:cNvSpPr/>
                    <p:nvPr/>
                  </p:nvSpPr>
                  <p:spPr>
                    <a:xfrm flipH="1">
                      <a:off x="6510240" y="17020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23" name=""/>
              <p:cNvGrpSpPr/>
              <p:nvPr/>
            </p:nvGrpSpPr>
            <p:grpSpPr>
              <a:xfrm>
                <a:off x="3843000" y="1458720"/>
                <a:ext cx="1398240" cy="1156320"/>
                <a:chOff x="3843000" y="1458720"/>
                <a:chExt cx="1398240" cy="1156320"/>
              </a:xfrm>
            </p:grpSpPr>
            <p:sp>
              <p:nvSpPr>
                <p:cNvPr id="5124" name=""/>
                <p:cNvSpPr/>
                <p:nvPr/>
              </p:nvSpPr>
              <p:spPr>
                <a:xfrm flipH="1" flipV="1">
                  <a:off x="4235040" y="2325960"/>
                  <a:ext cx="140040" cy="170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 flipH="1">
                  <a:off x="3945240" y="2495520"/>
                  <a:ext cx="4323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 flipV="1">
                  <a:off x="3844080" y="2329560"/>
                  <a:ext cx="38736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7" name=""/>
                <p:cNvSpPr/>
                <p:nvPr/>
              </p:nvSpPr>
              <p:spPr>
                <a:xfrm>
                  <a:off x="3843000" y="2497680"/>
                  <a:ext cx="10116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8" name=""/>
                <p:cNvGrpSpPr/>
                <p:nvPr/>
              </p:nvGrpSpPr>
              <p:grpSpPr>
                <a:xfrm>
                  <a:off x="4133520" y="2036160"/>
                  <a:ext cx="537120" cy="289080"/>
                  <a:chOff x="4133520" y="2036160"/>
                  <a:chExt cx="537120" cy="289080"/>
                </a:xfrm>
              </p:grpSpPr>
              <p:sp>
                <p:nvSpPr>
                  <p:cNvPr id="5129" name=""/>
                  <p:cNvSpPr/>
                  <p:nvPr/>
                </p:nvSpPr>
                <p:spPr>
                  <a:xfrm flipH="1" flipV="1">
                    <a:off x="4528440" y="2036160"/>
                    <a:ext cx="140040" cy="1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"/>
                  <p:cNvSpPr/>
                  <p:nvPr/>
                </p:nvSpPr>
                <p:spPr>
                  <a:xfrm flipH="1">
                    <a:off x="4238280" y="2205720"/>
                    <a:ext cx="432360" cy="119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"/>
                  <p:cNvSpPr/>
                  <p:nvPr/>
                </p:nvSpPr>
                <p:spPr>
                  <a:xfrm flipV="1">
                    <a:off x="4133520" y="2039760"/>
                    <a:ext cx="391320" cy="1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"/>
                  <p:cNvSpPr/>
                  <p:nvPr/>
                </p:nvSpPr>
                <p:spPr>
                  <a:xfrm>
                    <a:off x="4136040" y="2207880"/>
                    <a:ext cx="101160" cy="11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3" name=""/>
                <p:cNvSpPr/>
                <p:nvPr/>
              </p:nvSpPr>
              <p:spPr>
                <a:xfrm flipH="1" flipV="1">
                  <a:off x="4818240" y="1746720"/>
                  <a:ext cx="137520" cy="171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 flipH="1">
                  <a:off x="4528080" y="1916640"/>
                  <a:ext cx="4287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flipV="1">
                  <a:off x="4429440" y="1750680"/>
                  <a:ext cx="38484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4426920" y="1918440"/>
                  <a:ext cx="10008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flipH="1" flipV="1">
                  <a:off x="5107680" y="1458720"/>
                  <a:ext cx="132480" cy="166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H="1">
                  <a:off x="4817520" y="1628280"/>
                  <a:ext cx="42372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flipV="1">
                  <a:off x="4717440" y="1462320"/>
                  <a:ext cx="38628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4718880" y="1631520"/>
                  <a:ext cx="97560" cy="115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41" name=""/>
            <p:cNvSpPr/>
            <p:nvPr/>
          </p:nvSpPr>
          <p:spPr>
            <a:xfrm>
              <a:off x="3138480" y="3416400"/>
              <a:ext cx="20559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2" name=""/>
            <p:cNvGrpSpPr/>
            <p:nvPr/>
          </p:nvGrpSpPr>
          <p:grpSpPr>
            <a:xfrm>
              <a:off x="2595600" y="1630440"/>
              <a:ext cx="3903120" cy="1062720"/>
              <a:chOff x="2595600" y="1630440"/>
              <a:chExt cx="3903120" cy="1062720"/>
            </a:xfrm>
          </p:grpSpPr>
          <p:sp>
            <p:nvSpPr>
              <p:cNvPr id="5143" name=""/>
              <p:cNvSpPr/>
              <p:nvPr/>
            </p:nvSpPr>
            <p:spPr>
              <a:xfrm flipH="1" flipV="1">
                <a:off x="4377600" y="2498400"/>
                <a:ext cx="1249920" cy="194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168360" y="1920240"/>
                <a:ext cx="125568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2880000" y="2204640"/>
                <a:ext cx="1254240" cy="18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453840" y="1631880"/>
                <a:ext cx="1258560" cy="18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2595600" y="2494440"/>
                <a:ext cx="1251720" cy="18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H="1" flipV="1">
                <a:off x="4952520" y="1915920"/>
                <a:ext cx="1257480" cy="19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 flipV="1">
                <a:off x="4668840" y="2207520"/>
                <a:ext cx="1255680" cy="19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H="1" flipV="1">
                <a:off x="5244480" y="1630440"/>
                <a:ext cx="1254240" cy="195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1" name=""/>
            <p:cNvGrpSpPr/>
            <p:nvPr/>
          </p:nvGrpSpPr>
          <p:grpSpPr>
            <a:xfrm>
              <a:off x="2408400" y="1207800"/>
              <a:ext cx="4235760" cy="1892880"/>
              <a:chOff x="2408400" y="1207800"/>
              <a:chExt cx="4235760" cy="1892880"/>
            </a:xfrm>
          </p:grpSpPr>
          <p:grpSp>
            <p:nvGrpSpPr>
              <p:cNvPr id="5152" name=""/>
              <p:cNvGrpSpPr/>
              <p:nvPr/>
            </p:nvGrpSpPr>
            <p:grpSpPr>
              <a:xfrm>
                <a:off x="2682000" y="1207800"/>
                <a:ext cx="3962160" cy="1858680"/>
                <a:chOff x="2682000" y="1207800"/>
                <a:chExt cx="3962160" cy="1858680"/>
              </a:xfrm>
            </p:grpSpPr>
            <p:sp>
              <p:nvSpPr>
                <p:cNvPr id="5153" name=""/>
                <p:cNvSpPr/>
                <p:nvPr/>
              </p:nvSpPr>
              <p:spPr>
                <a:xfrm flipV="1">
                  <a:off x="3824640" y="162108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4" name=""/>
                <p:cNvGrpSpPr/>
                <p:nvPr/>
              </p:nvGrpSpPr>
              <p:grpSpPr>
                <a:xfrm>
                  <a:off x="2682000" y="1207800"/>
                  <a:ext cx="3962160" cy="1858680"/>
                  <a:chOff x="2682000" y="1207800"/>
                  <a:chExt cx="3962160" cy="1858680"/>
                </a:xfrm>
              </p:grpSpPr>
              <p:sp>
                <p:nvSpPr>
                  <p:cNvPr id="5155" name=""/>
                  <p:cNvSpPr/>
                  <p:nvPr/>
                </p:nvSpPr>
                <p:spPr>
                  <a:xfrm flipV="1">
                    <a:off x="4260960" y="23666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6" name=""/>
                  <p:cNvSpPr/>
                  <p:nvPr/>
                </p:nvSpPr>
                <p:spPr>
                  <a:xfrm flipV="1">
                    <a:off x="4832280" y="17910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7" name=""/>
                  <p:cNvSpPr/>
                  <p:nvPr/>
                </p:nvSpPr>
                <p:spPr>
                  <a:xfrm flipV="1">
                    <a:off x="5403960" y="12078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8" name=""/>
                  <p:cNvSpPr/>
                  <p:nvPr/>
                </p:nvSpPr>
                <p:spPr>
                  <a:xfrm flipV="1">
                    <a:off x="420228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9" name=""/>
                  <p:cNvSpPr/>
                  <p:nvPr/>
                </p:nvSpPr>
                <p:spPr>
                  <a:xfrm flipV="1">
                    <a:off x="4773600" y="2127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0" name=""/>
                  <p:cNvSpPr/>
                  <p:nvPr/>
                </p:nvSpPr>
                <p:spPr>
                  <a:xfrm flipV="1">
                    <a:off x="5345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1" name=""/>
                  <p:cNvSpPr/>
                  <p:nvPr/>
                </p:nvSpPr>
                <p:spPr>
                  <a:xfrm flipV="1">
                    <a:off x="4732920" y="245448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2" name=""/>
                  <p:cNvSpPr/>
                  <p:nvPr/>
                </p:nvSpPr>
                <p:spPr>
                  <a:xfrm flipV="1">
                    <a:off x="5304600" y="187704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3" name=""/>
                  <p:cNvSpPr/>
                  <p:nvPr/>
                </p:nvSpPr>
                <p:spPr>
                  <a:xfrm flipV="1">
                    <a:off x="5875920" y="1293840"/>
                    <a:ext cx="284400" cy="2862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4" name=""/>
                  <p:cNvSpPr/>
                  <p:nvPr/>
                </p:nvSpPr>
                <p:spPr>
                  <a:xfrm flipV="1">
                    <a:off x="4674240" y="279324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5" name=""/>
                  <p:cNvSpPr/>
                  <p:nvPr/>
                </p:nvSpPr>
                <p:spPr>
                  <a:xfrm flipV="1">
                    <a:off x="5245920" y="22150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6" name=""/>
                  <p:cNvSpPr/>
                  <p:nvPr/>
                </p:nvSpPr>
                <p:spPr>
                  <a:xfrm flipV="1">
                    <a:off x="5817240" y="16326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7" name=""/>
                  <p:cNvSpPr/>
                  <p:nvPr/>
                </p:nvSpPr>
                <p:spPr>
                  <a:xfrm flipV="1">
                    <a:off x="5216760" y="253440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8" name=""/>
                  <p:cNvSpPr/>
                  <p:nvPr/>
                </p:nvSpPr>
                <p:spPr>
                  <a:xfrm flipV="1">
                    <a:off x="5788080" y="19580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"/>
                  <p:cNvSpPr/>
                  <p:nvPr/>
                </p:nvSpPr>
                <p:spPr>
                  <a:xfrm flipV="1">
                    <a:off x="6359400" y="1375200"/>
                    <a:ext cx="28476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"/>
                  <p:cNvSpPr/>
                  <p:nvPr/>
                </p:nvSpPr>
                <p:spPr>
                  <a:xfrm flipV="1">
                    <a:off x="3165120" y="247752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1" name=""/>
                  <p:cNvSpPr/>
                  <p:nvPr/>
                </p:nvSpPr>
                <p:spPr>
                  <a:xfrm flipV="1">
                    <a:off x="3736440" y="19008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2" name=""/>
                  <p:cNvSpPr/>
                  <p:nvPr/>
                </p:nvSpPr>
                <p:spPr>
                  <a:xfrm flipV="1">
                    <a:off x="4308120" y="131868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3" name=""/>
                  <p:cNvSpPr/>
                  <p:nvPr/>
                </p:nvSpPr>
                <p:spPr>
                  <a:xfrm flipV="1">
                    <a:off x="2688120" y="2552400"/>
                    <a:ext cx="273240" cy="2750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4" name=""/>
                  <p:cNvSpPr/>
                  <p:nvPr/>
                </p:nvSpPr>
                <p:spPr>
                  <a:xfrm flipV="1">
                    <a:off x="3259440" y="197568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5" name=""/>
                  <p:cNvSpPr/>
                  <p:nvPr/>
                </p:nvSpPr>
                <p:spPr>
                  <a:xfrm flipV="1">
                    <a:off x="3831120" y="139356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6" name=""/>
                  <p:cNvSpPr/>
                  <p:nvPr/>
                </p:nvSpPr>
                <p:spPr>
                  <a:xfrm flipV="1">
                    <a:off x="2682000" y="278064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 flipV="1">
                    <a:off x="3253320" y="2204280"/>
                    <a:ext cx="27288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 flipV="1">
                    <a:off x="3707280" y="2382840"/>
                    <a:ext cx="273240" cy="2746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 flipV="1">
                    <a:off x="4278960" y="1807200"/>
                    <a:ext cx="273240" cy="27288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"/>
                  <p:cNvSpPr/>
                  <p:nvPr/>
                </p:nvSpPr>
                <p:spPr>
                  <a:xfrm flipV="1">
                    <a:off x="4850280" y="1224000"/>
                    <a:ext cx="284400" cy="28476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"/>
                  <p:cNvSpPr/>
                  <p:nvPr/>
                </p:nvSpPr>
                <p:spPr>
                  <a:xfrm flipV="1">
                    <a:off x="3158640" y="2705400"/>
                    <a:ext cx="27324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2" name=""/>
                  <p:cNvSpPr/>
                  <p:nvPr/>
                </p:nvSpPr>
                <p:spPr>
                  <a:xfrm flipV="1">
                    <a:off x="3730320" y="2127240"/>
                    <a:ext cx="272880" cy="27324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3" name=""/>
                  <p:cNvSpPr/>
                  <p:nvPr/>
                </p:nvSpPr>
                <p:spPr>
                  <a:xfrm flipV="1">
                    <a:off x="4301280" y="1545120"/>
                    <a:ext cx="284760" cy="284400"/>
                  </a:xfrm>
                  <a:prstGeom prst="line">
                    <a:avLst/>
                  </a:prstGeom>
                  <a:ln w="5724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4" name=""/>
              <p:cNvGrpSpPr/>
              <p:nvPr/>
            </p:nvGrpSpPr>
            <p:grpSpPr>
              <a:xfrm>
                <a:off x="2408400" y="1265040"/>
                <a:ext cx="3974040" cy="1835640"/>
                <a:chOff x="2408400" y="1265040"/>
                <a:chExt cx="3974040" cy="1835640"/>
              </a:xfrm>
            </p:grpSpPr>
            <p:sp>
              <p:nvSpPr>
                <p:cNvPr id="5185" name=""/>
                <p:cNvSpPr/>
                <p:nvPr/>
              </p:nvSpPr>
              <p:spPr>
                <a:xfrm flipV="1">
                  <a:off x="4541400" y="207036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 flipV="1">
                  <a:off x="5112360" y="149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 flipV="1">
                  <a:off x="3981240" y="2624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 flipV="1">
                  <a:off x="4482720" y="240768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 flipV="1">
                  <a:off x="505404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 flipV="1">
                  <a:off x="5618880" y="12650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 flipV="1">
                  <a:off x="5013360" y="215676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 flipV="1">
                  <a:off x="5584680" y="15804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 flipV="1">
                  <a:off x="4453560" y="27122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 flipV="1">
                  <a:off x="4954680" y="24955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 flipV="1">
                  <a:off x="5526360" y="1917720"/>
                  <a:ext cx="291240" cy="292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6" name=""/>
                <p:cNvSpPr/>
                <p:nvPr/>
              </p:nvSpPr>
              <p:spPr>
                <a:xfrm flipV="1">
                  <a:off x="6091200" y="135288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7" name=""/>
                <p:cNvSpPr/>
                <p:nvPr/>
              </p:nvSpPr>
              <p:spPr>
                <a:xfrm flipV="1">
                  <a:off x="5496840" y="223848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 flipV="1">
                  <a:off x="6068520" y="16603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9" name=""/>
                <p:cNvSpPr/>
                <p:nvPr/>
              </p:nvSpPr>
              <p:spPr>
                <a:xfrm flipV="1">
                  <a:off x="4936680" y="279180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 flipV="1">
                  <a:off x="3445560" y="21812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 flipV="1">
                  <a:off x="4016880" y="160344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 flipV="1">
                  <a:off x="2885400" y="27349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 flipV="1">
                  <a:off x="2968200" y="225612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 flipV="1">
                  <a:off x="3539880" y="1678320"/>
                  <a:ext cx="29124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 flipV="1">
                  <a:off x="2408400" y="280944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2961720" y="2482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V="1">
                  <a:off x="3533400" y="1906200"/>
                  <a:ext cx="29124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 flipV="1">
                  <a:off x="4098240" y="134136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9" name=""/>
                <p:cNvSpPr/>
                <p:nvPr/>
              </p:nvSpPr>
              <p:spPr>
                <a:xfrm flipV="1">
                  <a:off x="3987360" y="20865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 flipV="1">
                  <a:off x="4559040" y="150876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 flipV="1">
                  <a:off x="3427200" y="264060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2" name=""/>
                <p:cNvSpPr/>
                <p:nvPr/>
              </p:nvSpPr>
              <p:spPr>
                <a:xfrm flipV="1">
                  <a:off x="3438720" y="2407680"/>
                  <a:ext cx="291600" cy="2912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V="1">
                  <a:off x="4010400" y="1829880"/>
                  <a:ext cx="291240" cy="2930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V="1">
                  <a:off x="4575240" y="1265040"/>
                  <a:ext cx="291600" cy="29160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15" name=""/>
          <p:cNvSpPr/>
          <p:nvPr/>
        </p:nvSpPr>
        <p:spPr>
          <a:xfrm>
            <a:off x="163440" y="509760"/>
            <a:ext cx="875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ent faire pour éviter d’utiliser des liern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6905520" y="580248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"/>
          <p:cNvSpPr/>
          <p:nvPr/>
        </p:nvSpPr>
        <p:spPr>
          <a:xfrm>
            <a:off x="6985080" y="533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7013520" y="54039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7934400" y="533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7962840" y="540396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6985080" y="57340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>
            <a:hlinkClick r:id="" action="ppaction://hlinkshowjump?jump=nextslide"/>
          </p:cNvPr>
          <p:cNvSpPr/>
          <p:nvPr/>
        </p:nvSpPr>
        <p:spPr>
          <a:xfrm>
            <a:off x="7013520" y="579924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7934400" y="57340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7962840" y="579924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698508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7013520" y="50086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793440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7962840" y="50086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698508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7013520" y="46134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793440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7962840" y="4613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38040" y="57513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réaliser des pannes continues (sur 3 appuis par exe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38040" y="5354640"/>
            <a:ext cx="6297840" cy="3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changer de type de profilé (H au lieu de I par exe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38040" y="4959360"/>
            <a:ext cx="6297840" cy="31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augmenter la section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338040" y="4564080"/>
            <a:ext cx="6297840" cy="31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 n’y aucune autr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7" name=""/>
          <p:cNvGrpSpPr/>
          <p:nvPr/>
        </p:nvGrpSpPr>
        <p:grpSpPr>
          <a:xfrm>
            <a:off x="2046240" y="1169640"/>
            <a:ext cx="4932360" cy="3208320"/>
            <a:chOff x="2046240" y="1169640"/>
            <a:chExt cx="4932360" cy="3208320"/>
          </a:xfrm>
        </p:grpSpPr>
        <p:grpSp>
          <p:nvGrpSpPr>
            <p:cNvPr id="5238" name=""/>
            <p:cNvGrpSpPr/>
            <p:nvPr/>
          </p:nvGrpSpPr>
          <p:grpSpPr>
            <a:xfrm>
              <a:off x="2046240" y="2516040"/>
              <a:ext cx="4932360" cy="1861920"/>
              <a:chOff x="2046240" y="2516040"/>
              <a:chExt cx="4932360" cy="1861920"/>
            </a:xfrm>
          </p:grpSpPr>
          <p:grpSp>
            <p:nvGrpSpPr>
              <p:cNvPr id="5239" name=""/>
              <p:cNvGrpSpPr/>
              <p:nvPr/>
            </p:nvGrpSpPr>
            <p:grpSpPr>
              <a:xfrm>
                <a:off x="5396400" y="2799720"/>
                <a:ext cx="1294560" cy="1292400"/>
                <a:chOff x="5396400" y="2799720"/>
                <a:chExt cx="1294560" cy="129240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6549120" y="279972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6265080" y="3081240"/>
                  <a:ext cx="142200" cy="143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5972760" y="3370320"/>
                  <a:ext cx="14220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5685480" y="3656160"/>
                  <a:ext cx="1458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5396400" y="3949920"/>
                  <a:ext cx="14148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5" name=""/>
              <p:cNvGrpSpPr/>
              <p:nvPr/>
            </p:nvGrpSpPr>
            <p:grpSpPr>
              <a:xfrm>
                <a:off x="2340720" y="2798640"/>
                <a:ext cx="1290960" cy="1285920"/>
                <a:chOff x="2340720" y="2798640"/>
                <a:chExt cx="1290960" cy="1285920"/>
              </a:xfrm>
            </p:grpSpPr>
            <p:sp>
              <p:nvSpPr>
                <p:cNvPr id="5246" name=""/>
                <p:cNvSpPr/>
                <p:nvPr/>
              </p:nvSpPr>
              <p:spPr>
                <a:xfrm>
                  <a:off x="3489840" y="2798640"/>
                  <a:ext cx="141840" cy="141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3204000" y="3082680"/>
                  <a:ext cx="141840" cy="143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2917440" y="337032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2625120" y="3657240"/>
                  <a:ext cx="14256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2340720" y="39423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1" name=""/>
              <p:cNvGrpSpPr/>
              <p:nvPr/>
            </p:nvGrpSpPr>
            <p:grpSpPr>
              <a:xfrm>
                <a:off x="3772440" y="2516040"/>
                <a:ext cx="3206160" cy="144000"/>
                <a:chOff x="3772440" y="2516040"/>
                <a:chExt cx="3206160" cy="144000"/>
              </a:xfrm>
            </p:grpSpPr>
            <p:sp>
              <p:nvSpPr>
                <p:cNvPr id="5252" name=""/>
                <p:cNvSpPr/>
                <p:nvPr/>
              </p:nvSpPr>
              <p:spPr>
                <a:xfrm>
                  <a:off x="6836760" y="251640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3772440" y="251640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5830920" y="2516040"/>
                  <a:ext cx="142200" cy="142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4281480" y="25178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477108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5305320" y="251604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6336000" y="25174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9" name=""/>
              <p:cNvGrpSpPr/>
              <p:nvPr/>
            </p:nvGrpSpPr>
            <p:grpSpPr>
              <a:xfrm>
                <a:off x="2046240" y="4234320"/>
                <a:ext cx="3205440" cy="143640"/>
                <a:chOff x="2046240" y="4234320"/>
                <a:chExt cx="3205440" cy="143640"/>
              </a:xfrm>
            </p:grpSpPr>
            <p:sp>
              <p:nvSpPr>
                <p:cNvPr id="5260" name=""/>
                <p:cNvSpPr/>
                <p:nvPr/>
              </p:nvSpPr>
              <p:spPr>
                <a:xfrm>
                  <a:off x="204624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5109480" y="4234320"/>
                  <a:ext cx="142200" cy="1429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>
                  <a:off x="255240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"/>
                <p:cNvSpPr/>
                <p:nvPr/>
              </p:nvSpPr>
              <p:spPr>
                <a:xfrm>
                  <a:off x="304452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4105080" y="423576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>
                  <a:off x="4617360" y="4234680"/>
                  <a:ext cx="141840" cy="142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6" name=""/>
            <p:cNvSpPr/>
            <p:nvPr/>
          </p:nvSpPr>
          <p:spPr>
            <a:xfrm>
              <a:off x="3137040" y="2989440"/>
              <a:ext cx="0" cy="780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7" name=""/>
            <p:cNvGrpSpPr/>
            <p:nvPr/>
          </p:nvGrpSpPr>
          <p:grpSpPr>
            <a:xfrm>
              <a:off x="3137040" y="2979720"/>
              <a:ext cx="1055520" cy="434880"/>
              <a:chOff x="3137040" y="2979720"/>
              <a:chExt cx="1055520" cy="434880"/>
            </a:xfrm>
          </p:grpSpPr>
          <p:sp>
            <p:nvSpPr>
              <p:cNvPr id="5268" name=""/>
              <p:cNvSpPr/>
              <p:nvPr/>
            </p:nvSpPr>
            <p:spPr>
              <a:xfrm>
                <a:off x="3137040" y="2979720"/>
                <a:ext cx="532440" cy="43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 flipV="1">
                <a:off x="3668040" y="2985480"/>
                <a:ext cx="524520" cy="428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3664080" y="2895480"/>
              <a:ext cx="0" cy="515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1" name=""/>
            <p:cNvGrpSpPr/>
            <p:nvPr/>
          </p:nvGrpSpPr>
          <p:grpSpPr>
            <a:xfrm>
              <a:off x="3867120" y="1406520"/>
              <a:ext cx="3060720" cy="1079640"/>
              <a:chOff x="3867120" y="1406520"/>
              <a:chExt cx="3060720" cy="1079640"/>
            </a:xfrm>
          </p:grpSpPr>
          <p:sp>
            <p:nvSpPr>
              <p:cNvPr id="5272" name=""/>
              <p:cNvSpPr/>
              <p:nvPr/>
            </p:nvSpPr>
            <p:spPr>
              <a:xfrm>
                <a:off x="3867120" y="140652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867480" y="16995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 flipV="1">
                <a:off x="3867840" y="2217600"/>
                <a:ext cx="3054960" cy="12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V="1">
                <a:off x="3868560" y="1988280"/>
                <a:ext cx="3050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869640" y="2486160"/>
                <a:ext cx="30582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7" name=""/>
            <p:cNvGrpSpPr/>
            <p:nvPr/>
          </p:nvGrpSpPr>
          <p:grpSpPr>
            <a:xfrm>
              <a:off x="2135160" y="1695600"/>
              <a:ext cx="1731960" cy="2507760"/>
              <a:chOff x="2135160" y="1695600"/>
              <a:chExt cx="1731960" cy="2507760"/>
            </a:xfrm>
          </p:grpSpPr>
          <p:sp>
            <p:nvSpPr>
              <p:cNvPr id="5278" name=""/>
              <p:cNvSpPr/>
              <p:nvPr/>
            </p:nvSpPr>
            <p:spPr>
              <a:xfrm flipV="1">
                <a:off x="2138760" y="1695600"/>
                <a:ext cx="1726920" cy="1717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V="1">
                <a:off x="2135160" y="1990440"/>
                <a:ext cx="1730880" cy="1707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V="1">
                <a:off x="2136240" y="2227320"/>
                <a:ext cx="1730880" cy="17254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V="1">
                <a:off x="2136240" y="2482920"/>
                <a:ext cx="1728360" cy="1720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2" name=""/>
            <p:cNvGrpSpPr/>
            <p:nvPr/>
          </p:nvGrpSpPr>
          <p:grpSpPr>
            <a:xfrm>
              <a:off x="2130480" y="1169640"/>
              <a:ext cx="4787640" cy="3027240"/>
              <a:chOff x="2130480" y="1169640"/>
              <a:chExt cx="4787640" cy="3027240"/>
            </a:xfrm>
          </p:grpSpPr>
          <p:grpSp>
            <p:nvGrpSpPr>
              <p:cNvPr id="5283" name=""/>
              <p:cNvGrpSpPr/>
              <p:nvPr/>
            </p:nvGrpSpPr>
            <p:grpSpPr>
              <a:xfrm>
                <a:off x="2130480" y="2901600"/>
                <a:ext cx="3063960" cy="1295280"/>
                <a:chOff x="2130480" y="2901600"/>
                <a:chExt cx="3063960" cy="1295280"/>
              </a:xfrm>
            </p:grpSpPr>
            <p:sp>
              <p:nvSpPr>
                <p:cNvPr id="5284" name=""/>
                <p:cNvSpPr/>
                <p:nvPr/>
              </p:nvSpPr>
              <p:spPr>
                <a:xfrm flipV="1">
                  <a:off x="2131920" y="2901600"/>
                  <a:ext cx="152856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H="1" flipV="1">
                  <a:off x="3664440" y="2902680"/>
                  <a:ext cx="1530000" cy="237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V="1">
                  <a:off x="213048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V="1">
                  <a:off x="5190120" y="313560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8" name=""/>
              <p:cNvGrpSpPr/>
              <p:nvPr/>
            </p:nvGrpSpPr>
            <p:grpSpPr>
              <a:xfrm>
                <a:off x="3864600" y="1169640"/>
                <a:ext cx="3053520" cy="1320480"/>
                <a:chOff x="3864600" y="1169640"/>
                <a:chExt cx="3053520" cy="1320480"/>
              </a:xfrm>
            </p:grpSpPr>
            <p:sp>
              <p:nvSpPr>
                <p:cNvPr id="5289" name=""/>
                <p:cNvSpPr/>
                <p:nvPr/>
              </p:nvSpPr>
              <p:spPr>
                <a:xfrm flipV="1">
                  <a:off x="3865320" y="1404720"/>
                  <a:ext cx="1080" cy="1085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 flipV="1">
                  <a:off x="6917760" y="1402560"/>
                  <a:ext cx="0" cy="106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 flipV="1">
                  <a:off x="3864600" y="1169640"/>
                  <a:ext cx="152856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H="1" flipV="1">
                  <a:off x="5388120" y="1170720"/>
                  <a:ext cx="153000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3" name=""/>
            <p:cNvGrpSpPr/>
            <p:nvPr/>
          </p:nvGrpSpPr>
          <p:grpSpPr>
            <a:xfrm>
              <a:off x="2138400" y="1174680"/>
              <a:ext cx="4784040" cy="3046320"/>
              <a:chOff x="2138400" y="1174680"/>
              <a:chExt cx="4784040" cy="3046320"/>
            </a:xfrm>
          </p:grpSpPr>
          <p:grpSp>
            <p:nvGrpSpPr>
              <p:cNvPr id="5294" name=""/>
              <p:cNvGrpSpPr/>
              <p:nvPr/>
            </p:nvGrpSpPr>
            <p:grpSpPr>
              <a:xfrm>
                <a:off x="3864600" y="1174680"/>
                <a:ext cx="3057840" cy="1320120"/>
                <a:chOff x="3864600" y="1174680"/>
                <a:chExt cx="3057840" cy="1320120"/>
              </a:xfrm>
            </p:grpSpPr>
            <p:sp>
              <p:nvSpPr>
                <p:cNvPr id="5295" name=""/>
                <p:cNvSpPr/>
                <p:nvPr/>
              </p:nvSpPr>
              <p:spPr>
                <a:xfrm>
                  <a:off x="6424560" y="1334880"/>
                  <a:ext cx="0" cy="115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H="1">
                  <a:off x="6921360" y="1406880"/>
                  <a:ext cx="1080" cy="1087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5920560" y="1254240"/>
                  <a:ext cx="0" cy="1236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5392440" y="1174680"/>
                  <a:ext cx="0" cy="131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4862160" y="1257480"/>
                  <a:ext cx="0" cy="12333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 flipH="1">
                  <a:off x="3864600" y="1401840"/>
                  <a:ext cx="2520" cy="1084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4373640" y="1333440"/>
                  <a:ext cx="0" cy="115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2" name=""/>
              <p:cNvGrpSpPr/>
              <p:nvPr/>
            </p:nvGrpSpPr>
            <p:grpSpPr>
              <a:xfrm>
                <a:off x="2138400" y="2910960"/>
                <a:ext cx="3060360" cy="1310040"/>
                <a:chOff x="2138400" y="2910960"/>
                <a:chExt cx="3060360" cy="1310040"/>
              </a:xfrm>
            </p:grpSpPr>
            <p:sp>
              <p:nvSpPr>
                <p:cNvPr id="5303" name=""/>
                <p:cNvSpPr/>
                <p:nvPr/>
              </p:nvSpPr>
              <p:spPr>
                <a:xfrm flipH="1">
                  <a:off x="3668760" y="2910960"/>
                  <a:ext cx="1080" cy="509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4709160" y="3073680"/>
                  <a:ext cx="0" cy="1147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5198760" y="3146040"/>
                  <a:ext cx="0" cy="1064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4198680" y="2996280"/>
                  <a:ext cx="0" cy="1219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3139920" y="2989800"/>
                  <a:ext cx="0" cy="1226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2138400" y="3148560"/>
                  <a:ext cx="720" cy="10659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2651400" y="3069720"/>
                  <a:ext cx="0" cy="1146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0" name=""/>
            <p:cNvGrpSpPr/>
            <p:nvPr/>
          </p:nvGrpSpPr>
          <p:grpSpPr>
            <a:xfrm>
              <a:off x="2130480" y="1401480"/>
              <a:ext cx="4792680" cy="2803680"/>
              <a:chOff x="2130480" y="1401480"/>
              <a:chExt cx="4792680" cy="2803680"/>
            </a:xfrm>
          </p:grpSpPr>
          <p:grpSp>
            <p:nvGrpSpPr>
              <p:cNvPr id="5311" name=""/>
              <p:cNvGrpSpPr/>
              <p:nvPr/>
            </p:nvGrpSpPr>
            <p:grpSpPr>
              <a:xfrm>
                <a:off x="2130480" y="1401480"/>
                <a:ext cx="4790520" cy="2803680"/>
                <a:chOff x="2130480" y="1401480"/>
                <a:chExt cx="4790520" cy="2803680"/>
              </a:xfrm>
            </p:grpSpPr>
            <p:grpSp>
              <p:nvGrpSpPr>
                <p:cNvPr id="5312" name=""/>
                <p:cNvGrpSpPr/>
                <p:nvPr/>
              </p:nvGrpSpPr>
              <p:grpSpPr>
                <a:xfrm>
                  <a:off x="5178240" y="2846520"/>
                  <a:ext cx="301320" cy="1352880"/>
                  <a:chOff x="5178240" y="2846520"/>
                  <a:chExt cx="301320" cy="1352880"/>
                </a:xfrm>
              </p:grpSpPr>
              <p:sp>
                <p:nvSpPr>
                  <p:cNvPr id="5313" name=""/>
                  <p:cNvSpPr/>
                  <p:nvPr/>
                </p:nvSpPr>
                <p:spPr>
                  <a:xfrm flipV="1">
                    <a:off x="5190840" y="3408480"/>
                    <a:ext cx="288360" cy="790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4" name=""/>
                  <p:cNvSpPr/>
                  <p:nvPr/>
                </p:nvSpPr>
                <p:spPr>
                  <a:xfrm flipH="1" flipV="1">
                    <a:off x="5185440" y="3130560"/>
                    <a:ext cx="293400" cy="27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5" name=""/>
                  <p:cNvSpPr/>
                  <p:nvPr/>
                </p:nvSpPr>
                <p:spPr>
                  <a:xfrm flipH="1" flipV="1">
                    <a:off x="5190480" y="3691080"/>
                    <a:ext cx="288360" cy="219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6" name=""/>
                  <p:cNvSpPr/>
                  <p:nvPr/>
                </p:nvSpPr>
                <p:spPr>
                  <a:xfrm flipV="1">
                    <a:off x="5190840" y="2846520"/>
                    <a:ext cx="288360" cy="83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7" name=""/>
                  <p:cNvSpPr/>
                  <p:nvPr/>
                </p:nvSpPr>
                <p:spPr>
                  <a:xfrm flipV="1">
                    <a:off x="5178240" y="2858040"/>
                    <a:ext cx="288360" cy="288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8" name=""/>
                  <p:cNvSpPr/>
                  <p:nvPr/>
                </p:nvSpPr>
                <p:spPr>
                  <a:xfrm>
                    <a:off x="5191200" y="3131280"/>
                    <a:ext cx="0" cy="1063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9" name=""/>
                  <p:cNvSpPr/>
                  <p:nvPr/>
                </p:nvSpPr>
                <p:spPr>
                  <a:xfrm>
                    <a:off x="5479560" y="2852280"/>
                    <a:ext cx="0" cy="1064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20" name=""/>
                <p:cNvGrpSpPr/>
                <p:nvPr/>
              </p:nvGrpSpPr>
              <p:grpSpPr>
                <a:xfrm>
                  <a:off x="2130480" y="2853720"/>
                  <a:ext cx="289440" cy="1351440"/>
                  <a:chOff x="2130480" y="2853720"/>
                  <a:chExt cx="289440" cy="1351440"/>
                </a:xfrm>
              </p:grpSpPr>
              <p:sp>
                <p:nvSpPr>
                  <p:cNvPr id="5321" name=""/>
                  <p:cNvSpPr/>
                  <p:nvPr/>
                </p:nvSpPr>
                <p:spPr>
                  <a:xfrm flipV="1">
                    <a:off x="2131560" y="3411720"/>
                    <a:ext cx="288000" cy="790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2" name=""/>
                  <p:cNvSpPr/>
                  <p:nvPr/>
                </p:nvSpPr>
                <p:spPr>
                  <a:xfrm flipH="1" flipV="1">
                    <a:off x="2131560" y="3141360"/>
                    <a:ext cx="285840" cy="266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3" name=""/>
                  <p:cNvSpPr/>
                  <p:nvPr/>
                </p:nvSpPr>
                <p:spPr>
                  <a:xfrm flipH="1" flipV="1">
                    <a:off x="2130480" y="3700080"/>
                    <a:ext cx="288000" cy="2149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4" name=""/>
                  <p:cNvSpPr/>
                  <p:nvPr/>
                </p:nvSpPr>
                <p:spPr>
                  <a:xfrm flipV="1">
                    <a:off x="2131560" y="2853720"/>
                    <a:ext cx="286920" cy="841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5" name=""/>
                  <p:cNvSpPr/>
                  <p:nvPr/>
                </p:nvSpPr>
                <p:spPr>
                  <a:xfrm flipV="1">
                    <a:off x="2133360" y="285372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6" name=""/>
                  <p:cNvSpPr/>
                  <p:nvPr/>
                </p:nvSpPr>
                <p:spPr>
                  <a:xfrm>
                    <a:off x="2131920" y="314208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7" name=""/>
                  <p:cNvSpPr/>
                  <p:nvPr/>
                </p:nvSpPr>
                <p:spPr>
                  <a:xfrm flipH="1">
                    <a:off x="2418840" y="2862720"/>
                    <a:ext cx="1080" cy="10508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28" name=""/>
                <p:cNvGrpSpPr/>
                <p:nvPr/>
              </p:nvGrpSpPr>
              <p:grpSpPr>
                <a:xfrm>
                  <a:off x="6630120" y="1401480"/>
                  <a:ext cx="290880" cy="1371240"/>
                  <a:chOff x="6630120" y="1401480"/>
                  <a:chExt cx="290880" cy="1371240"/>
                </a:xfrm>
              </p:grpSpPr>
              <p:sp>
                <p:nvSpPr>
                  <p:cNvPr id="5329" name=""/>
                  <p:cNvSpPr/>
                  <p:nvPr/>
                </p:nvSpPr>
                <p:spPr>
                  <a:xfrm flipV="1">
                    <a:off x="6632280" y="1983240"/>
                    <a:ext cx="285840" cy="785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0" name=""/>
                  <p:cNvSpPr/>
                  <p:nvPr/>
                </p:nvSpPr>
                <p:spPr>
                  <a:xfrm flipH="1" flipV="1">
                    <a:off x="6630120" y="1691640"/>
                    <a:ext cx="287280" cy="29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1" name=""/>
                  <p:cNvSpPr/>
                  <p:nvPr/>
                </p:nvSpPr>
                <p:spPr>
                  <a:xfrm flipH="1" flipV="1">
                    <a:off x="6632280" y="2265840"/>
                    <a:ext cx="285840" cy="216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2" name=""/>
                  <p:cNvSpPr/>
                  <p:nvPr/>
                </p:nvSpPr>
                <p:spPr>
                  <a:xfrm flipV="1">
                    <a:off x="6631200" y="1403280"/>
                    <a:ext cx="28332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"/>
                  <p:cNvSpPr/>
                  <p:nvPr/>
                </p:nvSpPr>
                <p:spPr>
                  <a:xfrm flipV="1">
                    <a:off x="6630480" y="1401480"/>
                    <a:ext cx="289800" cy="294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"/>
                  <p:cNvSpPr/>
                  <p:nvPr/>
                </p:nvSpPr>
                <p:spPr>
                  <a:xfrm>
                    <a:off x="6634080" y="1686960"/>
                    <a:ext cx="0" cy="108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5" name=""/>
                  <p:cNvSpPr/>
                  <p:nvPr/>
                </p:nvSpPr>
                <p:spPr>
                  <a:xfrm flipH="1">
                    <a:off x="6919920" y="1406880"/>
                    <a:ext cx="1080" cy="1076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6" name=""/>
                <p:cNvGrpSpPr/>
                <p:nvPr/>
              </p:nvGrpSpPr>
              <p:grpSpPr>
                <a:xfrm>
                  <a:off x="3573360" y="1403280"/>
                  <a:ext cx="288000" cy="1365480"/>
                  <a:chOff x="3573360" y="1403280"/>
                  <a:chExt cx="288000" cy="1365480"/>
                </a:xfrm>
              </p:grpSpPr>
              <p:sp>
                <p:nvSpPr>
                  <p:cNvPr id="5337" name=""/>
                  <p:cNvSpPr/>
                  <p:nvPr/>
                </p:nvSpPr>
                <p:spPr>
                  <a:xfrm flipV="1">
                    <a:off x="3573360" y="1987200"/>
                    <a:ext cx="286920" cy="781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"/>
                  <p:cNvSpPr/>
                  <p:nvPr/>
                </p:nvSpPr>
                <p:spPr>
                  <a:xfrm flipH="1" flipV="1">
                    <a:off x="3574440" y="1695240"/>
                    <a:ext cx="284400" cy="289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"/>
                  <p:cNvSpPr/>
                  <p:nvPr/>
                </p:nvSpPr>
                <p:spPr>
                  <a:xfrm flipH="1" flipV="1">
                    <a:off x="3573360" y="2270880"/>
                    <a:ext cx="288000" cy="2084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"/>
                  <p:cNvSpPr/>
                  <p:nvPr/>
                </p:nvSpPr>
                <p:spPr>
                  <a:xfrm flipV="1">
                    <a:off x="3573360" y="1403640"/>
                    <a:ext cx="288000" cy="86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"/>
                  <p:cNvSpPr/>
                  <p:nvPr/>
                </p:nvSpPr>
                <p:spPr>
                  <a:xfrm flipV="1">
                    <a:off x="3574800" y="1404000"/>
                    <a:ext cx="282960" cy="284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2" name=""/>
                  <p:cNvSpPr/>
                  <p:nvPr/>
                </p:nvSpPr>
                <p:spPr>
                  <a:xfrm>
                    <a:off x="3573720" y="1701360"/>
                    <a:ext cx="0" cy="1063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3" name=""/>
                  <p:cNvSpPr/>
                  <p:nvPr/>
                </p:nvSpPr>
                <p:spPr>
                  <a:xfrm>
                    <a:off x="3859200" y="1403280"/>
                    <a:ext cx="1080" cy="10774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44" name=""/>
              <p:cNvGrpSpPr/>
              <p:nvPr/>
            </p:nvGrpSpPr>
            <p:grpSpPr>
              <a:xfrm>
                <a:off x="2133720" y="1982520"/>
                <a:ext cx="4789440" cy="1716480"/>
                <a:chOff x="2133720" y="1982520"/>
                <a:chExt cx="4789440" cy="1716480"/>
              </a:xfrm>
            </p:grpSpPr>
            <p:sp>
              <p:nvSpPr>
                <p:cNvPr id="5345" name=""/>
                <p:cNvSpPr/>
                <p:nvPr/>
              </p:nvSpPr>
              <p:spPr>
                <a:xfrm flipV="1">
                  <a:off x="5194080" y="340596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6" name=""/>
                <p:cNvSpPr/>
                <p:nvPr/>
              </p:nvSpPr>
              <p:spPr>
                <a:xfrm flipV="1">
                  <a:off x="2133720" y="3412800"/>
                  <a:ext cx="28800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 flipV="1">
                  <a:off x="6639840" y="1982520"/>
                  <a:ext cx="28332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 flipV="1">
                  <a:off x="3578040" y="1987920"/>
                  <a:ext cx="28548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9" name=""/>
            <p:cNvGrpSpPr/>
            <p:nvPr/>
          </p:nvGrpSpPr>
          <p:grpSpPr>
            <a:xfrm>
              <a:off x="2425680" y="1460160"/>
              <a:ext cx="4211640" cy="2452680"/>
              <a:chOff x="2425680" y="1460160"/>
              <a:chExt cx="4211640" cy="2452680"/>
            </a:xfrm>
          </p:grpSpPr>
          <p:grpSp>
            <p:nvGrpSpPr>
              <p:cNvPr id="5350" name=""/>
              <p:cNvGrpSpPr/>
              <p:nvPr/>
            </p:nvGrpSpPr>
            <p:grpSpPr>
              <a:xfrm>
                <a:off x="2425680" y="2616120"/>
                <a:ext cx="3058560" cy="1296720"/>
                <a:chOff x="2425680" y="2616120"/>
                <a:chExt cx="3058560" cy="1296720"/>
              </a:xfrm>
            </p:grpSpPr>
            <p:sp>
              <p:nvSpPr>
                <p:cNvPr id="5351" name=""/>
                <p:cNvSpPr/>
                <p:nvPr/>
              </p:nvSpPr>
              <p:spPr>
                <a:xfrm flipV="1">
                  <a:off x="242568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 flipV="1">
                  <a:off x="242568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 flipV="1">
                  <a:off x="5484240" y="2851920"/>
                  <a:ext cx="0" cy="106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 flipH="1" flipV="1">
                  <a:off x="3954960" y="2616120"/>
                  <a:ext cx="1529280" cy="235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5" name=""/>
              <p:cNvGrpSpPr/>
              <p:nvPr/>
            </p:nvGrpSpPr>
            <p:grpSpPr>
              <a:xfrm>
                <a:off x="2713680" y="1460160"/>
                <a:ext cx="3923640" cy="2173680"/>
                <a:chOff x="2713680" y="1460160"/>
                <a:chExt cx="3923640" cy="2173680"/>
              </a:xfrm>
            </p:grpSpPr>
            <p:grpSp>
              <p:nvGrpSpPr>
                <p:cNvPr id="5356" name=""/>
                <p:cNvGrpSpPr/>
                <p:nvPr/>
              </p:nvGrpSpPr>
              <p:grpSpPr>
                <a:xfrm>
                  <a:off x="2713680" y="2327040"/>
                  <a:ext cx="3058920" cy="1306800"/>
                  <a:chOff x="2713680" y="2327040"/>
                  <a:chExt cx="3058920" cy="1306800"/>
                </a:xfrm>
              </p:grpSpPr>
              <p:sp>
                <p:nvSpPr>
                  <p:cNvPr id="5357" name=""/>
                  <p:cNvSpPr/>
                  <p:nvPr/>
                </p:nvSpPr>
                <p:spPr>
                  <a:xfrm flipV="1">
                    <a:off x="2713680" y="2563920"/>
                    <a:ext cx="0" cy="10663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 flipV="1">
                    <a:off x="2713680" y="2327040"/>
                    <a:ext cx="152964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"/>
                  <p:cNvSpPr/>
                  <p:nvPr/>
                </p:nvSpPr>
                <p:spPr>
                  <a:xfrm flipV="1">
                    <a:off x="5772600" y="2563560"/>
                    <a:ext cx="0" cy="10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"/>
                  <p:cNvSpPr/>
                  <p:nvPr/>
                </p:nvSpPr>
                <p:spPr>
                  <a:xfrm flipH="1" flipV="1">
                    <a:off x="4243320" y="2327040"/>
                    <a:ext cx="1529280" cy="236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1" name=""/>
                <p:cNvGrpSpPr/>
                <p:nvPr/>
              </p:nvGrpSpPr>
              <p:grpSpPr>
                <a:xfrm>
                  <a:off x="3000600" y="2038320"/>
                  <a:ext cx="3060360" cy="1303920"/>
                  <a:chOff x="3000600" y="2038320"/>
                  <a:chExt cx="3060360" cy="1303920"/>
                </a:xfrm>
              </p:grpSpPr>
              <p:sp>
                <p:nvSpPr>
                  <p:cNvPr id="5362" name=""/>
                  <p:cNvSpPr/>
                  <p:nvPr/>
                </p:nvSpPr>
                <p:spPr>
                  <a:xfrm flipV="1">
                    <a:off x="300060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 flipV="1">
                    <a:off x="300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 flipV="1">
                    <a:off x="6060960" y="2274840"/>
                    <a:ext cx="0" cy="10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"/>
                  <p:cNvSpPr/>
                  <p:nvPr/>
                </p:nvSpPr>
                <p:spPr>
                  <a:xfrm flipH="1" flipV="1">
                    <a:off x="4530600" y="2038320"/>
                    <a:ext cx="1530000" cy="2368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6" name=""/>
                <p:cNvGrpSpPr/>
                <p:nvPr/>
              </p:nvGrpSpPr>
              <p:grpSpPr>
                <a:xfrm>
                  <a:off x="3290040" y="1749240"/>
                  <a:ext cx="3058920" cy="1305360"/>
                  <a:chOff x="3290040" y="1749240"/>
                  <a:chExt cx="3058920" cy="1305360"/>
                </a:xfrm>
              </p:grpSpPr>
              <p:sp>
                <p:nvSpPr>
                  <p:cNvPr id="5367" name=""/>
                  <p:cNvSpPr/>
                  <p:nvPr/>
                </p:nvSpPr>
                <p:spPr>
                  <a:xfrm flipV="1">
                    <a:off x="329004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8" name=""/>
                  <p:cNvSpPr/>
                  <p:nvPr/>
                </p:nvSpPr>
                <p:spPr>
                  <a:xfrm flipV="1">
                    <a:off x="3290040" y="1749240"/>
                    <a:ext cx="152928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 flipV="1">
                    <a:off x="6348960" y="1986480"/>
                    <a:ext cx="0" cy="1068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 flipH="1" flipV="1">
                    <a:off x="4818960" y="1749240"/>
                    <a:ext cx="1529640" cy="237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1" name=""/>
                <p:cNvGrpSpPr/>
                <p:nvPr/>
              </p:nvGrpSpPr>
              <p:grpSpPr>
                <a:xfrm>
                  <a:off x="3578760" y="1460160"/>
                  <a:ext cx="3058560" cy="1313280"/>
                  <a:chOff x="3578760" y="1460160"/>
                  <a:chExt cx="3058560" cy="1313280"/>
                </a:xfrm>
              </p:grpSpPr>
              <p:sp>
                <p:nvSpPr>
                  <p:cNvPr id="5372" name=""/>
                  <p:cNvSpPr/>
                  <p:nvPr/>
                </p:nvSpPr>
                <p:spPr>
                  <a:xfrm flipV="1">
                    <a:off x="357876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"/>
                  <p:cNvSpPr/>
                  <p:nvPr/>
                </p:nvSpPr>
                <p:spPr>
                  <a:xfrm flipV="1">
                    <a:off x="357876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"/>
                  <p:cNvSpPr/>
                  <p:nvPr/>
                </p:nvSpPr>
                <p:spPr>
                  <a:xfrm flipV="1">
                    <a:off x="6637320" y="1699200"/>
                    <a:ext cx="0" cy="10742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 flipH="1" flipV="1">
                    <a:off x="5108040" y="1460160"/>
                    <a:ext cx="1529280" cy="2386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376" name=""/>
            <p:cNvGrpSpPr/>
            <p:nvPr/>
          </p:nvGrpSpPr>
          <p:grpSpPr>
            <a:xfrm>
              <a:off x="2125800" y="1171080"/>
              <a:ext cx="4795560" cy="1970280"/>
              <a:chOff x="2125800" y="1171080"/>
              <a:chExt cx="4795560" cy="1970280"/>
            </a:xfrm>
          </p:grpSpPr>
          <p:grpSp>
            <p:nvGrpSpPr>
              <p:cNvPr id="5377" name=""/>
              <p:cNvGrpSpPr/>
              <p:nvPr/>
            </p:nvGrpSpPr>
            <p:grpSpPr>
              <a:xfrm>
                <a:off x="3575520" y="1171080"/>
                <a:ext cx="3345840" cy="525600"/>
                <a:chOff x="3575520" y="1171080"/>
                <a:chExt cx="3345840" cy="525600"/>
              </a:xfrm>
            </p:grpSpPr>
            <p:sp>
              <p:nvSpPr>
                <p:cNvPr id="5378" name=""/>
                <p:cNvSpPr/>
                <p:nvPr/>
              </p:nvSpPr>
              <p:spPr>
                <a:xfrm flipV="1">
                  <a:off x="6638400" y="14040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9" name=""/>
                <p:cNvSpPr/>
                <p:nvPr/>
              </p:nvSpPr>
              <p:spPr>
                <a:xfrm flipV="1">
                  <a:off x="5107320" y="1171080"/>
                  <a:ext cx="286920" cy="289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0" name=""/>
                <p:cNvSpPr/>
                <p:nvPr/>
              </p:nvSpPr>
              <p:spPr>
                <a:xfrm flipV="1">
                  <a:off x="5635800" y="125244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1" name=""/>
                <p:cNvSpPr/>
                <p:nvPr/>
              </p:nvSpPr>
              <p:spPr>
                <a:xfrm flipV="1">
                  <a:off x="3576240" y="1407240"/>
                  <a:ext cx="28944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2" name=""/>
                <p:cNvSpPr/>
                <p:nvPr/>
              </p:nvSpPr>
              <p:spPr>
                <a:xfrm flipV="1">
                  <a:off x="4086000" y="1330200"/>
                  <a:ext cx="282960" cy="283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3" name=""/>
                <p:cNvSpPr/>
                <p:nvPr/>
              </p:nvSpPr>
              <p:spPr>
                <a:xfrm flipV="1">
                  <a:off x="4577400" y="125460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4" name=""/>
                <p:cNvGrpSpPr/>
                <p:nvPr/>
              </p:nvGrpSpPr>
              <p:grpSpPr>
                <a:xfrm>
                  <a:off x="3575520" y="1171440"/>
                  <a:ext cx="3342240" cy="525240"/>
                  <a:chOff x="3575520" y="1171440"/>
                  <a:chExt cx="3342240" cy="525240"/>
                </a:xfrm>
              </p:grpSpPr>
              <p:sp>
                <p:nvSpPr>
                  <p:cNvPr id="5385" name=""/>
                  <p:cNvSpPr/>
                  <p:nvPr/>
                </p:nvSpPr>
                <p:spPr>
                  <a:xfrm flipH="1" flipV="1">
                    <a:off x="5392080" y="1171440"/>
                    <a:ext cx="23760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6" name=""/>
                  <p:cNvSpPr/>
                  <p:nvPr/>
                </p:nvSpPr>
                <p:spPr>
                  <a:xfrm flipH="1">
                    <a:off x="4576320" y="1171800"/>
                    <a:ext cx="813960" cy="3690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 flipH="1" flipV="1">
                    <a:off x="6431040" y="1329120"/>
                    <a:ext cx="200880" cy="367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"/>
                  <p:cNvSpPr/>
                  <p:nvPr/>
                </p:nvSpPr>
                <p:spPr>
                  <a:xfrm flipV="1">
                    <a:off x="6137640" y="1404360"/>
                    <a:ext cx="780120" cy="214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"/>
                  <p:cNvSpPr/>
                  <p:nvPr/>
                </p:nvSpPr>
                <p:spPr>
                  <a:xfrm flipH="1" flipV="1">
                    <a:off x="5920920" y="1253160"/>
                    <a:ext cx="216360" cy="367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0" name=""/>
                  <p:cNvSpPr/>
                  <p:nvPr/>
                </p:nvSpPr>
                <p:spPr>
                  <a:xfrm flipH="1">
                    <a:off x="5632560" y="1327320"/>
                    <a:ext cx="799200" cy="214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1" name=""/>
                  <p:cNvSpPr/>
                  <p:nvPr/>
                </p:nvSpPr>
                <p:spPr>
                  <a:xfrm flipH="1">
                    <a:off x="5109480" y="1249200"/>
                    <a:ext cx="811080" cy="2077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2" name=""/>
                  <p:cNvSpPr/>
                  <p:nvPr/>
                </p:nvSpPr>
                <p:spPr>
                  <a:xfrm flipH="1" flipV="1">
                    <a:off x="4861080" y="1255680"/>
                    <a:ext cx="254880" cy="2088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3" name=""/>
                  <p:cNvSpPr/>
                  <p:nvPr/>
                </p:nvSpPr>
                <p:spPr>
                  <a:xfrm flipH="1" flipV="1">
                    <a:off x="4372920" y="1326960"/>
                    <a:ext cx="210600" cy="215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4" name=""/>
                  <p:cNvSpPr/>
                  <p:nvPr/>
                </p:nvSpPr>
                <p:spPr>
                  <a:xfrm flipH="1">
                    <a:off x="4083120" y="1256760"/>
                    <a:ext cx="779040" cy="362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5" name=""/>
                  <p:cNvSpPr/>
                  <p:nvPr/>
                </p:nvSpPr>
                <p:spPr>
                  <a:xfrm flipH="1" flipV="1">
                    <a:off x="3867480" y="1408320"/>
                    <a:ext cx="213480" cy="2091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"/>
                  <p:cNvSpPr/>
                  <p:nvPr/>
                </p:nvSpPr>
                <p:spPr>
                  <a:xfrm flipH="1">
                    <a:off x="3575520" y="1328400"/>
                    <a:ext cx="797400" cy="3657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7" name=""/>
                  <p:cNvSpPr/>
                  <p:nvPr/>
                </p:nvSpPr>
                <p:spPr>
                  <a:xfrm flipV="1">
                    <a:off x="3868200" y="1173240"/>
                    <a:ext cx="1522800" cy="230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8" name=""/>
                  <p:cNvSpPr/>
                  <p:nvPr/>
                </p:nvSpPr>
                <p:spPr>
                  <a:xfrm flipV="1">
                    <a:off x="3589920" y="1457640"/>
                    <a:ext cx="1520640" cy="2350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9" name=""/>
                  <p:cNvSpPr/>
                  <p:nvPr/>
                </p:nvSpPr>
                <p:spPr>
                  <a:xfrm>
                    <a:off x="5108040" y="1456560"/>
                    <a:ext cx="1524960" cy="2401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0" name=""/>
                  <p:cNvSpPr/>
                  <p:nvPr/>
                </p:nvSpPr>
                <p:spPr>
                  <a:xfrm>
                    <a:off x="5397840" y="1171440"/>
                    <a:ext cx="1513440" cy="23256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1" name=""/>
                <p:cNvSpPr/>
                <p:nvPr/>
              </p:nvSpPr>
              <p:spPr>
                <a:xfrm flipV="1">
                  <a:off x="6138720" y="1329120"/>
                  <a:ext cx="290520" cy="291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2" name=""/>
              <p:cNvGrpSpPr/>
              <p:nvPr/>
            </p:nvGrpSpPr>
            <p:grpSpPr>
              <a:xfrm>
                <a:off x="2125800" y="2615040"/>
                <a:ext cx="3347640" cy="526320"/>
                <a:chOff x="2125800" y="2615040"/>
                <a:chExt cx="3347640" cy="526320"/>
              </a:xfrm>
            </p:grpSpPr>
            <p:sp>
              <p:nvSpPr>
                <p:cNvPr id="5403" name=""/>
                <p:cNvSpPr/>
                <p:nvPr/>
              </p:nvSpPr>
              <p:spPr>
                <a:xfrm flipV="1">
                  <a:off x="5185440" y="2850480"/>
                  <a:ext cx="286920" cy="286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4" name=""/>
                <p:cNvSpPr/>
                <p:nvPr/>
              </p:nvSpPr>
              <p:spPr>
                <a:xfrm flipV="1">
                  <a:off x="4188960" y="2697120"/>
                  <a:ext cx="285480" cy="285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 flipV="1">
                  <a:off x="3657960" y="2619360"/>
                  <a:ext cx="281880" cy="281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3655080" y="2901240"/>
                  <a:ext cx="1530000" cy="240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 flipH="1" flipV="1">
                  <a:off x="3943800" y="2617200"/>
                  <a:ext cx="23868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 flipH="1" flipV="1">
                  <a:off x="4983840" y="2776320"/>
                  <a:ext cx="203400" cy="363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 flipV="1">
                  <a:off x="4695840" y="2851560"/>
                  <a:ext cx="772200" cy="212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 flipH="1" flipV="1">
                  <a:off x="4475160" y="2698200"/>
                  <a:ext cx="22140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 flipH="1">
                  <a:off x="4183200" y="2775600"/>
                  <a:ext cx="799200" cy="210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 flipH="1">
                  <a:off x="3656880" y="2697480"/>
                  <a:ext cx="82008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>
                  <a:off x="3948480" y="2615760"/>
                  <a:ext cx="152496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 flipV="1">
                  <a:off x="4697280" y="2775960"/>
                  <a:ext cx="285480" cy="286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5" name=""/>
                <p:cNvSpPr/>
                <p:nvPr/>
              </p:nvSpPr>
              <p:spPr>
                <a:xfrm flipV="1">
                  <a:off x="3130560" y="2694240"/>
                  <a:ext cx="285480" cy="287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6" name=""/>
                <p:cNvSpPr/>
                <p:nvPr/>
              </p:nvSpPr>
              <p:spPr>
                <a:xfrm flipV="1">
                  <a:off x="2639520" y="2769120"/>
                  <a:ext cx="288000" cy="289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7" name=""/>
                <p:cNvSpPr/>
                <p:nvPr/>
              </p:nvSpPr>
              <p:spPr>
                <a:xfrm flipV="1">
                  <a:off x="2134440" y="2901240"/>
                  <a:ext cx="1520280" cy="2376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8" name=""/>
                <p:cNvSpPr/>
                <p:nvPr/>
              </p:nvSpPr>
              <p:spPr>
                <a:xfrm flipV="1">
                  <a:off x="2416320" y="2615400"/>
                  <a:ext cx="1535400" cy="233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9" name=""/>
                <p:cNvSpPr/>
                <p:nvPr/>
              </p:nvSpPr>
              <p:spPr>
                <a:xfrm flipH="1">
                  <a:off x="3128760" y="2615040"/>
                  <a:ext cx="817920" cy="368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 flipH="1" flipV="1">
                  <a:off x="3414240" y="2697480"/>
                  <a:ext cx="239760" cy="203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 flipH="1" flipV="1">
                  <a:off x="2925000" y="2769120"/>
                  <a:ext cx="203040" cy="213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 flipH="1">
                  <a:off x="2641320" y="2701440"/>
                  <a:ext cx="766440" cy="359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 flipH="1" flipV="1">
                  <a:off x="2417040" y="2849400"/>
                  <a:ext cx="219960" cy="210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 flipH="1">
                  <a:off x="2129040" y="2771640"/>
                  <a:ext cx="793440" cy="368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 flipV="1">
                  <a:off x="2125800" y="2850480"/>
                  <a:ext cx="290520" cy="290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6" name=""/>
            <p:cNvGrpSpPr/>
            <p:nvPr/>
          </p:nvGrpSpPr>
          <p:grpSpPr>
            <a:xfrm>
              <a:off x="2136600" y="1404720"/>
              <a:ext cx="4784400" cy="1733400"/>
              <a:chOff x="2136600" y="1404720"/>
              <a:chExt cx="4784400" cy="1733400"/>
            </a:xfrm>
          </p:grpSpPr>
          <p:sp>
            <p:nvSpPr>
              <p:cNvPr id="5427" name=""/>
              <p:cNvSpPr/>
              <p:nvPr/>
            </p:nvSpPr>
            <p:spPr>
              <a:xfrm flipV="1">
                <a:off x="5186520" y="1404720"/>
                <a:ext cx="173448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 flipV="1">
                <a:off x="2136600" y="1404720"/>
                <a:ext cx="172944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9" name=""/>
            <p:cNvSpPr/>
            <p:nvPr/>
          </p:nvSpPr>
          <p:spPr>
            <a:xfrm flipV="1">
              <a:off x="3662280" y="1170000"/>
              <a:ext cx="1735200" cy="17272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0" name=""/>
            <p:cNvGrpSpPr/>
            <p:nvPr/>
          </p:nvGrpSpPr>
          <p:grpSpPr>
            <a:xfrm>
              <a:off x="2135160" y="3138480"/>
              <a:ext cx="3059280" cy="1069560"/>
              <a:chOff x="2135160" y="3138480"/>
              <a:chExt cx="3059280" cy="1069560"/>
            </a:xfrm>
          </p:grpSpPr>
          <p:sp>
            <p:nvSpPr>
              <p:cNvPr id="5431" name=""/>
              <p:cNvSpPr/>
              <p:nvPr/>
            </p:nvSpPr>
            <p:spPr>
              <a:xfrm flipV="1">
                <a:off x="4195440" y="4206960"/>
                <a:ext cx="99684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35520" y="3138480"/>
                <a:ext cx="3058920" cy="3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135160" y="3415320"/>
                <a:ext cx="30585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192920" y="3948840"/>
                <a:ext cx="100008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flipV="1">
                <a:off x="2135520" y="3701160"/>
                <a:ext cx="100116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195440" y="3693960"/>
                <a:ext cx="99900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136240" y="3952800"/>
                <a:ext cx="998280" cy="1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37320" y="4205880"/>
                <a:ext cx="99576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9" name=""/>
            <p:cNvGrpSpPr/>
            <p:nvPr/>
          </p:nvGrpSpPr>
          <p:grpSpPr>
            <a:xfrm>
              <a:off x="5192640" y="1699920"/>
              <a:ext cx="1731960" cy="2504880"/>
              <a:chOff x="5192640" y="1699920"/>
              <a:chExt cx="1731960" cy="2504880"/>
            </a:xfrm>
          </p:grpSpPr>
          <p:sp>
            <p:nvSpPr>
              <p:cNvPr id="5440" name=""/>
              <p:cNvSpPr/>
              <p:nvPr/>
            </p:nvSpPr>
            <p:spPr>
              <a:xfrm flipV="1">
                <a:off x="5192640" y="2485800"/>
                <a:ext cx="1731960" cy="17190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5196240" y="1699920"/>
                <a:ext cx="1726920" cy="1716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5194800" y="1986840"/>
                <a:ext cx="1728360" cy="1706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 flipV="1">
                <a:off x="5193720" y="2216520"/>
                <a:ext cx="1729440" cy="173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4" name=""/>
            <p:cNvGrpSpPr/>
            <p:nvPr/>
          </p:nvGrpSpPr>
          <p:grpSpPr>
            <a:xfrm>
              <a:off x="2584440" y="2104920"/>
              <a:ext cx="3930840" cy="1653840"/>
              <a:chOff x="2584440" y="2104920"/>
              <a:chExt cx="3930840" cy="1653840"/>
            </a:xfrm>
          </p:grpSpPr>
          <p:grpSp>
            <p:nvGrpSpPr>
              <p:cNvPr id="5445" name=""/>
              <p:cNvGrpSpPr/>
              <p:nvPr/>
            </p:nvGrpSpPr>
            <p:grpSpPr>
              <a:xfrm>
                <a:off x="2584440" y="2106360"/>
                <a:ext cx="867600" cy="1652400"/>
                <a:chOff x="2584440" y="2106360"/>
                <a:chExt cx="867600" cy="165240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2584440" y="297108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3160800" y="239436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>
                  <a:off x="3452040" y="210636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>
                  <a:off x="2874960" y="268452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0" name=""/>
              <p:cNvGrpSpPr/>
              <p:nvPr/>
            </p:nvGrpSpPr>
            <p:grpSpPr>
              <a:xfrm>
                <a:off x="5646600" y="2104920"/>
                <a:ext cx="868680" cy="1652400"/>
                <a:chOff x="5646600" y="2104920"/>
                <a:chExt cx="868680" cy="1652400"/>
              </a:xfrm>
            </p:grpSpPr>
            <p:sp>
              <p:nvSpPr>
                <p:cNvPr id="5451" name=""/>
                <p:cNvSpPr/>
                <p:nvPr/>
              </p:nvSpPr>
              <p:spPr>
                <a:xfrm>
                  <a:off x="5646600" y="2969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2" name=""/>
                <p:cNvSpPr/>
                <p:nvPr/>
              </p:nvSpPr>
              <p:spPr>
                <a:xfrm>
                  <a:off x="6224040" y="2392920"/>
                  <a:ext cx="0" cy="791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3" name=""/>
                <p:cNvSpPr/>
                <p:nvPr/>
              </p:nvSpPr>
              <p:spPr>
                <a:xfrm>
                  <a:off x="6515280" y="2104920"/>
                  <a:ext cx="0" cy="785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4" name=""/>
                <p:cNvSpPr/>
                <p:nvPr/>
              </p:nvSpPr>
              <p:spPr>
                <a:xfrm>
                  <a:off x="5934240" y="2681640"/>
                  <a:ext cx="0" cy="787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5" name=""/>
            <p:cNvGrpSpPr/>
            <p:nvPr/>
          </p:nvGrpSpPr>
          <p:grpSpPr>
            <a:xfrm>
              <a:off x="2427120" y="1458720"/>
              <a:ext cx="4208040" cy="1509480"/>
              <a:chOff x="2427120" y="1458720"/>
              <a:chExt cx="4208040" cy="1509480"/>
            </a:xfrm>
          </p:grpSpPr>
          <p:grpSp>
            <p:nvGrpSpPr>
              <p:cNvPr id="5456" name=""/>
              <p:cNvGrpSpPr/>
              <p:nvPr/>
            </p:nvGrpSpPr>
            <p:grpSpPr>
              <a:xfrm>
                <a:off x="2427120" y="1702080"/>
                <a:ext cx="4208040" cy="1266120"/>
                <a:chOff x="2427120" y="1702080"/>
                <a:chExt cx="4208040" cy="1266120"/>
              </a:xfrm>
            </p:grpSpPr>
            <p:grpSp>
              <p:nvGrpSpPr>
                <p:cNvPr id="5457" name=""/>
                <p:cNvGrpSpPr/>
                <p:nvPr/>
              </p:nvGrpSpPr>
              <p:grpSpPr>
                <a:xfrm>
                  <a:off x="2427120" y="1703880"/>
                  <a:ext cx="1149840" cy="1264320"/>
                  <a:chOff x="2427120" y="1703880"/>
                  <a:chExt cx="1149840" cy="1264320"/>
                </a:xfrm>
              </p:grpSpPr>
              <p:grpSp>
                <p:nvGrpSpPr>
                  <p:cNvPr id="5458" name=""/>
                  <p:cNvGrpSpPr/>
                  <p:nvPr/>
                </p:nvGrpSpPr>
                <p:grpSpPr>
                  <a:xfrm>
                    <a:off x="2427120" y="2567160"/>
                    <a:ext cx="282960" cy="401040"/>
                    <a:chOff x="2427120" y="2567160"/>
                    <a:chExt cx="282960" cy="401040"/>
                  </a:xfrm>
                </p:grpSpPr>
                <p:sp>
                  <p:nvSpPr>
                    <p:cNvPr id="5459" name=""/>
                    <p:cNvSpPr/>
                    <p:nvPr/>
                  </p:nvSpPr>
                  <p:spPr>
                    <a:xfrm>
                      <a:off x="2427120" y="28515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0" name=""/>
                    <p:cNvSpPr/>
                    <p:nvPr/>
                  </p:nvSpPr>
                  <p:spPr>
                    <a:xfrm flipH="1">
                      <a:off x="2585160" y="25671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1" name=""/>
                  <p:cNvGrpSpPr/>
                  <p:nvPr/>
                </p:nvGrpSpPr>
                <p:grpSpPr>
                  <a:xfrm>
                    <a:off x="2716560" y="2277720"/>
                    <a:ext cx="282960" cy="401040"/>
                    <a:chOff x="2716560" y="2277720"/>
                    <a:chExt cx="282960" cy="401040"/>
                  </a:xfrm>
                </p:grpSpPr>
                <p:sp>
                  <p:nvSpPr>
                    <p:cNvPr id="5462" name=""/>
                    <p:cNvSpPr/>
                    <p:nvPr/>
                  </p:nvSpPr>
                  <p:spPr>
                    <a:xfrm>
                      <a:off x="2716560" y="25621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3" name=""/>
                    <p:cNvSpPr/>
                    <p:nvPr/>
                  </p:nvSpPr>
                  <p:spPr>
                    <a:xfrm flipH="1">
                      <a:off x="2874600" y="22777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4" name=""/>
                  <p:cNvGrpSpPr/>
                  <p:nvPr/>
                </p:nvGrpSpPr>
                <p:grpSpPr>
                  <a:xfrm>
                    <a:off x="3003480" y="1993320"/>
                    <a:ext cx="282960" cy="401040"/>
                    <a:chOff x="3003480" y="1993320"/>
                    <a:chExt cx="282960" cy="401040"/>
                  </a:xfrm>
                </p:grpSpPr>
                <p:sp>
                  <p:nvSpPr>
                    <p:cNvPr id="5465" name=""/>
                    <p:cNvSpPr/>
                    <p:nvPr/>
                  </p:nvSpPr>
                  <p:spPr>
                    <a:xfrm>
                      <a:off x="3003480" y="22777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6" name=""/>
                    <p:cNvSpPr/>
                    <p:nvPr/>
                  </p:nvSpPr>
                  <p:spPr>
                    <a:xfrm flipH="1">
                      <a:off x="3161520" y="19933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7" name=""/>
                  <p:cNvGrpSpPr/>
                  <p:nvPr/>
                </p:nvGrpSpPr>
                <p:grpSpPr>
                  <a:xfrm>
                    <a:off x="3294000" y="1703880"/>
                    <a:ext cx="282960" cy="401040"/>
                    <a:chOff x="3294000" y="1703880"/>
                    <a:chExt cx="282960" cy="401040"/>
                  </a:xfrm>
                </p:grpSpPr>
                <p:sp>
                  <p:nvSpPr>
                    <p:cNvPr id="5468" name=""/>
                    <p:cNvSpPr/>
                    <p:nvPr/>
                  </p:nvSpPr>
                  <p:spPr>
                    <a:xfrm>
                      <a:off x="3294000" y="19882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9" name=""/>
                    <p:cNvSpPr/>
                    <p:nvPr/>
                  </p:nvSpPr>
                  <p:spPr>
                    <a:xfrm flipH="1">
                      <a:off x="3452040" y="17038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470" name=""/>
                <p:cNvGrpSpPr/>
                <p:nvPr/>
              </p:nvGrpSpPr>
              <p:grpSpPr>
                <a:xfrm>
                  <a:off x="5485320" y="1702080"/>
                  <a:ext cx="1149840" cy="1264320"/>
                  <a:chOff x="5485320" y="1702080"/>
                  <a:chExt cx="1149840" cy="1264320"/>
                </a:xfrm>
              </p:grpSpPr>
              <p:grpSp>
                <p:nvGrpSpPr>
                  <p:cNvPr id="5471" name=""/>
                  <p:cNvGrpSpPr/>
                  <p:nvPr/>
                </p:nvGrpSpPr>
                <p:grpSpPr>
                  <a:xfrm>
                    <a:off x="5485320" y="2565360"/>
                    <a:ext cx="282960" cy="401040"/>
                    <a:chOff x="5485320" y="2565360"/>
                    <a:chExt cx="282960" cy="401040"/>
                  </a:xfrm>
                </p:grpSpPr>
                <p:sp>
                  <p:nvSpPr>
                    <p:cNvPr id="5472" name=""/>
                    <p:cNvSpPr/>
                    <p:nvPr/>
                  </p:nvSpPr>
                  <p:spPr>
                    <a:xfrm>
                      <a:off x="5485320" y="284976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3" name=""/>
                    <p:cNvSpPr/>
                    <p:nvPr/>
                  </p:nvSpPr>
                  <p:spPr>
                    <a:xfrm flipH="1">
                      <a:off x="5643360" y="256536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74" name=""/>
                  <p:cNvGrpSpPr/>
                  <p:nvPr/>
                </p:nvGrpSpPr>
                <p:grpSpPr>
                  <a:xfrm>
                    <a:off x="5774760" y="2275920"/>
                    <a:ext cx="282960" cy="401040"/>
                    <a:chOff x="5774760" y="2275920"/>
                    <a:chExt cx="282960" cy="401040"/>
                  </a:xfrm>
                </p:grpSpPr>
                <p:sp>
                  <p:nvSpPr>
                    <p:cNvPr id="5475" name=""/>
                    <p:cNvSpPr/>
                    <p:nvPr/>
                  </p:nvSpPr>
                  <p:spPr>
                    <a:xfrm>
                      <a:off x="5774760" y="25603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6" name=""/>
                    <p:cNvSpPr/>
                    <p:nvPr/>
                  </p:nvSpPr>
                  <p:spPr>
                    <a:xfrm flipH="1">
                      <a:off x="5932800" y="22759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77" name=""/>
                  <p:cNvGrpSpPr/>
                  <p:nvPr/>
                </p:nvGrpSpPr>
                <p:grpSpPr>
                  <a:xfrm>
                    <a:off x="6061680" y="1991520"/>
                    <a:ext cx="282960" cy="401040"/>
                    <a:chOff x="6061680" y="1991520"/>
                    <a:chExt cx="282960" cy="401040"/>
                  </a:xfrm>
                </p:grpSpPr>
                <p:sp>
                  <p:nvSpPr>
                    <p:cNvPr id="5478" name=""/>
                    <p:cNvSpPr/>
                    <p:nvPr/>
                  </p:nvSpPr>
                  <p:spPr>
                    <a:xfrm>
                      <a:off x="6061680" y="227592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9" name=""/>
                    <p:cNvSpPr/>
                    <p:nvPr/>
                  </p:nvSpPr>
                  <p:spPr>
                    <a:xfrm flipH="1">
                      <a:off x="6219720" y="199152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0" name=""/>
                  <p:cNvGrpSpPr/>
                  <p:nvPr/>
                </p:nvGrpSpPr>
                <p:grpSpPr>
                  <a:xfrm>
                    <a:off x="6352200" y="1702080"/>
                    <a:ext cx="282960" cy="401040"/>
                    <a:chOff x="6352200" y="1702080"/>
                    <a:chExt cx="282960" cy="401040"/>
                  </a:xfrm>
                </p:grpSpPr>
                <p:sp>
                  <p:nvSpPr>
                    <p:cNvPr id="5481" name=""/>
                    <p:cNvSpPr/>
                    <p:nvPr/>
                  </p:nvSpPr>
                  <p:spPr>
                    <a:xfrm>
                      <a:off x="6352200" y="1986480"/>
                      <a:ext cx="156960" cy="11520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2" name=""/>
                    <p:cNvSpPr/>
                    <p:nvPr/>
                  </p:nvSpPr>
                  <p:spPr>
                    <a:xfrm flipH="1">
                      <a:off x="6510240" y="1702080"/>
                      <a:ext cx="124920" cy="40104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83" name=""/>
              <p:cNvGrpSpPr/>
              <p:nvPr/>
            </p:nvGrpSpPr>
            <p:grpSpPr>
              <a:xfrm>
                <a:off x="3843000" y="1458720"/>
                <a:ext cx="1398240" cy="1156320"/>
                <a:chOff x="3843000" y="1458720"/>
                <a:chExt cx="1398240" cy="1156320"/>
              </a:xfrm>
            </p:grpSpPr>
            <p:sp>
              <p:nvSpPr>
                <p:cNvPr id="5484" name=""/>
                <p:cNvSpPr/>
                <p:nvPr/>
              </p:nvSpPr>
              <p:spPr>
                <a:xfrm flipH="1" flipV="1">
                  <a:off x="4235040" y="2325960"/>
                  <a:ext cx="140040" cy="170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 flipH="1">
                  <a:off x="3945240" y="2495520"/>
                  <a:ext cx="4323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 flipV="1">
                  <a:off x="3844080" y="2329560"/>
                  <a:ext cx="38736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>
                  <a:off x="3843000" y="2497680"/>
                  <a:ext cx="10116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88" name=""/>
                <p:cNvGrpSpPr/>
                <p:nvPr/>
              </p:nvGrpSpPr>
              <p:grpSpPr>
                <a:xfrm>
                  <a:off x="4133520" y="2036160"/>
                  <a:ext cx="537120" cy="289080"/>
                  <a:chOff x="4133520" y="2036160"/>
                  <a:chExt cx="537120" cy="289080"/>
                </a:xfrm>
              </p:grpSpPr>
              <p:sp>
                <p:nvSpPr>
                  <p:cNvPr id="5489" name=""/>
                  <p:cNvSpPr/>
                  <p:nvPr/>
                </p:nvSpPr>
                <p:spPr>
                  <a:xfrm flipH="1" flipV="1">
                    <a:off x="4528440" y="2036160"/>
                    <a:ext cx="140040" cy="17028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 flipH="1">
                    <a:off x="4238280" y="2205720"/>
                    <a:ext cx="432360" cy="11952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 flipV="1">
                    <a:off x="4133520" y="2039760"/>
                    <a:ext cx="391320" cy="1674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>
                    <a:off x="4136040" y="2207880"/>
                    <a:ext cx="101160" cy="1166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93" name=""/>
                <p:cNvSpPr/>
                <p:nvPr/>
              </p:nvSpPr>
              <p:spPr>
                <a:xfrm flipH="1" flipV="1">
                  <a:off x="4818240" y="1746720"/>
                  <a:ext cx="137520" cy="171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4" name=""/>
                <p:cNvSpPr/>
                <p:nvPr/>
              </p:nvSpPr>
              <p:spPr>
                <a:xfrm flipH="1">
                  <a:off x="4528080" y="1916640"/>
                  <a:ext cx="4287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5" name=""/>
                <p:cNvSpPr/>
                <p:nvPr/>
              </p:nvSpPr>
              <p:spPr>
                <a:xfrm flipV="1">
                  <a:off x="4429440" y="1750680"/>
                  <a:ext cx="38484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>
                  <a:off x="4426920" y="1918440"/>
                  <a:ext cx="10008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7" name=""/>
                <p:cNvSpPr/>
                <p:nvPr/>
              </p:nvSpPr>
              <p:spPr>
                <a:xfrm flipH="1" flipV="1">
                  <a:off x="5107680" y="1458720"/>
                  <a:ext cx="132480" cy="166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 flipH="1">
                  <a:off x="4817520" y="1628280"/>
                  <a:ext cx="42372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9" name=""/>
                <p:cNvSpPr/>
                <p:nvPr/>
              </p:nvSpPr>
              <p:spPr>
                <a:xfrm flipV="1">
                  <a:off x="4717440" y="1462320"/>
                  <a:ext cx="38628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0" name=""/>
                <p:cNvSpPr/>
                <p:nvPr/>
              </p:nvSpPr>
              <p:spPr>
                <a:xfrm>
                  <a:off x="4718880" y="1631520"/>
                  <a:ext cx="97560" cy="115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01" name=""/>
            <p:cNvSpPr/>
            <p:nvPr/>
          </p:nvSpPr>
          <p:spPr>
            <a:xfrm>
              <a:off x="3138480" y="3416400"/>
              <a:ext cx="20559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2" name=""/>
            <p:cNvGrpSpPr/>
            <p:nvPr/>
          </p:nvGrpSpPr>
          <p:grpSpPr>
            <a:xfrm>
              <a:off x="2355840" y="1211040"/>
              <a:ext cx="4322880" cy="1899000"/>
              <a:chOff x="2355840" y="1211040"/>
              <a:chExt cx="4322880" cy="1899000"/>
            </a:xfrm>
          </p:grpSpPr>
          <p:sp>
            <p:nvSpPr>
              <p:cNvPr id="5503" name=""/>
              <p:cNvSpPr/>
              <p:nvPr/>
            </p:nvSpPr>
            <p:spPr>
              <a:xfrm flipV="1">
                <a:off x="3933360" y="1211040"/>
                <a:ext cx="172512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V="1">
                <a:off x="4194720" y="1250640"/>
                <a:ext cx="17301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 flipV="1">
                <a:off x="4704120" y="1332720"/>
                <a:ext cx="1722960" cy="1733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 flipV="1">
                <a:off x="4943160" y="1371600"/>
                <a:ext cx="1735560" cy="17348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 flipV="1">
                <a:off x="2355840" y="1369080"/>
                <a:ext cx="1770480" cy="1740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 flipV="1">
                <a:off x="2644560" y="1330200"/>
                <a:ext cx="17287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V="1">
                <a:off x="3137040" y="1249200"/>
                <a:ext cx="1732320" cy="1731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 flipV="1">
                <a:off x="3386160" y="1211040"/>
                <a:ext cx="1759680" cy="17384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 flipV="1">
                <a:off x="2883960" y="1295280"/>
                <a:ext cx="1737000" cy="1732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 flipV="1">
                <a:off x="4446720" y="1288080"/>
                <a:ext cx="1730160" cy="1735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3" name=""/>
            <p:cNvGrpSpPr/>
            <p:nvPr/>
          </p:nvGrpSpPr>
          <p:grpSpPr>
            <a:xfrm>
              <a:off x="2400480" y="1200240"/>
              <a:ext cx="4263840" cy="1905120"/>
              <a:chOff x="2400480" y="1200240"/>
              <a:chExt cx="4263840" cy="1905120"/>
            </a:xfrm>
          </p:grpSpPr>
          <p:grpSp>
            <p:nvGrpSpPr>
              <p:cNvPr id="5514" name=""/>
              <p:cNvGrpSpPr/>
              <p:nvPr/>
            </p:nvGrpSpPr>
            <p:grpSpPr>
              <a:xfrm>
                <a:off x="3251160" y="1825920"/>
                <a:ext cx="2581200" cy="663480"/>
                <a:chOff x="3251160" y="1825920"/>
                <a:chExt cx="2581200" cy="663480"/>
              </a:xfrm>
            </p:grpSpPr>
            <p:sp>
              <p:nvSpPr>
                <p:cNvPr id="5515" name=""/>
                <p:cNvSpPr/>
                <p:nvPr/>
              </p:nvSpPr>
              <p:spPr>
                <a:xfrm flipV="1">
                  <a:off x="4781520" y="2125800"/>
                  <a:ext cx="275400" cy="275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 flipV="1">
                  <a:off x="5257080" y="2214000"/>
                  <a:ext cx="275400" cy="275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 flipV="1">
                  <a:off x="3251160" y="2203200"/>
                  <a:ext cx="275040" cy="2750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 flipV="1">
                  <a:off x="3731400" y="2125800"/>
                  <a:ext cx="275040" cy="275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 flipV="1">
                  <a:off x="5063760" y="1825920"/>
                  <a:ext cx="293040" cy="2948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0" name=""/>
                <p:cNvSpPr/>
                <p:nvPr/>
              </p:nvSpPr>
              <p:spPr>
                <a:xfrm flipV="1">
                  <a:off x="5539320" y="1914840"/>
                  <a:ext cx="293040" cy="294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1" name=""/>
                <p:cNvSpPr/>
                <p:nvPr/>
              </p:nvSpPr>
              <p:spPr>
                <a:xfrm flipV="1">
                  <a:off x="3532680" y="1903320"/>
                  <a:ext cx="293040" cy="2930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 flipV="1">
                  <a:off x="4012920" y="1825920"/>
                  <a:ext cx="293040" cy="2948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3" name=""/>
              <p:cNvGrpSpPr/>
              <p:nvPr/>
            </p:nvGrpSpPr>
            <p:grpSpPr>
              <a:xfrm>
                <a:off x="2400480" y="1200240"/>
                <a:ext cx="4263840" cy="1905120"/>
                <a:chOff x="2400480" y="1200240"/>
                <a:chExt cx="4263840" cy="1905120"/>
              </a:xfrm>
            </p:grpSpPr>
            <p:grpSp>
              <p:nvGrpSpPr>
                <p:cNvPr id="5524" name=""/>
                <p:cNvGrpSpPr/>
                <p:nvPr/>
              </p:nvGrpSpPr>
              <p:grpSpPr>
                <a:xfrm>
                  <a:off x="2400480" y="1200240"/>
                  <a:ext cx="4263840" cy="1905120"/>
                  <a:chOff x="2400480" y="1200240"/>
                  <a:chExt cx="4263840" cy="1905120"/>
                </a:xfrm>
              </p:grpSpPr>
              <p:grpSp>
                <p:nvGrpSpPr>
                  <p:cNvPr id="5525" name=""/>
                  <p:cNvGrpSpPr/>
                  <p:nvPr/>
                </p:nvGrpSpPr>
                <p:grpSpPr>
                  <a:xfrm>
                    <a:off x="3983760" y="1200240"/>
                    <a:ext cx="2680560" cy="1887480"/>
                    <a:chOff x="3983760" y="1200240"/>
                    <a:chExt cx="2680560" cy="1887480"/>
                  </a:xfrm>
                </p:grpSpPr>
                <p:sp>
                  <p:nvSpPr>
                    <p:cNvPr id="5526" name=""/>
                    <p:cNvSpPr/>
                    <p:nvPr/>
                  </p:nvSpPr>
                  <p:spPr>
                    <a:xfrm flipV="1">
                      <a:off x="4265280" y="2366640"/>
                      <a:ext cx="275040" cy="2768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7" name=""/>
                    <p:cNvSpPr/>
                    <p:nvPr/>
                  </p:nvSpPr>
                  <p:spPr>
                    <a:xfrm flipV="1">
                      <a:off x="5415840" y="1200240"/>
                      <a:ext cx="286560" cy="28656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8" name=""/>
                    <p:cNvSpPr/>
                    <p:nvPr/>
                  </p:nvSpPr>
                  <p:spPr>
                    <a:xfrm flipV="1">
                      <a:off x="4740480" y="2455200"/>
                      <a:ext cx="275040" cy="2768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9" name=""/>
                    <p:cNvSpPr/>
                    <p:nvPr/>
                  </p:nvSpPr>
                  <p:spPr>
                    <a:xfrm flipV="1">
                      <a:off x="5891040" y="1286640"/>
                      <a:ext cx="286200" cy="28836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0" name=""/>
                    <p:cNvSpPr/>
                    <p:nvPr/>
                  </p:nvSpPr>
                  <p:spPr>
                    <a:xfrm flipV="1">
                      <a:off x="5227560" y="2535480"/>
                      <a:ext cx="275040" cy="2768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1" name=""/>
                    <p:cNvSpPr/>
                    <p:nvPr/>
                  </p:nvSpPr>
                  <p:spPr>
                    <a:xfrm flipV="1">
                      <a:off x="6377760" y="1368720"/>
                      <a:ext cx="286560" cy="28656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2" name=""/>
                    <p:cNvSpPr/>
                    <p:nvPr/>
                  </p:nvSpPr>
                  <p:spPr>
                    <a:xfrm flipV="1">
                      <a:off x="5122080" y="1486800"/>
                      <a:ext cx="29340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3" name=""/>
                    <p:cNvSpPr/>
                    <p:nvPr/>
                  </p:nvSpPr>
                  <p:spPr>
                    <a:xfrm flipV="1">
                      <a:off x="3983760" y="2625120"/>
                      <a:ext cx="29304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4" name=""/>
                    <p:cNvSpPr/>
                    <p:nvPr/>
                  </p:nvSpPr>
                  <p:spPr>
                    <a:xfrm flipV="1">
                      <a:off x="5597640" y="1575360"/>
                      <a:ext cx="29340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5" name=""/>
                    <p:cNvSpPr/>
                    <p:nvPr/>
                  </p:nvSpPr>
                  <p:spPr>
                    <a:xfrm flipV="1">
                      <a:off x="4458960" y="2713680"/>
                      <a:ext cx="29304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6" name=""/>
                    <p:cNvSpPr/>
                    <p:nvPr/>
                  </p:nvSpPr>
                  <p:spPr>
                    <a:xfrm flipV="1">
                      <a:off x="6084360" y="1655640"/>
                      <a:ext cx="29304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7" name=""/>
                    <p:cNvSpPr/>
                    <p:nvPr/>
                  </p:nvSpPr>
                  <p:spPr>
                    <a:xfrm flipV="1">
                      <a:off x="4945320" y="2794680"/>
                      <a:ext cx="29340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38" name=""/>
                  <p:cNvGrpSpPr/>
                  <p:nvPr/>
                </p:nvGrpSpPr>
                <p:grpSpPr>
                  <a:xfrm>
                    <a:off x="2400480" y="1216440"/>
                    <a:ext cx="2744640" cy="1888920"/>
                    <a:chOff x="2400480" y="1216440"/>
                    <a:chExt cx="2744640" cy="1888920"/>
                  </a:xfrm>
                </p:grpSpPr>
                <p:sp>
                  <p:nvSpPr>
                    <p:cNvPr id="5539" name=""/>
                    <p:cNvSpPr/>
                    <p:nvPr/>
                  </p:nvSpPr>
                  <p:spPr>
                    <a:xfrm flipV="1">
                      <a:off x="3162240" y="2477880"/>
                      <a:ext cx="275040" cy="2772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0" name=""/>
                    <p:cNvSpPr/>
                    <p:nvPr/>
                  </p:nvSpPr>
                  <p:spPr>
                    <a:xfrm flipV="1">
                      <a:off x="4312800" y="1311120"/>
                      <a:ext cx="286560" cy="2862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1" name=""/>
                    <p:cNvSpPr/>
                    <p:nvPr/>
                  </p:nvSpPr>
                  <p:spPr>
                    <a:xfrm flipV="1">
                      <a:off x="2682000" y="2553480"/>
                      <a:ext cx="275040" cy="2772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2" name=""/>
                    <p:cNvSpPr/>
                    <p:nvPr/>
                  </p:nvSpPr>
                  <p:spPr>
                    <a:xfrm flipV="1">
                      <a:off x="3832560" y="1386360"/>
                      <a:ext cx="286560" cy="2862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3" name=""/>
                    <p:cNvSpPr/>
                    <p:nvPr/>
                  </p:nvSpPr>
                  <p:spPr>
                    <a:xfrm flipV="1">
                      <a:off x="3708000" y="2382840"/>
                      <a:ext cx="275040" cy="2768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4" name=""/>
                    <p:cNvSpPr/>
                    <p:nvPr/>
                  </p:nvSpPr>
                  <p:spPr>
                    <a:xfrm flipV="1">
                      <a:off x="4858920" y="1216440"/>
                      <a:ext cx="286200" cy="28656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5" name=""/>
                    <p:cNvSpPr/>
                    <p:nvPr/>
                  </p:nvSpPr>
                  <p:spPr>
                    <a:xfrm flipV="1">
                      <a:off x="4019400" y="1597680"/>
                      <a:ext cx="29304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6" name=""/>
                    <p:cNvSpPr/>
                    <p:nvPr/>
                  </p:nvSpPr>
                  <p:spPr>
                    <a:xfrm flipV="1">
                      <a:off x="2880360" y="2736360"/>
                      <a:ext cx="29304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7" name=""/>
                    <p:cNvSpPr/>
                    <p:nvPr/>
                  </p:nvSpPr>
                  <p:spPr>
                    <a:xfrm flipV="1">
                      <a:off x="3539520" y="1672920"/>
                      <a:ext cx="29304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8" name=""/>
                    <p:cNvSpPr/>
                    <p:nvPr/>
                  </p:nvSpPr>
                  <p:spPr>
                    <a:xfrm flipV="1">
                      <a:off x="2400480" y="2812320"/>
                      <a:ext cx="29304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9" name=""/>
                    <p:cNvSpPr/>
                    <p:nvPr/>
                  </p:nvSpPr>
                  <p:spPr>
                    <a:xfrm flipV="1">
                      <a:off x="4565160" y="1503000"/>
                      <a:ext cx="293400" cy="29304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0" name=""/>
                    <p:cNvSpPr/>
                    <p:nvPr/>
                  </p:nvSpPr>
                  <p:spPr>
                    <a:xfrm flipV="1">
                      <a:off x="3426120" y="2641320"/>
                      <a:ext cx="293400" cy="293400"/>
                    </a:xfrm>
                    <a:prstGeom prst="line">
                      <a:avLst/>
                    </a:prstGeom>
                    <a:ln w="572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551" name=""/>
                <p:cNvGrpSpPr/>
                <p:nvPr/>
              </p:nvGrpSpPr>
              <p:grpSpPr>
                <a:xfrm>
                  <a:off x="2675880" y="1257120"/>
                  <a:ext cx="3724920" cy="1814040"/>
                  <a:chOff x="2675880" y="1257120"/>
                  <a:chExt cx="3724920" cy="1814040"/>
                </a:xfrm>
              </p:grpSpPr>
              <p:sp>
                <p:nvSpPr>
                  <p:cNvPr id="5552" name=""/>
                  <p:cNvSpPr/>
                  <p:nvPr/>
                </p:nvSpPr>
                <p:spPr>
                  <a:xfrm flipV="1">
                    <a:off x="3826080" y="1616400"/>
                    <a:ext cx="286920" cy="2865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3" name=""/>
                  <p:cNvSpPr/>
                  <p:nvPr/>
                </p:nvSpPr>
                <p:spPr>
                  <a:xfrm flipV="1">
                    <a:off x="4206240" y="2707920"/>
                    <a:ext cx="27540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V="1">
                    <a:off x="5356800" y="1539000"/>
                    <a:ext cx="286920" cy="2862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"/>
                  <p:cNvSpPr/>
                  <p:nvPr/>
                </p:nvSpPr>
                <p:spPr>
                  <a:xfrm flipV="1">
                    <a:off x="4681440" y="2796120"/>
                    <a:ext cx="27540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"/>
                  <p:cNvSpPr/>
                  <p:nvPr/>
                </p:nvSpPr>
                <p:spPr>
                  <a:xfrm flipV="1">
                    <a:off x="5832360" y="1627920"/>
                    <a:ext cx="286920" cy="2865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7" name=""/>
                  <p:cNvSpPr/>
                  <p:nvPr/>
                </p:nvSpPr>
                <p:spPr>
                  <a:xfrm flipV="1">
                    <a:off x="2675880" y="2782800"/>
                    <a:ext cx="275400" cy="2746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8" name=""/>
                  <p:cNvSpPr/>
                  <p:nvPr/>
                </p:nvSpPr>
                <p:spPr>
                  <a:xfrm flipV="1">
                    <a:off x="3155760" y="2707920"/>
                    <a:ext cx="27540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"/>
                  <p:cNvSpPr/>
                  <p:nvPr/>
                </p:nvSpPr>
                <p:spPr>
                  <a:xfrm flipV="1">
                    <a:off x="4306320" y="1539000"/>
                    <a:ext cx="286920" cy="2862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 flipV="1">
                    <a:off x="4488480" y="2408040"/>
                    <a:ext cx="29304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V="1">
                    <a:off x="5632200" y="1257120"/>
                    <a:ext cx="293040" cy="2934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 flipV="1">
                    <a:off x="4963680" y="2496240"/>
                    <a:ext cx="29304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"/>
                  <p:cNvSpPr/>
                  <p:nvPr/>
                </p:nvSpPr>
                <p:spPr>
                  <a:xfrm flipV="1">
                    <a:off x="6107760" y="1345320"/>
                    <a:ext cx="293040" cy="2934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4" name=""/>
                  <p:cNvSpPr/>
                  <p:nvPr/>
                </p:nvSpPr>
                <p:spPr>
                  <a:xfrm flipV="1">
                    <a:off x="2957400" y="2483280"/>
                    <a:ext cx="29340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5" name=""/>
                  <p:cNvSpPr/>
                  <p:nvPr/>
                </p:nvSpPr>
                <p:spPr>
                  <a:xfrm flipV="1">
                    <a:off x="4101480" y="1333800"/>
                    <a:ext cx="293400" cy="2934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"/>
                  <p:cNvSpPr/>
                  <p:nvPr/>
                </p:nvSpPr>
                <p:spPr>
                  <a:xfrm flipV="1">
                    <a:off x="4840560" y="1786680"/>
                    <a:ext cx="275400" cy="2746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"/>
                  <p:cNvSpPr/>
                  <p:nvPr/>
                </p:nvSpPr>
                <p:spPr>
                  <a:xfrm flipV="1">
                    <a:off x="5316120" y="1873440"/>
                    <a:ext cx="275400" cy="2772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"/>
                  <p:cNvSpPr/>
                  <p:nvPr/>
                </p:nvSpPr>
                <p:spPr>
                  <a:xfrm flipV="1">
                    <a:off x="5802840" y="1955520"/>
                    <a:ext cx="27468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"/>
                  <p:cNvSpPr/>
                  <p:nvPr/>
                </p:nvSpPr>
                <p:spPr>
                  <a:xfrm flipV="1">
                    <a:off x="3737520" y="1897920"/>
                    <a:ext cx="27540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"/>
                  <p:cNvSpPr/>
                  <p:nvPr/>
                </p:nvSpPr>
                <p:spPr>
                  <a:xfrm flipV="1">
                    <a:off x="3257280" y="1973520"/>
                    <a:ext cx="275400" cy="275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"/>
                  <p:cNvSpPr/>
                  <p:nvPr/>
                </p:nvSpPr>
                <p:spPr>
                  <a:xfrm flipV="1">
                    <a:off x="4283640" y="1802880"/>
                    <a:ext cx="275400" cy="2746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"/>
                  <p:cNvSpPr/>
                  <p:nvPr/>
                </p:nvSpPr>
                <p:spPr>
                  <a:xfrm flipV="1">
                    <a:off x="4547520" y="2068560"/>
                    <a:ext cx="29304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"/>
                  <p:cNvSpPr/>
                  <p:nvPr/>
                </p:nvSpPr>
                <p:spPr>
                  <a:xfrm flipV="1">
                    <a:off x="5022720" y="2155680"/>
                    <a:ext cx="293040" cy="29448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"/>
                  <p:cNvSpPr/>
                  <p:nvPr/>
                </p:nvSpPr>
                <p:spPr>
                  <a:xfrm flipV="1">
                    <a:off x="5509440" y="2237040"/>
                    <a:ext cx="293400" cy="2934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5" name=""/>
                  <p:cNvSpPr/>
                  <p:nvPr/>
                </p:nvSpPr>
                <p:spPr>
                  <a:xfrm flipV="1">
                    <a:off x="3444480" y="2180160"/>
                    <a:ext cx="29304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6" name=""/>
                  <p:cNvSpPr/>
                  <p:nvPr/>
                </p:nvSpPr>
                <p:spPr>
                  <a:xfrm flipV="1">
                    <a:off x="2964240" y="2255400"/>
                    <a:ext cx="29304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"/>
                  <p:cNvSpPr/>
                  <p:nvPr/>
                </p:nvSpPr>
                <p:spPr>
                  <a:xfrm flipV="1">
                    <a:off x="3989880" y="2085120"/>
                    <a:ext cx="29340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 flipV="1">
                    <a:off x="3437640" y="2408040"/>
                    <a:ext cx="293400" cy="29304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9" name=""/>
                  <p:cNvSpPr/>
                  <p:nvPr/>
                </p:nvSpPr>
                <p:spPr>
                  <a:xfrm flipV="1">
                    <a:off x="4581720" y="1257120"/>
                    <a:ext cx="293400" cy="2934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580" name=""/>
          <p:cNvSpPr/>
          <p:nvPr/>
        </p:nvSpPr>
        <p:spPr>
          <a:xfrm>
            <a:off x="163440" y="509760"/>
            <a:ext cx="875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ent faire pour éviter d’utiliser des liern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6905520" y="619596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"/>
          <p:cNvSpPr/>
          <p:nvPr/>
        </p:nvSpPr>
        <p:spPr>
          <a:xfrm>
            <a:off x="646200" y="1781280"/>
            <a:ext cx="312264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nnes isostatiques avec lier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5548320" y="1782720"/>
            <a:ext cx="26082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nne continue sans 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5160960" y="3125880"/>
            <a:ext cx="3579840" cy="218880"/>
          </a:xfrm>
          <a:custGeom>
            <a:avLst/>
            <a:gdLst/>
            <a:ahLst/>
            <a:rect l="l" t="t" r="r" b="b"/>
            <a:pathLst>
              <a:path w="5080" h="320">
                <a:moveTo>
                  <a:pt x="0" y="60"/>
                </a:moveTo>
                <a:cubicBezTo>
                  <a:pt x="83" y="87"/>
                  <a:pt x="310" y="180"/>
                  <a:pt x="500" y="220"/>
                </a:cubicBezTo>
                <a:cubicBezTo>
                  <a:pt x="690" y="260"/>
                  <a:pt x="947" y="293"/>
                  <a:pt x="1140" y="300"/>
                </a:cubicBezTo>
                <a:cubicBezTo>
                  <a:pt x="1333" y="307"/>
                  <a:pt x="1517" y="277"/>
                  <a:pt x="1660" y="260"/>
                </a:cubicBezTo>
                <a:cubicBezTo>
                  <a:pt x="1803" y="243"/>
                  <a:pt x="1900" y="227"/>
                  <a:pt x="2000" y="200"/>
                </a:cubicBezTo>
                <a:lnTo>
                  <a:pt x="2260" y="100"/>
                </a:lnTo>
                <a:lnTo>
                  <a:pt x="2500" y="80"/>
                </a:lnTo>
                <a:lnTo>
                  <a:pt x="2780" y="140"/>
                </a:lnTo>
                <a:lnTo>
                  <a:pt x="3040" y="220"/>
                </a:lnTo>
                <a:lnTo>
                  <a:pt x="3340" y="280"/>
                </a:lnTo>
                <a:lnTo>
                  <a:pt x="3860" y="320"/>
                </a:lnTo>
                <a:cubicBezTo>
                  <a:pt x="4073" y="307"/>
                  <a:pt x="4417" y="253"/>
                  <a:pt x="4620" y="200"/>
                </a:cubicBezTo>
                <a:cubicBezTo>
                  <a:pt x="4823" y="147"/>
                  <a:pt x="4984" y="42"/>
                  <a:pt x="5080" y="0"/>
                </a:cubicBezTo>
              </a:path>
            </a:pathLst>
          </a:custGeom>
          <a:noFill/>
          <a:ln w="2844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5114880" y="3151080"/>
            <a:ext cx="0" cy="1003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4788000" y="3728880"/>
            <a:ext cx="25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7" name=""/>
          <p:cNvGrpSpPr/>
          <p:nvPr/>
        </p:nvGrpSpPr>
        <p:grpSpPr>
          <a:xfrm>
            <a:off x="4970520" y="3170160"/>
            <a:ext cx="296640" cy="249480"/>
            <a:chOff x="4970520" y="3170160"/>
            <a:chExt cx="296640" cy="249480"/>
          </a:xfrm>
        </p:grpSpPr>
        <p:sp>
          <p:nvSpPr>
            <p:cNvPr id="5588" name=""/>
            <p:cNvSpPr/>
            <p:nvPr/>
          </p:nvSpPr>
          <p:spPr>
            <a:xfrm>
              <a:off x="5013360" y="3170160"/>
              <a:ext cx="208080" cy="165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4970520" y="3337920"/>
              <a:ext cx="296640" cy="81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4976640" y="3336840"/>
              <a:ext cx="290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8618400" y="3159000"/>
            <a:ext cx="297000" cy="249480"/>
            <a:chOff x="8618400" y="3159000"/>
            <a:chExt cx="297000" cy="249480"/>
          </a:xfrm>
        </p:grpSpPr>
        <p:sp>
          <p:nvSpPr>
            <p:cNvPr id="5592" name=""/>
            <p:cNvSpPr/>
            <p:nvPr/>
          </p:nvSpPr>
          <p:spPr>
            <a:xfrm>
              <a:off x="8661240" y="3159000"/>
              <a:ext cx="208440" cy="165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8618400" y="3326760"/>
              <a:ext cx="297000" cy="8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8624520" y="332568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5" name=""/>
          <p:cNvGrpSpPr/>
          <p:nvPr/>
        </p:nvGrpSpPr>
        <p:grpSpPr>
          <a:xfrm>
            <a:off x="6794640" y="3182760"/>
            <a:ext cx="296640" cy="247320"/>
            <a:chOff x="6794640" y="3182760"/>
            <a:chExt cx="296640" cy="247320"/>
          </a:xfrm>
        </p:grpSpPr>
        <p:sp>
          <p:nvSpPr>
            <p:cNvPr id="5596" name=""/>
            <p:cNvSpPr/>
            <p:nvPr/>
          </p:nvSpPr>
          <p:spPr>
            <a:xfrm>
              <a:off x="6837480" y="3182760"/>
              <a:ext cx="208080" cy="1641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794640" y="3349080"/>
              <a:ext cx="296640" cy="81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800760" y="3348360"/>
              <a:ext cx="290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5114880" y="3146400"/>
            <a:ext cx="367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0" name=""/>
          <p:cNvGrpSpPr/>
          <p:nvPr/>
        </p:nvGrpSpPr>
        <p:grpSpPr>
          <a:xfrm>
            <a:off x="5126040" y="2779560"/>
            <a:ext cx="3665160" cy="347760"/>
            <a:chOff x="5126040" y="2779560"/>
            <a:chExt cx="3665160" cy="347760"/>
          </a:xfrm>
        </p:grpSpPr>
        <p:grpSp>
          <p:nvGrpSpPr>
            <p:cNvPr id="5601" name=""/>
            <p:cNvGrpSpPr/>
            <p:nvPr/>
          </p:nvGrpSpPr>
          <p:grpSpPr>
            <a:xfrm>
              <a:off x="5126040" y="2779560"/>
              <a:ext cx="1717920" cy="347760"/>
              <a:chOff x="5126040" y="2779560"/>
              <a:chExt cx="1717920" cy="347760"/>
            </a:xfrm>
          </p:grpSpPr>
          <p:grpSp>
            <p:nvGrpSpPr>
              <p:cNvPr id="5602" name=""/>
              <p:cNvGrpSpPr/>
              <p:nvPr/>
            </p:nvGrpSpPr>
            <p:grpSpPr>
              <a:xfrm>
                <a:off x="5126040" y="2779560"/>
                <a:ext cx="736200" cy="347760"/>
                <a:chOff x="5126040" y="2779560"/>
                <a:chExt cx="736200" cy="347760"/>
              </a:xfrm>
            </p:grpSpPr>
            <p:sp>
              <p:nvSpPr>
                <p:cNvPr id="5603" name=""/>
                <p:cNvSpPr/>
                <p:nvPr/>
              </p:nvSpPr>
              <p:spPr>
                <a:xfrm>
                  <a:off x="51260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53780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560988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8622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7" name=""/>
              <p:cNvGrpSpPr/>
              <p:nvPr/>
            </p:nvGrpSpPr>
            <p:grpSpPr>
              <a:xfrm>
                <a:off x="6107760" y="2779560"/>
                <a:ext cx="736200" cy="347760"/>
                <a:chOff x="6107760" y="2779560"/>
                <a:chExt cx="736200" cy="347760"/>
              </a:xfrm>
            </p:grpSpPr>
            <p:sp>
              <p:nvSpPr>
                <p:cNvPr id="5608" name=""/>
                <p:cNvSpPr/>
                <p:nvPr/>
              </p:nvSpPr>
              <p:spPr>
                <a:xfrm>
                  <a:off x="61077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63597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65916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68439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12" name=""/>
            <p:cNvGrpSpPr/>
            <p:nvPr/>
          </p:nvGrpSpPr>
          <p:grpSpPr>
            <a:xfrm>
              <a:off x="7073280" y="2779560"/>
              <a:ext cx="1717920" cy="347760"/>
              <a:chOff x="7073280" y="2779560"/>
              <a:chExt cx="1717920" cy="347760"/>
            </a:xfrm>
          </p:grpSpPr>
          <p:grpSp>
            <p:nvGrpSpPr>
              <p:cNvPr id="5613" name=""/>
              <p:cNvGrpSpPr/>
              <p:nvPr/>
            </p:nvGrpSpPr>
            <p:grpSpPr>
              <a:xfrm>
                <a:off x="7073280" y="2779560"/>
                <a:ext cx="736200" cy="347760"/>
                <a:chOff x="7073280" y="2779560"/>
                <a:chExt cx="736200" cy="347760"/>
              </a:xfrm>
            </p:grpSpPr>
            <p:sp>
              <p:nvSpPr>
                <p:cNvPr id="5614" name=""/>
                <p:cNvSpPr/>
                <p:nvPr/>
              </p:nvSpPr>
              <p:spPr>
                <a:xfrm>
                  <a:off x="707328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732528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755712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780948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8" name=""/>
              <p:cNvGrpSpPr/>
              <p:nvPr/>
            </p:nvGrpSpPr>
            <p:grpSpPr>
              <a:xfrm>
                <a:off x="8055000" y="2779560"/>
                <a:ext cx="736200" cy="347760"/>
                <a:chOff x="8055000" y="2779560"/>
                <a:chExt cx="736200" cy="347760"/>
              </a:xfrm>
            </p:grpSpPr>
            <p:sp>
              <p:nvSpPr>
                <p:cNvPr id="5619" name=""/>
                <p:cNvSpPr/>
                <p:nvPr/>
              </p:nvSpPr>
              <p:spPr>
                <a:xfrm>
                  <a:off x="80550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83070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85388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87912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23" name=""/>
          <p:cNvSpPr/>
          <p:nvPr/>
        </p:nvSpPr>
        <p:spPr>
          <a:xfrm>
            <a:off x="5151600" y="4943520"/>
            <a:ext cx="3600360" cy="220680"/>
          </a:xfrm>
          <a:custGeom>
            <a:avLst/>
            <a:gdLst/>
            <a:ahLst/>
            <a:rect l="l" t="t" r="r" b="b"/>
            <a:pathLst>
              <a:path w="5080" h="320">
                <a:moveTo>
                  <a:pt x="0" y="60"/>
                </a:moveTo>
                <a:cubicBezTo>
                  <a:pt x="83" y="87"/>
                  <a:pt x="310" y="180"/>
                  <a:pt x="500" y="220"/>
                </a:cubicBezTo>
                <a:cubicBezTo>
                  <a:pt x="690" y="260"/>
                  <a:pt x="947" y="293"/>
                  <a:pt x="1140" y="300"/>
                </a:cubicBezTo>
                <a:cubicBezTo>
                  <a:pt x="1333" y="307"/>
                  <a:pt x="1517" y="277"/>
                  <a:pt x="1660" y="260"/>
                </a:cubicBezTo>
                <a:cubicBezTo>
                  <a:pt x="1803" y="243"/>
                  <a:pt x="1900" y="227"/>
                  <a:pt x="2000" y="200"/>
                </a:cubicBezTo>
                <a:lnTo>
                  <a:pt x="2260" y="100"/>
                </a:lnTo>
                <a:lnTo>
                  <a:pt x="2500" y="80"/>
                </a:lnTo>
                <a:lnTo>
                  <a:pt x="2780" y="140"/>
                </a:lnTo>
                <a:lnTo>
                  <a:pt x="3040" y="220"/>
                </a:lnTo>
                <a:lnTo>
                  <a:pt x="3340" y="280"/>
                </a:lnTo>
                <a:lnTo>
                  <a:pt x="3860" y="320"/>
                </a:lnTo>
                <a:cubicBezTo>
                  <a:pt x="4073" y="307"/>
                  <a:pt x="4417" y="253"/>
                  <a:pt x="4620" y="200"/>
                </a:cubicBezTo>
                <a:cubicBezTo>
                  <a:pt x="4823" y="147"/>
                  <a:pt x="4984" y="42"/>
                  <a:pt x="5080" y="0"/>
                </a:cubicBezTo>
              </a:path>
            </a:pathLst>
          </a:custGeom>
          <a:noFill/>
          <a:ln w="2844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5105520" y="4970520"/>
            <a:ext cx="0" cy="1003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4776840" y="5718240"/>
            <a:ext cx="306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6" name=""/>
          <p:cNvGrpSpPr/>
          <p:nvPr/>
        </p:nvGrpSpPr>
        <p:grpSpPr>
          <a:xfrm>
            <a:off x="4959360" y="4989600"/>
            <a:ext cx="298440" cy="247320"/>
            <a:chOff x="4959360" y="4989600"/>
            <a:chExt cx="298440" cy="247320"/>
          </a:xfrm>
        </p:grpSpPr>
        <p:sp>
          <p:nvSpPr>
            <p:cNvPr id="5627" name=""/>
            <p:cNvSpPr/>
            <p:nvPr/>
          </p:nvSpPr>
          <p:spPr>
            <a:xfrm>
              <a:off x="5002200" y="4989600"/>
              <a:ext cx="209160" cy="1641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959360" y="5155920"/>
              <a:ext cx="298440" cy="81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965480" y="5155200"/>
              <a:ext cx="2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8628120" y="4976640"/>
            <a:ext cx="298440" cy="249480"/>
            <a:chOff x="8628120" y="4976640"/>
            <a:chExt cx="298440" cy="249480"/>
          </a:xfrm>
        </p:grpSpPr>
        <p:sp>
          <p:nvSpPr>
            <p:cNvPr id="5631" name=""/>
            <p:cNvSpPr/>
            <p:nvPr/>
          </p:nvSpPr>
          <p:spPr>
            <a:xfrm>
              <a:off x="8670960" y="4976640"/>
              <a:ext cx="209160" cy="165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8628120" y="5144400"/>
              <a:ext cx="298440" cy="81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8634240" y="5143320"/>
              <a:ext cx="2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4" name=""/>
          <p:cNvGrpSpPr/>
          <p:nvPr/>
        </p:nvGrpSpPr>
        <p:grpSpPr>
          <a:xfrm>
            <a:off x="6794640" y="5000760"/>
            <a:ext cx="298440" cy="249120"/>
            <a:chOff x="6794640" y="5000760"/>
            <a:chExt cx="298440" cy="249120"/>
          </a:xfrm>
        </p:grpSpPr>
        <p:sp>
          <p:nvSpPr>
            <p:cNvPr id="5635" name=""/>
            <p:cNvSpPr/>
            <p:nvPr/>
          </p:nvSpPr>
          <p:spPr>
            <a:xfrm>
              <a:off x="6837480" y="5000760"/>
              <a:ext cx="209160" cy="1652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794640" y="5168160"/>
              <a:ext cx="298440" cy="81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800760" y="5167080"/>
              <a:ext cx="2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5105520" y="4965840"/>
            <a:ext cx="369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5126040" y="4608360"/>
            <a:ext cx="3665160" cy="347760"/>
            <a:chOff x="5126040" y="4608360"/>
            <a:chExt cx="3665160" cy="347760"/>
          </a:xfrm>
        </p:grpSpPr>
        <p:grpSp>
          <p:nvGrpSpPr>
            <p:cNvPr id="5640" name=""/>
            <p:cNvGrpSpPr/>
            <p:nvPr/>
          </p:nvGrpSpPr>
          <p:grpSpPr>
            <a:xfrm>
              <a:off x="5126040" y="4608360"/>
              <a:ext cx="1717920" cy="347760"/>
              <a:chOff x="5126040" y="4608360"/>
              <a:chExt cx="1717920" cy="347760"/>
            </a:xfrm>
          </p:grpSpPr>
          <p:grpSp>
            <p:nvGrpSpPr>
              <p:cNvPr id="5641" name=""/>
              <p:cNvGrpSpPr/>
              <p:nvPr/>
            </p:nvGrpSpPr>
            <p:grpSpPr>
              <a:xfrm>
                <a:off x="5126040" y="4608360"/>
                <a:ext cx="736200" cy="347760"/>
                <a:chOff x="5126040" y="4608360"/>
                <a:chExt cx="736200" cy="347760"/>
              </a:xfrm>
            </p:grpSpPr>
            <p:sp>
              <p:nvSpPr>
                <p:cNvPr id="5642" name=""/>
                <p:cNvSpPr/>
                <p:nvPr/>
              </p:nvSpPr>
              <p:spPr>
                <a:xfrm>
                  <a:off x="51260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53780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>
                  <a:off x="56098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58622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6" name=""/>
              <p:cNvGrpSpPr/>
              <p:nvPr/>
            </p:nvGrpSpPr>
            <p:grpSpPr>
              <a:xfrm>
                <a:off x="6107760" y="4608360"/>
                <a:ext cx="736200" cy="347760"/>
                <a:chOff x="6107760" y="4608360"/>
                <a:chExt cx="736200" cy="347760"/>
              </a:xfrm>
            </p:grpSpPr>
            <p:sp>
              <p:nvSpPr>
                <p:cNvPr id="5647" name=""/>
                <p:cNvSpPr/>
                <p:nvPr/>
              </p:nvSpPr>
              <p:spPr>
                <a:xfrm>
                  <a:off x="61077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63597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65916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>
                  <a:off x="68439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1" name=""/>
            <p:cNvGrpSpPr/>
            <p:nvPr/>
          </p:nvGrpSpPr>
          <p:grpSpPr>
            <a:xfrm>
              <a:off x="7073280" y="4608360"/>
              <a:ext cx="1717920" cy="347760"/>
              <a:chOff x="7073280" y="4608360"/>
              <a:chExt cx="1717920" cy="347760"/>
            </a:xfrm>
          </p:grpSpPr>
          <p:grpSp>
            <p:nvGrpSpPr>
              <p:cNvPr id="5652" name=""/>
              <p:cNvGrpSpPr/>
              <p:nvPr/>
            </p:nvGrpSpPr>
            <p:grpSpPr>
              <a:xfrm>
                <a:off x="7073280" y="4608360"/>
                <a:ext cx="736200" cy="347760"/>
                <a:chOff x="7073280" y="4608360"/>
                <a:chExt cx="736200" cy="347760"/>
              </a:xfrm>
            </p:grpSpPr>
            <p:sp>
              <p:nvSpPr>
                <p:cNvPr id="5653" name=""/>
                <p:cNvSpPr/>
                <p:nvPr/>
              </p:nvSpPr>
              <p:spPr>
                <a:xfrm>
                  <a:off x="70732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73252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755712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78094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7" name=""/>
              <p:cNvGrpSpPr/>
              <p:nvPr/>
            </p:nvGrpSpPr>
            <p:grpSpPr>
              <a:xfrm>
                <a:off x="8055000" y="4608360"/>
                <a:ext cx="736200" cy="347760"/>
                <a:chOff x="8055000" y="4608360"/>
                <a:chExt cx="736200" cy="347760"/>
              </a:xfrm>
            </p:grpSpPr>
            <p:sp>
              <p:nvSpPr>
                <p:cNvPr id="5658" name=""/>
                <p:cNvSpPr/>
                <p:nvPr/>
              </p:nvSpPr>
              <p:spPr>
                <a:xfrm>
                  <a:off x="80550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83070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85388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87912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62" name=""/>
          <p:cNvSpPr/>
          <p:nvPr/>
        </p:nvSpPr>
        <p:spPr>
          <a:xfrm>
            <a:off x="3255840" y="2392200"/>
            <a:ext cx="0" cy="1422720"/>
          </a:xfrm>
          <a:prstGeom prst="line">
            <a:avLst/>
          </a:prstGeom>
          <a:ln w="9360">
            <a:solidFill>
              <a:srgbClr val="ff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11200" y="2392200"/>
            <a:ext cx="0" cy="1422720"/>
          </a:xfrm>
          <a:prstGeom prst="line">
            <a:avLst/>
          </a:prstGeom>
          <a:ln w="9360">
            <a:solidFill>
              <a:srgbClr val="ff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4" name=""/>
          <p:cNvGrpSpPr/>
          <p:nvPr/>
        </p:nvGrpSpPr>
        <p:grpSpPr>
          <a:xfrm>
            <a:off x="2739960" y="3139920"/>
            <a:ext cx="978120" cy="138240"/>
            <a:chOff x="2739960" y="3139920"/>
            <a:chExt cx="978120" cy="138240"/>
          </a:xfrm>
        </p:grpSpPr>
        <p:sp>
          <p:nvSpPr>
            <p:cNvPr id="5665" name=""/>
            <p:cNvSpPr/>
            <p:nvPr/>
          </p:nvSpPr>
          <p:spPr>
            <a:xfrm flipV="1">
              <a:off x="2739960" y="313992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V="1">
              <a:off x="3718080" y="315720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7" name=""/>
          <p:cNvSpPr/>
          <p:nvPr/>
        </p:nvSpPr>
        <p:spPr>
          <a:xfrm>
            <a:off x="2306520" y="3154320"/>
            <a:ext cx="19036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3160800" y="3174840"/>
            <a:ext cx="182520" cy="1764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129120" y="3352680"/>
            <a:ext cx="253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0" name=""/>
          <p:cNvGrpSpPr/>
          <p:nvPr/>
        </p:nvGrpSpPr>
        <p:grpSpPr>
          <a:xfrm>
            <a:off x="4057560" y="3174840"/>
            <a:ext cx="260280" cy="266760"/>
            <a:chOff x="4057560" y="3174840"/>
            <a:chExt cx="260280" cy="266760"/>
          </a:xfrm>
        </p:grpSpPr>
        <p:sp>
          <p:nvSpPr>
            <p:cNvPr id="5671" name=""/>
            <p:cNvSpPr/>
            <p:nvPr/>
          </p:nvSpPr>
          <p:spPr>
            <a:xfrm>
              <a:off x="4095000" y="3174840"/>
              <a:ext cx="182520" cy="1767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057560" y="3354120"/>
              <a:ext cx="260280" cy="8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4062960" y="3353040"/>
              <a:ext cx="25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4" name=""/>
          <p:cNvSpPr/>
          <p:nvPr/>
        </p:nvSpPr>
        <p:spPr>
          <a:xfrm>
            <a:off x="2330280" y="3127320"/>
            <a:ext cx="1855800" cy="136440"/>
          </a:xfrm>
          <a:custGeom>
            <a:avLst/>
            <a:gdLst/>
            <a:ahLst/>
            <a:rect l="l" t="t" r="r" b="b"/>
            <a:pathLst>
              <a:path w="5080" h="320">
                <a:moveTo>
                  <a:pt x="0" y="60"/>
                </a:moveTo>
                <a:cubicBezTo>
                  <a:pt x="83" y="87"/>
                  <a:pt x="310" y="180"/>
                  <a:pt x="500" y="220"/>
                </a:cubicBezTo>
                <a:cubicBezTo>
                  <a:pt x="690" y="260"/>
                  <a:pt x="947" y="293"/>
                  <a:pt x="1140" y="300"/>
                </a:cubicBezTo>
                <a:cubicBezTo>
                  <a:pt x="1333" y="307"/>
                  <a:pt x="1517" y="277"/>
                  <a:pt x="1660" y="260"/>
                </a:cubicBezTo>
                <a:cubicBezTo>
                  <a:pt x="1803" y="243"/>
                  <a:pt x="1900" y="227"/>
                  <a:pt x="2000" y="200"/>
                </a:cubicBezTo>
                <a:lnTo>
                  <a:pt x="2260" y="100"/>
                </a:lnTo>
                <a:lnTo>
                  <a:pt x="2500" y="80"/>
                </a:lnTo>
                <a:lnTo>
                  <a:pt x="2780" y="140"/>
                </a:lnTo>
                <a:lnTo>
                  <a:pt x="3040" y="220"/>
                </a:lnTo>
                <a:lnTo>
                  <a:pt x="3340" y="280"/>
                </a:lnTo>
                <a:lnTo>
                  <a:pt x="3860" y="320"/>
                </a:lnTo>
                <a:cubicBezTo>
                  <a:pt x="4073" y="307"/>
                  <a:pt x="4417" y="253"/>
                  <a:pt x="4620" y="200"/>
                </a:cubicBezTo>
                <a:cubicBezTo>
                  <a:pt x="4823" y="147"/>
                  <a:pt x="4984" y="42"/>
                  <a:pt x="5080" y="0"/>
                </a:cubicBezTo>
              </a:path>
            </a:pathLst>
          </a:custGeom>
          <a:noFill/>
          <a:ln w="2844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5" name=""/>
          <p:cNvGrpSpPr/>
          <p:nvPr/>
        </p:nvGrpSpPr>
        <p:grpSpPr>
          <a:xfrm>
            <a:off x="893880" y="3127320"/>
            <a:ext cx="979200" cy="136440"/>
            <a:chOff x="893880" y="3127320"/>
            <a:chExt cx="979200" cy="136440"/>
          </a:xfrm>
        </p:grpSpPr>
        <p:sp>
          <p:nvSpPr>
            <p:cNvPr id="5676" name=""/>
            <p:cNvSpPr/>
            <p:nvPr/>
          </p:nvSpPr>
          <p:spPr>
            <a:xfrm flipV="1">
              <a:off x="893880" y="3127320"/>
              <a:ext cx="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V="1">
              <a:off x="1873080" y="3144240"/>
              <a:ext cx="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8" name=""/>
          <p:cNvSpPr/>
          <p:nvPr/>
        </p:nvSpPr>
        <p:spPr>
          <a:xfrm>
            <a:off x="460440" y="3139920"/>
            <a:ext cx="190332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1312920" y="3162240"/>
            <a:ext cx="183960" cy="1764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1281240" y="3340080"/>
            <a:ext cx="257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1" name=""/>
          <p:cNvGrpSpPr/>
          <p:nvPr/>
        </p:nvGrpSpPr>
        <p:grpSpPr>
          <a:xfrm>
            <a:off x="2211480" y="3162240"/>
            <a:ext cx="260280" cy="264960"/>
            <a:chOff x="2211480" y="3162240"/>
            <a:chExt cx="260280" cy="264960"/>
          </a:xfrm>
        </p:grpSpPr>
        <p:sp>
          <p:nvSpPr>
            <p:cNvPr id="5682" name=""/>
            <p:cNvSpPr/>
            <p:nvPr/>
          </p:nvSpPr>
          <p:spPr>
            <a:xfrm>
              <a:off x="2248920" y="3162240"/>
              <a:ext cx="182520" cy="1760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211480" y="3340440"/>
              <a:ext cx="260280" cy="86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216880" y="3339720"/>
              <a:ext cx="25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484200" y="3112920"/>
            <a:ext cx="1855800" cy="136800"/>
          </a:xfrm>
          <a:custGeom>
            <a:avLst/>
            <a:gdLst/>
            <a:ahLst/>
            <a:rect l="l" t="t" r="r" b="b"/>
            <a:pathLst>
              <a:path w="5080" h="320">
                <a:moveTo>
                  <a:pt x="0" y="60"/>
                </a:moveTo>
                <a:cubicBezTo>
                  <a:pt x="83" y="87"/>
                  <a:pt x="310" y="180"/>
                  <a:pt x="500" y="220"/>
                </a:cubicBezTo>
                <a:cubicBezTo>
                  <a:pt x="690" y="260"/>
                  <a:pt x="947" y="293"/>
                  <a:pt x="1140" y="300"/>
                </a:cubicBezTo>
                <a:cubicBezTo>
                  <a:pt x="1333" y="307"/>
                  <a:pt x="1517" y="277"/>
                  <a:pt x="1660" y="260"/>
                </a:cubicBezTo>
                <a:cubicBezTo>
                  <a:pt x="1803" y="243"/>
                  <a:pt x="1900" y="227"/>
                  <a:pt x="2000" y="200"/>
                </a:cubicBezTo>
                <a:lnTo>
                  <a:pt x="2260" y="100"/>
                </a:lnTo>
                <a:lnTo>
                  <a:pt x="2500" y="80"/>
                </a:lnTo>
                <a:lnTo>
                  <a:pt x="2780" y="140"/>
                </a:lnTo>
                <a:lnTo>
                  <a:pt x="3040" y="220"/>
                </a:lnTo>
                <a:lnTo>
                  <a:pt x="3340" y="280"/>
                </a:lnTo>
                <a:lnTo>
                  <a:pt x="3860" y="320"/>
                </a:lnTo>
                <a:cubicBezTo>
                  <a:pt x="4073" y="307"/>
                  <a:pt x="4417" y="253"/>
                  <a:pt x="4620" y="200"/>
                </a:cubicBezTo>
                <a:cubicBezTo>
                  <a:pt x="4823" y="147"/>
                  <a:pt x="4984" y="42"/>
                  <a:pt x="5080" y="0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460440" y="3143160"/>
            <a:ext cx="0" cy="62568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96840" y="3503520"/>
            <a:ext cx="328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8" name=""/>
          <p:cNvGrpSpPr/>
          <p:nvPr/>
        </p:nvGrpSpPr>
        <p:grpSpPr>
          <a:xfrm>
            <a:off x="3929040" y="3098880"/>
            <a:ext cx="328680" cy="906120"/>
            <a:chOff x="3929040" y="3098880"/>
            <a:chExt cx="328680" cy="906120"/>
          </a:xfrm>
        </p:grpSpPr>
        <p:sp>
          <p:nvSpPr>
            <p:cNvPr id="5689" name=""/>
            <p:cNvSpPr/>
            <p:nvPr/>
          </p:nvSpPr>
          <p:spPr>
            <a:xfrm>
              <a:off x="3929040" y="3485520"/>
              <a:ext cx="3286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191480" y="30988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1" name=""/>
          <p:cNvGrpSpPr/>
          <p:nvPr/>
        </p:nvGrpSpPr>
        <p:grpSpPr>
          <a:xfrm>
            <a:off x="330120" y="3147840"/>
            <a:ext cx="260280" cy="266760"/>
            <a:chOff x="330120" y="3147840"/>
            <a:chExt cx="260280" cy="266760"/>
          </a:xfrm>
        </p:grpSpPr>
        <p:sp>
          <p:nvSpPr>
            <p:cNvPr id="5692" name=""/>
            <p:cNvSpPr/>
            <p:nvPr/>
          </p:nvSpPr>
          <p:spPr>
            <a:xfrm>
              <a:off x="367560" y="3147840"/>
              <a:ext cx="182520" cy="1767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330120" y="3327120"/>
              <a:ext cx="260280" cy="87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335520" y="3326040"/>
              <a:ext cx="25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5" name=""/>
          <p:cNvGrpSpPr/>
          <p:nvPr/>
        </p:nvGrpSpPr>
        <p:grpSpPr>
          <a:xfrm>
            <a:off x="484200" y="2779560"/>
            <a:ext cx="3665160" cy="347760"/>
            <a:chOff x="484200" y="2779560"/>
            <a:chExt cx="3665160" cy="347760"/>
          </a:xfrm>
        </p:grpSpPr>
        <p:grpSp>
          <p:nvGrpSpPr>
            <p:cNvPr id="5696" name=""/>
            <p:cNvGrpSpPr/>
            <p:nvPr/>
          </p:nvGrpSpPr>
          <p:grpSpPr>
            <a:xfrm>
              <a:off x="484200" y="2779560"/>
              <a:ext cx="1717920" cy="347760"/>
              <a:chOff x="484200" y="2779560"/>
              <a:chExt cx="1717920" cy="347760"/>
            </a:xfrm>
          </p:grpSpPr>
          <p:grpSp>
            <p:nvGrpSpPr>
              <p:cNvPr id="5697" name=""/>
              <p:cNvGrpSpPr/>
              <p:nvPr/>
            </p:nvGrpSpPr>
            <p:grpSpPr>
              <a:xfrm>
                <a:off x="484200" y="2779560"/>
                <a:ext cx="736200" cy="347760"/>
                <a:chOff x="484200" y="2779560"/>
                <a:chExt cx="736200" cy="347760"/>
              </a:xfrm>
            </p:grpSpPr>
            <p:sp>
              <p:nvSpPr>
                <p:cNvPr id="5698" name=""/>
                <p:cNvSpPr/>
                <p:nvPr/>
              </p:nvSpPr>
              <p:spPr>
                <a:xfrm>
                  <a:off x="4842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7362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9680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12204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2" name=""/>
              <p:cNvGrpSpPr/>
              <p:nvPr/>
            </p:nvGrpSpPr>
            <p:grpSpPr>
              <a:xfrm>
                <a:off x="1465920" y="2779560"/>
                <a:ext cx="736200" cy="347760"/>
                <a:chOff x="1465920" y="2779560"/>
                <a:chExt cx="736200" cy="347760"/>
              </a:xfrm>
            </p:grpSpPr>
            <p:sp>
              <p:nvSpPr>
                <p:cNvPr id="5703" name=""/>
                <p:cNvSpPr/>
                <p:nvPr/>
              </p:nvSpPr>
              <p:spPr>
                <a:xfrm>
                  <a:off x="146592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171792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>
                  <a:off x="19497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>
                  <a:off x="220212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7" name=""/>
            <p:cNvGrpSpPr/>
            <p:nvPr/>
          </p:nvGrpSpPr>
          <p:grpSpPr>
            <a:xfrm>
              <a:off x="2431440" y="2779560"/>
              <a:ext cx="1717920" cy="347760"/>
              <a:chOff x="2431440" y="2779560"/>
              <a:chExt cx="1717920" cy="347760"/>
            </a:xfrm>
          </p:grpSpPr>
          <p:grpSp>
            <p:nvGrpSpPr>
              <p:cNvPr id="5708" name=""/>
              <p:cNvGrpSpPr/>
              <p:nvPr/>
            </p:nvGrpSpPr>
            <p:grpSpPr>
              <a:xfrm>
                <a:off x="2431440" y="2779560"/>
                <a:ext cx="736200" cy="347760"/>
                <a:chOff x="2431440" y="2779560"/>
                <a:chExt cx="736200" cy="347760"/>
              </a:xfrm>
            </p:grpSpPr>
            <p:sp>
              <p:nvSpPr>
                <p:cNvPr id="5709" name=""/>
                <p:cNvSpPr/>
                <p:nvPr/>
              </p:nvSpPr>
              <p:spPr>
                <a:xfrm>
                  <a:off x="24314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26834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291528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>
                  <a:off x="316764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3" name=""/>
              <p:cNvGrpSpPr/>
              <p:nvPr/>
            </p:nvGrpSpPr>
            <p:grpSpPr>
              <a:xfrm>
                <a:off x="3413160" y="2779560"/>
                <a:ext cx="736200" cy="347760"/>
                <a:chOff x="3413160" y="2779560"/>
                <a:chExt cx="736200" cy="347760"/>
              </a:xfrm>
            </p:grpSpPr>
            <p:sp>
              <p:nvSpPr>
                <p:cNvPr id="5714" name=""/>
                <p:cNvSpPr/>
                <p:nvPr/>
              </p:nvSpPr>
              <p:spPr>
                <a:xfrm>
                  <a:off x="34131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36651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389700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4149360" y="27795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18" name=""/>
          <p:cNvGrpSpPr/>
          <p:nvPr/>
        </p:nvGrpSpPr>
        <p:grpSpPr>
          <a:xfrm>
            <a:off x="351000" y="5014800"/>
            <a:ext cx="255600" cy="219240"/>
            <a:chOff x="351000" y="5014800"/>
            <a:chExt cx="255600" cy="219240"/>
          </a:xfrm>
        </p:grpSpPr>
        <p:sp>
          <p:nvSpPr>
            <p:cNvPr id="5719" name=""/>
            <p:cNvSpPr/>
            <p:nvPr/>
          </p:nvSpPr>
          <p:spPr>
            <a:xfrm>
              <a:off x="387720" y="5014800"/>
              <a:ext cx="179280" cy="14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51000" y="5162040"/>
              <a:ext cx="255600" cy="720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56400" y="5161320"/>
              <a:ext cx="25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2" name=""/>
          <p:cNvSpPr/>
          <p:nvPr/>
        </p:nvSpPr>
        <p:spPr>
          <a:xfrm>
            <a:off x="476280" y="4983120"/>
            <a:ext cx="18622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476280" y="4997520"/>
            <a:ext cx="0" cy="5205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498600" y="4983120"/>
            <a:ext cx="1815840" cy="303120"/>
          </a:xfrm>
          <a:custGeom>
            <a:avLst/>
            <a:gdLst/>
            <a:ahLst/>
            <a:rect l="l" t="t" r="r" b="b"/>
            <a:pathLst>
              <a:path w="5080" h="1130">
                <a:moveTo>
                  <a:pt x="0" y="60"/>
                </a:moveTo>
                <a:cubicBezTo>
                  <a:pt x="430" y="237"/>
                  <a:pt x="1733" y="1130"/>
                  <a:pt x="2580" y="1120"/>
                </a:cubicBezTo>
                <a:cubicBezTo>
                  <a:pt x="3427" y="1110"/>
                  <a:pt x="4559" y="233"/>
                  <a:pt x="5080" y="0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7840" y="5319720"/>
            <a:ext cx="320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6" name=""/>
          <p:cNvGrpSpPr/>
          <p:nvPr/>
        </p:nvGrpSpPr>
        <p:grpSpPr>
          <a:xfrm>
            <a:off x="2189160" y="5014800"/>
            <a:ext cx="249120" cy="219240"/>
            <a:chOff x="2189160" y="5014800"/>
            <a:chExt cx="249120" cy="219240"/>
          </a:xfrm>
        </p:grpSpPr>
        <p:sp>
          <p:nvSpPr>
            <p:cNvPr id="5727" name=""/>
            <p:cNvSpPr/>
            <p:nvPr/>
          </p:nvSpPr>
          <p:spPr>
            <a:xfrm>
              <a:off x="2225160" y="5014800"/>
              <a:ext cx="174600" cy="14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189160" y="5162040"/>
              <a:ext cx="249120" cy="72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194560" y="516132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0" name=""/>
          <p:cNvSpPr/>
          <p:nvPr/>
        </p:nvSpPr>
        <p:spPr>
          <a:xfrm>
            <a:off x="2313000" y="4971960"/>
            <a:ext cx="18208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1" name=""/>
          <p:cNvGrpSpPr/>
          <p:nvPr/>
        </p:nvGrpSpPr>
        <p:grpSpPr>
          <a:xfrm>
            <a:off x="3989520" y="4991040"/>
            <a:ext cx="249120" cy="220680"/>
            <a:chOff x="3989520" y="4991040"/>
            <a:chExt cx="249120" cy="220680"/>
          </a:xfrm>
        </p:grpSpPr>
        <p:sp>
          <p:nvSpPr>
            <p:cNvPr id="5732" name=""/>
            <p:cNvSpPr/>
            <p:nvPr/>
          </p:nvSpPr>
          <p:spPr>
            <a:xfrm>
              <a:off x="4025520" y="4991040"/>
              <a:ext cx="174600" cy="1465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3989520" y="5139360"/>
              <a:ext cx="249120" cy="72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3994920" y="513864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5" name=""/>
          <p:cNvSpPr/>
          <p:nvPr/>
        </p:nvSpPr>
        <p:spPr>
          <a:xfrm>
            <a:off x="2336760" y="4960800"/>
            <a:ext cx="1774800" cy="303480"/>
          </a:xfrm>
          <a:custGeom>
            <a:avLst/>
            <a:gdLst/>
            <a:ahLst/>
            <a:rect l="l" t="t" r="r" b="b"/>
            <a:pathLst>
              <a:path w="5080" h="1130">
                <a:moveTo>
                  <a:pt x="0" y="60"/>
                </a:moveTo>
                <a:cubicBezTo>
                  <a:pt x="430" y="237"/>
                  <a:pt x="1733" y="1130"/>
                  <a:pt x="2580" y="1120"/>
                </a:cubicBezTo>
                <a:cubicBezTo>
                  <a:pt x="3427" y="1110"/>
                  <a:pt x="4559" y="233"/>
                  <a:pt x="5080" y="0"/>
                </a:cubicBezTo>
              </a:path>
            </a:pathLst>
          </a:custGeom>
          <a:noFill/>
          <a:ln w="2844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6" name=""/>
          <p:cNvGrpSpPr/>
          <p:nvPr/>
        </p:nvGrpSpPr>
        <p:grpSpPr>
          <a:xfrm>
            <a:off x="3867120" y="4975200"/>
            <a:ext cx="314280" cy="754200"/>
            <a:chOff x="3867120" y="4975200"/>
            <a:chExt cx="314280" cy="754200"/>
          </a:xfrm>
        </p:grpSpPr>
        <p:sp>
          <p:nvSpPr>
            <p:cNvPr id="5737" name=""/>
            <p:cNvSpPr/>
            <p:nvPr/>
          </p:nvSpPr>
          <p:spPr>
            <a:xfrm>
              <a:off x="3867120" y="5297040"/>
              <a:ext cx="31428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4118040" y="4975200"/>
              <a:ext cx="0" cy="4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9" name=""/>
          <p:cNvGrpSpPr/>
          <p:nvPr/>
        </p:nvGrpSpPr>
        <p:grpSpPr>
          <a:xfrm>
            <a:off x="474840" y="4608360"/>
            <a:ext cx="3665160" cy="347760"/>
            <a:chOff x="474840" y="4608360"/>
            <a:chExt cx="3665160" cy="347760"/>
          </a:xfrm>
        </p:grpSpPr>
        <p:grpSp>
          <p:nvGrpSpPr>
            <p:cNvPr id="5740" name=""/>
            <p:cNvGrpSpPr/>
            <p:nvPr/>
          </p:nvGrpSpPr>
          <p:grpSpPr>
            <a:xfrm>
              <a:off x="474840" y="4608360"/>
              <a:ext cx="1717920" cy="347760"/>
              <a:chOff x="474840" y="4608360"/>
              <a:chExt cx="1717920" cy="347760"/>
            </a:xfrm>
          </p:grpSpPr>
          <p:grpSp>
            <p:nvGrpSpPr>
              <p:cNvPr id="5741" name=""/>
              <p:cNvGrpSpPr/>
              <p:nvPr/>
            </p:nvGrpSpPr>
            <p:grpSpPr>
              <a:xfrm>
                <a:off x="474840" y="4608360"/>
                <a:ext cx="736200" cy="347760"/>
                <a:chOff x="474840" y="4608360"/>
                <a:chExt cx="736200" cy="347760"/>
              </a:xfrm>
            </p:grpSpPr>
            <p:sp>
              <p:nvSpPr>
                <p:cNvPr id="5742" name=""/>
                <p:cNvSpPr/>
                <p:nvPr/>
              </p:nvSpPr>
              <p:spPr>
                <a:xfrm>
                  <a:off x="4748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7268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9586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12110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6" name=""/>
              <p:cNvGrpSpPr/>
              <p:nvPr/>
            </p:nvGrpSpPr>
            <p:grpSpPr>
              <a:xfrm>
                <a:off x="1456560" y="4608360"/>
                <a:ext cx="736200" cy="347760"/>
                <a:chOff x="1456560" y="4608360"/>
                <a:chExt cx="736200" cy="347760"/>
              </a:xfrm>
            </p:grpSpPr>
            <p:sp>
              <p:nvSpPr>
                <p:cNvPr id="5747" name=""/>
                <p:cNvSpPr/>
                <p:nvPr/>
              </p:nvSpPr>
              <p:spPr>
                <a:xfrm>
                  <a:off x="14565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17085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19404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219276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1" name=""/>
            <p:cNvGrpSpPr/>
            <p:nvPr/>
          </p:nvGrpSpPr>
          <p:grpSpPr>
            <a:xfrm>
              <a:off x="2422080" y="4608360"/>
              <a:ext cx="1717920" cy="347760"/>
              <a:chOff x="2422080" y="4608360"/>
              <a:chExt cx="1717920" cy="347760"/>
            </a:xfrm>
          </p:grpSpPr>
          <p:grpSp>
            <p:nvGrpSpPr>
              <p:cNvPr id="5752" name=""/>
              <p:cNvGrpSpPr/>
              <p:nvPr/>
            </p:nvGrpSpPr>
            <p:grpSpPr>
              <a:xfrm>
                <a:off x="2422080" y="4608360"/>
                <a:ext cx="736200" cy="347760"/>
                <a:chOff x="2422080" y="4608360"/>
                <a:chExt cx="736200" cy="347760"/>
              </a:xfrm>
            </p:grpSpPr>
            <p:sp>
              <p:nvSpPr>
                <p:cNvPr id="5753" name=""/>
                <p:cNvSpPr/>
                <p:nvPr/>
              </p:nvSpPr>
              <p:spPr>
                <a:xfrm>
                  <a:off x="24220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26740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>
                  <a:off x="290592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>
                  <a:off x="315828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7" name=""/>
              <p:cNvGrpSpPr/>
              <p:nvPr/>
            </p:nvGrpSpPr>
            <p:grpSpPr>
              <a:xfrm>
                <a:off x="3403800" y="4608360"/>
                <a:ext cx="736200" cy="347760"/>
                <a:chOff x="3403800" y="4608360"/>
                <a:chExt cx="736200" cy="347760"/>
              </a:xfrm>
            </p:grpSpPr>
            <p:sp>
              <p:nvSpPr>
                <p:cNvPr id="5758" name=""/>
                <p:cNvSpPr/>
                <p:nvPr/>
              </p:nvSpPr>
              <p:spPr>
                <a:xfrm>
                  <a:off x="34038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>
                  <a:off x="36558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0" name=""/>
                <p:cNvSpPr/>
                <p:nvPr/>
              </p:nvSpPr>
              <p:spPr>
                <a:xfrm>
                  <a:off x="388764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1" name=""/>
                <p:cNvSpPr/>
                <p:nvPr/>
              </p:nvSpPr>
              <p:spPr>
                <a:xfrm>
                  <a:off x="4140000" y="4608360"/>
                  <a:ext cx="0" cy="347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62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169920" y="7365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éléments sont supportés par les liern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6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7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75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76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82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88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96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04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08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14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19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20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30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31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47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65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73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86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203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208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2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213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239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263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266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278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287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292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298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858960" y="2482920"/>
            <a:ext cx="4724280" cy="1693440"/>
            <a:chOff x="858960" y="2482920"/>
            <a:chExt cx="4724280" cy="1693440"/>
          </a:xfrm>
        </p:grpSpPr>
        <p:grpSp>
          <p:nvGrpSpPr>
            <p:cNvPr id="303" name=""/>
            <p:cNvGrpSpPr/>
            <p:nvPr/>
          </p:nvGrpSpPr>
          <p:grpSpPr>
            <a:xfrm>
              <a:off x="858960" y="2755440"/>
              <a:ext cx="4724280" cy="1420920"/>
              <a:chOff x="858960" y="2755440"/>
              <a:chExt cx="4724280" cy="1420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58960" y="2757600"/>
                <a:ext cx="1291320" cy="1418760"/>
                <a:chOff x="858960" y="2757600"/>
                <a:chExt cx="1291320" cy="14187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858960" y="3726360"/>
                  <a:ext cx="317160" cy="450000"/>
                  <a:chOff x="858960" y="3726360"/>
                  <a:chExt cx="317160" cy="4500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858960" y="404532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1036080" y="372636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1183680" y="3401640"/>
                  <a:ext cx="318240" cy="450000"/>
                  <a:chOff x="1183680" y="3401640"/>
                  <a:chExt cx="318240" cy="450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1183680" y="37206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1361520" y="34016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1505520" y="3082320"/>
                  <a:ext cx="318240" cy="450000"/>
                  <a:chOff x="1505520" y="3082320"/>
                  <a:chExt cx="318240" cy="4500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1505520" y="340128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1683360" y="308232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1832040" y="2757600"/>
                  <a:ext cx="318240" cy="450000"/>
                  <a:chOff x="1832040" y="2757600"/>
                  <a:chExt cx="318240" cy="4500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1832040" y="307656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2009880" y="275760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4291920" y="2755440"/>
                <a:ext cx="1291320" cy="1418760"/>
                <a:chOff x="4291920" y="2755440"/>
                <a:chExt cx="1291320" cy="14187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291920" y="3724200"/>
                  <a:ext cx="317160" cy="450000"/>
                  <a:chOff x="4291920" y="3724200"/>
                  <a:chExt cx="317160" cy="4500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291920" y="404316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4469040" y="372420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4616640" y="3399480"/>
                  <a:ext cx="318240" cy="450000"/>
                  <a:chOff x="4616640" y="3399480"/>
                  <a:chExt cx="318240" cy="4500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616640" y="371844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4794480" y="339948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4938480" y="3080160"/>
                  <a:ext cx="318240" cy="450000"/>
                  <a:chOff x="4938480" y="3080160"/>
                  <a:chExt cx="318240" cy="45000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4938480" y="339912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116320" y="308016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5265000" y="2755440"/>
                  <a:ext cx="318240" cy="450000"/>
                  <a:chOff x="5265000" y="2755440"/>
                  <a:chExt cx="318240" cy="4500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265000" y="30744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5442840" y="27554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0" name=""/>
            <p:cNvGrpSpPr/>
            <p:nvPr/>
          </p:nvGrpSpPr>
          <p:grpSpPr>
            <a:xfrm>
              <a:off x="2448360" y="2482920"/>
              <a:ext cx="1569600" cy="1297440"/>
              <a:chOff x="2448360" y="2482920"/>
              <a:chExt cx="1569600" cy="129744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2888640" y="3456000"/>
                <a:ext cx="157320" cy="191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563200" y="3646080"/>
                <a:ext cx="48564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449440" y="3460320"/>
                <a:ext cx="43488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48360" y="3648600"/>
                <a:ext cx="11376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2774520" y="3131280"/>
                <a:ext cx="603360" cy="324360"/>
                <a:chOff x="2774520" y="3131280"/>
                <a:chExt cx="603360" cy="324360"/>
              </a:xfrm>
            </p:grpSpPr>
            <p:sp>
              <p:nvSpPr>
                <p:cNvPr id="336" name=""/>
                <p:cNvSpPr/>
                <p:nvPr/>
              </p:nvSpPr>
              <p:spPr>
                <a:xfrm flipH="1" flipV="1">
                  <a:off x="3217680" y="3131280"/>
                  <a:ext cx="157320" cy="19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892240" y="3321360"/>
                  <a:ext cx="485640" cy="13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774520" y="3134880"/>
                  <a:ext cx="439200" cy="18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777400" y="3323520"/>
                  <a:ext cx="113760" cy="13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flipH="1" flipV="1">
                <a:off x="3542760" y="2805840"/>
                <a:ext cx="154440" cy="192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217320" y="2996280"/>
                <a:ext cx="48132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106440" y="2810520"/>
                <a:ext cx="43200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103560" y="2998800"/>
                <a:ext cx="11232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3867840" y="2482920"/>
                <a:ext cx="148680" cy="187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542400" y="2673000"/>
                <a:ext cx="475560" cy="133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430080" y="2486880"/>
                <a:ext cx="43344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31520" y="2676600"/>
                <a:ext cx="109800" cy="1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350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"/>
          <p:cNvSpPr/>
          <p:nvPr/>
        </p:nvSpPr>
        <p:spPr>
          <a:xfrm>
            <a:off x="6985080" y="533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7013520" y="54039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985080" y="57340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7013520" y="579924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6985080" y="49435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7013520" y="50086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7934400" y="4548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7962840" y="46134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338040" y="5751360"/>
            <a:ext cx="629784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réaliser des pannes continues (sur 3 appuis par exe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338040" y="5354640"/>
            <a:ext cx="6297840" cy="3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changer de type de profilé (H au lieu de I par exe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338040" y="4959360"/>
            <a:ext cx="6297840" cy="31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peut augmenter la section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38040" y="4564080"/>
            <a:ext cx="6297840" cy="31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 n’y aucune autr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163440" y="509760"/>
            <a:ext cx="8753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ur éviter d’utiliser des lier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8" name=""/>
          <p:cNvGrpSpPr/>
          <p:nvPr/>
        </p:nvGrpSpPr>
        <p:grpSpPr>
          <a:xfrm>
            <a:off x="2046240" y="2516040"/>
            <a:ext cx="4932360" cy="1861920"/>
            <a:chOff x="2046240" y="2516040"/>
            <a:chExt cx="4932360" cy="1861920"/>
          </a:xfrm>
        </p:grpSpPr>
        <p:grpSp>
          <p:nvGrpSpPr>
            <p:cNvPr id="5779" name=""/>
            <p:cNvGrpSpPr/>
            <p:nvPr/>
          </p:nvGrpSpPr>
          <p:grpSpPr>
            <a:xfrm>
              <a:off x="5396400" y="2799720"/>
              <a:ext cx="1294560" cy="1292400"/>
              <a:chOff x="5396400" y="2799720"/>
              <a:chExt cx="1294560" cy="1292400"/>
            </a:xfrm>
          </p:grpSpPr>
          <p:sp>
            <p:nvSpPr>
              <p:cNvPr id="5780" name=""/>
              <p:cNvSpPr/>
              <p:nvPr/>
            </p:nvSpPr>
            <p:spPr>
              <a:xfrm>
                <a:off x="6549120" y="2799720"/>
                <a:ext cx="141840" cy="14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265080" y="3081240"/>
                <a:ext cx="142200" cy="143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972760" y="3370320"/>
                <a:ext cx="14220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85480" y="3656160"/>
                <a:ext cx="145800" cy="142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396400" y="3949920"/>
                <a:ext cx="14148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5" name=""/>
            <p:cNvGrpSpPr/>
            <p:nvPr/>
          </p:nvGrpSpPr>
          <p:grpSpPr>
            <a:xfrm>
              <a:off x="2340720" y="2798640"/>
              <a:ext cx="1290960" cy="1285920"/>
              <a:chOff x="2340720" y="2798640"/>
              <a:chExt cx="1290960" cy="1285920"/>
            </a:xfrm>
          </p:grpSpPr>
          <p:sp>
            <p:nvSpPr>
              <p:cNvPr id="5786" name=""/>
              <p:cNvSpPr/>
              <p:nvPr/>
            </p:nvSpPr>
            <p:spPr>
              <a:xfrm>
                <a:off x="3489840" y="2798640"/>
                <a:ext cx="141840" cy="14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204000" y="3082680"/>
                <a:ext cx="141840" cy="143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917440" y="337032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2625120" y="3657240"/>
                <a:ext cx="14256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2340720" y="394236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1" name=""/>
            <p:cNvGrpSpPr/>
            <p:nvPr/>
          </p:nvGrpSpPr>
          <p:grpSpPr>
            <a:xfrm>
              <a:off x="3772440" y="2516040"/>
              <a:ext cx="3206160" cy="144000"/>
              <a:chOff x="3772440" y="2516040"/>
              <a:chExt cx="3206160" cy="144000"/>
            </a:xfrm>
          </p:grpSpPr>
          <p:sp>
            <p:nvSpPr>
              <p:cNvPr id="5792" name=""/>
              <p:cNvSpPr/>
              <p:nvPr/>
            </p:nvSpPr>
            <p:spPr>
              <a:xfrm>
                <a:off x="6836760" y="251640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772440" y="2516400"/>
                <a:ext cx="142200" cy="142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830920" y="2516040"/>
                <a:ext cx="142200" cy="142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4281480" y="251784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4771080" y="25174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305320" y="251604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336000" y="25174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9" name=""/>
            <p:cNvGrpSpPr/>
            <p:nvPr/>
          </p:nvGrpSpPr>
          <p:grpSpPr>
            <a:xfrm>
              <a:off x="2046240" y="4234320"/>
              <a:ext cx="3205440" cy="143640"/>
              <a:chOff x="2046240" y="4234320"/>
              <a:chExt cx="3205440" cy="143640"/>
            </a:xfrm>
          </p:grpSpPr>
          <p:sp>
            <p:nvSpPr>
              <p:cNvPr id="5800" name=""/>
              <p:cNvSpPr/>
              <p:nvPr/>
            </p:nvSpPr>
            <p:spPr>
              <a:xfrm>
                <a:off x="2046240" y="42346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109480" y="4234320"/>
                <a:ext cx="142200" cy="142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2552400" y="42346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044520" y="42346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4105080" y="423576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4617360" y="4234680"/>
                <a:ext cx="141840" cy="142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6" name=""/>
          <p:cNvSpPr/>
          <p:nvPr/>
        </p:nvSpPr>
        <p:spPr>
          <a:xfrm>
            <a:off x="3137040" y="2989440"/>
            <a:ext cx="0" cy="7808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7" name=""/>
          <p:cNvGrpSpPr/>
          <p:nvPr/>
        </p:nvGrpSpPr>
        <p:grpSpPr>
          <a:xfrm>
            <a:off x="3137040" y="2979720"/>
            <a:ext cx="1055520" cy="434880"/>
            <a:chOff x="3137040" y="2979720"/>
            <a:chExt cx="1055520" cy="434880"/>
          </a:xfrm>
        </p:grpSpPr>
        <p:sp>
          <p:nvSpPr>
            <p:cNvPr id="5808" name=""/>
            <p:cNvSpPr/>
            <p:nvPr/>
          </p:nvSpPr>
          <p:spPr>
            <a:xfrm>
              <a:off x="3137040" y="2979720"/>
              <a:ext cx="532440" cy="4348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V="1">
              <a:off x="3668040" y="2985480"/>
              <a:ext cx="524520" cy="428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0" name=""/>
          <p:cNvSpPr/>
          <p:nvPr/>
        </p:nvSpPr>
        <p:spPr>
          <a:xfrm>
            <a:off x="3664080" y="2895480"/>
            <a:ext cx="0" cy="5158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3867120" y="1406520"/>
            <a:ext cx="3060720" cy="1079640"/>
            <a:chOff x="3867120" y="1406520"/>
            <a:chExt cx="3060720" cy="1079640"/>
          </a:xfrm>
        </p:grpSpPr>
        <p:sp>
          <p:nvSpPr>
            <p:cNvPr id="5812" name=""/>
            <p:cNvSpPr/>
            <p:nvPr/>
          </p:nvSpPr>
          <p:spPr>
            <a:xfrm>
              <a:off x="3867120" y="1406520"/>
              <a:ext cx="305820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867480" y="1699560"/>
              <a:ext cx="305820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3867840" y="2217600"/>
              <a:ext cx="3054960" cy="126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3868560" y="1988280"/>
              <a:ext cx="305028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869640" y="2486160"/>
              <a:ext cx="305820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2135160" y="1695600"/>
            <a:ext cx="1731960" cy="2507760"/>
            <a:chOff x="2135160" y="1695600"/>
            <a:chExt cx="1731960" cy="2507760"/>
          </a:xfrm>
        </p:grpSpPr>
        <p:sp>
          <p:nvSpPr>
            <p:cNvPr id="5818" name=""/>
            <p:cNvSpPr/>
            <p:nvPr/>
          </p:nvSpPr>
          <p:spPr>
            <a:xfrm flipV="1">
              <a:off x="2138760" y="1695600"/>
              <a:ext cx="1726920" cy="17179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V="1">
              <a:off x="2135160" y="1990440"/>
              <a:ext cx="1730880" cy="1707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V="1">
              <a:off x="2136240" y="2227320"/>
              <a:ext cx="1730880" cy="17254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2136240" y="2482920"/>
              <a:ext cx="1728360" cy="1720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2" name=""/>
          <p:cNvGrpSpPr/>
          <p:nvPr/>
        </p:nvGrpSpPr>
        <p:grpSpPr>
          <a:xfrm>
            <a:off x="2130480" y="1169640"/>
            <a:ext cx="4787640" cy="3027240"/>
            <a:chOff x="2130480" y="1169640"/>
            <a:chExt cx="4787640" cy="3027240"/>
          </a:xfrm>
        </p:grpSpPr>
        <p:grpSp>
          <p:nvGrpSpPr>
            <p:cNvPr id="5823" name=""/>
            <p:cNvGrpSpPr/>
            <p:nvPr/>
          </p:nvGrpSpPr>
          <p:grpSpPr>
            <a:xfrm>
              <a:off x="2130480" y="2901600"/>
              <a:ext cx="3063960" cy="1295280"/>
              <a:chOff x="2130480" y="2901600"/>
              <a:chExt cx="3063960" cy="1295280"/>
            </a:xfrm>
          </p:grpSpPr>
          <p:sp>
            <p:nvSpPr>
              <p:cNvPr id="5824" name=""/>
              <p:cNvSpPr/>
              <p:nvPr/>
            </p:nvSpPr>
            <p:spPr>
              <a:xfrm flipV="1">
                <a:off x="2131920" y="2901600"/>
                <a:ext cx="1528560" cy="237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 flipH="1" flipV="1">
                <a:off x="3664440" y="2902680"/>
                <a:ext cx="1530000" cy="237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 flipV="1">
                <a:off x="2130480" y="3135600"/>
                <a:ext cx="0" cy="1061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 flipV="1">
                <a:off x="5190120" y="3135600"/>
                <a:ext cx="0" cy="1061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8" name=""/>
            <p:cNvGrpSpPr/>
            <p:nvPr/>
          </p:nvGrpSpPr>
          <p:grpSpPr>
            <a:xfrm>
              <a:off x="3864600" y="1169640"/>
              <a:ext cx="3053520" cy="1320480"/>
              <a:chOff x="3864600" y="1169640"/>
              <a:chExt cx="3053520" cy="1320480"/>
            </a:xfrm>
          </p:grpSpPr>
          <p:sp>
            <p:nvSpPr>
              <p:cNvPr id="5829" name=""/>
              <p:cNvSpPr/>
              <p:nvPr/>
            </p:nvSpPr>
            <p:spPr>
              <a:xfrm flipV="1">
                <a:off x="3865320" y="1404720"/>
                <a:ext cx="1080" cy="1085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 flipV="1">
                <a:off x="6917760" y="1402560"/>
                <a:ext cx="0" cy="1061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 flipV="1">
                <a:off x="3864600" y="1169640"/>
                <a:ext cx="1528560" cy="235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 flipH="1" flipV="1">
                <a:off x="5388120" y="1170720"/>
                <a:ext cx="1530000" cy="235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33" name=""/>
          <p:cNvGrpSpPr/>
          <p:nvPr/>
        </p:nvGrpSpPr>
        <p:grpSpPr>
          <a:xfrm>
            <a:off x="2138400" y="1174680"/>
            <a:ext cx="4784040" cy="3046320"/>
            <a:chOff x="2138400" y="1174680"/>
            <a:chExt cx="4784040" cy="3046320"/>
          </a:xfrm>
        </p:grpSpPr>
        <p:grpSp>
          <p:nvGrpSpPr>
            <p:cNvPr id="5834" name=""/>
            <p:cNvGrpSpPr/>
            <p:nvPr/>
          </p:nvGrpSpPr>
          <p:grpSpPr>
            <a:xfrm>
              <a:off x="3864600" y="1174680"/>
              <a:ext cx="3057840" cy="1320120"/>
              <a:chOff x="3864600" y="1174680"/>
              <a:chExt cx="3057840" cy="1320120"/>
            </a:xfrm>
          </p:grpSpPr>
          <p:sp>
            <p:nvSpPr>
              <p:cNvPr id="5835" name=""/>
              <p:cNvSpPr/>
              <p:nvPr/>
            </p:nvSpPr>
            <p:spPr>
              <a:xfrm>
                <a:off x="6424560" y="1334880"/>
                <a:ext cx="0" cy="1153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 flipH="1">
                <a:off x="6921360" y="1406880"/>
                <a:ext cx="1080" cy="1087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5920560" y="1254240"/>
                <a:ext cx="0" cy="1236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392440" y="1174680"/>
                <a:ext cx="0" cy="131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862160" y="1257480"/>
                <a:ext cx="0" cy="12333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 flipH="1">
                <a:off x="3864600" y="1401840"/>
                <a:ext cx="2520" cy="1084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373640" y="1333440"/>
                <a:ext cx="0" cy="1157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2" name=""/>
            <p:cNvGrpSpPr/>
            <p:nvPr/>
          </p:nvGrpSpPr>
          <p:grpSpPr>
            <a:xfrm>
              <a:off x="2138400" y="2910960"/>
              <a:ext cx="3060360" cy="1310040"/>
              <a:chOff x="2138400" y="2910960"/>
              <a:chExt cx="3060360" cy="1310040"/>
            </a:xfrm>
          </p:grpSpPr>
          <p:sp>
            <p:nvSpPr>
              <p:cNvPr id="5843" name=""/>
              <p:cNvSpPr/>
              <p:nvPr/>
            </p:nvSpPr>
            <p:spPr>
              <a:xfrm flipH="1">
                <a:off x="3668760" y="2910960"/>
                <a:ext cx="1080" cy="509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709160" y="3073680"/>
                <a:ext cx="0" cy="1147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5198760" y="3146040"/>
                <a:ext cx="0" cy="10648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198680" y="2996280"/>
                <a:ext cx="0" cy="12193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3139920" y="2989800"/>
                <a:ext cx="0" cy="1226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2138400" y="3148560"/>
                <a:ext cx="720" cy="10659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2651400" y="3069720"/>
                <a:ext cx="0" cy="11462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0" name=""/>
          <p:cNvGrpSpPr/>
          <p:nvPr/>
        </p:nvGrpSpPr>
        <p:grpSpPr>
          <a:xfrm>
            <a:off x="2130480" y="1401480"/>
            <a:ext cx="4792680" cy="2803680"/>
            <a:chOff x="2130480" y="1401480"/>
            <a:chExt cx="4792680" cy="2803680"/>
          </a:xfrm>
        </p:grpSpPr>
        <p:grpSp>
          <p:nvGrpSpPr>
            <p:cNvPr id="5851" name=""/>
            <p:cNvGrpSpPr/>
            <p:nvPr/>
          </p:nvGrpSpPr>
          <p:grpSpPr>
            <a:xfrm>
              <a:off x="2130480" y="1401480"/>
              <a:ext cx="4790520" cy="2803680"/>
              <a:chOff x="2130480" y="1401480"/>
              <a:chExt cx="4790520" cy="2803680"/>
            </a:xfrm>
          </p:grpSpPr>
          <p:grpSp>
            <p:nvGrpSpPr>
              <p:cNvPr id="5852" name=""/>
              <p:cNvGrpSpPr/>
              <p:nvPr/>
            </p:nvGrpSpPr>
            <p:grpSpPr>
              <a:xfrm>
                <a:off x="5178240" y="2846520"/>
                <a:ext cx="301320" cy="1352880"/>
                <a:chOff x="5178240" y="2846520"/>
                <a:chExt cx="301320" cy="1352880"/>
              </a:xfrm>
            </p:grpSpPr>
            <p:sp>
              <p:nvSpPr>
                <p:cNvPr id="5853" name=""/>
                <p:cNvSpPr/>
                <p:nvPr/>
              </p:nvSpPr>
              <p:spPr>
                <a:xfrm flipV="1">
                  <a:off x="5190840" y="3408480"/>
                  <a:ext cx="288360" cy="790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 flipV="1">
                  <a:off x="5185440" y="3130560"/>
                  <a:ext cx="293400" cy="27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 flipV="1">
                  <a:off x="5190480" y="3691080"/>
                  <a:ext cx="288360" cy="219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V="1">
                  <a:off x="5190840" y="2846520"/>
                  <a:ext cx="288360" cy="8384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V="1">
                  <a:off x="5178240" y="2858040"/>
                  <a:ext cx="288360" cy="288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5191200" y="3131280"/>
                  <a:ext cx="0" cy="1063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5479560" y="2852280"/>
                  <a:ext cx="0" cy="1064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0" name=""/>
              <p:cNvGrpSpPr/>
              <p:nvPr/>
            </p:nvGrpSpPr>
            <p:grpSpPr>
              <a:xfrm>
                <a:off x="2130480" y="2853720"/>
                <a:ext cx="289440" cy="1351440"/>
                <a:chOff x="2130480" y="2853720"/>
                <a:chExt cx="289440" cy="1351440"/>
              </a:xfrm>
            </p:grpSpPr>
            <p:sp>
              <p:nvSpPr>
                <p:cNvPr id="5861" name=""/>
                <p:cNvSpPr/>
                <p:nvPr/>
              </p:nvSpPr>
              <p:spPr>
                <a:xfrm flipV="1">
                  <a:off x="2131560" y="3411720"/>
                  <a:ext cx="288000" cy="790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 flipV="1">
                  <a:off x="2131560" y="3141360"/>
                  <a:ext cx="285840" cy="266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 flipV="1">
                  <a:off x="2130480" y="3700080"/>
                  <a:ext cx="288000" cy="2149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V="1">
                  <a:off x="2131560" y="2853720"/>
                  <a:ext cx="286920" cy="841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V="1">
                  <a:off x="2133360" y="285372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2131920" y="3142080"/>
                  <a:ext cx="0" cy="106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418840" y="2862720"/>
                  <a:ext cx="1080" cy="10508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8" name=""/>
              <p:cNvGrpSpPr/>
              <p:nvPr/>
            </p:nvGrpSpPr>
            <p:grpSpPr>
              <a:xfrm>
                <a:off x="6630120" y="1401480"/>
                <a:ext cx="290880" cy="1371240"/>
                <a:chOff x="6630120" y="1401480"/>
                <a:chExt cx="290880" cy="1371240"/>
              </a:xfrm>
            </p:grpSpPr>
            <p:sp>
              <p:nvSpPr>
                <p:cNvPr id="5869" name=""/>
                <p:cNvSpPr/>
                <p:nvPr/>
              </p:nvSpPr>
              <p:spPr>
                <a:xfrm flipV="1">
                  <a:off x="6632280" y="1983240"/>
                  <a:ext cx="285840" cy="785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 flipV="1">
                  <a:off x="6630120" y="1691640"/>
                  <a:ext cx="287280" cy="29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 flipV="1">
                  <a:off x="6632280" y="2265840"/>
                  <a:ext cx="285840" cy="216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V="1">
                  <a:off x="6631200" y="1403280"/>
                  <a:ext cx="283320" cy="867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V="1">
                  <a:off x="6630480" y="1401480"/>
                  <a:ext cx="289800" cy="294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>
                  <a:off x="6634080" y="1686960"/>
                  <a:ext cx="0" cy="1085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6919920" y="1406880"/>
                  <a:ext cx="1080" cy="1076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6" name=""/>
              <p:cNvGrpSpPr/>
              <p:nvPr/>
            </p:nvGrpSpPr>
            <p:grpSpPr>
              <a:xfrm>
                <a:off x="3573360" y="1403280"/>
                <a:ext cx="288000" cy="1365480"/>
                <a:chOff x="3573360" y="1403280"/>
                <a:chExt cx="288000" cy="1365480"/>
              </a:xfrm>
            </p:grpSpPr>
            <p:sp>
              <p:nvSpPr>
                <p:cNvPr id="5877" name=""/>
                <p:cNvSpPr/>
                <p:nvPr/>
              </p:nvSpPr>
              <p:spPr>
                <a:xfrm flipV="1">
                  <a:off x="3573360" y="1987200"/>
                  <a:ext cx="286920" cy="781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 flipV="1">
                  <a:off x="3574440" y="1695240"/>
                  <a:ext cx="284400" cy="289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 flipV="1">
                  <a:off x="3573360" y="2270880"/>
                  <a:ext cx="288000" cy="2084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V="1">
                  <a:off x="3573360" y="1403640"/>
                  <a:ext cx="288000" cy="867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V="1">
                  <a:off x="3574800" y="1404000"/>
                  <a:ext cx="282960" cy="284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3573720" y="1701360"/>
                  <a:ext cx="0" cy="1063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3859200" y="1403280"/>
                  <a:ext cx="1080" cy="10774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4" name=""/>
            <p:cNvGrpSpPr/>
            <p:nvPr/>
          </p:nvGrpSpPr>
          <p:grpSpPr>
            <a:xfrm>
              <a:off x="2133720" y="1982520"/>
              <a:ext cx="4789440" cy="1716480"/>
              <a:chOff x="2133720" y="1982520"/>
              <a:chExt cx="4789440" cy="1716480"/>
            </a:xfrm>
          </p:grpSpPr>
          <p:sp>
            <p:nvSpPr>
              <p:cNvPr id="5885" name=""/>
              <p:cNvSpPr/>
              <p:nvPr/>
            </p:nvSpPr>
            <p:spPr>
              <a:xfrm flipV="1">
                <a:off x="5194080" y="3405960"/>
                <a:ext cx="282960" cy="284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 flipV="1">
                <a:off x="2133720" y="3412800"/>
                <a:ext cx="288000" cy="2862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 flipV="1">
                <a:off x="6639840" y="1982520"/>
                <a:ext cx="283320" cy="283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 flipV="1">
                <a:off x="3578040" y="1987920"/>
                <a:ext cx="285480" cy="283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89" name=""/>
          <p:cNvGrpSpPr/>
          <p:nvPr/>
        </p:nvGrpSpPr>
        <p:grpSpPr>
          <a:xfrm>
            <a:off x="2425680" y="1460160"/>
            <a:ext cx="4211640" cy="2452680"/>
            <a:chOff x="2425680" y="1460160"/>
            <a:chExt cx="4211640" cy="2452680"/>
          </a:xfrm>
        </p:grpSpPr>
        <p:grpSp>
          <p:nvGrpSpPr>
            <p:cNvPr id="5890" name=""/>
            <p:cNvGrpSpPr/>
            <p:nvPr/>
          </p:nvGrpSpPr>
          <p:grpSpPr>
            <a:xfrm>
              <a:off x="2425680" y="2616120"/>
              <a:ext cx="3058560" cy="1296720"/>
              <a:chOff x="2425680" y="2616120"/>
              <a:chExt cx="3058560" cy="1296720"/>
            </a:xfrm>
          </p:grpSpPr>
          <p:sp>
            <p:nvSpPr>
              <p:cNvPr id="5891" name=""/>
              <p:cNvSpPr/>
              <p:nvPr/>
            </p:nvSpPr>
            <p:spPr>
              <a:xfrm flipV="1">
                <a:off x="2425680" y="2851920"/>
                <a:ext cx="0" cy="1060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 flipV="1">
                <a:off x="2425680" y="2616120"/>
                <a:ext cx="1529280" cy="235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 flipV="1">
                <a:off x="5484240" y="2851920"/>
                <a:ext cx="0" cy="10609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 flipH="1" flipV="1">
                <a:off x="3954960" y="2616120"/>
                <a:ext cx="1529280" cy="235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5" name=""/>
            <p:cNvGrpSpPr/>
            <p:nvPr/>
          </p:nvGrpSpPr>
          <p:grpSpPr>
            <a:xfrm>
              <a:off x="2713680" y="1460160"/>
              <a:ext cx="3923640" cy="2173680"/>
              <a:chOff x="2713680" y="1460160"/>
              <a:chExt cx="3923640" cy="2173680"/>
            </a:xfrm>
          </p:grpSpPr>
          <p:grpSp>
            <p:nvGrpSpPr>
              <p:cNvPr id="5896" name=""/>
              <p:cNvGrpSpPr/>
              <p:nvPr/>
            </p:nvGrpSpPr>
            <p:grpSpPr>
              <a:xfrm>
                <a:off x="2713680" y="2327040"/>
                <a:ext cx="3058920" cy="1306800"/>
                <a:chOff x="2713680" y="2327040"/>
                <a:chExt cx="3058920" cy="1306800"/>
              </a:xfrm>
            </p:grpSpPr>
            <p:sp>
              <p:nvSpPr>
                <p:cNvPr id="5897" name=""/>
                <p:cNvSpPr/>
                <p:nvPr/>
              </p:nvSpPr>
              <p:spPr>
                <a:xfrm flipV="1">
                  <a:off x="2713680" y="2563920"/>
                  <a:ext cx="0" cy="10663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V="1">
                  <a:off x="2713680" y="2327040"/>
                  <a:ext cx="152964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5772600" y="2563560"/>
                  <a:ext cx="0" cy="1070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 flipV="1">
                  <a:off x="4243320" y="2327040"/>
                  <a:ext cx="1529280" cy="236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1" name=""/>
              <p:cNvGrpSpPr/>
              <p:nvPr/>
            </p:nvGrpSpPr>
            <p:grpSpPr>
              <a:xfrm>
                <a:off x="3000600" y="2038320"/>
                <a:ext cx="3060360" cy="1303920"/>
                <a:chOff x="3000600" y="2038320"/>
                <a:chExt cx="3060360" cy="1303920"/>
              </a:xfrm>
            </p:grpSpPr>
            <p:sp>
              <p:nvSpPr>
                <p:cNvPr id="5902" name=""/>
                <p:cNvSpPr/>
                <p:nvPr/>
              </p:nvSpPr>
              <p:spPr>
                <a:xfrm flipV="1">
                  <a:off x="3000600" y="2274840"/>
                  <a:ext cx="0" cy="10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V="1">
                  <a:off x="3000600" y="2038320"/>
                  <a:ext cx="1530000" cy="236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V="1">
                  <a:off x="6060960" y="2274840"/>
                  <a:ext cx="0" cy="10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 flipH="1" flipV="1">
                  <a:off x="4530600" y="2038320"/>
                  <a:ext cx="1530000" cy="2368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6" name=""/>
              <p:cNvGrpSpPr/>
              <p:nvPr/>
            </p:nvGrpSpPr>
            <p:grpSpPr>
              <a:xfrm>
                <a:off x="3290040" y="1749240"/>
                <a:ext cx="3058920" cy="1305360"/>
                <a:chOff x="3290040" y="1749240"/>
                <a:chExt cx="3058920" cy="1305360"/>
              </a:xfrm>
            </p:grpSpPr>
            <p:sp>
              <p:nvSpPr>
                <p:cNvPr id="5907" name=""/>
                <p:cNvSpPr/>
                <p:nvPr/>
              </p:nvSpPr>
              <p:spPr>
                <a:xfrm flipV="1">
                  <a:off x="3290040" y="1986480"/>
                  <a:ext cx="0" cy="1068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V="1">
                  <a:off x="3290040" y="1749240"/>
                  <a:ext cx="1529280" cy="237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 flipV="1">
                  <a:off x="6348960" y="1986480"/>
                  <a:ext cx="0" cy="1068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 flipV="1">
                  <a:off x="4818960" y="1749240"/>
                  <a:ext cx="1529640" cy="237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1" name=""/>
              <p:cNvGrpSpPr/>
              <p:nvPr/>
            </p:nvGrpSpPr>
            <p:grpSpPr>
              <a:xfrm>
                <a:off x="3578760" y="1460160"/>
                <a:ext cx="3058560" cy="1313280"/>
                <a:chOff x="3578760" y="1460160"/>
                <a:chExt cx="3058560" cy="1313280"/>
              </a:xfrm>
            </p:grpSpPr>
            <p:sp>
              <p:nvSpPr>
                <p:cNvPr id="5912" name=""/>
                <p:cNvSpPr/>
                <p:nvPr/>
              </p:nvSpPr>
              <p:spPr>
                <a:xfrm flipV="1">
                  <a:off x="3578760" y="1699200"/>
                  <a:ext cx="0" cy="1074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 flipV="1">
                  <a:off x="3578760" y="1460160"/>
                  <a:ext cx="1529280" cy="238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 flipV="1">
                  <a:off x="6637320" y="1699200"/>
                  <a:ext cx="0" cy="10742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 flipH="1" flipV="1">
                  <a:off x="5108040" y="1460160"/>
                  <a:ext cx="1529280" cy="2386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16" name=""/>
          <p:cNvGrpSpPr/>
          <p:nvPr/>
        </p:nvGrpSpPr>
        <p:grpSpPr>
          <a:xfrm>
            <a:off x="2125800" y="1171080"/>
            <a:ext cx="4795560" cy="1970280"/>
            <a:chOff x="2125800" y="1171080"/>
            <a:chExt cx="4795560" cy="1970280"/>
          </a:xfrm>
        </p:grpSpPr>
        <p:grpSp>
          <p:nvGrpSpPr>
            <p:cNvPr id="5917" name=""/>
            <p:cNvGrpSpPr/>
            <p:nvPr/>
          </p:nvGrpSpPr>
          <p:grpSpPr>
            <a:xfrm>
              <a:off x="3575520" y="1171080"/>
              <a:ext cx="3345840" cy="525600"/>
              <a:chOff x="3575520" y="1171080"/>
              <a:chExt cx="3345840" cy="525600"/>
            </a:xfrm>
          </p:grpSpPr>
          <p:sp>
            <p:nvSpPr>
              <p:cNvPr id="5918" name=""/>
              <p:cNvSpPr/>
              <p:nvPr/>
            </p:nvSpPr>
            <p:spPr>
              <a:xfrm flipV="1">
                <a:off x="6638400" y="1404000"/>
                <a:ext cx="282960" cy="283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 flipV="1">
                <a:off x="5107320" y="1171080"/>
                <a:ext cx="286920" cy="2890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 flipV="1">
                <a:off x="5635800" y="1252440"/>
                <a:ext cx="282960" cy="284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 flipV="1">
                <a:off x="3576240" y="1407240"/>
                <a:ext cx="289440" cy="286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V="1">
                <a:off x="4086000" y="1330200"/>
                <a:ext cx="282960" cy="283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 flipV="1">
                <a:off x="4577400" y="1254600"/>
                <a:ext cx="282960" cy="2840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4" name=""/>
              <p:cNvGrpSpPr/>
              <p:nvPr/>
            </p:nvGrpSpPr>
            <p:grpSpPr>
              <a:xfrm>
                <a:off x="3575520" y="1171440"/>
                <a:ext cx="3342240" cy="525240"/>
                <a:chOff x="3575520" y="1171440"/>
                <a:chExt cx="3342240" cy="525240"/>
              </a:xfrm>
            </p:grpSpPr>
            <p:sp>
              <p:nvSpPr>
                <p:cNvPr id="5925" name=""/>
                <p:cNvSpPr/>
                <p:nvPr/>
              </p:nvSpPr>
              <p:spPr>
                <a:xfrm flipH="1" flipV="1">
                  <a:off x="5392080" y="1171440"/>
                  <a:ext cx="237600" cy="36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 flipH="1">
                  <a:off x="4576320" y="1171800"/>
                  <a:ext cx="813960" cy="3690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 flipH="1" flipV="1">
                  <a:off x="6431040" y="1329120"/>
                  <a:ext cx="200880" cy="367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V="1">
                  <a:off x="6137640" y="1404360"/>
                  <a:ext cx="780120" cy="214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H="1" flipV="1">
                  <a:off x="5920920" y="1253160"/>
                  <a:ext cx="216360" cy="3672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 flipH="1">
                  <a:off x="5632560" y="1327320"/>
                  <a:ext cx="799200" cy="214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 flipH="1">
                  <a:off x="5109480" y="1249200"/>
                  <a:ext cx="811080" cy="2077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 flipH="1" flipV="1">
                  <a:off x="4861080" y="1255680"/>
                  <a:ext cx="254880" cy="2088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 flipH="1" flipV="1">
                  <a:off x="4372920" y="1326960"/>
                  <a:ext cx="210600" cy="215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 flipH="1">
                  <a:off x="4083120" y="1256760"/>
                  <a:ext cx="779040" cy="362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 flipH="1" flipV="1">
                  <a:off x="3867480" y="1408320"/>
                  <a:ext cx="213480" cy="2091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 flipH="1">
                  <a:off x="3575520" y="1328400"/>
                  <a:ext cx="797400" cy="3657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 flipV="1">
                  <a:off x="3868200" y="1173240"/>
                  <a:ext cx="1522800" cy="2300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 flipV="1">
                  <a:off x="3589920" y="1457640"/>
                  <a:ext cx="1520640" cy="2350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5108040" y="1456560"/>
                  <a:ext cx="1524960" cy="2401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5397840" y="1171440"/>
                  <a:ext cx="1513440" cy="23256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1" name=""/>
              <p:cNvSpPr/>
              <p:nvPr/>
            </p:nvSpPr>
            <p:spPr>
              <a:xfrm flipV="1">
                <a:off x="6138720" y="1329120"/>
                <a:ext cx="290520" cy="291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2" name=""/>
            <p:cNvGrpSpPr/>
            <p:nvPr/>
          </p:nvGrpSpPr>
          <p:grpSpPr>
            <a:xfrm>
              <a:off x="2125800" y="2615040"/>
              <a:ext cx="3347640" cy="526320"/>
              <a:chOff x="2125800" y="2615040"/>
              <a:chExt cx="3347640" cy="526320"/>
            </a:xfrm>
          </p:grpSpPr>
          <p:sp>
            <p:nvSpPr>
              <p:cNvPr id="5943" name=""/>
              <p:cNvSpPr/>
              <p:nvPr/>
            </p:nvSpPr>
            <p:spPr>
              <a:xfrm flipV="1">
                <a:off x="5185440" y="2850480"/>
                <a:ext cx="286920" cy="2862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 flipV="1">
                <a:off x="4188960" y="2697120"/>
                <a:ext cx="285480" cy="285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 flipV="1">
                <a:off x="3657960" y="2619360"/>
                <a:ext cx="281880" cy="281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655080" y="2901240"/>
                <a:ext cx="1530000" cy="240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H="1" flipV="1">
                <a:off x="3943800" y="2617200"/>
                <a:ext cx="238680" cy="368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 flipH="1" flipV="1">
                <a:off x="4983840" y="2776320"/>
                <a:ext cx="203400" cy="363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V="1">
                <a:off x="4695840" y="2851560"/>
                <a:ext cx="772200" cy="212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 flipH="1" flipV="1">
                <a:off x="4475160" y="2698200"/>
                <a:ext cx="221400" cy="368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 flipH="1">
                <a:off x="4183200" y="2775600"/>
                <a:ext cx="799200" cy="210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 flipH="1">
                <a:off x="3656880" y="2697480"/>
                <a:ext cx="820080" cy="20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948480" y="2615760"/>
                <a:ext cx="1524960" cy="236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V="1">
                <a:off x="4697280" y="2775960"/>
                <a:ext cx="285480" cy="2865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 flipV="1">
                <a:off x="3130560" y="2694240"/>
                <a:ext cx="285480" cy="287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 flipV="1">
                <a:off x="2639520" y="2769120"/>
                <a:ext cx="288000" cy="2898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 flipV="1">
                <a:off x="2134440" y="2901240"/>
                <a:ext cx="1520280" cy="2376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 flipV="1">
                <a:off x="2416320" y="2615400"/>
                <a:ext cx="1535400" cy="233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3128760" y="2615040"/>
                <a:ext cx="817920" cy="368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 flipH="1" flipV="1">
                <a:off x="3414240" y="2697480"/>
                <a:ext cx="239760" cy="2037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 flipH="1" flipV="1">
                <a:off x="2925000" y="2769120"/>
                <a:ext cx="203040" cy="2131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H="1">
                <a:off x="2641320" y="2701440"/>
                <a:ext cx="766440" cy="359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 flipH="1" flipV="1">
                <a:off x="2417040" y="2849400"/>
                <a:ext cx="219960" cy="2102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 flipH="1">
                <a:off x="2129040" y="2771640"/>
                <a:ext cx="793440" cy="368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 flipV="1">
                <a:off x="2125800" y="2850480"/>
                <a:ext cx="290520" cy="29016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6" name=""/>
          <p:cNvGrpSpPr/>
          <p:nvPr/>
        </p:nvGrpSpPr>
        <p:grpSpPr>
          <a:xfrm>
            <a:off x="2136600" y="1404720"/>
            <a:ext cx="4784400" cy="1733400"/>
            <a:chOff x="2136600" y="1404720"/>
            <a:chExt cx="4784400" cy="1733400"/>
          </a:xfrm>
        </p:grpSpPr>
        <p:sp>
          <p:nvSpPr>
            <p:cNvPr id="5967" name=""/>
            <p:cNvSpPr/>
            <p:nvPr/>
          </p:nvSpPr>
          <p:spPr>
            <a:xfrm flipV="1">
              <a:off x="5186520" y="1404720"/>
              <a:ext cx="1734480" cy="17334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36600" y="1404720"/>
              <a:ext cx="1729440" cy="17334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9" name=""/>
          <p:cNvGrpSpPr/>
          <p:nvPr/>
        </p:nvGrpSpPr>
        <p:grpSpPr>
          <a:xfrm>
            <a:off x="2355840" y="1211040"/>
            <a:ext cx="4322880" cy="1899000"/>
            <a:chOff x="2355840" y="1211040"/>
            <a:chExt cx="4322880" cy="1899000"/>
          </a:xfrm>
        </p:grpSpPr>
        <p:sp>
          <p:nvSpPr>
            <p:cNvPr id="5970" name=""/>
            <p:cNvSpPr/>
            <p:nvPr/>
          </p:nvSpPr>
          <p:spPr>
            <a:xfrm flipV="1">
              <a:off x="3933360" y="1211040"/>
              <a:ext cx="1725120" cy="17334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V="1">
              <a:off x="4194720" y="1250640"/>
              <a:ext cx="1730160" cy="1734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V="1">
              <a:off x="4704120" y="1332720"/>
              <a:ext cx="1722960" cy="17334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V="1">
              <a:off x="4943160" y="1371600"/>
              <a:ext cx="1735560" cy="17348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V="1">
              <a:off x="2355840" y="1369080"/>
              <a:ext cx="1770480" cy="17409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V="1">
              <a:off x="2644560" y="1330200"/>
              <a:ext cx="1728720" cy="17319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3137040" y="1249200"/>
              <a:ext cx="1732320" cy="17319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V="1">
              <a:off x="3386160" y="1211040"/>
              <a:ext cx="1759680" cy="1738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V="1">
              <a:off x="2883960" y="1295280"/>
              <a:ext cx="1737000" cy="17323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V="1">
              <a:off x="4446720" y="1288080"/>
              <a:ext cx="1730160" cy="17359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0" name=""/>
          <p:cNvSpPr/>
          <p:nvPr/>
        </p:nvSpPr>
        <p:spPr>
          <a:xfrm flipV="1">
            <a:off x="3662280" y="1170000"/>
            <a:ext cx="1735200" cy="172728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1" name=""/>
          <p:cNvGrpSpPr/>
          <p:nvPr/>
        </p:nvGrpSpPr>
        <p:grpSpPr>
          <a:xfrm>
            <a:off x="2135160" y="3138480"/>
            <a:ext cx="3059280" cy="1069560"/>
            <a:chOff x="2135160" y="3138480"/>
            <a:chExt cx="3059280" cy="1069560"/>
          </a:xfrm>
        </p:grpSpPr>
        <p:sp>
          <p:nvSpPr>
            <p:cNvPr id="5982" name=""/>
            <p:cNvSpPr/>
            <p:nvPr/>
          </p:nvSpPr>
          <p:spPr>
            <a:xfrm flipV="1">
              <a:off x="4195440" y="4206960"/>
              <a:ext cx="99684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2135520" y="3138480"/>
              <a:ext cx="3058920" cy="36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135160" y="3415320"/>
              <a:ext cx="30585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4192920" y="3948840"/>
              <a:ext cx="100008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 flipV="1">
              <a:off x="2135520" y="3701160"/>
              <a:ext cx="100116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195440" y="3693960"/>
              <a:ext cx="99900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136240" y="3952800"/>
              <a:ext cx="99828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137320" y="4205880"/>
              <a:ext cx="995760" cy="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0" name=""/>
          <p:cNvGrpSpPr/>
          <p:nvPr/>
        </p:nvGrpSpPr>
        <p:grpSpPr>
          <a:xfrm>
            <a:off x="5192640" y="1699920"/>
            <a:ext cx="1731960" cy="2504880"/>
            <a:chOff x="5192640" y="1699920"/>
            <a:chExt cx="1731960" cy="2504880"/>
          </a:xfrm>
        </p:grpSpPr>
        <p:sp>
          <p:nvSpPr>
            <p:cNvPr id="5991" name=""/>
            <p:cNvSpPr/>
            <p:nvPr/>
          </p:nvSpPr>
          <p:spPr>
            <a:xfrm flipV="1">
              <a:off x="5192640" y="2485800"/>
              <a:ext cx="1731960" cy="17190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5196240" y="1699920"/>
              <a:ext cx="1726920" cy="17161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V="1">
              <a:off x="5194800" y="1986840"/>
              <a:ext cx="1728360" cy="1706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V="1">
              <a:off x="5193720" y="2216520"/>
              <a:ext cx="1729440" cy="17337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5" name=""/>
          <p:cNvGrpSpPr/>
          <p:nvPr/>
        </p:nvGrpSpPr>
        <p:grpSpPr>
          <a:xfrm>
            <a:off x="2584440" y="2104920"/>
            <a:ext cx="3930840" cy="1653840"/>
            <a:chOff x="2584440" y="2104920"/>
            <a:chExt cx="3930840" cy="1653840"/>
          </a:xfrm>
        </p:grpSpPr>
        <p:grpSp>
          <p:nvGrpSpPr>
            <p:cNvPr id="5996" name=""/>
            <p:cNvGrpSpPr/>
            <p:nvPr/>
          </p:nvGrpSpPr>
          <p:grpSpPr>
            <a:xfrm>
              <a:off x="2584440" y="2106360"/>
              <a:ext cx="867600" cy="1652400"/>
              <a:chOff x="2584440" y="2106360"/>
              <a:chExt cx="867600" cy="1652400"/>
            </a:xfrm>
          </p:grpSpPr>
          <p:sp>
            <p:nvSpPr>
              <p:cNvPr id="5997" name=""/>
              <p:cNvSpPr/>
              <p:nvPr/>
            </p:nvSpPr>
            <p:spPr>
              <a:xfrm>
                <a:off x="2584440" y="2971080"/>
                <a:ext cx="0" cy="787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160800" y="2394360"/>
                <a:ext cx="0" cy="791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3452040" y="2106360"/>
                <a:ext cx="0" cy="785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2874960" y="2684520"/>
                <a:ext cx="0" cy="787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1" name=""/>
            <p:cNvGrpSpPr/>
            <p:nvPr/>
          </p:nvGrpSpPr>
          <p:grpSpPr>
            <a:xfrm>
              <a:off x="5646600" y="2104920"/>
              <a:ext cx="868680" cy="1652400"/>
              <a:chOff x="5646600" y="2104920"/>
              <a:chExt cx="868680" cy="1652400"/>
            </a:xfrm>
          </p:grpSpPr>
          <p:sp>
            <p:nvSpPr>
              <p:cNvPr id="6002" name=""/>
              <p:cNvSpPr/>
              <p:nvPr/>
            </p:nvSpPr>
            <p:spPr>
              <a:xfrm>
                <a:off x="5646600" y="2969640"/>
                <a:ext cx="0" cy="787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224040" y="2392920"/>
                <a:ext cx="0" cy="7912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515280" y="2104920"/>
                <a:ext cx="0" cy="785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5934240" y="2681640"/>
                <a:ext cx="0" cy="787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06" name=""/>
          <p:cNvGrpSpPr/>
          <p:nvPr/>
        </p:nvGrpSpPr>
        <p:grpSpPr>
          <a:xfrm>
            <a:off x="2427120" y="1458720"/>
            <a:ext cx="4208040" cy="1509480"/>
            <a:chOff x="2427120" y="1458720"/>
            <a:chExt cx="4208040" cy="1509480"/>
          </a:xfrm>
        </p:grpSpPr>
        <p:grpSp>
          <p:nvGrpSpPr>
            <p:cNvPr id="6007" name=""/>
            <p:cNvGrpSpPr/>
            <p:nvPr/>
          </p:nvGrpSpPr>
          <p:grpSpPr>
            <a:xfrm>
              <a:off x="2427120" y="1702080"/>
              <a:ext cx="4208040" cy="1266120"/>
              <a:chOff x="2427120" y="1702080"/>
              <a:chExt cx="4208040" cy="126612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2427120" y="1703880"/>
                <a:ext cx="1149840" cy="1264320"/>
                <a:chOff x="2427120" y="1703880"/>
                <a:chExt cx="1149840" cy="1264320"/>
              </a:xfrm>
            </p:grpSpPr>
            <p:grpSp>
              <p:nvGrpSpPr>
                <p:cNvPr id="6009" name=""/>
                <p:cNvGrpSpPr/>
                <p:nvPr/>
              </p:nvGrpSpPr>
              <p:grpSpPr>
                <a:xfrm>
                  <a:off x="2427120" y="2567160"/>
                  <a:ext cx="282960" cy="401040"/>
                  <a:chOff x="2427120" y="2567160"/>
                  <a:chExt cx="282960" cy="401040"/>
                </a:xfrm>
              </p:grpSpPr>
              <p:sp>
                <p:nvSpPr>
                  <p:cNvPr id="6010" name=""/>
                  <p:cNvSpPr/>
                  <p:nvPr/>
                </p:nvSpPr>
                <p:spPr>
                  <a:xfrm>
                    <a:off x="2427120" y="285156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1" name=""/>
                  <p:cNvSpPr/>
                  <p:nvPr/>
                </p:nvSpPr>
                <p:spPr>
                  <a:xfrm flipH="1">
                    <a:off x="2585160" y="256716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2" name=""/>
                <p:cNvGrpSpPr/>
                <p:nvPr/>
              </p:nvGrpSpPr>
              <p:grpSpPr>
                <a:xfrm>
                  <a:off x="2716560" y="2277720"/>
                  <a:ext cx="282960" cy="401040"/>
                  <a:chOff x="2716560" y="2277720"/>
                  <a:chExt cx="282960" cy="401040"/>
                </a:xfrm>
              </p:grpSpPr>
              <p:sp>
                <p:nvSpPr>
                  <p:cNvPr id="6013" name=""/>
                  <p:cNvSpPr/>
                  <p:nvPr/>
                </p:nvSpPr>
                <p:spPr>
                  <a:xfrm>
                    <a:off x="2716560" y="256212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 flipH="1">
                    <a:off x="2874600" y="227772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5" name=""/>
                <p:cNvGrpSpPr/>
                <p:nvPr/>
              </p:nvGrpSpPr>
              <p:grpSpPr>
                <a:xfrm>
                  <a:off x="3003480" y="1993320"/>
                  <a:ext cx="282960" cy="401040"/>
                  <a:chOff x="3003480" y="1993320"/>
                  <a:chExt cx="282960" cy="401040"/>
                </a:xfrm>
              </p:grpSpPr>
              <p:sp>
                <p:nvSpPr>
                  <p:cNvPr id="6016" name=""/>
                  <p:cNvSpPr/>
                  <p:nvPr/>
                </p:nvSpPr>
                <p:spPr>
                  <a:xfrm>
                    <a:off x="3003480" y="227772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 flipH="1">
                    <a:off x="3161520" y="199332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8" name=""/>
                <p:cNvGrpSpPr/>
                <p:nvPr/>
              </p:nvGrpSpPr>
              <p:grpSpPr>
                <a:xfrm>
                  <a:off x="3294000" y="1703880"/>
                  <a:ext cx="282960" cy="401040"/>
                  <a:chOff x="3294000" y="1703880"/>
                  <a:chExt cx="282960" cy="401040"/>
                </a:xfrm>
              </p:grpSpPr>
              <p:sp>
                <p:nvSpPr>
                  <p:cNvPr id="6019" name=""/>
                  <p:cNvSpPr/>
                  <p:nvPr/>
                </p:nvSpPr>
                <p:spPr>
                  <a:xfrm>
                    <a:off x="3294000" y="198828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 flipH="1">
                    <a:off x="3452040" y="170388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21" name=""/>
              <p:cNvGrpSpPr/>
              <p:nvPr/>
            </p:nvGrpSpPr>
            <p:grpSpPr>
              <a:xfrm>
                <a:off x="5485320" y="1702080"/>
                <a:ext cx="1149840" cy="1264320"/>
                <a:chOff x="5485320" y="1702080"/>
                <a:chExt cx="1149840" cy="1264320"/>
              </a:xfrm>
            </p:grpSpPr>
            <p:grpSp>
              <p:nvGrpSpPr>
                <p:cNvPr id="6022" name=""/>
                <p:cNvGrpSpPr/>
                <p:nvPr/>
              </p:nvGrpSpPr>
              <p:grpSpPr>
                <a:xfrm>
                  <a:off x="5485320" y="2565360"/>
                  <a:ext cx="282960" cy="401040"/>
                  <a:chOff x="5485320" y="2565360"/>
                  <a:chExt cx="282960" cy="401040"/>
                </a:xfrm>
              </p:grpSpPr>
              <p:sp>
                <p:nvSpPr>
                  <p:cNvPr id="6023" name=""/>
                  <p:cNvSpPr/>
                  <p:nvPr/>
                </p:nvSpPr>
                <p:spPr>
                  <a:xfrm>
                    <a:off x="5485320" y="284976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4" name=""/>
                  <p:cNvSpPr/>
                  <p:nvPr/>
                </p:nvSpPr>
                <p:spPr>
                  <a:xfrm flipH="1">
                    <a:off x="5643360" y="256536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5" name=""/>
                <p:cNvGrpSpPr/>
                <p:nvPr/>
              </p:nvGrpSpPr>
              <p:grpSpPr>
                <a:xfrm>
                  <a:off x="5774760" y="2275920"/>
                  <a:ext cx="282960" cy="401040"/>
                  <a:chOff x="5774760" y="2275920"/>
                  <a:chExt cx="282960" cy="401040"/>
                </a:xfrm>
              </p:grpSpPr>
              <p:sp>
                <p:nvSpPr>
                  <p:cNvPr id="6026" name=""/>
                  <p:cNvSpPr/>
                  <p:nvPr/>
                </p:nvSpPr>
                <p:spPr>
                  <a:xfrm>
                    <a:off x="5774760" y="256032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7" name=""/>
                  <p:cNvSpPr/>
                  <p:nvPr/>
                </p:nvSpPr>
                <p:spPr>
                  <a:xfrm flipH="1">
                    <a:off x="5932800" y="227592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8" name=""/>
                <p:cNvGrpSpPr/>
                <p:nvPr/>
              </p:nvGrpSpPr>
              <p:grpSpPr>
                <a:xfrm>
                  <a:off x="6061680" y="1991520"/>
                  <a:ext cx="282960" cy="401040"/>
                  <a:chOff x="6061680" y="1991520"/>
                  <a:chExt cx="282960" cy="401040"/>
                </a:xfrm>
              </p:grpSpPr>
              <p:sp>
                <p:nvSpPr>
                  <p:cNvPr id="6029" name=""/>
                  <p:cNvSpPr/>
                  <p:nvPr/>
                </p:nvSpPr>
                <p:spPr>
                  <a:xfrm>
                    <a:off x="6061680" y="227592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0" name=""/>
                  <p:cNvSpPr/>
                  <p:nvPr/>
                </p:nvSpPr>
                <p:spPr>
                  <a:xfrm flipH="1">
                    <a:off x="6219720" y="199152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1" name=""/>
                <p:cNvGrpSpPr/>
                <p:nvPr/>
              </p:nvGrpSpPr>
              <p:grpSpPr>
                <a:xfrm>
                  <a:off x="6352200" y="1702080"/>
                  <a:ext cx="282960" cy="401040"/>
                  <a:chOff x="6352200" y="1702080"/>
                  <a:chExt cx="282960" cy="401040"/>
                </a:xfrm>
              </p:grpSpPr>
              <p:sp>
                <p:nvSpPr>
                  <p:cNvPr id="6032" name=""/>
                  <p:cNvSpPr/>
                  <p:nvPr/>
                </p:nvSpPr>
                <p:spPr>
                  <a:xfrm>
                    <a:off x="6352200" y="1986480"/>
                    <a:ext cx="156960" cy="11520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3" name=""/>
                  <p:cNvSpPr/>
                  <p:nvPr/>
                </p:nvSpPr>
                <p:spPr>
                  <a:xfrm flipH="1">
                    <a:off x="6510240" y="1702080"/>
                    <a:ext cx="124920" cy="401040"/>
                  </a:xfrm>
                  <a:prstGeom prst="line">
                    <a:avLst/>
                  </a:prstGeom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34" name=""/>
            <p:cNvGrpSpPr/>
            <p:nvPr/>
          </p:nvGrpSpPr>
          <p:grpSpPr>
            <a:xfrm>
              <a:off x="3843000" y="1458720"/>
              <a:ext cx="1398240" cy="1156320"/>
              <a:chOff x="3843000" y="1458720"/>
              <a:chExt cx="1398240" cy="1156320"/>
            </a:xfrm>
          </p:grpSpPr>
          <p:sp>
            <p:nvSpPr>
              <p:cNvPr id="6035" name=""/>
              <p:cNvSpPr/>
              <p:nvPr/>
            </p:nvSpPr>
            <p:spPr>
              <a:xfrm flipH="1" flipV="1">
                <a:off x="4235040" y="2325960"/>
                <a:ext cx="140040" cy="170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 flipH="1">
                <a:off x="3945240" y="2495520"/>
                <a:ext cx="432360" cy="119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 flipV="1">
                <a:off x="3844080" y="2329560"/>
                <a:ext cx="387360" cy="167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843000" y="2497680"/>
                <a:ext cx="101160" cy="116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9" name=""/>
              <p:cNvGrpSpPr/>
              <p:nvPr/>
            </p:nvGrpSpPr>
            <p:grpSpPr>
              <a:xfrm>
                <a:off x="4133520" y="2036160"/>
                <a:ext cx="537120" cy="289080"/>
                <a:chOff x="4133520" y="2036160"/>
                <a:chExt cx="537120" cy="289080"/>
              </a:xfrm>
            </p:grpSpPr>
            <p:sp>
              <p:nvSpPr>
                <p:cNvPr id="6040" name=""/>
                <p:cNvSpPr/>
                <p:nvPr/>
              </p:nvSpPr>
              <p:spPr>
                <a:xfrm flipH="1" flipV="1">
                  <a:off x="4528440" y="2036160"/>
                  <a:ext cx="140040" cy="17028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H="1">
                  <a:off x="4238280" y="2205720"/>
                  <a:ext cx="432360" cy="11952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133520" y="2039760"/>
                  <a:ext cx="391320" cy="16740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>
                  <a:off x="4136040" y="2207880"/>
                  <a:ext cx="101160" cy="1166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4" name=""/>
              <p:cNvSpPr/>
              <p:nvPr/>
            </p:nvSpPr>
            <p:spPr>
              <a:xfrm flipH="1" flipV="1">
                <a:off x="4818240" y="1746720"/>
                <a:ext cx="137520" cy="1717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 flipH="1">
                <a:off x="4528080" y="1916640"/>
                <a:ext cx="428760" cy="119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 flipV="1">
                <a:off x="4429440" y="1750680"/>
                <a:ext cx="384840" cy="167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26920" y="1918440"/>
                <a:ext cx="100080" cy="11664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 flipH="1" flipV="1">
                <a:off x="5107680" y="1458720"/>
                <a:ext cx="132480" cy="16668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 flipH="1">
                <a:off x="4817520" y="1628280"/>
                <a:ext cx="423720" cy="11952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4717440" y="1462320"/>
                <a:ext cx="386280" cy="1674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718880" y="1631520"/>
                <a:ext cx="97560" cy="11520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2" name=""/>
          <p:cNvSpPr/>
          <p:nvPr/>
        </p:nvSpPr>
        <p:spPr>
          <a:xfrm>
            <a:off x="3138480" y="3416400"/>
            <a:ext cx="2055960" cy="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3" name=""/>
          <p:cNvGrpSpPr/>
          <p:nvPr/>
        </p:nvGrpSpPr>
        <p:grpSpPr>
          <a:xfrm>
            <a:off x="2595600" y="1630440"/>
            <a:ext cx="3903120" cy="1062720"/>
            <a:chOff x="2595600" y="1630440"/>
            <a:chExt cx="3903120" cy="1062720"/>
          </a:xfrm>
        </p:grpSpPr>
        <p:sp>
          <p:nvSpPr>
            <p:cNvPr id="6054" name=""/>
            <p:cNvSpPr/>
            <p:nvPr/>
          </p:nvSpPr>
          <p:spPr>
            <a:xfrm flipH="1" flipV="1">
              <a:off x="4377600" y="2498400"/>
              <a:ext cx="1249920" cy="19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flipV="1">
              <a:off x="3168360" y="1920240"/>
              <a:ext cx="1255680" cy="18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2880000" y="2204640"/>
              <a:ext cx="1254240" cy="18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3453840" y="1631880"/>
              <a:ext cx="1258560" cy="18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V="1">
              <a:off x="2595600" y="2494440"/>
              <a:ext cx="1251720" cy="18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 flipH="1" flipV="1">
              <a:off x="4952520" y="1915920"/>
              <a:ext cx="1257480" cy="19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H="1" flipV="1">
              <a:off x="4668840" y="2207520"/>
              <a:ext cx="1255680" cy="19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H="1" flipV="1">
              <a:off x="5244480" y="1630440"/>
              <a:ext cx="1254240" cy="19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2" name=""/>
          <p:cNvGrpSpPr/>
          <p:nvPr/>
        </p:nvGrpSpPr>
        <p:grpSpPr>
          <a:xfrm>
            <a:off x="2408400" y="1207800"/>
            <a:ext cx="4235760" cy="1892880"/>
            <a:chOff x="2408400" y="1207800"/>
            <a:chExt cx="4235760" cy="1892880"/>
          </a:xfrm>
        </p:grpSpPr>
        <p:grpSp>
          <p:nvGrpSpPr>
            <p:cNvPr id="6063" name=""/>
            <p:cNvGrpSpPr/>
            <p:nvPr/>
          </p:nvGrpSpPr>
          <p:grpSpPr>
            <a:xfrm>
              <a:off x="2682000" y="1207800"/>
              <a:ext cx="3962160" cy="1858680"/>
              <a:chOff x="2682000" y="1207800"/>
              <a:chExt cx="3962160" cy="1858680"/>
            </a:xfrm>
          </p:grpSpPr>
          <p:sp>
            <p:nvSpPr>
              <p:cNvPr id="6064" name=""/>
              <p:cNvSpPr/>
              <p:nvPr/>
            </p:nvSpPr>
            <p:spPr>
              <a:xfrm flipV="1">
                <a:off x="3824640" y="1621080"/>
                <a:ext cx="284760" cy="284760"/>
              </a:xfrm>
              <a:prstGeom prst="line">
                <a:avLst/>
              </a:prstGeom>
              <a:ln w="5724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2682000" y="1207800"/>
                <a:ext cx="3962160" cy="1858680"/>
                <a:chOff x="2682000" y="1207800"/>
                <a:chExt cx="3962160" cy="1858680"/>
              </a:xfrm>
            </p:grpSpPr>
            <p:sp>
              <p:nvSpPr>
                <p:cNvPr id="6066" name=""/>
                <p:cNvSpPr/>
                <p:nvPr/>
              </p:nvSpPr>
              <p:spPr>
                <a:xfrm flipV="1">
                  <a:off x="4260960" y="2366640"/>
                  <a:ext cx="273240" cy="2746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V="1">
                  <a:off x="4832280" y="1791000"/>
                  <a:ext cx="273240" cy="2728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V="1">
                  <a:off x="5403960" y="120780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V="1">
                  <a:off x="4202280" y="270540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V="1">
                  <a:off x="4773600" y="212724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flipV="1">
                  <a:off x="5345280" y="1545120"/>
                  <a:ext cx="284760" cy="28440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V="1">
                  <a:off x="4732920" y="2454480"/>
                  <a:ext cx="273240" cy="2746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 flipV="1">
                  <a:off x="5304600" y="1877040"/>
                  <a:ext cx="273240" cy="2750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 flipV="1">
                  <a:off x="5875920" y="1293840"/>
                  <a:ext cx="284400" cy="28620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 flipV="1">
                  <a:off x="4674240" y="279324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"/>
                <p:cNvSpPr/>
                <p:nvPr/>
              </p:nvSpPr>
              <p:spPr>
                <a:xfrm flipV="1">
                  <a:off x="5245920" y="221508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"/>
                <p:cNvSpPr/>
                <p:nvPr/>
              </p:nvSpPr>
              <p:spPr>
                <a:xfrm flipV="1">
                  <a:off x="5817240" y="163260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 flipV="1">
                  <a:off x="5216760" y="2534400"/>
                  <a:ext cx="273240" cy="2746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9" name=""/>
                <p:cNvSpPr/>
                <p:nvPr/>
              </p:nvSpPr>
              <p:spPr>
                <a:xfrm flipV="1">
                  <a:off x="5788080" y="1958040"/>
                  <a:ext cx="27288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"/>
                <p:cNvSpPr/>
                <p:nvPr/>
              </p:nvSpPr>
              <p:spPr>
                <a:xfrm flipV="1">
                  <a:off x="6359400" y="1375200"/>
                  <a:ext cx="28476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 flipV="1">
                  <a:off x="3165120" y="2477520"/>
                  <a:ext cx="273240" cy="2750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 flipV="1">
                  <a:off x="3736440" y="190080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 flipV="1">
                  <a:off x="4308120" y="1318680"/>
                  <a:ext cx="284760" cy="28440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 flipV="1">
                  <a:off x="2688120" y="2552400"/>
                  <a:ext cx="273240" cy="2750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 flipV="1">
                  <a:off x="3259440" y="197568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 flipV="1">
                  <a:off x="3831120" y="1393560"/>
                  <a:ext cx="284760" cy="28440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 flipV="1">
                  <a:off x="2682000" y="2780640"/>
                  <a:ext cx="273240" cy="2728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 flipV="1">
                  <a:off x="3253320" y="2204280"/>
                  <a:ext cx="272880" cy="2728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 flipV="1">
                  <a:off x="3707280" y="2382840"/>
                  <a:ext cx="273240" cy="2746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 flipV="1">
                  <a:off x="4278960" y="1807200"/>
                  <a:ext cx="273240" cy="27288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"/>
                <p:cNvSpPr/>
                <p:nvPr/>
              </p:nvSpPr>
              <p:spPr>
                <a:xfrm flipV="1">
                  <a:off x="4850280" y="1224000"/>
                  <a:ext cx="284400" cy="28476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"/>
                <p:cNvSpPr/>
                <p:nvPr/>
              </p:nvSpPr>
              <p:spPr>
                <a:xfrm flipV="1">
                  <a:off x="3158640" y="2705400"/>
                  <a:ext cx="27324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"/>
                <p:cNvSpPr/>
                <p:nvPr/>
              </p:nvSpPr>
              <p:spPr>
                <a:xfrm flipV="1">
                  <a:off x="3730320" y="2127240"/>
                  <a:ext cx="272880" cy="27324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"/>
                <p:cNvSpPr/>
                <p:nvPr/>
              </p:nvSpPr>
              <p:spPr>
                <a:xfrm flipV="1">
                  <a:off x="4301280" y="1545120"/>
                  <a:ext cx="284760" cy="284400"/>
                </a:xfrm>
                <a:prstGeom prst="line">
                  <a:avLst/>
                </a:prstGeom>
                <a:ln w="5724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95" name=""/>
            <p:cNvGrpSpPr/>
            <p:nvPr/>
          </p:nvGrpSpPr>
          <p:grpSpPr>
            <a:xfrm>
              <a:off x="2408400" y="1265040"/>
              <a:ext cx="3974040" cy="1835640"/>
              <a:chOff x="2408400" y="1265040"/>
              <a:chExt cx="3974040" cy="1835640"/>
            </a:xfrm>
          </p:grpSpPr>
          <p:sp>
            <p:nvSpPr>
              <p:cNvPr id="6096" name=""/>
              <p:cNvSpPr/>
              <p:nvPr/>
            </p:nvSpPr>
            <p:spPr>
              <a:xfrm flipV="1">
                <a:off x="4541400" y="207036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 flipV="1">
                <a:off x="5112360" y="149256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 flipV="1">
                <a:off x="3981240" y="262404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 flipV="1">
                <a:off x="4482720" y="240768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 flipV="1">
                <a:off x="5054040" y="1829880"/>
                <a:ext cx="291240" cy="2930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 flipV="1">
                <a:off x="5618880" y="126504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V="1">
                <a:off x="5013360" y="2156760"/>
                <a:ext cx="291240" cy="292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 flipV="1">
                <a:off x="5584680" y="158040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 flipV="1">
                <a:off x="4453560" y="271224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 flipV="1">
                <a:off x="4954680" y="249552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 flipV="1">
                <a:off x="5526360" y="1917720"/>
                <a:ext cx="291240" cy="292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 flipV="1">
                <a:off x="6091200" y="135288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5496840" y="2238480"/>
                <a:ext cx="29160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 flipV="1">
                <a:off x="6068520" y="166032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 flipV="1">
                <a:off x="4936680" y="279180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 flipV="1">
                <a:off x="3445560" y="218124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 flipV="1">
                <a:off x="4016880" y="160344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 flipV="1">
                <a:off x="2885400" y="273492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 flipV="1">
                <a:off x="2968200" y="225612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 flipV="1">
                <a:off x="3539880" y="1678320"/>
                <a:ext cx="29124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 flipV="1">
                <a:off x="2408400" y="280944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 flipV="1">
                <a:off x="2961720" y="248256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 flipV="1">
                <a:off x="3533400" y="1906200"/>
                <a:ext cx="29124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 flipV="1">
                <a:off x="4098240" y="1341360"/>
                <a:ext cx="29160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V="1">
                <a:off x="3987360" y="208656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V="1">
                <a:off x="4559040" y="150876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 flipV="1">
                <a:off x="3427200" y="2640600"/>
                <a:ext cx="29160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3438720" y="2407680"/>
                <a:ext cx="291600" cy="2912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 flipV="1">
                <a:off x="4010400" y="1829880"/>
                <a:ext cx="291240" cy="2930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 flipV="1">
                <a:off x="4575240" y="1265040"/>
                <a:ext cx="291600" cy="29160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6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8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4" name=""/>
          <p:cNvGrpSpPr/>
          <p:nvPr/>
        </p:nvGrpSpPr>
        <p:grpSpPr>
          <a:xfrm>
            <a:off x="2268360" y="619560"/>
            <a:ext cx="4960440" cy="4969080"/>
            <a:chOff x="2268360" y="619560"/>
            <a:chExt cx="4960440" cy="4969080"/>
          </a:xfrm>
        </p:grpSpPr>
        <p:sp>
          <p:nvSpPr>
            <p:cNvPr id="6135" name=""/>
            <p:cNvSpPr/>
            <p:nvPr/>
          </p:nvSpPr>
          <p:spPr>
            <a:xfrm>
              <a:off x="2320920" y="619560"/>
              <a:ext cx="4907880" cy="4969080"/>
            </a:xfrm>
            <a:custGeom>
              <a:avLst/>
              <a:gdLst/>
              <a:ahLst/>
              <a:rect l="l" t="t" r="r" b="b"/>
              <a:pathLst>
                <a:path w="2619" h="2652">
                  <a:moveTo>
                    <a:pt x="1125" y="0"/>
                  </a:moveTo>
                  <a:lnTo>
                    <a:pt x="190" y="346"/>
                  </a:lnTo>
                  <a:lnTo>
                    <a:pt x="0" y="1633"/>
                  </a:lnTo>
                  <a:lnTo>
                    <a:pt x="245" y="2641"/>
                  </a:lnTo>
                  <a:lnTo>
                    <a:pt x="1965" y="2652"/>
                  </a:lnTo>
                  <a:lnTo>
                    <a:pt x="2619" y="1475"/>
                  </a:lnTo>
                  <a:lnTo>
                    <a:pt x="2288" y="146"/>
                  </a:lnTo>
                  <a:lnTo>
                    <a:pt x="1125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320920" y="1058040"/>
              <a:ext cx="4551840" cy="3451320"/>
            </a:xfrm>
            <a:custGeom>
              <a:avLst/>
              <a:gdLst/>
              <a:ahLst/>
              <a:rect l="l" t="t" r="r" b="b"/>
              <a:pathLst>
                <a:path w="2429" h="1842">
                  <a:moveTo>
                    <a:pt x="1028" y="0"/>
                  </a:moveTo>
                  <a:lnTo>
                    <a:pt x="0" y="621"/>
                  </a:lnTo>
                  <a:lnTo>
                    <a:pt x="410" y="1707"/>
                  </a:lnTo>
                  <a:lnTo>
                    <a:pt x="1530" y="1842"/>
                  </a:lnTo>
                  <a:lnTo>
                    <a:pt x="2429" y="994"/>
                  </a:lnTo>
                  <a:lnTo>
                    <a:pt x="1741" y="61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68360" y="3688920"/>
              <a:ext cx="4536360" cy="1514160"/>
            </a:xfrm>
            <a:custGeom>
              <a:avLst/>
              <a:gdLst/>
              <a:ahLst/>
              <a:rect l="l" t="t" r="r" b="b"/>
              <a:pathLst>
                <a:path w="2422" h="808">
                  <a:moveTo>
                    <a:pt x="1601" y="0"/>
                  </a:moveTo>
                  <a:lnTo>
                    <a:pt x="0" y="270"/>
                  </a:lnTo>
                  <a:lnTo>
                    <a:pt x="0" y="635"/>
                  </a:lnTo>
                  <a:lnTo>
                    <a:pt x="2140" y="808"/>
                  </a:lnTo>
                  <a:lnTo>
                    <a:pt x="2140" y="806"/>
                  </a:lnTo>
                  <a:lnTo>
                    <a:pt x="2144" y="804"/>
                  </a:lnTo>
                  <a:lnTo>
                    <a:pt x="2146" y="802"/>
                  </a:lnTo>
                  <a:lnTo>
                    <a:pt x="2152" y="798"/>
                  </a:lnTo>
                  <a:lnTo>
                    <a:pt x="2158" y="794"/>
                  </a:lnTo>
                  <a:lnTo>
                    <a:pt x="2165" y="789"/>
                  </a:lnTo>
                  <a:lnTo>
                    <a:pt x="2173" y="783"/>
                  </a:lnTo>
                  <a:lnTo>
                    <a:pt x="2182" y="777"/>
                  </a:lnTo>
                  <a:lnTo>
                    <a:pt x="2188" y="773"/>
                  </a:lnTo>
                  <a:lnTo>
                    <a:pt x="2192" y="770"/>
                  </a:lnTo>
                  <a:lnTo>
                    <a:pt x="2197" y="764"/>
                  </a:lnTo>
                  <a:lnTo>
                    <a:pt x="2203" y="762"/>
                  </a:lnTo>
                  <a:lnTo>
                    <a:pt x="2209" y="756"/>
                  </a:lnTo>
                  <a:lnTo>
                    <a:pt x="2215" y="753"/>
                  </a:lnTo>
                  <a:lnTo>
                    <a:pt x="2220" y="749"/>
                  </a:lnTo>
                  <a:lnTo>
                    <a:pt x="2226" y="745"/>
                  </a:lnTo>
                  <a:lnTo>
                    <a:pt x="2232" y="739"/>
                  </a:lnTo>
                  <a:lnTo>
                    <a:pt x="2237" y="735"/>
                  </a:lnTo>
                  <a:lnTo>
                    <a:pt x="2243" y="730"/>
                  </a:lnTo>
                  <a:lnTo>
                    <a:pt x="2251" y="726"/>
                  </a:lnTo>
                  <a:lnTo>
                    <a:pt x="2256" y="720"/>
                  </a:lnTo>
                  <a:lnTo>
                    <a:pt x="2264" y="716"/>
                  </a:lnTo>
                  <a:lnTo>
                    <a:pt x="2270" y="711"/>
                  </a:lnTo>
                  <a:lnTo>
                    <a:pt x="2277" y="707"/>
                  </a:lnTo>
                  <a:lnTo>
                    <a:pt x="2281" y="699"/>
                  </a:lnTo>
                  <a:lnTo>
                    <a:pt x="2289" y="696"/>
                  </a:lnTo>
                  <a:lnTo>
                    <a:pt x="2294" y="690"/>
                  </a:lnTo>
                  <a:lnTo>
                    <a:pt x="2302" y="684"/>
                  </a:lnTo>
                  <a:lnTo>
                    <a:pt x="2308" y="678"/>
                  </a:lnTo>
                  <a:lnTo>
                    <a:pt x="2313" y="673"/>
                  </a:lnTo>
                  <a:lnTo>
                    <a:pt x="2319" y="669"/>
                  </a:lnTo>
                  <a:lnTo>
                    <a:pt x="2327" y="663"/>
                  </a:lnTo>
                  <a:lnTo>
                    <a:pt x="2332" y="657"/>
                  </a:lnTo>
                  <a:lnTo>
                    <a:pt x="2338" y="652"/>
                  </a:lnTo>
                  <a:lnTo>
                    <a:pt x="2344" y="646"/>
                  </a:lnTo>
                  <a:lnTo>
                    <a:pt x="2350" y="642"/>
                  </a:lnTo>
                  <a:lnTo>
                    <a:pt x="2355" y="637"/>
                  </a:lnTo>
                  <a:lnTo>
                    <a:pt x="2361" y="631"/>
                  </a:lnTo>
                  <a:lnTo>
                    <a:pt x="2367" y="625"/>
                  </a:lnTo>
                  <a:lnTo>
                    <a:pt x="2372" y="619"/>
                  </a:lnTo>
                  <a:lnTo>
                    <a:pt x="2376" y="616"/>
                  </a:lnTo>
                  <a:lnTo>
                    <a:pt x="2382" y="610"/>
                  </a:lnTo>
                  <a:lnTo>
                    <a:pt x="2386" y="604"/>
                  </a:lnTo>
                  <a:lnTo>
                    <a:pt x="2389" y="599"/>
                  </a:lnTo>
                  <a:lnTo>
                    <a:pt x="2397" y="589"/>
                  </a:lnTo>
                  <a:lnTo>
                    <a:pt x="2405" y="580"/>
                  </a:lnTo>
                  <a:lnTo>
                    <a:pt x="2410" y="572"/>
                  </a:lnTo>
                  <a:lnTo>
                    <a:pt x="2416" y="562"/>
                  </a:lnTo>
                  <a:lnTo>
                    <a:pt x="2418" y="555"/>
                  </a:lnTo>
                  <a:lnTo>
                    <a:pt x="2422" y="549"/>
                  </a:lnTo>
                  <a:lnTo>
                    <a:pt x="2420" y="543"/>
                  </a:lnTo>
                  <a:lnTo>
                    <a:pt x="2418" y="540"/>
                  </a:lnTo>
                  <a:lnTo>
                    <a:pt x="2416" y="534"/>
                  </a:lnTo>
                  <a:lnTo>
                    <a:pt x="2412" y="528"/>
                  </a:lnTo>
                  <a:lnTo>
                    <a:pt x="2407" y="523"/>
                  </a:lnTo>
                  <a:lnTo>
                    <a:pt x="2403" y="515"/>
                  </a:lnTo>
                  <a:lnTo>
                    <a:pt x="2395" y="509"/>
                  </a:lnTo>
                  <a:lnTo>
                    <a:pt x="2388" y="502"/>
                  </a:lnTo>
                  <a:lnTo>
                    <a:pt x="2378" y="494"/>
                  </a:lnTo>
                  <a:lnTo>
                    <a:pt x="2369" y="486"/>
                  </a:lnTo>
                  <a:lnTo>
                    <a:pt x="2359" y="477"/>
                  </a:lnTo>
                  <a:lnTo>
                    <a:pt x="2348" y="469"/>
                  </a:lnTo>
                  <a:lnTo>
                    <a:pt x="2336" y="458"/>
                  </a:lnTo>
                  <a:lnTo>
                    <a:pt x="2323" y="450"/>
                  </a:lnTo>
                  <a:lnTo>
                    <a:pt x="2310" y="441"/>
                  </a:lnTo>
                  <a:lnTo>
                    <a:pt x="2296" y="431"/>
                  </a:lnTo>
                  <a:lnTo>
                    <a:pt x="2281" y="418"/>
                  </a:lnTo>
                  <a:lnTo>
                    <a:pt x="2266" y="408"/>
                  </a:lnTo>
                  <a:lnTo>
                    <a:pt x="2251" y="397"/>
                  </a:lnTo>
                  <a:lnTo>
                    <a:pt x="2235" y="388"/>
                  </a:lnTo>
                  <a:lnTo>
                    <a:pt x="2216" y="376"/>
                  </a:lnTo>
                  <a:lnTo>
                    <a:pt x="2199" y="365"/>
                  </a:lnTo>
                  <a:lnTo>
                    <a:pt x="2182" y="353"/>
                  </a:lnTo>
                  <a:lnTo>
                    <a:pt x="2165" y="340"/>
                  </a:lnTo>
                  <a:lnTo>
                    <a:pt x="2148" y="329"/>
                  </a:lnTo>
                  <a:lnTo>
                    <a:pt x="2129" y="317"/>
                  </a:lnTo>
                  <a:lnTo>
                    <a:pt x="2110" y="304"/>
                  </a:lnTo>
                  <a:lnTo>
                    <a:pt x="2091" y="292"/>
                  </a:lnTo>
                  <a:lnTo>
                    <a:pt x="2072" y="281"/>
                  </a:lnTo>
                  <a:lnTo>
                    <a:pt x="2053" y="270"/>
                  </a:lnTo>
                  <a:lnTo>
                    <a:pt x="2034" y="258"/>
                  </a:lnTo>
                  <a:lnTo>
                    <a:pt x="2015" y="247"/>
                  </a:lnTo>
                  <a:lnTo>
                    <a:pt x="1994" y="234"/>
                  </a:lnTo>
                  <a:lnTo>
                    <a:pt x="1975" y="222"/>
                  </a:lnTo>
                  <a:lnTo>
                    <a:pt x="1956" y="209"/>
                  </a:lnTo>
                  <a:lnTo>
                    <a:pt x="1937" y="197"/>
                  </a:lnTo>
                  <a:lnTo>
                    <a:pt x="1918" y="186"/>
                  </a:lnTo>
                  <a:lnTo>
                    <a:pt x="1899" y="175"/>
                  </a:lnTo>
                  <a:lnTo>
                    <a:pt x="1880" y="163"/>
                  </a:lnTo>
                  <a:lnTo>
                    <a:pt x="1863" y="154"/>
                  </a:lnTo>
                  <a:lnTo>
                    <a:pt x="1844" y="140"/>
                  </a:lnTo>
                  <a:lnTo>
                    <a:pt x="1827" y="131"/>
                  </a:lnTo>
                  <a:lnTo>
                    <a:pt x="1808" y="119"/>
                  </a:lnTo>
                  <a:lnTo>
                    <a:pt x="1793" y="112"/>
                  </a:lnTo>
                  <a:lnTo>
                    <a:pt x="1775" y="100"/>
                  </a:lnTo>
                  <a:lnTo>
                    <a:pt x="1760" y="91"/>
                  </a:lnTo>
                  <a:lnTo>
                    <a:pt x="1743" y="83"/>
                  </a:lnTo>
                  <a:lnTo>
                    <a:pt x="1732" y="74"/>
                  </a:lnTo>
                  <a:lnTo>
                    <a:pt x="1717" y="66"/>
                  </a:lnTo>
                  <a:lnTo>
                    <a:pt x="1703" y="59"/>
                  </a:lnTo>
                  <a:lnTo>
                    <a:pt x="1688" y="49"/>
                  </a:lnTo>
                  <a:lnTo>
                    <a:pt x="1677" y="43"/>
                  </a:lnTo>
                  <a:lnTo>
                    <a:pt x="1665" y="36"/>
                  </a:lnTo>
                  <a:lnTo>
                    <a:pt x="1654" y="30"/>
                  </a:lnTo>
                  <a:lnTo>
                    <a:pt x="1644" y="24"/>
                  </a:lnTo>
                  <a:lnTo>
                    <a:pt x="1637" y="21"/>
                  </a:lnTo>
                  <a:lnTo>
                    <a:pt x="1627" y="15"/>
                  </a:lnTo>
                  <a:lnTo>
                    <a:pt x="1621" y="9"/>
                  </a:lnTo>
                  <a:lnTo>
                    <a:pt x="1616" y="5"/>
                  </a:lnTo>
                  <a:lnTo>
                    <a:pt x="1610" y="4"/>
                  </a:lnTo>
                  <a:lnTo>
                    <a:pt x="1602" y="0"/>
                  </a:lnTo>
                  <a:lnTo>
                    <a:pt x="1601" y="0"/>
                  </a:lnTo>
                  <a:lnTo>
                    <a:pt x="1601" y="0"/>
                  </a:lnTo>
                  <a:close/>
                </a:path>
              </a:pathLst>
            </a:custGeom>
            <a:solidFill>
              <a:srgbClr val="f7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628360" y="1406520"/>
              <a:ext cx="3798360" cy="2769120"/>
            </a:xfrm>
            <a:custGeom>
              <a:avLst/>
              <a:gdLst/>
              <a:ahLst/>
              <a:rect l="l" t="t" r="r" b="b"/>
              <a:pathLst>
                <a:path w="2028" h="1477">
                  <a:moveTo>
                    <a:pt x="9" y="0"/>
                  </a:moveTo>
                  <a:lnTo>
                    <a:pt x="2028" y="0"/>
                  </a:lnTo>
                  <a:lnTo>
                    <a:pt x="2009" y="1460"/>
                  </a:lnTo>
                  <a:lnTo>
                    <a:pt x="0" y="1477"/>
                  </a:lnTo>
                  <a:lnTo>
                    <a:pt x="53" y="1426"/>
                  </a:lnTo>
                  <a:lnTo>
                    <a:pt x="1954" y="1413"/>
                  </a:lnTo>
                  <a:lnTo>
                    <a:pt x="1973" y="61"/>
                  </a:lnTo>
                  <a:lnTo>
                    <a:pt x="55" y="5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628360" y="1406520"/>
              <a:ext cx="108720" cy="2769120"/>
            </a:xfrm>
            <a:custGeom>
              <a:avLst/>
              <a:gdLst/>
              <a:ahLst/>
              <a:rect l="l" t="t" r="r" b="b"/>
              <a:pathLst>
                <a:path w="59" h="1477">
                  <a:moveTo>
                    <a:pt x="59" y="50"/>
                  </a:moveTo>
                  <a:lnTo>
                    <a:pt x="53" y="1426"/>
                  </a:lnTo>
                  <a:lnTo>
                    <a:pt x="0" y="1477"/>
                  </a:lnTo>
                  <a:lnTo>
                    <a:pt x="9" y="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710880" y="1706400"/>
              <a:ext cx="1734480" cy="1997640"/>
            </a:xfrm>
            <a:custGeom>
              <a:avLst/>
              <a:gdLst/>
              <a:ahLst/>
              <a:rect l="l" t="t" r="r" b="b"/>
              <a:pathLst>
                <a:path w="926" h="1066">
                  <a:moveTo>
                    <a:pt x="312" y="0"/>
                  </a:moveTo>
                  <a:lnTo>
                    <a:pt x="0" y="420"/>
                  </a:lnTo>
                  <a:lnTo>
                    <a:pt x="376" y="1066"/>
                  </a:lnTo>
                  <a:lnTo>
                    <a:pt x="926" y="447"/>
                  </a:lnTo>
                  <a:lnTo>
                    <a:pt x="640" y="3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abf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107520" y="1437120"/>
              <a:ext cx="565560" cy="2697840"/>
            </a:xfrm>
            <a:custGeom>
              <a:avLst/>
              <a:gdLst/>
              <a:ahLst/>
              <a:rect l="l" t="t" r="r" b="b"/>
              <a:pathLst>
                <a:path w="302" h="1441">
                  <a:moveTo>
                    <a:pt x="258" y="27"/>
                  </a:moveTo>
                  <a:lnTo>
                    <a:pt x="258" y="27"/>
                  </a:lnTo>
                  <a:lnTo>
                    <a:pt x="258" y="31"/>
                  </a:lnTo>
                  <a:lnTo>
                    <a:pt x="258" y="35"/>
                  </a:lnTo>
                  <a:lnTo>
                    <a:pt x="258" y="38"/>
                  </a:lnTo>
                  <a:lnTo>
                    <a:pt x="260" y="42"/>
                  </a:lnTo>
                  <a:lnTo>
                    <a:pt x="260" y="50"/>
                  </a:lnTo>
                  <a:lnTo>
                    <a:pt x="260" y="55"/>
                  </a:lnTo>
                  <a:lnTo>
                    <a:pt x="260" y="61"/>
                  </a:lnTo>
                  <a:lnTo>
                    <a:pt x="262" y="69"/>
                  </a:lnTo>
                  <a:lnTo>
                    <a:pt x="262" y="76"/>
                  </a:lnTo>
                  <a:lnTo>
                    <a:pt x="264" y="84"/>
                  </a:lnTo>
                  <a:lnTo>
                    <a:pt x="264" y="94"/>
                  </a:lnTo>
                  <a:lnTo>
                    <a:pt x="266" y="101"/>
                  </a:lnTo>
                  <a:lnTo>
                    <a:pt x="266" y="113"/>
                  </a:lnTo>
                  <a:lnTo>
                    <a:pt x="266" y="122"/>
                  </a:lnTo>
                  <a:lnTo>
                    <a:pt x="268" y="133"/>
                  </a:lnTo>
                  <a:lnTo>
                    <a:pt x="268" y="143"/>
                  </a:lnTo>
                  <a:lnTo>
                    <a:pt x="270" y="154"/>
                  </a:lnTo>
                  <a:lnTo>
                    <a:pt x="270" y="166"/>
                  </a:lnTo>
                  <a:lnTo>
                    <a:pt x="271" y="179"/>
                  </a:lnTo>
                  <a:lnTo>
                    <a:pt x="271" y="190"/>
                  </a:lnTo>
                  <a:lnTo>
                    <a:pt x="273" y="204"/>
                  </a:lnTo>
                  <a:lnTo>
                    <a:pt x="275" y="217"/>
                  </a:lnTo>
                  <a:lnTo>
                    <a:pt x="275" y="230"/>
                  </a:lnTo>
                  <a:lnTo>
                    <a:pt x="277" y="244"/>
                  </a:lnTo>
                  <a:lnTo>
                    <a:pt x="277" y="259"/>
                  </a:lnTo>
                  <a:lnTo>
                    <a:pt x="279" y="272"/>
                  </a:lnTo>
                  <a:lnTo>
                    <a:pt x="281" y="287"/>
                  </a:lnTo>
                  <a:lnTo>
                    <a:pt x="281" y="301"/>
                  </a:lnTo>
                  <a:lnTo>
                    <a:pt x="283" y="316"/>
                  </a:lnTo>
                  <a:lnTo>
                    <a:pt x="283" y="329"/>
                  </a:lnTo>
                  <a:lnTo>
                    <a:pt x="285" y="344"/>
                  </a:lnTo>
                  <a:lnTo>
                    <a:pt x="285" y="360"/>
                  </a:lnTo>
                  <a:lnTo>
                    <a:pt x="287" y="375"/>
                  </a:lnTo>
                  <a:lnTo>
                    <a:pt x="289" y="388"/>
                  </a:lnTo>
                  <a:lnTo>
                    <a:pt x="289" y="403"/>
                  </a:lnTo>
                  <a:lnTo>
                    <a:pt x="290" y="419"/>
                  </a:lnTo>
                  <a:lnTo>
                    <a:pt x="292" y="434"/>
                  </a:lnTo>
                  <a:lnTo>
                    <a:pt x="292" y="447"/>
                  </a:lnTo>
                  <a:lnTo>
                    <a:pt x="292" y="462"/>
                  </a:lnTo>
                  <a:lnTo>
                    <a:pt x="292" y="476"/>
                  </a:lnTo>
                  <a:lnTo>
                    <a:pt x="294" y="491"/>
                  </a:lnTo>
                  <a:lnTo>
                    <a:pt x="294" y="506"/>
                  </a:lnTo>
                  <a:lnTo>
                    <a:pt x="296" y="519"/>
                  </a:lnTo>
                  <a:lnTo>
                    <a:pt x="296" y="535"/>
                  </a:lnTo>
                  <a:lnTo>
                    <a:pt x="298" y="548"/>
                  </a:lnTo>
                  <a:lnTo>
                    <a:pt x="298" y="559"/>
                  </a:lnTo>
                  <a:lnTo>
                    <a:pt x="300" y="574"/>
                  </a:lnTo>
                  <a:lnTo>
                    <a:pt x="300" y="586"/>
                  </a:lnTo>
                  <a:lnTo>
                    <a:pt x="300" y="601"/>
                  </a:lnTo>
                  <a:lnTo>
                    <a:pt x="300" y="612"/>
                  </a:lnTo>
                  <a:lnTo>
                    <a:pt x="302" y="624"/>
                  </a:lnTo>
                  <a:lnTo>
                    <a:pt x="302" y="635"/>
                  </a:lnTo>
                  <a:lnTo>
                    <a:pt x="302" y="649"/>
                  </a:lnTo>
                  <a:lnTo>
                    <a:pt x="302" y="658"/>
                  </a:lnTo>
                  <a:lnTo>
                    <a:pt x="302" y="670"/>
                  </a:lnTo>
                  <a:lnTo>
                    <a:pt x="302" y="679"/>
                  </a:lnTo>
                  <a:lnTo>
                    <a:pt x="302" y="690"/>
                  </a:lnTo>
                  <a:lnTo>
                    <a:pt x="302" y="698"/>
                  </a:lnTo>
                  <a:lnTo>
                    <a:pt x="302" y="708"/>
                  </a:lnTo>
                  <a:lnTo>
                    <a:pt x="302" y="715"/>
                  </a:lnTo>
                  <a:lnTo>
                    <a:pt x="302" y="723"/>
                  </a:lnTo>
                  <a:lnTo>
                    <a:pt x="300" y="730"/>
                  </a:lnTo>
                  <a:lnTo>
                    <a:pt x="300" y="738"/>
                  </a:lnTo>
                  <a:lnTo>
                    <a:pt x="298" y="746"/>
                  </a:lnTo>
                  <a:lnTo>
                    <a:pt x="298" y="755"/>
                  </a:lnTo>
                  <a:lnTo>
                    <a:pt x="296" y="763"/>
                  </a:lnTo>
                  <a:lnTo>
                    <a:pt x="296" y="772"/>
                  </a:lnTo>
                  <a:lnTo>
                    <a:pt x="294" y="782"/>
                  </a:lnTo>
                  <a:lnTo>
                    <a:pt x="294" y="793"/>
                  </a:lnTo>
                  <a:lnTo>
                    <a:pt x="292" y="803"/>
                  </a:lnTo>
                  <a:lnTo>
                    <a:pt x="292" y="812"/>
                  </a:lnTo>
                  <a:lnTo>
                    <a:pt x="292" y="824"/>
                  </a:lnTo>
                  <a:lnTo>
                    <a:pt x="292" y="835"/>
                  </a:lnTo>
                  <a:lnTo>
                    <a:pt x="290" y="844"/>
                  </a:lnTo>
                  <a:lnTo>
                    <a:pt x="290" y="856"/>
                  </a:lnTo>
                  <a:lnTo>
                    <a:pt x="289" y="867"/>
                  </a:lnTo>
                  <a:lnTo>
                    <a:pt x="289" y="881"/>
                  </a:lnTo>
                  <a:lnTo>
                    <a:pt x="287" y="892"/>
                  </a:lnTo>
                  <a:lnTo>
                    <a:pt x="285" y="903"/>
                  </a:lnTo>
                  <a:lnTo>
                    <a:pt x="283" y="915"/>
                  </a:lnTo>
                  <a:lnTo>
                    <a:pt x="283" y="928"/>
                  </a:lnTo>
                  <a:lnTo>
                    <a:pt x="281" y="939"/>
                  </a:lnTo>
                  <a:lnTo>
                    <a:pt x="281" y="953"/>
                  </a:lnTo>
                  <a:lnTo>
                    <a:pt x="279" y="964"/>
                  </a:lnTo>
                  <a:lnTo>
                    <a:pt x="279" y="977"/>
                  </a:lnTo>
                  <a:lnTo>
                    <a:pt x="277" y="991"/>
                  </a:lnTo>
                  <a:lnTo>
                    <a:pt x="277" y="1002"/>
                  </a:lnTo>
                  <a:lnTo>
                    <a:pt x="275" y="1016"/>
                  </a:lnTo>
                  <a:lnTo>
                    <a:pt x="275" y="1027"/>
                  </a:lnTo>
                  <a:lnTo>
                    <a:pt x="273" y="1040"/>
                  </a:lnTo>
                  <a:lnTo>
                    <a:pt x="271" y="1052"/>
                  </a:lnTo>
                  <a:lnTo>
                    <a:pt x="270" y="1065"/>
                  </a:lnTo>
                  <a:lnTo>
                    <a:pt x="270" y="1078"/>
                  </a:lnTo>
                  <a:lnTo>
                    <a:pt x="268" y="1090"/>
                  </a:lnTo>
                  <a:lnTo>
                    <a:pt x="268" y="1101"/>
                  </a:lnTo>
                  <a:lnTo>
                    <a:pt x="266" y="1112"/>
                  </a:lnTo>
                  <a:lnTo>
                    <a:pt x="266" y="1124"/>
                  </a:lnTo>
                  <a:lnTo>
                    <a:pt x="264" y="1135"/>
                  </a:lnTo>
                  <a:lnTo>
                    <a:pt x="264" y="1147"/>
                  </a:lnTo>
                  <a:lnTo>
                    <a:pt x="262" y="1156"/>
                  </a:lnTo>
                  <a:lnTo>
                    <a:pt x="262" y="1170"/>
                  </a:lnTo>
                  <a:lnTo>
                    <a:pt x="260" y="1179"/>
                  </a:lnTo>
                  <a:lnTo>
                    <a:pt x="258" y="1189"/>
                  </a:lnTo>
                  <a:lnTo>
                    <a:pt x="258" y="1198"/>
                  </a:lnTo>
                  <a:lnTo>
                    <a:pt x="256" y="1209"/>
                  </a:lnTo>
                  <a:lnTo>
                    <a:pt x="256" y="1217"/>
                  </a:lnTo>
                  <a:lnTo>
                    <a:pt x="254" y="1227"/>
                  </a:lnTo>
                  <a:lnTo>
                    <a:pt x="254" y="1236"/>
                  </a:lnTo>
                  <a:lnTo>
                    <a:pt x="254" y="1246"/>
                  </a:lnTo>
                  <a:lnTo>
                    <a:pt x="252" y="1251"/>
                  </a:lnTo>
                  <a:lnTo>
                    <a:pt x="252" y="1261"/>
                  </a:lnTo>
                  <a:lnTo>
                    <a:pt x="252" y="1266"/>
                  </a:lnTo>
                  <a:lnTo>
                    <a:pt x="252" y="1274"/>
                  </a:lnTo>
                  <a:lnTo>
                    <a:pt x="251" y="1280"/>
                  </a:lnTo>
                  <a:lnTo>
                    <a:pt x="251" y="1287"/>
                  </a:lnTo>
                  <a:lnTo>
                    <a:pt x="251" y="1291"/>
                  </a:lnTo>
                  <a:lnTo>
                    <a:pt x="251" y="1297"/>
                  </a:lnTo>
                  <a:lnTo>
                    <a:pt x="249" y="1304"/>
                  </a:lnTo>
                  <a:lnTo>
                    <a:pt x="249" y="1312"/>
                  </a:lnTo>
                  <a:lnTo>
                    <a:pt x="249" y="1316"/>
                  </a:lnTo>
                  <a:lnTo>
                    <a:pt x="249" y="1316"/>
                  </a:lnTo>
                  <a:lnTo>
                    <a:pt x="290" y="1441"/>
                  </a:lnTo>
                  <a:lnTo>
                    <a:pt x="21" y="1441"/>
                  </a:lnTo>
                  <a:lnTo>
                    <a:pt x="21" y="1438"/>
                  </a:lnTo>
                  <a:lnTo>
                    <a:pt x="21" y="1430"/>
                  </a:lnTo>
                  <a:lnTo>
                    <a:pt x="19" y="1424"/>
                  </a:lnTo>
                  <a:lnTo>
                    <a:pt x="19" y="1417"/>
                  </a:lnTo>
                  <a:lnTo>
                    <a:pt x="19" y="1409"/>
                  </a:lnTo>
                  <a:lnTo>
                    <a:pt x="19" y="1401"/>
                  </a:lnTo>
                  <a:lnTo>
                    <a:pt x="19" y="1396"/>
                  </a:lnTo>
                  <a:lnTo>
                    <a:pt x="19" y="1390"/>
                  </a:lnTo>
                  <a:lnTo>
                    <a:pt x="19" y="1384"/>
                  </a:lnTo>
                  <a:lnTo>
                    <a:pt x="19" y="1379"/>
                  </a:lnTo>
                  <a:lnTo>
                    <a:pt x="19" y="1373"/>
                  </a:lnTo>
                  <a:lnTo>
                    <a:pt x="19" y="1367"/>
                  </a:lnTo>
                  <a:lnTo>
                    <a:pt x="19" y="1362"/>
                  </a:lnTo>
                  <a:lnTo>
                    <a:pt x="19" y="1356"/>
                  </a:lnTo>
                  <a:lnTo>
                    <a:pt x="19" y="1348"/>
                  </a:lnTo>
                  <a:lnTo>
                    <a:pt x="19" y="1341"/>
                  </a:lnTo>
                  <a:lnTo>
                    <a:pt x="19" y="1333"/>
                  </a:lnTo>
                  <a:lnTo>
                    <a:pt x="19" y="1327"/>
                  </a:lnTo>
                  <a:lnTo>
                    <a:pt x="19" y="1320"/>
                  </a:lnTo>
                  <a:lnTo>
                    <a:pt x="19" y="1312"/>
                  </a:lnTo>
                  <a:lnTo>
                    <a:pt x="19" y="1304"/>
                  </a:lnTo>
                  <a:lnTo>
                    <a:pt x="19" y="1299"/>
                  </a:lnTo>
                  <a:lnTo>
                    <a:pt x="19" y="1289"/>
                  </a:lnTo>
                  <a:lnTo>
                    <a:pt x="19" y="1282"/>
                  </a:lnTo>
                  <a:lnTo>
                    <a:pt x="19" y="1272"/>
                  </a:lnTo>
                  <a:lnTo>
                    <a:pt x="19" y="1265"/>
                  </a:lnTo>
                  <a:lnTo>
                    <a:pt x="19" y="1255"/>
                  </a:lnTo>
                  <a:lnTo>
                    <a:pt x="19" y="1247"/>
                  </a:lnTo>
                  <a:lnTo>
                    <a:pt x="19" y="1238"/>
                  </a:lnTo>
                  <a:lnTo>
                    <a:pt x="19" y="1230"/>
                  </a:lnTo>
                  <a:lnTo>
                    <a:pt x="19" y="1221"/>
                  </a:lnTo>
                  <a:lnTo>
                    <a:pt x="19" y="1211"/>
                  </a:lnTo>
                  <a:lnTo>
                    <a:pt x="19" y="1202"/>
                  </a:lnTo>
                  <a:lnTo>
                    <a:pt x="21" y="1192"/>
                  </a:lnTo>
                  <a:lnTo>
                    <a:pt x="21" y="1183"/>
                  </a:lnTo>
                  <a:lnTo>
                    <a:pt x="21" y="1173"/>
                  </a:lnTo>
                  <a:lnTo>
                    <a:pt x="22" y="1166"/>
                  </a:lnTo>
                  <a:lnTo>
                    <a:pt x="22" y="1156"/>
                  </a:lnTo>
                  <a:lnTo>
                    <a:pt x="22" y="1145"/>
                  </a:lnTo>
                  <a:lnTo>
                    <a:pt x="22" y="1135"/>
                  </a:lnTo>
                  <a:lnTo>
                    <a:pt x="24" y="1126"/>
                  </a:lnTo>
                  <a:lnTo>
                    <a:pt x="24" y="1116"/>
                  </a:lnTo>
                  <a:lnTo>
                    <a:pt x="24" y="1107"/>
                  </a:lnTo>
                  <a:lnTo>
                    <a:pt x="26" y="1097"/>
                  </a:lnTo>
                  <a:lnTo>
                    <a:pt x="26" y="1088"/>
                  </a:lnTo>
                  <a:lnTo>
                    <a:pt x="28" y="1078"/>
                  </a:lnTo>
                  <a:lnTo>
                    <a:pt x="28" y="1067"/>
                  </a:lnTo>
                  <a:lnTo>
                    <a:pt x="30" y="1057"/>
                  </a:lnTo>
                  <a:lnTo>
                    <a:pt x="30" y="1048"/>
                  </a:lnTo>
                  <a:lnTo>
                    <a:pt x="32" y="1038"/>
                  </a:lnTo>
                  <a:lnTo>
                    <a:pt x="32" y="1027"/>
                  </a:lnTo>
                  <a:lnTo>
                    <a:pt x="34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7"/>
                  </a:lnTo>
                  <a:lnTo>
                    <a:pt x="40" y="977"/>
                  </a:lnTo>
                  <a:lnTo>
                    <a:pt x="40" y="966"/>
                  </a:lnTo>
                  <a:lnTo>
                    <a:pt x="41" y="957"/>
                  </a:lnTo>
                  <a:lnTo>
                    <a:pt x="41" y="945"/>
                  </a:lnTo>
                  <a:lnTo>
                    <a:pt x="43" y="934"/>
                  </a:lnTo>
                  <a:lnTo>
                    <a:pt x="43" y="920"/>
                  </a:lnTo>
                  <a:lnTo>
                    <a:pt x="43" y="911"/>
                  </a:lnTo>
                  <a:lnTo>
                    <a:pt x="43" y="898"/>
                  </a:lnTo>
                  <a:lnTo>
                    <a:pt x="45" y="886"/>
                  </a:lnTo>
                  <a:lnTo>
                    <a:pt x="45" y="873"/>
                  </a:lnTo>
                  <a:lnTo>
                    <a:pt x="45" y="862"/>
                  </a:lnTo>
                  <a:lnTo>
                    <a:pt x="45" y="850"/>
                  </a:lnTo>
                  <a:lnTo>
                    <a:pt x="47" y="837"/>
                  </a:lnTo>
                  <a:lnTo>
                    <a:pt x="47" y="825"/>
                  </a:lnTo>
                  <a:lnTo>
                    <a:pt x="47" y="812"/>
                  </a:lnTo>
                  <a:lnTo>
                    <a:pt x="47" y="799"/>
                  </a:lnTo>
                  <a:lnTo>
                    <a:pt x="47" y="785"/>
                  </a:lnTo>
                  <a:lnTo>
                    <a:pt x="47" y="772"/>
                  </a:lnTo>
                  <a:lnTo>
                    <a:pt x="47" y="759"/>
                  </a:lnTo>
                  <a:lnTo>
                    <a:pt x="47" y="746"/>
                  </a:lnTo>
                  <a:lnTo>
                    <a:pt x="47" y="734"/>
                  </a:lnTo>
                  <a:lnTo>
                    <a:pt x="47" y="721"/>
                  </a:lnTo>
                  <a:lnTo>
                    <a:pt x="49" y="708"/>
                  </a:lnTo>
                  <a:lnTo>
                    <a:pt x="47" y="694"/>
                  </a:lnTo>
                  <a:lnTo>
                    <a:pt x="47" y="683"/>
                  </a:lnTo>
                  <a:lnTo>
                    <a:pt x="47" y="670"/>
                  </a:lnTo>
                  <a:lnTo>
                    <a:pt x="47" y="658"/>
                  </a:lnTo>
                  <a:lnTo>
                    <a:pt x="47" y="645"/>
                  </a:lnTo>
                  <a:lnTo>
                    <a:pt x="47" y="633"/>
                  </a:lnTo>
                  <a:lnTo>
                    <a:pt x="47" y="620"/>
                  </a:lnTo>
                  <a:lnTo>
                    <a:pt x="47" y="609"/>
                  </a:lnTo>
                  <a:lnTo>
                    <a:pt x="45" y="595"/>
                  </a:lnTo>
                  <a:lnTo>
                    <a:pt x="45" y="584"/>
                  </a:lnTo>
                  <a:lnTo>
                    <a:pt x="45" y="573"/>
                  </a:lnTo>
                  <a:lnTo>
                    <a:pt x="45" y="561"/>
                  </a:lnTo>
                  <a:lnTo>
                    <a:pt x="43" y="550"/>
                  </a:lnTo>
                  <a:lnTo>
                    <a:pt x="43" y="538"/>
                  </a:lnTo>
                  <a:lnTo>
                    <a:pt x="43" y="527"/>
                  </a:lnTo>
                  <a:lnTo>
                    <a:pt x="43" y="517"/>
                  </a:lnTo>
                  <a:lnTo>
                    <a:pt x="43" y="508"/>
                  </a:lnTo>
                  <a:lnTo>
                    <a:pt x="43" y="497"/>
                  </a:lnTo>
                  <a:lnTo>
                    <a:pt x="41" y="487"/>
                  </a:lnTo>
                  <a:lnTo>
                    <a:pt x="41" y="478"/>
                  </a:lnTo>
                  <a:lnTo>
                    <a:pt x="41" y="468"/>
                  </a:lnTo>
                  <a:lnTo>
                    <a:pt x="41" y="459"/>
                  </a:lnTo>
                  <a:lnTo>
                    <a:pt x="41" y="451"/>
                  </a:lnTo>
                  <a:lnTo>
                    <a:pt x="41" y="443"/>
                  </a:lnTo>
                  <a:lnTo>
                    <a:pt x="40" y="436"/>
                  </a:lnTo>
                  <a:lnTo>
                    <a:pt x="40" y="428"/>
                  </a:lnTo>
                  <a:lnTo>
                    <a:pt x="38" y="420"/>
                  </a:lnTo>
                  <a:lnTo>
                    <a:pt x="38" y="415"/>
                  </a:lnTo>
                  <a:lnTo>
                    <a:pt x="38" y="409"/>
                  </a:lnTo>
                  <a:lnTo>
                    <a:pt x="38" y="403"/>
                  </a:lnTo>
                  <a:lnTo>
                    <a:pt x="38" y="398"/>
                  </a:lnTo>
                  <a:lnTo>
                    <a:pt x="38" y="394"/>
                  </a:lnTo>
                  <a:lnTo>
                    <a:pt x="38" y="386"/>
                  </a:lnTo>
                  <a:lnTo>
                    <a:pt x="38" y="382"/>
                  </a:lnTo>
                  <a:lnTo>
                    <a:pt x="38" y="379"/>
                  </a:lnTo>
                  <a:lnTo>
                    <a:pt x="38" y="377"/>
                  </a:lnTo>
                  <a:lnTo>
                    <a:pt x="0" y="0"/>
                  </a:lnTo>
                  <a:lnTo>
                    <a:pt x="258" y="27"/>
                  </a:lnTo>
                  <a:lnTo>
                    <a:pt x="258" y="27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216240" y="159444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0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234960" y="216792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0" y="4"/>
                  </a:moveTo>
                  <a:lnTo>
                    <a:pt x="4" y="101"/>
                  </a:lnTo>
                  <a:lnTo>
                    <a:pt x="116" y="101"/>
                  </a:lnTo>
                  <a:lnTo>
                    <a:pt x="11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238200" y="275580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0" y="3"/>
                  </a:moveTo>
                  <a:lnTo>
                    <a:pt x="2" y="100"/>
                  </a:lnTo>
                  <a:lnTo>
                    <a:pt x="116" y="100"/>
                  </a:lnTo>
                  <a:lnTo>
                    <a:pt x="1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216240" y="318348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156120" y="371880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6"/>
                  </a:moveTo>
                  <a:lnTo>
                    <a:pt x="4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942640" y="1496520"/>
              <a:ext cx="190800" cy="2601000"/>
            </a:xfrm>
            <a:custGeom>
              <a:avLst/>
              <a:gdLst/>
              <a:ahLst/>
              <a:rect l="l" t="t" r="r" b="b"/>
              <a:pathLst>
                <a:path w="103" h="1387">
                  <a:moveTo>
                    <a:pt x="12" y="0"/>
                  </a:moveTo>
                  <a:lnTo>
                    <a:pt x="12" y="2"/>
                  </a:lnTo>
                  <a:lnTo>
                    <a:pt x="12" y="7"/>
                  </a:lnTo>
                  <a:lnTo>
                    <a:pt x="14" y="13"/>
                  </a:lnTo>
                  <a:lnTo>
                    <a:pt x="14" y="21"/>
                  </a:lnTo>
                  <a:lnTo>
                    <a:pt x="15" y="30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17" y="47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7" y="66"/>
                  </a:lnTo>
                  <a:lnTo>
                    <a:pt x="19" y="74"/>
                  </a:lnTo>
                  <a:lnTo>
                    <a:pt x="19" y="81"/>
                  </a:lnTo>
                  <a:lnTo>
                    <a:pt x="21" y="89"/>
                  </a:lnTo>
                  <a:lnTo>
                    <a:pt x="21" y="99"/>
                  </a:lnTo>
                  <a:lnTo>
                    <a:pt x="23" y="106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7" y="133"/>
                  </a:lnTo>
                  <a:lnTo>
                    <a:pt x="27" y="142"/>
                  </a:lnTo>
                  <a:lnTo>
                    <a:pt x="29" y="154"/>
                  </a:lnTo>
                  <a:lnTo>
                    <a:pt x="29" y="163"/>
                  </a:lnTo>
                  <a:lnTo>
                    <a:pt x="29" y="173"/>
                  </a:lnTo>
                  <a:lnTo>
                    <a:pt x="31" y="184"/>
                  </a:lnTo>
                  <a:lnTo>
                    <a:pt x="33" y="195"/>
                  </a:lnTo>
                  <a:lnTo>
                    <a:pt x="33" y="207"/>
                  </a:lnTo>
                  <a:lnTo>
                    <a:pt x="33" y="216"/>
                  </a:lnTo>
                  <a:lnTo>
                    <a:pt x="34" y="228"/>
                  </a:lnTo>
                  <a:lnTo>
                    <a:pt x="34" y="239"/>
                  </a:lnTo>
                  <a:lnTo>
                    <a:pt x="34" y="251"/>
                  </a:lnTo>
                  <a:lnTo>
                    <a:pt x="36" y="262"/>
                  </a:lnTo>
                  <a:lnTo>
                    <a:pt x="36" y="273"/>
                  </a:lnTo>
                  <a:lnTo>
                    <a:pt x="38" y="287"/>
                  </a:lnTo>
                  <a:lnTo>
                    <a:pt x="38" y="298"/>
                  </a:lnTo>
                  <a:lnTo>
                    <a:pt x="40" y="310"/>
                  </a:lnTo>
                  <a:lnTo>
                    <a:pt x="40" y="321"/>
                  </a:lnTo>
                  <a:lnTo>
                    <a:pt x="42" y="334"/>
                  </a:lnTo>
                  <a:lnTo>
                    <a:pt x="42" y="348"/>
                  </a:lnTo>
                  <a:lnTo>
                    <a:pt x="44" y="359"/>
                  </a:lnTo>
                  <a:lnTo>
                    <a:pt x="44" y="372"/>
                  </a:lnTo>
                  <a:lnTo>
                    <a:pt x="44" y="386"/>
                  </a:lnTo>
                  <a:lnTo>
                    <a:pt x="44" y="397"/>
                  </a:lnTo>
                  <a:lnTo>
                    <a:pt x="46" y="410"/>
                  </a:lnTo>
                  <a:lnTo>
                    <a:pt x="46" y="422"/>
                  </a:lnTo>
                  <a:lnTo>
                    <a:pt x="46" y="435"/>
                  </a:lnTo>
                  <a:lnTo>
                    <a:pt x="46" y="448"/>
                  </a:lnTo>
                  <a:lnTo>
                    <a:pt x="48" y="462"/>
                  </a:lnTo>
                  <a:lnTo>
                    <a:pt x="48" y="473"/>
                  </a:lnTo>
                  <a:lnTo>
                    <a:pt x="48" y="486"/>
                  </a:lnTo>
                  <a:lnTo>
                    <a:pt x="48" y="500"/>
                  </a:lnTo>
                  <a:lnTo>
                    <a:pt x="48" y="511"/>
                  </a:lnTo>
                  <a:lnTo>
                    <a:pt x="48" y="524"/>
                  </a:lnTo>
                  <a:lnTo>
                    <a:pt x="48" y="536"/>
                  </a:lnTo>
                  <a:lnTo>
                    <a:pt x="48" y="549"/>
                  </a:lnTo>
                  <a:lnTo>
                    <a:pt x="48" y="560"/>
                  </a:lnTo>
                  <a:lnTo>
                    <a:pt x="48" y="574"/>
                  </a:lnTo>
                  <a:lnTo>
                    <a:pt x="50" y="587"/>
                  </a:lnTo>
                  <a:lnTo>
                    <a:pt x="48" y="599"/>
                  </a:lnTo>
                  <a:lnTo>
                    <a:pt x="48" y="610"/>
                  </a:lnTo>
                  <a:lnTo>
                    <a:pt x="46" y="621"/>
                  </a:lnTo>
                  <a:lnTo>
                    <a:pt x="46" y="635"/>
                  </a:lnTo>
                  <a:lnTo>
                    <a:pt x="46" y="646"/>
                  </a:lnTo>
                  <a:lnTo>
                    <a:pt x="46" y="659"/>
                  </a:lnTo>
                  <a:lnTo>
                    <a:pt x="44" y="671"/>
                  </a:lnTo>
                  <a:lnTo>
                    <a:pt x="44" y="684"/>
                  </a:lnTo>
                  <a:lnTo>
                    <a:pt x="44" y="695"/>
                  </a:lnTo>
                  <a:lnTo>
                    <a:pt x="44" y="707"/>
                  </a:lnTo>
                  <a:lnTo>
                    <a:pt x="44" y="720"/>
                  </a:lnTo>
                  <a:lnTo>
                    <a:pt x="44" y="732"/>
                  </a:lnTo>
                  <a:lnTo>
                    <a:pt x="42" y="743"/>
                  </a:lnTo>
                  <a:lnTo>
                    <a:pt x="42" y="756"/>
                  </a:lnTo>
                  <a:lnTo>
                    <a:pt x="42" y="768"/>
                  </a:lnTo>
                  <a:lnTo>
                    <a:pt x="42" y="781"/>
                  </a:lnTo>
                  <a:lnTo>
                    <a:pt x="40" y="792"/>
                  </a:lnTo>
                  <a:lnTo>
                    <a:pt x="40" y="806"/>
                  </a:lnTo>
                  <a:lnTo>
                    <a:pt x="38" y="817"/>
                  </a:lnTo>
                  <a:lnTo>
                    <a:pt x="38" y="830"/>
                  </a:lnTo>
                  <a:lnTo>
                    <a:pt x="38" y="842"/>
                  </a:lnTo>
                  <a:lnTo>
                    <a:pt x="36" y="853"/>
                  </a:lnTo>
                  <a:lnTo>
                    <a:pt x="36" y="865"/>
                  </a:lnTo>
                  <a:lnTo>
                    <a:pt x="36" y="878"/>
                  </a:lnTo>
                  <a:lnTo>
                    <a:pt x="34" y="887"/>
                  </a:lnTo>
                  <a:lnTo>
                    <a:pt x="34" y="901"/>
                  </a:lnTo>
                  <a:lnTo>
                    <a:pt x="33" y="912"/>
                  </a:lnTo>
                  <a:lnTo>
                    <a:pt x="33" y="924"/>
                  </a:lnTo>
                  <a:lnTo>
                    <a:pt x="33" y="935"/>
                  </a:lnTo>
                  <a:lnTo>
                    <a:pt x="33" y="946"/>
                  </a:lnTo>
                  <a:lnTo>
                    <a:pt x="31" y="958"/>
                  </a:lnTo>
                  <a:lnTo>
                    <a:pt x="31" y="969"/>
                  </a:lnTo>
                  <a:lnTo>
                    <a:pt x="29" y="979"/>
                  </a:lnTo>
                  <a:lnTo>
                    <a:pt x="29" y="990"/>
                  </a:lnTo>
                  <a:lnTo>
                    <a:pt x="29" y="1002"/>
                  </a:lnTo>
                  <a:lnTo>
                    <a:pt x="29" y="1011"/>
                  </a:lnTo>
                  <a:lnTo>
                    <a:pt x="27" y="1021"/>
                  </a:lnTo>
                  <a:lnTo>
                    <a:pt x="27" y="1032"/>
                  </a:lnTo>
                  <a:lnTo>
                    <a:pt x="25" y="1041"/>
                  </a:lnTo>
                  <a:lnTo>
                    <a:pt x="25" y="1053"/>
                  </a:lnTo>
                  <a:lnTo>
                    <a:pt x="25" y="1060"/>
                  </a:lnTo>
                  <a:lnTo>
                    <a:pt x="23" y="1072"/>
                  </a:lnTo>
                  <a:lnTo>
                    <a:pt x="23" y="1081"/>
                  </a:lnTo>
                  <a:lnTo>
                    <a:pt x="23" y="1091"/>
                  </a:lnTo>
                  <a:lnTo>
                    <a:pt x="21" y="1100"/>
                  </a:lnTo>
                  <a:lnTo>
                    <a:pt x="21" y="1110"/>
                  </a:lnTo>
                  <a:lnTo>
                    <a:pt x="19" y="1117"/>
                  </a:lnTo>
                  <a:lnTo>
                    <a:pt x="19" y="1127"/>
                  </a:lnTo>
                  <a:lnTo>
                    <a:pt x="19" y="1137"/>
                  </a:lnTo>
                  <a:lnTo>
                    <a:pt x="17" y="1144"/>
                  </a:lnTo>
                  <a:lnTo>
                    <a:pt x="17" y="1152"/>
                  </a:lnTo>
                  <a:lnTo>
                    <a:pt x="17" y="1159"/>
                  </a:lnTo>
                  <a:lnTo>
                    <a:pt x="17" y="1167"/>
                  </a:lnTo>
                  <a:lnTo>
                    <a:pt x="15" y="1175"/>
                  </a:lnTo>
                  <a:lnTo>
                    <a:pt x="15" y="1182"/>
                  </a:lnTo>
                  <a:lnTo>
                    <a:pt x="15" y="1190"/>
                  </a:lnTo>
                  <a:lnTo>
                    <a:pt x="14" y="1195"/>
                  </a:lnTo>
                  <a:lnTo>
                    <a:pt x="14" y="1203"/>
                  </a:lnTo>
                  <a:lnTo>
                    <a:pt x="12" y="1209"/>
                  </a:lnTo>
                  <a:lnTo>
                    <a:pt x="12" y="1216"/>
                  </a:lnTo>
                  <a:lnTo>
                    <a:pt x="12" y="1222"/>
                  </a:lnTo>
                  <a:lnTo>
                    <a:pt x="10" y="1228"/>
                  </a:lnTo>
                  <a:lnTo>
                    <a:pt x="10" y="1233"/>
                  </a:lnTo>
                  <a:lnTo>
                    <a:pt x="10" y="1239"/>
                  </a:lnTo>
                  <a:lnTo>
                    <a:pt x="6" y="1249"/>
                  </a:lnTo>
                  <a:lnTo>
                    <a:pt x="6" y="1258"/>
                  </a:lnTo>
                  <a:lnTo>
                    <a:pt x="4" y="1268"/>
                  </a:lnTo>
                  <a:lnTo>
                    <a:pt x="4" y="1275"/>
                  </a:lnTo>
                  <a:lnTo>
                    <a:pt x="2" y="1283"/>
                  </a:lnTo>
                  <a:lnTo>
                    <a:pt x="2" y="1292"/>
                  </a:lnTo>
                  <a:lnTo>
                    <a:pt x="2" y="1300"/>
                  </a:lnTo>
                  <a:lnTo>
                    <a:pt x="2" y="1308"/>
                  </a:lnTo>
                  <a:lnTo>
                    <a:pt x="0" y="1313"/>
                  </a:lnTo>
                  <a:lnTo>
                    <a:pt x="0" y="1321"/>
                  </a:lnTo>
                  <a:lnTo>
                    <a:pt x="0" y="1327"/>
                  </a:lnTo>
                  <a:lnTo>
                    <a:pt x="0" y="1334"/>
                  </a:lnTo>
                  <a:lnTo>
                    <a:pt x="0" y="1338"/>
                  </a:lnTo>
                  <a:lnTo>
                    <a:pt x="2" y="1344"/>
                  </a:lnTo>
                  <a:lnTo>
                    <a:pt x="2" y="1349"/>
                  </a:lnTo>
                  <a:lnTo>
                    <a:pt x="2" y="1353"/>
                  </a:lnTo>
                  <a:lnTo>
                    <a:pt x="2" y="1361"/>
                  </a:lnTo>
                  <a:lnTo>
                    <a:pt x="2" y="1368"/>
                  </a:lnTo>
                  <a:lnTo>
                    <a:pt x="2" y="1374"/>
                  </a:lnTo>
                  <a:lnTo>
                    <a:pt x="4" y="1380"/>
                  </a:lnTo>
                  <a:lnTo>
                    <a:pt x="6" y="1386"/>
                  </a:lnTo>
                  <a:lnTo>
                    <a:pt x="6" y="1387"/>
                  </a:lnTo>
                  <a:lnTo>
                    <a:pt x="55" y="1387"/>
                  </a:lnTo>
                  <a:lnTo>
                    <a:pt x="55" y="1386"/>
                  </a:lnTo>
                  <a:lnTo>
                    <a:pt x="55" y="1380"/>
                  </a:lnTo>
                  <a:lnTo>
                    <a:pt x="55" y="1372"/>
                  </a:lnTo>
                  <a:lnTo>
                    <a:pt x="55" y="1365"/>
                  </a:lnTo>
                  <a:lnTo>
                    <a:pt x="55" y="1359"/>
                  </a:lnTo>
                  <a:lnTo>
                    <a:pt x="55" y="1351"/>
                  </a:lnTo>
                  <a:lnTo>
                    <a:pt x="55" y="1346"/>
                  </a:lnTo>
                  <a:lnTo>
                    <a:pt x="55" y="1338"/>
                  </a:lnTo>
                  <a:lnTo>
                    <a:pt x="55" y="1330"/>
                  </a:lnTo>
                  <a:lnTo>
                    <a:pt x="55" y="1325"/>
                  </a:lnTo>
                  <a:lnTo>
                    <a:pt x="55" y="1315"/>
                  </a:lnTo>
                  <a:lnTo>
                    <a:pt x="55" y="1309"/>
                  </a:lnTo>
                  <a:lnTo>
                    <a:pt x="55" y="1298"/>
                  </a:lnTo>
                  <a:lnTo>
                    <a:pt x="55" y="1290"/>
                  </a:lnTo>
                  <a:lnTo>
                    <a:pt x="55" y="1281"/>
                  </a:lnTo>
                  <a:lnTo>
                    <a:pt x="55" y="1271"/>
                  </a:lnTo>
                  <a:lnTo>
                    <a:pt x="55" y="1266"/>
                  </a:lnTo>
                  <a:lnTo>
                    <a:pt x="55" y="1262"/>
                  </a:lnTo>
                  <a:lnTo>
                    <a:pt x="55" y="1256"/>
                  </a:lnTo>
                  <a:lnTo>
                    <a:pt x="57" y="1252"/>
                  </a:lnTo>
                  <a:lnTo>
                    <a:pt x="57" y="1247"/>
                  </a:lnTo>
                  <a:lnTo>
                    <a:pt x="57" y="1243"/>
                  </a:lnTo>
                  <a:lnTo>
                    <a:pt x="57" y="1237"/>
                  </a:lnTo>
                  <a:lnTo>
                    <a:pt x="59" y="1232"/>
                  </a:lnTo>
                  <a:lnTo>
                    <a:pt x="59" y="1228"/>
                  </a:lnTo>
                  <a:lnTo>
                    <a:pt x="59" y="1222"/>
                  </a:lnTo>
                  <a:lnTo>
                    <a:pt x="59" y="1216"/>
                  </a:lnTo>
                  <a:lnTo>
                    <a:pt x="61" y="1213"/>
                  </a:lnTo>
                  <a:lnTo>
                    <a:pt x="61" y="1207"/>
                  </a:lnTo>
                  <a:lnTo>
                    <a:pt x="61" y="1201"/>
                  </a:lnTo>
                  <a:lnTo>
                    <a:pt x="63" y="1195"/>
                  </a:lnTo>
                  <a:lnTo>
                    <a:pt x="63" y="1192"/>
                  </a:lnTo>
                  <a:lnTo>
                    <a:pt x="63" y="1186"/>
                  </a:lnTo>
                  <a:lnTo>
                    <a:pt x="65" y="1180"/>
                  </a:lnTo>
                  <a:lnTo>
                    <a:pt x="65" y="1176"/>
                  </a:lnTo>
                  <a:lnTo>
                    <a:pt x="67" y="1171"/>
                  </a:lnTo>
                  <a:lnTo>
                    <a:pt x="69" y="1165"/>
                  </a:lnTo>
                  <a:lnTo>
                    <a:pt x="69" y="1161"/>
                  </a:lnTo>
                  <a:lnTo>
                    <a:pt x="71" y="1156"/>
                  </a:lnTo>
                  <a:lnTo>
                    <a:pt x="71" y="1152"/>
                  </a:lnTo>
                  <a:lnTo>
                    <a:pt x="71" y="1146"/>
                  </a:lnTo>
                  <a:lnTo>
                    <a:pt x="73" y="1140"/>
                  </a:lnTo>
                  <a:lnTo>
                    <a:pt x="73" y="1135"/>
                  </a:lnTo>
                  <a:lnTo>
                    <a:pt x="74" y="1127"/>
                  </a:lnTo>
                  <a:lnTo>
                    <a:pt x="74" y="1121"/>
                  </a:lnTo>
                  <a:lnTo>
                    <a:pt x="76" y="1114"/>
                  </a:lnTo>
                  <a:lnTo>
                    <a:pt x="76" y="1108"/>
                  </a:lnTo>
                  <a:lnTo>
                    <a:pt x="78" y="1102"/>
                  </a:lnTo>
                  <a:lnTo>
                    <a:pt x="78" y="1095"/>
                  </a:lnTo>
                  <a:lnTo>
                    <a:pt x="78" y="1087"/>
                  </a:lnTo>
                  <a:lnTo>
                    <a:pt x="80" y="1081"/>
                  </a:lnTo>
                  <a:lnTo>
                    <a:pt x="80" y="1074"/>
                  </a:lnTo>
                  <a:lnTo>
                    <a:pt x="82" y="1066"/>
                  </a:lnTo>
                  <a:lnTo>
                    <a:pt x="82" y="1059"/>
                  </a:lnTo>
                  <a:lnTo>
                    <a:pt x="82" y="1049"/>
                  </a:lnTo>
                  <a:lnTo>
                    <a:pt x="84" y="1043"/>
                  </a:lnTo>
                  <a:lnTo>
                    <a:pt x="84" y="1034"/>
                  </a:lnTo>
                  <a:lnTo>
                    <a:pt x="84" y="1026"/>
                  </a:lnTo>
                  <a:lnTo>
                    <a:pt x="84" y="1017"/>
                  </a:lnTo>
                  <a:lnTo>
                    <a:pt x="86" y="1009"/>
                  </a:lnTo>
                  <a:lnTo>
                    <a:pt x="86" y="1000"/>
                  </a:lnTo>
                  <a:lnTo>
                    <a:pt x="86" y="992"/>
                  </a:lnTo>
                  <a:lnTo>
                    <a:pt x="88" y="983"/>
                  </a:lnTo>
                  <a:lnTo>
                    <a:pt x="88" y="975"/>
                  </a:lnTo>
                  <a:lnTo>
                    <a:pt x="88" y="965"/>
                  </a:lnTo>
                  <a:lnTo>
                    <a:pt x="88" y="958"/>
                  </a:lnTo>
                  <a:lnTo>
                    <a:pt x="90" y="950"/>
                  </a:lnTo>
                  <a:lnTo>
                    <a:pt x="90" y="941"/>
                  </a:lnTo>
                  <a:lnTo>
                    <a:pt x="90" y="933"/>
                  </a:lnTo>
                  <a:lnTo>
                    <a:pt x="90" y="924"/>
                  </a:lnTo>
                  <a:lnTo>
                    <a:pt x="92" y="916"/>
                  </a:lnTo>
                  <a:lnTo>
                    <a:pt x="92" y="908"/>
                  </a:lnTo>
                  <a:lnTo>
                    <a:pt x="92" y="901"/>
                  </a:lnTo>
                  <a:lnTo>
                    <a:pt x="92" y="891"/>
                  </a:lnTo>
                  <a:lnTo>
                    <a:pt x="92" y="884"/>
                  </a:lnTo>
                  <a:lnTo>
                    <a:pt x="93" y="876"/>
                  </a:lnTo>
                  <a:lnTo>
                    <a:pt x="93" y="868"/>
                  </a:lnTo>
                  <a:lnTo>
                    <a:pt x="93" y="859"/>
                  </a:lnTo>
                  <a:lnTo>
                    <a:pt x="93" y="853"/>
                  </a:lnTo>
                  <a:lnTo>
                    <a:pt x="93" y="846"/>
                  </a:lnTo>
                  <a:lnTo>
                    <a:pt x="93" y="838"/>
                  </a:lnTo>
                  <a:lnTo>
                    <a:pt x="93" y="830"/>
                  </a:lnTo>
                  <a:lnTo>
                    <a:pt x="93" y="823"/>
                  </a:lnTo>
                  <a:lnTo>
                    <a:pt x="95" y="819"/>
                  </a:lnTo>
                  <a:lnTo>
                    <a:pt x="95" y="811"/>
                  </a:lnTo>
                  <a:lnTo>
                    <a:pt x="95" y="806"/>
                  </a:lnTo>
                  <a:lnTo>
                    <a:pt x="95" y="800"/>
                  </a:lnTo>
                  <a:lnTo>
                    <a:pt x="95" y="794"/>
                  </a:lnTo>
                  <a:lnTo>
                    <a:pt x="95" y="789"/>
                  </a:lnTo>
                  <a:lnTo>
                    <a:pt x="95" y="783"/>
                  </a:lnTo>
                  <a:lnTo>
                    <a:pt x="95" y="779"/>
                  </a:lnTo>
                  <a:lnTo>
                    <a:pt x="95" y="773"/>
                  </a:lnTo>
                  <a:lnTo>
                    <a:pt x="95" y="766"/>
                  </a:lnTo>
                  <a:lnTo>
                    <a:pt x="95" y="760"/>
                  </a:lnTo>
                  <a:lnTo>
                    <a:pt x="95" y="752"/>
                  </a:lnTo>
                  <a:lnTo>
                    <a:pt x="95" y="751"/>
                  </a:lnTo>
                  <a:lnTo>
                    <a:pt x="95" y="747"/>
                  </a:lnTo>
                  <a:lnTo>
                    <a:pt x="97" y="747"/>
                  </a:lnTo>
                  <a:lnTo>
                    <a:pt x="97" y="745"/>
                  </a:lnTo>
                  <a:lnTo>
                    <a:pt x="97" y="739"/>
                  </a:lnTo>
                  <a:lnTo>
                    <a:pt x="97" y="735"/>
                  </a:lnTo>
                  <a:lnTo>
                    <a:pt x="97" y="730"/>
                  </a:lnTo>
                  <a:lnTo>
                    <a:pt x="97" y="724"/>
                  </a:lnTo>
                  <a:lnTo>
                    <a:pt x="99" y="718"/>
                  </a:lnTo>
                  <a:lnTo>
                    <a:pt x="99" y="711"/>
                  </a:lnTo>
                  <a:lnTo>
                    <a:pt x="99" y="703"/>
                  </a:lnTo>
                  <a:lnTo>
                    <a:pt x="99" y="695"/>
                  </a:lnTo>
                  <a:lnTo>
                    <a:pt x="101" y="686"/>
                  </a:lnTo>
                  <a:lnTo>
                    <a:pt x="101" y="680"/>
                  </a:lnTo>
                  <a:lnTo>
                    <a:pt x="101" y="675"/>
                  </a:lnTo>
                  <a:lnTo>
                    <a:pt x="101" y="671"/>
                  </a:lnTo>
                  <a:lnTo>
                    <a:pt x="101" y="665"/>
                  </a:lnTo>
                  <a:lnTo>
                    <a:pt x="101" y="659"/>
                  </a:lnTo>
                  <a:lnTo>
                    <a:pt x="101" y="654"/>
                  </a:lnTo>
                  <a:lnTo>
                    <a:pt x="101" y="648"/>
                  </a:lnTo>
                  <a:lnTo>
                    <a:pt x="103" y="642"/>
                  </a:lnTo>
                  <a:lnTo>
                    <a:pt x="103" y="635"/>
                  </a:lnTo>
                  <a:lnTo>
                    <a:pt x="103" y="629"/>
                  </a:lnTo>
                  <a:lnTo>
                    <a:pt x="103" y="621"/>
                  </a:lnTo>
                  <a:lnTo>
                    <a:pt x="103" y="616"/>
                  </a:lnTo>
                  <a:lnTo>
                    <a:pt x="103" y="608"/>
                  </a:lnTo>
                  <a:lnTo>
                    <a:pt x="103" y="602"/>
                  </a:lnTo>
                  <a:lnTo>
                    <a:pt x="103" y="595"/>
                  </a:lnTo>
                  <a:lnTo>
                    <a:pt x="103" y="589"/>
                  </a:lnTo>
                  <a:lnTo>
                    <a:pt x="103" y="579"/>
                  </a:lnTo>
                  <a:lnTo>
                    <a:pt x="103" y="574"/>
                  </a:lnTo>
                  <a:lnTo>
                    <a:pt x="103" y="566"/>
                  </a:lnTo>
                  <a:lnTo>
                    <a:pt x="103" y="559"/>
                  </a:lnTo>
                  <a:lnTo>
                    <a:pt x="103" y="551"/>
                  </a:lnTo>
                  <a:lnTo>
                    <a:pt x="103" y="541"/>
                  </a:lnTo>
                  <a:lnTo>
                    <a:pt x="103" y="534"/>
                  </a:lnTo>
                  <a:lnTo>
                    <a:pt x="103" y="526"/>
                  </a:lnTo>
                  <a:lnTo>
                    <a:pt x="101" y="517"/>
                  </a:lnTo>
                  <a:lnTo>
                    <a:pt x="101" y="509"/>
                  </a:lnTo>
                  <a:lnTo>
                    <a:pt x="101" y="500"/>
                  </a:lnTo>
                  <a:lnTo>
                    <a:pt x="101" y="492"/>
                  </a:lnTo>
                  <a:lnTo>
                    <a:pt x="101" y="483"/>
                  </a:lnTo>
                  <a:lnTo>
                    <a:pt x="101" y="475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99" y="448"/>
                  </a:lnTo>
                  <a:lnTo>
                    <a:pt x="99" y="439"/>
                  </a:lnTo>
                  <a:lnTo>
                    <a:pt x="99" y="429"/>
                  </a:lnTo>
                  <a:lnTo>
                    <a:pt x="99" y="420"/>
                  </a:lnTo>
                  <a:lnTo>
                    <a:pt x="97" y="410"/>
                  </a:lnTo>
                  <a:lnTo>
                    <a:pt x="97" y="401"/>
                  </a:lnTo>
                  <a:lnTo>
                    <a:pt x="97" y="391"/>
                  </a:lnTo>
                  <a:lnTo>
                    <a:pt x="97" y="382"/>
                  </a:lnTo>
                  <a:lnTo>
                    <a:pt x="95" y="372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95" y="344"/>
                  </a:lnTo>
                  <a:lnTo>
                    <a:pt x="93" y="334"/>
                  </a:lnTo>
                  <a:lnTo>
                    <a:pt x="93" y="325"/>
                  </a:lnTo>
                  <a:lnTo>
                    <a:pt x="92" y="315"/>
                  </a:lnTo>
                  <a:lnTo>
                    <a:pt x="92" y="306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90" y="279"/>
                  </a:lnTo>
                  <a:lnTo>
                    <a:pt x="90" y="270"/>
                  </a:lnTo>
                  <a:lnTo>
                    <a:pt x="88" y="262"/>
                  </a:lnTo>
                  <a:lnTo>
                    <a:pt x="88" y="253"/>
                  </a:lnTo>
                  <a:lnTo>
                    <a:pt x="88" y="243"/>
                  </a:lnTo>
                  <a:lnTo>
                    <a:pt x="88" y="235"/>
                  </a:lnTo>
                  <a:lnTo>
                    <a:pt x="86" y="226"/>
                  </a:lnTo>
                  <a:lnTo>
                    <a:pt x="86" y="218"/>
                  </a:lnTo>
                  <a:lnTo>
                    <a:pt x="84" y="209"/>
                  </a:lnTo>
                  <a:lnTo>
                    <a:pt x="84" y="201"/>
                  </a:lnTo>
                  <a:lnTo>
                    <a:pt x="84" y="194"/>
                  </a:lnTo>
                  <a:lnTo>
                    <a:pt x="82" y="186"/>
                  </a:lnTo>
                  <a:lnTo>
                    <a:pt x="82" y="178"/>
                  </a:lnTo>
                  <a:lnTo>
                    <a:pt x="82" y="171"/>
                  </a:lnTo>
                  <a:lnTo>
                    <a:pt x="82" y="163"/>
                  </a:lnTo>
                  <a:lnTo>
                    <a:pt x="80" y="156"/>
                  </a:lnTo>
                  <a:lnTo>
                    <a:pt x="80" y="148"/>
                  </a:lnTo>
                  <a:lnTo>
                    <a:pt x="80" y="140"/>
                  </a:lnTo>
                  <a:lnTo>
                    <a:pt x="78" y="133"/>
                  </a:lnTo>
                  <a:lnTo>
                    <a:pt x="78" y="127"/>
                  </a:lnTo>
                  <a:lnTo>
                    <a:pt x="78" y="119"/>
                  </a:lnTo>
                  <a:lnTo>
                    <a:pt x="78" y="114"/>
                  </a:lnTo>
                  <a:lnTo>
                    <a:pt x="76" y="106"/>
                  </a:lnTo>
                  <a:lnTo>
                    <a:pt x="76" y="100"/>
                  </a:lnTo>
                  <a:lnTo>
                    <a:pt x="74" y="93"/>
                  </a:lnTo>
                  <a:lnTo>
                    <a:pt x="74" y="89"/>
                  </a:lnTo>
                  <a:lnTo>
                    <a:pt x="74" y="81"/>
                  </a:lnTo>
                  <a:lnTo>
                    <a:pt x="73" y="78"/>
                  </a:lnTo>
                  <a:lnTo>
                    <a:pt x="73" y="72"/>
                  </a:lnTo>
                  <a:lnTo>
                    <a:pt x="73" y="66"/>
                  </a:lnTo>
                  <a:lnTo>
                    <a:pt x="71" y="61"/>
                  </a:lnTo>
                  <a:lnTo>
                    <a:pt x="71" y="55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69" y="22"/>
                  </a:lnTo>
                  <a:lnTo>
                    <a:pt x="69" y="17"/>
                  </a:lnTo>
                  <a:lnTo>
                    <a:pt x="67" y="9"/>
                  </a:lnTo>
                  <a:lnTo>
                    <a:pt x="67" y="7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403080" y="1496520"/>
              <a:ext cx="187560" cy="2611800"/>
            </a:xfrm>
            <a:custGeom>
              <a:avLst/>
              <a:gdLst/>
              <a:ahLst/>
              <a:rect l="l" t="t" r="r" b="b"/>
              <a:pathLst>
                <a:path w="99" h="1393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5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4" y="81"/>
                  </a:lnTo>
                  <a:lnTo>
                    <a:pt x="16" y="89"/>
                  </a:lnTo>
                  <a:lnTo>
                    <a:pt x="16" y="95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9" y="116"/>
                  </a:lnTo>
                  <a:lnTo>
                    <a:pt x="19" y="123"/>
                  </a:lnTo>
                  <a:lnTo>
                    <a:pt x="21" y="131"/>
                  </a:lnTo>
                  <a:lnTo>
                    <a:pt x="21" y="138"/>
                  </a:lnTo>
                  <a:lnTo>
                    <a:pt x="23" y="146"/>
                  </a:lnTo>
                  <a:lnTo>
                    <a:pt x="23" y="154"/>
                  </a:lnTo>
                  <a:lnTo>
                    <a:pt x="25" y="161"/>
                  </a:lnTo>
                  <a:lnTo>
                    <a:pt x="25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9" y="195"/>
                  </a:lnTo>
                  <a:lnTo>
                    <a:pt x="29" y="203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31" y="235"/>
                  </a:lnTo>
                  <a:lnTo>
                    <a:pt x="33" y="245"/>
                  </a:lnTo>
                  <a:lnTo>
                    <a:pt x="33" y="253"/>
                  </a:lnTo>
                  <a:lnTo>
                    <a:pt x="35" y="262"/>
                  </a:lnTo>
                  <a:lnTo>
                    <a:pt x="35" y="272"/>
                  </a:lnTo>
                  <a:lnTo>
                    <a:pt x="37" y="279"/>
                  </a:lnTo>
                  <a:lnTo>
                    <a:pt x="37" y="289"/>
                  </a:lnTo>
                  <a:lnTo>
                    <a:pt x="38" y="296"/>
                  </a:lnTo>
                  <a:lnTo>
                    <a:pt x="38" y="304"/>
                  </a:lnTo>
                  <a:lnTo>
                    <a:pt x="38" y="313"/>
                  </a:lnTo>
                  <a:lnTo>
                    <a:pt x="38" y="321"/>
                  </a:lnTo>
                  <a:lnTo>
                    <a:pt x="40" y="329"/>
                  </a:lnTo>
                  <a:lnTo>
                    <a:pt x="40" y="336"/>
                  </a:lnTo>
                  <a:lnTo>
                    <a:pt x="42" y="346"/>
                  </a:lnTo>
                  <a:lnTo>
                    <a:pt x="42" y="353"/>
                  </a:lnTo>
                  <a:lnTo>
                    <a:pt x="42" y="361"/>
                  </a:lnTo>
                  <a:lnTo>
                    <a:pt x="42" y="368"/>
                  </a:lnTo>
                  <a:lnTo>
                    <a:pt x="42" y="376"/>
                  </a:lnTo>
                  <a:lnTo>
                    <a:pt x="42" y="384"/>
                  </a:lnTo>
                  <a:lnTo>
                    <a:pt x="42" y="391"/>
                  </a:lnTo>
                  <a:lnTo>
                    <a:pt x="42" y="397"/>
                  </a:lnTo>
                  <a:lnTo>
                    <a:pt x="44" y="407"/>
                  </a:lnTo>
                  <a:lnTo>
                    <a:pt x="42" y="412"/>
                  </a:lnTo>
                  <a:lnTo>
                    <a:pt x="42" y="420"/>
                  </a:lnTo>
                  <a:lnTo>
                    <a:pt x="42" y="426"/>
                  </a:lnTo>
                  <a:lnTo>
                    <a:pt x="42" y="433"/>
                  </a:lnTo>
                  <a:lnTo>
                    <a:pt x="42" y="439"/>
                  </a:lnTo>
                  <a:lnTo>
                    <a:pt x="42" y="446"/>
                  </a:lnTo>
                  <a:lnTo>
                    <a:pt x="42" y="452"/>
                  </a:lnTo>
                  <a:lnTo>
                    <a:pt x="42" y="462"/>
                  </a:lnTo>
                  <a:lnTo>
                    <a:pt x="42" y="467"/>
                  </a:lnTo>
                  <a:lnTo>
                    <a:pt x="42" y="475"/>
                  </a:lnTo>
                  <a:lnTo>
                    <a:pt x="42" y="481"/>
                  </a:lnTo>
                  <a:lnTo>
                    <a:pt x="42" y="488"/>
                  </a:lnTo>
                  <a:lnTo>
                    <a:pt x="42" y="494"/>
                  </a:lnTo>
                  <a:lnTo>
                    <a:pt x="42" y="502"/>
                  </a:lnTo>
                  <a:lnTo>
                    <a:pt x="42" y="509"/>
                  </a:lnTo>
                  <a:lnTo>
                    <a:pt x="42" y="515"/>
                  </a:lnTo>
                  <a:lnTo>
                    <a:pt x="42" y="522"/>
                  </a:lnTo>
                  <a:lnTo>
                    <a:pt x="42" y="528"/>
                  </a:lnTo>
                  <a:lnTo>
                    <a:pt x="42" y="534"/>
                  </a:lnTo>
                  <a:lnTo>
                    <a:pt x="42" y="541"/>
                  </a:lnTo>
                  <a:lnTo>
                    <a:pt x="42" y="547"/>
                  </a:lnTo>
                  <a:lnTo>
                    <a:pt x="42" y="555"/>
                  </a:lnTo>
                  <a:lnTo>
                    <a:pt x="42" y="560"/>
                  </a:lnTo>
                  <a:lnTo>
                    <a:pt x="42" y="568"/>
                  </a:lnTo>
                  <a:lnTo>
                    <a:pt x="42" y="574"/>
                  </a:lnTo>
                  <a:lnTo>
                    <a:pt x="42" y="579"/>
                  </a:lnTo>
                  <a:lnTo>
                    <a:pt x="42" y="585"/>
                  </a:lnTo>
                  <a:lnTo>
                    <a:pt x="42" y="593"/>
                  </a:lnTo>
                  <a:lnTo>
                    <a:pt x="42" y="597"/>
                  </a:lnTo>
                  <a:lnTo>
                    <a:pt x="42" y="604"/>
                  </a:lnTo>
                  <a:lnTo>
                    <a:pt x="42" y="610"/>
                  </a:lnTo>
                  <a:lnTo>
                    <a:pt x="42" y="616"/>
                  </a:lnTo>
                  <a:lnTo>
                    <a:pt x="42" y="621"/>
                  </a:lnTo>
                  <a:lnTo>
                    <a:pt x="42" y="625"/>
                  </a:lnTo>
                  <a:lnTo>
                    <a:pt x="42" y="631"/>
                  </a:lnTo>
                  <a:lnTo>
                    <a:pt x="42" y="637"/>
                  </a:lnTo>
                  <a:lnTo>
                    <a:pt x="42" y="640"/>
                  </a:lnTo>
                  <a:lnTo>
                    <a:pt x="42" y="646"/>
                  </a:lnTo>
                  <a:lnTo>
                    <a:pt x="42" y="650"/>
                  </a:lnTo>
                  <a:lnTo>
                    <a:pt x="42" y="656"/>
                  </a:lnTo>
                  <a:lnTo>
                    <a:pt x="40" y="663"/>
                  </a:lnTo>
                  <a:lnTo>
                    <a:pt x="40" y="673"/>
                  </a:lnTo>
                  <a:lnTo>
                    <a:pt x="40" y="680"/>
                  </a:lnTo>
                  <a:lnTo>
                    <a:pt x="40" y="688"/>
                  </a:lnTo>
                  <a:lnTo>
                    <a:pt x="40" y="694"/>
                  </a:lnTo>
                  <a:lnTo>
                    <a:pt x="40" y="699"/>
                  </a:lnTo>
                  <a:lnTo>
                    <a:pt x="40" y="703"/>
                  </a:lnTo>
                  <a:lnTo>
                    <a:pt x="40" y="709"/>
                  </a:lnTo>
                  <a:lnTo>
                    <a:pt x="40" y="713"/>
                  </a:lnTo>
                  <a:lnTo>
                    <a:pt x="40" y="716"/>
                  </a:lnTo>
                  <a:lnTo>
                    <a:pt x="40" y="718"/>
                  </a:lnTo>
                  <a:lnTo>
                    <a:pt x="40" y="726"/>
                  </a:lnTo>
                  <a:lnTo>
                    <a:pt x="40" y="730"/>
                  </a:lnTo>
                  <a:lnTo>
                    <a:pt x="40" y="735"/>
                  </a:lnTo>
                  <a:lnTo>
                    <a:pt x="40" y="741"/>
                  </a:lnTo>
                  <a:lnTo>
                    <a:pt x="40" y="751"/>
                  </a:lnTo>
                  <a:lnTo>
                    <a:pt x="40" y="758"/>
                  </a:lnTo>
                  <a:lnTo>
                    <a:pt x="40" y="768"/>
                  </a:lnTo>
                  <a:lnTo>
                    <a:pt x="40" y="772"/>
                  </a:lnTo>
                  <a:lnTo>
                    <a:pt x="40" y="777"/>
                  </a:lnTo>
                  <a:lnTo>
                    <a:pt x="40" y="783"/>
                  </a:lnTo>
                  <a:lnTo>
                    <a:pt x="40" y="789"/>
                  </a:lnTo>
                  <a:lnTo>
                    <a:pt x="40" y="792"/>
                  </a:lnTo>
                  <a:lnTo>
                    <a:pt x="40" y="798"/>
                  </a:lnTo>
                  <a:lnTo>
                    <a:pt x="40" y="806"/>
                  </a:lnTo>
                  <a:lnTo>
                    <a:pt x="40" y="811"/>
                  </a:lnTo>
                  <a:lnTo>
                    <a:pt x="40" y="817"/>
                  </a:lnTo>
                  <a:lnTo>
                    <a:pt x="40" y="823"/>
                  </a:lnTo>
                  <a:lnTo>
                    <a:pt x="40" y="829"/>
                  </a:lnTo>
                  <a:lnTo>
                    <a:pt x="40" y="836"/>
                  </a:lnTo>
                  <a:lnTo>
                    <a:pt x="38" y="842"/>
                  </a:lnTo>
                  <a:lnTo>
                    <a:pt x="38" y="848"/>
                  </a:lnTo>
                  <a:lnTo>
                    <a:pt x="38" y="853"/>
                  </a:lnTo>
                  <a:lnTo>
                    <a:pt x="38" y="861"/>
                  </a:lnTo>
                  <a:lnTo>
                    <a:pt x="37" y="867"/>
                  </a:lnTo>
                  <a:lnTo>
                    <a:pt x="37" y="874"/>
                  </a:lnTo>
                  <a:lnTo>
                    <a:pt x="37" y="880"/>
                  </a:lnTo>
                  <a:lnTo>
                    <a:pt x="37" y="887"/>
                  </a:lnTo>
                  <a:lnTo>
                    <a:pt x="37" y="893"/>
                  </a:lnTo>
                  <a:lnTo>
                    <a:pt x="37" y="901"/>
                  </a:lnTo>
                  <a:lnTo>
                    <a:pt x="35" y="906"/>
                  </a:lnTo>
                  <a:lnTo>
                    <a:pt x="35" y="914"/>
                  </a:lnTo>
                  <a:lnTo>
                    <a:pt x="35" y="920"/>
                  </a:lnTo>
                  <a:lnTo>
                    <a:pt x="35" y="927"/>
                  </a:lnTo>
                  <a:lnTo>
                    <a:pt x="35" y="933"/>
                  </a:lnTo>
                  <a:lnTo>
                    <a:pt x="35" y="941"/>
                  </a:lnTo>
                  <a:lnTo>
                    <a:pt x="33" y="946"/>
                  </a:lnTo>
                  <a:lnTo>
                    <a:pt x="33" y="952"/>
                  </a:lnTo>
                  <a:lnTo>
                    <a:pt x="31" y="960"/>
                  </a:lnTo>
                  <a:lnTo>
                    <a:pt x="31" y="965"/>
                  </a:lnTo>
                  <a:lnTo>
                    <a:pt x="31" y="973"/>
                  </a:lnTo>
                  <a:lnTo>
                    <a:pt x="31" y="979"/>
                  </a:lnTo>
                  <a:lnTo>
                    <a:pt x="29" y="984"/>
                  </a:lnTo>
                  <a:lnTo>
                    <a:pt x="29" y="992"/>
                  </a:lnTo>
                  <a:lnTo>
                    <a:pt x="29" y="998"/>
                  </a:lnTo>
                  <a:lnTo>
                    <a:pt x="27" y="1003"/>
                  </a:lnTo>
                  <a:lnTo>
                    <a:pt x="27" y="1009"/>
                  </a:lnTo>
                  <a:lnTo>
                    <a:pt x="25" y="1017"/>
                  </a:lnTo>
                  <a:lnTo>
                    <a:pt x="25" y="1021"/>
                  </a:lnTo>
                  <a:lnTo>
                    <a:pt x="23" y="1026"/>
                  </a:lnTo>
                  <a:lnTo>
                    <a:pt x="23" y="1032"/>
                  </a:lnTo>
                  <a:lnTo>
                    <a:pt x="23" y="1038"/>
                  </a:lnTo>
                  <a:lnTo>
                    <a:pt x="19" y="1047"/>
                  </a:lnTo>
                  <a:lnTo>
                    <a:pt x="18" y="1057"/>
                  </a:lnTo>
                  <a:lnTo>
                    <a:pt x="18" y="1066"/>
                  </a:lnTo>
                  <a:lnTo>
                    <a:pt x="16" y="1076"/>
                  </a:lnTo>
                  <a:lnTo>
                    <a:pt x="14" y="1083"/>
                  </a:lnTo>
                  <a:lnTo>
                    <a:pt x="12" y="1091"/>
                  </a:lnTo>
                  <a:lnTo>
                    <a:pt x="10" y="1098"/>
                  </a:lnTo>
                  <a:lnTo>
                    <a:pt x="10" y="1108"/>
                  </a:lnTo>
                  <a:lnTo>
                    <a:pt x="8" y="1116"/>
                  </a:lnTo>
                  <a:lnTo>
                    <a:pt x="6" y="1123"/>
                  </a:lnTo>
                  <a:lnTo>
                    <a:pt x="4" y="1129"/>
                  </a:lnTo>
                  <a:lnTo>
                    <a:pt x="4" y="1138"/>
                  </a:lnTo>
                  <a:lnTo>
                    <a:pt x="4" y="1144"/>
                  </a:lnTo>
                  <a:lnTo>
                    <a:pt x="4" y="1150"/>
                  </a:lnTo>
                  <a:lnTo>
                    <a:pt x="2" y="1157"/>
                  </a:lnTo>
                  <a:lnTo>
                    <a:pt x="2" y="1165"/>
                  </a:lnTo>
                  <a:lnTo>
                    <a:pt x="2" y="1169"/>
                  </a:lnTo>
                  <a:lnTo>
                    <a:pt x="0" y="1176"/>
                  </a:lnTo>
                  <a:lnTo>
                    <a:pt x="0" y="1180"/>
                  </a:lnTo>
                  <a:lnTo>
                    <a:pt x="0" y="1188"/>
                  </a:lnTo>
                  <a:lnTo>
                    <a:pt x="0" y="1192"/>
                  </a:lnTo>
                  <a:lnTo>
                    <a:pt x="0" y="1199"/>
                  </a:lnTo>
                  <a:lnTo>
                    <a:pt x="0" y="1203"/>
                  </a:lnTo>
                  <a:lnTo>
                    <a:pt x="0" y="1211"/>
                  </a:lnTo>
                  <a:lnTo>
                    <a:pt x="0" y="1216"/>
                  </a:lnTo>
                  <a:lnTo>
                    <a:pt x="0" y="1220"/>
                  </a:lnTo>
                  <a:lnTo>
                    <a:pt x="0" y="1228"/>
                  </a:lnTo>
                  <a:lnTo>
                    <a:pt x="0" y="1233"/>
                  </a:lnTo>
                  <a:lnTo>
                    <a:pt x="0" y="1239"/>
                  </a:lnTo>
                  <a:lnTo>
                    <a:pt x="0" y="1245"/>
                  </a:lnTo>
                  <a:lnTo>
                    <a:pt x="0" y="1251"/>
                  </a:lnTo>
                  <a:lnTo>
                    <a:pt x="2" y="1258"/>
                  </a:lnTo>
                  <a:lnTo>
                    <a:pt x="2" y="1264"/>
                  </a:lnTo>
                  <a:lnTo>
                    <a:pt x="2" y="1271"/>
                  </a:lnTo>
                  <a:lnTo>
                    <a:pt x="2" y="1275"/>
                  </a:lnTo>
                  <a:lnTo>
                    <a:pt x="2" y="1283"/>
                  </a:lnTo>
                  <a:lnTo>
                    <a:pt x="2" y="1289"/>
                  </a:lnTo>
                  <a:lnTo>
                    <a:pt x="2" y="1294"/>
                  </a:lnTo>
                  <a:lnTo>
                    <a:pt x="4" y="1300"/>
                  </a:lnTo>
                  <a:lnTo>
                    <a:pt x="4" y="1308"/>
                  </a:lnTo>
                  <a:lnTo>
                    <a:pt x="4" y="1311"/>
                  </a:lnTo>
                  <a:lnTo>
                    <a:pt x="4" y="1317"/>
                  </a:lnTo>
                  <a:lnTo>
                    <a:pt x="6" y="1323"/>
                  </a:lnTo>
                  <a:lnTo>
                    <a:pt x="6" y="1329"/>
                  </a:lnTo>
                  <a:lnTo>
                    <a:pt x="6" y="1334"/>
                  </a:lnTo>
                  <a:lnTo>
                    <a:pt x="8" y="1338"/>
                  </a:lnTo>
                  <a:lnTo>
                    <a:pt x="8" y="1344"/>
                  </a:lnTo>
                  <a:lnTo>
                    <a:pt x="10" y="1349"/>
                  </a:lnTo>
                  <a:lnTo>
                    <a:pt x="10" y="1357"/>
                  </a:lnTo>
                  <a:lnTo>
                    <a:pt x="12" y="1365"/>
                  </a:lnTo>
                  <a:lnTo>
                    <a:pt x="12" y="1372"/>
                  </a:lnTo>
                  <a:lnTo>
                    <a:pt x="14" y="1380"/>
                  </a:lnTo>
                  <a:lnTo>
                    <a:pt x="16" y="1384"/>
                  </a:lnTo>
                  <a:lnTo>
                    <a:pt x="16" y="1387"/>
                  </a:lnTo>
                  <a:lnTo>
                    <a:pt x="16" y="1389"/>
                  </a:lnTo>
                  <a:lnTo>
                    <a:pt x="18" y="1391"/>
                  </a:lnTo>
                  <a:lnTo>
                    <a:pt x="76" y="1393"/>
                  </a:lnTo>
                  <a:lnTo>
                    <a:pt x="76" y="1391"/>
                  </a:lnTo>
                  <a:lnTo>
                    <a:pt x="75" y="1389"/>
                  </a:lnTo>
                  <a:lnTo>
                    <a:pt x="73" y="1384"/>
                  </a:lnTo>
                  <a:lnTo>
                    <a:pt x="71" y="1376"/>
                  </a:lnTo>
                  <a:lnTo>
                    <a:pt x="69" y="1370"/>
                  </a:lnTo>
                  <a:lnTo>
                    <a:pt x="69" y="1367"/>
                  </a:lnTo>
                  <a:lnTo>
                    <a:pt x="67" y="1361"/>
                  </a:lnTo>
                  <a:lnTo>
                    <a:pt x="65" y="1355"/>
                  </a:lnTo>
                  <a:lnTo>
                    <a:pt x="63" y="1349"/>
                  </a:lnTo>
                  <a:lnTo>
                    <a:pt x="63" y="1344"/>
                  </a:lnTo>
                  <a:lnTo>
                    <a:pt x="61" y="1336"/>
                  </a:lnTo>
                  <a:lnTo>
                    <a:pt x="61" y="1330"/>
                  </a:lnTo>
                  <a:lnTo>
                    <a:pt x="59" y="1323"/>
                  </a:lnTo>
                  <a:lnTo>
                    <a:pt x="57" y="1313"/>
                  </a:lnTo>
                  <a:lnTo>
                    <a:pt x="57" y="1306"/>
                  </a:lnTo>
                  <a:lnTo>
                    <a:pt x="56" y="1298"/>
                  </a:lnTo>
                  <a:lnTo>
                    <a:pt x="54" y="1287"/>
                  </a:lnTo>
                  <a:lnTo>
                    <a:pt x="54" y="1279"/>
                  </a:lnTo>
                  <a:lnTo>
                    <a:pt x="54" y="1270"/>
                  </a:lnTo>
                  <a:lnTo>
                    <a:pt x="54" y="1260"/>
                  </a:lnTo>
                  <a:lnTo>
                    <a:pt x="54" y="1254"/>
                  </a:lnTo>
                  <a:lnTo>
                    <a:pt x="54" y="1249"/>
                  </a:lnTo>
                  <a:lnTo>
                    <a:pt x="54" y="1245"/>
                  </a:lnTo>
                  <a:lnTo>
                    <a:pt x="54" y="1239"/>
                  </a:lnTo>
                  <a:lnTo>
                    <a:pt x="54" y="1233"/>
                  </a:lnTo>
                  <a:lnTo>
                    <a:pt x="54" y="1228"/>
                  </a:lnTo>
                  <a:lnTo>
                    <a:pt x="54" y="1222"/>
                  </a:lnTo>
                  <a:lnTo>
                    <a:pt x="54" y="1218"/>
                  </a:lnTo>
                  <a:lnTo>
                    <a:pt x="54" y="1211"/>
                  </a:lnTo>
                  <a:lnTo>
                    <a:pt x="54" y="1205"/>
                  </a:lnTo>
                  <a:lnTo>
                    <a:pt x="56" y="1201"/>
                  </a:lnTo>
                  <a:lnTo>
                    <a:pt x="56" y="1195"/>
                  </a:lnTo>
                  <a:lnTo>
                    <a:pt x="56" y="1190"/>
                  </a:lnTo>
                  <a:lnTo>
                    <a:pt x="57" y="1184"/>
                  </a:lnTo>
                  <a:lnTo>
                    <a:pt x="57" y="1178"/>
                  </a:lnTo>
                  <a:lnTo>
                    <a:pt x="59" y="1173"/>
                  </a:lnTo>
                  <a:lnTo>
                    <a:pt x="59" y="1167"/>
                  </a:lnTo>
                  <a:lnTo>
                    <a:pt x="59" y="1161"/>
                  </a:lnTo>
                  <a:lnTo>
                    <a:pt x="61" y="1154"/>
                  </a:lnTo>
                  <a:lnTo>
                    <a:pt x="61" y="1150"/>
                  </a:lnTo>
                  <a:lnTo>
                    <a:pt x="61" y="1144"/>
                  </a:lnTo>
                  <a:lnTo>
                    <a:pt x="63" y="1138"/>
                  </a:lnTo>
                  <a:lnTo>
                    <a:pt x="63" y="1133"/>
                  </a:lnTo>
                  <a:lnTo>
                    <a:pt x="65" y="1127"/>
                  </a:lnTo>
                  <a:lnTo>
                    <a:pt x="65" y="1123"/>
                  </a:lnTo>
                  <a:lnTo>
                    <a:pt x="65" y="1117"/>
                  </a:lnTo>
                  <a:lnTo>
                    <a:pt x="67" y="1112"/>
                  </a:lnTo>
                  <a:lnTo>
                    <a:pt x="67" y="1108"/>
                  </a:lnTo>
                  <a:lnTo>
                    <a:pt x="69" y="1098"/>
                  </a:lnTo>
                  <a:lnTo>
                    <a:pt x="71" y="1089"/>
                  </a:lnTo>
                  <a:lnTo>
                    <a:pt x="71" y="1079"/>
                  </a:lnTo>
                  <a:lnTo>
                    <a:pt x="73" y="1070"/>
                  </a:lnTo>
                  <a:lnTo>
                    <a:pt x="73" y="1060"/>
                  </a:lnTo>
                  <a:lnTo>
                    <a:pt x="75" y="1053"/>
                  </a:lnTo>
                  <a:lnTo>
                    <a:pt x="76" y="1043"/>
                  </a:lnTo>
                  <a:lnTo>
                    <a:pt x="78" y="1034"/>
                  </a:lnTo>
                  <a:lnTo>
                    <a:pt x="78" y="1024"/>
                  </a:lnTo>
                  <a:lnTo>
                    <a:pt x="80" y="1017"/>
                  </a:lnTo>
                  <a:lnTo>
                    <a:pt x="80" y="1007"/>
                  </a:lnTo>
                  <a:lnTo>
                    <a:pt x="82" y="998"/>
                  </a:lnTo>
                  <a:lnTo>
                    <a:pt x="82" y="988"/>
                  </a:lnTo>
                  <a:lnTo>
                    <a:pt x="84" y="979"/>
                  </a:lnTo>
                  <a:lnTo>
                    <a:pt x="84" y="975"/>
                  </a:lnTo>
                  <a:lnTo>
                    <a:pt x="84" y="969"/>
                  </a:lnTo>
                  <a:lnTo>
                    <a:pt x="84" y="964"/>
                  </a:lnTo>
                  <a:lnTo>
                    <a:pt x="86" y="960"/>
                  </a:lnTo>
                  <a:lnTo>
                    <a:pt x="86" y="954"/>
                  </a:lnTo>
                  <a:lnTo>
                    <a:pt x="86" y="948"/>
                  </a:lnTo>
                  <a:lnTo>
                    <a:pt x="88" y="943"/>
                  </a:lnTo>
                  <a:lnTo>
                    <a:pt x="88" y="939"/>
                  </a:lnTo>
                  <a:lnTo>
                    <a:pt x="88" y="933"/>
                  </a:lnTo>
                  <a:lnTo>
                    <a:pt x="90" y="927"/>
                  </a:lnTo>
                  <a:lnTo>
                    <a:pt x="90" y="922"/>
                  </a:lnTo>
                  <a:lnTo>
                    <a:pt x="90" y="916"/>
                  </a:lnTo>
                  <a:lnTo>
                    <a:pt x="90" y="910"/>
                  </a:lnTo>
                  <a:lnTo>
                    <a:pt x="92" y="905"/>
                  </a:lnTo>
                  <a:lnTo>
                    <a:pt x="92" y="899"/>
                  </a:lnTo>
                  <a:lnTo>
                    <a:pt x="94" y="893"/>
                  </a:lnTo>
                  <a:lnTo>
                    <a:pt x="94" y="886"/>
                  </a:lnTo>
                  <a:lnTo>
                    <a:pt x="94" y="880"/>
                  </a:lnTo>
                  <a:lnTo>
                    <a:pt x="94" y="874"/>
                  </a:lnTo>
                  <a:lnTo>
                    <a:pt x="95" y="867"/>
                  </a:lnTo>
                  <a:lnTo>
                    <a:pt x="95" y="859"/>
                  </a:lnTo>
                  <a:lnTo>
                    <a:pt x="95" y="853"/>
                  </a:lnTo>
                  <a:lnTo>
                    <a:pt x="95" y="848"/>
                  </a:lnTo>
                  <a:lnTo>
                    <a:pt x="97" y="840"/>
                  </a:lnTo>
                  <a:lnTo>
                    <a:pt x="97" y="832"/>
                  </a:lnTo>
                  <a:lnTo>
                    <a:pt x="97" y="825"/>
                  </a:lnTo>
                  <a:lnTo>
                    <a:pt x="97" y="819"/>
                  </a:lnTo>
                  <a:lnTo>
                    <a:pt x="97" y="811"/>
                  </a:lnTo>
                  <a:lnTo>
                    <a:pt x="97" y="806"/>
                  </a:lnTo>
                  <a:lnTo>
                    <a:pt x="97" y="798"/>
                  </a:lnTo>
                  <a:lnTo>
                    <a:pt x="97" y="792"/>
                  </a:lnTo>
                  <a:lnTo>
                    <a:pt x="99" y="787"/>
                  </a:lnTo>
                  <a:lnTo>
                    <a:pt x="99" y="781"/>
                  </a:lnTo>
                  <a:lnTo>
                    <a:pt x="99" y="775"/>
                  </a:lnTo>
                  <a:lnTo>
                    <a:pt x="99" y="768"/>
                  </a:lnTo>
                  <a:lnTo>
                    <a:pt x="99" y="764"/>
                  </a:lnTo>
                  <a:lnTo>
                    <a:pt x="99" y="758"/>
                  </a:lnTo>
                  <a:lnTo>
                    <a:pt x="99" y="752"/>
                  </a:lnTo>
                  <a:lnTo>
                    <a:pt x="99" y="747"/>
                  </a:lnTo>
                  <a:lnTo>
                    <a:pt x="99" y="743"/>
                  </a:lnTo>
                  <a:lnTo>
                    <a:pt x="99" y="737"/>
                  </a:lnTo>
                  <a:lnTo>
                    <a:pt x="99" y="732"/>
                  </a:lnTo>
                  <a:lnTo>
                    <a:pt x="99" y="726"/>
                  </a:lnTo>
                  <a:lnTo>
                    <a:pt x="99" y="722"/>
                  </a:lnTo>
                  <a:lnTo>
                    <a:pt x="99" y="713"/>
                  </a:lnTo>
                  <a:lnTo>
                    <a:pt x="99" y="703"/>
                  </a:lnTo>
                  <a:lnTo>
                    <a:pt x="97" y="694"/>
                  </a:lnTo>
                  <a:lnTo>
                    <a:pt x="97" y="686"/>
                  </a:lnTo>
                  <a:lnTo>
                    <a:pt x="97" y="675"/>
                  </a:lnTo>
                  <a:lnTo>
                    <a:pt x="97" y="667"/>
                  </a:lnTo>
                  <a:lnTo>
                    <a:pt x="97" y="661"/>
                  </a:lnTo>
                  <a:lnTo>
                    <a:pt x="97" y="657"/>
                  </a:lnTo>
                  <a:lnTo>
                    <a:pt x="97" y="652"/>
                  </a:lnTo>
                  <a:lnTo>
                    <a:pt x="97" y="648"/>
                  </a:lnTo>
                  <a:lnTo>
                    <a:pt x="95" y="642"/>
                  </a:lnTo>
                  <a:lnTo>
                    <a:pt x="95" y="638"/>
                  </a:lnTo>
                  <a:lnTo>
                    <a:pt x="95" y="633"/>
                  </a:lnTo>
                  <a:lnTo>
                    <a:pt x="95" y="629"/>
                  </a:lnTo>
                  <a:lnTo>
                    <a:pt x="95" y="623"/>
                  </a:lnTo>
                  <a:lnTo>
                    <a:pt x="95" y="618"/>
                  </a:lnTo>
                  <a:lnTo>
                    <a:pt x="95" y="612"/>
                  </a:lnTo>
                  <a:lnTo>
                    <a:pt x="95" y="608"/>
                  </a:lnTo>
                  <a:lnTo>
                    <a:pt x="95" y="602"/>
                  </a:lnTo>
                  <a:lnTo>
                    <a:pt x="95" y="597"/>
                  </a:lnTo>
                  <a:lnTo>
                    <a:pt x="95" y="593"/>
                  </a:lnTo>
                  <a:lnTo>
                    <a:pt x="95" y="587"/>
                  </a:lnTo>
                  <a:lnTo>
                    <a:pt x="95" y="579"/>
                  </a:lnTo>
                  <a:lnTo>
                    <a:pt x="95" y="574"/>
                  </a:lnTo>
                  <a:lnTo>
                    <a:pt x="95" y="568"/>
                  </a:lnTo>
                  <a:lnTo>
                    <a:pt x="95" y="562"/>
                  </a:lnTo>
                  <a:lnTo>
                    <a:pt x="95" y="555"/>
                  </a:lnTo>
                  <a:lnTo>
                    <a:pt x="95" y="549"/>
                  </a:lnTo>
                  <a:lnTo>
                    <a:pt x="95" y="543"/>
                  </a:lnTo>
                  <a:lnTo>
                    <a:pt x="95" y="538"/>
                  </a:lnTo>
                  <a:lnTo>
                    <a:pt x="95" y="530"/>
                  </a:lnTo>
                  <a:lnTo>
                    <a:pt x="95" y="522"/>
                  </a:lnTo>
                  <a:lnTo>
                    <a:pt x="95" y="515"/>
                  </a:lnTo>
                  <a:lnTo>
                    <a:pt x="95" y="509"/>
                  </a:lnTo>
                  <a:lnTo>
                    <a:pt x="95" y="502"/>
                  </a:lnTo>
                  <a:lnTo>
                    <a:pt x="97" y="494"/>
                  </a:lnTo>
                  <a:lnTo>
                    <a:pt x="97" y="486"/>
                  </a:lnTo>
                  <a:lnTo>
                    <a:pt x="97" y="479"/>
                  </a:lnTo>
                  <a:lnTo>
                    <a:pt x="97" y="469"/>
                  </a:lnTo>
                  <a:lnTo>
                    <a:pt x="97" y="462"/>
                  </a:lnTo>
                  <a:lnTo>
                    <a:pt x="97" y="452"/>
                  </a:lnTo>
                  <a:lnTo>
                    <a:pt x="97" y="443"/>
                  </a:lnTo>
                  <a:lnTo>
                    <a:pt x="97" y="433"/>
                  </a:lnTo>
                  <a:lnTo>
                    <a:pt x="97" y="424"/>
                  </a:lnTo>
                  <a:lnTo>
                    <a:pt x="97" y="416"/>
                  </a:lnTo>
                  <a:lnTo>
                    <a:pt x="97" y="407"/>
                  </a:lnTo>
                  <a:lnTo>
                    <a:pt x="95" y="395"/>
                  </a:lnTo>
                  <a:lnTo>
                    <a:pt x="95" y="387"/>
                  </a:lnTo>
                  <a:lnTo>
                    <a:pt x="95" y="376"/>
                  </a:lnTo>
                  <a:lnTo>
                    <a:pt x="95" y="368"/>
                  </a:lnTo>
                  <a:lnTo>
                    <a:pt x="95" y="357"/>
                  </a:lnTo>
                  <a:lnTo>
                    <a:pt x="95" y="348"/>
                  </a:lnTo>
                  <a:lnTo>
                    <a:pt x="94" y="338"/>
                  </a:lnTo>
                  <a:lnTo>
                    <a:pt x="94" y="329"/>
                  </a:lnTo>
                  <a:lnTo>
                    <a:pt x="92" y="317"/>
                  </a:lnTo>
                  <a:lnTo>
                    <a:pt x="92" y="308"/>
                  </a:lnTo>
                  <a:lnTo>
                    <a:pt x="90" y="298"/>
                  </a:lnTo>
                  <a:lnTo>
                    <a:pt x="90" y="289"/>
                  </a:lnTo>
                  <a:lnTo>
                    <a:pt x="90" y="277"/>
                  </a:lnTo>
                  <a:lnTo>
                    <a:pt x="88" y="268"/>
                  </a:lnTo>
                  <a:lnTo>
                    <a:pt x="88" y="258"/>
                  </a:lnTo>
                  <a:lnTo>
                    <a:pt x="88" y="249"/>
                  </a:lnTo>
                  <a:lnTo>
                    <a:pt x="86" y="237"/>
                  </a:lnTo>
                  <a:lnTo>
                    <a:pt x="84" y="228"/>
                  </a:lnTo>
                  <a:lnTo>
                    <a:pt x="84" y="218"/>
                  </a:lnTo>
                  <a:lnTo>
                    <a:pt x="84" y="209"/>
                  </a:lnTo>
                  <a:lnTo>
                    <a:pt x="82" y="199"/>
                  </a:lnTo>
                  <a:lnTo>
                    <a:pt x="82" y="190"/>
                  </a:lnTo>
                  <a:lnTo>
                    <a:pt x="80" y="180"/>
                  </a:lnTo>
                  <a:lnTo>
                    <a:pt x="80" y="173"/>
                  </a:lnTo>
                  <a:lnTo>
                    <a:pt x="78" y="163"/>
                  </a:lnTo>
                  <a:lnTo>
                    <a:pt x="78" y="154"/>
                  </a:lnTo>
                  <a:lnTo>
                    <a:pt x="76" y="144"/>
                  </a:lnTo>
                  <a:lnTo>
                    <a:pt x="76" y="137"/>
                  </a:lnTo>
                  <a:lnTo>
                    <a:pt x="75" y="127"/>
                  </a:lnTo>
                  <a:lnTo>
                    <a:pt x="75" y="119"/>
                  </a:lnTo>
                  <a:lnTo>
                    <a:pt x="73" y="112"/>
                  </a:lnTo>
                  <a:lnTo>
                    <a:pt x="73" y="104"/>
                  </a:lnTo>
                  <a:lnTo>
                    <a:pt x="71" y="97"/>
                  </a:lnTo>
                  <a:lnTo>
                    <a:pt x="69" y="89"/>
                  </a:lnTo>
                  <a:lnTo>
                    <a:pt x="69" y="80"/>
                  </a:lnTo>
                  <a:lnTo>
                    <a:pt x="69" y="74"/>
                  </a:lnTo>
                  <a:lnTo>
                    <a:pt x="67" y="66"/>
                  </a:lnTo>
                  <a:lnTo>
                    <a:pt x="67" y="61"/>
                  </a:lnTo>
                  <a:lnTo>
                    <a:pt x="65" y="55"/>
                  </a:lnTo>
                  <a:lnTo>
                    <a:pt x="65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8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59" y="5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111120" y="1564560"/>
              <a:ext cx="288720" cy="24300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0" y="4"/>
                  </a:moveTo>
                  <a:lnTo>
                    <a:pt x="140" y="0"/>
                  </a:lnTo>
                  <a:lnTo>
                    <a:pt x="153" y="129"/>
                  </a:lnTo>
                  <a:lnTo>
                    <a:pt x="98" y="70"/>
                  </a:lnTo>
                  <a:lnTo>
                    <a:pt x="96" y="53"/>
                  </a:lnTo>
                  <a:lnTo>
                    <a:pt x="53" y="5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107520" y="1564560"/>
              <a:ext cx="284400" cy="246960"/>
            </a:xfrm>
            <a:custGeom>
              <a:avLst/>
              <a:gdLst/>
              <a:ahLst/>
              <a:rect l="l" t="t" r="r" b="b"/>
              <a:pathLst>
                <a:path w="152" h="133">
                  <a:moveTo>
                    <a:pt x="0" y="0"/>
                  </a:moveTo>
                  <a:lnTo>
                    <a:pt x="9" y="133"/>
                  </a:lnTo>
                  <a:lnTo>
                    <a:pt x="152" y="127"/>
                  </a:lnTo>
                  <a:lnTo>
                    <a:pt x="136" y="87"/>
                  </a:lnTo>
                  <a:lnTo>
                    <a:pt x="100" y="70"/>
                  </a:lnTo>
                  <a:lnTo>
                    <a:pt x="53" y="74"/>
                  </a:lnTo>
                  <a:lnTo>
                    <a:pt x="55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168000" y="2092320"/>
              <a:ext cx="276840" cy="24012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0" y="2"/>
                  </a:moveTo>
                  <a:lnTo>
                    <a:pt x="141" y="0"/>
                  </a:lnTo>
                  <a:lnTo>
                    <a:pt x="146" y="129"/>
                  </a:lnTo>
                  <a:lnTo>
                    <a:pt x="95" y="72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168000" y="2092320"/>
              <a:ext cx="269280" cy="243720"/>
            </a:xfrm>
            <a:custGeom>
              <a:avLst/>
              <a:gdLst/>
              <a:ahLst/>
              <a:rect l="l" t="t" r="r" b="b"/>
              <a:pathLst>
                <a:path w="145" h="131">
                  <a:moveTo>
                    <a:pt x="0" y="0"/>
                  </a:moveTo>
                  <a:lnTo>
                    <a:pt x="2" y="131"/>
                  </a:lnTo>
                  <a:lnTo>
                    <a:pt x="145" y="126"/>
                  </a:lnTo>
                  <a:lnTo>
                    <a:pt x="133" y="88"/>
                  </a:lnTo>
                  <a:lnTo>
                    <a:pt x="97" y="72"/>
                  </a:lnTo>
                  <a:lnTo>
                    <a:pt x="49" y="74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168000" y="2673360"/>
              <a:ext cx="280080" cy="23616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0" y="2"/>
                  </a:moveTo>
                  <a:lnTo>
                    <a:pt x="143" y="0"/>
                  </a:lnTo>
                  <a:lnTo>
                    <a:pt x="148" y="127"/>
                  </a:lnTo>
                  <a:lnTo>
                    <a:pt x="97" y="70"/>
                  </a:lnTo>
                  <a:lnTo>
                    <a:pt x="97" y="53"/>
                  </a:lnTo>
                  <a:lnTo>
                    <a:pt x="51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168000" y="2673360"/>
              <a:ext cx="276840" cy="24372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0"/>
                  </a:moveTo>
                  <a:lnTo>
                    <a:pt x="0" y="131"/>
                  </a:lnTo>
                  <a:lnTo>
                    <a:pt x="146" y="125"/>
                  </a:lnTo>
                  <a:lnTo>
                    <a:pt x="133" y="86"/>
                  </a:lnTo>
                  <a:lnTo>
                    <a:pt x="97" y="70"/>
                  </a:lnTo>
                  <a:lnTo>
                    <a:pt x="49" y="74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152520" y="3239280"/>
              <a:ext cx="258120" cy="25488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5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130560" y="3235320"/>
              <a:ext cx="269280" cy="25488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10" y="0"/>
                  </a:moveTo>
                  <a:lnTo>
                    <a:pt x="0" y="132"/>
                  </a:lnTo>
                  <a:lnTo>
                    <a:pt x="144" y="137"/>
                  </a:lnTo>
                  <a:lnTo>
                    <a:pt x="135" y="95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111120" y="3771360"/>
              <a:ext cx="266760" cy="25488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0"/>
                  </a:moveTo>
                  <a:lnTo>
                    <a:pt x="140" y="8"/>
                  </a:lnTo>
                  <a:lnTo>
                    <a:pt x="133" y="135"/>
                  </a:lnTo>
                  <a:lnTo>
                    <a:pt x="89" y="76"/>
                  </a:lnTo>
                  <a:lnTo>
                    <a:pt x="89" y="56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096360" y="3763800"/>
              <a:ext cx="265680" cy="25812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8" y="0"/>
                  </a:moveTo>
                  <a:lnTo>
                    <a:pt x="0" y="131"/>
                  </a:lnTo>
                  <a:lnTo>
                    <a:pt x="143" y="137"/>
                  </a:lnTo>
                  <a:lnTo>
                    <a:pt x="131" y="97"/>
                  </a:lnTo>
                  <a:lnTo>
                    <a:pt x="99" y="79"/>
                  </a:lnTo>
                  <a:lnTo>
                    <a:pt x="51" y="78"/>
                  </a:lnTo>
                  <a:lnTo>
                    <a:pt x="55" y="5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410920" y="4186800"/>
              <a:ext cx="1385280" cy="719640"/>
            </a:xfrm>
            <a:custGeom>
              <a:avLst/>
              <a:gdLst/>
              <a:ahLst/>
              <a:rect l="l" t="t" r="r" b="b"/>
              <a:pathLst>
                <a:path w="739" h="384">
                  <a:moveTo>
                    <a:pt x="4" y="333"/>
                  </a:moveTo>
                  <a:lnTo>
                    <a:pt x="2" y="331"/>
                  </a:lnTo>
                  <a:lnTo>
                    <a:pt x="2" y="323"/>
                  </a:lnTo>
                  <a:lnTo>
                    <a:pt x="0" y="317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0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2" y="203"/>
                  </a:lnTo>
                  <a:lnTo>
                    <a:pt x="2" y="198"/>
                  </a:lnTo>
                  <a:lnTo>
                    <a:pt x="2" y="192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0" y="158"/>
                  </a:lnTo>
                  <a:lnTo>
                    <a:pt x="13" y="152"/>
                  </a:lnTo>
                  <a:lnTo>
                    <a:pt x="13" y="146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29" y="108"/>
                  </a:lnTo>
                  <a:lnTo>
                    <a:pt x="32" y="103"/>
                  </a:lnTo>
                  <a:lnTo>
                    <a:pt x="34" y="99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5" y="72"/>
                  </a:lnTo>
                  <a:lnTo>
                    <a:pt x="65" y="63"/>
                  </a:lnTo>
                  <a:lnTo>
                    <a:pt x="74" y="57"/>
                  </a:lnTo>
                  <a:lnTo>
                    <a:pt x="78" y="53"/>
                  </a:lnTo>
                  <a:lnTo>
                    <a:pt x="82" y="49"/>
                  </a:lnTo>
                  <a:lnTo>
                    <a:pt x="87" y="45"/>
                  </a:lnTo>
                  <a:lnTo>
                    <a:pt x="95" y="44"/>
                  </a:lnTo>
                  <a:lnTo>
                    <a:pt x="101" y="40"/>
                  </a:lnTo>
                  <a:lnTo>
                    <a:pt x="108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1" y="28"/>
                  </a:lnTo>
                  <a:lnTo>
                    <a:pt x="141" y="26"/>
                  </a:lnTo>
                  <a:lnTo>
                    <a:pt x="148" y="23"/>
                  </a:lnTo>
                  <a:lnTo>
                    <a:pt x="158" y="21"/>
                  </a:lnTo>
                  <a:lnTo>
                    <a:pt x="167" y="19"/>
                  </a:lnTo>
                  <a:lnTo>
                    <a:pt x="179" y="17"/>
                  </a:lnTo>
                  <a:lnTo>
                    <a:pt x="188" y="15"/>
                  </a:lnTo>
                  <a:lnTo>
                    <a:pt x="200" y="13"/>
                  </a:lnTo>
                  <a:lnTo>
                    <a:pt x="209" y="11"/>
                  </a:lnTo>
                  <a:lnTo>
                    <a:pt x="221" y="9"/>
                  </a:lnTo>
                  <a:lnTo>
                    <a:pt x="232" y="7"/>
                  </a:lnTo>
                  <a:lnTo>
                    <a:pt x="243" y="7"/>
                  </a:lnTo>
                  <a:lnTo>
                    <a:pt x="253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0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8" y="2"/>
                  </a:lnTo>
                  <a:lnTo>
                    <a:pt x="352" y="0"/>
                  </a:lnTo>
                  <a:lnTo>
                    <a:pt x="363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1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7" y="6"/>
                  </a:lnTo>
                  <a:lnTo>
                    <a:pt x="449" y="6"/>
                  </a:lnTo>
                  <a:lnTo>
                    <a:pt x="462" y="7"/>
                  </a:lnTo>
                  <a:lnTo>
                    <a:pt x="473" y="7"/>
                  </a:lnTo>
                  <a:lnTo>
                    <a:pt x="485" y="9"/>
                  </a:lnTo>
                  <a:lnTo>
                    <a:pt x="496" y="11"/>
                  </a:lnTo>
                  <a:lnTo>
                    <a:pt x="508" y="13"/>
                  </a:lnTo>
                  <a:lnTo>
                    <a:pt x="521" y="15"/>
                  </a:lnTo>
                  <a:lnTo>
                    <a:pt x="532" y="19"/>
                  </a:lnTo>
                  <a:lnTo>
                    <a:pt x="542" y="21"/>
                  </a:lnTo>
                  <a:lnTo>
                    <a:pt x="553" y="23"/>
                  </a:lnTo>
                  <a:lnTo>
                    <a:pt x="563" y="26"/>
                  </a:lnTo>
                  <a:lnTo>
                    <a:pt x="574" y="30"/>
                  </a:lnTo>
                  <a:lnTo>
                    <a:pt x="586" y="34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5"/>
                  </a:lnTo>
                  <a:lnTo>
                    <a:pt x="622" y="47"/>
                  </a:lnTo>
                  <a:lnTo>
                    <a:pt x="631" y="53"/>
                  </a:lnTo>
                  <a:lnTo>
                    <a:pt x="639" y="59"/>
                  </a:lnTo>
                  <a:lnTo>
                    <a:pt x="648" y="63"/>
                  </a:lnTo>
                  <a:lnTo>
                    <a:pt x="654" y="68"/>
                  </a:lnTo>
                  <a:lnTo>
                    <a:pt x="662" y="72"/>
                  </a:lnTo>
                  <a:lnTo>
                    <a:pt x="667" y="78"/>
                  </a:lnTo>
                  <a:lnTo>
                    <a:pt x="675" y="85"/>
                  </a:lnTo>
                  <a:lnTo>
                    <a:pt x="681" y="89"/>
                  </a:lnTo>
                  <a:lnTo>
                    <a:pt x="686" y="97"/>
                  </a:lnTo>
                  <a:lnTo>
                    <a:pt x="692" y="103"/>
                  </a:lnTo>
                  <a:lnTo>
                    <a:pt x="696" y="110"/>
                  </a:lnTo>
                  <a:lnTo>
                    <a:pt x="700" y="116"/>
                  </a:lnTo>
                  <a:lnTo>
                    <a:pt x="703" y="123"/>
                  </a:lnTo>
                  <a:lnTo>
                    <a:pt x="705" y="129"/>
                  </a:lnTo>
                  <a:lnTo>
                    <a:pt x="709" y="137"/>
                  </a:lnTo>
                  <a:lnTo>
                    <a:pt x="713" y="142"/>
                  </a:lnTo>
                  <a:lnTo>
                    <a:pt x="715" y="150"/>
                  </a:lnTo>
                  <a:lnTo>
                    <a:pt x="719" y="156"/>
                  </a:lnTo>
                  <a:lnTo>
                    <a:pt x="720" y="163"/>
                  </a:lnTo>
                  <a:lnTo>
                    <a:pt x="722" y="167"/>
                  </a:lnTo>
                  <a:lnTo>
                    <a:pt x="724" y="175"/>
                  </a:lnTo>
                  <a:lnTo>
                    <a:pt x="726" y="180"/>
                  </a:lnTo>
                  <a:lnTo>
                    <a:pt x="730" y="188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5"/>
                  </a:lnTo>
                  <a:lnTo>
                    <a:pt x="736" y="213"/>
                  </a:lnTo>
                  <a:lnTo>
                    <a:pt x="736" y="218"/>
                  </a:lnTo>
                  <a:lnTo>
                    <a:pt x="736" y="224"/>
                  </a:lnTo>
                  <a:lnTo>
                    <a:pt x="738" y="230"/>
                  </a:lnTo>
                  <a:lnTo>
                    <a:pt x="738" y="236"/>
                  </a:lnTo>
                  <a:lnTo>
                    <a:pt x="738" y="241"/>
                  </a:lnTo>
                  <a:lnTo>
                    <a:pt x="738" y="247"/>
                  </a:lnTo>
                  <a:lnTo>
                    <a:pt x="738" y="253"/>
                  </a:lnTo>
                  <a:lnTo>
                    <a:pt x="739" y="258"/>
                  </a:lnTo>
                  <a:lnTo>
                    <a:pt x="739" y="264"/>
                  </a:lnTo>
                  <a:lnTo>
                    <a:pt x="739" y="270"/>
                  </a:lnTo>
                  <a:lnTo>
                    <a:pt x="739" y="274"/>
                  </a:lnTo>
                  <a:lnTo>
                    <a:pt x="739" y="279"/>
                  </a:lnTo>
                  <a:lnTo>
                    <a:pt x="738" y="285"/>
                  </a:lnTo>
                  <a:lnTo>
                    <a:pt x="738" y="289"/>
                  </a:lnTo>
                  <a:lnTo>
                    <a:pt x="738" y="295"/>
                  </a:lnTo>
                  <a:lnTo>
                    <a:pt x="738" y="300"/>
                  </a:lnTo>
                  <a:lnTo>
                    <a:pt x="736" y="310"/>
                  </a:lnTo>
                  <a:lnTo>
                    <a:pt x="734" y="317"/>
                  </a:lnTo>
                  <a:lnTo>
                    <a:pt x="732" y="325"/>
                  </a:lnTo>
                  <a:lnTo>
                    <a:pt x="730" y="334"/>
                  </a:lnTo>
                  <a:lnTo>
                    <a:pt x="730" y="340"/>
                  </a:lnTo>
                  <a:lnTo>
                    <a:pt x="728" y="348"/>
                  </a:lnTo>
                  <a:lnTo>
                    <a:pt x="726" y="353"/>
                  </a:lnTo>
                  <a:lnTo>
                    <a:pt x="724" y="361"/>
                  </a:lnTo>
                  <a:lnTo>
                    <a:pt x="720" y="365"/>
                  </a:lnTo>
                  <a:lnTo>
                    <a:pt x="720" y="371"/>
                  </a:lnTo>
                  <a:lnTo>
                    <a:pt x="719" y="374"/>
                  </a:lnTo>
                  <a:lnTo>
                    <a:pt x="719" y="378"/>
                  </a:lnTo>
                  <a:lnTo>
                    <a:pt x="715" y="382"/>
                  </a:lnTo>
                  <a:lnTo>
                    <a:pt x="715" y="384"/>
                  </a:lnTo>
                  <a:lnTo>
                    <a:pt x="667" y="359"/>
                  </a:lnTo>
                  <a:lnTo>
                    <a:pt x="667" y="357"/>
                  </a:lnTo>
                  <a:lnTo>
                    <a:pt x="669" y="352"/>
                  </a:lnTo>
                  <a:lnTo>
                    <a:pt x="671" y="346"/>
                  </a:lnTo>
                  <a:lnTo>
                    <a:pt x="675" y="338"/>
                  </a:lnTo>
                  <a:lnTo>
                    <a:pt x="675" y="333"/>
                  </a:lnTo>
                  <a:lnTo>
                    <a:pt x="677" y="327"/>
                  </a:lnTo>
                  <a:lnTo>
                    <a:pt x="677" y="321"/>
                  </a:lnTo>
                  <a:lnTo>
                    <a:pt x="679" y="314"/>
                  </a:lnTo>
                  <a:lnTo>
                    <a:pt x="681" y="308"/>
                  </a:lnTo>
                  <a:lnTo>
                    <a:pt x="682" y="300"/>
                  </a:lnTo>
                  <a:lnTo>
                    <a:pt x="682" y="293"/>
                  </a:lnTo>
                  <a:lnTo>
                    <a:pt x="684" y="285"/>
                  </a:lnTo>
                  <a:lnTo>
                    <a:pt x="684" y="277"/>
                  </a:lnTo>
                  <a:lnTo>
                    <a:pt x="684" y="270"/>
                  </a:lnTo>
                  <a:lnTo>
                    <a:pt x="684" y="260"/>
                  </a:lnTo>
                  <a:lnTo>
                    <a:pt x="684" y="251"/>
                  </a:lnTo>
                  <a:lnTo>
                    <a:pt x="684" y="241"/>
                  </a:lnTo>
                  <a:lnTo>
                    <a:pt x="682" y="232"/>
                  </a:lnTo>
                  <a:lnTo>
                    <a:pt x="681" y="222"/>
                  </a:lnTo>
                  <a:lnTo>
                    <a:pt x="681" y="215"/>
                  </a:lnTo>
                  <a:lnTo>
                    <a:pt x="679" y="209"/>
                  </a:lnTo>
                  <a:lnTo>
                    <a:pt x="677" y="203"/>
                  </a:lnTo>
                  <a:lnTo>
                    <a:pt x="677" y="198"/>
                  </a:lnTo>
                  <a:lnTo>
                    <a:pt x="675" y="194"/>
                  </a:lnTo>
                  <a:lnTo>
                    <a:pt x="671" y="184"/>
                  </a:lnTo>
                  <a:lnTo>
                    <a:pt x="667" y="175"/>
                  </a:lnTo>
                  <a:lnTo>
                    <a:pt x="665" y="169"/>
                  </a:lnTo>
                  <a:lnTo>
                    <a:pt x="663" y="165"/>
                  </a:lnTo>
                  <a:lnTo>
                    <a:pt x="660" y="160"/>
                  </a:lnTo>
                  <a:lnTo>
                    <a:pt x="658" y="154"/>
                  </a:lnTo>
                  <a:lnTo>
                    <a:pt x="652" y="144"/>
                  </a:lnTo>
                  <a:lnTo>
                    <a:pt x="646" y="137"/>
                  </a:lnTo>
                  <a:lnTo>
                    <a:pt x="643" y="131"/>
                  </a:lnTo>
                  <a:lnTo>
                    <a:pt x="639" y="125"/>
                  </a:lnTo>
                  <a:lnTo>
                    <a:pt x="633" y="122"/>
                  </a:lnTo>
                  <a:lnTo>
                    <a:pt x="629" y="118"/>
                  </a:lnTo>
                  <a:lnTo>
                    <a:pt x="624" y="112"/>
                  </a:lnTo>
                  <a:lnTo>
                    <a:pt x="618" y="108"/>
                  </a:lnTo>
                  <a:lnTo>
                    <a:pt x="612" y="104"/>
                  </a:lnTo>
                  <a:lnTo>
                    <a:pt x="608" y="103"/>
                  </a:lnTo>
                  <a:lnTo>
                    <a:pt x="601" y="99"/>
                  </a:lnTo>
                  <a:lnTo>
                    <a:pt x="595" y="95"/>
                  </a:lnTo>
                  <a:lnTo>
                    <a:pt x="587" y="91"/>
                  </a:lnTo>
                  <a:lnTo>
                    <a:pt x="582" y="89"/>
                  </a:lnTo>
                  <a:lnTo>
                    <a:pt x="574" y="87"/>
                  </a:lnTo>
                  <a:lnTo>
                    <a:pt x="567" y="84"/>
                  </a:lnTo>
                  <a:lnTo>
                    <a:pt x="561" y="82"/>
                  </a:lnTo>
                  <a:lnTo>
                    <a:pt x="553" y="80"/>
                  </a:lnTo>
                  <a:lnTo>
                    <a:pt x="546" y="76"/>
                  </a:lnTo>
                  <a:lnTo>
                    <a:pt x="536" y="74"/>
                  </a:lnTo>
                  <a:lnTo>
                    <a:pt x="528" y="72"/>
                  </a:lnTo>
                  <a:lnTo>
                    <a:pt x="521" y="72"/>
                  </a:lnTo>
                  <a:lnTo>
                    <a:pt x="511" y="68"/>
                  </a:lnTo>
                  <a:lnTo>
                    <a:pt x="504" y="68"/>
                  </a:lnTo>
                  <a:lnTo>
                    <a:pt x="496" y="66"/>
                  </a:lnTo>
                  <a:lnTo>
                    <a:pt x="487" y="66"/>
                  </a:lnTo>
                  <a:lnTo>
                    <a:pt x="479" y="65"/>
                  </a:lnTo>
                  <a:lnTo>
                    <a:pt x="470" y="63"/>
                  </a:lnTo>
                  <a:lnTo>
                    <a:pt x="462" y="63"/>
                  </a:lnTo>
                  <a:lnTo>
                    <a:pt x="454" y="63"/>
                  </a:lnTo>
                  <a:lnTo>
                    <a:pt x="445" y="61"/>
                  </a:lnTo>
                  <a:lnTo>
                    <a:pt x="435" y="61"/>
                  </a:lnTo>
                  <a:lnTo>
                    <a:pt x="428" y="61"/>
                  </a:lnTo>
                  <a:lnTo>
                    <a:pt x="420" y="61"/>
                  </a:lnTo>
                  <a:lnTo>
                    <a:pt x="411" y="61"/>
                  </a:lnTo>
                  <a:lnTo>
                    <a:pt x="403" y="59"/>
                  </a:lnTo>
                  <a:lnTo>
                    <a:pt x="394" y="59"/>
                  </a:lnTo>
                  <a:lnTo>
                    <a:pt x="386" y="59"/>
                  </a:lnTo>
                  <a:lnTo>
                    <a:pt x="378" y="59"/>
                  </a:lnTo>
                  <a:lnTo>
                    <a:pt x="369" y="59"/>
                  </a:lnTo>
                  <a:lnTo>
                    <a:pt x="361" y="59"/>
                  </a:lnTo>
                  <a:lnTo>
                    <a:pt x="354" y="59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31" y="59"/>
                  </a:lnTo>
                  <a:lnTo>
                    <a:pt x="325" y="61"/>
                  </a:lnTo>
                  <a:lnTo>
                    <a:pt x="317" y="61"/>
                  </a:lnTo>
                  <a:lnTo>
                    <a:pt x="312" y="61"/>
                  </a:lnTo>
                  <a:lnTo>
                    <a:pt x="306" y="61"/>
                  </a:lnTo>
                  <a:lnTo>
                    <a:pt x="300" y="61"/>
                  </a:lnTo>
                  <a:lnTo>
                    <a:pt x="295" y="61"/>
                  </a:lnTo>
                  <a:lnTo>
                    <a:pt x="287" y="61"/>
                  </a:lnTo>
                  <a:lnTo>
                    <a:pt x="283" y="61"/>
                  </a:lnTo>
                  <a:lnTo>
                    <a:pt x="278" y="63"/>
                  </a:lnTo>
                  <a:lnTo>
                    <a:pt x="270" y="63"/>
                  </a:lnTo>
                  <a:lnTo>
                    <a:pt x="262" y="65"/>
                  </a:lnTo>
                  <a:lnTo>
                    <a:pt x="257" y="65"/>
                  </a:lnTo>
                  <a:lnTo>
                    <a:pt x="251" y="65"/>
                  </a:lnTo>
                  <a:lnTo>
                    <a:pt x="249" y="65"/>
                  </a:lnTo>
                  <a:lnTo>
                    <a:pt x="249" y="66"/>
                  </a:lnTo>
                  <a:lnTo>
                    <a:pt x="247" y="66"/>
                  </a:lnTo>
                  <a:lnTo>
                    <a:pt x="241" y="66"/>
                  </a:lnTo>
                  <a:lnTo>
                    <a:pt x="236" y="66"/>
                  </a:lnTo>
                  <a:lnTo>
                    <a:pt x="234" y="66"/>
                  </a:lnTo>
                  <a:lnTo>
                    <a:pt x="228" y="68"/>
                  </a:lnTo>
                  <a:lnTo>
                    <a:pt x="222" y="70"/>
                  </a:lnTo>
                  <a:lnTo>
                    <a:pt x="217" y="70"/>
                  </a:lnTo>
                  <a:lnTo>
                    <a:pt x="209" y="72"/>
                  </a:lnTo>
                  <a:lnTo>
                    <a:pt x="203" y="72"/>
                  </a:lnTo>
                  <a:lnTo>
                    <a:pt x="196" y="74"/>
                  </a:lnTo>
                  <a:lnTo>
                    <a:pt x="188" y="76"/>
                  </a:lnTo>
                  <a:lnTo>
                    <a:pt x="183" y="78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58" y="85"/>
                  </a:lnTo>
                  <a:lnTo>
                    <a:pt x="150" y="87"/>
                  </a:lnTo>
                  <a:lnTo>
                    <a:pt x="143" y="89"/>
                  </a:lnTo>
                  <a:lnTo>
                    <a:pt x="135" y="93"/>
                  </a:lnTo>
                  <a:lnTo>
                    <a:pt x="127" y="97"/>
                  </a:lnTo>
                  <a:lnTo>
                    <a:pt x="120" y="101"/>
                  </a:lnTo>
                  <a:lnTo>
                    <a:pt x="112" y="104"/>
                  </a:lnTo>
                  <a:lnTo>
                    <a:pt x="106" y="108"/>
                  </a:lnTo>
                  <a:lnTo>
                    <a:pt x="99" y="112"/>
                  </a:lnTo>
                  <a:lnTo>
                    <a:pt x="93" y="116"/>
                  </a:lnTo>
                  <a:lnTo>
                    <a:pt x="89" y="122"/>
                  </a:lnTo>
                  <a:lnTo>
                    <a:pt x="84" y="125"/>
                  </a:lnTo>
                  <a:lnTo>
                    <a:pt x="78" y="131"/>
                  </a:lnTo>
                  <a:lnTo>
                    <a:pt x="76" y="137"/>
                  </a:lnTo>
                  <a:lnTo>
                    <a:pt x="72" y="142"/>
                  </a:lnTo>
                  <a:lnTo>
                    <a:pt x="72" y="150"/>
                  </a:lnTo>
                  <a:lnTo>
                    <a:pt x="68" y="154"/>
                  </a:lnTo>
                  <a:lnTo>
                    <a:pt x="68" y="161"/>
                  </a:lnTo>
                  <a:lnTo>
                    <a:pt x="67" y="167"/>
                  </a:lnTo>
                  <a:lnTo>
                    <a:pt x="67" y="175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8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6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5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1" y="310"/>
                  </a:lnTo>
                  <a:lnTo>
                    <a:pt x="61" y="317"/>
                  </a:lnTo>
                  <a:lnTo>
                    <a:pt x="63" y="325"/>
                  </a:lnTo>
                  <a:lnTo>
                    <a:pt x="63" y="327"/>
                  </a:lnTo>
                  <a:lnTo>
                    <a:pt x="63" y="329"/>
                  </a:lnTo>
                  <a:lnTo>
                    <a:pt x="4" y="333"/>
                  </a:lnTo>
                  <a:lnTo>
                    <a:pt x="4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834720" y="4191120"/>
              <a:ext cx="1385280" cy="719640"/>
            </a:xfrm>
            <a:custGeom>
              <a:avLst/>
              <a:gdLst/>
              <a:ahLst/>
              <a:rect l="l" t="t" r="r" b="b"/>
              <a:pathLst>
                <a:path w="740" h="384">
                  <a:moveTo>
                    <a:pt x="6" y="332"/>
                  </a:moveTo>
                  <a:lnTo>
                    <a:pt x="6" y="329"/>
                  </a:lnTo>
                  <a:lnTo>
                    <a:pt x="4" y="323"/>
                  </a:lnTo>
                  <a:lnTo>
                    <a:pt x="4" y="317"/>
                  </a:lnTo>
                  <a:lnTo>
                    <a:pt x="2" y="312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2" y="232"/>
                  </a:lnTo>
                  <a:lnTo>
                    <a:pt x="2" y="226"/>
                  </a:lnTo>
                  <a:lnTo>
                    <a:pt x="4" y="220"/>
                  </a:lnTo>
                  <a:lnTo>
                    <a:pt x="4" y="215"/>
                  </a:lnTo>
                  <a:lnTo>
                    <a:pt x="4" y="209"/>
                  </a:lnTo>
                  <a:lnTo>
                    <a:pt x="4" y="203"/>
                  </a:lnTo>
                  <a:lnTo>
                    <a:pt x="6" y="197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8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56"/>
                  </a:lnTo>
                  <a:lnTo>
                    <a:pt x="14" y="150"/>
                  </a:lnTo>
                  <a:lnTo>
                    <a:pt x="16" y="146"/>
                  </a:lnTo>
                  <a:lnTo>
                    <a:pt x="18" y="140"/>
                  </a:lnTo>
                  <a:lnTo>
                    <a:pt x="19" y="135"/>
                  </a:lnTo>
                  <a:lnTo>
                    <a:pt x="21" y="129"/>
                  </a:lnTo>
                  <a:lnTo>
                    <a:pt x="23" y="123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31" y="108"/>
                  </a:lnTo>
                  <a:lnTo>
                    <a:pt x="33" y="102"/>
                  </a:lnTo>
                  <a:lnTo>
                    <a:pt x="35" y="97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6" y="70"/>
                  </a:lnTo>
                  <a:lnTo>
                    <a:pt x="63" y="63"/>
                  </a:lnTo>
                  <a:lnTo>
                    <a:pt x="75" y="57"/>
                  </a:lnTo>
                  <a:lnTo>
                    <a:pt x="76" y="53"/>
                  </a:lnTo>
                  <a:lnTo>
                    <a:pt x="82" y="49"/>
                  </a:lnTo>
                  <a:lnTo>
                    <a:pt x="88" y="45"/>
                  </a:lnTo>
                  <a:lnTo>
                    <a:pt x="95" y="43"/>
                  </a:lnTo>
                  <a:lnTo>
                    <a:pt x="101" y="40"/>
                  </a:lnTo>
                  <a:lnTo>
                    <a:pt x="109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2" y="28"/>
                  </a:lnTo>
                  <a:lnTo>
                    <a:pt x="139" y="26"/>
                  </a:lnTo>
                  <a:lnTo>
                    <a:pt x="149" y="23"/>
                  </a:lnTo>
                  <a:lnTo>
                    <a:pt x="158" y="21"/>
                  </a:lnTo>
                  <a:lnTo>
                    <a:pt x="168" y="17"/>
                  </a:lnTo>
                  <a:lnTo>
                    <a:pt x="177" y="17"/>
                  </a:lnTo>
                  <a:lnTo>
                    <a:pt x="189" y="15"/>
                  </a:lnTo>
                  <a:lnTo>
                    <a:pt x="200" y="13"/>
                  </a:lnTo>
                  <a:lnTo>
                    <a:pt x="210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44" y="5"/>
                  </a:lnTo>
                  <a:lnTo>
                    <a:pt x="253" y="5"/>
                  </a:lnTo>
                  <a:lnTo>
                    <a:pt x="267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1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9" y="2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5" y="2"/>
                  </a:lnTo>
                  <a:lnTo>
                    <a:pt x="388" y="2"/>
                  </a:lnTo>
                  <a:lnTo>
                    <a:pt x="400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8" y="5"/>
                  </a:lnTo>
                  <a:lnTo>
                    <a:pt x="449" y="5"/>
                  </a:lnTo>
                  <a:lnTo>
                    <a:pt x="462" y="5"/>
                  </a:lnTo>
                  <a:lnTo>
                    <a:pt x="474" y="7"/>
                  </a:lnTo>
                  <a:lnTo>
                    <a:pt x="487" y="9"/>
                  </a:lnTo>
                  <a:lnTo>
                    <a:pt x="498" y="11"/>
                  </a:lnTo>
                  <a:lnTo>
                    <a:pt x="510" y="13"/>
                  </a:lnTo>
                  <a:lnTo>
                    <a:pt x="521" y="15"/>
                  </a:lnTo>
                  <a:lnTo>
                    <a:pt x="533" y="17"/>
                  </a:lnTo>
                  <a:lnTo>
                    <a:pt x="542" y="21"/>
                  </a:lnTo>
                  <a:lnTo>
                    <a:pt x="554" y="23"/>
                  </a:lnTo>
                  <a:lnTo>
                    <a:pt x="565" y="26"/>
                  </a:lnTo>
                  <a:lnTo>
                    <a:pt x="576" y="30"/>
                  </a:lnTo>
                  <a:lnTo>
                    <a:pt x="586" y="32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3"/>
                  </a:lnTo>
                  <a:lnTo>
                    <a:pt x="622" y="47"/>
                  </a:lnTo>
                  <a:lnTo>
                    <a:pt x="632" y="53"/>
                  </a:lnTo>
                  <a:lnTo>
                    <a:pt x="639" y="59"/>
                  </a:lnTo>
                  <a:lnTo>
                    <a:pt x="649" y="63"/>
                  </a:lnTo>
                  <a:lnTo>
                    <a:pt x="656" y="68"/>
                  </a:lnTo>
                  <a:lnTo>
                    <a:pt x="662" y="72"/>
                  </a:lnTo>
                  <a:lnTo>
                    <a:pt x="670" y="78"/>
                  </a:lnTo>
                  <a:lnTo>
                    <a:pt x="675" y="83"/>
                  </a:lnTo>
                  <a:lnTo>
                    <a:pt x="681" y="89"/>
                  </a:lnTo>
                  <a:lnTo>
                    <a:pt x="687" y="97"/>
                  </a:lnTo>
                  <a:lnTo>
                    <a:pt x="692" y="102"/>
                  </a:lnTo>
                  <a:lnTo>
                    <a:pt x="698" y="110"/>
                  </a:lnTo>
                  <a:lnTo>
                    <a:pt x="700" y="116"/>
                  </a:lnTo>
                  <a:lnTo>
                    <a:pt x="704" y="121"/>
                  </a:lnTo>
                  <a:lnTo>
                    <a:pt x="708" y="127"/>
                  </a:lnTo>
                  <a:lnTo>
                    <a:pt x="711" y="135"/>
                  </a:lnTo>
                  <a:lnTo>
                    <a:pt x="713" y="140"/>
                  </a:lnTo>
                  <a:lnTo>
                    <a:pt x="715" y="148"/>
                  </a:lnTo>
                  <a:lnTo>
                    <a:pt x="719" y="154"/>
                  </a:lnTo>
                  <a:lnTo>
                    <a:pt x="723" y="161"/>
                  </a:lnTo>
                  <a:lnTo>
                    <a:pt x="725" y="167"/>
                  </a:lnTo>
                  <a:lnTo>
                    <a:pt x="727" y="175"/>
                  </a:lnTo>
                  <a:lnTo>
                    <a:pt x="727" y="178"/>
                  </a:lnTo>
                  <a:lnTo>
                    <a:pt x="730" y="186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3"/>
                  </a:lnTo>
                  <a:lnTo>
                    <a:pt x="736" y="211"/>
                  </a:lnTo>
                  <a:lnTo>
                    <a:pt x="736" y="216"/>
                  </a:lnTo>
                  <a:lnTo>
                    <a:pt x="738" y="222"/>
                  </a:lnTo>
                  <a:lnTo>
                    <a:pt x="738" y="228"/>
                  </a:lnTo>
                  <a:lnTo>
                    <a:pt x="738" y="234"/>
                  </a:lnTo>
                  <a:lnTo>
                    <a:pt x="738" y="239"/>
                  </a:lnTo>
                  <a:lnTo>
                    <a:pt x="740" y="245"/>
                  </a:lnTo>
                  <a:lnTo>
                    <a:pt x="740" y="251"/>
                  </a:lnTo>
                  <a:lnTo>
                    <a:pt x="740" y="256"/>
                  </a:lnTo>
                  <a:lnTo>
                    <a:pt x="740" y="262"/>
                  </a:lnTo>
                  <a:lnTo>
                    <a:pt x="740" y="268"/>
                  </a:lnTo>
                  <a:lnTo>
                    <a:pt x="740" y="274"/>
                  </a:lnTo>
                  <a:lnTo>
                    <a:pt x="740" y="279"/>
                  </a:lnTo>
                  <a:lnTo>
                    <a:pt x="740" y="283"/>
                  </a:lnTo>
                  <a:lnTo>
                    <a:pt x="740" y="289"/>
                  </a:lnTo>
                  <a:lnTo>
                    <a:pt x="740" y="294"/>
                  </a:lnTo>
                  <a:lnTo>
                    <a:pt x="740" y="298"/>
                  </a:lnTo>
                  <a:lnTo>
                    <a:pt x="738" y="308"/>
                  </a:lnTo>
                  <a:lnTo>
                    <a:pt x="736" y="317"/>
                  </a:lnTo>
                  <a:lnTo>
                    <a:pt x="734" y="325"/>
                  </a:lnTo>
                  <a:lnTo>
                    <a:pt x="734" y="334"/>
                  </a:lnTo>
                  <a:lnTo>
                    <a:pt x="732" y="340"/>
                  </a:lnTo>
                  <a:lnTo>
                    <a:pt x="730" y="348"/>
                  </a:lnTo>
                  <a:lnTo>
                    <a:pt x="728" y="353"/>
                  </a:lnTo>
                  <a:lnTo>
                    <a:pt x="727" y="361"/>
                  </a:lnTo>
                  <a:lnTo>
                    <a:pt x="725" y="365"/>
                  </a:lnTo>
                  <a:lnTo>
                    <a:pt x="723" y="369"/>
                  </a:lnTo>
                  <a:lnTo>
                    <a:pt x="721" y="372"/>
                  </a:lnTo>
                  <a:lnTo>
                    <a:pt x="721" y="376"/>
                  </a:lnTo>
                  <a:lnTo>
                    <a:pt x="719" y="382"/>
                  </a:lnTo>
                  <a:lnTo>
                    <a:pt x="719" y="384"/>
                  </a:lnTo>
                  <a:lnTo>
                    <a:pt x="668" y="357"/>
                  </a:lnTo>
                  <a:lnTo>
                    <a:pt x="668" y="355"/>
                  </a:lnTo>
                  <a:lnTo>
                    <a:pt x="670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1"/>
                  </a:lnTo>
                  <a:lnTo>
                    <a:pt x="677" y="325"/>
                  </a:lnTo>
                  <a:lnTo>
                    <a:pt x="679" y="319"/>
                  </a:lnTo>
                  <a:lnTo>
                    <a:pt x="681" y="313"/>
                  </a:lnTo>
                  <a:lnTo>
                    <a:pt x="681" y="306"/>
                  </a:lnTo>
                  <a:lnTo>
                    <a:pt x="683" y="300"/>
                  </a:lnTo>
                  <a:lnTo>
                    <a:pt x="683" y="293"/>
                  </a:lnTo>
                  <a:lnTo>
                    <a:pt x="685" y="285"/>
                  </a:lnTo>
                  <a:lnTo>
                    <a:pt x="685" y="275"/>
                  </a:lnTo>
                  <a:lnTo>
                    <a:pt x="685" y="268"/>
                  </a:lnTo>
                  <a:lnTo>
                    <a:pt x="685" y="258"/>
                  </a:lnTo>
                  <a:lnTo>
                    <a:pt x="687" y="251"/>
                  </a:lnTo>
                  <a:lnTo>
                    <a:pt x="685" y="241"/>
                  </a:lnTo>
                  <a:lnTo>
                    <a:pt x="685" y="232"/>
                  </a:lnTo>
                  <a:lnTo>
                    <a:pt x="683" y="222"/>
                  </a:lnTo>
                  <a:lnTo>
                    <a:pt x="681" y="213"/>
                  </a:lnTo>
                  <a:lnTo>
                    <a:pt x="679" y="207"/>
                  </a:lnTo>
                  <a:lnTo>
                    <a:pt x="679" y="203"/>
                  </a:lnTo>
                  <a:lnTo>
                    <a:pt x="677" y="197"/>
                  </a:lnTo>
                  <a:lnTo>
                    <a:pt x="675" y="192"/>
                  </a:lnTo>
                  <a:lnTo>
                    <a:pt x="673" y="182"/>
                  </a:lnTo>
                  <a:lnTo>
                    <a:pt x="670" y="175"/>
                  </a:lnTo>
                  <a:lnTo>
                    <a:pt x="668" y="169"/>
                  </a:lnTo>
                  <a:lnTo>
                    <a:pt x="664" y="163"/>
                  </a:lnTo>
                  <a:lnTo>
                    <a:pt x="662" y="158"/>
                  </a:lnTo>
                  <a:lnTo>
                    <a:pt x="660" y="154"/>
                  </a:lnTo>
                  <a:lnTo>
                    <a:pt x="654" y="144"/>
                  </a:lnTo>
                  <a:lnTo>
                    <a:pt x="649" y="135"/>
                  </a:lnTo>
                  <a:lnTo>
                    <a:pt x="645" y="129"/>
                  </a:lnTo>
                  <a:lnTo>
                    <a:pt x="639" y="123"/>
                  </a:lnTo>
                  <a:lnTo>
                    <a:pt x="635" y="120"/>
                  </a:lnTo>
                  <a:lnTo>
                    <a:pt x="632" y="116"/>
                  </a:lnTo>
                  <a:lnTo>
                    <a:pt x="626" y="110"/>
                  </a:lnTo>
                  <a:lnTo>
                    <a:pt x="620" y="108"/>
                  </a:lnTo>
                  <a:lnTo>
                    <a:pt x="614" y="104"/>
                  </a:lnTo>
                  <a:lnTo>
                    <a:pt x="609" y="101"/>
                  </a:lnTo>
                  <a:lnTo>
                    <a:pt x="603" y="97"/>
                  </a:lnTo>
                  <a:lnTo>
                    <a:pt x="595" y="95"/>
                  </a:lnTo>
                  <a:lnTo>
                    <a:pt x="590" y="91"/>
                  </a:lnTo>
                  <a:lnTo>
                    <a:pt x="584" y="89"/>
                  </a:lnTo>
                  <a:lnTo>
                    <a:pt x="576" y="85"/>
                  </a:lnTo>
                  <a:lnTo>
                    <a:pt x="569" y="83"/>
                  </a:lnTo>
                  <a:lnTo>
                    <a:pt x="561" y="82"/>
                  </a:lnTo>
                  <a:lnTo>
                    <a:pt x="555" y="80"/>
                  </a:lnTo>
                  <a:lnTo>
                    <a:pt x="546" y="78"/>
                  </a:lnTo>
                  <a:lnTo>
                    <a:pt x="538" y="74"/>
                  </a:lnTo>
                  <a:lnTo>
                    <a:pt x="531" y="72"/>
                  </a:lnTo>
                  <a:lnTo>
                    <a:pt x="523" y="72"/>
                  </a:lnTo>
                  <a:lnTo>
                    <a:pt x="514" y="70"/>
                  </a:lnTo>
                  <a:lnTo>
                    <a:pt x="506" y="70"/>
                  </a:lnTo>
                  <a:lnTo>
                    <a:pt x="497" y="68"/>
                  </a:lnTo>
                  <a:lnTo>
                    <a:pt x="489" y="66"/>
                  </a:lnTo>
                  <a:lnTo>
                    <a:pt x="479" y="64"/>
                  </a:lnTo>
                  <a:lnTo>
                    <a:pt x="472" y="64"/>
                  </a:lnTo>
                  <a:lnTo>
                    <a:pt x="464" y="63"/>
                  </a:lnTo>
                  <a:lnTo>
                    <a:pt x="455" y="63"/>
                  </a:lnTo>
                  <a:lnTo>
                    <a:pt x="447" y="63"/>
                  </a:lnTo>
                  <a:lnTo>
                    <a:pt x="438" y="63"/>
                  </a:lnTo>
                  <a:lnTo>
                    <a:pt x="430" y="63"/>
                  </a:lnTo>
                  <a:lnTo>
                    <a:pt x="422" y="63"/>
                  </a:lnTo>
                  <a:lnTo>
                    <a:pt x="413" y="61"/>
                  </a:lnTo>
                  <a:lnTo>
                    <a:pt x="403" y="61"/>
                  </a:lnTo>
                  <a:lnTo>
                    <a:pt x="396" y="61"/>
                  </a:lnTo>
                  <a:lnTo>
                    <a:pt x="388" y="61"/>
                  </a:lnTo>
                  <a:lnTo>
                    <a:pt x="379" y="61"/>
                  </a:lnTo>
                  <a:lnTo>
                    <a:pt x="371" y="61"/>
                  </a:lnTo>
                  <a:lnTo>
                    <a:pt x="363" y="61"/>
                  </a:lnTo>
                  <a:lnTo>
                    <a:pt x="356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3" y="61"/>
                  </a:lnTo>
                  <a:lnTo>
                    <a:pt x="327" y="61"/>
                  </a:lnTo>
                  <a:lnTo>
                    <a:pt x="320" y="61"/>
                  </a:lnTo>
                  <a:lnTo>
                    <a:pt x="314" y="63"/>
                  </a:lnTo>
                  <a:lnTo>
                    <a:pt x="308" y="63"/>
                  </a:lnTo>
                  <a:lnTo>
                    <a:pt x="303" y="63"/>
                  </a:lnTo>
                  <a:lnTo>
                    <a:pt x="295" y="63"/>
                  </a:lnTo>
                  <a:lnTo>
                    <a:pt x="289" y="63"/>
                  </a:lnTo>
                  <a:lnTo>
                    <a:pt x="284" y="63"/>
                  </a:lnTo>
                  <a:lnTo>
                    <a:pt x="280" y="64"/>
                  </a:lnTo>
                  <a:lnTo>
                    <a:pt x="270" y="64"/>
                  </a:lnTo>
                  <a:lnTo>
                    <a:pt x="265" y="66"/>
                  </a:lnTo>
                  <a:lnTo>
                    <a:pt x="257" y="66"/>
                  </a:lnTo>
                  <a:lnTo>
                    <a:pt x="253" y="66"/>
                  </a:lnTo>
                  <a:lnTo>
                    <a:pt x="251" y="66"/>
                  </a:lnTo>
                  <a:lnTo>
                    <a:pt x="251" y="68"/>
                  </a:lnTo>
                  <a:lnTo>
                    <a:pt x="248" y="68"/>
                  </a:lnTo>
                  <a:lnTo>
                    <a:pt x="244" y="68"/>
                  </a:lnTo>
                  <a:lnTo>
                    <a:pt x="238" y="68"/>
                  </a:lnTo>
                  <a:lnTo>
                    <a:pt x="234" y="68"/>
                  </a:lnTo>
                  <a:lnTo>
                    <a:pt x="230" y="70"/>
                  </a:lnTo>
                  <a:lnTo>
                    <a:pt x="225" y="70"/>
                  </a:lnTo>
                  <a:lnTo>
                    <a:pt x="219" y="70"/>
                  </a:lnTo>
                  <a:lnTo>
                    <a:pt x="211" y="72"/>
                  </a:lnTo>
                  <a:lnTo>
                    <a:pt x="204" y="72"/>
                  </a:lnTo>
                  <a:lnTo>
                    <a:pt x="198" y="76"/>
                  </a:lnTo>
                  <a:lnTo>
                    <a:pt x="190" y="76"/>
                  </a:lnTo>
                  <a:lnTo>
                    <a:pt x="183" y="78"/>
                  </a:lnTo>
                  <a:lnTo>
                    <a:pt x="175" y="82"/>
                  </a:lnTo>
                  <a:lnTo>
                    <a:pt x="168" y="83"/>
                  </a:lnTo>
                  <a:lnTo>
                    <a:pt x="160" y="85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7" y="95"/>
                  </a:lnTo>
                  <a:lnTo>
                    <a:pt x="128" y="97"/>
                  </a:lnTo>
                  <a:lnTo>
                    <a:pt x="120" y="101"/>
                  </a:lnTo>
                  <a:lnTo>
                    <a:pt x="113" y="104"/>
                  </a:lnTo>
                  <a:lnTo>
                    <a:pt x="107" y="110"/>
                  </a:lnTo>
                  <a:lnTo>
                    <a:pt x="101" y="112"/>
                  </a:lnTo>
                  <a:lnTo>
                    <a:pt x="95" y="118"/>
                  </a:lnTo>
                  <a:lnTo>
                    <a:pt x="90" y="121"/>
                  </a:lnTo>
                  <a:lnTo>
                    <a:pt x="86" y="127"/>
                  </a:lnTo>
                  <a:lnTo>
                    <a:pt x="80" y="133"/>
                  </a:lnTo>
                  <a:lnTo>
                    <a:pt x="76" y="137"/>
                  </a:lnTo>
                  <a:lnTo>
                    <a:pt x="75" y="144"/>
                  </a:lnTo>
                  <a:lnTo>
                    <a:pt x="73" y="150"/>
                  </a:lnTo>
                  <a:lnTo>
                    <a:pt x="71" y="156"/>
                  </a:lnTo>
                  <a:lnTo>
                    <a:pt x="69" y="163"/>
                  </a:lnTo>
                  <a:lnTo>
                    <a:pt x="67" y="169"/>
                  </a:lnTo>
                  <a:lnTo>
                    <a:pt x="67" y="177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7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6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5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4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3" y="310"/>
                  </a:lnTo>
                  <a:lnTo>
                    <a:pt x="63" y="317"/>
                  </a:lnTo>
                  <a:lnTo>
                    <a:pt x="63" y="323"/>
                  </a:lnTo>
                  <a:lnTo>
                    <a:pt x="63" y="327"/>
                  </a:lnTo>
                  <a:lnTo>
                    <a:pt x="65" y="329"/>
                  </a:lnTo>
                  <a:lnTo>
                    <a:pt x="6" y="332"/>
                  </a:lnTo>
                  <a:lnTo>
                    <a:pt x="6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5262120" y="4198680"/>
              <a:ext cx="1385280" cy="715320"/>
            </a:xfrm>
            <a:custGeom>
              <a:avLst/>
              <a:gdLst/>
              <a:ahLst/>
              <a:rect l="l" t="t" r="r" b="b"/>
              <a:pathLst>
                <a:path w="739" h="382">
                  <a:moveTo>
                    <a:pt x="3" y="330"/>
                  </a:moveTo>
                  <a:lnTo>
                    <a:pt x="2" y="328"/>
                  </a:lnTo>
                  <a:lnTo>
                    <a:pt x="2" y="321"/>
                  </a:lnTo>
                  <a:lnTo>
                    <a:pt x="2" y="317"/>
                  </a:lnTo>
                  <a:lnTo>
                    <a:pt x="2" y="311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89"/>
                  </a:lnTo>
                  <a:lnTo>
                    <a:pt x="0" y="281"/>
                  </a:lnTo>
                  <a:lnTo>
                    <a:pt x="0" y="271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6"/>
                  </a:lnTo>
                  <a:lnTo>
                    <a:pt x="2" y="220"/>
                  </a:lnTo>
                  <a:lnTo>
                    <a:pt x="2" y="212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4"/>
                  </a:lnTo>
                  <a:lnTo>
                    <a:pt x="5" y="178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9" y="159"/>
                  </a:lnTo>
                  <a:lnTo>
                    <a:pt x="9" y="155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5" y="138"/>
                  </a:lnTo>
                  <a:lnTo>
                    <a:pt x="17" y="133"/>
                  </a:lnTo>
                  <a:lnTo>
                    <a:pt x="21" y="127"/>
                  </a:lnTo>
                  <a:lnTo>
                    <a:pt x="22" y="121"/>
                  </a:lnTo>
                  <a:lnTo>
                    <a:pt x="24" y="116"/>
                  </a:lnTo>
                  <a:lnTo>
                    <a:pt x="26" y="110"/>
                  </a:lnTo>
                  <a:lnTo>
                    <a:pt x="28" y="106"/>
                  </a:lnTo>
                  <a:lnTo>
                    <a:pt x="32" y="100"/>
                  </a:lnTo>
                  <a:lnTo>
                    <a:pt x="34" y="95"/>
                  </a:lnTo>
                  <a:lnTo>
                    <a:pt x="38" y="91"/>
                  </a:lnTo>
                  <a:lnTo>
                    <a:pt x="41" y="85"/>
                  </a:lnTo>
                  <a:lnTo>
                    <a:pt x="47" y="76"/>
                  </a:lnTo>
                  <a:lnTo>
                    <a:pt x="55" y="68"/>
                  </a:lnTo>
                  <a:lnTo>
                    <a:pt x="64" y="60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1" y="47"/>
                  </a:lnTo>
                  <a:lnTo>
                    <a:pt x="87" y="43"/>
                  </a:lnTo>
                  <a:lnTo>
                    <a:pt x="95" y="39"/>
                  </a:lnTo>
                  <a:lnTo>
                    <a:pt x="100" y="38"/>
                  </a:lnTo>
                  <a:lnTo>
                    <a:pt x="108" y="34"/>
                  </a:lnTo>
                  <a:lnTo>
                    <a:pt x="116" y="32"/>
                  </a:lnTo>
                  <a:lnTo>
                    <a:pt x="123" y="28"/>
                  </a:lnTo>
                  <a:lnTo>
                    <a:pt x="133" y="26"/>
                  </a:lnTo>
                  <a:lnTo>
                    <a:pt x="140" y="24"/>
                  </a:lnTo>
                  <a:lnTo>
                    <a:pt x="148" y="20"/>
                  </a:lnTo>
                  <a:lnTo>
                    <a:pt x="159" y="19"/>
                  </a:lnTo>
                  <a:lnTo>
                    <a:pt x="167" y="17"/>
                  </a:lnTo>
                  <a:lnTo>
                    <a:pt x="178" y="15"/>
                  </a:lnTo>
                  <a:lnTo>
                    <a:pt x="188" y="13"/>
                  </a:lnTo>
                  <a:lnTo>
                    <a:pt x="199" y="13"/>
                  </a:lnTo>
                  <a:lnTo>
                    <a:pt x="209" y="9"/>
                  </a:lnTo>
                  <a:lnTo>
                    <a:pt x="220" y="7"/>
                  </a:lnTo>
                  <a:lnTo>
                    <a:pt x="232" y="5"/>
                  </a:lnTo>
                  <a:lnTo>
                    <a:pt x="243" y="5"/>
                  </a:lnTo>
                  <a:lnTo>
                    <a:pt x="252" y="3"/>
                  </a:lnTo>
                  <a:lnTo>
                    <a:pt x="266" y="1"/>
                  </a:lnTo>
                  <a:lnTo>
                    <a:pt x="277" y="1"/>
                  </a:lnTo>
                  <a:lnTo>
                    <a:pt x="289" y="1"/>
                  </a:lnTo>
                  <a:lnTo>
                    <a:pt x="302" y="1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1"/>
                  </a:lnTo>
                  <a:lnTo>
                    <a:pt x="401" y="1"/>
                  </a:lnTo>
                  <a:lnTo>
                    <a:pt x="412" y="1"/>
                  </a:lnTo>
                  <a:lnTo>
                    <a:pt x="425" y="1"/>
                  </a:lnTo>
                  <a:lnTo>
                    <a:pt x="437" y="3"/>
                  </a:lnTo>
                  <a:lnTo>
                    <a:pt x="448" y="3"/>
                  </a:lnTo>
                  <a:lnTo>
                    <a:pt x="462" y="5"/>
                  </a:lnTo>
                  <a:lnTo>
                    <a:pt x="473" y="5"/>
                  </a:lnTo>
                  <a:lnTo>
                    <a:pt x="484" y="9"/>
                  </a:lnTo>
                  <a:lnTo>
                    <a:pt x="496" y="9"/>
                  </a:lnTo>
                  <a:lnTo>
                    <a:pt x="509" y="11"/>
                  </a:lnTo>
                  <a:lnTo>
                    <a:pt x="521" y="13"/>
                  </a:lnTo>
                  <a:lnTo>
                    <a:pt x="532" y="17"/>
                  </a:lnTo>
                  <a:lnTo>
                    <a:pt x="541" y="19"/>
                  </a:lnTo>
                  <a:lnTo>
                    <a:pt x="553" y="20"/>
                  </a:lnTo>
                  <a:lnTo>
                    <a:pt x="562" y="24"/>
                  </a:lnTo>
                  <a:lnTo>
                    <a:pt x="574" y="28"/>
                  </a:lnTo>
                  <a:lnTo>
                    <a:pt x="585" y="30"/>
                  </a:lnTo>
                  <a:lnTo>
                    <a:pt x="595" y="34"/>
                  </a:lnTo>
                  <a:lnTo>
                    <a:pt x="604" y="38"/>
                  </a:lnTo>
                  <a:lnTo>
                    <a:pt x="614" y="41"/>
                  </a:lnTo>
                  <a:lnTo>
                    <a:pt x="621" y="45"/>
                  </a:lnTo>
                  <a:lnTo>
                    <a:pt x="631" y="51"/>
                  </a:lnTo>
                  <a:lnTo>
                    <a:pt x="638" y="55"/>
                  </a:lnTo>
                  <a:lnTo>
                    <a:pt x="648" y="60"/>
                  </a:lnTo>
                  <a:lnTo>
                    <a:pt x="654" y="66"/>
                  </a:lnTo>
                  <a:lnTo>
                    <a:pt x="661" y="70"/>
                  </a:lnTo>
                  <a:lnTo>
                    <a:pt x="667" y="76"/>
                  </a:lnTo>
                  <a:lnTo>
                    <a:pt x="675" y="81"/>
                  </a:lnTo>
                  <a:lnTo>
                    <a:pt x="680" y="87"/>
                  </a:lnTo>
                  <a:lnTo>
                    <a:pt x="686" y="93"/>
                  </a:lnTo>
                  <a:lnTo>
                    <a:pt x="692" y="100"/>
                  </a:lnTo>
                  <a:lnTo>
                    <a:pt x="695" y="106"/>
                  </a:lnTo>
                  <a:lnTo>
                    <a:pt x="699" y="114"/>
                  </a:lnTo>
                  <a:lnTo>
                    <a:pt x="703" y="119"/>
                  </a:lnTo>
                  <a:lnTo>
                    <a:pt x="705" y="125"/>
                  </a:lnTo>
                  <a:lnTo>
                    <a:pt x="709" y="133"/>
                  </a:lnTo>
                  <a:lnTo>
                    <a:pt x="713" y="138"/>
                  </a:lnTo>
                  <a:lnTo>
                    <a:pt x="714" y="146"/>
                  </a:lnTo>
                  <a:lnTo>
                    <a:pt x="718" y="152"/>
                  </a:lnTo>
                  <a:lnTo>
                    <a:pt x="720" y="159"/>
                  </a:lnTo>
                  <a:lnTo>
                    <a:pt x="722" y="165"/>
                  </a:lnTo>
                  <a:lnTo>
                    <a:pt x="724" y="173"/>
                  </a:lnTo>
                  <a:lnTo>
                    <a:pt x="726" y="176"/>
                  </a:lnTo>
                  <a:lnTo>
                    <a:pt x="730" y="184"/>
                  </a:lnTo>
                  <a:lnTo>
                    <a:pt x="730" y="190"/>
                  </a:lnTo>
                  <a:lnTo>
                    <a:pt x="732" y="197"/>
                  </a:lnTo>
                  <a:lnTo>
                    <a:pt x="733" y="201"/>
                  </a:lnTo>
                  <a:lnTo>
                    <a:pt x="735" y="209"/>
                  </a:lnTo>
                  <a:lnTo>
                    <a:pt x="735" y="214"/>
                  </a:lnTo>
                  <a:lnTo>
                    <a:pt x="735" y="220"/>
                  </a:lnTo>
                  <a:lnTo>
                    <a:pt x="737" y="226"/>
                  </a:lnTo>
                  <a:lnTo>
                    <a:pt x="737" y="231"/>
                  </a:lnTo>
                  <a:lnTo>
                    <a:pt x="737" y="237"/>
                  </a:lnTo>
                  <a:lnTo>
                    <a:pt x="737" y="243"/>
                  </a:lnTo>
                  <a:lnTo>
                    <a:pt x="737" y="249"/>
                  </a:lnTo>
                  <a:lnTo>
                    <a:pt x="739" y="254"/>
                  </a:lnTo>
                  <a:lnTo>
                    <a:pt x="739" y="260"/>
                  </a:lnTo>
                  <a:lnTo>
                    <a:pt x="739" y="266"/>
                  </a:lnTo>
                  <a:lnTo>
                    <a:pt x="739" y="271"/>
                  </a:lnTo>
                  <a:lnTo>
                    <a:pt x="739" y="277"/>
                  </a:lnTo>
                  <a:lnTo>
                    <a:pt x="737" y="281"/>
                  </a:lnTo>
                  <a:lnTo>
                    <a:pt x="737" y="287"/>
                  </a:lnTo>
                  <a:lnTo>
                    <a:pt x="737" y="292"/>
                  </a:lnTo>
                  <a:lnTo>
                    <a:pt x="737" y="296"/>
                  </a:lnTo>
                  <a:lnTo>
                    <a:pt x="735" y="306"/>
                  </a:lnTo>
                  <a:lnTo>
                    <a:pt x="733" y="315"/>
                  </a:lnTo>
                  <a:lnTo>
                    <a:pt x="732" y="323"/>
                  </a:lnTo>
                  <a:lnTo>
                    <a:pt x="732" y="330"/>
                  </a:lnTo>
                  <a:lnTo>
                    <a:pt x="730" y="338"/>
                  </a:lnTo>
                  <a:lnTo>
                    <a:pt x="728" y="346"/>
                  </a:lnTo>
                  <a:lnTo>
                    <a:pt x="726" y="351"/>
                  </a:lnTo>
                  <a:lnTo>
                    <a:pt x="724" y="357"/>
                  </a:lnTo>
                  <a:lnTo>
                    <a:pt x="720" y="363"/>
                  </a:lnTo>
                  <a:lnTo>
                    <a:pt x="720" y="366"/>
                  </a:lnTo>
                  <a:lnTo>
                    <a:pt x="718" y="370"/>
                  </a:lnTo>
                  <a:lnTo>
                    <a:pt x="718" y="374"/>
                  </a:lnTo>
                  <a:lnTo>
                    <a:pt x="716" y="380"/>
                  </a:lnTo>
                  <a:lnTo>
                    <a:pt x="716" y="382"/>
                  </a:lnTo>
                  <a:lnTo>
                    <a:pt x="667" y="357"/>
                  </a:lnTo>
                  <a:lnTo>
                    <a:pt x="667" y="355"/>
                  </a:lnTo>
                  <a:lnTo>
                    <a:pt x="669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0"/>
                  </a:lnTo>
                  <a:lnTo>
                    <a:pt x="676" y="325"/>
                  </a:lnTo>
                  <a:lnTo>
                    <a:pt x="678" y="319"/>
                  </a:lnTo>
                  <a:lnTo>
                    <a:pt x="680" y="313"/>
                  </a:lnTo>
                  <a:lnTo>
                    <a:pt x="680" y="306"/>
                  </a:lnTo>
                  <a:lnTo>
                    <a:pt x="682" y="300"/>
                  </a:lnTo>
                  <a:lnTo>
                    <a:pt x="682" y="292"/>
                  </a:lnTo>
                  <a:lnTo>
                    <a:pt x="684" y="285"/>
                  </a:lnTo>
                  <a:lnTo>
                    <a:pt x="684" y="275"/>
                  </a:lnTo>
                  <a:lnTo>
                    <a:pt x="684" y="268"/>
                  </a:lnTo>
                  <a:lnTo>
                    <a:pt x="684" y="258"/>
                  </a:lnTo>
                  <a:lnTo>
                    <a:pt x="684" y="251"/>
                  </a:lnTo>
                  <a:lnTo>
                    <a:pt x="684" y="239"/>
                  </a:lnTo>
                  <a:lnTo>
                    <a:pt x="682" y="231"/>
                  </a:lnTo>
                  <a:lnTo>
                    <a:pt x="680" y="222"/>
                  </a:lnTo>
                  <a:lnTo>
                    <a:pt x="680" y="212"/>
                  </a:lnTo>
                  <a:lnTo>
                    <a:pt x="678" y="207"/>
                  </a:lnTo>
                  <a:lnTo>
                    <a:pt x="678" y="201"/>
                  </a:lnTo>
                  <a:lnTo>
                    <a:pt x="676" y="197"/>
                  </a:lnTo>
                  <a:lnTo>
                    <a:pt x="675" y="192"/>
                  </a:lnTo>
                  <a:lnTo>
                    <a:pt x="673" y="186"/>
                  </a:lnTo>
                  <a:lnTo>
                    <a:pt x="671" y="182"/>
                  </a:lnTo>
                  <a:lnTo>
                    <a:pt x="669" y="176"/>
                  </a:lnTo>
                  <a:lnTo>
                    <a:pt x="667" y="173"/>
                  </a:lnTo>
                  <a:lnTo>
                    <a:pt x="665" y="167"/>
                  </a:lnTo>
                  <a:lnTo>
                    <a:pt x="663" y="161"/>
                  </a:lnTo>
                  <a:lnTo>
                    <a:pt x="659" y="157"/>
                  </a:lnTo>
                  <a:lnTo>
                    <a:pt x="657" y="152"/>
                  </a:lnTo>
                  <a:lnTo>
                    <a:pt x="654" y="146"/>
                  </a:lnTo>
                  <a:lnTo>
                    <a:pt x="652" y="142"/>
                  </a:lnTo>
                  <a:lnTo>
                    <a:pt x="650" y="136"/>
                  </a:lnTo>
                  <a:lnTo>
                    <a:pt x="646" y="133"/>
                  </a:lnTo>
                  <a:lnTo>
                    <a:pt x="642" y="127"/>
                  </a:lnTo>
                  <a:lnTo>
                    <a:pt x="638" y="121"/>
                  </a:lnTo>
                  <a:lnTo>
                    <a:pt x="633" y="117"/>
                  </a:lnTo>
                  <a:lnTo>
                    <a:pt x="629" y="114"/>
                  </a:lnTo>
                  <a:lnTo>
                    <a:pt x="623" y="108"/>
                  </a:lnTo>
                  <a:lnTo>
                    <a:pt x="617" y="106"/>
                  </a:lnTo>
                  <a:lnTo>
                    <a:pt x="614" y="102"/>
                  </a:lnTo>
                  <a:lnTo>
                    <a:pt x="608" y="98"/>
                  </a:lnTo>
                  <a:lnTo>
                    <a:pt x="600" y="95"/>
                  </a:lnTo>
                  <a:lnTo>
                    <a:pt x="595" y="91"/>
                  </a:lnTo>
                  <a:lnTo>
                    <a:pt x="587" y="89"/>
                  </a:lnTo>
                  <a:lnTo>
                    <a:pt x="581" y="85"/>
                  </a:lnTo>
                  <a:lnTo>
                    <a:pt x="574" y="83"/>
                  </a:lnTo>
                  <a:lnTo>
                    <a:pt x="566" y="81"/>
                  </a:lnTo>
                  <a:lnTo>
                    <a:pt x="560" y="79"/>
                  </a:lnTo>
                  <a:lnTo>
                    <a:pt x="553" y="78"/>
                  </a:lnTo>
                  <a:lnTo>
                    <a:pt x="545" y="74"/>
                  </a:lnTo>
                  <a:lnTo>
                    <a:pt x="536" y="72"/>
                  </a:lnTo>
                  <a:lnTo>
                    <a:pt x="528" y="70"/>
                  </a:lnTo>
                  <a:lnTo>
                    <a:pt x="521" y="68"/>
                  </a:lnTo>
                  <a:lnTo>
                    <a:pt x="511" y="66"/>
                  </a:lnTo>
                  <a:lnTo>
                    <a:pt x="503" y="66"/>
                  </a:lnTo>
                  <a:lnTo>
                    <a:pt x="496" y="64"/>
                  </a:lnTo>
                  <a:lnTo>
                    <a:pt x="486" y="64"/>
                  </a:lnTo>
                  <a:lnTo>
                    <a:pt x="479" y="62"/>
                  </a:lnTo>
                  <a:lnTo>
                    <a:pt x="469" y="62"/>
                  </a:lnTo>
                  <a:lnTo>
                    <a:pt x="462" y="60"/>
                  </a:lnTo>
                  <a:lnTo>
                    <a:pt x="454" y="60"/>
                  </a:lnTo>
                  <a:lnTo>
                    <a:pt x="444" y="60"/>
                  </a:lnTo>
                  <a:lnTo>
                    <a:pt x="435" y="59"/>
                  </a:lnTo>
                  <a:lnTo>
                    <a:pt x="427" y="59"/>
                  </a:lnTo>
                  <a:lnTo>
                    <a:pt x="420" y="59"/>
                  </a:lnTo>
                  <a:lnTo>
                    <a:pt x="410" y="59"/>
                  </a:lnTo>
                  <a:lnTo>
                    <a:pt x="403" y="57"/>
                  </a:lnTo>
                  <a:lnTo>
                    <a:pt x="393" y="57"/>
                  </a:lnTo>
                  <a:lnTo>
                    <a:pt x="386" y="57"/>
                  </a:lnTo>
                  <a:lnTo>
                    <a:pt x="378" y="57"/>
                  </a:lnTo>
                  <a:lnTo>
                    <a:pt x="368" y="57"/>
                  </a:lnTo>
                  <a:lnTo>
                    <a:pt x="361" y="57"/>
                  </a:lnTo>
                  <a:lnTo>
                    <a:pt x="353" y="57"/>
                  </a:lnTo>
                  <a:lnTo>
                    <a:pt x="346" y="57"/>
                  </a:lnTo>
                  <a:lnTo>
                    <a:pt x="338" y="57"/>
                  </a:lnTo>
                  <a:lnTo>
                    <a:pt x="330" y="57"/>
                  </a:lnTo>
                  <a:lnTo>
                    <a:pt x="325" y="59"/>
                  </a:lnTo>
                  <a:lnTo>
                    <a:pt x="317" y="59"/>
                  </a:lnTo>
                  <a:lnTo>
                    <a:pt x="311" y="59"/>
                  </a:lnTo>
                  <a:lnTo>
                    <a:pt x="306" y="59"/>
                  </a:lnTo>
                  <a:lnTo>
                    <a:pt x="300" y="60"/>
                  </a:lnTo>
                  <a:lnTo>
                    <a:pt x="294" y="60"/>
                  </a:lnTo>
                  <a:lnTo>
                    <a:pt x="289" y="60"/>
                  </a:lnTo>
                  <a:lnTo>
                    <a:pt x="283" y="60"/>
                  </a:lnTo>
                  <a:lnTo>
                    <a:pt x="277" y="60"/>
                  </a:lnTo>
                  <a:lnTo>
                    <a:pt x="270" y="62"/>
                  </a:lnTo>
                  <a:lnTo>
                    <a:pt x="262" y="62"/>
                  </a:lnTo>
                  <a:lnTo>
                    <a:pt x="256" y="62"/>
                  </a:lnTo>
                  <a:lnTo>
                    <a:pt x="251" y="64"/>
                  </a:lnTo>
                  <a:lnTo>
                    <a:pt x="249" y="64"/>
                  </a:lnTo>
                  <a:lnTo>
                    <a:pt x="249" y="64"/>
                  </a:lnTo>
                  <a:lnTo>
                    <a:pt x="247" y="64"/>
                  </a:lnTo>
                  <a:lnTo>
                    <a:pt x="241" y="64"/>
                  </a:lnTo>
                  <a:lnTo>
                    <a:pt x="235" y="64"/>
                  </a:lnTo>
                  <a:lnTo>
                    <a:pt x="233" y="66"/>
                  </a:lnTo>
                  <a:lnTo>
                    <a:pt x="228" y="66"/>
                  </a:lnTo>
                  <a:lnTo>
                    <a:pt x="224" y="68"/>
                  </a:lnTo>
                  <a:lnTo>
                    <a:pt x="216" y="68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7" y="74"/>
                  </a:lnTo>
                  <a:lnTo>
                    <a:pt x="188" y="74"/>
                  </a:lnTo>
                  <a:lnTo>
                    <a:pt x="182" y="76"/>
                  </a:lnTo>
                  <a:lnTo>
                    <a:pt x="173" y="79"/>
                  </a:lnTo>
                  <a:lnTo>
                    <a:pt x="167" y="81"/>
                  </a:lnTo>
                  <a:lnTo>
                    <a:pt x="159" y="83"/>
                  </a:lnTo>
                  <a:lnTo>
                    <a:pt x="150" y="85"/>
                  </a:lnTo>
                  <a:lnTo>
                    <a:pt x="142" y="89"/>
                  </a:lnTo>
                  <a:lnTo>
                    <a:pt x="135" y="93"/>
                  </a:lnTo>
                  <a:lnTo>
                    <a:pt x="127" y="95"/>
                  </a:lnTo>
                  <a:lnTo>
                    <a:pt x="119" y="98"/>
                  </a:lnTo>
                  <a:lnTo>
                    <a:pt x="112" y="102"/>
                  </a:lnTo>
                  <a:lnTo>
                    <a:pt x="106" y="106"/>
                  </a:lnTo>
                  <a:lnTo>
                    <a:pt x="99" y="110"/>
                  </a:lnTo>
                  <a:lnTo>
                    <a:pt x="93" y="116"/>
                  </a:lnTo>
                  <a:lnTo>
                    <a:pt x="89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6" y="135"/>
                  </a:lnTo>
                  <a:lnTo>
                    <a:pt x="72" y="140"/>
                  </a:lnTo>
                  <a:lnTo>
                    <a:pt x="72" y="148"/>
                  </a:lnTo>
                  <a:lnTo>
                    <a:pt x="68" y="154"/>
                  </a:lnTo>
                  <a:lnTo>
                    <a:pt x="68" y="159"/>
                  </a:lnTo>
                  <a:lnTo>
                    <a:pt x="66" y="167"/>
                  </a:lnTo>
                  <a:lnTo>
                    <a:pt x="66" y="173"/>
                  </a:lnTo>
                  <a:lnTo>
                    <a:pt x="64" y="180"/>
                  </a:lnTo>
                  <a:lnTo>
                    <a:pt x="62" y="188"/>
                  </a:lnTo>
                  <a:lnTo>
                    <a:pt x="62" y="195"/>
                  </a:lnTo>
                  <a:lnTo>
                    <a:pt x="62" y="203"/>
                  </a:lnTo>
                  <a:lnTo>
                    <a:pt x="61" y="211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3"/>
                  </a:lnTo>
                  <a:lnTo>
                    <a:pt x="61" y="239"/>
                  </a:lnTo>
                  <a:lnTo>
                    <a:pt x="61" y="247"/>
                  </a:lnTo>
                  <a:lnTo>
                    <a:pt x="61" y="254"/>
                  </a:lnTo>
                  <a:lnTo>
                    <a:pt x="61" y="262"/>
                  </a:lnTo>
                  <a:lnTo>
                    <a:pt x="61" y="268"/>
                  </a:lnTo>
                  <a:lnTo>
                    <a:pt x="61" y="275"/>
                  </a:lnTo>
                  <a:lnTo>
                    <a:pt x="61" y="281"/>
                  </a:lnTo>
                  <a:lnTo>
                    <a:pt x="61" y="287"/>
                  </a:lnTo>
                  <a:lnTo>
                    <a:pt x="61" y="292"/>
                  </a:lnTo>
                  <a:lnTo>
                    <a:pt x="61" y="296"/>
                  </a:lnTo>
                  <a:lnTo>
                    <a:pt x="61" y="302"/>
                  </a:lnTo>
                  <a:lnTo>
                    <a:pt x="61" y="308"/>
                  </a:lnTo>
                  <a:lnTo>
                    <a:pt x="61" y="315"/>
                  </a:lnTo>
                  <a:lnTo>
                    <a:pt x="62" y="321"/>
                  </a:lnTo>
                  <a:lnTo>
                    <a:pt x="62" y="325"/>
                  </a:lnTo>
                  <a:lnTo>
                    <a:pt x="62" y="327"/>
                  </a:lnTo>
                  <a:lnTo>
                    <a:pt x="3" y="330"/>
                  </a:lnTo>
                  <a:lnTo>
                    <a:pt x="3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5632560" y="1444680"/>
              <a:ext cx="562320" cy="2701080"/>
            </a:xfrm>
            <a:custGeom>
              <a:avLst/>
              <a:gdLst/>
              <a:ahLst/>
              <a:rect l="l" t="t" r="r" b="b"/>
              <a:pathLst>
                <a:path w="301" h="1443">
                  <a:moveTo>
                    <a:pt x="259" y="29"/>
                  </a:moveTo>
                  <a:lnTo>
                    <a:pt x="259" y="29"/>
                  </a:lnTo>
                  <a:lnTo>
                    <a:pt x="259" y="34"/>
                  </a:lnTo>
                  <a:lnTo>
                    <a:pt x="259" y="36"/>
                  </a:lnTo>
                  <a:lnTo>
                    <a:pt x="259" y="40"/>
                  </a:lnTo>
                  <a:lnTo>
                    <a:pt x="261" y="46"/>
                  </a:lnTo>
                  <a:lnTo>
                    <a:pt x="261" y="51"/>
                  </a:lnTo>
                  <a:lnTo>
                    <a:pt x="261" y="57"/>
                  </a:lnTo>
                  <a:lnTo>
                    <a:pt x="261" y="63"/>
                  </a:lnTo>
                  <a:lnTo>
                    <a:pt x="261" y="71"/>
                  </a:lnTo>
                  <a:lnTo>
                    <a:pt x="263" y="78"/>
                  </a:lnTo>
                  <a:lnTo>
                    <a:pt x="263" y="86"/>
                  </a:lnTo>
                  <a:lnTo>
                    <a:pt x="265" y="95"/>
                  </a:lnTo>
                  <a:lnTo>
                    <a:pt x="265" y="105"/>
                  </a:lnTo>
                  <a:lnTo>
                    <a:pt x="266" y="114"/>
                  </a:lnTo>
                  <a:lnTo>
                    <a:pt x="266" y="124"/>
                  </a:lnTo>
                  <a:lnTo>
                    <a:pt x="268" y="135"/>
                  </a:lnTo>
                  <a:lnTo>
                    <a:pt x="268" y="145"/>
                  </a:lnTo>
                  <a:lnTo>
                    <a:pt x="270" y="158"/>
                  </a:lnTo>
                  <a:lnTo>
                    <a:pt x="270" y="169"/>
                  </a:lnTo>
                  <a:lnTo>
                    <a:pt x="272" y="181"/>
                  </a:lnTo>
                  <a:lnTo>
                    <a:pt x="272" y="194"/>
                  </a:lnTo>
                  <a:lnTo>
                    <a:pt x="274" y="207"/>
                  </a:lnTo>
                  <a:lnTo>
                    <a:pt x="274" y="219"/>
                  </a:lnTo>
                  <a:lnTo>
                    <a:pt x="276" y="232"/>
                  </a:lnTo>
                  <a:lnTo>
                    <a:pt x="276" y="245"/>
                  </a:lnTo>
                  <a:lnTo>
                    <a:pt x="278" y="261"/>
                  </a:lnTo>
                  <a:lnTo>
                    <a:pt x="280" y="274"/>
                  </a:lnTo>
                  <a:lnTo>
                    <a:pt x="282" y="289"/>
                  </a:lnTo>
                  <a:lnTo>
                    <a:pt x="282" y="302"/>
                  </a:lnTo>
                  <a:lnTo>
                    <a:pt x="284" y="318"/>
                  </a:lnTo>
                  <a:lnTo>
                    <a:pt x="284" y="331"/>
                  </a:lnTo>
                  <a:lnTo>
                    <a:pt x="286" y="346"/>
                  </a:lnTo>
                  <a:lnTo>
                    <a:pt x="286" y="359"/>
                  </a:lnTo>
                  <a:lnTo>
                    <a:pt x="287" y="375"/>
                  </a:lnTo>
                  <a:lnTo>
                    <a:pt x="287" y="390"/>
                  </a:lnTo>
                  <a:lnTo>
                    <a:pt x="289" y="405"/>
                  </a:lnTo>
                  <a:lnTo>
                    <a:pt x="289" y="420"/>
                  </a:lnTo>
                  <a:lnTo>
                    <a:pt x="291" y="436"/>
                  </a:lnTo>
                  <a:lnTo>
                    <a:pt x="291" y="449"/>
                  </a:lnTo>
                  <a:lnTo>
                    <a:pt x="293" y="464"/>
                  </a:lnTo>
                  <a:lnTo>
                    <a:pt x="293" y="477"/>
                  </a:lnTo>
                  <a:lnTo>
                    <a:pt x="295" y="493"/>
                  </a:lnTo>
                  <a:lnTo>
                    <a:pt x="295" y="506"/>
                  </a:lnTo>
                  <a:lnTo>
                    <a:pt x="297" y="521"/>
                  </a:lnTo>
                  <a:lnTo>
                    <a:pt x="297" y="534"/>
                  </a:lnTo>
                  <a:lnTo>
                    <a:pt x="299" y="550"/>
                  </a:lnTo>
                  <a:lnTo>
                    <a:pt x="299" y="561"/>
                  </a:lnTo>
                  <a:lnTo>
                    <a:pt x="299" y="574"/>
                  </a:lnTo>
                  <a:lnTo>
                    <a:pt x="299" y="588"/>
                  </a:lnTo>
                  <a:lnTo>
                    <a:pt x="301" y="601"/>
                  </a:lnTo>
                  <a:lnTo>
                    <a:pt x="301" y="612"/>
                  </a:lnTo>
                  <a:lnTo>
                    <a:pt x="301" y="624"/>
                  </a:lnTo>
                  <a:lnTo>
                    <a:pt x="301" y="635"/>
                  </a:lnTo>
                  <a:lnTo>
                    <a:pt x="301" y="648"/>
                  </a:lnTo>
                  <a:lnTo>
                    <a:pt x="301" y="660"/>
                  </a:lnTo>
                  <a:lnTo>
                    <a:pt x="301" y="669"/>
                  </a:lnTo>
                  <a:lnTo>
                    <a:pt x="301" y="679"/>
                  </a:lnTo>
                  <a:lnTo>
                    <a:pt x="301" y="690"/>
                  </a:lnTo>
                  <a:lnTo>
                    <a:pt x="301" y="700"/>
                  </a:lnTo>
                  <a:lnTo>
                    <a:pt x="301" y="707"/>
                  </a:lnTo>
                  <a:lnTo>
                    <a:pt x="301" y="715"/>
                  </a:lnTo>
                  <a:lnTo>
                    <a:pt x="301" y="724"/>
                  </a:lnTo>
                  <a:lnTo>
                    <a:pt x="299" y="732"/>
                  </a:lnTo>
                  <a:lnTo>
                    <a:pt x="299" y="740"/>
                  </a:lnTo>
                  <a:lnTo>
                    <a:pt x="299" y="747"/>
                  </a:lnTo>
                  <a:lnTo>
                    <a:pt x="297" y="757"/>
                  </a:lnTo>
                  <a:lnTo>
                    <a:pt x="297" y="764"/>
                  </a:lnTo>
                  <a:lnTo>
                    <a:pt x="295" y="774"/>
                  </a:lnTo>
                  <a:lnTo>
                    <a:pt x="295" y="783"/>
                  </a:lnTo>
                  <a:lnTo>
                    <a:pt x="295" y="795"/>
                  </a:lnTo>
                  <a:lnTo>
                    <a:pt x="293" y="804"/>
                  </a:lnTo>
                  <a:lnTo>
                    <a:pt x="293" y="814"/>
                  </a:lnTo>
                  <a:lnTo>
                    <a:pt x="291" y="825"/>
                  </a:lnTo>
                  <a:lnTo>
                    <a:pt x="291" y="837"/>
                  </a:lnTo>
                  <a:lnTo>
                    <a:pt x="289" y="848"/>
                  </a:lnTo>
                  <a:lnTo>
                    <a:pt x="289" y="859"/>
                  </a:lnTo>
                  <a:lnTo>
                    <a:pt x="287" y="871"/>
                  </a:lnTo>
                  <a:lnTo>
                    <a:pt x="287" y="882"/>
                  </a:lnTo>
                  <a:lnTo>
                    <a:pt x="286" y="894"/>
                  </a:lnTo>
                  <a:lnTo>
                    <a:pt x="286" y="905"/>
                  </a:lnTo>
                  <a:lnTo>
                    <a:pt x="284" y="916"/>
                  </a:lnTo>
                  <a:lnTo>
                    <a:pt x="284" y="930"/>
                  </a:lnTo>
                  <a:lnTo>
                    <a:pt x="282" y="941"/>
                  </a:lnTo>
                  <a:lnTo>
                    <a:pt x="280" y="954"/>
                  </a:lnTo>
                  <a:lnTo>
                    <a:pt x="278" y="968"/>
                  </a:lnTo>
                  <a:lnTo>
                    <a:pt x="278" y="979"/>
                  </a:lnTo>
                  <a:lnTo>
                    <a:pt x="276" y="993"/>
                  </a:lnTo>
                  <a:lnTo>
                    <a:pt x="276" y="1006"/>
                  </a:lnTo>
                  <a:lnTo>
                    <a:pt x="274" y="1017"/>
                  </a:lnTo>
                  <a:lnTo>
                    <a:pt x="274" y="1031"/>
                  </a:lnTo>
                  <a:lnTo>
                    <a:pt x="272" y="1042"/>
                  </a:lnTo>
                  <a:lnTo>
                    <a:pt x="272" y="1055"/>
                  </a:lnTo>
                  <a:lnTo>
                    <a:pt x="270" y="1067"/>
                  </a:lnTo>
                  <a:lnTo>
                    <a:pt x="270" y="1080"/>
                  </a:lnTo>
                  <a:lnTo>
                    <a:pt x="268" y="1091"/>
                  </a:lnTo>
                  <a:lnTo>
                    <a:pt x="268" y="1103"/>
                  </a:lnTo>
                  <a:lnTo>
                    <a:pt x="266" y="1114"/>
                  </a:lnTo>
                  <a:lnTo>
                    <a:pt x="265" y="1127"/>
                  </a:lnTo>
                  <a:lnTo>
                    <a:pt x="263" y="1137"/>
                  </a:lnTo>
                  <a:lnTo>
                    <a:pt x="263" y="1148"/>
                  </a:lnTo>
                  <a:lnTo>
                    <a:pt x="261" y="1160"/>
                  </a:lnTo>
                  <a:lnTo>
                    <a:pt x="261" y="1171"/>
                  </a:lnTo>
                  <a:lnTo>
                    <a:pt x="261" y="1181"/>
                  </a:lnTo>
                  <a:lnTo>
                    <a:pt x="259" y="1192"/>
                  </a:lnTo>
                  <a:lnTo>
                    <a:pt x="259" y="1202"/>
                  </a:lnTo>
                  <a:lnTo>
                    <a:pt x="257" y="1211"/>
                  </a:lnTo>
                  <a:lnTo>
                    <a:pt x="257" y="1221"/>
                  </a:lnTo>
                  <a:lnTo>
                    <a:pt x="255" y="1230"/>
                  </a:lnTo>
                  <a:lnTo>
                    <a:pt x="255" y="1238"/>
                  </a:lnTo>
                  <a:lnTo>
                    <a:pt x="255" y="1247"/>
                  </a:lnTo>
                  <a:lnTo>
                    <a:pt x="253" y="1255"/>
                  </a:lnTo>
                  <a:lnTo>
                    <a:pt x="253" y="1262"/>
                  </a:lnTo>
                  <a:lnTo>
                    <a:pt x="251" y="1270"/>
                  </a:lnTo>
                  <a:lnTo>
                    <a:pt x="251" y="1276"/>
                  </a:lnTo>
                  <a:lnTo>
                    <a:pt x="251" y="1283"/>
                  </a:lnTo>
                  <a:lnTo>
                    <a:pt x="249" y="1289"/>
                  </a:lnTo>
                  <a:lnTo>
                    <a:pt x="249" y="1295"/>
                  </a:lnTo>
                  <a:lnTo>
                    <a:pt x="249" y="1300"/>
                  </a:lnTo>
                  <a:lnTo>
                    <a:pt x="249" y="1308"/>
                  </a:lnTo>
                  <a:lnTo>
                    <a:pt x="249" y="1314"/>
                  </a:lnTo>
                  <a:lnTo>
                    <a:pt x="249" y="1318"/>
                  </a:lnTo>
                  <a:lnTo>
                    <a:pt x="249" y="1319"/>
                  </a:lnTo>
                  <a:lnTo>
                    <a:pt x="291" y="1443"/>
                  </a:lnTo>
                  <a:lnTo>
                    <a:pt x="21" y="1443"/>
                  </a:lnTo>
                  <a:lnTo>
                    <a:pt x="21" y="1439"/>
                  </a:lnTo>
                  <a:lnTo>
                    <a:pt x="21" y="1432"/>
                  </a:lnTo>
                  <a:lnTo>
                    <a:pt x="19" y="1426"/>
                  </a:lnTo>
                  <a:lnTo>
                    <a:pt x="19" y="1420"/>
                  </a:lnTo>
                  <a:lnTo>
                    <a:pt x="19" y="1411"/>
                  </a:lnTo>
                  <a:lnTo>
                    <a:pt x="19" y="1403"/>
                  </a:lnTo>
                  <a:lnTo>
                    <a:pt x="19" y="1397"/>
                  </a:lnTo>
                  <a:lnTo>
                    <a:pt x="19" y="1392"/>
                  </a:lnTo>
                  <a:lnTo>
                    <a:pt x="19" y="1386"/>
                  </a:lnTo>
                  <a:lnTo>
                    <a:pt x="19" y="1380"/>
                  </a:lnTo>
                  <a:lnTo>
                    <a:pt x="19" y="1375"/>
                  </a:lnTo>
                  <a:lnTo>
                    <a:pt x="19" y="1369"/>
                  </a:lnTo>
                  <a:lnTo>
                    <a:pt x="19" y="1363"/>
                  </a:lnTo>
                  <a:lnTo>
                    <a:pt x="19" y="1358"/>
                  </a:lnTo>
                  <a:lnTo>
                    <a:pt x="19" y="1350"/>
                  </a:lnTo>
                  <a:lnTo>
                    <a:pt x="19" y="1342"/>
                  </a:lnTo>
                  <a:lnTo>
                    <a:pt x="19" y="1337"/>
                  </a:lnTo>
                  <a:lnTo>
                    <a:pt x="19" y="1329"/>
                  </a:lnTo>
                  <a:lnTo>
                    <a:pt x="19" y="1321"/>
                  </a:lnTo>
                  <a:lnTo>
                    <a:pt x="19" y="1314"/>
                  </a:lnTo>
                  <a:lnTo>
                    <a:pt x="19" y="1308"/>
                  </a:lnTo>
                  <a:lnTo>
                    <a:pt x="19" y="1300"/>
                  </a:lnTo>
                  <a:lnTo>
                    <a:pt x="19" y="1291"/>
                  </a:lnTo>
                  <a:lnTo>
                    <a:pt x="19" y="1283"/>
                  </a:lnTo>
                  <a:lnTo>
                    <a:pt x="19" y="1274"/>
                  </a:lnTo>
                  <a:lnTo>
                    <a:pt x="19" y="1266"/>
                  </a:lnTo>
                  <a:lnTo>
                    <a:pt x="19" y="1259"/>
                  </a:lnTo>
                  <a:lnTo>
                    <a:pt x="19" y="1249"/>
                  </a:lnTo>
                  <a:lnTo>
                    <a:pt x="19" y="1240"/>
                  </a:lnTo>
                  <a:lnTo>
                    <a:pt x="19" y="1232"/>
                  </a:lnTo>
                  <a:lnTo>
                    <a:pt x="19" y="1221"/>
                  </a:lnTo>
                  <a:lnTo>
                    <a:pt x="19" y="1213"/>
                  </a:lnTo>
                  <a:lnTo>
                    <a:pt x="19" y="1204"/>
                  </a:lnTo>
                  <a:lnTo>
                    <a:pt x="21" y="1194"/>
                  </a:lnTo>
                  <a:lnTo>
                    <a:pt x="21" y="1185"/>
                  </a:lnTo>
                  <a:lnTo>
                    <a:pt x="21" y="1175"/>
                  </a:lnTo>
                  <a:lnTo>
                    <a:pt x="23" y="1166"/>
                  </a:lnTo>
                  <a:lnTo>
                    <a:pt x="23" y="1156"/>
                  </a:lnTo>
                  <a:lnTo>
                    <a:pt x="23" y="1146"/>
                  </a:lnTo>
                  <a:lnTo>
                    <a:pt x="23" y="1137"/>
                  </a:lnTo>
                  <a:lnTo>
                    <a:pt x="25" y="1127"/>
                  </a:lnTo>
                  <a:lnTo>
                    <a:pt x="25" y="1116"/>
                  </a:lnTo>
                  <a:lnTo>
                    <a:pt x="25" y="1107"/>
                  </a:lnTo>
                  <a:lnTo>
                    <a:pt x="27" y="1097"/>
                  </a:lnTo>
                  <a:lnTo>
                    <a:pt x="27" y="1088"/>
                  </a:lnTo>
                  <a:lnTo>
                    <a:pt x="29" y="1078"/>
                  </a:lnTo>
                  <a:lnTo>
                    <a:pt x="29" y="1067"/>
                  </a:lnTo>
                  <a:lnTo>
                    <a:pt x="29" y="1057"/>
                  </a:lnTo>
                  <a:lnTo>
                    <a:pt x="31" y="1048"/>
                  </a:lnTo>
                  <a:lnTo>
                    <a:pt x="33" y="1038"/>
                  </a:lnTo>
                  <a:lnTo>
                    <a:pt x="33" y="1027"/>
                  </a:lnTo>
                  <a:lnTo>
                    <a:pt x="35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9"/>
                  </a:lnTo>
                  <a:lnTo>
                    <a:pt x="38" y="977"/>
                  </a:lnTo>
                  <a:lnTo>
                    <a:pt x="38" y="968"/>
                  </a:lnTo>
                  <a:lnTo>
                    <a:pt x="40" y="956"/>
                  </a:lnTo>
                  <a:lnTo>
                    <a:pt x="40" y="945"/>
                  </a:lnTo>
                  <a:lnTo>
                    <a:pt x="42" y="934"/>
                  </a:lnTo>
                  <a:lnTo>
                    <a:pt x="42" y="922"/>
                  </a:lnTo>
                  <a:lnTo>
                    <a:pt x="44" y="911"/>
                  </a:lnTo>
                  <a:lnTo>
                    <a:pt x="44" y="899"/>
                  </a:lnTo>
                  <a:lnTo>
                    <a:pt x="46" y="886"/>
                  </a:lnTo>
                  <a:lnTo>
                    <a:pt x="46" y="875"/>
                  </a:lnTo>
                  <a:lnTo>
                    <a:pt x="46" y="861"/>
                  </a:lnTo>
                  <a:lnTo>
                    <a:pt x="46" y="850"/>
                  </a:lnTo>
                  <a:lnTo>
                    <a:pt x="48" y="837"/>
                  </a:lnTo>
                  <a:lnTo>
                    <a:pt x="48" y="825"/>
                  </a:lnTo>
                  <a:lnTo>
                    <a:pt x="48" y="812"/>
                  </a:lnTo>
                  <a:lnTo>
                    <a:pt x="48" y="799"/>
                  </a:lnTo>
                  <a:lnTo>
                    <a:pt x="48" y="787"/>
                  </a:lnTo>
                  <a:lnTo>
                    <a:pt x="48" y="774"/>
                  </a:lnTo>
                  <a:lnTo>
                    <a:pt x="48" y="761"/>
                  </a:lnTo>
                  <a:lnTo>
                    <a:pt x="48" y="747"/>
                  </a:lnTo>
                  <a:lnTo>
                    <a:pt x="48" y="736"/>
                  </a:lnTo>
                  <a:lnTo>
                    <a:pt x="48" y="723"/>
                  </a:lnTo>
                  <a:lnTo>
                    <a:pt x="50" y="709"/>
                  </a:lnTo>
                  <a:lnTo>
                    <a:pt x="48" y="696"/>
                  </a:lnTo>
                  <a:lnTo>
                    <a:pt x="48" y="685"/>
                  </a:lnTo>
                  <a:lnTo>
                    <a:pt x="48" y="671"/>
                  </a:lnTo>
                  <a:lnTo>
                    <a:pt x="48" y="660"/>
                  </a:lnTo>
                  <a:lnTo>
                    <a:pt x="48" y="647"/>
                  </a:lnTo>
                  <a:lnTo>
                    <a:pt x="48" y="635"/>
                  </a:lnTo>
                  <a:lnTo>
                    <a:pt x="48" y="622"/>
                  </a:lnTo>
                  <a:lnTo>
                    <a:pt x="48" y="610"/>
                  </a:lnTo>
                  <a:lnTo>
                    <a:pt x="46" y="597"/>
                  </a:lnTo>
                  <a:lnTo>
                    <a:pt x="46" y="586"/>
                  </a:lnTo>
                  <a:lnTo>
                    <a:pt x="46" y="572"/>
                  </a:lnTo>
                  <a:lnTo>
                    <a:pt x="46" y="563"/>
                  </a:lnTo>
                  <a:lnTo>
                    <a:pt x="44" y="551"/>
                  </a:lnTo>
                  <a:lnTo>
                    <a:pt x="44" y="540"/>
                  </a:lnTo>
                  <a:lnTo>
                    <a:pt x="44" y="531"/>
                  </a:lnTo>
                  <a:lnTo>
                    <a:pt x="44" y="519"/>
                  </a:lnTo>
                  <a:lnTo>
                    <a:pt x="42" y="508"/>
                  </a:lnTo>
                  <a:lnTo>
                    <a:pt x="42" y="498"/>
                  </a:lnTo>
                  <a:lnTo>
                    <a:pt x="42" y="489"/>
                  </a:lnTo>
                  <a:lnTo>
                    <a:pt x="42" y="479"/>
                  </a:lnTo>
                  <a:lnTo>
                    <a:pt x="40" y="470"/>
                  </a:lnTo>
                  <a:lnTo>
                    <a:pt x="40" y="462"/>
                  </a:lnTo>
                  <a:lnTo>
                    <a:pt x="40" y="453"/>
                  </a:lnTo>
                  <a:lnTo>
                    <a:pt x="40" y="447"/>
                  </a:lnTo>
                  <a:lnTo>
                    <a:pt x="40" y="437"/>
                  </a:lnTo>
                  <a:lnTo>
                    <a:pt x="38" y="430"/>
                  </a:lnTo>
                  <a:lnTo>
                    <a:pt x="38" y="424"/>
                  </a:lnTo>
                  <a:lnTo>
                    <a:pt x="38" y="416"/>
                  </a:lnTo>
                  <a:lnTo>
                    <a:pt x="38" y="411"/>
                  </a:lnTo>
                  <a:lnTo>
                    <a:pt x="38" y="405"/>
                  </a:lnTo>
                  <a:lnTo>
                    <a:pt x="38" y="399"/>
                  </a:lnTo>
                  <a:lnTo>
                    <a:pt x="38" y="397"/>
                  </a:lnTo>
                  <a:lnTo>
                    <a:pt x="38" y="388"/>
                  </a:lnTo>
                  <a:lnTo>
                    <a:pt x="38" y="384"/>
                  </a:lnTo>
                  <a:lnTo>
                    <a:pt x="38" y="380"/>
                  </a:lnTo>
                  <a:lnTo>
                    <a:pt x="38" y="380"/>
                  </a:lnTo>
                  <a:lnTo>
                    <a:pt x="0" y="0"/>
                  </a:lnTo>
                  <a:lnTo>
                    <a:pt x="259" y="29"/>
                  </a:lnTo>
                  <a:lnTo>
                    <a:pt x="259" y="29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5737680" y="1605240"/>
              <a:ext cx="21636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5756400" y="217476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5760000" y="2763720"/>
              <a:ext cx="220680" cy="19440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0" y="6"/>
                  </a:moveTo>
                  <a:lnTo>
                    <a:pt x="4" y="103"/>
                  </a:lnTo>
                  <a:lnTo>
                    <a:pt x="118" y="103"/>
                  </a:lnTo>
                  <a:lnTo>
                    <a:pt x="1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5737680" y="31942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4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5681880" y="37306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7"/>
                  </a:moveTo>
                  <a:lnTo>
                    <a:pt x="2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5467680" y="1504440"/>
              <a:ext cx="187560" cy="2604240"/>
            </a:xfrm>
            <a:custGeom>
              <a:avLst/>
              <a:gdLst/>
              <a:ahLst/>
              <a:rect l="l" t="t" r="r" b="b"/>
              <a:pathLst>
                <a:path w="101" h="1390">
                  <a:moveTo>
                    <a:pt x="11" y="0"/>
                  </a:moveTo>
                  <a:lnTo>
                    <a:pt x="11" y="4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7" y="56"/>
                  </a:lnTo>
                  <a:lnTo>
                    <a:pt x="17" y="61"/>
                  </a:lnTo>
                  <a:lnTo>
                    <a:pt x="17" y="69"/>
                  </a:lnTo>
                  <a:lnTo>
                    <a:pt x="19" y="77"/>
                  </a:lnTo>
                  <a:lnTo>
                    <a:pt x="19" y="84"/>
                  </a:lnTo>
                  <a:lnTo>
                    <a:pt x="21" y="92"/>
                  </a:lnTo>
                  <a:lnTo>
                    <a:pt x="21" y="101"/>
                  </a:lnTo>
                  <a:lnTo>
                    <a:pt x="23" y="109"/>
                  </a:lnTo>
                  <a:lnTo>
                    <a:pt x="25" y="118"/>
                  </a:lnTo>
                  <a:lnTo>
                    <a:pt x="25" y="126"/>
                  </a:lnTo>
                  <a:lnTo>
                    <a:pt x="25" y="135"/>
                  </a:lnTo>
                  <a:lnTo>
                    <a:pt x="25" y="145"/>
                  </a:lnTo>
                  <a:lnTo>
                    <a:pt x="27" y="154"/>
                  </a:lnTo>
                  <a:lnTo>
                    <a:pt x="29" y="166"/>
                  </a:lnTo>
                  <a:lnTo>
                    <a:pt x="29" y="175"/>
                  </a:lnTo>
                  <a:lnTo>
                    <a:pt x="30" y="187"/>
                  </a:lnTo>
                  <a:lnTo>
                    <a:pt x="32" y="198"/>
                  </a:lnTo>
                  <a:lnTo>
                    <a:pt x="32" y="208"/>
                  </a:lnTo>
                  <a:lnTo>
                    <a:pt x="32" y="219"/>
                  </a:lnTo>
                  <a:lnTo>
                    <a:pt x="34" y="231"/>
                  </a:lnTo>
                  <a:lnTo>
                    <a:pt x="34" y="242"/>
                  </a:lnTo>
                  <a:lnTo>
                    <a:pt x="34" y="251"/>
                  </a:lnTo>
                  <a:lnTo>
                    <a:pt x="36" y="265"/>
                  </a:lnTo>
                  <a:lnTo>
                    <a:pt x="36" y="276"/>
                  </a:lnTo>
                  <a:lnTo>
                    <a:pt x="38" y="288"/>
                  </a:lnTo>
                  <a:lnTo>
                    <a:pt x="38" y="301"/>
                  </a:lnTo>
                  <a:lnTo>
                    <a:pt x="38" y="312"/>
                  </a:lnTo>
                  <a:lnTo>
                    <a:pt x="40" y="324"/>
                  </a:lnTo>
                  <a:lnTo>
                    <a:pt x="40" y="337"/>
                  </a:lnTo>
                  <a:lnTo>
                    <a:pt x="42" y="350"/>
                  </a:lnTo>
                  <a:lnTo>
                    <a:pt x="42" y="362"/>
                  </a:lnTo>
                  <a:lnTo>
                    <a:pt x="44" y="375"/>
                  </a:lnTo>
                  <a:lnTo>
                    <a:pt x="44" y="388"/>
                  </a:lnTo>
                  <a:lnTo>
                    <a:pt x="44" y="400"/>
                  </a:lnTo>
                  <a:lnTo>
                    <a:pt x="46" y="413"/>
                  </a:lnTo>
                  <a:lnTo>
                    <a:pt x="46" y="424"/>
                  </a:lnTo>
                  <a:lnTo>
                    <a:pt x="46" y="438"/>
                  </a:lnTo>
                  <a:lnTo>
                    <a:pt x="46" y="451"/>
                  </a:lnTo>
                  <a:lnTo>
                    <a:pt x="48" y="462"/>
                  </a:lnTo>
                  <a:lnTo>
                    <a:pt x="48" y="476"/>
                  </a:lnTo>
                  <a:lnTo>
                    <a:pt x="48" y="489"/>
                  </a:lnTo>
                  <a:lnTo>
                    <a:pt x="48" y="500"/>
                  </a:lnTo>
                  <a:lnTo>
                    <a:pt x="48" y="514"/>
                  </a:lnTo>
                  <a:lnTo>
                    <a:pt x="48" y="525"/>
                  </a:lnTo>
                  <a:lnTo>
                    <a:pt x="48" y="538"/>
                  </a:lnTo>
                  <a:lnTo>
                    <a:pt x="48" y="550"/>
                  </a:lnTo>
                  <a:lnTo>
                    <a:pt x="48" y="563"/>
                  </a:lnTo>
                  <a:lnTo>
                    <a:pt x="48" y="576"/>
                  </a:lnTo>
                  <a:lnTo>
                    <a:pt x="49" y="590"/>
                  </a:lnTo>
                  <a:lnTo>
                    <a:pt x="48" y="601"/>
                  </a:lnTo>
                  <a:lnTo>
                    <a:pt x="48" y="613"/>
                  </a:lnTo>
                  <a:lnTo>
                    <a:pt x="46" y="624"/>
                  </a:lnTo>
                  <a:lnTo>
                    <a:pt x="46" y="637"/>
                  </a:lnTo>
                  <a:lnTo>
                    <a:pt x="46" y="649"/>
                  </a:lnTo>
                  <a:lnTo>
                    <a:pt x="46" y="660"/>
                  </a:lnTo>
                  <a:lnTo>
                    <a:pt x="44" y="672"/>
                  </a:lnTo>
                  <a:lnTo>
                    <a:pt x="44" y="685"/>
                  </a:lnTo>
                  <a:lnTo>
                    <a:pt x="44" y="698"/>
                  </a:lnTo>
                  <a:lnTo>
                    <a:pt x="42" y="710"/>
                  </a:lnTo>
                  <a:lnTo>
                    <a:pt x="42" y="723"/>
                  </a:lnTo>
                  <a:lnTo>
                    <a:pt x="42" y="734"/>
                  </a:lnTo>
                  <a:lnTo>
                    <a:pt x="42" y="746"/>
                  </a:lnTo>
                  <a:lnTo>
                    <a:pt x="40" y="759"/>
                  </a:lnTo>
                  <a:lnTo>
                    <a:pt x="40" y="770"/>
                  </a:lnTo>
                  <a:lnTo>
                    <a:pt x="40" y="784"/>
                  </a:lnTo>
                  <a:lnTo>
                    <a:pt x="40" y="795"/>
                  </a:lnTo>
                  <a:lnTo>
                    <a:pt x="38" y="808"/>
                  </a:lnTo>
                  <a:lnTo>
                    <a:pt x="38" y="820"/>
                  </a:lnTo>
                  <a:lnTo>
                    <a:pt x="38" y="831"/>
                  </a:lnTo>
                  <a:lnTo>
                    <a:pt x="36" y="845"/>
                  </a:lnTo>
                  <a:lnTo>
                    <a:pt x="36" y="856"/>
                  </a:lnTo>
                  <a:lnTo>
                    <a:pt x="36" y="867"/>
                  </a:lnTo>
                  <a:lnTo>
                    <a:pt x="36" y="881"/>
                  </a:lnTo>
                  <a:lnTo>
                    <a:pt x="34" y="890"/>
                  </a:lnTo>
                  <a:lnTo>
                    <a:pt x="34" y="903"/>
                  </a:lnTo>
                  <a:lnTo>
                    <a:pt x="32" y="913"/>
                  </a:lnTo>
                  <a:lnTo>
                    <a:pt x="32" y="926"/>
                  </a:lnTo>
                  <a:lnTo>
                    <a:pt x="32" y="936"/>
                  </a:lnTo>
                  <a:lnTo>
                    <a:pt x="32" y="947"/>
                  </a:lnTo>
                  <a:lnTo>
                    <a:pt x="30" y="961"/>
                  </a:lnTo>
                  <a:lnTo>
                    <a:pt x="30" y="972"/>
                  </a:lnTo>
                  <a:lnTo>
                    <a:pt x="29" y="981"/>
                  </a:lnTo>
                  <a:lnTo>
                    <a:pt x="29" y="993"/>
                  </a:lnTo>
                  <a:lnTo>
                    <a:pt x="27" y="1002"/>
                  </a:lnTo>
                  <a:lnTo>
                    <a:pt x="27" y="1014"/>
                  </a:lnTo>
                  <a:lnTo>
                    <a:pt x="27" y="1023"/>
                  </a:lnTo>
                  <a:lnTo>
                    <a:pt x="25" y="1035"/>
                  </a:lnTo>
                  <a:lnTo>
                    <a:pt x="25" y="1044"/>
                  </a:lnTo>
                  <a:lnTo>
                    <a:pt x="25" y="1056"/>
                  </a:lnTo>
                  <a:lnTo>
                    <a:pt x="25" y="1063"/>
                  </a:lnTo>
                  <a:lnTo>
                    <a:pt x="23" y="1075"/>
                  </a:lnTo>
                  <a:lnTo>
                    <a:pt x="23" y="1082"/>
                  </a:lnTo>
                  <a:lnTo>
                    <a:pt x="23" y="1094"/>
                  </a:lnTo>
                  <a:lnTo>
                    <a:pt x="21" y="1103"/>
                  </a:lnTo>
                  <a:lnTo>
                    <a:pt x="21" y="1111"/>
                  </a:lnTo>
                  <a:lnTo>
                    <a:pt x="19" y="1120"/>
                  </a:lnTo>
                  <a:lnTo>
                    <a:pt x="19" y="1130"/>
                  </a:lnTo>
                  <a:lnTo>
                    <a:pt x="19" y="1137"/>
                  </a:lnTo>
                  <a:lnTo>
                    <a:pt x="17" y="1147"/>
                  </a:lnTo>
                  <a:lnTo>
                    <a:pt x="17" y="1154"/>
                  </a:lnTo>
                  <a:lnTo>
                    <a:pt x="17" y="1162"/>
                  </a:lnTo>
                  <a:lnTo>
                    <a:pt x="15" y="1170"/>
                  </a:lnTo>
                  <a:lnTo>
                    <a:pt x="15" y="1177"/>
                  </a:lnTo>
                  <a:lnTo>
                    <a:pt x="13" y="1185"/>
                  </a:lnTo>
                  <a:lnTo>
                    <a:pt x="13" y="1192"/>
                  </a:lnTo>
                  <a:lnTo>
                    <a:pt x="13" y="1200"/>
                  </a:lnTo>
                  <a:lnTo>
                    <a:pt x="11" y="1206"/>
                  </a:lnTo>
                  <a:lnTo>
                    <a:pt x="11" y="1211"/>
                  </a:lnTo>
                  <a:lnTo>
                    <a:pt x="11" y="1219"/>
                  </a:lnTo>
                  <a:lnTo>
                    <a:pt x="11" y="1225"/>
                  </a:lnTo>
                  <a:lnTo>
                    <a:pt x="10" y="1230"/>
                  </a:lnTo>
                  <a:lnTo>
                    <a:pt x="10" y="1236"/>
                  </a:lnTo>
                  <a:lnTo>
                    <a:pt x="10" y="1242"/>
                  </a:lnTo>
                  <a:lnTo>
                    <a:pt x="6" y="1251"/>
                  </a:lnTo>
                  <a:lnTo>
                    <a:pt x="6" y="1261"/>
                  </a:lnTo>
                  <a:lnTo>
                    <a:pt x="4" y="1270"/>
                  </a:lnTo>
                  <a:lnTo>
                    <a:pt x="4" y="1280"/>
                  </a:lnTo>
                  <a:lnTo>
                    <a:pt x="2" y="1287"/>
                  </a:lnTo>
                  <a:lnTo>
                    <a:pt x="2" y="1295"/>
                  </a:lnTo>
                  <a:lnTo>
                    <a:pt x="0" y="1303"/>
                  </a:lnTo>
                  <a:lnTo>
                    <a:pt x="0" y="1310"/>
                  </a:lnTo>
                  <a:lnTo>
                    <a:pt x="0" y="1318"/>
                  </a:lnTo>
                  <a:lnTo>
                    <a:pt x="0" y="1324"/>
                  </a:lnTo>
                  <a:lnTo>
                    <a:pt x="0" y="1331"/>
                  </a:lnTo>
                  <a:lnTo>
                    <a:pt x="0" y="1337"/>
                  </a:lnTo>
                  <a:lnTo>
                    <a:pt x="0" y="1343"/>
                  </a:lnTo>
                  <a:lnTo>
                    <a:pt x="0" y="1346"/>
                  </a:lnTo>
                  <a:lnTo>
                    <a:pt x="0" y="1352"/>
                  </a:lnTo>
                  <a:lnTo>
                    <a:pt x="2" y="1358"/>
                  </a:lnTo>
                  <a:lnTo>
                    <a:pt x="2" y="1364"/>
                  </a:lnTo>
                  <a:lnTo>
                    <a:pt x="2" y="1373"/>
                  </a:lnTo>
                  <a:lnTo>
                    <a:pt x="2" y="1377"/>
                  </a:lnTo>
                  <a:lnTo>
                    <a:pt x="4" y="1383"/>
                  </a:lnTo>
                  <a:lnTo>
                    <a:pt x="6" y="1388"/>
                  </a:lnTo>
                  <a:lnTo>
                    <a:pt x="6" y="1390"/>
                  </a:lnTo>
                  <a:lnTo>
                    <a:pt x="55" y="1388"/>
                  </a:lnTo>
                  <a:lnTo>
                    <a:pt x="55" y="1386"/>
                  </a:lnTo>
                  <a:lnTo>
                    <a:pt x="55" y="1383"/>
                  </a:lnTo>
                  <a:lnTo>
                    <a:pt x="55" y="1379"/>
                  </a:lnTo>
                  <a:lnTo>
                    <a:pt x="55" y="1375"/>
                  </a:lnTo>
                  <a:lnTo>
                    <a:pt x="55" y="1371"/>
                  </a:lnTo>
                  <a:lnTo>
                    <a:pt x="55" y="1365"/>
                  </a:lnTo>
                  <a:lnTo>
                    <a:pt x="53" y="1360"/>
                  </a:lnTo>
                  <a:lnTo>
                    <a:pt x="53" y="1354"/>
                  </a:lnTo>
                  <a:lnTo>
                    <a:pt x="53" y="1346"/>
                  </a:lnTo>
                  <a:lnTo>
                    <a:pt x="53" y="1341"/>
                  </a:lnTo>
                  <a:lnTo>
                    <a:pt x="53" y="1333"/>
                  </a:lnTo>
                  <a:lnTo>
                    <a:pt x="53" y="1326"/>
                  </a:lnTo>
                  <a:lnTo>
                    <a:pt x="53" y="1318"/>
                  </a:lnTo>
                  <a:lnTo>
                    <a:pt x="55" y="1310"/>
                  </a:lnTo>
                  <a:lnTo>
                    <a:pt x="55" y="1301"/>
                  </a:lnTo>
                  <a:lnTo>
                    <a:pt x="55" y="1293"/>
                  </a:lnTo>
                  <a:lnTo>
                    <a:pt x="55" y="1284"/>
                  </a:lnTo>
                  <a:lnTo>
                    <a:pt x="55" y="1274"/>
                  </a:lnTo>
                  <a:lnTo>
                    <a:pt x="55" y="1268"/>
                  </a:lnTo>
                  <a:lnTo>
                    <a:pt x="55" y="1265"/>
                  </a:lnTo>
                  <a:lnTo>
                    <a:pt x="55" y="1259"/>
                  </a:lnTo>
                  <a:lnTo>
                    <a:pt x="57" y="1255"/>
                  </a:lnTo>
                  <a:lnTo>
                    <a:pt x="57" y="1249"/>
                  </a:lnTo>
                  <a:lnTo>
                    <a:pt x="57" y="1244"/>
                  </a:lnTo>
                  <a:lnTo>
                    <a:pt x="57" y="1240"/>
                  </a:lnTo>
                  <a:lnTo>
                    <a:pt x="59" y="1236"/>
                  </a:lnTo>
                  <a:lnTo>
                    <a:pt x="59" y="1230"/>
                  </a:lnTo>
                  <a:lnTo>
                    <a:pt x="59" y="1225"/>
                  </a:lnTo>
                  <a:lnTo>
                    <a:pt x="59" y="1219"/>
                  </a:lnTo>
                  <a:lnTo>
                    <a:pt x="61" y="1215"/>
                  </a:lnTo>
                  <a:lnTo>
                    <a:pt x="61" y="1210"/>
                  </a:lnTo>
                  <a:lnTo>
                    <a:pt x="61" y="1204"/>
                  </a:lnTo>
                  <a:lnTo>
                    <a:pt x="63" y="1200"/>
                  </a:lnTo>
                  <a:lnTo>
                    <a:pt x="63" y="1194"/>
                  </a:lnTo>
                  <a:lnTo>
                    <a:pt x="63" y="1189"/>
                  </a:lnTo>
                  <a:lnTo>
                    <a:pt x="65" y="1185"/>
                  </a:lnTo>
                  <a:lnTo>
                    <a:pt x="65" y="1179"/>
                  </a:lnTo>
                  <a:lnTo>
                    <a:pt x="67" y="1173"/>
                  </a:lnTo>
                  <a:lnTo>
                    <a:pt x="67" y="1170"/>
                  </a:lnTo>
                  <a:lnTo>
                    <a:pt x="68" y="1164"/>
                  </a:lnTo>
                  <a:lnTo>
                    <a:pt x="68" y="1160"/>
                  </a:lnTo>
                  <a:lnTo>
                    <a:pt x="70" y="1154"/>
                  </a:lnTo>
                  <a:lnTo>
                    <a:pt x="70" y="1149"/>
                  </a:lnTo>
                  <a:lnTo>
                    <a:pt x="72" y="1143"/>
                  </a:lnTo>
                  <a:lnTo>
                    <a:pt x="72" y="1137"/>
                  </a:lnTo>
                  <a:lnTo>
                    <a:pt x="74" y="1132"/>
                  </a:lnTo>
                  <a:lnTo>
                    <a:pt x="74" y="1124"/>
                  </a:lnTo>
                  <a:lnTo>
                    <a:pt x="74" y="1118"/>
                  </a:lnTo>
                  <a:lnTo>
                    <a:pt x="76" y="1111"/>
                  </a:lnTo>
                  <a:lnTo>
                    <a:pt x="76" y="1105"/>
                  </a:lnTo>
                  <a:lnTo>
                    <a:pt x="76" y="1097"/>
                  </a:lnTo>
                  <a:lnTo>
                    <a:pt x="78" y="1092"/>
                  </a:lnTo>
                  <a:lnTo>
                    <a:pt x="78" y="1084"/>
                  </a:lnTo>
                  <a:lnTo>
                    <a:pt x="80" y="1076"/>
                  </a:lnTo>
                  <a:lnTo>
                    <a:pt x="80" y="1069"/>
                  </a:lnTo>
                  <a:lnTo>
                    <a:pt x="82" y="1061"/>
                  </a:lnTo>
                  <a:lnTo>
                    <a:pt x="82" y="1054"/>
                  </a:lnTo>
                  <a:lnTo>
                    <a:pt x="84" y="1046"/>
                  </a:lnTo>
                  <a:lnTo>
                    <a:pt x="84" y="1037"/>
                  </a:lnTo>
                  <a:lnTo>
                    <a:pt x="84" y="1029"/>
                  </a:lnTo>
                  <a:lnTo>
                    <a:pt x="84" y="1019"/>
                  </a:lnTo>
                  <a:lnTo>
                    <a:pt x="86" y="1012"/>
                  </a:lnTo>
                  <a:lnTo>
                    <a:pt x="86" y="1002"/>
                  </a:lnTo>
                  <a:lnTo>
                    <a:pt x="86" y="995"/>
                  </a:lnTo>
                  <a:lnTo>
                    <a:pt x="87" y="987"/>
                  </a:lnTo>
                  <a:lnTo>
                    <a:pt x="87" y="978"/>
                  </a:lnTo>
                  <a:lnTo>
                    <a:pt x="87" y="970"/>
                  </a:lnTo>
                  <a:lnTo>
                    <a:pt x="87" y="961"/>
                  </a:lnTo>
                  <a:lnTo>
                    <a:pt x="89" y="953"/>
                  </a:lnTo>
                  <a:lnTo>
                    <a:pt x="89" y="945"/>
                  </a:lnTo>
                  <a:lnTo>
                    <a:pt x="89" y="936"/>
                  </a:lnTo>
                  <a:lnTo>
                    <a:pt x="89" y="928"/>
                  </a:lnTo>
                  <a:lnTo>
                    <a:pt x="89" y="921"/>
                  </a:lnTo>
                  <a:lnTo>
                    <a:pt x="91" y="911"/>
                  </a:lnTo>
                  <a:lnTo>
                    <a:pt x="91" y="903"/>
                  </a:lnTo>
                  <a:lnTo>
                    <a:pt x="91" y="896"/>
                  </a:lnTo>
                  <a:lnTo>
                    <a:pt x="91" y="886"/>
                  </a:lnTo>
                  <a:lnTo>
                    <a:pt x="91" y="879"/>
                  </a:lnTo>
                  <a:lnTo>
                    <a:pt x="91" y="871"/>
                  </a:lnTo>
                  <a:lnTo>
                    <a:pt x="91" y="864"/>
                  </a:lnTo>
                  <a:lnTo>
                    <a:pt x="91" y="856"/>
                  </a:lnTo>
                  <a:lnTo>
                    <a:pt x="93" y="848"/>
                  </a:lnTo>
                  <a:lnTo>
                    <a:pt x="93" y="841"/>
                  </a:lnTo>
                  <a:lnTo>
                    <a:pt x="93" y="833"/>
                  </a:lnTo>
                  <a:lnTo>
                    <a:pt x="93" y="827"/>
                  </a:lnTo>
                  <a:lnTo>
                    <a:pt x="93" y="822"/>
                  </a:lnTo>
                  <a:lnTo>
                    <a:pt x="93" y="814"/>
                  </a:lnTo>
                  <a:lnTo>
                    <a:pt x="93" y="808"/>
                  </a:lnTo>
                  <a:lnTo>
                    <a:pt x="93" y="803"/>
                  </a:lnTo>
                  <a:lnTo>
                    <a:pt x="95" y="797"/>
                  </a:lnTo>
                  <a:lnTo>
                    <a:pt x="95" y="791"/>
                  </a:lnTo>
                  <a:lnTo>
                    <a:pt x="95" y="786"/>
                  </a:lnTo>
                  <a:lnTo>
                    <a:pt x="95" y="782"/>
                  </a:lnTo>
                  <a:lnTo>
                    <a:pt x="95" y="776"/>
                  </a:lnTo>
                  <a:lnTo>
                    <a:pt x="95" y="769"/>
                  </a:lnTo>
                  <a:lnTo>
                    <a:pt x="95" y="763"/>
                  </a:lnTo>
                  <a:lnTo>
                    <a:pt x="95" y="757"/>
                  </a:lnTo>
                  <a:lnTo>
                    <a:pt x="95" y="753"/>
                  </a:lnTo>
                  <a:lnTo>
                    <a:pt x="95" y="749"/>
                  </a:lnTo>
                  <a:lnTo>
                    <a:pt x="97" y="749"/>
                  </a:lnTo>
                  <a:lnTo>
                    <a:pt x="97" y="748"/>
                  </a:lnTo>
                  <a:lnTo>
                    <a:pt x="97" y="742"/>
                  </a:lnTo>
                  <a:lnTo>
                    <a:pt x="97" y="738"/>
                  </a:lnTo>
                  <a:lnTo>
                    <a:pt x="97" y="734"/>
                  </a:lnTo>
                  <a:lnTo>
                    <a:pt x="97" y="727"/>
                  </a:lnTo>
                  <a:lnTo>
                    <a:pt x="99" y="723"/>
                  </a:lnTo>
                  <a:lnTo>
                    <a:pt x="99" y="713"/>
                  </a:lnTo>
                  <a:lnTo>
                    <a:pt x="99" y="708"/>
                  </a:lnTo>
                  <a:lnTo>
                    <a:pt x="99" y="698"/>
                  </a:lnTo>
                  <a:lnTo>
                    <a:pt x="101" y="689"/>
                  </a:lnTo>
                  <a:lnTo>
                    <a:pt x="101" y="683"/>
                  </a:lnTo>
                  <a:lnTo>
                    <a:pt x="101" y="679"/>
                  </a:lnTo>
                  <a:lnTo>
                    <a:pt x="101" y="673"/>
                  </a:lnTo>
                  <a:lnTo>
                    <a:pt x="101" y="668"/>
                  </a:lnTo>
                  <a:lnTo>
                    <a:pt x="101" y="662"/>
                  </a:lnTo>
                  <a:lnTo>
                    <a:pt x="101" y="656"/>
                  </a:lnTo>
                  <a:lnTo>
                    <a:pt x="101" y="651"/>
                  </a:lnTo>
                  <a:lnTo>
                    <a:pt x="101" y="645"/>
                  </a:lnTo>
                  <a:lnTo>
                    <a:pt x="101" y="639"/>
                  </a:lnTo>
                  <a:lnTo>
                    <a:pt x="101" y="632"/>
                  </a:lnTo>
                  <a:lnTo>
                    <a:pt x="101" y="626"/>
                  </a:lnTo>
                  <a:lnTo>
                    <a:pt x="101" y="618"/>
                  </a:lnTo>
                  <a:lnTo>
                    <a:pt x="101" y="613"/>
                  </a:lnTo>
                  <a:lnTo>
                    <a:pt x="101" y="605"/>
                  </a:lnTo>
                  <a:lnTo>
                    <a:pt x="101" y="597"/>
                  </a:lnTo>
                  <a:lnTo>
                    <a:pt x="101" y="592"/>
                  </a:lnTo>
                  <a:lnTo>
                    <a:pt x="101" y="584"/>
                  </a:lnTo>
                  <a:lnTo>
                    <a:pt x="101" y="576"/>
                  </a:lnTo>
                  <a:lnTo>
                    <a:pt x="101" y="569"/>
                  </a:lnTo>
                  <a:lnTo>
                    <a:pt x="101" y="561"/>
                  </a:lnTo>
                  <a:lnTo>
                    <a:pt x="101" y="554"/>
                  </a:lnTo>
                  <a:lnTo>
                    <a:pt x="101" y="546"/>
                  </a:lnTo>
                  <a:lnTo>
                    <a:pt x="101" y="538"/>
                  </a:lnTo>
                  <a:lnTo>
                    <a:pt x="101" y="529"/>
                  </a:lnTo>
                  <a:lnTo>
                    <a:pt x="101" y="521"/>
                  </a:lnTo>
                  <a:lnTo>
                    <a:pt x="101" y="512"/>
                  </a:lnTo>
                  <a:lnTo>
                    <a:pt x="101" y="502"/>
                  </a:lnTo>
                  <a:lnTo>
                    <a:pt x="101" y="495"/>
                  </a:lnTo>
                  <a:lnTo>
                    <a:pt x="101" y="485"/>
                  </a:lnTo>
                  <a:lnTo>
                    <a:pt x="101" y="478"/>
                  </a:lnTo>
                  <a:lnTo>
                    <a:pt x="101" y="468"/>
                  </a:lnTo>
                  <a:lnTo>
                    <a:pt x="101" y="461"/>
                  </a:lnTo>
                  <a:lnTo>
                    <a:pt x="99" y="451"/>
                  </a:lnTo>
                  <a:lnTo>
                    <a:pt x="99" y="442"/>
                  </a:lnTo>
                  <a:lnTo>
                    <a:pt x="99" y="432"/>
                  </a:lnTo>
                  <a:lnTo>
                    <a:pt x="99" y="423"/>
                  </a:lnTo>
                  <a:lnTo>
                    <a:pt x="97" y="413"/>
                  </a:lnTo>
                  <a:lnTo>
                    <a:pt x="97" y="404"/>
                  </a:lnTo>
                  <a:lnTo>
                    <a:pt x="97" y="394"/>
                  </a:lnTo>
                  <a:lnTo>
                    <a:pt x="97" y="386"/>
                  </a:lnTo>
                  <a:lnTo>
                    <a:pt x="95" y="375"/>
                  </a:lnTo>
                  <a:lnTo>
                    <a:pt x="95" y="365"/>
                  </a:lnTo>
                  <a:lnTo>
                    <a:pt x="93" y="356"/>
                  </a:lnTo>
                  <a:lnTo>
                    <a:pt x="93" y="346"/>
                  </a:lnTo>
                  <a:lnTo>
                    <a:pt x="93" y="337"/>
                  </a:lnTo>
                  <a:lnTo>
                    <a:pt x="91" y="327"/>
                  </a:lnTo>
                  <a:lnTo>
                    <a:pt x="91" y="318"/>
                  </a:lnTo>
                  <a:lnTo>
                    <a:pt x="91" y="308"/>
                  </a:lnTo>
                  <a:lnTo>
                    <a:pt x="89" y="299"/>
                  </a:lnTo>
                  <a:lnTo>
                    <a:pt x="89" y="289"/>
                  </a:lnTo>
                  <a:lnTo>
                    <a:pt x="89" y="282"/>
                  </a:lnTo>
                  <a:lnTo>
                    <a:pt x="89" y="272"/>
                  </a:lnTo>
                  <a:lnTo>
                    <a:pt x="87" y="263"/>
                  </a:lnTo>
                  <a:lnTo>
                    <a:pt x="87" y="255"/>
                  </a:lnTo>
                  <a:lnTo>
                    <a:pt x="87" y="246"/>
                  </a:lnTo>
                  <a:lnTo>
                    <a:pt x="87" y="238"/>
                  </a:lnTo>
                  <a:lnTo>
                    <a:pt x="86" y="229"/>
                  </a:lnTo>
                  <a:lnTo>
                    <a:pt x="86" y="219"/>
                  </a:lnTo>
                  <a:lnTo>
                    <a:pt x="84" y="211"/>
                  </a:lnTo>
                  <a:lnTo>
                    <a:pt x="84" y="204"/>
                  </a:lnTo>
                  <a:lnTo>
                    <a:pt x="84" y="194"/>
                  </a:lnTo>
                  <a:lnTo>
                    <a:pt x="82" y="187"/>
                  </a:lnTo>
                  <a:lnTo>
                    <a:pt x="82" y="179"/>
                  </a:lnTo>
                  <a:lnTo>
                    <a:pt x="82" y="172"/>
                  </a:lnTo>
                  <a:lnTo>
                    <a:pt x="80" y="164"/>
                  </a:lnTo>
                  <a:lnTo>
                    <a:pt x="80" y="156"/>
                  </a:lnTo>
                  <a:lnTo>
                    <a:pt x="78" y="149"/>
                  </a:lnTo>
                  <a:lnTo>
                    <a:pt x="78" y="141"/>
                  </a:lnTo>
                  <a:lnTo>
                    <a:pt x="78" y="134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6" y="115"/>
                  </a:lnTo>
                  <a:lnTo>
                    <a:pt x="76" y="109"/>
                  </a:lnTo>
                  <a:lnTo>
                    <a:pt x="74" y="101"/>
                  </a:lnTo>
                  <a:lnTo>
                    <a:pt x="74" y="96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7"/>
                  </a:lnTo>
                  <a:lnTo>
                    <a:pt x="70" y="61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0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8" y="23"/>
                  </a:lnTo>
                  <a:lnTo>
                    <a:pt x="67" y="18"/>
                  </a:lnTo>
                  <a:lnTo>
                    <a:pt x="67" y="12"/>
                  </a:lnTo>
                  <a:lnTo>
                    <a:pt x="67" y="8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5924520" y="1504440"/>
              <a:ext cx="187560" cy="2615400"/>
            </a:xfrm>
            <a:custGeom>
              <a:avLst/>
              <a:gdLst/>
              <a:ahLst/>
              <a:rect l="l" t="t" r="r" b="b"/>
              <a:pathLst>
                <a:path w="101" h="1398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4" y="59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4" y="77"/>
                  </a:lnTo>
                  <a:lnTo>
                    <a:pt x="15" y="84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9" y="103"/>
                  </a:lnTo>
                  <a:lnTo>
                    <a:pt x="19" y="111"/>
                  </a:lnTo>
                  <a:lnTo>
                    <a:pt x="21" y="118"/>
                  </a:lnTo>
                  <a:lnTo>
                    <a:pt x="21" y="126"/>
                  </a:lnTo>
                  <a:lnTo>
                    <a:pt x="23" y="134"/>
                  </a:lnTo>
                  <a:lnTo>
                    <a:pt x="23" y="141"/>
                  </a:lnTo>
                  <a:lnTo>
                    <a:pt x="25" y="149"/>
                  </a:lnTo>
                  <a:lnTo>
                    <a:pt x="25" y="156"/>
                  </a:lnTo>
                  <a:lnTo>
                    <a:pt x="25" y="164"/>
                  </a:lnTo>
                  <a:lnTo>
                    <a:pt x="27" y="172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9" y="196"/>
                  </a:lnTo>
                  <a:lnTo>
                    <a:pt x="29" y="206"/>
                  </a:lnTo>
                  <a:lnTo>
                    <a:pt x="31" y="213"/>
                  </a:lnTo>
                  <a:lnTo>
                    <a:pt x="31" y="221"/>
                  </a:lnTo>
                  <a:lnTo>
                    <a:pt x="33" y="231"/>
                  </a:lnTo>
                  <a:lnTo>
                    <a:pt x="33" y="238"/>
                  </a:lnTo>
                  <a:lnTo>
                    <a:pt x="34" y="248"/>
                  </a:lnTo>
                  <a:lnTo>
                    <a:pt x="34" y="255"/>
                  </a:lnTo>
                  <a:lnTo>
                    <a:pt x="36" y="265"/>
                  </a:lnTo>
                  <a:lnTo>
                    <a:pt x="36" y="274"/>
                  </a:lnTo>
                  <a:lnTo>
                    <a:pt x="38" y="282"/>
                  </a:lnTo>
                  <a:lnTo>
                    <a:pt x="38" y="289"/>
                  </a:lnTo>
                  <a:lnTo>
                    <a:pt x="40" y="297"/>
                  </a:lnTo>
                  <a:lnTo>
                    <a:pt x="40" y="307"/>
                  </a:lnTo>
                  <a:lnTo>
                    <a:pt x="40" y="314"/>
                  </a:lnTo>
                  <a:lnTo>
                    <a:pt x="40" y="324"/>
                  </a:lnTo>
                  <a:lnTo>
                    <a:pt x="40" y="331"/>
                  </a:lnTo>
                  <a:lnTo>
                    <a:pt x="42" y="339"/>
                  </a:lnTo>
                  <a:lnTo>
                    <a:pt x="42" y="348"/>
                  </a:lnTo>
                  <a:lnTo>
                    <a:pt x="42" y="354"/>
                  </a:lnTo>
                  <a:lnTo>
                    <a:pt x="44" y="364"/>
                  </a:lnTo>
                  <a:lnTo>
                    <a:pt x="44" y="371"/>
                  </a:lnTo>
                  <a:lnTo>
                    <a:pt x="44" y="379"/>
                  </a:lnTo>
                  <a:lnTo>
                    <a:pt x="44" y="386"/>
                  </a:lnTo>
                  <a:lnTo>
                    <a:pt x="44" y="392"/>
                  </a:lnTo>
                  <a:lnTo>
                    <a:pt x="44" y="400"/>
                  </a:lnTo>
                  <a:lnTo>
                    <a:pt x="46" y="407"/>
                  </a:lnTo>
                  <a:lnTo>
                    <a:pt x="44" y="415"/>
                  </a:lnTo>
                  <a:lnTo>
                    <a:pt x="44" y="421"/>
                  </a:lnTo>
                  <a:lnTo>
                    <a:pt x="44" y="428"/>
                  </a:lnTo>
                  <a:lnTo>
                    <a:pt x="44" y="436"/>
                  </a:lnTo>
                  <a:lnTo>
                    <a:pt x="44" y="442"/>
                  </a:lnTo>
                  <a:lnTo>
                    <a:pt x="44" y="449"/>
                  </a:lnTo>
                  <a:lnTo>
                    <a:pt x="44" y="457"/>
                  </a:lnTo>
                  <a:lnTo>
                    <a:pt x="44" y="462"/>
                  </a:lnTo>
                  <a:lnTo>
                    <a:pt x="44" y="470"/>
                  </a:lnTo>
                  <a:lnTo>
                    <a:pt x="44" y="476"/>
                  </a:lnTo>
                  <a:lnTo>
                    <a:pt x="44" y="483"/>
                  </a:lnTo>
                  <a:lnTo>
                    <a:pt x="44" y="491"/>
                  </a:lnTo>
                  <a:lnTo>
                    <a:pt x="44" y="497"/>
                  </a:lnTo>
                  <a:lnTo>
                    <a:pt x="44" y="504"/>
                  </a:lnTo>
                  <a:lnTo>
                    <a:pt x="44" y="512"/>
                  </a:lnTo>
                  <a:lnTo>
                    <a:pt x="44" y="519"/>
                  </a:lnTo>
                  <a:lnTo>
                    <a:pt x="44" y="525"/>
                  </a:lnTo>
                  <a:lnTo>
                    <a:pt x="44" y="531"/>
                  </a:lnTo>
                  <a:lnTo>
                    <a:pt x="44" y="538"/>
                  </a:lnTo>
                  <a:lnTo>
                    <a:pt x="44" y="544"/>
                  </a:lnTo>
                  <a:lnTo>
                    <a:pt x="44" y="550"/>
                  </a:lnTo>
                  <a:lnTo>
                    <a:pt x="44" y="557"/>
                  </a:lnTo>
                  <a:lnTo>
                    <a:pt x="44" y="565"/>
                  </a:lnTo>
                  <a:lnTo>
                    <a:pt x="44" y="571"/>
                  </a:lnTo>
                  <a:lnTo>
                    <a:pt x="44" y="576"/>
                  </a:lnTo>
                  <a:lnTo>
                    <a:pt x="44" y="582"/>
                  </a:lnTo>
                  <a:lnTo>
                    <a:pt x="44" y="590"/>
                  </a:lnTo>
                  <a:lnTo>
                    <a:pt x="44" y="596"/>
                  </a:lnTo>
                  <a:lnTo>
                    <a:pt x="44" y="601"/>
                  </a:lnTo>
                  <a:lnTo>
                    <a:pt x="44" y="607"/>
                  </a:lnTo>
                  <a:lnTo>
                    <a:pt x="44" y="613"/>
                  </a:lnTo>
                  <a:lnTo>
                    <a:pt x="44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4"/>
                  </a:lnTo>
                  <a:lnTo>
                    <a:pt x="42" y="639"/>
                  </a:lnTo>
                  <a:lnTo>
                    <a:pt x="42" y="645"/>
                  </a:lnTo>
                  <a:lnTo>
                    <a:pt x="42" y="649"/>
                  </a:lnTo>
                  <a:lnTo>
                    <a:pt x="42" y="654"/>
                  </a:lnTo>
                  <a:lnTo>
                    <a:pt x="42" y="658"/>
                  </a:lnTo>
                  <a:lnTo>
                    <a:pt x="42" y="668"/>
                  </a:lnTo>
                  <a:lnTo>
                    <a:pt x="42" y="675"/>
                  </a:lnTo>
                  <a:lnTo>
                    <a:pt x="42" y="683"/>
                  </a:lnTo>
                  <a:lnTo>
                    <a:pt x="42" y="691"/>
                  </a:lnTo>
                  <a:lnTo>
                    <a:pt x="42" y="696"/>
                  </a:lnTo>
                  <a:lnTo>
                    <a:pt x="42" y="702"/>
                  </a:lnTo>
                  <a:lnTo>
                    <a:pt x="42" y="706"/>
                  </a:lnTo>
                  <a:lnTo>
                    <a:pt x="42" y="710"/>
                  </a:lnTo>
                  <a:lnTo>
                    <a:pt x="42" y="715"/>
                  </a:lnTo>
                  <a:lnTo>
                    <a:pt x="42" y="719"/>
                  </a:lnTo>
                  <a:lnTo>
                    <a:pt x="42" y="721"/>
                  </a:lnTo>
                  <a:lnTo>
                    <a:pt x="42" y="727"/>
                  </a:lnTo>
                  <a:lnTo>
                    <a:pt x="42" y="732"/>
                  </a:lnTo>
                  <a:lnTo>
                    <a:pt x="42" y="736"/>
                  </a:lnTo>
                  <a:lnTo>
                    <a:pt x="42" y="744"/>
                  </a:lnTo>
                  <a:lnTo>
                    <a:pt x="42" y="753"/>
                  </a:lnTo>
                  <a:lnTo>
                    <a:pt x="40" y="761"/>
                  </a:lnTo>
                  <a:lnTo>
                    <a:pt x="40" y="770"/>
                  </a:lnTo>
                  <a:lnTo>
                    <a:pt x="40" y="774"/>
                  </a:lnTo>
                  <a:lnTo>
                    <a:pt x="40" y="780"/>
                  </a:lnTo>
                  <a:lnTo>
                    <a:pt x="40" y="786"/>
                  </a:lnTo>
                  <a:lnTo>
                    <a:pt x="40" y="789"/>
                  </a:lnTo>
                  <a:lnTo>
                    <a:pt x="40" y="795"/>
                  </a:lnTo>
                  <a:lnTo>
                    <a:pt x="40" y="801"/>
                  </a:lnTo>
                  <a:lnTo>
                    <a:pt x="40" y="807"/>
                  </a:lnTo>
                  <a:lnTo>
                    <a:pt x="40" y="814"/>
                  </a:lnTo>
                  <a:lnTo>
                    <a:pt x="40" y="818"/>
                  </a:lnTo>
                  <a:lnTo>
                    <a:pt x="40" y="826"/>
                  </a:lnTo>
                  <a:lnTo>
                    <a:pt x="40" y="831"/>
                  </a:lnTo>
                  <a:lnTo>
                    <a:pt x="40" y="839"/>
                  </a:lnTo>
                  <a:lnTo>
                    <a:pt x="40" y="845"/>
                  </a:lnTo>
                  <a:lnTo>
                    <a:pt x="40" y="850"/>
                  </a:lnTo>
                  <a:lnTo>
                    <a:pt x="40" y="856"/>
                  </a:lnTo>
                  <a:lnTo>
                    <a:pt x="40" y="864"/>
                  </a:lnTo>
                  <a:lnTo>
                    <a:pt x="38" y="869"/>
                  </a:lnTo>
                  <a:lnTo>
                    <a:pt x="38" y="877"/>
                  </a:lnTo>
                  <a:lnTo>
                    <a:pt x="38" y="883"/>
                  </a:lnTo>
                  <a:lnTo>
                    <a:pt x="38" y="890"/>
                  </a:lnTo>
                  <a:lnTo>
                    <a:pt x="38" y="896"/>
                  </a:lnTo>
                  <a:lnTo>
                    <a:pt x="38" y="903"/>
                  </a:lnTo>
                  <a:lnTo>
                    <a:pt x="36" y="909"/>
                  </a:lnTo>
                  <a:lnTo>
                    <a:pt x="36" y="917"/>
                  </a:lnTo>
                  <a:lnTo>
                    <a:pt x="36" y="922"/>
                  </a:lnTo>
                  <a:lnTo>
                    <a:pt x="36" y="930"/>
                  </a:lnTo>
                  <a:lnTo>
                    <a:pt x="36" y="936"/>
                  </a:lnTo>
                  <a:lnTo>
                    <a:pt x="36" y="943"/>
                  </a:lnTo>
                  <a:lnTo>
                    <a:pt x="34" y="949"/>
                  </a:lnTo>
                  <a:lnTo>
                    <a:pt x="34" y="957"/>
                  </a:lnTo>
                  <a:lnTo>
                    <a:pt x="33" y="962"/>
                  </a:lnTo>
                  <a:lnTo>
                    <a:pt x="33" y="970"/>
                  </a:lnTo>
                  <a:lnTo>
                    <a:pt x="33" y="976"/>
                  </a:lnTo>
                  <a:lnTo>
                    <a:pt x="31" y="981"/>
                  </a:lnTo>
                  <a:lnTo>
                    <a:pt x="31" y="989"/>
                  </a:lnTo>
                  <a:lnTo>
                    <a:pt x="31" y="995"/>
                  </a:lnTo>
                  <a:lnTo>
                    <a:pt x="29" y="1000"/>
                  </a:lnTo>
                  <a:lnTo>
                    <a:pt x="29" y="1006"/>
                  </a:lnTo>
                  <a:lnTo>
                    <a:pt x="27" y="1012"/>
                  </a:lnTo>
                  <a:lnTo>
                    <a:pt x="27" y="1018"/>
                  </a:lnTo>
                  <a:lnTo>
                    <a:pt x="25" y="1023"/>
                  </a:lnTo>
                  <a:lnTo>
                    <a:pt x="25" y="1029"/>
                  </a:lnTo>
                  <a:lnTo>
                    <a:pt x="25" y="1035"/>
                  </a:lnTo>
                  <a:lnTo>
                    <a:pt x="25" y="1042"/>
                  </a:lnTo>
                  <a:lnTo>
                    <a:pt x="21" y="1050"/>
                  </a:lnTo>
                  <a:lnTo>
                    <a:pt x="19" y="1059"/>
                  </a:lnTo>
                  <a:lnTo>
                    <a:pt x="17" y="1069"/>
                  </a:lnTo>
                  <a:lnTo>
                    <a:pt x="15" y="1078"/>
                  </a:lnTo>
                  <a:lnTo>
                    <a:pt x="14" y="1086"/>
                  </a:lnTo>
                  <a:lnTo>
                    <a:pt x="14" y="1095"/>
                  </a:lnTo>
                  <a:lnTo>
                    <a:pt x="12" y="1103"/>
                  </a:lnTo>
                  <a:lnTo>
                    <a:pt x="12" y="1111"/>
                  </a:lnTo>
                  <a:lnTo>
                    <a:pt x="10" y="1118"/>
                  </a:lnTo>
                  <a:lnTo>
                    <a:pt x="8" y="1126"/>
                  </a:lnTo>
                  <a:lnTo>
                    <a:pt x="6" y="1134"/>
                  </a:lnTo>
                  <a:lnTo>
                    <a:pt x="6" y="1139"/>
                  </a:lnTo>
                  <a:lnTo>
                    <a:pt x="6" y="1147"/>
                  </a:lnTo>
                  <a:lnTo>
                    <a:pt x="4" y="1153"/>
                  </a:lnTo>
                  <a:lnTo>
                    <a:pt x="4" y="1160"/>
                  </a:lnTo>
                  <a:lnTo>
                    <a:pt x="4" y="1166"/>
                  </a:lnTo>
                  <a:lnTo>
                    <a:pt x="2" y="1172"/>
                  </a:lnTo>
                  <a:lnTo>
                    <a:pt x="2" y="1177"/>
                  </a:lnTo>
                  <a:lnTo>
                    <a:pt x="0" y="1183"/>
                  </a:lnTo>
                  <a:lnTo>
                    <a:pt x="0" y="1189"/>
                  </a:lnTo>
                  <a:lnTo>
                    <a:pt x="0" y="1194"/>
                  </a:lnTo>
                  <a:lnTo>
                    <a:pt x="0" y="1200"/>
                  </a:lnTo>
                  <a:lnTo>
                    <a:pt x="0" y="1208"/>
                  </a:lnTo>
                  <a:lnTo>
                    <a:pt x="0" y="1213"/>
                  </a:lnTo>
                  <a:lnTo>
                    <a:pt x="0" y="1219"/>
                  </a:lnTo>
                  <a:lnTo>
                    <a:pt x="0" y="1225"/>
                  </a:lnTo>
                  <a:lnTo>
                    <a:pt x="0" y="1230"/>
                  </a:lnTo>
                  <a:lnTo>
                    <a:pt x="0" y="1236"/>
                  </a:lnTo>
                  <a:lnTo>
                    <a:pt x="0" y="1242"/>
                  </a:lnTo>
                  <a:lnTo>
                    <a:pt x="2" y="1248"/>
                  </a:lnTo>
                  <a:lnTo>
                    <a:pt x="2" y="1253"/>
                  </a:lnTo>
                  <a:lnTo>
                    <a:pt x="2" y="1261"/>
                  </a:lnTo>
                  <a:lnTo>
                    <a:pt x="2" y="1267"/>
                  </a:lnTo>
                  <a:lnTo>
                    <a:pt x="2" y="1272"/>
                  </a:lnTo>
                  <a:lnTo>
                    <a:pt x="2" y="1280"/>
                  </a:lnTo>
                  <a:lnTo>
                    <a:pt x="2" y="1286"/>
                  </a:lnTo>
                  <a:lnTo>
                    <a:pt x="2" y="1291"/>
                  </a:lnTo>
                  <a:lnTo>
                    <a:pt x="4" y="1297"/>
                  </a:lnTo>
                  <a:lnTo>
                    <a:pt x="4" y="1303"/>
                  </a:lnTo>
                  <a:lnTo>
                    <a:pt x="6" y="1308"/>
                  </a:lnTo>
                  <a:lnTo>
                    <a:pt x="6" y="1314"/>
                  </a:lnTo>
                  <a:lnTo>
                    <a:pt x="6" y="1322"/>
                  </a:lnTo>
                  <a:lnTo>
                    <a:pt x="8" y="1326"/>
                  </a:lnTo>
                  <a:lnTo>
                    <a:pt x="8" y="1333"/>
                  </a:lnTo>
                  <a:lnTo>
                    <a:pt x="8" y="1337"/>
                  </a:lnTo>
                  <a:lnTo>
                    <a:pt x="10" y="1343"/>
                  </a:lnTo>
                  <a:lnTo>
                    <a:pt x="10" y="1346"/>
                  </a:lnTo>
                  <a:lnTo>
                    <a:pt x="12" y="1352"/>
                  </a:lnTo>
                  <a:lnTo>
                    <a:pt x="12" y="1362"/>
                  </a:lnTo>
                  <a:lnTo>
                    <a:pt x="14" y="1369"/>
                  </a:lnTo>
                  <a:lnTo>
                    <a:pt x="14" y="1375"/>
                  </a:lnTo>
                  <a:lnTo>
                    <a:pt x="15" y="1383"/>
                  </a:lnTo>
                  <a:lnTo>
                    <a:pt x="15" y="1388"/>
                  </a:lnTo>
                  <a:lnTo>
                    <a:pt x="17" y="1390"/>
                  </a:lnTo>
                  <a:lnTo>
                    <a:pt x="17" y="1392"/>
                  </a:lnTo>
                  <a:lnTo>
                    <a:pt x="17" y="1394"/>
                  </a:lnTo>
                  <a:lnTo>
                    <a:pt x="78" y="1398"/>
                  </a:lnTo>
                  <a:lnTo>
                    <a:pt x="78" y="1396"/>
                  </a:lnTo>
                  <a:lnTo>
                    <a:pt x="76" y="1392"/>
                  </a:lnTo>
                  <a:lnTo>
                    <a:pt x="74" y="1386"/>
                  </a:lnTo>
                  <a:lnTo>
                    <a:pt x="72" y="1379"/>
                  </a:lnTo>
                  <a:lnTo>
                    <a:pt x="71" y="1373"/>
                  </a:lnTo>
                  <a:lnTo>
                    <a:pt x="69" y="1369"/>
                  </a:lnTo>
                  <a:lnTo>
                    <a:pt x="67" y="1364"/>
                  </a:lnTo>
                  <a:lnTo>
                    <a:pt x="67" y="1360"/>
                  </a:lnTo>
                  <a:lnTo>
                    <a:pt x="65" y="1352"/>
                  </a:lnTo>
                  <a:lnTo>
                    <a:pt x="65" y="1346"/>
                  </a:lnTo>
                  <a:lnTo>
                    <a:pt x="63" y="1339"/>
                  </a:lnTo>
                  <a:lnTo>
                    <a:pt x="63" y="1333"/>
                  </a:lnTo>
                  <a:lnTo>
                    <a:pt x="61" y="1326"/>
                  </a:lnTo>
                  <a:lnTo>
                    <a:pt x="59" y="1318"/>
                  </a:lnTo>
                  <a:lnTo>
                    <a:pt x="57" y="1308"/>
                  </a:lnTo>
                  <a:lnTo>
                    <a:pt x="57" y="1301"/>
                  </a:lnTo>
                  <a:lnTo>
                    <a:pt x="55" y="1291"/>
                  </a:lnTo>
                  <a:lnTo>
                    <a:pt x="53" y="1282"/>
                  </a:lnTo>
                  <a:lnTo>
                    <a:pt x="53" y="1272"/>
                  </a:lnTo>
                  <a:lnTo>
                    <a:pt x="53" y="1263"/>
                  </a:lnTo>
                  <a:lnTo>
                    <a:pt x="53" y="1257"/>
                  </a:lnTo>
                  <a:lnTo>
                    <a:pt x="53" y="1253"/>
                  </a:lnTo>
                  <a:lnTo>
                    <a:pt x="53" y="1248"/>
                  </a:lnTo>
                  <a:lnTo>
                    <a:pt x="53" y="1242"/>
                  </a:lnTo>
                  <a:lnTo>
                    <a:pt x="53" y="1236"/>
                  </a:lnTo>
                  <a:lnTo>
                    <a:pt x="53" y="1230"/>
                  </a:lnTo>
                  <a:lnTo>
                    <a:pt x="53" y="1227"/>
                  </a:lnTo>
                  <a:lnTo>
                    <a:pt x="55" y="1221"/>
                  </a:lnTo>
                  <a:lnTo>
                    <a:pt x="55" y="1215"/>
                  </a:lnTo>
                  <a:lnTo>
                    <a:pt x="55" y="1210"/>
                  </a:lnTo>
                  <a:lnTo>
                    <a:pt x="55" y="1204"/>
                  </a:lnTo>
                  <a:lnTo>
                    <a:pt x="57" y="1198"/>
                  </a:lnTo>
                  <a:lnTo>
                    <a:pt x="57" y="1192"/>
                  </a:lnTo>
                  <a:lnTo>
                    <a:pt x="57" y="1187"/>
                  </a:lnTo>
                  <a:lnTo>
                    <a:pt x="59" y="1181"/>
                  </a:lnTo>
                  <a:lnTo>
                    <a:pt x="61" y="1175"/>
                  </a:lnTo>
                  <a:lnTo>
                    <a:pt x="61" y="1170"/>
                  </a:lnTo>
                  <a:lnTo>
                    <a:pt x="61" y="1164"/>
                  </a:lnTo>
                  <a:lnTo>
                    <a:pt x="63" y="1158"/>
                  </a:lnTo>
                  <a:lnTo>
                    <a:pt x="63" y="1153"/>
                  </a:lnTo>
                  <a:lnTo>
                    <a:pt x="63" y="1147"/>
                  </a:lnTo>
                  <a:lnTo>
                    <a:pt x="65" y="1141"/>
                  </a:lnTo>
                  <a:lnTo>
                    <a:pt x="65" y="1135"/>
                  </a:lnTo>
                  <a:lnTo>
                    <a:pt x="67" y="1132"/>
                  </a:lnTo>
                  <a:lnTo>
                    <a:pt x="67" y="1126"/>
                  </a:lnTo>
                  <a:lnTo>
                    <a:pt x="67" y="1120"/>
                  </a:lnTo>
                  <a:lnTo>
                    <a:pt x="67" y="1114"/>
                  </a:lnTo>
                  <a:lnTo>
                    <a:pt x="69" y="1109"/>
                  </a:lnTo>
                  <a:lnTo>
                    <a:pt x="71" y="1099"/>
                  </a:lnTo>
                  <a:lnTo>
                    <a:pt x="72" y="1092"/>
                  </a:lnTo>
                  <a:lnTo>
                    <a:pt x="72" y="1082"/>
                  </a:lnTo>
                  <a:lnTo>
                    <a:pt x="74" y="1073"/>
                  </a:lnTo>
                  <a:lnTo>
                    <a:pt x="74" y="1063"/>
                  </a:lnTo>
                  <a:lnTo>
                    <a:pt x="76" y="1056"/>
                  </a:lnTo>
                  <a:lnTo>
                    <a:pt x="78" y="1044"/>
                  </a:lnTo>
                  <a:lnTo>
                    <a:pt x="78" y="1037"/>
                  </a:lnTo>
                  <a:lnTo>
                    <a:pt x="80" y="1027"/>
                  </a:lnTo>
                  <a:lnTo>
                    <a:pt x="82" y="1019"/>
                  </a:lnTo>
                  <a:lnTo>
                    <a:pt x="82" y="1014"/>
                  </a:lnTo>
                  <a:lnTo>
                    <a:pt x="82" y="1010"/>
                  </a:lnTo>
                  <a:lnTo>
                    <a:pt x="82" y="1004"/>
                  </a:lnTo>
                  <a:lnTo>
                    <a:pt x="84" y="1000"/>
                  </a:lnTo>
                  <a:lnTo>
                    <a:pt x="84" y="989"/>
                  </a:lnTo>
                  <a:lnTo>
                    <a:pt x="86" y="981"/>
                  </a:lnTo>
                  <a:lnTo>
                    <a:pt x="86" y="976"/>
                  </a:lnTo>
                  <a:lnTo>
                    <a:pt x="86" y="972"/>
                  </a:lnTo>
                  <a:lnTo>
                    <a:pt x="86" y="966"/>
                  </a:lnTo>
                  <a:lnTo>
                    <a:pt x="88" y="962"/>
                  </a:lnTo>
                  <a:lnTo>
                    <a:pt x="88" y="957"/>
                  </a:lnTo>
                  <a:lnTo>
                    <a:pt x="88" y="951"/>
                  </a:lnTo>
                  <a:lnTo>
                    <a:pt x="90" y="945"/>
                  </a:lnTo>
                  <a:lnTo>
                    <a:pt x="90" y="941"/>
                  </a:lnTo>
                  <a:lnTo>
                    <a:pt x="90" y="936"/>
                  </a:lnTo>
                  <a:lnTo>
                    <a:pt x="91" y="930"/>
                  </a:lnTo>
                  <a:lnTo>
                    <a:pt x="91" y="924"/>
                  </a:lnTo>
                  <a:lnTo>
                    <a:pt x="91" y="919"/>
                  </a:lnTo>
                  <a:lnTo>
                    <a:pt x="91" y="913"/>
                  </a:lnTo>
                  <a:lnTo>
                    <a:pt x="93" y="907"/>
                  </a:lnTo>
                  <a:lnTo>
                    <a:pt x="93" y="900"/>
                  </a:lnTo>
                  <a:lnTo>
                    <a:pt x="93" y="896"/>
                  </a:lnTo>
                  <a:lnTo>
                    <a:pt x="93" y="888"/>
                  </a:lnTo>
                  <a:lnTo>
                    <a:pt x="95" y="883"/>
                  </a:lnTo>
                  <a:lnTo>
                    <a:pt x="95" y="875"/>
                  </a:lnTo>
                  <a:lnTo>
                    <a:pt x="95" y="869"/>
                  </a:lnTo>
                  <a:lnTo>
                    <a:pt x="95" y="862"/>
                  </a:lnTo>
                  <a:lnTo>
                    <a:pt x="97" y="856"/>
                  </a:lnTo>
                  <a:lnTo>
                    <a:pt x="97" y="848"/>
                  </a:lnTo>
                  <a:lnTo>
                    <a:pt x="99" y="843"/>
                  </a:lnTo>
                  <a:lnTo>
                    <a:pt x="99" y="835"/>
                  </a:lnTo>
                  <a:lnTo>
                    <a:pt x="99" y="827"/>
                  </a:lnTo>
                  <a:lnTo>
                    <a:pt x="99" y="820"/>
                  </a:lnTo>
                  <a:lnTo>
                    <a:pt x="99" y="814"/>
                  </a:lnTo>
                  <a:lnTo>
                    <a:pt x="99" y="807"/>
                  </a:lnTo>
                  <a:lnTo>
                    <a:pt x="99" y="801"/>
                  </a:lnTo>
                  <a:lnTo>
                    <a:pt x="99" y="795"/>
                  </a:lnTo>
                  <a:lnTo>
                    <a:pt x="101" y="789"/>
                  </a:lnTo>
                  <a:lnTo>
                    <a:pt x="101" y="784"/>
                  </a:lnTo>
                  <a:lnTo>
                    <a:pt x="101" y="776"/>
                  </a:lnTo>
                  <a:lnTo>
                    <a:pt x="101" y="770"/>
                  </a:lnTo>
                  <a:lnTo>
                    <a:pt x="101" y="765"/>
                  </a:lnTo>
                  <a:lnTo>
                    <a:pt x="101" y="761"/>
                  </a:lnTo>
                  <a:lnTo>
                    <a:pt x="101" y="755"/>
                  </a:lnTo>
                  <a:lnTo>
                    <a:pt x="101" y="749"/>
                  </a:lnTo>
                  <a:lnTo>
                    <a:pt x="101" y="746"/>
                  </a:lnTo>
                  <a:lnTo>
                    <a:pt x="101" y="740"/>
                  </a:lnTo>
                  <a:lnTo>
                    <a:pt x="101" y="734"/>
                  </a:lnTo>
                  <a:lnTo>
                    <a:pt x="101" y="729"/>
                  </a:lnTo>
                  <a:lnTo>
                    <a:pt x="101" y="725"/>
                  </a:lnTo>
                  <a:lnTo>
                    <a:pt x="101" y="715"/>
                  </a:lnTo>
                  <a:lnTo>
                    <a:pt x="101" y="706"/>
                  </a:lnTo>
                  <a:lnTo>
                    <a:pt x="99" y="696"/>
                  </a:lnTo>
                  <a:lnTo>
                    <a:pt x="99" y="687"/>
                  </a:lnTo>
                  <a:lnTo>
                    <a:pt x="99" y="679"/>
                  </a:lnTo>
                  <a:lnTo>
                    <a:pt x="99" y="670"/>
                  </a:lnTo>
                  <a:lnTo>
                    <a:pt x="99" y="664"/>
                  </a:lnTo>
                  <a:lnTo>
                    <a:pt x="99" y="660"/>
                  </a:lnTo>
                  <a:lnTo>
                    <a:pt x="99" y="654"/>
                  </a:lnTo>
                  <a:lnTo>
                    <a:pt x="99" y="651"/>
                  </a:lnTo>
                  <a:lnTo>
                    <a:pt x="97" y="641"/>
                  </a:lnTo>
                  <a:lnTo>
                    <a:pt x="97" y="632"/>
                  </a:lnTo>
                  <a:lnTo>
                    <a:pt x="97" y="626"/>
                  </a:lnTo>
                  <a:lnTo>
                    <a:pt x="97" y="620"/>
                  </a:lnTo>
                  <a:lnTo>
                    <a:pt x="97" y="616"/>
                  </a:lnTo>
                  <a:lnTo>
                    <a:pt x="97" y="611"/>
                  </a:lnTo>
                  <a:lnTo>
                    <a:pt x="97" y="605"/>
                  </a:lnTo>
                  <a:lnTo>
                    <a:pt x="97" y="601"/>
                  </a:lnTo>
                  <a:lnTo>
                    <a:pt x="97" y="596"/>
                  </a:lnTo>
                  <a:lnTo>
                    <a:pt x="97" y="590"/>
                  </a:lnTo>
                  <a:lnTo>
                    <a:pt x="97" y="584"/>
                  </a:lnTo>
                  <a:lnTo>
                    <a:pt x="97" y="576"/>
                  </a:lnTo>
                  <a:lnTo>
                    <a:pt x="97" y="571"/>
                  </a:lnTo>
                  <a:lnTo>
                    <a:pt x="97" y="565"/>
                  </a:lnTo>
                  <a:lnTo>
                    <a:pt x="97" y="559"/>
                  </a:lnTo>
                  <a:lnTo>
                    <a:pt x="97" y="552"/>
                  </a:lnTo>
                  <a:lnTo>
                    <a:pt x="97" y="546"/>
                  </a:lnTo>
                  <a:lnTo>
                    <a:pt x="97" y="540"/>
                  </a:lnTo>
                  <a:lnTo>
                    <a:pt x="97" y="533"/>
                  </a:lnTo>
                  <a:lnTo>
                    <a:pt x="97" y="525"/>
                  </a:lnTo>
                  <a:lnTo>
                    <a:pt x="97" y="519"/>
                  </a:lnTo>
                  <a:lnTo>
                    <a:pt x="97" y="512"/>
                  </a:lnTo>
                  <a:lnTo>
                    <a:pt x="97" y="504"/>
                  </a:lnTo>
                  <a:lnTo>
                    <a:pt x="99" y="497"/>
                  </a:lnTo>
                  <a:lnTo>
                    <a:pt x="99" y="487"/>
                  </a:lnTo>
                  <a:lnTo>
                    <a:pt x="99" y="481"/>
                  </a:lnTo>
                  <a:lnTo>
                    <a:pt x="99" y="472"/>
                  </a:lnTo>
                  <a:lnTo>
                    <a:pt x="99" y="462"/>
                  </a:lnTo>
                  <a:lnTo>
                    <a:pt x="99" y="455"/>
                  </a:lnTo>
                  <a:lnTo>
                    <a:pt x="99" y="445"/>
                  </a:lnTo>
                  <a:lnTo>
                    <a:pt x="99" y="436"/>
                  </a:lnTo>
                  <a:lnTo>
                    <a:pt x="99" y="426"/>
                  </a:lnTo>
                  <a:lnTo>
                    <a:pt x="99" y="419"/>
                  </a:lnTo>
                  <a:lnTo>
                    <a:pt x="99" y="409"/>
                  </a:lnTo>
                  <a:lnTo>
                    <a:pt x="97" y="398"/>
                  </a:lnTo>
                  <a:lnTo>
                    <a:pt x="97" y="390"/>
                  </a:lnTo>
                  <a:lnTo>
                    <a:pt x="97" y="379"/>
                  </a:lnTo>
                  <a:lnTo>
                    <a:pt x="97" y="369"/>
                  </a:lnTo>
                  <a:lnTo>
                    <a:pt x="95" y="360"/>
                  </a:lnTo>
                  <a:lnTo>
                    <a:pt x="95" y="350"/>
                  </a:lnTo>
                  <a:lnTo>
                    <a:pt x="95" y="339"/>
                  </a:lnTo>
                  <a:lnTo>
                    <a:pt x="95" y="331"/>
                  </a:lnTo>
                  <a:lnTo>
                    <a:pt x="93" y="320"/>
                  </a:lnTo>
                  <a:lnTo>
                    <a:pt x="93" y="310"/>
                  </a:lnTo>
                  <a:lnTo>
                    <a:pt x="91" y="301"/>
                  </a:lnTo>
                  <a:lnTo>
                    <a:pt x="91" y="289"/>
                  </a:lnTo>
                  <a:lnTo>
                    <a:pt x="91" y="280"/>
                  </a:lnTo>
                  <a:lnTo>
                    <a:pt x="90" y="270"/>
                  </a:lnTo>
                  <a:lnTo>
                    <a:pt x="90" y="259"/>
                  </a:lnTo>
                  <a:lnTo>
                    <a:pt x="90" y="250"/>
                  </a:lnTo>
                  <a:lnTo>
                    <a:pt x="88" y="240"/>
                  </a:lnTo>
                  <a:lnTo>
                    <a:pt x="86" y="231"/>
                  </a:lnTo>
                  <a:lnTo>
                    <a:pt x="86" y="219"/>
                  </a:lnTo>
                  <a:lnTo>
                    <a:pt x="86" y="210"/>
                  </a:lnTo>
                  <a:lnTo>
                    <a:pt x="84" y="200"/>
                  </a:lnTo>
                  <a:lnTo>
                    <a:pt x="82" y="192"/>
                  </a:lnTo>
                  <a:lnTo>
                    <a:pt x="82" y="181"/>
                  </a:lnTo>
                  <a:lnTo>
                    <a:pt x="82" y="173"/>
                  </a:lnTo>
                  <a:lnTo>
                    <a:pt x="80" y="16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8" y="137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4" y="113"/>
                  </a:lnTo>
                  <a:lnTo>
                    <a:pt x="74" y="105"/>
                  </a:lnTo>
                  <a:lnTo>
                    <a:pt x="72" y="97"/>
                  </a:lnTo>
                  <a:lnTo>
                    <a:pt x="71" y="90"/>
                  </a:lnTo>
                  <a:lnTo>
                    <a:pt x="71" y="82"/>
                  </a:lnTo>
                  <a:lnTo>
                    <a:pt x="69" y="75"/>
                  </a:lnTo>
                  <a:lnTo>
                    <a:pt x="69" y="69"/>
                  </a:lnTo>
                  <a:lnTo>
                    <a:pt x="67" y="61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4"/>
                  </a:lnTo>
                  <a:lnTo>
                    <a:pt x="65" y="39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3" y="21"/>
                  </a:lnTo>
                  <a:lnTo>
                    <a:pt x="63" y="14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5632560" y="1575720"/>
              <a:ext cx="291960" cy="23940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0" y="1"/>
                  </a:moveTo>
                  <a:lnTo>
                    <a:pt x="143" y="0"/>
                  </a:lnTo>
                  <a:lnTo>
                    <a:pt x="156" y="129"/>
                  </a:lnTo>
                  <a:lnTo>
                    <a:pt x="101" y="72"/>
                  </a:lnTo>
                  <a:lnTo>
                    <a:pt x="99" y="53"/>
                  </a:lnTo>
                  <a:lnTo>
                    <a:pt x="54" y="5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5632560" y="1575720"/>
              <a:ext cx="284400" cy="243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0" y="131"/>
                  </a:lnTo>
                  <a:lnTo>
                    <a:pt x="152" y="127"/>
                  </a:lnTo>
                  <a:lnTo>
                    <a:pt x="137" y="87"/>
                  </a:lnTo>
                  <a:lnTo>
                    <a:pt x="101" y="72"/>
                  </a:lnTo>
                  <a:lnTo>
                    <a:pt x="54" y="74"/>
                  </a:lnTo>
                  <a:lnTo>
                    <a:pt x="54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5692680" y="2099880"/>
              <a:ext cx="273240" cy="24372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0" y="2"/>
                  </a:moveTo>
                  <a:lnTo>
                    <a:pt x="138" y="0"/>
                  </a:lnTo>
                  <a:lnTo>
                    <a:pt x="144" y="129"/>
                  </a:lnTo>
                  <a:lnTo>
                    <a:pt x="95" y="70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5688360" y="20998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2" y="131"/>
                  </a:lnTo>
                  <a:lnTo>
                    <a:pt x="144" y="125"/>
                  </a:lnTo>
                  <a:lnTo>
                    <a:pt x="131" y="87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5692680" y="2681280"/>
              <a:ext cx="276840" cy="243000"/>
            </a:xfrm>
            <a:custGeom>
              <a:avLst/>
              <a:gdLst/>
              <a:ahLst/>
              <a:rect l="l" t="t" r="r" b="b"/>
              <a:pathLst>
                <a:path w="148" h="129">
                  <a:moveTo>
                    <a:pt x="0" y="0"/>
                  </a:moveTo>
                  <a:lnTo>
                    <a:pt x="140" y="0"/>
                  </a:lnTo>
                  <a:lnTo>
                    <a:pt x="148" y="129"/>
                  </a:lnTo>
                  <a:lnTo>
                    <a:pt x="97" y="70"/>
                  </a:lnTo>
                  <a:lnTo>
                    <a:pt x="97" y="51"/>
                  </a:lnTo>
                  <a:lnTo>
                    <a:pt x="51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5692680" y="26812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0" y="131"/>
                  </a:lnTo>
                  <a:lnTo>
                    <a:pt x="144" y="125"/>
                  </a:lnTo>
                  <a:lnTo>
                    <a:pt x="133" y="85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5677560" y="3247200"/>
              <a:ext cx="258120" cy="25812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3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5655240" y="3247200"/>
              <a:ext cx="269280" cy="250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7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5632560" y="3782520"/>
              <a:ext cx="265680" cy="2588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0" y="0"/>
                  </a:moveTo>
                  <a:lnTo>
                    <a:pt x="143" y="8"/>
                  </a:lnTo>
                  <a:lnTo>
                    <a:pt x="135" y="137"/>
                  </a:lnTo>
                  <a:lnTo>
                    <a:pt x="92" y="74"/>
                  </a:lnTo>
                  <a:lnTo>
                    <a:pt x="92" y="55"/>
                  </a:lnTo>
                  <a:lnTo>
                    <a:pt x="48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5613840" y="3778920"/>
              <a:ext cx="273240" cy="25488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5"/>
                  </a:lnTo>
                  <a:lnTo>
                    <a:pt x="101" y="76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0" name=""/>
          <p:cNvSpPr/>
          <p:nvPr/>
        </p:nvSpPr>
        <p:spPr>
          <a:xfrm>
            <a:off x="3432240" y="1884240"/>
            <a:ext cx="2303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66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1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2" name=""/>
          <p:cNvSpPr/>
          <p:nvPr/>
        </p:nvSpPr>
        <p:spPr>
          <a:xfrm>
            <a:off x="3548160" y="4054320"/>
            <a:ext cx="24271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4" name="" descr=""/>
          <p:cNvPicPr/>
          <p:nvPr/>
        </p:nvPicPr>
        <p:blipFill>
          <a:blip r:embed="rId1"/>
          <a:stretch/>
        </p:blipFill>
        <p:spPr>
          <a:xfrm>
            <a:off x="3619440" y="1716120"/>
            <a:ext cx="2206800" cy="2206440"/>
          </a:xfrm>
          <a:prstGeom prst="rect">
            <a:avLst/>
          </a:prstGeom>
          <a:ln w="0">
            <a:noFill/>
          </a:ln>
        </p:spPr>
      </p:pic>
      <p:sp>
        <p:nvSpPr>
          <p:cNvPr id="618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6" name=""/>
          <p:cNvSpPr/>
          <p:nvPr/>
        </p:nvSpPr>
        <p:spPr>
          <a:xfrm>
            <a:off x="3327480" y="473076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8" name=""/>
          <p:cNvGrpSpPr/>
          <p:nvPr/>
        </p:nvGrpSpPr>
        <p:grpSpPr>
          <a:xfrm>
            <a:off x="3165480" y="1249200"/>
            <a:ext cx="3038040" cy="3404880"/>
            <a:chOff x="3165480" y="1249200"/>
            <a:chExt cx="3038040" cy="3404880"/>
          </a:xfrm>
        </p:grpSpPr>
        <p:sp>
          <p:nvSpPr>
            <p:cNvPr id="6189" name=""/>
            <p:cNvSpPr/>
            <p:nvPr/>
          </p:nvSpPr>
          <p:spPr>
            <a:xfrm>
              <a:off x="3165480" y="1249200"/>
              <a:ext cx="3038040" cy="3040920"/>
            </a:xfrm>
            <a:custGeom>
              <a:avLst/>
              <a:gdLst/>
              <a:ahLst/>
              <a:rect l="l" t="t" r="r" b="b"/>
              <a:pathLst>
                <a:path w="2004" h="2005">
                  <a:moveTo>
                    <a:pt x="1003" y="0"/>
                  </a:moveTo>
                  <a:lnTo>
                    <a:pt x="995" y="0"/>
                  </a:lnTo>
                  <a:lnTo>
                    <a:pt x="987" y="0"/>
                  </a:lnTo>
                  <a:lnTo>
                    <a:pt x="978" y="0"/>
                  </a:lnTo>
                  <a:lnTo>
                    <a:pt x="970" y="1"/>
                  </a:lnTo>
                  <a:lnTo>
                    <a:pt x="961" y="1"/>
                  </a:lnTo>
                  <a:lnTo>
                    <a:pt x="952" y="1"/>
                  </a:lnTo>
                  <a:lnTo>
                    <a:pt x="943" y="2"/>
                  </a:lnTo>
                  <a:lnTo>
                    <a:pt x="935" y="2"/>
                  </a:lnTo>
                  <a:lnTo>
                    <a:pt x="887" y="7"/>
                  </a:lnTo>
                  <a:lnTo>
                    <a:pt x="838" y="14"/>
                  </a:lnTo>
                  <a:lnTo>
                    <a:pt x="791" y="23"/>
                  </a:lnTo>
                  <a:lnTo>
                    <a:pt x="744" y="33"/>
                  </a:lnTo>
                  <a:lnTo>
                    <a:pt x="699" y="47"/>
                  </a:lnTo>
                  <a:lnTo>
                    <a:pt x="654" y="62"/>
                  </a:lnTo>
                  <a:lnTo>
                    <a:pt x="610" y="80"/>
                  </a:lnTo>
                  <a:lnTo>
                    <a:pt x="569" y="99"/>
                  </a:lnTo>
                  <a:lnTo>
                    <a:pt x="528" y="120"/>
                  </a:lnTo>
                  <a:lnTo>
                    <a:pt x="487" y="143"/>
                  </a:lnTo>
                  <a:lnTo>
                    <a:pt x="448" y="167"/>
                  </a:lnTo>
                  <a:lnTo>
                    <a:pt x="410" y="194"/>
                  </a:lnTo>
                  <a:lnTo>
                    <a:pt x="374" y="221"/>
                  </a:lnTo>
                  <a:lnTo>
                    <a:pt x="339" y="251"/>
                  </a:lnTo>
                  <a:lnTo>
                    <a:pt x="305" y="282"/>
                  </a:lnTo>
                  <a:lnTo>
                    <a:pt x="273" y="315"/>
                  </a:lnTo>
                  <a:lnTo>
                    <a:pt x="243" y="348"/>
                  </a:lnTo>
                  <a:lnTo>
                    <a:pt x="213" y="384"/>
                  </a:lnTo>
                  <a:lnTo>
                    <a:pt x="187" y="421"/>
                  </a:lnTo>
                  <a:lnTo>
                    <a:pt x="160" y="457"/>
                  </a:lnTo>
                  <a:lnTo>
                    <a:pt x="136" y="497"/>
                  </a:lnTo>
                  <a:lnTo>
                    <a:pt x="114" y="537"/>
                  </a:lnTo>
                  <a:lnTo>
                    <a:pt x="93" y="578"/>
                  </a:lnTo>
                  <a:lnTo>
                    <a:pt x="75" y="620"/>
                  </a:lnTo>
                  <a:lnTo>
                    <a:pt x="59" y="664"/>
                  </a:lnTo>
                  <a:lnTo>
                    <a:pt x="44" y="707"/>
                  </a:lnTo>
                  <a:lnTo>
                    <a:pt x="31" y="752"/>
                  </a:lnTo>
                  <a:lnTo>
                    <a:pt x="21" y="798"/>
                  </a:lnTo>
                  <a:lnTo>
                    <a:pt x="13" y="845"/>
                  </a:lnTo>
                  <a:lnTo>
                    <a:pt x="6" y="892"/>
                  </a:lnTo>
                  <a:lnTo>
                    <a:pt x="2" y="939"/>
                  </a:lnTo>
                  <a:lnTo>
                    <a:pt x="0" y="987"/>
                  </a:lnTo>
                  <a:lnTo>
                    <a:pt x="0" y="1008"/>
                  </a:lnTo>
                  <a:lnTo>
                    <a:pt x="0" y="1029"/>
                  </a:lnTo>
                  <a:lnTo>
                    <a:pt x="1" y="1050"/>
                  </a:lnTo>
                  <a:lnTo>
                    <a:pt x="2" y="1070"/>
                  </a:lnTo>
                  <a:lnTo>
                    <a:pt x="9" y="1141"/>
                  </a:lnTo>
                  <a:lnTo>
                    <a:pt x="21" y="1209"/>
                  </a:lnTo>
                  <a:lnTo>
                    <a:pt x="37" y="1276"/>
                  </a:lnTo>
                  <a:lnTo>
                    <a:pt x="58" y="1340"/>
                  </a:lnTo>
                  <a:lnTo>
                    <a:pt x="83" y="1402"/>
                  </a:lnTo>
                  <a:lnTo>
                    <a:pt x="111" y="1462"/>
                  </a:lnTo>
                  <a:lnTo>
                    <a:pt x="144" y="1520"/>
                  </a:lnTo>
                  <a:lnTo>
                    <a:pt x="180" y="1575"/>
                  </a:lnTo>
                  <a:lnTo>
                    <a:pt x="198" y="1600"/>
                  </a:lnTo>
                  <a:lnTo>
                    <a:pt x="218" y="1626"/>
                  </a:lnTo>
                  <a:lnTo>
                    <a:pt x="239" y="1651"/>
                  </a:lnTo>
                  <a:lnTo>
                    <a:pt x="259" y="1674"/>
                  </a:lnTo>
                  <a:lnTo>
                    <a:pt x="281" y="1697"/>
                  </a:lnTo>
                  <a:lnTo>
                    <a:pt x="303" y="1720"/>
                  </a:lnTo>
                  <a:lnTo>
                    <a:pt x="326" y="1742"/>
                  </a:lnTo>
                  <a:lnTo>
                    <a:pt x="350" y="1763"/>
                  </a:lnTo>
                  <a:lnTo>
                    <a:pt x="374" y="1784"/>
                  </a:lnTo>
                  <a:lnTo>
                    <a:pt x="400" y="1803"/>
                  </a:lnTo>
                  <a:lnTo>
                    <a:pt x="425" y="1822"/>
                  </a:lnTo>
                  <a:lnTo>
                    <a:pt x="452" y="1840"/>
                  </a:lnTo>
                  <a:lnTo>
                    <a:pt x="478" y="1856"/>
                  </a:lnTo>
                  <a:lnTo>
                    <a:pt x="506" y="1874"/>
                  </a:lnTo>
                  <a:lnTo>
                    <a:pt x="533" y="1889"/>
                  </a:lnTo>
                  <a:lnTo>
                    <a:pt x="561" y="1902"/>
                  </a:lnTo>
                  <a:lnTo>
                    <a:pt x="590" y="1916"/>
                  </a:lnTo>
                  <a:lnTo>
                    <a:pt x="620" y="1929"/>
                  </a:lnTo>
                  <a:lnTo>
                    <a:pt x="650" y="1942"/>
                  </a:lnTo>
                  <a:lnTo>
                    <a:pt x="680" y="1952"/>
                  </a:lnTo>
                  <a:lnTo>
                    <a:pt x="711" y="1962"/>
                  </a:lnTo>
                  <a:lnTo>
                    <a:pt x="742" y="1970"/>
                  </a:lnTo>
                  <a:lnTo>
                    <a:pt x="773" y="1978"/>
                  </a:lnTo>
                  <a:lnTo>
                    <a:pt x="805" y="1985"/>
                  </a:lnTo>
                  <a:lnTo>
                    <a:pt x="837" y="1991"/>
                  </a:lnTo>
                  <a:lnTo>
                    <a:pt x="870" y="1997"/>
                  </a:lnTo>
                  <a:lnTo>
                    <a:pt x="902" y="2000"/>
                  </a:lnTo>
                  <a:lnTo>
                    <a:pt x="935" y="2003"/>
                  </a:lnTo>
                  <a:lnTo>
                    <a:pt x="969" y="2005"/>
                  </a:lnTo>
                  <a:lnTo>
                    <a:pt x="1002" y="2005"/>
                  </a:lnTo>
                  <a:lnTo>
                    <a:pt x="1035" y="2005"/>
                  </a:lnTo>
                  <a:lnTo>
                    <a:pt x="1070" y="2003"/>
                  </a:lnTo>
                  <a:lnTo>
                    <a:pt x="1085" y="2001"/>
                  </a:lnTo>
                  <a:lnTo>
                    <a:pt x="1101" y="2000"/>
                  </a:lnTo>
                  <a:lnTo>
                    <a:pt x="1116" y="1998"/>
                  </a:lnTo>
                  <a:lnTo>
                    <a:pt x="1132" y="1997"/>
                  </a:lnTo>
                  <a:lnTo>
                    <a:pt x="1147" y="1995"/>
                  </a:lnTo>
                  <a:lnTo>
                    <a:pt x="1162" y="1992"/>
                  </a:lnTo>
                  <a:lnTo>
                    <a:pt x="1178" y="1989"/>
                  </a:lnTo>
                  <a:lnTo>
                    <a:pt x="1193" y="1986"/>
                  </a:lnTo>
                  <a:lnTo>
                    <a:pt x="1208" y="1983"/>
                  </a:lnTo>
                  <a:lnTo>
                    <a:pt x="1223" y="1981"/>
                  </a:lnTo>
                  <a:lnTo>
                    <a:pt x="1238" y="1977"/>
                  </a:lnTo>
                  <a:lnTo>
                    <a:pt x="1253" y="1973"/>
                  </a:lnTo>
                  <a:lnTo>
                    <a:pt x="1268" y="1969"/>
                  </a:lnTo>
                  <a:lnTo>
                    <a:pt x="1283" y="1966"/>
                  </a:lnTo>
                  <a:lnTo>
                    <a:pt x="1297" y="1961"/>
                  </a:lnTo>
                  <a:lnTo>
                    <a:pt x="1312" y="1956"/>
                  </a:lnTo>
                  <a:lnTo>
                    <a:pt x="1383" y="1930"/>
                  </a:lnTo>
                  <a:lnTo>
                    <a:pt x="1452" y="1899"/>
                  </a:lnTo>
                  <a:lnTo>
                    <a:pt x="1519" y="1862"/>
                  </a:lnTo>
                  <a:lnTo>
                    <a:pt x="1581" y="1821"/>
                  </a:lnTo>
                  <a:lnTo>
                    <a:pt x="1641" y="1774"/>
                  </a:lnTo>
                  <a:lnTo>
                    <a:pt x="1696" y="1725"/>
                  </a:lnTo>
                  <a:lnTo>
                    <a:pt x="1748" y="1671"/>
                  </a:lnTo>
                  <a:lnTo>
                    <a:pt x="1797" y="1613"/>
                  </a:lnTo>
                  <a:lnTo>
                    <a:pt x="1839" y="1553"/>
                  </a:lnTo>
                  <a:lnTo>
                    <a:pt x="1878" y="1489"/>
                  </a:lnTo>
                  <a:lnTo>
                    <a:pt x="1913" y="1422"/>
                  </a:lnTo>
                  <a:lnTo>
                    <a:pt x="1942" y="1352"/>
                  </a:lnTo>
                  <a:lnTo>
                    <a:pt x="1965" y="1280"/>
                  </a:lnTo>
                  <a:lnTo>
                    <a:pt x="1983" y="1205"/>
                  </a:lnTo>
                  <a:lnTo>
                    <a:pt x="1996" y="1129"/>
                  </a:lnTo>
                  <a:lnTo>
                    <a:pt x="2003" y="1052"/>
                  </a:lnTo>
                  <a:lnTo>
                    <a:pt x="2004" y="1023"/>
                  </a:lnTo>
                  <a:lnTo>
                    <a:pt x="2004" y="994"/>
                  </a:lnTo>
                  <a:lnTo>
                    <a:pt x="2003" y="964"/>
                  </a:lnTo>
                  <a:lnTo>
                    <a:pt x="2002" y="936"/>
                  </a:lnTo>
                  <a:lnTo>
                    <a:pt x="1997" y="886"/>
                  </a:lnTo>
                  <a:lnTo>
                    <a:pt x="1990" y="838"/>
                  </a:lnTo>
                  <a:lnTo>
                    <a:pt x="1981" y="790"/>
                  </a:lnTo>
                  <a:lnTo>
                    <a:pt x="1969" y="743"/>
                  </a:lnTo>
                  <a:lnTo>
                    <a:pt x="1957" y="697"/>
                  </a:lnTo>
                  <a:lnTo>
                    <a:pt x="1941" y="652"/>
                  </a:lnTo>
                  <a:lnTo>
                    <a:pt x="1923" y="608"/>
                  </a:lnTo>
                  <a:lnTo>
                    <a:pt x="1904" y="566"/>
                  </a:lnTo>
                  <a:lnTo>
                    <a:pt x="1883" y="524"/>
                  </a:lnTo>
                  <a:lnTo>
                    <a:pt x="1860" y="484"/>
                  </a:lnTo>
                  <a:lnTo>
                    <a:pt x="1835" y="445"/>
                  </a:lnTo>
                  <a:lnTo>
                    <a:pt x="1808" y="407"/>
                  </a:lnTo>
                  <a:lnTo>
                    <a:pt x="1779" y="370"/>
                  </a:lnTo>
                  <a:lnTo>
                    <a:pt x="1749" y="335"/>
                  </a:lnTo>
                  <a:lnTo>
                    <a:pt x="1718" y="301"/>
                  </a:lnTo>
                  <a:lnTo>
                    <a:pt x="1685" y="268"/>
                  </a:lnTo>
                  <a:lnTo>
                    <a:pt x="1650" y="239"/>
                  </a:lnTo>
                  <a:lnTo>
                    <a:pt x="1615" y="210"/>
                  </a:lnTo>
                  <a:lnTo>
                    <a:pt x="1578" y="182"/>
                  </a:lnTo>
                  <a:lnTo>
                    <a:pt x="1540" y="157"/>
                  </a:lnTo>
                  <a:lnTo>
                    <a:pt x="1499" y="133"/>
                  </a:lnTo>
                  <a:lnTo>
                    <a:pt x="1459" y="111"/>
                  </a:lnTo>
                  <a:lnTo>
                    <a:pt x="1418" y="90"/>
                  </a:lnTo>
                  <a:lnTo>
                    <a:pt x="1375" y="71"/>
                  </a:lnTo>
                  <a:lnTo>
                    <a:pt x="1331" y="55"/>
                  </a:lnTo>
                  <a:lnTo>
                    <a:pt x="1286" y="41"/>
                  </a:lnTo>
                  <a:lnTo>
                    <a:pt x="1240" y="29"/>
                  </a:lnTo>
                  <a:lnTo>
                    <a:pt x="1194" y="18"/>
                  </a:lnTo>
                  <a:lnTo>
                    <a:pt x="1148" y="10"/>
                  </a:lnTo>
                  <a:lnTo>
                    <a:pt x="1100" y="5"/>
                  </a:lnTo>
                  <a:lnTo>
                    <a:pt x="1052" y="1"/>
                  </a:lnTo>
                  <a:lnTo>
                    <a:pt x="100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686120" y="4238640"/>
              <a:ext cx="394200" cy="415440"/>
            </a:xfrm>
            <a:custGeom>
              <a:avLst/>
              <a:gdLst/>
              <a:ahLst/>
              <a:rect l="l" t="t" r="r" b="b"/>
              <a:pathLst>
                <a:path w="261" h="273">
                  <a:moveTo>
                    <a:pt x="0" y="35"/>
                  </a:moveTo>
                  <a:lnTo>
                    <a:pt x="5" y="46"/>
                  </a:lnTo>
                  <a:lnTo>
                    <a:pt x="10" y="58"/>
                  </a:lnTo>
                  <a:lnTo>
                    <a:pt x="15" y="71"/>
                  </a:lnTo>
                  <a:lnTo>
                    <a:pt x="20" y="82"/>
                  </a:lnTo>
                  <a:lnTo>
                    <a:pt x="25" y="101"/>
                  </a:lnTo>
                  <a:lnTo>
                    <a:pt x="31" y="126"/>
                  </a:lnTo>
                  <a:lnTo>
                    <a:pt x="37" y="154"/>
                  </a:lnTo>
                  <a:lnTo>
                    <a:pt x="43" y="184"/>
                  </a:lnTo>
                  <a:lnTo>
                    <a:pt x="47" y="211"/>
                  </a:lnTo>
                  <a:lnTo>
                    <a:pt x="51" y="233"/>
                  </a:lnTo>
                  <a:lnTo>
                    <a:pt x="53" y="249"/>
                  </a:lnTo>
                  <a:lnTo>
                    <a:pt x="54" y="255"/>
                  </a:lnTo>
                  <a:lnTo>
                    <a:pt x="73" y="253"/>
                  </a:lnTo>
                  <a:lnTo>
                    <a:pt x="74" y="254"/>
                  </a:lnTo>
                  <a:lnTo>
                    <a:pt x="76" y="256"/>
                  </a:lnTo>
                  <a:lnTo>
                    <a:pt x="79" y="261"/>
                  </a:lnTo>
                  <a:lnTo>
                    <a:pt x="86" y="264"/>
                  </a:lnTo>
                  <a:lnTo>
                    <a:pt x="93" y="269"/>
                  </a:lnTo>
                  <a:lnTo>
                    <a:pt x="104" y="271"/>
                  </a:lnTo>
                  <a:lnTo>
                    <a:pt x="114" y="273"/>
                  </a:lnTo>
                  <a:lnTo>
                    <a:pt x="128" y="272"/>
                  </a:lnTo>
                  <a:lnTo>
                    <a:pt x="134" y="271"/>
                  </a:lnTo>
                  <a:lnTo>
                    <a:pt x="138" y="270"/>
                  </a:lnTo>
                  <a:lnTo>
                    <a:pt x="144" y="268"/>
                  </a:lnTo>
                  <a:lnTo>
                    <a:pt x="150" y="265"/>
                  </a:lnTo>
                  <a:lnTo>
                    <a:pt x="157" y="263"/>
                  </a:lnTo>
                  <a:lnTo>
                    <a:pt x="162" y="260"/>
                  </a:lnTo>
                  <a:lnTo>
                    <a:pt x="168" y="256"/>
                  </a:lnTo>
                  <a:lnTo>
                    <a:pt x="175" y="251"/>
                  </a:lnTo>
                  <a:lnTo>
                    <a:pt x="184" y="243"/>
                  </a:lnTo>
                  <a:lnTo>
                    <a:pt x="195" y="232"/>
                  </a:lnTo>
                  <a:lnTo>
                    <a:pt x="206" y="217"/>
                  </a:lnTo>
                  <a:lnTo>
                    <a:pt x="218" y="197"/>
                  </a:lnTo>
                  <a:lnTo>
                    <a:pt x="229" y="175"/>
                  </a:lnTo>
                  <a:lnTo>
                    <a:pt x="240" y="150"/>
                  </a:lnTo>
                  <a:lnTo>
                    <a:pt x="249" y="121"/>
                  </a:lnTo>
                  <a:lnTo>
                    <a:pt x="256" y="91"/>
                  </a:lnTo>
                  <a:lnTo>
                    <a:pt x="259" y="69"/>
                  </a:lnTo>
                  <a:lnTo>
                    <a:pt x="260" y="48"/>
                  </a:lnTo>
                  <a:lnTo>
                    <a:pt x="261" y="25"/>
                  </a:lnTo>
                  <a:lnTo>
                    <a:pt x="260" y="0"/>
                  </a:lnTo>
                  <a:lnTo>
                    <a:pt x="249" y="4"/>
                  </a:lnTo>
                  <a:lnTo>
                    <a:pt x="237" y="6"/>
                  </a:lnTo>
                  <a:lnTo>
                    <a:pt x="225" y="10"/>
                  </a:lnTo>
                  <a:lnTo>
                    <a:pt x="213" y="12"/>
                  </a:lnTo>
                  <a:lnTo>
                    <a:pt x="202" y="14"/>
                  </a:lnTo>
                  <a:lnTo>
                    <a:pt x="189" y="16"/>
                  </a:lnTo>
                  <a:lnTo>
                    <a:pt x="177" y="19"/>
                  </a:lnTo>
                  <a:lnTo>
                    <a:pt x="166" y="21"/>
                  </a:lnTo>
                  <a:lnTo>
                    <a:pt x="153" y="23"/>
                  </a:lnTo>
                  <a:lnTo>
                    <a:pt x="142" y="25"/>
                  </a:lnTo>
                  <a:lnTo>
                    <a:pt x="129" y="27"/>
                  </a:lnTo>
                  <a:lnTo>
                    <a:pt x="117" y="28"/>
                  </a:lnTo>
                  <a:lnTo>
                    <a:pt x="105" y="29"/>
                  </a:lnTo>
                  <a:lnTo>
                    <a:pt x="92" y="30"/>
                  </a:lnTo>
                  <a:lnTo>
                    <a:pt x="81" y="31"/>
                  </a:lnTo>
                  <a:lnTo>
                    <a:pt x="68" y="33"/>
                  </a:lnTo>
                  <a:lnTo>
                    <a:pt x="60" y="34"/>
                  </a:lnTo>
                  <a:lnTo>
                    <a:pt x="51" y="34"/>
                  </a:lnTo>
                  <a:lnTo>
                    <a:pt x="43" y="35"/>
                  </a:lnTo>
                  <a:lnTo>
                    <a:pt x="3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165480" y="1779840"/>
              <a:ext cx="2685600" cy="2510280"/>
            </a:xfrm>
            <a:custGeom>
              <a:avLst/>
              <a:gdLst/>
              <a:ahLst/>
              <a:rect l="l" t="t" r="r" b="b"/>
              <a:pathLst>
                <a:path w="1770" h="1655">
                  <a:moveTo>
                    <a:pt x="44" y="946"/>
                  </a:moveTo>
                  <a:lnTo>
                    <a:pt x="81" y="945"/>
                  </a:lnTo>
                  <a:lnTo>
                    <a:pt x="114" y="945"/>
                  </a:lnTo>
                  <a:lnTo>
                    <a:pt x="145" y="947"/>
                  </a:lnTo>
                  <a:lnTo>
                    <a:pt x="175" y="950"/>
                  </a:lnTo>
                  <a:lnTo>
                    <a:pt x="201" y="954"/>
                  </a:lnTo>
                  <a:lnTo>
                    <a:pt x="225" y="959"/>
                  </a:lnTo>
                  <a:lnTo>
                    <a:pt x="247" y="964"/>
                  </a:lnTo>
                  <a:lnTo>
                    <a:pt x="266" y="969"/>
                  </a:lnTo>
                  <a:lnTo>
                    <a:pt x="282" y="975"/>
                  </a:lnTo>
                  <a:lnTo>
                    <a:pt x="297" y="981"/>
                  </a:lnTo>
                  <a:lnTo>
                    <a:pt x="309" y="987"/>
                  </a:lnTo>
                  <a:lnTo>
                    <a:pt x="319" y="991"/>
                  </a:lnTo>
                  <a:lnTo>
                    <a:pt x="327" y="996"/>
                  </a:lnTo>
                  <a:lnTo>
                    <a:pt x="332" y="999"/>
                  </a:lnTo>
                  <a:lnTo>
                    <a:pt x="335" y="1000"/>
                  </a:lnTo>
                  <a:lnTo>
                    <a:pt x="336" y="1002"/>
                  </a:lnTo>
                  <a:lnTo>
                    <a:pt x="341" y="1006"/>
                  </a:lnTo>
                  <a:lnTo>
                    <a:pt x="354" y="1021"/>
                  </a:lnTo>
                  <a:lnTo>
                    <a:pt x="372" y="1041"/>
                  </a:lnTo>
                  <a:lnTo>
                    <a:pt x="397" y="1066"/>
                  </a:lnTo>
                  <a:lnTo>
                    <a:pt x="425" y="1094"/>
                  </a:lnTo>
                  <a:lnTo>
                    <a:pt x="455" y="1120"/>
                  </a:lnTo>
                  <a:lnTo>
                    <a:pt x="486" y="1146"/>
                  </a:lnTo>
                  <a:lnTo>
                    <a:pt x="517" y="1166"/>
                  </a:lnTo>
                  <a:lnTo>
                    <a:pt x="544" y="1181"/>
                  </a:lnTo>
                  <a:lnTo>
                    <a:pt x="566" y="1194"/>
                  </a:lnTo>
                  <a:lnTo>
                    <a:pt x="584" y="1206"/>
                  </a:lnTo>
                  <a:lnTo>
                    <a:pt x="600" y="1215"/>
                  </a:lnTo>
                  <a:lnTo>
                    <a:pt x="615" y="1224"/>
                  </a:lnTo>
                  <a:lnTo>
                    <a:pt x="629" y="1232"/>
                  </a:lnTo>
                  <a:lnTo>
                    <a:pt x="644" y="1242"/>
                  </a:lnTo>
                  <a:lnTo>
                    <a:pt x="659" y="1253"/>
                  </a:lnTo>
                  <a:lnTo>
                    <a:pt x="667" y="1261"/>
                  </a:lnTo>
                  <a:lnTo>
                    <a:pt x="677" y="1270"/>
                  </a:lnTo>
                  <a:lnTo>
                    <a:pt x="689" y="1279"/>
                  </a:lnTo>
                  <a:lnTo>
                    <a:pt x="700" y="1290"/>
                  </a:lnTo>
                  <a:lnTo>
                    <a:pt x="712" y="1299"/>
                  </a:lnTo>
                  <a:lnTo>
                    <a:pt x="723" y="1308"/>
                  </a:lnTo>
                  <a:lnTo>
                    <a:pt x="734" y="1317"/>
                  </a:lnTo>
                  <a:lnTo>
                    <a:pt x="743" y="1326"/>
                  </a:lnTo>
                  <a:lnTo>
                    <a:pt x="772" y="1358"/>
                  </a:lnTo>
                  <a:lnTo>
                    <a:pt x="798" y="1388"/>
                  </a:lnTo>
                  <a:lnTo>
                    <a:pt x="821" y="1416"/>
                  </a:lnTo>
                  <a:lnTo>
                    <a:pt x="841" y="1443"/>
                  </a:lnTo>
                  <a:lnTo>
                    <a:pt x="858" y="1465"/>
                  </a:lnTo>
                  <a:lnTo>
                    <a:pt x="870" y="1482"/>
                  </a:lnTo>
                  <a:lnTo>
                    <a:pt x="878" y="1494"/>
                  </a:lnTo>
                  <a:lnTo>
                    <a:pt x="880" y="1497"/>
                  </a:lnTo>
                  <a:lnTo>
                    <a:pt x="881" y="1498"/>
                  </a:lnTo>
                  <a:lnTo>
                    <a:pt x="883" y="1503"/>
                  </a:lnTo>
                  <a:lnTo>
                    <a:pt x="888" y="1510"/>
                  </a:lnTo>
                  <a:lnTo>
                    <a:pt x="895" y="1518"/>
                  </a:lnTo>
                  <a:lnTo>
                    <a:pt x="902" y="1527"/>
                  </a:lnTo>
                  <a:lnTo>
                    <a:pt x="910" y="1536"/>
                  </a:lnTo>
                  <a:lnTo>
                    <a:pt x="919" y="1547"/>
                  </a:lnTo>
                  <a:lnTo>
                    <a:pt x="928" y="1556"/>
                  </a:lnTo>
                  <a:lnTo>
                    <a:pt x="936" y="1564"/>
                  </a:lnTo>
                  <a:lnTo>
                    <a:pt x="946" y="1572"/>
                  </a:lnTo>
                  <a:lnTo>
                    <a:pt x="955" y="1582"/>
                  </a:lnTo>
                  <a:lnTo>
                    <a:pt x="965" y="1594"/>
                  </a:lnTo>
                  <a:lnTo>
                    <a:pt x="974" y="1608"/>
                  </a:lnTo>
                  <a:lnTo>
                    <a:pt x="985" y="1621"/>
                  </a:lnTo>
                  <a:lnTo>
                    <a:pt x="994" y="1638"/>
                  </a:lnTo>
                  <a:lnTo>
                    <a:pt x="1002" y="1655"/>
                  </a:lnTo>
                  <a:lnTo>
                    <a:pt x="1010" y="1655"/>
                  </a:lnTo>
                  <a:lnTo>
                    <a:pt x="1019" y="1655"/>
                  </a:lnTo>
                  <a:lnTo>
                    <a:pt x="1027" y="1655"/>
                  </a:lnTo>
                  <a:lnTo>
                    <a:pt x="1037" y="1655"/>
                  </a:lnTo>
                  <a:lnTo>
                    <a:pt x="1045" y="1655"/>
                  </a:lnTo>
                  <a:lnTo>
                    <a:pt x="1053" y="1654"/>
                  </a:lnTo>
                  <a:lnTo>
                    <a:pt x="1062" y="1654"/>
                  </a:lnTo>
                  <a:lnTo>
                    <a:pt x="1070" y="1653"/>
                  </a:lnTo>
                  <a:lnTo>
                    <a:pt x="1083" y="1651"/>
                  </a:lnTo>
                  <a:lnTo>
                    <a:pt x="1094" y="1650"/>
                  </a:lnTo>
                  <a:lnTo>
                    <a:pt x="1107" y="1649"/>
                  </a:lnTo>
                  <a:lnTo>
                    <a:pt x="1119" y="1648"/>
                  </a:lnTo>
                  <a:lnTo>
                    <a:pt x="1131" y="1647"/>
                  </a:lnTo>
                  <a:lnTo>
                    <a:pt x="1144" y="1645"/>
                  </a:lnTo>
                  <a:lnTo>
                    <a:pt x="1155" y="1643"/>
                  </a:lnTo>
                  <a:lnTo>
                    <a:pt x="1168" y="1641"/>
                  </a:lnTo>
                  <a:lnTo>
                    <a:pt x="1179" y="1639"/>
                  </a:lnTo>
                  <a:lnTo>
                    <a:pt x="1191" y="1636"/>
                  </a:lnTo>
                  <a:lnTo>
                    <a:pt x="1204" y="1634"/>
                  </a:lnTo>
                  <a:lnTo>
                    <a:pt x="1215" y="1632"/>
                  </a:lnTo>
                  <a:lnTo>
                    <a:pt x="1227" y="1630"/>
                  </a:lnTo>
                  <a:lnTo>
                    <a:pt x="1239" y="1626"/>
                  </a:lnTo>
                  <a:lnTo>
                    <a:pt x="1251" y="1624"/>
                  </a:lnTo>
                  <a:lnTo>
                    <a:pt x="1262" y="1620"/>
                  </a:lnTo>
                  <a:lnTo>
                    <a:pt x="1260" y="1600"/>
                  </a:lnTo>
                  <a:lnTo>
                    <a:pt x="1256" y="1578"/>
                  </a:lnTo>
                  <a:lnTo>
                    <a:pt x="1252" y="1556"/>
                  </a:lnTo>
                  <a:lnTo>
                    <a:pt x="1246" y="1534"/>
                  </a:lnTo>
                  <a:lnTo>
                    <a:pt x="1238" y="1511"/>
                  </a:lnTo>
                  <a:lnTo>
                    <a:pt x="1228" y="1489"/>
                  </a:lnTo>
                  <a:lnTo>
                    <a:pt x="1216" y="1466"/>
                  </a:lnTo>
                  <a:lnTo>
                    <a:pt x="1202" y="1443"/>
                  </a:lnTo>
                  <a:lnTo>
                    <a:pt x="1200" y="1439"/>
                  </a:lnTo>
                  <a:lnTo>
                    <a:pt x="1194" y="1428"/>
                  </a:lnTo>
                  <a:lnTo>
                    <a:pt x="1185" y="1412"/>
                  </a:lnTo>
                  <a:lnTo>
                    <a:pt x="1175" y="1390"/>
                  </a:lnTo>
                  <a:lnTo>
                    <a:pt x="1162" y="1366"/>
                  </a:lnTo>
                  <a:lnTo>
                    <a:pt x="1148" y="1339"/>
                  </a:lnTo>
                  <a:lnTo>
                    <a:pt x="1134" y="1313"/>
                  </a:lnTo>
                  <a:lnTo>
                    <a:pt x="1121" y="1286"/>
                  </a:lnTo>
                  <a:lnTo>
                    <a:pt x="1103" y="1245"/>
                  </a:lnTo>
                  <a:lnTo>
                    <a:pt x="1098" y="1219"/>
                  </a:lnTo>
                  <a:lnTo>
                    <a:pt x="1096" y="1200"/>
                  </a:lnTo>
                  <a:lnTo>
                    <a:pt x="1095" y="1180"/>
                  </a:lnTo>
                  <a:lnTo>
                    <a:pt x="1098" y="1174"/>
                  </a:lnTo>
                  <a:lnTo>
                    <a:pt x="1100" y="1169"/>
                  </a:lnTo>
                  <a:lnTo>
                    <a:pt x="1102" y="1163"/>
                  </a:lnTo>
                  <a:lnTo>
                    <a:pt x="1107" y="1157"/>
                  </a:lnTo>
                  <a:lnTo>
                    <a:pt x="1114" y="1150"/>
                  </a:lnTo>
                  <a:lnTo>
                    <a:pt x="1126" y="1142"/>
                  </a:lnTo>
                  <a:lnTo>
                    <a:pt x="1146" y="1133"/>
                  </a:lnTo>
                  <a:lnTo>
                    <a:pt x="1174" y="1123"/>
                  </a:lnTo>
                  <a:lnTo>
                    <a:pt x="1197" y="1116"/>
                  </a:lnTo>
                  <a:lnTo>
                    <a:pt x="1220" y="1111"/>
                  </a:lnTo>
                  <a:lnTo>
                    <a:pt x="1242" y="1108"/>
                  </a:lnTo>
                  <a:lnTo>
                    <a:pt x="1263" y="1106"/>
                  </a:lnTo>
                  <a:lnTo>
                    <a:pt x="1285" y="1106"/>
                  </a:lnTo>
                  <a:lnTo>
                    <a:pt x="1307" y="1106"/>
                  </a:lnTo>
                  <a:lnTo>
                    <a:pt x="1328" y="1109"/>
                  </a:lnTo>
                  <a:lnTo>
                    <a:pt x="1350" y="1110"/>
                  </a:lnTo>
                  <a:lnTo>
                    <a:pt x="1370" y="1112"/>
                  </a:lnTo>
                  <a:lnTo>
                    <a:pt x="1392" y="1114"/>
                  </a:lnTo>
                  <a:lnTo>
                    <a:pt x="1413" y="1116"/>
                  </a:lnTo>
                  <a:lnTo>
                    <a:pt x="1435" y="1117"/>
                  </a:lnTo>
                  <a:lnTo>
                    <a:pt x="1456" y="1117"/>
                  </a:lnTo>
                  <a:lnTo>
                    <a:pt x="1478" y="1116"/>
                  </a:lnTo>
                  <a:lnTo>
                    <a:pt x="1499" y="1112"/>
                  </a:lnTo>
                  <a:lnTo>
                    <a:pt x="1521" y="1108"/>
                  </a:lnTo>
                  <a:lnTo>
                    <a:pt x="1536" y="1103"/>
                  </a:lnTo>
                  <a:lnTo>
                    <a:pt x="1549" y="1097"/>
                  </a:lnTo>
                  <a:lnTo>
                    <a:pt x="1561" y="1090"/>
                  </a:lnTo>
                  <a:lnTo>
                    <a:pt x="1572" y="1083"/>
                  </a:lnTo>
                  <a:lnTo>
                    <a:pt x="1582" y="1074"/>
                  </a:lnTo>
                  <a:lnTo>
                    <a:pt x="1594" y="1064"/>
                  </a:lnTo>
                  <a:lnTo>
                    <a:pt x="1608" y="1052"/>
                  </a:lnTo>
                  <a:lnTo>
                    <a:pt x="1623" y="1038"/>
                  </a:lnTo>
                  <a:lnTo>
                    <a:pt x="1643" y="1020"/>
                  </a:lnTo>
                  <a:lnTo>
                    <a:pt x="1665" y="1002"/>
                  </a:lnTo>
                  <a:lnTo>
                    <a:pt x="1685" y="983"/>
                  </a:lnTo>
                  <a:lnTo>
                    <a:pt x="1704" y="966"/>
                  </a:lnTo>
                  <a:lnTo>
                    <a:pt x="1722" y="951"/>
                  </a:lnTo>
                  <a:lnTo>
                    <a:pt x="1736" y="936"/>
                  </a:lnTo>
                  <a:lnTo>
                    <a:pt x="1747" y="923"/>
                  </a:lnTo>
                  <a:lnTo>
                    <a:pt x="1754" y="912"/>
                  </a:lnTo>
                  <a:lnTo>
                    <a:pt x="1761" y="893"/>
                  </a:lnTo>
                  <a:lnTo>
                    <a:pt x="1764" y="870"/>
                  </a:lnTo>
                  <a:lnTo>
                    <a:pt x="1767" y="845"/>
                  </a:lnTo>
                  <a:lnTo>
                    <a:pt x="1764" y="817"/>
                  </a:lnTo>
                  <a:lnTo>
                    <a:pt x="1762" y="801"/>
                  </a:lnTo>
                  <a:lnTo>
                    <a:pt x="1759" y="785"/>
                  </a:lnTo>
                  <a:lnTo>
                    <a:pt x="1755" y="770"/>
                  </a:lnTo>
                  <a:lnTo>
                    <a:pt x="1749" y="755"/>
                  </a:lnTo>
                  <a:lnTo>
                    <a:pt x="1742" y="742"/>
                  </a:lnTo>
                  <a:lnTo>
                    <a:pt x="1733" y="730"/>
                  </a:lnTo>
                  <a:lnTo>
                    <a:pt x="1721" y="719"/>
                  </a:lnTo>
                  <a:lnTo>
                    <a:pt x="1706" y="711"/>
                  </a:lnTo>
                  <a:lnTo>
                    <a:pt x="1709" y="709"/>
                  </a:lnTo>
                  <a:lnTo>
                    <a:pt x="1716" y="704"/>
                  </a:lnTo>
                  <a:lnTo>
                    <a:pt x="1727" y="694"/>
                  </a:lnTo>
                  <a:lnTo>
                    <a:pt x="1740" y="679"/>
                  </a:lnTo>
                  <a:lnTo>
                    <a:pt x="1752" y="659"/>
                  </a:lnTo>
                  <a:lnTo>
                    <a:pt x="1762" y="633"/>
                  </a:lnTo>
                  <a:lnTo>
                    <a:pt x="1769" y="602"/>
                  </a:lnTo>
                  <a:lnTo>
                    <a:pt x="1770" y="563"/>
                  </a:lnTo>
                  <a:lnTo>
                    <a:pt x="1767" y="537"/>
                  </a:lnTo>
                  <a:lnTo>
                    <a:pt x="1760" y="518"/>
                  </a:lnTo>
                  <a:lnTo>
                    <a:pt x="1752" y="504"/>
                  </a:lnTo>
                  <a:lnTo>
                    <a:pt x="1741" y="493"/>
                  </a:lnTo>
                  <a:lnTo>
                    <a:pt x="1730" y="485"/>
                  </a:lnTo>
                  <a:lnTo>
                    <a:pt x="1717" y="478"/>
                  </a:lnTo>
                  <a:lnTo>
                    <a:pt x="1704" y="470"/>
                  </a:lnTo>
                  <a:lnTo>
                    <a:pt x="1693" y="461"/>
                  </a:lnTo>
                  <a:lnTo>
                    <a:pt x="1695" y="460"/>
                  </a:lnTo>
                  <a:lnTo>
                    <a:pt x="1703" y="454"/>
                  </a:lnTo>
                  <a:lnTo>
                    <a:pt x="1713" y="445"/>
                  </a:lnTo>
                  <a:lnTo>
                    <a:pt x="1723" y="432"/>
                  </a:lnTo>
                  <a:lnTo>
                    <a:pt x="1731" y="414"/>
                  </a:lnTo>
                  <a:lnTo>
                    <a:pt x="1737" y="391"/>
                  </a:lnTo>
                  <a:lnTo>
                    <a:pt x="1738" y="363"/>
                  </a:lnTo>
                  <a:lnTo>
                    <a:pt x="1732" y="329"/>
                  </a:lnTo>
                  <a:lnTo>
                    <a:pt x="1724" y="304"/>
                  </a:lnTo>
                  <a:lnTo>
                    <a:pt x="1714" y="286"/>
                  </a:lnTo>
                  <a:lnTo>
                    <a:pt x="1701" y="275"/>
                  </a:lnTo>
                  <a:lnTo>
                    <a:pt x="1687" y="265"/>
                  </a:lnTo>
                  <a:lnTo>
                    <a:pt x="1672" y="258"/>
                  </a:lnTo>
                  <a:lnTo>
                    <a:pt x="1656" y="253"/>
                  </a:lnTo>
                  <a:lnTo>
                    <a:pt x="1641" y="247"/>
                  </a:lnTo>
                  <a:lnTo>
                    <a:pt x="1626" y="239"/>
                  </a:lnTo>
                  <a:lnTo>
                    <a:pt x="1627" y="233"/>
                  </a:lnTo>
                  <a:lnTo>
                    <a:pt x="1630" y="218"/>
                  </a:lnTo>
                  <a:lnTo>
                    <a:pt x="1631" y="196"/>
                  </a:lnTo>
                  <a:lnTo>
                    <a:pt x="1630" y="170"/>
                  </a:lnTo>
                  <a:lnTo>
                    <a:pt x="1627" y="155"/>
                  </a:lnTo>
                  <a:lnTo>
                    <a:pt x="1623" y="141"/>
                  </a:lnTo>
                  <a:lnTo>
                    <a:pt x="1617" y="126"/>
                  </a:lnTo>
                  <a:lnTo>
                    <a:pt x="1610" y="111"/>
                  </a:lnTo>
                  <a:lnTo>
                    <a:pt x="1600" y="97"/>
                  </a:lnTo>
                  <a:lnTo>
                    <a:pt x="1586" y="84"/>
                  </a:lnTo>
                  <a:lnTo>
                    <a:pt x="1571" y="73"/>
                  </a:lnTo>
                  <a:lnTo>
                    <a:pt x="1551" y="62"/>
                  </a:lnTo>
                  <a:lnTo>
                    <a:pt x="1539" y="57"/>
                  </a:lnTo>
                  <a:lnTo>
                    <a:pt x="1523" y="50"/>
                  </a:lnTo>
                  <a:lnTo>
                    <a:pt x="1505" y="44"/>
                  </a:lnTo>
                  <a:lnTo>
                    <a:pt x="1486" y="37"/>
                  </a:lnTo>
                  <a:lnTo>
                    <a:pt x="1465" y="31"/>
                  </a:lnTo>
                  <a:lnTo>
                    <a:pt x="1442" y="24"/>
                  </a:lnTo>
                  <a:lnTo>
                    <a:pt x="1418" y="19"/>
                  </a:lnTo>
                  <a:lnTo>
                    <a:pt x="1394" y="13"/>
                  </a:lnTo>
                  <a:lnTo>
                    <a:pt x="1367" y="8"/>
                  </a:lnTo>
                  <a:lnTo>
                    <a:pt x="1341" y="5"/>
                  </a:lnTo>
                  <a:lnTo>
                    <a:pt x="1313" y="3"/>
                  </a:lnTo>
                  <a:lnTo>
                    <a:pt x="1285" y="0"/>
                  </a:lnTo>
                  <a:lnTo>
                    <a:pt x="1258" y="0"/>
                  </a:lnTo>
                  <a:lnTo>
                    <a:pt x="1230" y="1"/>
                  </a:lnTo>
                  <a:lnTo>
                    <a:pt x="1202" y="4"/>
                  </a:lnTo>
                  <a:lnTo>
                    <a:pt x="1176" y="8"/>
                  </a:lnTo>
                  <a:lnTo>
                    <a:pt x="1144" y="15"/>
                  </a:lnTo>
                  <a:lnTo>
                    <a:pt x="1114" y="21"/>
                  </a:lnTo>
                  <a:lnTo>
                    <a:pt x="1085" y="27"/>
                  </a:lnTo>
                  <a:lnTo>
                    <a:pt x="1057" y="31"/>
                  </a:lnTo>
                  <a:lnTo>
                    <a:pt x="1032" y="36"/>
                  </a:lnTo>
                  <a:lnTo>
                    <a:pt x="1007" y="41"/>
                  </a:lnTo>
                  <a:lnTo>
                    <a:pt x="984" y="44"/>
                  </a:lnTo>
                  <a:lnTo>
                    <a:pt x="962" y="48"/>
                  </a:lnTo>
                  <a:lnTo>
                    <a:pt x="942" y="51"/>
                  </a:lnTo>
                  <a:lnTo>
                    <a:pt x="923" y="53"/>
                  </a:lnTo>
                  <a:lnTo>
                    <a:pt x="905" y="57"/>
                  </a:lnTo>
                  <a:lnTo>
                    <a:pt x="889" y="59"/>
                  </a:lnTo>
                  <a:lnTo>
                    <a:pt x="874" y="60"/>
                  </a:lnTo>
                  <a:lnTo>
                    <a:pt x="860" y="62"/>
                  </a:lnTo>
                  <a:lnTo>
                    <a:pt x="848" y="65"/>
                  </a:lnTo>
                  <a:lnTo>
                    <a:pt x="837" y="66"/>
                  </a:lnTo>
                  <a:lnTo>
                    <a:pt x="791" y="74"/>
                  </a:lnTo>
                  <a:lnTo>
                    <a:pt x="751" y="83"/>
                  </a:lnTo>
                  <a:lnTo>
                    <a:pt x="715" y="91"/>
                  </a:lnTo>
                  <a:lnTo>
                    <a:pt x="685" y="101"/>
                  </a:lnTo>
                  <a:lnTo>
                    <a:pt x="660" y="111"/>
                  </a:lnTo>
                  <a:lnTo>
                    <a:pt x="638" y="120"/>
                  </a:lnTo>
                  <a:lnTo>
                    <a:pt x="619" y="129"/>
                  </a:lnTo>
                  <a:lnTo>
                    <a:pt x="602" y="139"/>
                  </a:lnTo>
                  <a:lnTo>
                    <a:pt x="587" y="148"/>
                  </a:lnTo>
                  <a:lnTo>
                    <a:pt x="574" y="157"/>
                  </a:lnTo>
                  <a:lnTo>
                    <a:pt x="560" y="166"/>
                  </a:lnTo>
                  <a:lnTo>
                    <a:pt x="547" y="174"/>
                  </a:lnTo>
                  <a:lnTo>
                    <a:pt x="533" y="182"/>
                  </a:lnTo>
                  <a:lnTo>
                    <a:pt x="518" y="190"/>
                  </a:lnTo>
                  <a:lnTo>
                    <a:pt x="501" y="197"/>
                  </a:lnTo>
                  <a:lnTo>
                    <a:pt x="481" y="203"/>
                  </a:lnTo>
                  <a:lnTo>
                    <a:pt x="468" y="207"/>
                  </a:lnTo>
                  <a:lnTo>
                    <a:pt x="452" y="210"/>
                  </a:lnTo>
                  <a:lnTo>
                    <a:pt x="433" y="213"/>
                  </a:lnTo>
                  <a:lnTo>
                    <a:pt x="411" y="216"/>
                  </a:lnTo>
                  <a:lnTo>
                    <a:pt x="388" y="219"/>
                  </a:lnTo>
                  <a:lnTo>
                    <a:pt x="363" y="223"/>
                  </a:lnTo>
                  <a:lnTo>
                    <a:pt x="336" y="225"/>
                  </a:lnTo>
                  <a:lnTo>
                    <a:pt x="310" y="227"/>
                  </a:lnTo>
                  <a:lnTo>
                    <a:pt x="281" y="230"/>
                  </a:lnTo>
                  <a:lnTo>
                    <a:pt x="252" y="232"/>
                  </a:lnTo>
                  <a:lnTo>
                    <a:pt x="224" y="234"/>
                  </a:lnTo>
                  <a:lnTo>
                    <a:pt x="195" y="235"/>
                  </a:lnTo>
                  <a:lnTo>
                    <a:pt x="167" y="238"/>
                  </a:lnTo>
                  <a:lnTo>
                    <a:pt x="139" y="239"/>
                  </a:lnTo>
                  <a:lnTo>
                    <a:pt x="114" y="239"/>
                  </a:lnTo>
                  <a:lnTo>
                    <a:pt x="89" y="240"/>
                  </a:lnTo>
                  <a:lnTo>
                    <a:pt x="68" y="284"/>
                  </a:lnTo>
                  <a:lnTo>
                    <a:pt x="51" y="331"/>
                  </a:lnTo>
                  <a:lnTo>
                    <a:pt x="35" y="382"/>
                  </a:lnTo>
                  <a:lnTo>
                    <a:pt x="22" y="435"/>
                  </a:lnTo>
                  <a:lnTo>
                    <a:pt x="13" y="490"/>
                  </a:lnTo>
                  <a:lnTo>
                    <a:pt x="6" y="545"/>
                  </a:lnTo>
                  <a:lnTo>
                    <a:pt x="1" y="602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0" y="682"/>
                  </a:lnTo>
                  <a:lnTo>
                    <a:pt x="0" y="695"/>
                  </a:lnTo>
                  <a:lnTo>
                    <a:pt x="1" y="708"/>
                  </a:lnTo>
                  <a:lnTo>
                    <a:pt x="1" y="711"/>
                  </a:lnTo>
                  <a:lnTo>
                    <a:pt x="1" y="714"/>
                  </a:lnTo>
                  <a:lnTo>
                    <a:pt x="1" y="717"/>
                  </a:lnTo>
                  <a:lnTo>
                    <a:pt x="2" y="720"/>
                  </a:lnTo>
                  <a:lnTo>
                    <a:pt x="5" y="749"/>
                  </a:lnTo>
                  <a:lnTo>
                    <a:pt x="8" y="779"/>
                  </a:lnTo>
                  <a:lnTo>
                    <a:pt x="12" y="808"/>
                  </a:lnTo>
                  <a:lnTo>
                    <a:pt x="16" y="836"/>
                  </a:lnTo>
                  <a:lnTo>
                    <a:pt x="22" y="864"/>
                  </a:lnTo>
                  <a:lnTo>
                    <a:pt x="29" y="892"/>
                  </a:lnTo>
                  <a:lnTo>
                    <a:pt x="36" y="920"/>
                  </a:lnTo>
                  <a:lnTo>
                    <a:pt x="44" y="9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995720" y="2733120"/>
              <a:ext cx="284760" cy="124560"/>
            </a:xfrm>
            <a:custGeom>
              <a:avLst/>
              <a:gdLst/>
              <a:ahLst/>
              <a:rect l="l" t="t" r="r" b="b"/>
              <a:pathLst>
                <a:path w="189" h="82">
                  <a:moveTo>
                    <a:pt x="0" y="52"/>
                  </a:moveTo>
                  <a:lnTo>
                    <a:pt x="0" y="53"/>
                  </a:lnTo>
                  <a:lnTo>
                    <a:pt x="1" y="56"/>
                  </a:lnTo>
                  <a:lnTo>
                    <a:pt x="3" y="59"/>
                  </a:lnTo>
                  <a:lnTo>
                    <a:pt x="7" y="64"/>
                  </a:lnTo>
                  <a:lnTo>
                    <a:pt x="14" y="68"/>
                  </a:lnTo>
                  <a:lnTo>
                    <a:pt x="25" y="73"/>
                  </a:lnTo>
                  <a:lnTo>
                    <a:pt x="39" y="76"/>
                  </a:lnTo>
                  <a:lnTo>
                    <a:pt x="59" y="80"/>
                  </a:lnTo>
                  <a:lnTo>
                    <a:pt x="81" y="82"/>
                  </a:lnTo>
                  <a:lnTo>
                    <a:pt x="102" y="82"/>
                  </a:lnTo>
                  <a:lnTo>
                    <a:pt x="122" y="82"/>
                  </a:lnTo>
                  <a:lnTo>
                    <a:pt x="140" y="80"/>
                  </a:lnTo>
                  <a:lnTo>
                    <a:pt x="158" y="75"/>
                  </a:lnTo>
                  <a:lnTo>
                    <a:pt x="170" y="67"/>
                  </a:lnTo>
                  <a:lnTo>
                    <a:pt x="181" y="58"/>
                  </a:lnTo>
                  <a:lnTo>
                    <a:pt x="188" y="45"/>
                  </a:lnTo>
                  <a:lnTo>
                    <a:pt x="189" y="34"/>
                  </a:lnTo>
                  <a:lnTo>
                    <a:pt x="188" y="23"/>
                  </a:lnTo>
                  <a:lnTo>
                    <a:pt x="184" y="14"/>
                  </a:lnTo>
                  <a:lnTo>
                    <a:pt x="177" y="7"/>
                  </a:lnTo>
                  <a:lnTo>
                    <a:pt x="169" y="3"/>
                  </a:lnTo>
                  <a:lnTo>
                    <a:pt x="160" y="0"/>
                  </a:lnTo>
                  <a:lnTo>
                    <a:pt x="151" y="1"/>
                  </a:lnTo>
                  <a:lnTo>
                    <a:pt x="140" y="7"/>
                  </a:lnTo>
                  <a:lnTo>
                    <a:pt x="130" y="15"/>
                  </a:lnTo>
                  <a:lnTo>
                    <a:pt x="121" y="24"/>
                  </a:lnTo>
                  <a:lnTo>
                    <a:pt x="109" y="33"/>
                  </a:lnTo>
                  <a:lnTo>
                    <a:pt x="97" y="39"/>
                  </a:lnTo>
                  <a:lnTo>
                    <a:pt x="79" y="46"/>
                  </a:lnTo>
                  <a:lnTo>
                    <a:pt x="59" y="51"/>
                  </a:lnTo>
                  <a:lnTo>
                    <a:pt x="32" y="5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5022720" y="2396520"/>
              <a:ext cx="194760" cy="9684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0" y="39"/>
                  </a:moveTo>
                  <a:lnTo>
                    <a:pt x="4" y="39"/>
                  </a:lnTo>
                  <a:lnTo>
                    <a:pt x="15" y="39"/>
                  </a:lnTo>
                  <a:lnTo>
                    <a:pt x="30" y="39"/>
                  </a:lnTo>
                  <a:lnTo>
                    <a:pt x="50" y="37"/>
                  </a:lnTo>
                  <a:lnTo>
                    <a:pt x="69" y="33"/>
                  </a:lnTo>
                  <a:lnTo>
                    <a:pt x="90" y="26"/>
                  </a:lnTo>
                  <a:lnTo>
                    <a:pt x="108" y="15"/>
                  </a:lnTo>
                  <a:lnTo>
                    <a:pt x="123" y="0"/>
                  </a:lnTo>
                  <a:lnTo>
                    <a:pt x="125" y="2"/>
                  </a:lnTo>
                  <a:lnTo>
                    <a:pt x="126" y="7"/>
                  </a:lnTo>
                  <a:lnTo>
                    <a:pt x="128" y="14"/>
                  </a:lnTo>
                  <a:lnTo>
                    <a:pt x="129" y="23"/>
                  </a:lnTo>
                  <a:lnTo>
                    <a:pt x="128" y="32"/>
                  </a:lnTo>
                  <a:lnTo>
                    <a:pt x="125" y="42"/>
                  </a:lnTo>
                  <a:lnTo>
                    <a:pt x="118" y="51"/>
                  </a:lnTo>
                  <a:lnTo>
                    <a:pt x="106" y="57"/>
                  </a:lnTo>
                  <a:lnTo>
                    <a:pt x="91" y="62"/>
                  </a:lnTo>
                  <a:lnTo>
                    <a:pt x="75" y="63"/>
                  </a:lnTo>
                  <a:lnTo>
                    <a:pt x="59" y="63"/>
                  </a:lnTo>
                  <a:lnTo>
                    <a:pt x="43" y="60"/>
                  </a:lnTo>
                  <a:lnTo>
                    <a:pt x="28" y="56"/>
                  </a:lnTo>
                  <a:lnTo>
                    <a:pt x="16" y="51"/>
                  </a:lnTo>
                  <a:lnTo>
                    <a:pt x="6" y="4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5013720" y="2065320"/>
              <a:ext cx="158040" cy="8784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0" y="28"/>
                  </a:moveTo>
                  <a:lnTo>
                    <a:pt x="4" y="28"/>
                  </a:lnTo>
                  <a:lnTo>
                    <a:pt x="14" y="27"/>
                  </a:lnTo>
                  <a:lnTo>
                    <a:pt x="28" y="24"/>
                  </a:lnTo>
                  <a:lnTo>
                    <a:pt x="45" y="22"/>
                  </a:lnTo>
                  <a:lnTo>
                    <a:pt x="62" y="19"/>
                  </a:lnTo>
                  <a:lnTo>
                    <a:pt x="78" y="14"/>
                  </a:lnTo>
                  <a:lnTo>
                    <a:pt x="90" y="9"/>
                  </a:lnTo>
                  <a:lnTo>
                    <a:pt x="97" y="4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5" y="8"/>
                  </a:lnTo>
                  <a:lnTo>
                    <a:pt x="104" y="16"/>
                  </a:lnTo>
                  <a:lnTo>
                    <a:pt x="100" y="27"/>
                  </a:lnTo>
                  <a:lnTo>
                    <a:pt x="91" y="37"/>
                  </a:lnTo>
                  <a:lnTo>
                    <a:pt x="78" y="47"/>
                  </a:lnTo>
                  <a:lnTo>
                    <a:pt x="59" y="55"/>
                  </a:lnTo>
                  <a:lnTo>
                    <a:pt x="47" y="58"/>
                  </a:lnTo>
                  <a:lnTo>
                    <a:pt x="35" y="57"/>
                  </a:lnTo>
                  <a:lnTo>
                    <a:pt x="25" y="52"/>
                  </a:lnTo>
                  <a:lnTo>
                    <a:pt x="17" y="46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488480" y="3109680"/>
              <a:ext cx="1253880" cy="609840"/>
            </a:xfrm>
            <a:custGeom>
              <a:avLst/>
              <a:gdLst/>
              <a:ahLst/>
              <a:rect l="l" t="t" r="r" b="b"/>
              <a:pathLst>
                <a:path w="826" h="402">
                  <a:moveTo>
                    <a:pt x="826" y="14"/>
                  </a:moveTo>
                  <a:lnTo>
                    <a:pt x="825" y="14"/>
                  </a:lnTo>
                  <a:lnTo>
                    <a:pt x="822" y="16"/>
                  </a:lnTo>
                  <a:lnTo>
                    <a:pt x="818" y="17"/>
                  </a:lnTo>
                  <a:lnTo>
                    <a:pt x="812" y="21"/>
                  </a:lnTo>
                  <a:lnTo>
                    <a:pt x="805" y="23"/>
                  </a:lnTo>
                  <a:lnTo>
                    <a:pt x="796" y="26"/>
                  </a:lnTo>
                  <a:lnTo>
                    <a:pt x="785" y="29"/>
                  </a:lnTo>
                  <a:lnTo>
                    <a:pt x="773" y="32"/>
                  </a:lnTo>
                  <a:lnTo>
                    <a:pt x="759" y="35"/>
                  </a:lnTo>
                  <a:lnTo>
                    <a:pt x="744" y="36"/>
                  </a:lnTo>
                  <a:lnTo>
                    <a:pt x="727" y="37"/>
                  </a:lnTo>
                  <a:lnTo>
                    <a:pt x="707" y="37"/>
                  </a:lnTo>
                  <a:lnTo>
                    <a:pt x="688" y="36"/>
                  </a:lnTo>
                  <a:lnTo>
                    <a:pt x="666" y="33"/>
                  </a:lnTo>
                  <a:lnTo>
                    <a:pt x="643" y="30"/>
                  </a:lnTo>
                  <a:lnTo>
                    <a:pt x="617" y="24"/>
                  </a:lnTo>
                  <a:lnTo>
                    <a:pt x="593" y="18"/>
                  </a:lnTo>
                  <a:lnTo>
                    <a:pt x="573" y="13"/>
                  </a:lnTo>
                  <a:lnTo>
                    <a:pt x="557" y="9"/>
                  </a:lnTo>
                  <a:lnTo>
                    <a:pt x="544" y="6"/>
                  </a:lnTo>
                  <a:lnTo>
                    <a:pt x="534" y="3"/>
                  </a:lnTo>
                  <a:lnTo>
                    <a:pt x="527" y="1"/>
                  </a:lnTo>
                  <a:lnTo>
                    <a:pt x="523" y="0"/>
                  </a:lnTo>
                  <a:lnTo>
                    <a:pt x="522" y="0"/>
                  </a:lnTo>
                  <a:lnTo>
                    <a:pt x="521" y="0"/>
                  </a:lnTo>
                  <a:lnTo>
                    <a:pt x="517" y="2"/>
                  </a:lnTo>
                  <a:lnTo>
                    <a:pt x="512" y="5"/>
                  </a:lnTo>
                  <a:lnTo>
                    <a:pt x="506" y="7"/>
                  </a:lnTo>
                  <a:lnTo>
                    <a:pt x="497" y="10"/>
                  </a:lnTo>
                  <a:lnTo>
                    <a:pt x="487" y="14"/>
                  </a:lnTo>
                  <a:lnTo>
                    <a:pt x="477" y="17"/>
                  </a:lnTo>
                  <a:lnTo>
                    <a:pt x="464" y="20"/>
                  </a:lnTo>
                  <a:lnTo>
                    <a:pt x="450" y="22"/>
                  </a:lnTo>
                  <a:lnTo>
                    <a:pt x="435" y="24"/>
                  </a:lnTo>
                  <a:lnTo>
                    <a:pt x="420" y="24"/>
                  </a:lnTo>
                  <a:lnTo>
                    <a:pt x="404" y="24"/>
                  </a:lnTo>
                  <a:lnTo>
                    <a:pt x="387" y="23"/>
                  </a:lnTo>
                  <a:lnTo>
                    <a:pt x="371" y="20"/>
                  </a:lnTo>
                  <a:lnTo>
                    <a:pt x="352" y="14"/>
                  </a:lnTo>
                  <a:lnTo>
                    <a:pt x="335" y="7"/>
                  </a:lnTo>
                  <a:lnTo>
                    <a:pt x="340" y="16"/>
                  </a:lnTo>
                  <a:lnTo>
                    <a:pt x="348" y="37"/>
                  </a:lnTo>
                  <a:lnTo>
                    <a:pt x="351" y="61"/>
                  </a:lnTo>
                  <a:lnTo>
                    <a:pt x="343" y="81"/>
                  </a:lnTo>
                  <a:lnTo>
                    <a:pt x="335" y="86"/>
                  </a:lnTo>
                  <a:lnTo>
                    <a:pt x="326" y="90"/>
                  </a:lnTo>
                  <a:lnTo>
                    <a:pt x="316" y="93"/>
                  </a:lnTo>
                  <a:lnTo>
                    <a:pt x="305" y="97"/>
                  </a:lnTo>
                  <a:lnTo>
                    <a:pt x="293" y="99"/>
                  </a:lnTo>
                  <a:lnTo>
                    <a:pt x="280" y="101"/>
                  </a:lnTo>
                  <a:lnTo>
                    <a:pt x="266" y="104"/>
                  </a:lnTo>
                  <a:lnTo>
                    <a:pt x="253" y="106"/>
                  </a:lnTo>
                  <a:lnTo>
                    <a:pt x="238" y="108"/>
                  </a:lnTo>
                  <a:lnTo>
                    <a:pt x="225" y="112"/>
                  </a:lnTo>
                  <a:lnTo>
                    <a:pt x="211" y="115"/>
                  </a:lnTo>
                  <a:lnTo>
                    <a:pt x="197" y="120"/>
                  </a:lnTo>
                  <a:lnTo>
                    <a:pt x="183" y="126"/>
                  </a:lnTo>
                  <a:lnTo>
                    <a:pt x="169" y="131"/>
                  </a:lnTo>
                  <a:lnTo>
                    <a:pt x="157" y="141"/>
                  </a:lnTo>
                  <a:lnTo>
                    <a:pt x="145" y="150"/>
                  </a:lnTo>
                  <a:lnTo>
                    <a:pt x="121" y="166"/>
                  </a:lnTo>
                  <a:lnTo>
                    <a:pt x="93" y="175"/>
                  </a:lnTo>
                  <a:lnTo>
                    <a:pt x="67" y="179"/>
                  </a:lnTo>
                  <a:lnTo>
                    <a:pt x="41" y="182"/>
                  </a:lnTo>
                  <a:lnTo>
                    <a:pt x="20" y="187"/>
                  </a:lnTo>
                  <a:lnTo>
                    <a:pt x="6" y="196"/>
                  </a:lnTo>
                  <a:lnTo>
                    <a:pt x="0" y="213"/>
                  </a:lnTo>
                  <a:lnTo>
                    <a:pt x="5" y="243"/>
                  </a:lnTo>
                  <a:lnTo>
                    <a:pt x="12" y="260"/>
                  </a:lnTo>
                  <a:lnTo>
                    <a:pt x="18" y="274"/>
                  </a:lnTo>
                  <a:lnTo>
                    <a:pt x="28" y="286"/>
                  </a:lnTo>
                  <a:lnTo>
                    <a:pt x="38" y="296"/>
                  </a:lnTo>
                  <a:lnTo>
                    <a:pt x="50" y="304"/>
                  </a:lnTo>
                  <a:lnTo>
                    <a:pt x="62" y="311"/>
                  </a:lnTo>
                  <a:lnTo>
                    <a:pt x="75" y="318"/>
                  </a:lnTo>
                  <a:lnTo>
                    <a:pt x="89" y="324"/>
                  </a:lnTo>
                  <a:lnTo>
                    <a:pt x="104" y="331"/>
                  </a:lnTo>
                  <a:lnTo>
                    <a:pt x="117" y="336"/>
                  </a:lnTo>
                  <a:lnTo>
                    <a:pt x="132" y="343"/>
                  </a:lnTo>
                  <a:lnTo>
                    <a:pt x="149" y="351"/>
                  </a:lnTo>
                  <a:lnTo>
                    <a:pt x="164" y="362"/>
                  </a:lnTo>
                  <a:lnTo>
                    <a:pt x="179" y="373"/>
                  </a:lnTo>
                  <a:lnTo>
                    <a:pt x="193" y="386"/>
                  </a:lnTo>
                  <a:lnTo>
                    <a:pt x="208" y="402"/>
                  </a:lnTo>
                  <a:lnTo>
                    <a:pt x="207" y="397"/>
                  </a:lnTo>
                  <a:lnTo>
                    <a:pt x="203" y="386"/>
                  </a:lnTo>
                  <a:lnTo>
                    <a:pt x="197" y="368"/>
                  </a:lnTo>
                  <a:lnTo>
                    <a:pt x="192" y="347"/>
                  </a:lnTo>
                  <a:lnTo>
                    <a:pt x="188" y="325"/>
                  </a:lnTo>
                  <a:lnTo>
                    <a:pt x="187" y="303"/>
                  </a:lnTo>
                  <a:lnTo>
                    <a:pt x="189" y="283"/>
                  </a:lnTo>
                  <a:lnTo>
                    <a:pt x="196" y="268"/>
                  </a:lnTo>
                  <a:lnTo>
                    <a:pt x="205" y="257"/>
                  </a:lnTo>
                  <a:lnTo>
                    <a:pt x="213" y="247"/>
                  </a:lnTo>
                  <a:lnTo>
                    <a:pt x="222" y="237"/>
                  </a:lnTo>
                  <a:lnTo>
                    <a:pt x="233" y="228"/>
                  </a:lnTo>
                  <a:lnTo>
                    <a:pt x="245" y="221"/>
                  </a:lnTo>
                  <a:lnTo>
                    <a:pt x="261" y="213"/>
                  </a:lnTo>
                  <a:lnTo>
                    <a:pt x="282" y="207"/>
                  </a:lnTo>
                  <a:lnTo>
                    <a:pt x="309" y="202"/>
                  </a:lnTo>
                  <a:lnTo>
                    <a:pt x="342" y="197"/>
                  </a:lnTo>
                  <a:lnTo>
                    <a:pt x="373" y="195"/>
                  </a:lnTo>
                  <a:lnTo>
                    <a:pt x="404" y="192"/>
                  </a:lnTo>
                  <a:lnTo>
                    <a:pt x="433" y="192"/>
                  </a:lnTo>
                  <a:lnTo>
                    <a:pt x="459" y="194"/>
                  </a:lnTo>
                  <a:lnTo>
                    <a:pt x="485" y="195"/>
                  </a:lnTo>
                  <a:lnTo>
                    <a:pt x="509" y="197"/>
                  </a:lnTo>
                  <a:lnTo>
                    <a:pt x="531" y="198"/>
                  </a:lnTo>
                  <a:lnTo>
                    <a:pt x="552" y="199"/>
                  </a:lnTo>
                  <a:lnTo>
                    <a:pt x="571" y="200"/>
                  </a:lnTo>
                  <a:lnTo>
                    <a:pt x="590" y="200"/>
                  </a:lnTo>
                  <a:lnTo>
                    <a:pt x="606" y="199"/>
                  </a:lnTo>
                  <a:lnTo>
                    <a:pt x="620" y="197"/>
                  </a:lnTo>
                  <a:lnTo>
                    <a:pt x="633" y="192"/>
                  </a:lnTo>
                  <a:lnTo>
                    <a:pt x="645" y="185"/>
                  </a:lnTo>
                  <a:lnTo>
                    <a:pt x="655" y="176"/>
                  </a:lnTo>
                  <a:lnTo>
                    <a:pt x="684" y="149"/>
                  </a:lnTo>
                  <a:lnTo>
                    <a:pt x="714" y="126"/>
                  </a:lnTo>
                  <a:lnTo>
                    <a:pt x="743" y="106"/>
                  </a:lnTo>
                  <a:lnTo>
                    <a:pt x="769" y="89"/>
                  </a:lnTo>
                  <a:lnTo>
                    <a:pt x="792" y="71"/>
                  </a:lnTo>
                  <a:lnTo>
                    <a:pt x="811" y="54"/>
                  </a:lnTo>
                  <a:lnTo>
                    <a:pt x="822" y="36"/>
                  </a:lnTo>
                  <a:lnTo>
                    <a:pt x="8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180600" y="2957400"/>
              <a:ext cx="1535400" cy="1213920"/>
            </a:xfrm>
            <a:custGeom>
              <a:avLst/>
              <a:gdLst/>
              <a:ahLst/>
              <a:rect l="l" t="t" r="r" b="b"/>
              <a:pathLst>
                <a:path w="1013" h="799">
                  <a:moveTo>
                    <a:pt x="521" y="318"/>
                  </a:moveTo>
                  <a:lnTo>
                    <a:pt x="537" y="327"/>
                  </a:lnTo>
                  <a:lnTo>
                    <a:pt x="553" y="336"/>
                  </a:lnTo>
                  <a:lnTo>
                    <a:pt x="568" y="345"/>
                  </a:lnTo>
                  <a:lnTo>
                    <a:pt x="583" y="355"/>
                  </a:lnTo>
                  <a:lnTo>
                    <a:pt x="597" y="364"/>
                  </a:lnTo>
                  <a:lnTo>
                    <a:pt x="611" y="373"/>
                  </a:lnTo>
                  <a:lnTo>
                    <a:pt x="625" y="382"/>
                  </a:lnTo>
                  <a:lnTo>
                    <a:pt x="636" y="391"/>
                  </a:lnTo>
                  <a:lnTo>
                    <a:pt x="648" y="401"/>
                  </a:lnTo>
                  <a:lnTo>
                    <a:pt x="659" y="410"/>
                  </a:lnTo>
                  <a:lnTo>
                    <a:pt x="670" y="420"/>
                  </a:lnTo>
                  <a:lnTo>
                    <a:pt x="679" y="430"/>
                  </a:lnTo>
                  <a:lnTo>
                    <a:pt x="688" y="440"/>
                  </a:lnTo>
                  <a:lnTo>
                    <a:pt x="695" y="450"/>
                  </a:lnTo>
                  <a:lnTo>
                    <a:pt x="703" y="461"/>
                  </a:lnTo>
                  <a:lnTo>
                    <a:pt x="709" y="472"/>
                  </a:lnTo>
                  <a:lnTo>
                    <a:pt x="716" y="484"/>
                  </a:lnTo>
                  <a:lnTo>
                    <a:pt x="724" y="496"/>
                  </a:lnTo>
                  <a:lnTo>
                    <a:pt x="734" y="509"/>
                  </a:lnTo>
                  <a:lnTo>
                    <a:pt x="745" y="523"/>
                  </a:lnTo>
                  <a:lnTo>
                    <a:pt x="757" y="537"/>
                  </a:lnTo>
                  <a:lnTo>
                    <a:pt x="771" y="550"/>
                  </a:lnTo>
                  <a:lnTo>
                    <a:pt x="785" y="565"/>
                  </a:lnTo>
                  <a:lnTo>
                    <a:pt x="799" y="580"/>
                  </a:lnTo>
                  <a:lnTo>
                    <a:pt x="814" y="595"/>
                  </a:lnTo>
                  <a:lnTo>
                    <a:pt x="829" y="610"/>
                  </a:lnTo>
                  <a:lnTo>
                    <a:pt x="844" y="624"/>
                  </a:lnTo>
                  <a:lnTo>
                    <a:pt x="857" y="639"/>
                  </a:lnTo>
                  <a:lnTo>
                    <a:pt x="871" y="654"/>
                  </a:lnTo>
                  <a:lnTo>
                    <a:pt x="884" y="668"/>
                  </a:lnTo>
                  <a:lnTo>
                    <a:pt x="895" y="682"/>
                  </a:lnTo>
                  <a:lnTo>
                    <a:pt x="906" y="696"/>
                  </a:lnTo>
                  <a:lnTo>
                    <a:pt x="925" y="721"/>
                  </a:lnTo>
                  <a:lnTo>
                    <a:pt x="946" y="744"/>
                  </a:lnTo>
                  <a:lnTo>
                    <a:pt x="967" y="763"/>
                  </a:lnTo>
                  <a:lnTo>
                    <a:pt x="984" y="779"/>
                  </a:lnTo>
                  <a:lnTo>
                    <a:pt x="999" y="790"/>
                  </a:lnTo>
                  <a:lnTo>
                    <a:pt x="1008" y="797"/>
                  </a:lnTo>
                  <a:lnTo>
                    <a:pt x="1013" y="799"/>
                  </a:lnTo>
                  <a:lnTo>
                    <a:pt x="1011" y="795"/>
                  </a:lnTo>
                  <a:lnTo>
                    <a:pt x="1003" y="786"/>
                  </a:lnTo>
                  <a:lnTo>
                    <a:pt x="996" y="774"/>
                  </a:lnTo>
                  <a:lnTo>
                    <a:pt x="988" y="763"/>
                  </a:lnTo>
                  <a:lnTo>
                    <a:pt x="981" y="750"/>
                  </a:lnTo>
                  <a:lnTo>
                    <a:pt x="974" y="737"/>
                  </a:lnTo>
                  <a:lnTo>
                    <a:pt x="968" y="726"/>
                  </a:lnTo>
                  <a:lnTo>
                    <a:pt x="963" y="713"/>
                  </a:lnTo>
                  <a:lnTo>
                    <a:pt x="959" y="703"/>
                  </a:lnTo>
                  <a:lnTo>
                    <a:pt x="954" y="695"/>
                  </a:lnTo>
                  <a:lnTo>
                    <a:pt x="948" y="686"/>
                  </a:lnTo>
                  <a:lnTo>
                    <a:pt x="940" y="678"/>
                  </a:lnTo>
                  <a:lnTo>
                    <a:pt x="933" y="673"/>
                  </a:lnTo>
                  <a:lnTo>
                    <a:pt x="925" y="666"/>
                  </a:lnTo>
                  <a:lnTo>
                    <a:pt x="918" y="661"/>
                  </a:lnTo>
                  <a:lnTo>
                    <a:pt x="914" y="656"/>
                  </a:lnTo>
                  <a:lnTo>
                    <a:pt x="912" y="653"/>
                  </a:lnTo>
                  <a:lnTo>
                    <a:pt x="909" y="646"/>
                  </a:lnTo>
                  <a:lnTo>
                    <a:pt x="907" y="636"/>
                  </a:lnTo>
                  <a:lnTo>
                    <a:pt x="903" y="625"/>
                  </a:lnTo>
                  <a:lnTo>
                    <a:pt x="899" y="613"/>
                  </a:lnTo>
                  <a:lnTo>
                    <a:pt x="892" y="600"/>
                  </a:lnTo>
                  <a:lnTo>
                    <a:pt x="883" y="589"/>
                  </a:lnTo>
                  <a:lnTo>
                    <a:pt x="871" y="577"/>
                  </a:lnTo>
                  <a:lnTo>
                    <a:pt x="856" y="567"/>
                  </a:lnTo>
                  <a:lnTo>
                    <a:pt x="845" y="560"/>
                  </a:lnTo>
                  <a:lnTo>
                    <a:pt x="834" y="550"/>
                  </a:lnTo>
                  <a:lnTo>
                    <a:pt x="824" y="540"/>
                  </a:lnTo>
                  <a:lnTo>
                    <a:pt x="813" y="529"/>
                  </a:lnTo>
                  <a:lnTo>
                    <a:pt x="802" y="516"/>
                  </a:lnTo>
                  <a:lnTo>
                    <a:pt x="792" y="502"/>
                  </a:lnTo>
                  <a:lnTo>
                    <a:pt x="781" y="487"/>
                  </a:lnTo>
                  <a:lnTo>
                    <a:pt x="771" y="471"/>
                  </a:lnTo>
                  <a:lnTo>
                    <a:pt x="760" y="455"/>
                  </a:lnTo>
                  <a:lnTo>
                    <a:pt x="748" y="438"/>
                  </a:lnTo>
                  <a:lnTo>
                    <a:pt x="735" y="419"/>
                  </a:lnTo>
                  <a:lnTo>
                    <a:pt x="723" y="401"/>
                  </a:lnTo>
                  <a:lnTo>
                    <a:pt x="709" y="382"/>
                  </a:lnTo>
                  <a:lnTo>
                    <a:pt x="695" y="364"/>
                  </a:lnTo>
                  <a:lnTo>
                    <a:pt x="680" y="345"/>
                  </a:lnTo>
                  <a:lnTo>
                    <a:pt x="664" y="327"/>
                  </a:lnTo>
                  <a:lnTo>
                    <a:pt x="641" y="292"/>
                  </a:lnTo>
                  <a:lnTo>
                    <a:pt x="633" y="262"/>
                  </a:lnTo>
                  <a:lnTo>
                    <a:pt x="635" y="235"/>
                  </a:lnTo>
                  <a:lnTo>
                    <a:pt x="642" y="207"/>
                  </a:lnTo>
                  <a:lnTo>
                    <a:pt x="647" y="178"/>
                  </a:lnTo>
                  <a:lnTo>
                    <a:pt x="644" y="147"/>
                  </a:lnTo>
                  <a:lnTo>
                    <a:pt x="629" y="111"/>
                  </a:lnTo>
                  <a:lnTo>
                    <a:pt x="596" y="70"/>
                  </a:lnTo>
                  <a:lnTo>
                    <a:pt x="574" y="49"/>
                  </a:lnTo>
                  <a:lnTo>
                    <a:pt x="553" y="33"/>
                  </a:lnTo>
                  <a:lnTo>
                    <a:pt x="533" y="20"/>
                  </a:lnTo>
                  <a:lnTo>
                    <a:pt x="513" y="11"/>
                  </a:lnTo>
                  <a:lnTo>
                    <a:pt x="494" y="4"/>
                  </a:lnTo>
                  <a:lnTo>
                    <a:pt x="474" y="1"/>
                  </a:lnTo>
                  <a:lnTo>
                    <a:pt x="456" y="0"/>
                  </a:lnTo>
                  <a:lnTo>
                    <a:pt x="436" y="0"/>
                  </a:lnTo>
                  <a:lnTo>
                    <a:pt x="416" y="1"/>
                  </a:lnTo>
                  <a:lnTo>
                    <a:pt x="397" y="4"/>
                  </a:lnTo>
                  <a:lnTo>
                    <a:pt x="376" y="8"/>
                  </a:lnTo>
                  <a:lnTo>
                    <a:pt x="355" y="11"/>
                  </a:lnTo>
                  <a:lnTo>
                    <a:pt x="333" y="16"/>
                  </a:lnTo>
                  <a:lnTo>
                    <a:pt x="310" y="19"/>
                  </a:lnTo>
                  <a:lnTo>
                    <a:pt x="286" y="22"/>
                  </a:lnTo>
                  <a:lnTo>
                    <a:pt x="261" y="24"/>
                  </a:lnTo>
                  <a:lnTo>
                    <a:pt x="242" y="25"/>
                  </a:lnTo>
                  <a:lnTo>
                    <a:pt x="225" y="26"/>
                  </a:lnTo>
                  <a:lnTo>
                    <a:pt x="207" y="26"/>
                  </a:lnTo>
                  <a:lnTo>
                    <a:pt x="188" y="26"/>
                  </a:lnTo>
                  <a:lnTo>
                    <a:pt x="170" y="27"/>
                  </a:lnTo>
                  <a:lnTo>
                    <a:pt x="152" y="27"/>
                  </a:lnTo>
                  <a:lnTo>
                    <a:pt x="134" y="27"/>
                  </a:lnTo>
                  <a:lnTo>
                    <a:pt x="117" y="27"/>
                  </a:lnTo>
                  <a:lnTo>
                    <a:pt x="100" y="26"/>
                  </a:lnTo>
                  <a:lnTo>
                    <a:pt x="82" y="26"/>
                  </a:lnTo>
                  <a:lnTo>
                    <a:pt x="67" y="26"/>
                  </a:lnTo>
                  <a:lnTo>
                    <a:pt x="51" y="26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4" y="49"/>
                  </a:lnTo>
                  <a:lnTo>
                    <a:pt x="9" y="73"/>
                  </a:lnTo>
                  <a:lnTo>
                    <a:pt x="13" y="99"/>
                  </a:lnTo>
                  <a:lnTo>
                    <a:pt x="19" y="123"/>
                  </a:lnTo>
                  <a:lnTo>
                    <a:pt x="38" y="124"/>
                  </a:lnTo>
                  <a:lnTo>
                    <a:pt x="56" y="126"/>
                  </a:lnTo>
                  <a:lnTo>
                    <a:pt x="76" y="128"/>
                  </a:lnTo>
                  <a:lnTo>
                    <a:pt x="97" y="130"/>
                  </a:lnTo>
                  <a:lnTo>
                    <a:pt x="118" y="131"/>
                  </a:lnTo>
                  <a:lnTo>
                    <a:pt x="140" y="133"/>
                  </a:lnTo>
                  <a:lnTo>
                    <a:pt x="162" y="136"/>
                  </a:lnTo>
                  <a:lnTo>
                    <a:pt x="185" y="138"/>
                  </a:lnTo>
                  <a:lnTo>
                    <a:pt x="207" y="140"/>
                  </a:lnTo>
                  <a:lnTo>
                    <a:pt x="229" y="144"/>
                  </a:lnTo>
                  <a:lnTo>
                    <a:pt x="249" y="146"/>
                  </a:lnTo>
                  <a:lnTo>
                    <a:pt x="270" y="150"/>
                  </a:lnTo>
                  <a:lnTo>
                    <a:pt x="290" y="153"/>
                  </a:lnTo>
                  <a:lnTo>
                    <a:pt x="309" y="156"/>
                  </a:lnTo>
                  <a:lnTo>
                    <a:pt x="327" y="160"/>
                  </a:lnTo>
                  <a:lnTo>
                    <a:pt x="343" y="164"/>
                  </a:lnTo>
                  <a:lnTo>
                    <a:pt x="377" y="177"/>
                  </a:lnTo>
                  <a:lnTo>
                    <a:pt x="403" y="193"/>
                  </a:lnTo>
                  <a:lnTo>
                    <a:pt x="422" y="213"/>
                  </a:lnTo>
                  <a:lnTo>
                    <a:pt x="438" y="234"/>
                  </a:lnTo>
                  <a:lnTo>
                    <a:pt x="453" y="256"/>
                  </a:lnTo>
                  <a:lnTo>
                    <a:pt x="470" y="277"/>
                  </a:lnTo>
                  <a:lnTo>
                    <a:pt x="492" y="298"/>
                  </a:lnTo>
                  <a:lnTo>
                    <a:pt x="521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5377680" y="2669040"/>
              <a:ext cx="397800" cy="173160"/>
            </a:xfrm>
            <a:custGeom>
              <a:avLst/>
              <a:gdLst/>
              <a:ahLst/>
              <a:rect l="l" t="t" r="r" b="b"/>
              <a:pathLst>
                <a:path w="263" h="115">
                  <a:moveTo>
                    <a:pt x="263" y="0"/>
                  </a:moveTo>
                  <a:lnTo>
                    <a:pt x="263" y="4"/>
                  </a:lnTo>
                  <a:lnTo>
                    <a:pt x="262" y="18"/>
                  </a:lnTo>
                  <a:lnTo>
                    <a:pt x="258" y="36"/>
                  </a:lnTo>
                  <a:lnTo>
                    <a:pt x="252" y="58"/>
                  </a:lnTo>
                  <a:lnTo>
                    <a:pt x="241" y="79"/>
                  </a:lnTo>
                  <a:lnTo>
                    <a:pt x="225" y="98"/>
                  </a:lnTo>
                  <a:lnTo>
                    <a:pt x="201" y="110"/>
                  </a:lnTo>
                  <a:lnTo>
                    <a:pt x="169" y="115"/>
                  </a:lnTo>
                  <a:lnTo>
                    <a:pt x="135" y="113"/>
                  </a:lnTo>
                  <a:lnTo>
                    <a:pt x="104" y="110"/>
                  </a:lnTo>
                  <a:lnTo>
                    <a:pt x="76" y="106"/>
                  </a:lnTo>
                  <a:lnTo>
                    <a:pt x="53" y="101"/>
                  </a:lnTo>
                  <a:lnTo>
                    <a:pt x="35" y="96"/>
                  </a:lnTo>
                  <a:lnTo>
                    <a:pt x="21" y="93"/>
                  </a:lnTo>
                  <a:lnTo>
                    <a:pt x="13" y="91"/>
                  </a:lnTo>
                  <a:lnTo>
                    <a:pt x="9" y="89"/>
                  </a:lnTo>
                  <a:lnTo>
                    <a:pt x="8" y="88"/>
                  </a:lnTo>
                  <a:lnTo>
                    <a:pt x="5" y="85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4" y="68"/>
                  </a:lnTo>
                  <a:lnTo>
                    <a:pt x="12" y="66"/>
                  </a:lnTo>
                  <a:lnTo>
                    <a:pt x="27" y="69"/>
                  </a:lnTo>
                  <a:lnTo>
                    <a:pt x="46" y="72"/>
                  </a:lnTo>
                  <a:lnTo>
                    <a:pt x="70" y="76"/>
                  </a:lnTo>
                  <a:lnTo>
                    <a:pt x="96" y="78"/>
                  </a:lnTo>
                  <a:lnTo>
                    <a:pt x="122" y="78"/>
                  </a:lnTo>
                  <a:lnTo>
                    <a:pt x="148" y="78"/>
                  </a:lnTo>
                  <a:lnTo>
                    <a:pt x="171" y="76"/>
                  </a:lnTo>
                  <a:lnTo>
                    <a:pt x="189" y="72"/>
                  </a:lnTo>
                  <a:lnTo>
                    <a:pt x="203" y="68"/>
                  </a:lnTo>
                  <a:lnTo>
                    <a:pt x="213" y="62"/>
                  </a:lnTo>
                  <a:lnTo>
                    <a:pt x="222" y="55"/>
                  </a:lnTo>
                  <a:lnTo>
                    <a:pt x="232" y="48"/>
                  </a:lnTo>
                  <a:lnTo>
                    <a:pt x="241" y="40"/>
                  </a:lnTo>
                  <a:lnTo>
                    <a:pt x="248" y="32"/>
                  </a:lnTo>
                  <a:lnTo>
                    <a:pt x="255" y="22"/>
                  </a:lnTo>
                  <a:lnTo>
                    <a:pt x="259" y="11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5338440" y="2320200"/>
              <a:ext cx="412920" cy="139680"/>
            </a:xfrm>
            <a:custGeom>
              <a:avLst/>
              <a:gdLst/>
              <a:ahLst/>
              <a:rect l="l" t="t" r="r" b="b"/>
              <a:pathLst>
                <a:path w="272" h="92">
                  <a:moveTo>
                    <a:pt x="272" y="0"/>
                  </a:moveTo>
                  <a:lnTo>
                    <a:pt x="272" y="4"/>
                  </a:lnTo>
                  <a:lnTo>
                    <a:pt x="270" y="13"/>
                  </a:lnTo>
                  <a:lnTo>
                    <a:pt x="268" y="26"/>
                  </a:lnTo>
                  <a:lnTo>
                    <a:pt x="265" y="41"/>
                  </a:lnTo>
                  <a:lnTo>
                    <a:pt x="259" y="57"/>
                  </a:lnTo>
                  <a:lnTo>
                    <a:pt x="250" y="72"/>
                  </a:lnTo>
                  <a:lnTo>
                    <a:pt x="238" y="82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1" y="91"/>
                  </a:lnTo>
                  <a:lnTo>
                    <a:pt x="189" y="92"/>
                  </a:lnTo>
                  <a:lnTo>
                    <a:pt x="175" y="91"/>
                  </a:lnTo>
                  <a:lnTo>
                    <a:pt x="161" y="91"/>
                  </a:lnTo>
                  <a:lnTo>
                    <a:pt x="147" y="90"/>
                  </a:lnTo>
                  <a:lnTo>
                    <a:pt x="132" y="89"/>
                  </a:lnTo>
                  <a:lnTo>
                    <a:pt x="117" y="87"/>
                  </a:lnTo>
                  <a:lnTo>
                    <a:pt x="102" y="84"/>
                  </a:lnTo>
                  <a:lnTo>
                    <a:pt x="89" y="82"/>
                  </a:lnTo>
                  <a:lnTo>
                    <a:pt x="75" y="80"/>
                  </a:lnTo>
                  <a:lnTo>
                    <a:pt x="62" y="78"/>
                  </a:lnTo>
                  <a:lnTo>
                    <a:pt x="50" y="75"/>
                  </a:lnTo>
                  <a:lnTo>
                    <a:pt x="40" y="73"/>
                  </a:lnTo>
                  <a:lnTo>
                    <a:pt x="32" y="71"/>
                  </a:lnTo>
                  <a:lnTo>
                    <a:pt x="25" y="68"/>
                  </a:lnTo>
                  <a:lnTo>
                    <a:pt x="15" y="64"/>
                  </a:lnTo>
                  <a:lnTo>
                    <a:pt x="7" y="60"/>
                  </a:lnTo>
                  <a:lnTo>
                    <a:pt x="2" y="57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8" y="49"/>
                  </a:lnTo>
                  <a:lnTo>
                    <a:pt x="17" y="48"/>
                  </a:lnTo>
                  <a:lnTo>
                    <a:pt x="31" y="48"/>
                  </a:lnTo>
                  <a:lnTo>
                    <a:pt x="40" y="48"/>
                  </a:lnTo>
                  <a:lnTo>
                    <a:pt x="49" y="49"/>
                  </a:lnTo>
                  <a:lnTo>
                    <a:pt x="61" y="50"/>
                  </a:lnTo>
                  <a:lnTo>
                    <a:pt x="74" y="51"/>
                  </a:lnTo>
                  <a:lnTo>
                    <a:pt x="86" y="53"/>
                  </a:lnTo>
                  <a:lnTo>
                    <a:pt x="100" y="54"/>
                  </a:lnTo>
                  <a:lnTo>
                    <a:pt x="114" y="56"/>
                  </a:lnTo>
                  <a:lnTo>
                    <a:pt x="128" y="57"/>
                  </a:lnTo>
                  <a:lnTo>
                    <a:pt x="141" y="58"/>
                  </a:lnTo>
                  <a:lnTo>
                    <a:pt x="155" y="59"/>
                  </a:lnTo>
                  <a:lnTo>
                    <a:pt x="168" y="59"/>
                  </a:lnTo>
                  <a:lnTo>
                    <a:pt x="181" y="58"/>
                  </a:lnTo>
                  <a:lnTo>
                    <a:pt x="192" y="57"/>
                  </a:lnTo>
                  <a:lnTo>
                    <a:pt x="203" y="54"/>
                  </a:lnTo>
                  <a:lnTo>
                    <a:pt x="211" y="51"/>
                  </a:lnTo>
                  <a:lnTo>
                    <a:pt x="217" y="46"/>
                  </a:lnTo>
                  <a:lnTo>
                    <a:pt x="229" y="37"/>
                  </a:lnTo>
                  <a:lnTo>
                    <a:pt x="239" y="28"/>
                  </a:lnTo>
                  <a:lnTo>
                    <a:pt x="249" y="21"/>
                  </a:lnTo>
                  <a:lnTo>
                    <a:pt x="257" y="1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0" y="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5290560" y="2026080"/>
              <a:ext cx="299880" cy="120960"/>
            </a:xfrm>
            <a:custGeom>
              <a:avLst/>
              <a:gdLst/>
              <a:ahLst/>
              <a:rect l="l" t="t" r="r" b="b"/>
              <a:pathLst>
                <a:path w="198" h="79">
                  <a:moveTo>
                    <a:pt x="192" y="0"/>
                  </a:moveTo>
                  <a:lnTo>
                    <a:pt x="194" y="13"/>
                  </a:lnTo>
                  <a:lnTo>
                    <a:pt x="198" y="43"/>
                  </a:lnTo>
                  <a:lnTo>
                    <a:pt x="197" y="71"/>
                  </a:lnTo>
                  <a:lnTo>
                    <a:pt x="184" y="79"/>
                  </a:lnTo>
                  <a:lnTo>
                    <a:pt x="170" y="74"/>
                  </a:lnTo>
                  <a:lnTo>
                    <a:pt x="149" y="69"/>
                  </a:lnTo>
                  <a:lnTo>
                    <a:pt x="125" y="62"/>
                  </a:lnTo>
                  <a:lnTo>
                    <a:pt x="97" y="55"/>
                  </a:lnTo>
                  <a:lnTo>
                    <a:pt x="70" y="49"/>
                  </a:lnTo>
                  <a:lnTo>
                    <a:pt x="44" y="42"/>
                  </a:lnTo>
                  <a:lnTo>
                    <a:pt x="24" y="36"/>
                  </a:lnTo>
                  <a:lnTo>
                    <a:pt x="10" y="32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13" y="13"/>
                  </a:lnTo>
                  <a:lnTo>
                    <a:pt x="23" y="12"/>
                  </a:lnTo>
                  <a:lnTo>
                    <a:pt x="32" y="13"/>
                  </a:lnTo>
                  <a:lnTo>
                    <a:pt x="42" y="17"/>
                  </a:lnTo>
                  <a:lnTo>
                    <a:pt x="57" y="21"/>
                  </a:lnTo>
                  <a:lnTo>
                    <a:pt x="78" y="26"/>
                  </a:lnTo>
                  <a:lnTo>
                    <a:pt x="103" y="31"/>
                  </a:lnTo>
                  <a:lnTo>
                    <a:pt x="131" y="32"/>
                  </a:lnTo>
                  <a:lnTo>
                    <a:pt x="155" y="32"/>
                  </a:lnTo>
                  <a:lnTo>
                    <a:pt x="176" y="26"/>
                  </a:lnTo>
                  <a:lnTo>
                    <a:pt x="190" y="1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"/>
          <p:cNvSpPr/>
          <p:nvPr/>
        </p:nvSpPr>
        <p:spPr>
          <a:xfrm>
            <a:off x="0" y="50832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2" name=""/>
          <p:cNvGrpSpPr/>
          <p:nvPr/>
        </p:nvGrpSpPr>
        <p:grpSpPr>
          <a:xfrm>
            <a:off x="3713040" y="1724040"/>
            <a:ext cx="2098800" cy="3313080"/>
            <a:chOff x="3713040" y="1724040"/>
            <a:chExt cx="2098800" cy="3313080"/>
          </a:xfrm>
        </p:grpSpPr>
        <p:sp>
          <p:nvSpPr>
            <p:cNvPr id="6203" name=""/>
            <p:cNvSpPr/>
            <p:nvPr/>
          </p:nvSpPr>
          <p:spPr>
            <a:xfrm>
              <a:off x="4356000" y="2651040"/>
              <a:ext cx="569880" cy="1260720"/>
            </a:xfrm>
            <a:custGeom>
              <a:avLst/>
              <a:gdLst/>
              <a:ahLst/>
              <a:rect l="l" t="t" r="r" b="b"/>
              <a:pathLst>
                <a:path w="359" h="794">
                  <a:moveTo>
                    <a:pt x="84" y="64"/>
                  </a:moveTo>
                  <a:lnTo>
                    <a:pt x="123" y="18"/>
                  </a:lnTo>
                  <a:lnTo>
                    <a:pt x="197" y="0"/>
                  </a:lnTo>
                  <a:lnTo>
                    <a:pt x="260" y="18"/>
                  </a:lnTo>
                  <a:lnTo>
                    <a:pt x="295" y="43"/>
                  </a:lnTo>
                  <a:lnTo>
                    <a:pt x="323" y="95"/>
                  </a:lnTo>
                  <a:lnTo>
                    <a:pt x="348" y="187"/>
                  </a:lnTo>
                  <a:lnTo>
                    <a:pt x="359" y="286"/>
                  </a:lnTo>
                  <a:lnTo>
                    <a:pt x="359" y="465"/>
                  </a:lnTo>
                  <a:lnTo>
                    <a:pt x="323" y="622"/>
                  </a:lnTo>
                  <a:lnTo>
                    <a:pt x="271" y="710"/>
                  </a:lnTo>
                  <a:lnTo>
                    <a:pt x="218" y="759"/>
                  </a:lnTo>
                  <a:lnTo>
                    <a:pt x="158" y="794"/>
                  </a:lnTo>
                  <a:lnTo>
                    <a:pt x="73" y="791"/>
                  </a:lnTo>
                  <a:lnTo>
                    <a:pt x="7" y="738"/>
                  </a:lnTo>
                  <a:lnTo>
                    <a:pt x="0" y="674"/>
                  </a:lnTo>
                  <a:lnTo>
                    <a:pt x="31" y="579"/>
                  </a:lnTo>
                  <a:lnTo>
                    <a:pt x="59" y="473"/>
                  </a:lnTo>
                  <a:lnTo>
                    <a:pt x="70" y="335"/>
                  </a:lnTo>
                  <a:lnTo>
                    <a:pt x="52" y="219"/>
                  </a:lnTo>
                  <a:lnTo>
                    <a:pt x="52" y="134"/>
                  </a:lnTo>
                  <a:lnTo>
                    <a:pt x="8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572000" y="3772080"/>
              <a:ext cx="654120" cy="1247760"/>
            </a:xfrm>
            <a:custGeom>
              <a:avLst/>
              <a:gdLst/>
              <a:ahLst/>
              <a:rect l="l" t="t" r="r" b="b"/>
              <a:pathLst>
                <a:path w="412" h="786">
                  <a:moveTo>
                    <a:pt x="137" y="32"/>
                  </a:moveTo>
                  <a:lnTo>
                    <a:pt x="88" y="0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0" y="106"/>
                  </a:lnTo>
                  <a:lnTo>
                    <a:pt x="67" y="169"/>
                  </a:lnTo>
                  <a:lnTo>
                    <a:pt x="183" y="226"/>
                  </a:lnTo>
                  <a:lnTo>
                    <a:pt x="317" y="349"/>
                  </a:lnTo>
                  <a:lnTo>
                    <a:pt x="338" y="402"/>
                  </a:lnTo>
                  <a:lnTo>
                    <a:pt x="327" y="426"/>
                  </a:lnTo>
                  <a:lnTo>
                    <a:pt x="225" y="508"/>
                  </a:lnTo>
                  <a:lnTo>
                    <a:pt x="105" y="603"/>
                  </a:lnTo>
                  <a:lnTo>
                    <a:pt x="77" y="645"/>
                  </a:lnTo>
                  <a:lnTo>
                    <a:pt x="77" y="688"/>
                  </a:lnTo>
                  <a:lnTo>
                    <a:pt x="169" y="733"/>
                  </a:lnTo>
                  <a:lnTo>
                    <a:pt x="310" y="786"/>
                  </a:lnTo>
                  <a:lnTo>
                    <a:pt x="359" y="786"/>
                  </a:lnTo>
                  <a:lnTo>
                    <a:pt x="412" y="751"/>
                  </a:lnTo>
                  <a:lnTo>
                    <a:pt x="412" y="723"/>
                  </a:lnTo>
                  <a:lnTo>
                    <a:pt x="373" y="709"/>
                  </a:lnTo>
                  <a:lnTo>
                    <a:pt x="193" y="688"/>
                  </a:lnTo>
                  <a:lnTo>
                    <a:pt x="127" y="670"/>
                  </a:lnTo>
                  <a:lnTo>
                    <a:pt x="119" y="638"/>
                  </a:lnTo>
                  <a:lnTo>
                    <a:pt x="236" y="550"/>
                  </a:lnTo>
                  <a:lnTo>
                    <a:pt x="362" y="465"/>
                  </a:lnTo>
                  <a:lnTo>
                    <a:pt x="391" y="433"/>
                  </a:lnTo>
                  <a:lnTo>
                    <a:pt x="401" y="391"/>
                  </a:lnTo>
                  <a:lnTo>
                    <a:pt x="391" y="331"/>
                  </a:lnTo>
                  <a:lnTo>
                    <a:pt x="352" y="285"/>
                  </a:lnTo>
                  <a:lnTo>
                    <a:pt x="225" y="131"/>
                  </a:lnTo>
                  <a:lnTo>
                    <a:pt x="13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713040" y="3710160"/>
              <a:ext cx="812880" cy="1326960"/>
            </a:xfrm>
            <a:custGeom>
              <a:avLst/>
              <a:gdLst/>
              <a:ahLst/>
              <a:rect l="l" t="t" r="r" b="b"/>
              <a:pathLst>
                <a:path w="512" h="836">
                  <a:moveTo>
                    <a:pt x="279" y="113"/>
                  </a:moveTo>
                  <a:lnTo>
                    <a:pt x="361" y="43"/>
                  </a:lnTo>
                  <a:lnTo>
                    <a:pt x="438" y="0"/>
                  </a:lnTo>
                  <a:lnTo>
                    <a:pt x="488" y="7"/>
                  </a:lnTo>
                  <a:lnTo>
                    <a:pt x="512" y="43"/>
                  </a:lnTo>
                  <a:lnTo>
                    <a:pt x="512" y="81"/>
                  </a:lnTo>
                  <a:lnTo>
                    <a:pt x="498" y="124"/>
                  </a:lnTo>
                  <a:lnTo>
                    <a:pt x="445" y="148"/>
                  </a:lnTo>
                  <a:lnTo>
                    <a:pt x="340" y="208"/>
                  </a:lnTo>
                  <a:lnTo>
                    <a:pt x="275" y="282"/>
                  </a:lnTo>
                  <a:lnTo>
                    <a:pt x="233" y="370"/>
                  </a:lnTo>
                  <a:lnTo>
                    <a:pt x="222" y="423"/>
                  </a:lnTo>
                  <a:lnTo>
                    <a:pt x="279" y="486"/>
                  </a:lnTo>
                  <a:lnTo>
                    <a:pt x="340" y="579"/>
                  </a:lnTo>
                  <a:lnTo>
                    <a:pt x="382" y="664"/>
                  </a:lnTo>
                  <a:lnTo>
                    <a:pt x="392" y="716"/>
                  </a:lnTo>
                  <a:lnTo>
                    <a:pt x="392" y="748"/>
                  </a:lnTo>
                  <a:lnTo>
                    <a:pt x="364" y="769"/>
                  </a:lnTo>
                  <a:lnTo>
                    <a:pt x="275" y="773"/>
                  </a:lnTo>
                  <a:lnTo>
                    <a:pt x="141" y="805"/>
                  </a:lnTo>
                  <a:lnTo>
                    <a:pt x="117" y="833"/>
                  </a:lnTo>
                  <a:lnTo>
                    <a:pt x="95" y="836"/>
                  </a:lnTo>
                  <a:lnTo>
                    <a:pt x="0" y="805"/>
                  </a:lnTo>
                  <a:lnTo>
                    <a:pt x="0" y="773"/>
                  </a:lnTo>
                  <a:lnTo>
                    <a:pt x="43" y="748"/>
                  </a:lnTo>
                  <a:lnTo>
                    <a:pt x="212" y="716"/>
                  </a:lnTo>
                  <a:lnTo>
                    <a:pt x="300" y="727"/>
                  </a:lnTo>
                  <a:lnTo>
                    <a:pt x="343" y="727"/>
                  </a:lnTo>
                  <a:lnTo>
                    <a:pt x="354" y="709"/>
                  </a:lnTo>
                  <a:lnTo>
                    <a:pt x="317" y="632"/>
                  </a:lnTo>
                  <a:lnTo>
                    <a:pt x="243" y="530"/>
                  </a:lnTo>
                  <a:lnTo>
                    <a:pt x="191" y="455"/>
                  </a:lnTo>
                  <a:lnTo>
                    <a:pt x="169" y="412"/>
                  </a:lnTo>
                  <a:lnTo>
                    <a:pt x="169" y="349"/>
                  </a:lnTo>
                  <a:lnTo>
                    <a:pt x="205" y="243"/>
                  </a:lnTo>
                  <a:lnTo>
                    <a:pt x="236" y="176"/>
                  </a:lnTo>
                  <a:lnTo>
                    <a:pt x="279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807000" y="2422440"/>
              <a:ext cx="717480" cy="1233720"/>
            </a:xfrm>
            <a:custGeom>
              <a:avLst/>
              <a:gdLst/>
              <a:ahLst/>
              <a:rect l="l" t="t" r="r" b="b"/>
              <a:pathLst>
                <a:path w="452" h="777">
                  <a:moveTo>
                    <a:pt x="56" y="22"/>
                  </a:moveTo>
                  <a:lnTo>
                    <a:pt x="88" y="0"/>
                  </a:lnTo>
                  <a:lnTo>
                    <a:pt x="112" y="22"/>
                  </a:lnTo>
                  <a:lnTo>
                    <a:pt x="172" y="121"/>
                  </a:lnTo>
                  <a:lnTo>
                    <a:pt x="279" y="206"/>
                  </a:lnTo>
                  <a:lnTo>
                    <a:pt x="353" y="223"/>
                  </a:lnTo>
                  <a:lnTo>
                    <a:pt x="437" y="234"/>
                  </a:lnTo>
                  <a:lnTo>
                    <a:pt x="452" y="280"/>
                  </a:lnTo>
                  <a:lnTo>
                    <a:pt x="430" y="329"/>
                  </a:lnTo>
                  <a:lnTo>
                    <a:pt x="378" y="343"/>
                  </a:lnTo>
                  <a:lnTo>
                    <a:pt x="304" y="322"/>
                  </a:lnTo>
                  <a:lnTo>
                    <a:pt x="197" y="227"/>
                  </a:lnTo>
                  <a:lnTo>
                    <a:pt x="130" y="142"/>
                  </a:lnTo>
                  <a:lnTo>
                    <a:pt x="91" y="100"/>
                  </a:lnTo>
                  <a:lnTo>
                    <a:pt x="66" y="149"/>
                  </a:lnTo>
                  <a:lnTo>
                    <a:pt x="70" y="269"/>
                  </a:lnTo>
                  <a:lnTo>
                    <a:pt x="98" y="417"/>
                  </a:lnTo>
                  <a:lnTo>
                    <a:pt x="130" y="466"/>
                  </a:lnTo>
                  <a:lnTo>
                    <a:pt x="176" y="509"/>
                  </a:lnTo>
                  <a:lnTo>
                    <a:pt x="204" y="544"/>
                  </a:lnTo>
                  <a:lnTo>
                    <a:pt x="126" y="614"/>
                  </a:lnTo>
                  <a:lnTo>
                    <a:pt x="56" y="699"/>
                  </a:lnTo>
                  <a:lnTo>
                    <a:pt x="42" y="777"/>
                  </a:lnTo>
                  <a:lnTo>
                    <a:pt x="10" y="774"/>
                  </a:lnTo>
                  <a:lnTo>
                    <a:pt x="0" y="671"/>
                  </a:lnTo>
                  <a:lnTo>
                    <a:pt x="59" y="607"/>
                  </a:lnTo>
                  <a:lnTo>
                    <a:pt x="123" y="540"/>
                  </a:lnTo>
                  <a:lnTo>
                    <a:pt x="91" y="470"/>
                  </a:lnTo>
                  <a:lnTo>
                    <a:pt x="59" y="385"/>
                  </a:lnTo>
                  <a:lnTo>
                    <a:pt x="38" y="276"/>
                  </a:lnTo>
                  <a:lnTo>
                    <a:pt x="24" y="164"/>
                  </a:lnTo>
                  <a:lnTo>
                    <a:pt x="38" y="6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5005440" y="1744560"/>
              <a:ext cx="806400" cy="1338480"/>
            </a:xfrm>
            <a:custGeom>
              <a:avLst/>
              <a:gdLst/>
              <a:ahLst/>
              <a:rect l="l" t="t" r="r" b="b"/>
              <a:pathLst>
                <a:path w="508" h="843">
                  <a:moveTo>
                    <a:pt x="0" y="836"/>
                  </a:moveTo>
                  <a:lnTo>
                    <a:pt x="0" y="779"/>
                  </a:lnTo>
                  <a:lnTo>
                    <a:pt x="31" y="737"/>
                  </a:lnTo>
                  <a:lnTo>
                    <a:pt x="169" y="688"/>
                  </a:lnTo>
                  <a:lnTo>
                    <a:pt x="339" y="645"/>
                  </a:lnTo>
                  <a:lnTo>
                    <a:pt x="437" y="621"/>
                  </a:lnTo>
                  <a:lnTo>
                    <a:pt x="448" y="600"/>
                  </a:lnTo>
                  <a:lnTo>
                    <a:pt x="402" y="536"/>
                  </a:lnTo>
                  <a:lnTo>
                    <a:pt x="310" y="444"/>
                  </a:lnTo>
                  <a:lnTo>
                    <a:pt x="215" y="366"/>
                  </a:lnTo>
                  <a:lnTo>
                    <a:pt x="140" y="324"/>
                  </a:lnTo>
                  <a:lnTo>
                    <a:pt x="98" y="282"/>
                  </a:lnTo>
                  <a:lnTo>
                    <a:pt x="95" y="250"/>
                  </a:lnTo>
                  <a:lnTo>
                    <a:pt x="119" y="222"/>
                  </a:lnTo>
                  <a:lnTo>
                    <a:pt x="180" y="208"/>
                  </a:lnTo>
                  <a:lnTo>
                    <a:pt x="254" y="155"/>
                  </a:lnTo>
                  <a:lnTo>
                    <a:pt x="265" y="102"/>
                  </a:lnTo>
                  <a:lnTo>
                    <a:pt x="265" y="28"/>
                  </a:lnTo>
                  <a:lnTo>
                    <a:pt x="258" y="0"/>
                  </a:lnTo>
                  <a:lnTo>
                    <a:pt x="286" y="7"/>
                  </a:lnTo>
                  <a:lnTo>
                    <a:pt x="324" y="70"/>
                  </a:lnTo>
                  <a:lnTo>
                    <a:pt x="339" y="137"/>
                  </a:lnTo>
                  <a:lnTo>
                    <a:pt x="296" y="186"/>
                  </a:lnTo>
                  <a:lnTo>
                    <a:pt x="258" y="201"/>
                  </a:lnTo>
                  <a:lnTo>
                    <a:pt x="184" y="239"/>
                  </a:lnTo>
                  <a:lnTo>
                    <a:pt x="169" y="260"/>
                  </a:lnTo>
                  <a:lnTo>
                    <a:pt x="180" y="282"/>
                  </a:lnTo>
                  <a:lnTo>
                    <a:pt x="247" y="338"/>
                  </a:lnTo>
                  <a:lnTo>
                    <a:pt x="317" y="370"/>
                  </a:lnTo>
                  <a:lnTo>
                    <a:pt x="412" y="451"/>
                  </a:lnTo>
                  <a:lnTo>
                    <a:pt x="476" y="547"/>
                  </a:lnTo>
                  <a:lnTo>
                    <a:pt x="508" y="621"/>
                  </a:lnTo>
                  <a:lnTo>
                    <a:pt x="497" y="645"/>
                  </a:lnTo>
                  <a:lnTo>
                    <a:pt x="476" y="663"/>
                  </a:lnTo>
                  <a:lnTo>
                    <a:pt x="395" y="695"/>
                  </a:lnTo>
                  <a:lnTo>
                    <a:pt x="233" y="748"/>
                  </a:lnTo>
                  <a:lnTo>
                    <a:pt x="130" y="793"/>
                  </a:lnTo>
                  <a:lnTo>
                    <a:pt x="63" y="832"/>
                  </a:lnTo>
                  <a:lnTo>
                    <a:pt x="21" y="843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543560" y="1724040"/>
              <a:ext cx="631800" cy="952560"/>
            </a:xfrm>
            <a:custGeom>
              <a:avLst/>
              <a:gdLst/>
              <a:ahLst/>
              <a:rect l="l" t="t" r="r" b="b"/>
              <a:pathLst>
                <a:path w="398" h="600">
                  <a:moveTo>
                    <a:pt x="81" y="113"/>
                  </a:moveTo>
                  <a:lnTo>
                    <a:pt x="127" y="60"/>
                  </a:lnTo>
                  <a:lnTo>
                    <a:pt x="201" y="11"/>
                  </a:lnTo>
                  <a:lnTo>
                    <a:pt x="264" y="0"/>
                  </a:lnTo>
                  <a:lnTo>
                    <a:pt x="313" y="11"/>
                  </a:lnTo>
                  <a:lnTo>
                    <a:pt x="370" y="53"/>
                  </a:lnTo>
                  <a:lnTo>
                    <a:pt x="391" y="138"/>
                  </a:lnTo>
                  <a:lnTo>
                    <a:pt x="398" y="201"/>
                  </a:lnTo>
                  <a:lnTo>
                    <a:pt x="380" y="261"/>
                  </a:lnTo>
                  <a:lnTo>
                    <a:pt x="348" y="335"/>
                  </a:lnTo>
                  <a:lnTo>
                    <a:pt x="317" y="399"/>
                  </a:lnTo>
                  <a:lnTo>
                    <a:pt x="313" y="413"/>
                  </a:lnTo>
                  <a:lnTo>
                    <a:pt x="327" y="487"/>
                  </a:lnTo>
                  <a:lnTo>
                    <a:pt x="370" y="562"/>
                  </a:lnTo>
                  <a:lnTo>
                    <a:pt x="377" y="583"/>
                  </a:lnTo>
                  <a:lnTo>
                    <a:pt x="355" y="600"/>
                  </a:lnTo>
                  <a:lnTo>
                    <a:pt x="327" y="600"/>
                  </a:lnTo>
                  <a:lnTo>
                    <a:pt x="296" y="504"/>
                  </a:lnTo>
                  <a:lnTo>
                    <a:pt x="282" y="441"/>
                  </a:lnTo>
                  <a:lnTo>
                    <a:pt x="243" y="483"/>
                  </a:lnTo>
                  <a:lnTo>
                    <a:pt x="211" y="515"/>
                  </a:lnTo>
                  <a:lnTo>
                    <a:pt x="144" y="541"/>
                  </a:lnTo>
                  <a:lnTo>
                    <a:pt x="95" y="541"/>
                  </a:lnTo>
                  <a:lnTo>
                    <a:pt x="21" y="504"/>
                  </a:lnTo>
                  <a:lnTo>
                    <a:pt x="0" y="402"/>
                  </a:lnTo>
                  <a:lnTo>
                    <a:pt x="17" y="272"/>
                  </a:lnTo>
                  <a:lnTo>
                    <a:pt x="49" y="148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9" name=""/>
          <p:cNvGrpSpPr/>
          <p:nvPr/>
        </p:nvGrpSpPr>
        <p:grpSpPr>
          <a:xfrm>
            <a:off x="3983040" y="1085760"/>
            <a:ext cx="1025640" cy="839880"/>
            <a:chOff x="3983040" y="1085760"/>
            <a:chExt cx="1025640" cy="839880"/>
          </a:xfrm>
        </p:grpSpPr>
        <p:sp>
          <p:nvSpPr>
            <p:cNvPr id="6210" name=""/>
            <p:cNvSpPr/>
            <p:nvPr/>
          </p:nvSpPr>
          <p:spPr>
            <a:xfrm>
              <a:off x="4890960" y="1085760"/>
              <a:ext cx="117720" cy="470160"/>
            </a:xfrm>
            <a:custGeom>
              <a:avLst/>
              <a:gdLst/>
              <a:ahLst/>
              <a:rect l="l" t="t" r="r" b="b"/>
              <a:pathLst>
                <a:path w="74" h="296">
                  <a:moveTo>
                    <a:pt x="24" y="275"/>
                  </a:moveTo>
                  <a:lnTo>
                    <a:pt x="10" y="15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74" y="32"/>
                  </a:lnTo>
                  <a:lnTo>
                    <a:pt x="63" y="106"/>
                  </a:lnTo>
                  <a:lnTo>
                    <a:pt x="56" y="243"/>
                  </a:lnTo>
                  <a:lnTo>
                    <a:pt x="42" y="296"/>
                  </a:lnTo>
                  <a:lnTo>
                    <a:pt x="24" y="2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233960" y="1322280"/>
              <a:ext cx="409320" cy="320760"/>
            </a:xfrm>
            <a:custGeom>
              <a:avLst/>
              <a:gdLst/>
              <a:ahLst/>
              <a:rect l="l" t="t" r="r" b="b"/>
              <a:pathLst>
                <a:path w="258" h="202">
                  <a:moveTo>
                    <a:pt x="216" y="178"/>
                  </a:moveTo>
                  <a:lnTo>
                    <a:pt x="174" y="113"/>
                  </a:lnTo>
                  <a:lnTo>
                    <a:pt x="96" y="81"/>
                  </a:lnTo>
                  <a:lnTo>
                    <a:pt x="33" y="71"/>
                  </a:lnTo>
                  <a:lnTo>
                    <a:pt x="0" y="32"/>
                  </a:lnTo>
                  <a:lnTo>
                    <a:pt x="12" y="11"/>
                  </a:lnTo>
                  <a:lnTo>
                    <a:pt x="44" y="0"/>
                  </a:lnTo>
                  <a:lnTo>
                    <a:pt x="100" y="21"/>
                  </a:lnTo>
                  <a:lnTo>
                    <a:pt x="163" y="53"/>
                  </a:lnTo>
                  <a:lnTo>
                    <a:pt x="205" y="106"/>
                  </a:lnTo>
                  <a:lnTo>
                    <a:pt x="258" y="202"/>
                  </a:lnTo>
                  <a:lnTo>
                    <a:pt x="216" y="1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983040" y="1701720"/>
              <a:ext cx="442800" cy="22392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0" y="53"/>
                  </a:moveTo>
                  <a:lnTo>
                    <a:pt x="3" y="25"/>
                  </a:lnTo>
                  <a:lnTo>
                    <a:pt x="35" y="11"/>
                  </a:lnTo>
                  <a:lnTo>
                    <a:pt x="88" y="0"/>
                  </a:lnTo>
                  <a:lnTo>
                    <a:pt x="141" y="4"/>
                  </a:lnTo>
                  <a:lnTo>
                    <a:pt x="212" y="36"/>
                  </a:lnTo>
                  <a:lnTo>
                    <a:pt x="254" y="85"/>
                  </a:lnTo>
                  <a:lnTo>
                    <a:pt x="279" y="127"/>
                  </a:lnTo>
                  <a:lnTo>
                    <a:pt x="275" y="141"/>
                  </a:lnTo>
                  <a:lnTo>
                    <a:pt x="244" y="120"/>
                  </a:lnTo>
                  <a:lnTo>
                    <a:pt x="194" y="85"/>
                  </a:lnTo>
                  <a:lnTo>
                    <a:pt x="126" y="67"/>
                  </a:lnTo>
                  <a:lnTo>
                    <a:pt x="67" y="78"/>
                  </a:lnTo>
                  <a:lnTo>
                    <a:pt x="10" y="7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6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6217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9" name=""/>
          <p:cNvSpPr/>
          <p:nvPr/>
        </p:nvSpPr>
        <p:spPr>
          <a:xfrm>
            <a:off x="0" y="47800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1954080" y="496800"/>
            <a:ext cx="523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3" name=""/>
          <p:cNvGrpSpPr/>
          <p:nvPr/>
        </p:nvGrpSpPr>
        <p:grpSpPr>
          <a:xfrm>
            <a:off x="906480" y="1738440"/>
            <a:ext cx="7427160" cy="3055320"/>
            <a:chOff x="906480" y="1738440"/>
            <a:chExt cx="7427160" cy="3055320"/>
          </a:xfrm>
        </p:grpSpPr>
        <p:sp>
          <p:nvSpPr>
            <p:cNvPr id="6224" name=""/>
            <p:cNvSpPr/>
            <p:nvPr/>
          </p:nvSpPr>
          <p:spPr>
            <a:xfrm>
              <a:off x="1447200" y="1887840"/>
              <a:ext cx="2807280" cy="2809440"/>
            </a:xfrm>
            <a:custGeom>
              <a:avLst/>
              <a:gdLst/>
              <a:ahLst/>
              <a:rect l="l" t="t" r="r" b="b"/>
              <a:pathLst>
                <a:path w="1256" h="1257">
                  <a:moveTo>
                    <a:pt x="627" y="0"/>
                  </a:moveTo>
                  <a:lnTo>
                    <a:pt x="692" y="3"/>
                  </a:lnTo>
                  <a:lnTo>
                    <a:pt x="754" y="13"/>
                  </a:lnTo>
                  <a:lnTo>
                    <a:pt x="814" y="28"/>
                  </a:lnTo>
                  <a:lnTo>
                    <a:pt x="872" y="48"/>
                  </a:lnTo>
                  <a:lnTo>
                    <a:pt x="927" y="75"/>
                  </a:lnTo>
                  <a:lnTo>
                    <a:pt x="979" y="107"/>
                  </a:lnTo>
                  <a:lnTo>
                    <a:pt x="1027" y="143"/>
                  </a:lnTo>
                  <a:lnTo>
                    <a:pt x="1073" y="183"/>
                  </a:lnTo>
                  <a:lnTo>
                    <a:pt x="1113" y="228"/>
                  </a:lnTo>
                  <a:lnTo>
                    <a:pt x="1149" y="277"/>
                  </a:lnTo>
                  <a:lnTo>
                    <a:pt x="1179" y="329"/>
                  </a:lnTo>
                  <a:lnTo>
                    <a:pt x="1206" y="382"/>
                  </a:lnTo>
                  <a:lnTo>
                    <a:pt x="1228" y="440"/>
                  </a:lnTo>
                  <a:lnTo>
                    <a:pt x="1243" y="500"/>
                  </a:lnTo>
                  <a:lnTo>
                    <a:pt x="1253" y="562"/>
                  </a:lnTo>
                  <a:lnTo>
                    <a:pt x="1256" y="627"/>
                  </a:lnTo>
                  <a:lnTo>
                    <a:pt x="1253" y="692"/>
                  </a:lnTo>
                  <a:lnTo>
                    <a:pt x="1243" y="754"/>
                  </a:lnTo>
                  <a:lnTo>
                    <a:pt x="1228" y="814"/>
                  </a:lnTo>
                  <a:lnTo>
                    <a:pt x="1206" y="873"/>
                  </a:lnTo>
                  <a:lnTo>
                    <a:pt x="1179" y="928"/>
                  </a:lnTo>
                  <a:lnTo>
                    <a:pt x="1149" y="980"/>
                  </a:lnTo>
                  <a:lnTo>
                    <a:pt x="1113" y="1028"/>
                  </a:lnTo>
                  <a:lnTo>
                    <a:pt x="1073" y="1071"/>
                  </a:lnTo>
                  <a:lnTo>
                    <a:pt x="1027" y="1113"/>
                  </a:lnTo>
                  <a:lnTo>
                    <a:pt x="979" y="1150"/>
                  </a:lnTo>
                  <a:lnTo>
                    <a:pt x="927" y="1180"/>
                  </a:lnTo>
                  <a:lnTo>
                    <a:pt x="872" y="1207"/>
                  </a:lnTo>
                  <a:lnTo>
                    <a:pt x="814" y="1228"/>
                  </a:lnTo>
                  <a:lnTo>
                    <a:pt x="754" y="1243"/>
                  </a:lnTo>
                  <a:lnTo>
                    <a:pt x="692" y="1253"/>
                  </a:lnTo>
                  <a:lnTo>
                    <a:pt x="627" y="1257"/>
                  </a:lnTo>
                  <a:lnTo>
                    <a:pt x="564" y="1253"/>
                  </a:lnTo>
                  <a:lnTo>
                    <a:pt x="500" y="1243"/>
                  </a:lnTo>
                  <a:lnTo>
                    <a:pt x="440" y="1228"/>
                  </a:lnTo>
                  <a:lnTo>
                    <a:pt x="384" y="1207"/>
                  </a:lnTo>
                  <a:lnTo>
                    <a:pt x="329" y="1180"/>
                  </a:lnTo>
                  <a:lnTo>
                    <a:pt x="277" y="1150"/>
                  </a:lnTo>
                  <a:lnTo>
                    <a:pt x="228" y="1113"/>
                  </a:lnTo>
                  <a:lnTo>
                    <a:pt x="183" y="1071"/>
                  </a:lnTo>
                  <a:lnTo>
                    <a:pt x="143" y="1028"/>
                  </a:lnTo>
                  <a:lnTo>
                    <a:pt x="107" y="980"/>
                  </a:lnTo>
                  <a:lnTo>
                    <a:pt x="77" y="928"/>
                  </a:lnTo>
                  <a:lnTo>
                    <a:pt x="50" y="873"/>
                  </a:lnTo>
                  <a:lnTo>
                    <a:pt x="28" y="814"/>
                  </a:lnTo>
                  <a:lnTo>
                    <a:pt x="13" y="754"/>
                  </a:lnTo>
                  <a:lnTo>
                    <a:pt x="3" y="692"/>
                  </a:lnTo>
                  <a:lnTo>
                    <a:pt x="0" y="627"/>
                  </a:lnTo>
                  <a:lnTo>
                    <a:pt x="3" y="562"/>
                  </a:lnTo>
                  <a:lnTo>
                    <a:pt x="13" y="500"/>
                  </a:lnTo>
                  <a:lnTo>
                    <a:pt x="28" y="440"/>
                  </a:lnTo>
                  <a:lnTo>
                    <a:pt x="50" y="382"/>
                  </a:lnTo>
                  <a:lnTo>
                    <a:pt x="77" y="329"/>
                  </a:lnTo>
                  <a:lnTo>
                    <a:pt x="107" y="277"/>
                  </a:lnTo>
                  <a:lnTo>
                    <a:pt x="143" y="228"/>
                  </a:lnTo>
                  <a:lnTo>
                    <a:pt x="183" y="183"/>
                  </a:lnTo>
                  <a:lnTo>
                    <a:pt x="228" y="143"/>
                  </a:lnTo>
                  <a:lnTo>
                    <a:pt x="277" y="107"/>
                  </a:lnTo>
                  <a:lnTo>
                    <a:pt x="329" y="75"/>
                  </a:lnTo>
                  <a:lnTo>
                    <a:pt x="384" y="48"/>
                  </a:lnTo>
                  <a:lnTo>
                    <a:pt x="440" y="28"/>
                  </a:lnTo>
                  <a:lnTo>
                    <a:pt x="500" y="13"/>
                  </a:lnTo>
                  <a:lnTo>
                    <a:pt x="564" y="3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108760" y="1738440"/>
              <a:ext cx="2676960" cy="2675160"/>
            </a:xfrm>
            <a:custGeom>
              <a:avLst/>
              <a:gdLst/>
              <a:ahLst/>
              <a:rect l="l" t="t" r="r" b="b"/>
              <a:pathLst>
                <a:path w="1198" h="1197">
                  <a:moveTo>
                    <a:pt x="599" y="0"/>
                  </a:moveTo>
                  <a:lnTo>
                    <a:pt x="661" y="3"/>
                  </a:lnTo>
                  <a:lnTo>
                    <a:pt x="719" y="12"/>
                  </a:lnTo>
                  <a:lnTo>
                    <a:pt x="777" y="27"/>
                  </a:lnTo>
                  <a:lnTo>
                    <a:pt x="832" y="47"/>
                  </a:lnTo>
                  <a:lnTo>
                    <a:pt x="884" y="72"/>
                  </a:lnTo>
                  <a:lnTo>
                    <a:pt x="934" y="102"/>
                  </a:lnTo>
                  <a:lnTo>
                    <a:pt x="979" y="137"/>
                  </a:lnTo>
                  <a:lnTo>
                    <a:pt x="1023" y="175"/>
                  </a:lnTo>
                  <a:lnTo>
                    <a:pt x="1061" y="217"/>
                  </a:lnTo>
                  <a:lnTo>
                    <a:pt x="1096" y="264"/>
                  </a:lnTo>
                  <a:lnTo>
                    <a:pt x="1126" y="312"/>
                  </a:lnTo>
                  <a:lnTo>
                    <a:pt x="1151" y="366"/>
                  </a:lnTo>
                  <a:lnTo>
                    <a:pt x="1171" y="419"/>
                  </a:lnTo>
                  <a:lnTo>
                    <a:pt x="1186" y="477"/>
                  </a:lnTo>
                  <a:lnTo>
                    <a:pt x="1194" y="536"/>
                  </a:lnTo>
                  <a:lnTo>
                    <a:pt x="1198" y="598"/>
                  </a:lnTo>
                  <a:lnTo>
                    <a:pt x="1194" y="659"/>
                  </a:lnTo>
                  <a:lnTo>
                    <a:pt x="1186" y="718"/>
                  </a:lnTo>
                  <a:lnTo>
                    <a:pt x="1171" y="776"/>
                  </a:lnTo>
                  <a:lnTo>
                    <a:pt x="1151" y="831"/>
                  </a:lnTo>
                  <a:lnTo>
                    <a:pt x="1126" y="883"/>
                  </a:lnTo>
                  <a:lnTo>
                    <a:pt x="1096" y="933"/>
                  </a:lnTo>
                  <a:lnTo>
                    <a:pt x="1061" y="978"/>
                  </a:lnTo>
                  <a:lnTo>
                    <a:pt x="1023" y="1021"/>
                  </a:lnTo>
                  <a:lnTo>
                    <a:pt x="979" y="1060"/>
                  </a:lnTo>
                  <a:lnTo>
                    <a:pt x="934" y="1095"/>
                  </a:lnTo>
                  <a:lnTo>
                    <a:pt x="884" y="1125"/>
                  </a:lnTo>
                  <a:lnTo>
                    <a:pt x="832" y="1150"/>
                  </a:lnTo>
                  <a:lnTo>
                    <a:pt x="777" y="1170"/>
                  </a:lnTo>
                  <a:lnTo>
                    <a:pt x="719" y="1185"/>
                  </a:lnTo>
                  <a:lnTo>
                    <a:pt x="661" y="1193"/>
                  </a:lnTo>
                  <a:lnTo>
                    <a:pt x="599" y="1197"/>
                  </a:lnTo>
                  <a:lnTo>
                    <a:pt x="537" y="1193"/>
                  </a:lnTo>
                  <a:lnTo>
                    <a:pt x="479" y="1185"/>
                  </a:lnTo>
                  <a:lnTo>
                    <a:pt x="420" y="1170"/>
                  </a:lnTo>
                  <a:lnTo>
                    <a:pt x="365" y="1150"/>
                  </a:lnTo>
                  <a:lnTo>
                    <a:pt x="314" y="1125"/>
                  </a:lnTo>
                  <a:lnTo>
                    <a:pt x="264" y="1095"/>
                  </a:lnTo>
                  <a:lnTo>
                    <a:pt x="219" y="1060"/>
                  </a:lnTo>
                  <a:lnTo>
                    <a:pt x="175" y="1021"/>
                  </a:lnTo>
                  <a:lnTo>
                    <a:pt x="137" y="978"/>
                  </a:lnTo>
                  <a:lnTo>
                    <a:pt x="102" y="933"/>
                  </a:lnTo>
                  <a:lnTo>
                    <a:pt x="72" y="883"/>
                  </a:lnTo>
                  <a:lnTo>
                    <a:pt x="47" y="831"/>
                  </a:lnTo>
                  <a:lnTo>
                    <a:pt x="27" y="776"/>
                  </a:lnTo>
                  <a:lnTo>
                    <a:pt x="12" y="718"/>
                  </a:lnTo>
                  <a:lnTo>
                    <a:pt x="3" y="659"/>
                  </a:lnTo>
                  <a:lnTo>
                    <a:pt x="0" y="598"/>
                  </a:lnTo>
                  <a:lnTo>
                    <a:pt x="3" y="536"/>
                  </a:lnTo>
                  <a:lnTo>
                    <a:pt x="12" y="477"/>
                  </a:lnTo>
                  <a:lnTo>
                    <a:pt x="27" y="419"/>
                  </a:lnTo>
                  <a:lnTo>
                    <a:pt x="47" y="366"/>
                  </a:lnTo>
                  <a:lnTo>
                    <a:pt x="72" y="312"/>
                  </a:lnTo>
                  <a:lnTo>
                    <a:pt x="102" y="264"/>
                  </a:lnTo>
                  <a:lnTo>
                    <a:pt x="137" y="217"/>
                  </a:lnTo>
                  <a:lnTo>
                    <a:pt x="175" y="175"/>
                  </a:lnTo>
                  <a:lnTo>
                    <a:pt x="219" y="137"/>
                  </a:lnTo>
                  <a:lnTo>
                    <a:pt x="264" y="102"/>
                  </a:lnTo>
                  <a:lnTo>
                    <a:pt x="314" y="72"/>
                  </a:lnTo>
                  <a:lnTo>
                    <a:pt x="365" y="47"/>
                  </a:lnTo>
                  <a:lnTo>
                    <a:pt x="420" y="27"/>
                  </a:lnTo>
                  <a:lnTo>
                    <a:pt x="479" y="12"/>
                  </a:lnTo>
                  <a:lnTo>
                    <a:pt x="537" y="3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74040" y="2875680"/>
              <a:ext cx="200520" cy="19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511520" y="2875680"/>
              <a:ext cx="199080" cy="19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098240" y="2601000"/>
              <a:ext cx="417960" cy="748440"/>
            </a:xfrm>
            <a:custGeom>
              <a:avLst/>
              <a:gdLst/>
              <a:ahLst/>
              <a:rect l="l" t="t" r="r" b="b"/>
              <a:pathLst>
                <a:path w="187" h="335">
                  <a:moveTo>
                    <a:pt x="0" y="168"/>
                  </a:moveTo>
                  <a:lnTo>
                    <a:pt x="187" y="0"/>
                  </a:lnTo>
                  <a:lnTo>
                    <a:pt x="187" y="33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1281960" y="3902040"/>
              <a:ext cx="71280" cy="249840"/>
            </a:xfrm>
            <a:custGeom>
              <a:avLst/>
              <a:gdLst/>
              <a:ahLst/>
              <a:rect l="l" t="t" r="r" b="b"/>
              <a:pathLst>
                <a:path w="32" h="112">
                  <a:moveTo>
                    <a:pt x="9" y="0"/>
                  </a:moveTo>
                  <a:lnTo>
                    <a:pt x="26" y="0"/>
                  </a:lnTo>
                  <a:lnTo>
                    <a:pt x="32" y="112"/>
                  </a:lnTo>
                  <a:lnTo>
                    <a:pt x="0" y="1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1811520" y="3902040"/>
              <a:ext cx="60120" cy="249840"/>
            </a:xfrm>
            <a:custGeom>
              <a:avLst/>
              <a:gdLst/>
              <a:ahLst/>
              <a:rect l="l" t="t" r="r" b="b"/>
              <a:pathLst>
                <a:path w="27" h="112">
                  <a:moveTo>
                    <a:pt x="10" y="0"/>
                  </a:moveTo>
                  <a:lnTo>
                    <a:pt x="19" y="0"/>
                  </a:lnTo>
                  <a:lnTo>
                    <a:pt x="27" y="112"/>
                  </a:lnTo>
                  <a:lnTo>
                    <a:pt x="0" y="1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1776240" y="4364280"/>
              <a:ext cx="129240" cy="250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0" y="0"/>
                  </a:moveTo>
                  <a:lnTo>
                    <a:pt x="58" y="112"/>
                  </a:lnTo>
                  <a:lnTo>
                    <a:pt x="0" y="112"/>
                  </a:lnTo>
                  <a:lnTo>
                    <a:pt x="1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906480" y="1935000"/>
              <a:ext cx="3460320" cy="2679840"/>
            </a:xfrm>
            <a:custGeom>
              <a:avLst/>
              <a:gdLst/>
              <a:ahLst/>
              <a:rect l="l" t="t" r="r" b="b"/>
              <a:pathLst>
                <a:path w="1548" h="1199">
                  <a:moveTo>
                    <a:pt x="87" y="0"/>
                  </a:moveTo>
                  <a:lnTo>
                    <a:pt x="1341" y="0"/>
                  </a:lnTo>
                  <a:lnTo>
                    <a:pt x="1341" y="900"/>
                  </a:lnTo>
                  <a:lnTo>
                    <a:pt x="1548" y="995"/>
                  </a:lnTo>
                  <a:lnTo>
                    <a:pt x="1548" y="1199"/>
                  </a:lnTo>
                  <a:lnTo>
                    <a:pt x="447" y="1199"/>
                  </a:lnTo>
                  <a:lnTo>
                    <a:pt x="439" y="1087"/>
                  </a:lnTo>
                  <a:lnTo>
                    <a:pt x="1436" y="1087"/>
                  </a:lnTo>
                  <a:lnTo>
                    <a:pt x="1436" y="1067"/>
                  </a:lnTo>
                  <a:lnTo>
                    <a:pt x="1273" y="992"/>
                  </a:lnTo>
                  <a:lnTo>
                    <a:pt x="432" y="992"/>
                  </a:lnTo>
                  <a:lnTo>
                    <a:pt x="424" y="880"/>
                  </a:lnTo>
                  <a:lnTo>
                    <a:pt x="1229" y="880"/>
                  </a:lnTo>
                  <a:lnTo>
                    <a:pt x="1229" y="112"/>
                  </a:lnTo>
                  <a:lnTo>
                    <a:pt x="350" y="112"/>
                  </a:lnTo>
                  <a:lnTo>
                    <a:pt x="350" y="880"/>
                  </a:lnTo>
                  <a:lnTo>
                    <a:pt x="415" y="880"/>
                  </a:lnTo>
                  <a:lnTo>
                    <a:pt x="405" y="992"/>
                  </a:lnTo>
                  <a:lnTo>
                    <a:pt x="350" y="992"/>
                  </a:lnTo>
                  <a:lnTo>
                    <a:pt x="350" y="1087"/>
                  </a:lnTo>
                  <a:lnTo>
                    <a:pt x="399" y="1087"/>
                  </a:lnTo>
                  <a:lnTo>
                    <a:pt x="389" y="1199"/>
                  </a:lnTo>
                  <a:lnTo>
                    <a:pt x="210" y="1199"/>
                  </a:lnTo>
                  <a:lnTo>
                    <a:pt x="204" y="1087"/>
                  </a:lnTo>
                  <a:lnTo>
                    <a:pt x="239" y="1087"/>
                  </a:lnTo>
                  <a:lnTo>
                    <a:pt x="239" y="992"/>
                  </a:lnTo>
                  <a:lnTo>
                    <a:pt x="200" y="992"/>
                  </a:lnTo>
                  <a:lnTo>
                    <a:pt x="194" y="880"/>
                  </a:lnTo>
                  <a:lnTo>
                    <a:pt x="239" y="880"/>
                  </a:lnTo>
                  <a:lnTo>
                    <a:pt x="239" y="112"/>
                  </a:lnTo>
                  <a:lnTo>
                    <a:pt x="189" y="112"/>
                  </a:lnTo>
                  <a:lnTo>
                    <a:pt x="122" y="880"/>
                  </a:lnTo>
                  <a:lnTo>
                    <a:pt x="177" y="880"/>
                  </a:lnTo>
                  <a:lnTo>
                    <a:pt x="168" y="992"/>
                  </a:lnTo>
                  <a:lnTo>
                    <a:pt x="115" y="992"/>
                  </a:lnTo>
                  <a:lnTo>
                    <a:pt x="115" y="1087"/>
                  </a:lnTo>
                  <a:lnTo>
                    <a:pt x="160" y="1087"/>
                  </a:lnTo>
                  <a:lnTo>
                    <a:pt x="152" y="1199"/>
                  </a:lnTo>
                  <a:lnTo>
                    <a:pt x="5" y="1199"/>
                  </a:lnTo>
                  <a:lnTo>
                    <a:pt x="5" y="992"/>
                  </a:lnTo>
                  <a:lnTo>
                    <a:pt x="0" y="99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1246320" y="4364280"/>
              <a:ext cx="129240" cy="250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2" y="0"/>
                  </a:moveTo>
                  <a:lnTo>
                    <a:pt x="58" y="112"/>
                  </a:lnTo>
                  <a:lnTo>
                    <a:pt x="0" y="112"/>
                  </a:lnTo>
                  <a:lnTo>
                    <a:pt x="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878200" y="2234520"/>
              <a:ext cx="88920" cy="25236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112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19" y="113"/>
                  </a:lnTo>
                  <a:lnTo>
                    <a:pt x="14" y="113"/>
                  </a:lnTo>
                  <a:lnTo>
                    <a:pt x="10" y="113"/>
                  </a:lnTo>
                  <a:lnTo>
                    <a:pt x="5" y="113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1719720" y="2229840"/>
              <a:ext cx="1908720" cy="1638000"/>
            </a:xfrm>
            <a:custGeom>
              <a:avLst/>
              <a:gdLst/>
              <a:ahLst/>
              <a:rect l="l" t="t" r="r" b="b"/>
              <a:pathLst>
                <a:path w="854" h="733">
                  <a:moveTo>
                    <a:pt x="0" y="368"/>
                  </a:moveTo>
                  <a:lnTo>
                    <a:pt x="0" y="331"/>
                  </a:lnTo>
                  <a:lnTo>
                    <a:pt x="3" y="286"/>
                  </a:lnTo>
                  <a:lnTo>
                    <a:pt x="8" y="236"/>
                  </a:lnTo>
                  <a:lnTo>
                    <a:pt x="16" y="186"/>
                  </a:lnTo>
                  <a:lnTo>
                    <a:pt x="28" y="139"/>
                  </a:lnTo>
                  <a:lnTo>
                    <a:pt x="45" y="99"/>
                  </a:lnTo>
                  <a:lnTo>
                    <a:pt x="68" y="67"/>
                  </a:lnTo>
                  <a:lnTo>
                    <a:pt x="98" y="49"/>
                  </a:lnTo>
                  <a:lnTo>
                    <a:pt x="86" y="55"/>
                  </a:lnTo>
                  <a:lnTo>
                    <a:pt x="100" y="49"/>
                  </a:lnTo>
                  <a:lnTo>
                    <a:pt x="115" y="42"/>
                  </a:lnTo>
                  <a:lnTo>
                    <a:pt x="131" y="35"/>
                  </a:lnTo>
                  <a:lnTo>
                    <a:pt x="150" y="30"/>
                  </a:lnTo>
                  <a:lnTo>
                    <a:pt x="170" y="25"/>
                  </a:lnTo>
                  <a:lnTo>
                    <a:pt x="190" y="20"/>
                  </a:lnTo>
                  <a:lnTo>
                    <a:pt x="213" y="17"/>
                  </a:lnTo>
                  <a:lnTo>
                    <a:pt x="235" y="12"/>
                  </a:lnTo>
                  <a:lnTo>
                    <a:pt x="258" y="10"/>
                  </a:lnTo>
                  <a:lnTo>
                    <a:pt x="283" y="7"/>
                  </a:lnTo>
                  <a:lnTo>
                    <a:pt x="308" y="5"/>
                  </a:lnTo>
                  <a:lnTo>
                    <a:pt x="332" y="4"/>
                  </a:lnTo>
                  <a:lnTo>
                    <a:pt x="357" y="2"/>
                  </a:lnTo>
                  <a:lnTo>
                    <a:pt x="382" y="0"/>
                  </a:lnTo>
                  <a:lnTo>
                    <a:pt x="405" y="0"/>
                  </a:lnTo>
                  <a:lnTo>
                    <a:pt x="428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2" y="0"/>
                  </a:lnTo>
                  <a:lnTo>
                    <a:pt x="473" y="0"/>
                  </a:lnTo>
                  <a:lnTo>
                    <a:pt x="485" y="2"/>
                  </a:lnTo>
                  <a:lnTo>
                    <a:pt x="497" y="2"/>
                  </a:lnTo>
                  <a:lnTo>
                    <a:pt x="507" y="2"/>
                  </a:lnTo>
                  <a:lnTo>
                    <a:pt x="518" y="2"/>
                  </a:lnTo>
                  <a:lnTo>
                    <a:pt x="518" y="114"/>
                  </a:lnTo>
                  <a:lnTo>
                    <a:pt x="508" y="114"/>
                  </a:lnTo>
                  <a:lnTo>
                    <a:pt x="498" y="112"/>
                  </a:lnTo>
                  <a:lnTo>
                    <a:pt x="487" y="112"/>
                  </a:lnTo>
                  <a:lnTo>
                    <a:pt x="477" y="112"/>
                  </a:lnTo>
                  <a:lnTo>
                    <a:pt x="465" y="112"/>
                  </a:lnTo>
                  <a:lnTo>
                    <a:pt x="453" y="112"/>
                  </a:lnTo>
                  <a:lnTo>
                    <a:pt x="440" y="112"/>
                  </a:lnTo>
                  <a:lnTo>
                    <a:pt x="428" y="112"/>
                  </a:lnTo>
                  <a:lnTo>
                    <a:pt x="398" y="112"/>
                  </a:lnTo>
                  <a:lnTo>
                    <a:pt x="370" y="114"/>
                  </a:lnTo>
                  <a:lnTo>
                    <a:pt x="343" y="114"/>
                  </a:lnTo>
                  <a:lnTo>
                    <a:pt x="318" y="115"/>
                  </a:lnTo>
                  <a:lnTo>
                    <a:pt x="295" y="117"/>
                  </a:lnTo>
                  <a:lnTo>
                    <a:pt x="273" y="120"/>
                  </a:lnTo>
                  <a:lnTo>
                    <a:pt x="253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202" y="132"/>
                  </a:lnTo>
                  <a:lnTo>
                    <a:pt x="188" y="134"/>
                  </a:lnTo>
                  <a:lnTo>
                    <a:pt x="176" y="137"/>
                  </a:lnTo>
                  <a:lnTo>
                    <a:pt x="166" y="141"/>
                  </a:lnTo>
                  <a:lnTo>
                    <a:pt x="156" y="144"/>
                  </a:lnTo>
                  <a:lnTo>
                    <a:pt x="150" y="146"/>
                  </a:lnTo>
                  <a:lnTo>
                    <a:pt x="145" y="149"/>
                  </a:lnTo>
                  <a:lnTo>
                    <a:pt x="143" y="151"/>
                  </a:lnTo>
                  <a:lnTo>
                    <a:pt x="133" y="176"/>
                  </a:lnTo>
                  <a:lnTo>
                    <a:pt x="123" y="221"/>
                  </a:lnTo>
                  <a:lnTo>
                    <a:pt x="115" y="284"/>
                  </a:lnTo>
                  <a:lnTo>
                    <a:pt x="111" y="368"/>
                  </a:lnTo>
                  <a:lnTo>
                    <a:pt x="115" y="449"/>
                  </a:lnTo>
                  <a:lnTo>
                    <a:pt x="123" y="513"/>
                  </a:lnTo>
                  <a:lnTo>
                    <a:pt x="133" y="559"/>
                  </a:lnTo>
                  <a:lnTo>
                    <a:pt x="143" y="586"/>
                  </a:lnTo>
                  <a:lnTo>
                    <a:pt x="150" y="590"/>
                  </a:lnTo>
                  <a:lnTo>
                    <a:pt x="160" y="593"/>
                  </a:lnTo>
                  <a:lnTo>
                    <a:pt x="170" y="596"/>
                  </a:lnTo>
                  <a:lnTo>
                    <a:pt x="181" y="598"/>
                  </a:lnTo>
                  <a:lnTo>
                    <a:pt x="195" y="601"/>
                  </a:lnTo>
                  <a:lnTo>
                    <a:pt x="210" y="605"/>
                  </a:lnTo>
                  <a:lnTo>
                    <a:pt x="227" y="608"/>
                  </a:lnTo>
                  <a:lnTo>
                    <a:pt x="245" y="610"/>
                  </a:lnTo>
                  <a:lnTo>
                    <a:pt x="263" y="613"/>
                  </a:lnTo>
                  <a:lnTo>
                    <a:pt x="283" y="615"/>
                  </a:lnTo>
                  <a:lnTo>
                    <a:pt x="305" y="616"/>
                  </a:lnTo>
                  <a:lnTo>
                    <a:pt x="327" y="618"/>
                  </a:lnTo>
                  <a:lnTo>
                    <a:pt x="350" y="620"/>
                  </a:lnTo>
                  <a:lnTo>
                    <a:pt x="373" y="621"/>
                  </a:lnTo>
                  <a:lnTo>
                    <a:pt x="398" y="621"/>
                  </a:lnTo>
                  <a:lnTo>
                    <a:pt x="425" y="621"/>
                  </a:lnTo>
                  <a:lnTo>
                    <a:pt x="450" y="621"/>
                  </a:lnTo>
                  <a:lnTo>
                    <a:pt x="475" y="621"/>
                  </a:lnTo>
                  <a:lnTo>
                    <a:pt x="500" y="620"/>
                  </a:lnTo>
                  <a:lnTo>
                    <a:pt x="522" y="618"/>
                  </a:lnTo>
                  <a:lnTo>
                    <a:pt x="545" y="616"/>
                  </a:lnTo>
                  <a:lnTo>
                    <a:pt x="565" y="615"/>
                  </a:lnTo>
                  <a:lnTo>
                    <a:pt x="585" y="613"/>
                  </a:lnTo>
                  <a:lnTo>
                    <a:pt x="605" y="610"/>
                  </a:lnTo>
                  <a:lnTo>
                    <a:pt x="622" y="608"/>
                  </a:lnTo>
                  <a:lnTo>
                    <a:pt x="639" y="605"/>
                  </a:lnTo>
                  <a:lnTo>
                    <a:pt x="654" y="601"/>
                  </a:lnTo>
                  <a:lnTo>
                    <a:pt x="667" y="598"/>
                  </a:lnTo>
                  <a:lnTo>
                    <a:pt x="679" y="596"/>
                  </a:lnTo>
                  <a:lnTo>
                    <a:pt x="689" y="593"/>
                  </a:lnTo>
                  <a:lnTo>
                    <a:pt x="699" y="590"/>
                  </a:lnTo>
                  <a:lnTo>
                    <a:pt x="705" y="586"/>
                  </a:lnTo>
                  <a:lnTo>
                    <a:pt x="712" y="583"/>
                  </a:lnTo>
                  <a:lnTo>
                    <a:pt x="722" y="556"/>
                  </a:lnTo>
                  <a:lnTo>
                    <a:pt x="732" y="509"/>
                  </a:lnTo>
                  <a:lnTo>
                    <a:pt x="739" y="446"/>
                  </a:lnTo>
                  <a:lnTo>
                    <a:pt x="742" y="368"/>
                  </a:lnTo>
                  <a:lnTo>
                    <a:pt x="739" y="287"/>
                  </a:lnTo>
                  <a:lnTo>
                    <a:pt x="730" y="222"/>
                  </a:lnTo>
                  <a:lnTo>
                    <a:pt x="720" y="177"/>
                  </a:lnTo>
                  <a:lnTo>
                    <a:pt x="710" y="151"/>
                  </a:lnTo>
                  <a:lnTo>
                    <a:pt x="709" y="147"/>
                  </a:lnTo>
                  <a:lnTo>
                    <a:pt x="699" y="144"/>
                  </a:lnTo>
                  <a:lnTo>
                    <a:pt x="687" y="139"/>
                  </a:lnTo>
                  <a:lnTo>
                    <a:pt x="670" y="134"/>
                  </a:lnTo>
                  <a:lnTo>
                    <a:pt x="650" y="131"/>
                  </a:lnTo>
                  <a:lnTo>
                    <a:pt x="627" y="126"/>
                  </a:lnTo>
                  <a:lnTo>
                    <a:pt x="600" y="122"/>
                  </a:lnTo>
                  <a:lnTo>
                    <a:pt x="570" y="119"/>
                  </a:lnTo>
                  <a:lnTo>
                    <a:pt x="537" y="115"/>
                  </a:lnTo>
                  <a:lnTo>
                    <a:pt x="558" y="5"/>
                  </a:lnTo>
                  <a:lnTo>
                    <a:pt x="604" y="10"/>
                  </a:lnTo>
                  <a:lnTo>
                    <a:pt x="645" y="15"/>
                  </a:lnTo>
                  <a:lnTo>
                    <a:pt x="685" y="24"/>
                  </a:lnTo>
                  <a:lnTo>
                    <a:pt x="722" y="34"/>
                  </a:lnTo>
                  <a:lnTo>
                    <a:pt x="752" y="47"/>
                  </a:lnTo>
                  <a:lnTo>
                    <a:pt x="779" y="62"/>
                  </a:lnTo>
                  <a:lnTo>
                    <a:pt x="797" y="79"/>
                  </a:lnTo>
                  <a:lnTo>
                    <a:pt x="809" y="100"/>
                  </a:lnTo>
                  <a:lnTo>
                    <a:pt x="827" y="149"/>
                  </a:lnTo>
                  <a:lnTo>
                    <a:pt x="842" y="211"/>
                  </a:lnTo>
                  <a:lnTo>
                    <a:pt x="850" y="284"/>
                  </a:lnTo>
                  <a:lnTo>
                    <a:pt x="854" y="368"/>
                  </a:lnTo>
                  <a:lnTo>
                    <a:pt x="854" y="394"/>
                  </a:lnTo>
                  <a:lnTo>
                    <a:pt x="852" y="429"/>
                  </a:lnTo>
                  <a:lnTo>
                    <a:pt x="849" y="469"/>
                  </a:lnTo>
                  <a:lnTo>
                    <a:pt x="844" y="514"/>
                  </a:lnTo>
                  <a:lnTo>
                    <a:pt x="835" y="559"/>
                  </a:lnTo>
                  <a:lnTo>
                    <a:pt x="824" y="601"/>
                  </a:lnTo>
                  <a:lnTo>
                    <a:pt x="807" y="638"/>
                  </a:lnTo>
                  <a:lnTo>
                    <a:pt x="787" y="666"/>
                  </a:lnTo>
                  <a:lnTo>
                    <a:pt x="777" y="675"/>
                  </a:lnTo>
                  <a:lnTo>
                    <a:pt x="767" y="681"/>
                  </a:lnTo>
                  <a:lnTo>
                    <a:pt x="757" y="686"/>
                  </a:lnTo>
                  <a:lnTo>
                    <a:pt x="749" y="688"/>
                  </a:lnTo>
                  <a:lnTo>
                    <a:pt x="734" y="695"/>
                  </a:lnTo>
                  <a:lnTo>
                    <a:pt x="719" y="700"/>
                  </a:lnTo>
                  <a:lnTo>
                    <a:pt x="700" y="705"/>
                  </a:lnTo>
                  <a:lnTo>
                    <a:pt x="682" y="710"/>
                  </a:lnTo>
                  <a:lnTo>
                    <a:pt x="664" y="713"/>
                  </a:lnTo>
                  <a:lnTo>
                    <a:pt x="644" y="716"/>
                  </a:lnTo>
                  <a:lnTo>
                    <a:pt x="622" y="720"/>
                  </a:lnTo>
                  <a:lnTo>
                    <a:pt x="600" y="723"/>
                  </a:lnTo>
                  <a:lnTo>
                    <a:pt x="579" y="725"/>
                  </a:lnTo>
                  <a:lnTo>
                    <a:pt x="557" y="728"/>
                  </a:lnTo>
                  <a:lnTo>
                    <a:pt x="533" y="730"/>
                  </a:lnTo>
                  <a:lnTo>
                    <a:pt x="512" y="731"/>
                  </a:lnTo>
                  <a:lnTo>
                    <a:pt x="490" y="731"/>
                  </a:lnTo>
                  <a:lnTo>
                    <a:pt x="467" y="733"/>
                  </a:lnTo>
                  <a:lnTo>
                    <a:pt x="447" y="733"/>
                  </a:lnTo>
                  <a:lnTo>
                    <a:pt x="425" y="733"/>
                  </a:lnTo>
                  <a:lnTo>
                    <a:pt x="402" y="733"/>
                  </a:lnTo>
                  <a:lnTo>
                    <a:pt x="380" y="733"/>
                  </a:lnTo>
                  <a:lnTo>
                    <a:pt x="357" y="731"/>
                  </a:lnTo>
                  <a:lnTo>
                    <a:pt x="332" y="730"/>
                  </a:lnTo>
                  <a:lnTo>
                    <a:pt x="308" y="728"/>
                  </a:lnTo>
                  <a:lnTo>
                    <a:pt x="285" y="726"/>
                  </a:lnTo>
                  <a:lnTo>
                    <a:pt x="262" y="725"/>
                  </a:lnTo>
                  <a:lnTo>
                    <a:pt x="238" y="721"/>
                  </a:lnTo>
                  <a:lnTo>
                    <a:pt x="215" y="718"/>
                  </a:lnTo>
                  <a:lnTo>
                    <a:pt x="193" y="715"/>
                  </a:lnTo>
                  <a:lnTo>
                    <a:pt x="173" y="711"/>
                  </a:lnTo>
                  <a:lnTo>
                    <a:pt x="153" y="706"/>
                  </a:lnTo>
                  <a:lnTo>
                    <a:pt x="135" y="701"/>
                  </a:lnTo>
                  <a:lnTo>
                    <a:pt x="118" y="696"/>
                  </a:lnTo>
                  <a:lnTo>
                    <a:pt x="103" y="690"/>
                  </a:lnTo>
                  <a:lnTo>
                    <a:pt x="90" y="683"/>
                  </a:lnTo>
                  <a:lnTo>
                    <a:pt x="100" y="688"/>
                  </a:lnTo>
                  <a:lnTo>
                    <a:pt x="91" y="685"/>
                  </a:lnTo>
                  <a:lnTo>
                    <a:pt x="83" y="680"/>
                  </a:lnTo>
                  <a:lnTo>
                    <a:pt x="75" y="673"/>
                  </a:lnTo>
                  <a:lnTo>
                    <a:pt x="66" y="666"/>
                  </a:lnTo>
                  <a:lnTo>
                    <a:pt x="58" y="658"/>
                  </a:lnTo>
                  <a:lnTo>
                    <a:pt x="53" y="651"/>
                  </a:lnTo>
                  <a:lnTo>
                    <a:pt x="46" y="643"/>
                  </a:lnTo>
                  <a:lnTo>
                    <a:pt x="43" y="635"/>
                  </a:lnTo>
                  <a:lnTo>
                    <a:pt x="48" y="645"/>
                  </a:lnTo>
                  <a:lnTo>
                    <a:pt x="28" y="598"/>
                  </a:lnTo>
                  <a:lnTo>
                    <a:pt x="13" y="533"/>
                  </a:lnTo>
                  <a:lnTo>
                    <a:pt x="3" y="456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973480" y="2534040"/>
              <a:ext cx="976680" cy="976680"/>
            </a:xfrm>
            <a:custGeom>
              <a:avLst/>
              <a:gdLst/>
              <a:ahLst/>
              <a:rect l="l" t="t" r="r" b="b"/>
              <a:pathLst>
                <a:path w="437" h="437">
                  <a:moveTo>
                    <a:pt x="437" y="218"/>
                  </a:moveTo>
                  <a:lnTo>
                    <a:pt x="435" y="196"/>
                  </a:lnTo>
                  <a:lnTo>
                    <a:pt x="432" y="175"/>
                  </a:lnTo>
                  <a:lnTo>
                    <a:pt x="427" y="155"/>
                  </a:lnTo>
                  <a:lnTo>
                    <a:pt x="420" y="135"/>
                  </a:lnTo>
                  <a:lnTo>
                    <a:pt x="412" y="115"/>
                  </a:lnTo>
                  <a:lnTo>
                    <a:pt x="400" y="98"/>
                  </a:lnTo>
                  <a:lnTo>
                    <a:pt x="389" y="80"/>
                  </a:lnTo>
                  <a:lnTo>
                    <a:pt x="374" y="65"/>
                  </a:lnTo>
                  <a:lnTo>
                    <a:pt x="357" y="50"/>
                  </a:lnTo>
                  <a:lnTo>
                    <a:pt x="340" y="36"/>
                  </a:lnTo>
                  <a:lnTo>
                    <a:pt x="322" y="26"/>
                  </a:lnTo>
                  <a:lnTo>
                    <a:pt x="302" y="16"/>
                  </a:lnTo>
                  <a:lnTo>
                    <a:pt x="282" y="10"/>
                  </a:lnTo>
                  <a:lnTo>
                    <a:pt x="262" y="5"/>
                  </a:lnTo>
                  <a:lnTo>
                    <a:pt x="240" y="1"/>
                  </a:lnTo>
                  <a:lnTo>
                    <a:pt x="219" y="0"/>
                  </a:lnTo>
                  <a:lnTo>
                    <a:pt x="175" y="5"/>
                  </a:lnTo>
                  <a:lnTo>
                    <a:pt x="133" y="16"/>
                  </a:lnTo>
                  <a:lnTo>
                    <a:pt x="97" y="36"/>
                  </a:lnTo>
                  <a:lnTo>
                    <a:pt x="65" y="63"/>
                  </a:lnTo>
                  <a:lnTo>
                    <a:pt x="37" y="96"/>
                  </a:lnTo>
                  <a:lnTo>
                    <a:pt x="17" y="133"/>
                  </a:lnTo>
                  <a:lnTo>
                    <a:pt x="5" y="175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5" y="262"/>
                  </a:lnTo>
                  <a:lnTo>
                    <a:pt x="10" y="282"/>
                  </a:lnTo>
                  <a:lnTo>
                    <a:pt x="17" y="302"/>
                  </a:lnTo>
                  <a:lnTo>
                    <a:pt x="25" y="322"/>
                  </a:lnTo>
                  <a:lnTo>
                    <a:pt x="37" y="340"/>
                  </a:lnTo>
                  <a:lnTo>
                    <a:pt x="48" y="357"/>
                  </a:lnTo>
                  <a:lnTo>
                    <a:pt x="63" y="373"/>
                  </a:lnTo>
                  <a:lnTo>
                    <a:pt x="80" y="388"/>
                  </a:lnTo>
                  <a:lnTo>
                    <a:pt x="97" y="400"/>
                  </a:lnTo>
                  <a:lnTo>
                    <a:pt x="115" y="412"/>
                  </a:lnTo>
                  <a:lnTo>
                    <a:pt x="135" y="420"/>
                  </a:lnTo>
                  <a:lnTo>
                    <a:pt x="155" y="428"/>
                  </a:lnTo>
                  <a:lnTo>
                    <a:pt x="175" y="433"/>
                  </a:lnTo>
                  <a:lnTo>
                    <a:pt x="197" y="435"/>
                  </a:lnTo>
                  <a:lnTo>
                    <a:pt x="219" y="437"/>
                  </a:lnTo>
                  <a:lnTo>
                    <a:pt x="240" y="435"/>
                  </a:lnTo>
                  <a:lnTo>
                    <a:pt x="262" y="433"/>
                  </a:lnTo>
                  <a:lnTo>
                    <a:pt x="282" y="428"/>
                  </a:lnTo>
                  <a:lnTo>
                    <a:pt x="302" y="420"/>
                  </a:lnTo>
                  <a:lnTo>
                    <a:pt x="322" y="412"/>
                  </a:lnTo>
                  <a:lnTo>
                    <a:pt x="340" y="400"/>
                  </a:lnTo>
                  <a:lnTo>
                    <a:pt x="357" y="388"/>
                  </a:lnTo>
                  <a:lnTo>
                    <a:pt x="374" y="373"/>
                  </a:lnTo>
                  <a:lnTo>
                    <a:pt x="389" y="357"/>
                  </a:lnTo>
                  <a:lnTo>
                    <a:pt x="400" y="340"/>
                  </a:lnTo>
                  <a:lnTo>
                    <a:pt x="412" y="322"/>
                  </a:lnTo>
                  <a:lnTo>
                    <a:pt x="420" y="302"/>
                  </a:lnTo>
                  <a:lnTo>
                    <a:pt x="427" y="282"/>
                  </a:lnTo>
                  <a:lnTo>
                    <a:pt x="432" y="262"/>
                  </a:lnTo>
                  <a:lnTo>
                    <a:pt x="435" y="240"/>
                  </a:lnTo>
                  <a:lnTo>
                    <a:pt x="437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6224040" y="2786400"/>
              <a:ext cx="475920" cy="47376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107" y="212"/>
                  </a:moveTo>
                  <a:lnTo>
                    <a:pt x="97" y="212"/>
                  </a:lnTo>
                  <a:lnTo>
                    <a:pt x="85" y="210"/>
                  </a:lnTo>
                  <a:lnTo>
                    <a:pt x="75" y="207"/>
                  </a:lnTo>
                  <a:lnTo>
                    <a:pt x="67" y="204"/>
                  </a:lnTo>
                  <a:lnTo>
                    <a:pt x="57" y="199"/>
                  </a:lnTo>
                  <a:lnTo>
                    <a:pt x="48" y="194"/>
                  </a:lnTo>
                  <a:lnTo>
                    <a:pt x="40" y="187"/>
                  </a:lnTo>
                  <a:lnTo>
                    <a:pt x="32" y="180"/>
                  </a:lnTo>
                  <a:lnTo>
                    <a:pt x="18" y="164"/>
                  </a:lnTo>
                  <a:lnTo>
                    <a:pt x="8" y="145"/>
                  </a:lnTo>
                  <a:lnTo>
                    <a:pt x="1" y="127"/>
                  </a:lnTo>
                  <a:lnTo>
                    <a:pt x="0" y="105"/>
                  </a:lnTo>
                  <a:lnTo>
                    <a:pt x="1" y="83"/>
                  </a:lnTo>
                  <a:lnTo>
                    <a:pt x="8" y="65"/>
                  </a:lnTo>
                  <a:lnTo>
                    <a:pt x="18" y="47"/>
                  </a:lnTo>
                  <a:lnTo>
                    <a:pt x="32" y="30"/>
                  </a:lnTo>
                  <a:lnTo>
                    <a:pt x="40" y="23"/>
                  </a:lnTo>
                  <a:lnTo>
                    <a:pt x="48" y="17"/>
                  </a:lnTo>
                  <a:lnTo>
                    <a:pt x="57" y="12"/>
                  </a:lnTo>
                  <a:lnTo>
                    <a:pt x="67" y="7"/>
                  </a:lnTo>
                  <a:lnTo>
                    <a:pt x="75" y="5"/>
                  </a:lnTo>
                  <a:lnTo>
                    <a:pt x="85" y="2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8" y="5"/>
                  </a:lnTo>
                  <a:lnTo>
                    <a:pt x="147" y="7"/>
                  </a:lnTo>
                  <a:lnTo>
                    <a:pt x="157" y="12"/>
                  </a:lnTo>
                  <a:lnTo>
                    <a:pt x="165" y="17"/>
                  </a:lnTo>
                  <a:lnTo>
                    <a:pt x="173" y="23"/>
                  </a:lnTo>
                  <a:lnTo>
                    <a:pt x="182" y="30"/>
                  </a:lnTo>
                  <a:lnTo>
                    <a:pt x="195" y="47"/>
                  </a:lnTo>
                  <a:lnTo>
                    <a:pt x="205" y="65"/>
                  </a:lnTo>
                  <a:lnTo>
                    <a:pt x="212" y="83"/>
                  </a:lnTo>
                  <a:lnTo>
                    <a:pt x="213" y="105"/>
                  </a:lnTo>
                  <a:lnTo>
                    <a:pt x="212" y="127"/>
                  </a:lnTo>
                  <a:lnTo>
                    <a:pt x="205" y="147"/>
                  </a:lnTo>
                  <a:lnTo>
                    <a:pt x="195" y="165"/>
                  </a:lnTo>
                  <a:lnTo>
                    <a:pt x="182" y="180"/>
                  </a:lnTo>
                  <a:lnTo>
                    <a:pt x="167" y="194"/>
                  </a:lnTo>
                  <a:lnTo>
                    <a:pt x="148" y="204"/>
                  </a:lnTo>
                  <a:lnTo>
                    <a:pt x="128" y="210"/>
                  </a:lnTo>
                  <a:lnTo>
                    <a:pt x="107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5571000" y="1820880"/>
              <a:ext cx="2762640" cy="2972880"/>
            </a:xfrm>
            <a:custGeom>
              <a:avLst/>
              <a:gdLst/>
              <a:ahLst/>
              <a:rect l="l" t="t" r="r" b="b"/>
              <a:pathLst>
                <a:path w="1236" h="1330">
                  <a:moveTo>
                    <a:pt x="1231" y="893"/>
                  </a:moveTo>
                  <a:lnTo>
                    <a:pt x="1228" y="886"/>
                  </a:lnTo>
                  <a:lnTo>
                    <a:pt x="1223" y="879"/>
                  </a:lnTo>
                  <a:lnTo>
                    <a:pt x="1216" y="873"/>
                  </a:lnTo>
                  <a:lnTo>
                    <a:pt x="1211" y="868"/>
                  </a:lnTo>
                  <a:lnTo>
                    <a:pt x="1204" y="864"/>
                  </a:lnTo>
                  <a:lnTo>
                    <a:pt x="1196" y="861"/>
                  </a:lnTo>
                  <a:lnTo>
                    <a:pt x="1189" y="859"/>
                  </a:lnTo>
                  <a:lnTo>
                    <a:pt x="1181" y="858"/>
                  </a:lnTo>
                  <a:lnTo>
                    <a:pt x="1149" y="853"/>
                  </a:lnTo>
                  <a:lnTo>
                    <a:pt x="1121" y="841"/>
                  </a:lnTo>
                  <a:lnTo>
                    <a:pt x="1094" y="826"/>
                  </a:lnTo>
                  <a:lnTo>
                    <a:pt x="1073" y="804"/>
                  </a:lnTo>
                  <a:lnTo>
                    <a:pt x="1052" y="781"/>
                  </a:lnTo>
                  <a:lnTo>
                    <a:pt x="1039" y="754"/>
                  </a:lnTo>
                  <a:lnTo>
                    <a:pt x="1031" y="724"/>
                  </a:lnTo>
                  <a:lnTo>
                    <a:pt x="1027" y="692"/>
                  </a:lnTo>
                  <a:lnTo>
                    <a:pt x="1029" y="667"/>
                  </a:lnTo>
                  <a:lnTo>
                    <a:pt x="1036" y="642"/>
                  </a:lnTo>
                  <a:lnTo>
                    <a:pt x="1046" y="619"/>
                  </a:lnTo>
                  <a:lnTo>
                    <a:pt x="1059" y="596"/>
                  </a:lnTo>
                  <a:lnTo>
                    <a:pt x="1059" y="596"/>
                  </a:lnTo>
                  <a:lnTo>
                    <a:pt x="1059" y="596"/>
                  </a:lnTo>
                  <a:lnTo>
                    <a:pt x="1058" y="597"/>
                  </a:lnTo>
                  <a:lnTo>
                    <a:pt x="1058" y="597"/>
                  </a:lnTo>
                  <a:lnTo>
                    <a:pt x="1076" y="572"/>
                  </a:lnTo>
                  <a:lnTo>
                    <a:pt x="1091" y="547"/>
                  </a:lnTo>
                  <a:lnTo>
                    <a:pt x="1104" y="519"/>
                  </a:lnTo>
                  <a:lnTo>
                    <a:pt x="1116" y="490"/>
                  </a:lnTo>
                  <a:lnTo>
                    <a:pt x="1124" y="462"/>
                  </a:lnTo>
                  <a:lnTo>
                    <a:pt x="1131" y="434"/>
                  </a:lnTo>
                  <a:lnTo>
                    <a:pt x="1134" y="404"/>
                  </a:lnTo>
                  <a:lnTo>
                    <a:pt x="1136" y="375"/>
                  </a:lnTo>
                  <a:lnTo>
                    <a:pt x="1134" y="340"/>
                  </a:lnTo>
                  <a:lnTo>
                    <a:pt x="1129" y="305"/>
                  </a:lnTo>
                  <a:lnTo>
                    <a:pt x="1121" y="272"/>
                  </a:lnTo>
                  <a:lnTo>
                    <a:pt x="1109" y="238"/>
                  </a:lnTo>
                  <a:lnTo>
                    <a:pt x="1094" y="207"/>
                  </a:lnTo>
                  <a:lnTo>
                    <a:pt x="1076" y="177"/>
                  </a:lnTo>
                  <a:lnTo>
                    <a:pt x="1054" y="150"/>
                  </a:lnTo>
                  <a:lnTo>
                    <a:pt x="1031" y="123"/>
                  </a:lnTo>
                  <a:lnTo>
                    <a:pt x="1004" y="100"/>
                  </a:lnTo>
                  <a:lnTo>
                    <a:pt x="977" y="78"/>
                  </a:lnTo>
                  <a:lnTo>
                    <a:pt x="947" y="60"/>
                  </a:lnTo>
                  <a:lnTo>
                    <a:pt x="916" y="45"/>
                  </a:lnTo>
                  <a:lnTo>
                    <a:pt x="882" y="33"/>
                  </a:lnTo>
                  <a:lnTo>
                    <a:pt x="849" y="25"/>
                  </a:lnTo>
                  <a:lnTo>
                    <a:pt x="814" y="20"/>
                  </a:lnTo>
                  <a:lnTo>
                    <a:pt x="779" y="18"/>
                  </a:lnTo>
                  <a:lnTo>
                    <a:pt x="761" y="18"/>
                  </a:lnTo>
                  <a:lnTo>
                    <a:pt x="741" y="20"/>
                  </a:lnTo>
                  <a:lnTo>
                    <a:pt x="722" y="23"/>
                  </a:lnTo>
                  <a:lnTo>
                    <a:pt x="702" y="26"/>
                  </a:lnTo>
                  <a:lnTo>
                    <a:pt x="684" y="31"/>
                  </a:lnTo>
                  <a:lnTo>
                    <a:pt x="665" y="36"/>
                  </a:lnTo>
                  <a:lnTo>
                    <a:pt x="647" y="43"/>
                  </a:lnTo>
                  <a:lnTo>
                    <a:pt x="629" y="50"/>
                  </a:lnTo>
                  <a:lnTo>
                    <a:pt x="607" y="38"/>
                  </a:lnTo>
                  <a:lnTo>
                    <a:pt x="585" y="28"/>
                  </a:lnTo>
                  <a:lnTo>
                    <a:pt x="562" y="20"/>
                  </a:lnTo>
                  <a:lnTo>
                    <a:pt x="539" y="11"/>
                  </a:lnTo>
                  <a:lnTo>
                    <a:pt x="514" y="6"/>
                  </a:lnTo>
                  <a:lnTo>
                    <a:pt x="489" y="3"/>
                  </a:lnTo>
                  <a:lnTo>
                    <a:pt x="462" y="0"/>
                  </a:lnTo>
                  <a:lnTo>
                    <a:pt x="437" y="0"/>
                  </a:lnTo>
                  <a:lnTo>
                    <a:pt x="400" y="1"/>
                  </a:lnTo>
                  <a:lnTo>
                    <a:pt x="364" y="6"/>
                  </a:lnTo>
                  <a:lnTo>
                    <a:pt x="329" y="16"/>
                  </a:lnTo>
                  <a:lnTo>
                    <a:pt x="295" y="28"/>
                  </a:lnTo>
                  <a:lnTo>
                    <a:pt x="262" y="43"/>
                  </a:lnTo>
                  <a:lnTo>
                    <a:pt x="232" y="61"/>
                  </a:lnTo>
                  <a:lnTo>
                    <a:pt x="203" y="83"/>
                  </a:lnTo>
                  <a:lnTo>
                    <a:pt x="178" y="107"/>
                  </a:lnTo>
                  <a:lnTo>
                    <a:pt x="153" y="133"/>
                  </a:lnTo>
                  <a:lnTo>
                    <a:pt x="133" y="162"/>
                  </a:lnTo>
                  <a:lnTo>
                    <a:pt x="115" y="192"/>
                  </a:lnTo>
                  <a:lnTo>
                    <a:pt x="98" y="223"/>
                  </a:lnTo>
                  <a:lnTo>
                    <a:pt x="87" y="257"/>
                  </a:lnTo>
                  <a:lnTo>
                    <a:pt x="77" y="292"/>
                  </a:lnTo>
                  <a:lnTo>
                    <a:pt x="72" y="329"/>
                  </a:lnTo>
                  <a:lnTo>
                    <a:pt x="70" y="365"/>
                  </a:lnTo>
                  <a:lnTo>
                    <a:pt x="72" y="377"/>
                  </a:lnTo>
                  <a:lnTo>
                    <a:pt x="75" y="389"/>
                  </a:lnTo>
                  <a:lnTo>
                    <a:pt x="80" y="399"/>
                  </a:lnTo>
                  <a:lnTo>
                    <a:pt x="88" y="407"/>
                  </a:lnTo>
                  <a:lnTo>
                    <a:pt x="97" y="415"/>
                  </a:lnTo>
                  <a:lnTo>
                    <a:pt x="107" y="420"/>
                  </a:lnTo>
                  <a:lnTo>
                    <a:pt x="118" y="424"/>
                  </a:lnTo>
                  <a:lnTo>
                    <a:pt x="130" y="425"/>
                  </a:lnTo>
                  <a:lnTo>
                    <a:pt x="142" y="424"/>
                  </a:lnTo>
                  <a:lnTo>
                    <a:pt x="153" y="420"/>
                  </a:lnTo>
                  <a:lnTo>
                    <a:pt x="163" y="415"/>
                  </a:lnTo>
                  <a:lnTo>
                    <a:pt x="173" y="407"/>
                  </a:lnTo>
                  <a:lnTo>
                    <a:pt x="180" y="399"/>
                  </a:lnTo>
                  <a:lnTo>
                    <a:pt x="185" y="389"/>
                  </a:lnTo>
                  <a:lnTo>
                    <a:pt x="188" y="377"/>
                  </a:lnTo>
                  <a:lnTo>
                    <a:pt x="190" y="365"/>
                  </a:lnTo>
                  <a:lnTo>
                    <a:pt x="192" y="340"/>
                  </a:lnTo>
                  <a:lnTo>
                    <a:pt x="195" y="317"/>
                  </a:lnTo>
                  <a:lnTo>
                    <a:pt x="202" y="293"/>
                  </a:lnTo>
                  <a:lnTo>
                    <a:pt x="210" y="272"/>
                  </a:lnTo>
                  <a:lnTo>
                    <a:pt x="220" y="250"/>
                  </a:lnTo>
                  <a:lnTo>
                    <a:pt x="232" y="230"/>
                  </a:lnTo>
                  <a:lnTo>
                    <a:pt x="247" y="210"/>
                  </a:lnTo>
                  <a:lnTo>
                    <a:pt x="263" y="192"/>
                  </a:lnTo>
                  <a:lnTo>
                    <a:pt x="282" y="175"/>
                  </a:lnTo>
                  <a:lnTo>
                    <a:pt x="300" y="160"/>
                  </a:lnTo>
                  <a:lnTo>
                    <a:pt x="320" y="148"/>
                  </a:lnTo>
                  <a:lnTo>
                    <a:pt x="344" y="138"/>
                  </a:lnTo>
                  <a:lnTo>
                    <a:pt x="365" y="130"/>
                  </a:lnTo>
                  <a:lnTo>
                    <a:pt x="389" y="125"/>
                  </a:lnTo>
                  <a:lnTo>
                    <a:pt x="412" y="122"/>
                  </a:lnTo>
                  <a:lnTo>
                    <a:pt x="437" y="120"/>
                  </a:lnTo>
                  <a:lnTo>
                    <a:pt x="459" y="120"/>
                  </a:lnTo>
                  <a:lnTo>
                    <a:pt x="479" y="123"/>
                  </a:lnTo>
                  <a:lnTo>
                    <a:pt x="499" y="127"/>
                  </a:lnTo>
                  <a:lnTo>
                    <a:pt x="519" y="132"/>
                  </a:lnTo>
                  <a:lnTo>
                    <a:pt x="539" y="138"/>
                  </a:lnTo>
                  <a:lnTo>
                    <a:pt x="555" y="147"/>
                  </a:lnTo>
                  <a:lnTo>
                    <a:pt x="574" y="157"/>
                  </a:lnTo>
                  <a:lnTo>
                    <a:pt x="589" y="167"/>
                  </a:lnTo>
                  <a:lnTo>
                    <a:pt x="597" y="172"/>
                  </a:lnTo>
                  <a:lnTo>
                    <a:pt x="604" y="175"/>
                  </a:lnTo>
                  <a:lnTo>
                    <a:pt x="614" y="177"/>
                  </a:lnTo>
                  <a:lnTo>
                    <a:pt x="622" y="178"/>
                  </a:lnTo>
                  <a:lnTo>
                    <a:pt x="630" y="178"/>
                  </a:lnTo>
                  <a:lnTo>
                    <a:pt x="639" y="177"/>
                  </a:lnTo>
                  <a:lnTo>
                    <a:pt x="647" y="173"/>
                  </a:lnTo>
                  <a:lnTo>
                    <a:pt x="655" y="170"/>
                  </a:lnTo>
                  <a:lnTo>
                    <a:pt x="669" y="163"/>
                  </a:lnTo>
                  <a:lnTo>
                    <a:pt x="684" y="157"/>
                  </a:lnTo>
                  <a:lnTo>
                    <a:pt x="699" y="152"/>
                  </a:lnTo>
                  <a:lnTo>
                    <a:pt x="714" y="147"/>
                  </a:lnTo>
                  <a:lnTo>
                    <a:pt x="731" y="143"/>
                  </a:lnTo>
                  <a:lnTo>
                    <a:pt x="746" y="140"/>
                  </a:lnTo>
                  <a:lnTo>
                    <a:pt x="762" y="138"/>
                  </a:lnTo>
                  <a:lnTo>
                    <a:pt x="779" y="138"/>
                  </a:lnTo>
                  <a:lnTo>
                    <a:pt x="802" y="140"/>
                  </a:lnTo>
                  <a:lnTo>
                    <a:pt x="826" y="143"/>
                  </a:lnTo>
                  <a:lnTo>
                    <a:pt x="849" y="148"/>
                  </a:lnTo>
                  <a:lnTo>
                    <a:pt x="871" y="157"/>
                  </a:lnTo>
                  <a:lnTo>
                    <a:pt x="891" y="167"/>
                  </a:lnTo>
                  <a:lnTo>
                    <a:pt x="911" y="178"/>
                  </a:lnTo>
                  <a:lnTo>
                    <a:pt x="929" y="192"/>
                  </a:lnTo>
                  <a:lnTo>
                    <a:pt x="947" y="208"/>
                  </a:lnTo>
                  <a:lnTo>
                    <a:pt x="962" y="225"/>
                  </a:lnTo>
                  <a:lnTo>
                    <a:pt x="976" y="245"/>
                  </a:lnTo>
                  <a:lnTo>
                    <a:pt x="987" y="263"/>
                  </a:lnTo>
                  <a:lnTo>
                    <a:pt x="997" y="285"/>
                  </a:lnTo>
                  <a:lnTo>
                    <a:pt x="1006" y="307"/>
                  </a:lnTo>
                  <a:lnTo>
                    <a:pt x="1011" y="329"/>
                  </a:lnTo>
                  <a:lnTo>
                    <a:pt x="1014" y="352"/>
                  </a:lnTo>
                  <a:lnTo>
                    <a:pt x="1016" y="375"/>
                  </a:lnTo>
                  <a:lnTo>
                    <a:pt x="1014" y="395"/>
                  </a:lnTo>
                  <a:lnTo>
                    <a:pt x="1012" y="414"/>
                  </a:lnTo>
                  <a:lnTo>
                    <a:pt x="1007" y="434"/>
                  </a:lnTo>
                  <a:lnTo>
                    <a:pt x="1002" y="452"/>
                  </a:lnTo>
                  <a:lnTo>
                    <a:pt x="994" y="472"/>
                  </a:lnTo>
                  <a:lnTo>
                    <a:pt x="984" y="489"/>
                  </a:lnTo>
                  <a:lnTo>
                    <a:pt x="974" y="507"/>
                  </a:lnTo>
                  <a:lnTo>
                    <a:pt x="962" y="524"/>
                  </a:lnTo>
                  <a:lnTo>
                    <a:pt x="962" y="524"/>
                  </a:lnTo>
                  <a:lnTo>
                    <a:pt x="962" y="525"/>
                  </a:lnTo>
                  <a:lnTo>
                    <a:pt x="961" y="525"/>
                  </a:lnTo>
                  <a:lnTo>
                    <a:pt x="961" y="527"/>
                  </a:lnTo>
                  <a:lnTo>
                    <a:pt x="949" y="546"/>
                  </a:lnTo>
                  <a:lnTo>
                    <a:pt x="937" y="566"/>
                  </a:lnTo>
                  <a:lnTo>
                    <a:pt x="929" y="586"/>
                  </a:lnTo>
                  <a:lnTo>
                    <a:pt x="921" y="607"/>
                  </a:lnTo>
                  <a:lnTo>
                    <a:pt x="916" y="627"/>
                  </a:lnTo>
                  <a:lnTo>
                    <a:pt x="911" y="649"/>
                  </a:lnTo>
                  <a:lnTo>
                    <a:pt x="909" y="671"/>
                  </a:lnTo>
                  <a:lnTo>
                    <a:pt x="907" y="692"/>
                  </a:lnTo>
                  <a:lnTo>
                    <a:pt x="911" y="732"/>
                  </a:lnTo>
                  <a:lnTo>
                    <a:pt x="919" y="771"/>
                  </a:lnTo>
                  <a:lnTo>
                    <a:pt x="932" y="808"/>
                  </a:lnTo>
                  <a:lnTo>
                    <a:pt x="949" y="841"/>
                  </a:lnTo>
                  <a:lnTo>
                    <a:pt x="971" y="873"/>
                  </a:lnTo>
                  <a:lnTo>
                    <a:pt x="997" y="899"/>
                  </a:lnTo>
                  <a:lnTo>
                    <a:pt x="1027" y="924"/>
                  </a:lnTo>
                  <a:lnTo>
                    <a:pt x="1059" y="944"/>
                  </a:lnTo>
                  <a:lnTo>
                    <a:pt x="1046" y="953"/>
                  </a:lnTo>
                  <a:lnTo>
                    <a:pt x="1031" y="959"/>
                  </a:lnTo>
                  <a:lnTo>
                    <a:pt x="1016" y="966"/>
                  </a:lnTo>
                  <a:lnTo>
                    <a:pt x="999" y="971"/>
                  </a:lnTo>
                  <a:lnTo>
                    <a:pt x="984" y="976"/>
                  </a:lnTo>
                  <a:lnTo>
                    <a:pt x="967" y="979"/>
                  </a:lnTo>
                  <a:lnTo>
                    <a:pt x="951" y="981"/>
                  </a:lnTo>
                  <a:lnTo>
                    <a:pt x="934" y="981"/>
                  </a:lnTo>
                  <a:lnTo>
                    <a:pt x="931" y="981"/>
                  </a:lnTo>
                  <a:lnTo>
                    <a:pt x="929" y="981"/>
                  </a:lnTo>
                  <a:lnTo>
                    <a:pt x="926" y="981"/>
                  </a:lnTo>
                  <a:lnTo>
                    <a:pt x="922" y="981"/>
                  </a:lnTo>
                  <a:lnTo>
                    <a:pt x="922" y="979"/>
                  </a:lnTo>
                  <a:lnTo>
                    <a:pt x="906" y="979"/>
                  </a:lnTo>
                  <a:lnTo>
                    <a:pt x="886" y="976"/>
                  </a:lnTo>
                  <a:lnTo>
                    <a:pt x="867" y="971"/>
                  </a:lnTo>
                  <a:lnTo>
                    <a:pt x="847" y="964"/>
                  </a:lnTo>
                  <a:lnTo>
                    <a:pt x="831" y="958"/>
                  </a:lnTo>
                  <a:lnTo>
                    <a:pt x="812" y="948"/>
                  </a:lnTo>
                  <a:lnTo>
                    <a:pt x="796" y="938"/>
                  </a:lnTo>
                  <a:lnTo>
                    <a:pt x="781" y="924"/>
                  </a:lnTo>
                  <a:lnTo>
                    <a:pt x="766" y="911"/>
                  </a:lnTo>
                  <a:lnTo>
                    <a:pt x="749" y="893"/>
                  </a:lnTo>
                  <a:lnTo>
                    <a:pt x="734" y="873"/>
                  </a:lnTo>
                  <a:lnTo>
                    <a:pt x="721" y="851"/>
                  </a:lnTo>
                  <a:lnTo>
                    <a:pt x="711" y="828"/>
                  </a:lnTo>
                  <a:lnTo>
                    <a:pt x="702" y="806"/>
                  </a:lnTo>
                  <a:lnTo>
                    <a:pt x="697" y="781"/>
                  </a:lnTo>
                  <a:lnTo>
                    <a:pt x="694" y="756"/>
                  </a:lnTo>
                  <a:lnTo>
                    <a:pt x="692" y="731"/>
                  </a:lnTo>
                  <a:lnTo>
                    <a:pt x="696" y="691"/>
                  </a:lnTo>
                  <a:lnTo>
                    <a:pt x="704" y="654"/>
                  </a:lnTo>
                  <a:lnTo>
                    <a:pt x="719" y="617"/>
                  </a:lnTo>
                  <a:lnTo>
                    <a:pt x="739" y="584"/>
                  </a:lnTo>
                  <a:lnTo>
                    <a:pt x="742" y="579"/>
                  </a:lnTo>
                  <a:lnTo>
                    <a:pt x="746" y="572"/>
                  </a:lnTo>
                  <a:lnTo>
                    <a:pt x="747" y="567"/>
                  </a:lnTo>
                  <a:lnTo>
                    <a:pt x="749" y="561"/>
                  </a:lnTo>
                  <a:lnTo>
                    <a:pt x="751" y="561"/>
                  </a:lnTo>
                  <a:lnTo>
                    <a:pt x="751" y="561"/>
                  </a:lnTo>
                  <a:lnTo>
                    <a:pt x="752" y="561"/>
                  </a:lnTo>
                  <a:lnTo>
                    <a:pt x="752" y="559"/>
                  </a:lnTo>
                  <a:lnTo>
                    <a:pt x="772" y="546"/>
                  </a:lnTo>
                  <a:lnTo>
                    <a:pt x="786" y="527"/>
                  </a:lnTo>
                  <a:lnTo>
                    <a:pt x="791" y="505"/>
                  </a:lnTo>
                  <a:lnTo>
                    <a:pt x="787" y="482"/>
                  </a:lnTo>
                  <a:lnTo>
                    <a:pt x="782" y="470"/>
                  </a:lnTo>
                  <a:lnTo>
                    <a:pt x="774" y="462"/>
                  </a:lnTo>
                  <a:lnTo>
                    <a:pt x="766" y="454"/>
                  </a:lnTo>
                  <a:lnTo>
                    <a:pt x="756" y="449"/>
                  </a:lnTo>
                  <a:lnTo>
                    <a:pt x="744" y="445"/>
                  </a:lnTo>
                  <a:lnTo>
                    <a:pt x="732" y="444"/>
                  </a:lnTo>
                  <a:lnTo>
                    <a:pt x="721" y="444"/>
                  </a:lnTo>
                  <a:lnTo>
                    <a:pt x="709" y="447"/>
                  </a:lnTo>
                  <a:lnTo>
                    <a:pt x="694" y="452"/>
                  </a:lnTo>
                  <a:lnTo>
                    <a:pt x="679" y="457"/>
                  </a:lnTo>
                  <a:lnTo>
                    <a:pt x="664" y="462"/>
                  </a:lnTo>
                  <a:lnTo>
                    <a:pt x="649" y="467"/>
                  </a:lnTo>
                  <a:lnTo>
                    <a:pt x="634" y="470"/>
                  </a:lnTo>
                  <a:lnTo>
                    <a:pt x="617" y="474"/>
                  </a:lnTo>
                  <a:lnTo>
                    <a:pt x="600" y="477"/>
                  </a:lnTo>
                  <a:lnTo>
                    <a:pt x="584" y="480"/>
                  </a:lnTo>
                  <a:lnTo>
                    <a:pt x="572" y="484"/>
                  </a:lnTo>
                  <a:lnTo>
                    <a:pt x="562" y="489"/>
                  </a:lnTo>
                  <a:lnTo>
                    <a:pt x="552" y="497"/>
                  </a:lnTo>
                  <a:lnTo>
                    <a:pt x="545" y="505"/>
                  </a:lnTo>
                  <a:lnTo>
                    <a:pt x="539" y="515"/>
                  </a:lnTo>
                  <a:lnTo>
                    <a:pt x="535" y="527"/>
                  </a:lnTo>
                  <a:lnTo>
                    <a:pt x="534" y="539"/>
                  </a:lnTo>
                  <a:lnTo>
                    <a:pt x="535" y="551"/>
                  </a:lnTo>
                  <a:lnTo>
                    <a:pt x="537" y="561"/>
                  </a:lnTo>
                  <a:lnTo>
                    <a:pt x="542" y="571"/>
                  </a:lnTo>
                  <a:lnTo>
                    <a:pt x="549" y="579"/>
                  </a:lnTo>
                  <a:lnTo>
                    <a:pt x="555" y="587"/>
                  </a:lnTo>
                  <a:lnTo>
                    <a:pt x="564" y="592"/>
                  </a:lnTo>
                  <a:lnTo>
                    <a:pt x="574" y="597"/>
                  </a:lnTo>
                  <a:lnTo>
                    <a:pt x="584" y="599"/>
                  </a:lnTo>
                  <a:lnTo>
                    <a:pt x="595" y="601"/>
                  </a:lnTo>
                  <a:lnTo>
                    <a:pt x="585" y="632"/>
                  </a:lnTo>
                  <a:lnTo>
                    <a:pt x="579" y="664"/>
                  </a:lnTo>
                  <a:lnTo>
                    <a:pt x="574" y="697"/>
                  </a:lnTo>
                  <a:lnTo>
                    <a:pt x="572" y="731"/>
                  </a:lnTo>
                  <a:lnTo>
                    <a:pt x="574" y="768"/>
                  </a:lnTo>
                  <a:lnTo>
                    <a:pt x="579" y="804"/>
                  </a:lnTo>
                  <a:lnTo>
                    <a:pt x="587" y="839"/>
                  </a:lnTo>
                  <a:lnTo>
                    <a:pt x="600" y="874"/>
                  </a:lnTo>
                  <a:lnTo>
                    <a:pt x="615" y="906"/>
                  </a:lnTo>
                  <a:lnTo>
                    <a:pt x="634" y="938"/>
                  </a:lnTo>
                  <a:lnTo>
                    <a:pt x="655" y="968"/>
                  </a:lnTo>
                  <a:lnTo>
                    <a:pt x="680" y="995"/>
                  </a:lnTo>
                  <a:lnTo>
                    <a:pt x="694" y="1008"/>
                  </a:lnTo>
                  <a:lnTo>
                    <a:pt x="707" y="1020"/>
                  </a:lnTo>
                  <a:lnTo>
                    <a:pt x="722" y="1031"/>
                  </a:lnTo>
                  <a:lnTo>
                    <a:pt x="737" y="1043"/>
                  </a:lnTo>
                  <a:lnTo>
                    <a:pt x="754" y="1051"/>
                  </a:lnTo>
                  <a:lnTo>
                    <a:pt x="769" y="1061"/>
                  </a:lnTo>
                  <a:lnTo>
                    <a:pt x="786" y="1070"/>
                  </a:lnTo>
                  <a:lnTo>
                    <a:pt x="802" y="1076"/>
                  </a:lnTo>
                  <a:lnTo>
                    <a:pt x="802" y="1210"/>
                  </a:lnTo>
                  <a:lnTo>
                    <a:pt x="305" y="1210"/>
                  </a:lnTo>
                  <a:lnTo>
                    <a:pt x="305" y="1050"/>
                  </a:lnTo>
                  <a:lnTo>
                    <a:pt x="330" y="1053"/>
                  </a:lnTo>
                  <a:lnTo>
                    <a:pt x="355" y="1061"/>
                  </a:lnTo>
                  <a:lnTo>
                    <a:pt x="379" y="1071"/>
                  </a:lnTo>
                  <a:lnTo>
                    <a:pt x="400" y="1085"/>
                  </a:lnTo>
                  <a:lnTo>
                    <a:pt x="420" y="1100"/>
                  </a:lnTo>
                  <a:lnTo>
                    <a:pt x="439" y="1118"/>
                  </a:lnTo>
                  <a:lnTo>
                    <a:pt x="454" y="1140"/>
                  </a:lnTo>
                  <a:lnTo>
                    <a:pt x="467" y="1163"/>
                  </a:lnTo>
                  <a:lnTo>
                    <a:pt x="474" y="1173"/>
                  </a:lnTo>
                  <a:lnTo>
                    <a:pt x="480" y="1181"/>
                  </a:lnTo>
                  <a:lnTo>
                    <a:pt x="490" y="1188"/>
                  </a:lnTo>
                  <a:lnTo>
                    <a:pt x="500" y="1193"/>
                  </a:lnTo>
                  <a:lnTo>
                    <a:pt x="512" y="1196"/>
                  </a:lnTo>
                  <a:lnTo>
                    <a:pt x="524" y="1196"/>
                  </a:lnTo>
                  <a:lnTo>
                    <a:pt x="535" y="1195"/>
                  </a:lnTo>
                  <a:lnTo>
                    <a:pt x="547" y="1190"/>
                  </a:lnTo>
                  <a:lnTo>
                    <a:pt x="565" y="1175"/>
                  </a:lnTo>
                  <a:lnTo>
                    <a:pt x="577" y="1155"/>
                  </a:lnTo>
                  <a:lnTo>
                    <a:pt x="580" y="1133"/>
                  </a:lnTo>
                  <a:lnTo>
                    <a:pt x="574" y="1110"/>
                  </a:lnTo>
                  <a:lnTo>
                    <a:pt x="564" y="1090"/>
                  </a:lnTo>
                  <a:lnTo>
                    <a:pt x="552" y="1071"/>
                  </a:lnTo>
                  <a:lnTo>
                    <a:pt x="540" y="1055"/>
                  </a:lnTo>
                  <a:lnTo>
                    <a:pt x="525" y="1038"/>
                  </a:lnTo>
                  <a:lnTo>
                    <a:pt x="512" y="1023"/>
                  </a:lnTo>
                  <a:lnTo>
                    <a:pt x="497" y="1008"/>
                  </a:lnTo>
                  <a:lnTo>
                    <a:pt x="480" y="995"/>
                  </a:lnTo>
                  <a:lnTo>
                    <a:pt x="464" y="983"/>
                  </a:lnTo>
                  <a:lnTo>
                    <a:pt x="445" y="971"/>
                  </a:lnTo>
                  <a:lnTo>
                    <a:pt x="427" y="961"/>
                  </a:lnTo>
                  <a:lnTo>
                    <a:pt x="409" y="953"/>
                  </a:lnTo>
                  <a:lnTo>
                    <a:pt x="389" y="944"/>
                  </a:lnTo>
                  <a:lnTo>
                    <a:pt x="369" y="939"/>
                  </a:lnTo>
                  <a:lnTo>
                    <a:pt x="347" y="934"/>
                  </a:lnTo>
                  <a:lnTo>
                    <a:pt x="327" y="929"/>
                  </a:lnTo>
                  <a:lnTo>
                    <a:pt x="305" y="928"/>
                  </a:lnTo>
                  <a:lnTo>
                    <a:pt x="305" y="843"/>
                  </a:lnTo>
                  <a:lnTo>
                    <a:pt x="180" y="843"/>
                  </a:lnTo>
                  <a:lnTo>
                    <a:pt x="192" y="818"/>
                  </a:lnTo>
                  <a:lnTo>
                    <a:pt x="203" y="793"/>
                  </a:lnTo>
                  <a:lnTo>
                    <a:pt x="215" y="766"/>
                  </a:lnTo>
                  <a:lnTo>
                    <a:pt x="225" y="736"/>
                  </a:lnTo>
                  <a:lnTo>
                    <a:pt x="233" y="707"/>
                  </a:lnTo>
                  <a:lnTo>
                    <a:pt x="242" y="676"/>
                  </a:lnTo>
                  <a:lnTo>
                    <a:pt x="250" y="644"/>
                  </a:lnTo>
                  <a:lnTo>
                    <a:pt x="257" y="611"/>
                  </a:lnTo>
                  <a:lnTo>
                    <a:pt x="263" y="574"/>
                  </a:lnTo>
                  <a:lnTo>
                    <a:pt x="268" y="536"/>
                  </a:lnTo>
                  <a:lnTo>
                    <a:pt x="270" y="499"/>
                  </a:lnTo>
                  <a:lnTo>
                    <a:pt x="272" y="464"/>
                  </a:lnTo>
                  <a:lnTo>
                    <a:pt x="152" y="462"/>
                  </a:lnTo>
                  <a:lnTo>
                    <a:pt x="150" y="494"/>
                  </a:lnTo>
                  <a:lnTo>
                    <a:pt x="148" y="524"/>
                  </a:lnTo>
                  <a:lnTo>
                    <a:pt x="145" y="556"/>
                  </a:lnTo>
                  <a:lnTo>
                    <a:pt x="140" y="587"/>
                  </a:lnTo>
                  <a:lnTo>
                    <a:pt x="130" y="632"/>
                  </a:lnTo>
                  <a:lnTo>
                    <a:pt x="118" y="676"/>
                  </a:lnTo>
                  <a:lnTo>
                    <a:pt x="105" y="716"/>
                  </a:lnTo>
                  <a:lnTo>
                    <a:pt x="92" y="752"/>
                  </a:lnTo>
                  <a:lnTo>
                    <a:pt x="75" y="784"/>
                  </a:lnTo>
                  <a:lnTo>
                    <a:pt x="58" y="813"/>
                  </a:lnTo>
                  <a:lnTo>
                    <a:pt x="40" y="838"/>
                  </a:lnTo>
                  <a:lnTo>
                    <a:pt x="22" y="856"/>
                  </a:lnTo>
                  <a:lnTo>
                    <a:pt x="0" y="874"/>
                  </a:lnTo>
                  <a:lnTo>
                    <a:pt x="0" y="961"/>
                  </a:lnTo>
                  <a:lnTo>
                    <a:pt x="185" y="963"/>
                  </a:lnTo>
                  <a:lnTo>
                    <a:pt x="185" y="1330"/>
                  </a:lnTo>
                  <a:lnTo>
                    <a:pt x="922" y="1330"/>
                  </a:lnTo>
                  <a:lnTo>
                    <a:pt x="922" y="1101"/>
                  </a:lnTo>
                  <a:lnTo>
                    <a:pt x="926" y="1101"/>
                  </a:lnTo>
                  <a:lnTo>
                    <a:pt x="929" y="1101"/>
                  </a:lnTo>
                  <a:lnTo>
                    <a:pt x="931" y="1101"/>
                  </a:lnTo>
                  <a:lnTo>
                    <a:pt x="934" y="1101"/>
                  </a:lnTo>
                  <a:lnTo>
                    <a:pt x="956" y="1101"/>
                  </a:lnTo>
                  <a:lnTo>
                    <a:pt x="977" y="1100"/>
                  </a:lnTo>
                  <a:lnTo>
                    <a:pt x="997" y="1096"/>
                  </a:lnTo>
                  <a:lnTo>
                    <a:pt x="1019" y="1091"/>
                  </a:lnTo>
                  <a:lnTo>
                    <a:pt x="1039" y="1086"/>
                  </a:lnTo>
                  <a:lnTo>
                    <a:pt x="1059" y="1080"/>
                  </a:lnTo>
                  <a:lnTo>
                    <a:pt x="1078" y="1071"/>
                  </a:lnTo>
                  <a:lnTo>
                    <a:pt x="1098" y="1063"/>
                  </a:lnTo>
                  <a:lnTo>
                    <a:pt x="1114" y="1053"/>
                  </a:lnTo>
                  <a:lnTo>
                    <a:pt x="1133" y="1041"/>
                  </a:lnTo>
                  <a:lnTo>
                    <a:pt x="1149" y="1030"/>
                  </a:lnTo>
                  <a:lnTo>
                    <a:pt x="1166" y="1016"/>
                  </a:lnTo>
                  <a:lnTo>
                    <a:pt x="1183" y="1001"/>
                  </a:lnTo>
                  <a:lnTo>
                    <a:pt x="1198" y="986"/>
                  </a:lnTo>
                  <a:lnTo>
                    <a:pt x="1211" y="969"/>
                  </a:lnTo>
                  <a:lnTo>
                    <a:pt x="1224" y="953"/>
                  </a:lnTo>
                  <a:lnTo>
                    <a:pt x="1233" y="938"/>
                  </a:lnTo>
                  <a:lnTo>
                    <a:pt x="1236" y="923"/>
                  </a:lnTo>
                  <a:lnTo>
                    <a:pt x="1236" y="908"/>
                  </a:lnTo>
                  <a:lnTo>
                    <a:pt x="1231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5198040" y="2534040"/>
              <a:ext cx="976680" cy="976680"/>
            </a:xfrm>
            <a:custGeom>
              <a:avLst/>
              <a:gdLst/>
              <a:ahLst/>
              <a:rect l="l" t="t" r="r" b="b"/>
              <a:pathLst>
                <a:path w="437" h="437">
                  <a:moveTo>
                    <a:pt x="437" y="218"/>
                  </a:moveTo>
                  <a:lnTo>
                    <a:pt x="435" y="196"/>
                  </a:lnTo>
                  <a:lnTo>
                    <a:pt x="434" y="175"/>
                  </a:lnTo>
                  <a:lnTo>
                    <a:pt x="429" y="155"/>
                  </a:lnTo>
                  <a:lnTo>
                    <a:pt x="420" y="135"/>
                  </a:lnTo>
                  <a:lnTo>
                    <a:pt x="412" y="115"/>
                  </a:lnTo>
                  <a:lnTo>
                    <a:pt x="400" y="98"/>
                  </a:lnTo>
                  <a:lnTo>
                    <a:pt x="389" y="80"/>
                  </a:lnTo>
                  <a:lnTo>
                    <a:pt x="374" y="65"/>
                  </a:lnTo>
                  <a:lnTo>
                    <a:pt x="357" y="50"/>
                  </a:lnTo>
                  <a:lnTo>
                    <a:pt x="340" y="36"/>
                  </a:lnTo>
                  <a:lnTo>
                    <a:pt x="322" y="26"/>
                  </a:lnTo>
                  <a:lnTo>
                    <a:pt x="302" y="16"/>
                  </a:lnTo>
                  <a:lnTo>
                    <a:pt x="282" y="10"/>
                  </a:lnTo>
                  <a:lnTo>
                    <a:pt x="262" y="5"/>
                  </a:lnTo>
                  <a:lnTo>
                    <a:pt x="240" y="1"/>
                  </a:lnTo>
                  <a:lnTo>
                    <a:pt x="219" y="0"/>
                  </a:lnTo>
                  <a:lnTo>
                    <a:pt x="175" y="5"/>
                  </a:lnTo>
                  <a:lnTo>
                    <a:pt x="134" y="16"/>
                  </a:lnTo>
                  <a:lnTo>
                    <a:pt x="97" y="36"/>
                  </a:lnTo>
                  <a:lnTo>
                    <a:pt x="65" y="63"/>
                  </a:lnTo>
                  <a:lnTo>
                    <a:pt x="37" y="96"/>
                  </a:lnTo>
                  <a:lnTo>
                    <a:pt x="17" y="133"/>
                  </a:lnTo>
                  <a:lnTo>
                    <a:pt x="5" y="175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5" y="262"/>
                  </a:lnTo>
                  <a:lnTo>
                    <a:pt x="10" y="282"/>
                  </a:lnTo>
                  <a:lnTo>
                    <a:pt x="17" y="302"/>
                  </a:lnTo>
                  <a:lnTo>
                    <a:pt x="27" y="322"/>
                  </a:lnTo>
                  <a:lnTo>
                    <a:pt x="37" y="340"/>
                  </a:lnTo>
                  <a:lnTo>
                    <a:pt x="50" y="357"/>
                  </a:lnTo>
                  <a:lnTo>
                    <a:pt x="65" y="373"/>
                  </a:lnTo>
                  <a:lnTo>
                    <a:pt x="80" y="388"/>
                  </a:lnTo>
                  <a:lnTo>
                    <a:pt x="98" y="400"/>
                  </a:lnTo>
                  <a:lnTo>
                    <a:pt x="115" y="412"/>
                  </a:lnTo>
                  <a:lnTo>
                    <a:pt x="135" y="420"/>
                  </a:lnTo>
                  <a:lnTo>
                    <a:pt x="155" y="428"/>
                  </a:lnTo>
                  <a:lnTo>
                    <a:pt x="175" y="433"/>
                  </a:lnTo>
                  <a:lnTo>
                    <a:pt x="197" y="435"/>
                  </a:lnTo>
                  <a:lnTo>
                    <a:pt x="219" y="437"/>
                  </a:lnTo>
                  <a:lnTo>
                    <a:pt x="240" y="435"/>
                  </a:lnTo>
                  <a:lnTo>
                    <a:pt x="262" y="433"/>
                  </a:lnTo>
                  <a:lnTo>
                    <a:pt x="282" y="428"/>
                  </a:lnTo>
                  <a:lnTo>
                    <a:pt x="302" y="420"/>
                  </a:lnTo>
                  <a:lnTo>
                    <a:pt x="322" y="412"/>
                  </a:lnTo>
                  <a:lnTo>
                    <a:pt x="340" y="400"/>
                  </a:lnTo>
                  <a:lnTo>
                    <a:pt x="357" y="388"/>
                  </a:lnTo>
                  <a:lnTo>
                    <a:pt x="374" y="373"/>
                  </a:lnTo>
                  <a:lnTo>
                    <a:pt x="389" y="357"/>
                  </a:lnTo>
                  <a:lnTo>
                    <a:pt x="400" y="340"/>
                  </a:lnTo>
                  <a:lnTo>
                    <a:pt x="412" y="322"/>
                  </a:lnTo>
                  <a:lnTo>
                    <a:pt x="420" y="302"/>
                  </a:lnTo>
                  <a:lnTo>
                    <a:pt x="429" y="282"/>
                  </a:lnTo>
                  <a:lnTo>
                    <a:pt x="434" y="262"/>
                  </a:lnTo>
                  <a:lnTo>
                    <a:pt x="435" y="240"/>
                  </a:lnTo>
                  <a:lnTo>
                    <a:pt x="437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5450400" y="2786400"/>
              <a:ext cx="473760" cy="47376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106" y="212"/>
                  </a:moveTo>
                  <a:lnTo>
                    <a:pt x="96" y="212"/>
                  </a:lnTo>
                  <a:lnTo>
                    <a:pt x="84" y="210"/>
                  </a:lnTo>
                  <a:lnTo>
                    <a:pt x="74" y="207"/>
                  </a:lnTo>
                  <a:lnTo>
                    <a:pt x="66" y="204"/>
                  </a:lnTo>
                  <a:lnTo>
                    <a:pt x="56" y="199"/>
                  </a:lnTo>
                  <a:lnTo>
                    <a:pt x="47" y="194"/>
                  </a:lnTo>
                  <a:lnTo>
                    <a:pt x="39" y="187"/>
                  </a:lnTo>
                  <a:lnTo>
                    <a:pt x="31" y="180"/>
                  </a:lnTo>
                  <a:lnTo>
                    <a:pt x="17" y="164"/>
                  </a:lnTo>
                  <a:lnTo>
                    <a:pt x="9" y="145"/>
                  </a:lnTo>
                  <a:lnTo>
                    <a:pt x="2" y="127"/>
                  </a:lnTo>
                  <a:lnTo>
                    <a:pt x="0" y="105"/>
                  </a:lnTo>
                  <a:lnTo>
                    <a:pt x="2" y="83"/>
                  </a:lnTo>
                  <a:lnTo>
                    <a:pt x="9" y="65"/>
                  </a:lnTo>
                  <a:lnTo>
                    <a:pt x="17" y="47"/>
                  </a:lnTo>
                  <a:lnTo>
                    <a:pt x="31" y="30"/>
                  </a:lnTo>
                  <a:lnTo>
                    <a:pt x="39" y="23"/>
                  </a:lnTo>
                  <a:lnTo>
                    <a:pt x="47" y="17"/>
                  </a:lnTo>
                  <a:lnTo>
                    <a:pt x="56" y="12"/>
                  </a:lnTo>
                  <a:lnTo>
                    <a:pt x="66" y="7"/>
                  </a:lnTo>
                  <a:lnTo>
                    <a:pt x="74" y="5"/>
                  </a:lnTo>
                  <a:lnTo>
                    <a:pt x="84" y="2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7" y="2"/>
                  </a:lnTo>
                  <a:lnTo>
                    <a:pt x="137" y="5"/>
                  </a:lnTo>
                  <a:lnTo>
                    <a:pt x="146" y="7"/>
                  </a:lnTo>
                  <a:lnTo>
                    <a:pt x="156" y="12"/>
                  </a:lnTo>
                  <a:lnTo>
                    <a:pt x="164" y="17"/>
                  </a:lnTo>
                  <a:lnTo>
                    <a:pt x="172" y="23"/>
                  </a:lnTo>
                  <a:lnTo>
                    <a:pt x="181" y="30"/>
                  </a:lnTo>
                  <a:lnTo>
                    <a:pt x="194" y="47"/>
                  </a:lnTo>
                  <a:lnTo>
                    <a:pt x="204" y="65"/>
                  </a:lnTo>
                  <a:lnTo>
                    <a:pt x="211" y="83"/>
                  </a:lnTo>
                  <a:lnTo>
                    <a:pt x="212" y="105"/>
                  </a:lnTo>
                  <a:lnTo>
                    <a:pt x="211" y="127"/>
                  </a:lnTo>
                  <a:lnTo>
                    <a:pt x="204" y="147"/>
                  </a:lnTo>
                  <a:lnTo>
                    <a:pt x="194" y="165"/>
                  </a:lnTo>
                  <a:lnTo>
                    <a:pt x="181" y="180"/>
                  </a:lnTo>
                  <a:lnTo>
                    <a:pt x="166" y="194"/>
                  </a:lnTo>
                  <a:lnTo>
                    <a:pt x="147" y="204"/>
                  </a:lnTo>
                  <a:lnTo>
                    <a:pt x="127" y="210"/>
                  </a:lnTo>
                  <a:lnTo>
                    <a:pt x="106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6398280" y="2958840"/>
              <a:ext cx="127080" cy="1292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58"/>
                  </a:moveTo>
                  <a:lnTo>
                    <a:pt x="17" y="57"/>
                  </a:lnTo>
                  <a:lnTo>
                    <a:pt x="9" y="50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9" y="8"/>
                  </a:lnTo>
                  <a:lnTo>
                    <a:pt x="17" y="1"/>
                  </a:lnTo>
                  <a:lnTo>
                    <a:pt x="29" y="0"/>
                  </a:lnTo>
                  <a:lnTo>
                    <a:pt x="40" y="1"/>
                  </a:lnTo>
                  <a:lnTo>
                    <a:pt x="49" y="8"/>
                  </a:lnTo>
                  <a:lnTo>
                    <a:pt x="55" y="18"/>
                  </a:lnTo>
                  <a:lnTo>
                    <a:pt x="57" y="28"/>
                  </a:lnTo>
                  <a:lnTo>
                    <a:pt x="55" y="40"/>
                  </a:lnTo>
                  <a:lnTo>
                    <a:pt x="49" y="50"/>
                  </a:lnTo>
                  <a:lnTo>
                    <a:pt x="40" y="57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5616000" y="2961000"/>
              <a:ext cx="129240" cy="1317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0" y="59"/>
                  </a:moveTo>
                  <a:lnTo>
                    <a:pt x="18" y="57"/>
                  </a:lnTo>
                  <a:lnTo>
                    <a:pt x="8" y="51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50" y="9"/>
                  </a:lnTo>
                  <a:lnTo>
                    <a:pt x="57" y="19"/>
                  </a:lnTo>
                  <a:lnTo>
                    <a:pt x="58" y="29"/>
                  </a:lnTo>
                  <a:lnTo>
                    <a:pt x="57" y="41"/>
                  </a:lnTo>
                  <a:lnTo>
                    <a:pt x="50" y="51"/>
                  </a:lnTo>
                  <a:lnTo>
                    <a:pt x="40" y="57"/>
                  </a:lnTo>
                  <a:lnTo>
                    <a:pt x="3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3" name=""/>
          <p:cNvSpPr/>
          <p:nvPr/>
        </p:nvSpPr>
        <p:spPr>
          <a:xfrm>
            <a:off x="1577880" y="2855880"/>
            <a:ext cx="2246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382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383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389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395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403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411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415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421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426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437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454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456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480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488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493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494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500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505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510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515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9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520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528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546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570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582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591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596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597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602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858960" y="2482920"/>
            <a:ext cx="4724280" cy="1693440"/>
            <a:chOff x="858960" y="2482920"/>
            <a:chExt cx="4724280" cy="1693440"/>
          </a:xfrm>
        </p:grpSpPr>
        <p:grpSp>
          <p:nvGrpSpPr>
            <p:cNvPr id="607" name=""/>
            <p:cNvGrpSpPr/>
            <p:nvPr/>
          </p:nvGrpSpPr>
          <p:grpSpPr>
            <a:xfrm>
              <a:off x="858960" y="2755440"/>
              <a:ext cx="4724280" cy="1420920"/>
              <a:chOff x="858960" y="2755440"/>
              <a:chExt cx="4724280" cy="142092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858960" y="2757600"/>
                <a:ext cx="1291320" cy="1418760"/>
                <a:chOff x="858960" y="2757600"/>
                <a:chExt cx="1291320" cy="141876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858960" y="3726360"/>
                  <a:ext cx="317160" cy="450000"/>
                  <a:chOff x="858960" y="3726360"/>
                  <a:chExt cx="317160" cy="450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858960" y="404532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1036080" y="372636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1183680" y="3401640"/>
                  <a:ext cx="318240" cy="450000"/>
                  <a:chOff x="1183680" y="3401640"/>
                  <a:chExt cx="318240" cy="45000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1183680" y="37206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1361520" y="34016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1505520" y="3082320"/>
                  <a:ext cx="318240" cy="450000"/>
                  <a:chOff x="1505520" y="3082320"/>
                  <a:chExt cx="318240" cy="450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1505520" y="340128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1683360" y="308232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1832040" y="2757600"/>
                  <a:ext cx="318240" cy="450000"/>
                  <a:chOff x="1832040" y="2757600"/>
                  <a:chExt cx="318240" cy="4500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1832040" y="307656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2009880" y="275760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4291920" y="2755440"/>
                <a:ext cx="1291320" cy="1418760"/>
                <a:chOff x="4291920" y="2755440"/>
                <a:chExt cx="1291320" cy="141876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4291920" y="3724200"/>
                  <a:ext cx="317160" cy="450000"/>
                  <a:chOff x="4291920" y="3724200"/>
                  <a:chExt cx="317160" cy="45000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4291920" y="404316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4469040" y="372420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4616640" y="3399480"/>
                  <a:ext cx="318240" cy="450000"/>
                  <a:chOff x="4616640" y="3399480"/>
                  <a:chExt cx="318240" cy="4500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616640" y="371844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4794480" y="339948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4938480" y="3080160"/>
                  <a:ext cx="318240" cy="450000"/>
                  <a:chOff x="4938480" y="3080160"/>
                  <a:chExt cx="318240" cy="45000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4938480" y="339912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5116320" y="308016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265000" y="2755440"/>
                  <a:ext cx="318240" cy="450000"/>
                  <a:chOff x="5265000" y="2755440"/>
                  <a:chExt cx="318240" cy="4500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5265000" y="30744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5442840" y="27554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4" name=""/>
            <p:cNvGrpSpPr/>
            <p:nvPr/>
          </p:nvGrpSpPr>
          <p:grpSpPr>
            <a:xfrm>
              <a:off x="2448360" y="2482920"/>
              <a:ext cx="1569600" cy="1297440"/>
              <a:chOff x="2448360" y="2482920"/>
              <a:chExt cx="1569600" cy="1297440"/>
            </a:xfrm>
          </p:grpSpPr>
          <p:sp>
            <p:nvSpPr>
              <p:cNvPr id="635" name=""/>
              <p:cNvSpPr/>
              <p:nvPr/>
            </p:nvSpPr>
            <p:spPr>
              <a:xfrm flipH="1" flipV="1">
                <a:off x="2888640" y="3456000"/>
                <a:ext cx="157320" cy="191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2563200" y="3646080"/>
                <a:ext cx="48564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2449440" y="3460320"/>
                <a:ext cx="43488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8360" y="3648600"/>
                <a:ext cx="11376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774520" y="3131280"/>
                <a:ext cx="603360" cy="324360"/>
                <a:chOff x="2774520" y="3131280"/>
                <a:chExt cx="603360" cy="324360"/>
              </a:xfrm>
            </p:grpSpPr>
            <p:sp>
              <p:nvSpPr>
                <p:cNvPr id="640" name=""/>
                <p:cNvSpPr/>
                <p:nvPr/>
              </p:nvSpPr>
              <p:spPr>
                <a:xfrm flipH="1" flipV="1">
                  <a:off x="3217680" y="3131280"/>
                  <a:ext cx="157320" cy="19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2892240" y="3321360"/>
                  <a:ext cx="485640" cy="13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774520" y="3134880"/>
                  <a:ext cx="439200" cy="18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777400" y="3323520"/>
                  <a:ext cx="113760" cy="13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 flipV="1">
                <a:off x="3542760" y="2805840"/>
                <a:ext cx="154440" cy="192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217320" y="2996280"/>
                <a:ext cx="48132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3106440" y="2810520"/>
                <a:ext cx="43200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03560" y="2998800"/>
                <a:ext cx="11232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3867840" y="2482920"/>
                <a:ext cx="148680" cy="187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542400" y="2673000"/>
                <a:ext cx="475560" cy="133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430080" y="2486880"/>
                <a:ext cx="43344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31520" y="2676600"/>
                <a:ext cx="109800" cy="1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654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663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63440" y="7761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autre élément est supporté par les liern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9920" y="3477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8" name="" descr=""/>
          <p:cNvPicPr/>
          <p:nvPr/>
        </p:nvPicPr>
        <p:blipFill>
          <a:blip r:embed="rId1"/>
          <a:stretch/>
        </p:blipFill>
        <p:spPr>
          <a:xfrm>
            <a:off x="708120" y="835200"/>
            <a:ext cx="4432320" cy="4760640"/>
          </a:xfrm>
          <a:prstGeom prst="rect">
            <a:avLst/>
          </a:prstGeom>
          <a:ln w="0">
            <a:noFill/>
          </a:ln>
        </p:spPr>
      </p:pic>
      <p:sp>
        <p:nvSpPr>
          <p:cNvPr id="6259" name=""/>
          <p:cNvSpPr/>
          <p:nvPr/>
        </p:nvSpPr>
        <p:spPr>
          <a:xfrm>
            <a:off x="4826160" y="1522440"/>
            <a:ext cx="3744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2" name=""/>
          <p:cNvSpPr/>
          <p:nvPr/>
        </p:nvSpPr>
        <p:spPr>
          <a:xfrm>
            <a:off x="495360" y="1812960"/>
            <a:ext cx="3998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3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626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"/>
          <p:cNvSpPr/>
          <p:nvPr/>
        </p:nvSpPr>
        <p:spPr>
          <a:xfrm>
            <a:off x="5345280" y="2395440"/>
            <a:ext cx="2716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8" name="" descr=""/>
          <p:cNvPicPr/>
          <p:nvPr/>
        </p:nvPicPr>
        <p:blipFill>
          <a:blip r:embed="rId1"/>
          <a:stretch/>
        </p:blipFill>
        <p:spPr>
          <a:xfrm>
            <a:off x="1355760" y="1563840"/>
            <a:ext cx="2975040" cy="3403440"/>
          </a:xfrm>
          <a:prstGeom prst="rect">
            <a:avLst/>
          </a:prstGeom>
          <a:ln w="0">
            <a:noFill/>
          </a:ln>
        </p:spPr>
      </p:pic>
      <p:sp>
        <p:nvSpPr>
          <p:cNvPr id="626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"/>
          <p:cNvSpPr/>
          <p:nvPr/>
        </p:nvSpPr>
        <p:spPr>
          <a:xfrm>
            <a:off x="2973240" y="4191120"/>
            <a:ext cx="3186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2" name="" descr=""/>
          <p:cNvPicPr/>
          <p:nvPr/>
        </p:nvPicPr>
        <p:blipFill>
          <a:blip r:embed="rId1"/>
          <a:stretch/>
        </p:blipFill>
        <p:spPr>
          <a:xfrm>
            <a:off x="3479760" y="132552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627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4" name=""/>
          <p:cNvSpPr/>
          <p:nvPr/>
        </p:nvSpPr>
        <p:spPr>
          <a:xfrm>
            <a:off x="509760" y="1028880"/>
            <a:ext cx="81086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liernes sont des appuis intermédiaires pour la flexion selon le sens de petite inertie mais ne jouent pas de rôle pour la flexion d’axe f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5" name=""/>
          <p:cNvGrpSpPr/>
          <p:nvPr/>
        </p:nvGrpSpPr>
        <p:grpSpPr>
          <a:xfrm>
            <a:off x="620640" y="1947960"/>
            <a:ext cx="3100320" cy="2482920"/>
            <a:chOff x="620640" y="1947960"/>
            <a:chExt cx="3100320" cy="2482920"/>
          </a:xfrm>
        </p:grpSpPr>
        <p:sp>
          <p:nvSpPr>
            <p:cNvPr id="6276" name=""/>
            <p:cNvSpPr/>
            <p:nvPr/>
          </p:nvSpPr>
          <p:spPr>
            <a:xfrm>
              <a:off x="1200240" y="3273480"/>
              <a:ext cx="107928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554200" y="2065320"/>
              <a:ext cx="107964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8" name=""/>
            <p:cNvGrpSpPr/>
            <p:nvPr/>
          </p:nvGrpSpPr>
          <p:grpSpPr>
            <a:xfrm>
              <a:off x="1341720" y="2093760"/>
              <a:ext cx="1814040" cy="1519560"/>
              <a:chOff x="1341720" y="2093760"/>
              <a:chExt cx="1814040" cy="1519560"/>
            </a:xfrm>
          </p:grpSpPr>
          <p:sp>
            <p:nvSpPr>
              <p:cNvPr id="6279" name=""/>
              <p:cNvSpPr/>
              <p:nvPr/>
            </p:nvSpPr>
            <p:spPr>
              <a:xfrm rot="1818600">
                <a:off x="1398600" y="334152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1416240" y="2114640"/>
                <a:ext cx="1733400" cy="14986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1447920" y="2093760"/>
                <a:ext cx="1707840" cy="129096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2" name=""/>
            <p:cNvSpPr/>
            <p:nvPr/>
          </p:nvSpPr>
          <p:spPr>
            <a:xfrm>
              <a:off x="1463760" y="2211480"/>
              <a:ext cx="1617480" cy="1245960"/>
            </a:xfrm>
            <a:custGeom>
              <a:avLst/>
              <a:gdLst/>
              <a:ahLst/>
              <a:rect l="l" t="t" r="r" b="b"/>
              <a:pathLst>
                <a:path w="4764" h="3483">
                  <a:moveTo>
                    <a:pt x="0" y="3483"/>
                  </a:moveTo>
                  <a:cubicBezTo>
                    <a:pt x="1075" y="3198"/>
                    <a:pt x="2151" y="2913"/>
                    <a:pt x="2945" y="2333"/>
                  </a:cubicBezTo>
                  <a:cubicBezTo>
                    <a:pt x="3739" y="1753"/>
                    <a:pt x="4459" y="398"/>
                    <a:pt x="4764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V="1">
              <a:off x="1173240" y="1959120"/>
              <a:ext cx="2220840" cy="17589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1392120" y="3406680"/>
              <a:ext cx="1351080" cy="83664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489040" y="3803760"/>
              <a:ext cx="4176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 flipH="1">
              <a:off x="887400" y="2840040"/>
              <a:ext cx="906480" cy="15908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620640" y="3962520"/>
              <a:ext cx="3650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3343320" y="1947960"/>
              <a:ext cx="37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9" name=""/>
            <p:cNvGrpSpPr/>
            <p:nvPr/>
          </p:nvGrpSpPr>
          <p:grpSpPr>
            <a:xfrm>
              <a:off x="1049400" y="2013120"/>
              <a:ext cx="1685880" cy="1231560"/>
              <a:chOff x="1049400" y="2013120"/>
              <a:chExt cx="1685880" cy="1231560"/>
            </a:xfrm>
          </p:grpSpPr>
          <p:sp>
            <p:nvSpPr>
              <p:cNvPr id="6290" name=""/>
              <p:cNvSpPr/>
              <p:nvPr/>
            </p:nvSpPr>
            <p:spPr>
              <a:xfrm>
                <a:off x="1049400" y="290664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2178000" y="201312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1897200" y="2236680"/>
                <a:ext cx="556920" cy="338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1614600" y="246060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1332000" y="268452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5" name=""/>
          <p:cNvGrpSpPr/>
          <p:nvPr/>
        </p:nvGrpSpPr>
        <p:grpSpPr>
          <a:xfrm>
            <a:off x="5322960" y="1881360"/>
            <a:ext cx="3100320" cy="2482200"/>
            <a:chOff x="5322960" y="1881360"/>
            <a:chExt cx="3100320" cy="2482200"/>
          </a:xfrm>
        </p:grpSpPr>
        <p:sp>
          <p:nvSpPr>
            <p:cNvPr id="6296" name=""/>
            <p:cNvSpPr/>
            <p:nvPr/>
          </p:nvSpPr>
          <p:spPr>
            <a:xfrm>
              <a:off x="5322960" y="3940200"/>
              <a:ext cx="36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844960" y="2052720"/>
              <a:ext cx="107028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6991200" y="2817720"/>
              <a:ext cx="106848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5915160" y="3219480"/>
              <a:ext cx="1079280" cy="655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269120" y="2011320"/>
              <a:ext cx="1079640" cy="655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6056640" y="2039760"/>
              <a:ext cx="1814040" cy="1519200"/>
              <a:chOff x="6056640" y="2039760"/>
              <a:chExt cx="1814040" cy="1519200"/>
            </a:xfrm>
          </p:grpSpPr>
          <p:sp>
            <p:nvSpPr>
              <p:cNvPr id="6302" name=""/>
              <p:cNvSpPr/>
              <p:nvPr/>
            </p:nvSpPr>
            <p:spPr>
              <a:xfrm rot="1818600">
                <a:off x="6113520" y="3286800"/>
                <a:ext cx="9036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131160" y="2060640"/>
                <a:ext cx="173304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162840" y="203976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5" name=""/>
            <p:cNvSpPr/>
            <p:nvPr/>
          </p:nvSpPr>
          <p:spPr>
            <a:xfrm>
              <a:off x="6205680" y="2152800"/>
              <a:ext cx="1618920" cy="124740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 flipV="1">
              <a:off x="5875200" y="1891800"/>
              <a:ext cx="2220840" cy="17586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6094440" y="3340080"/>
              <a:ext cx="1350720" cy="83628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191360" y="3736800"/>
              <a:ext cx="4176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 flipH="1">
              <a:off x="5589360" y="2773440"/>
              <a:ext cx="906120" cy="15901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8045280" y="1881360"/>
              <a:ext cx="3780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5748480" y="2849400"/>
              <a:ext cx="55692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6877080" y="1955880"/>
              <a:ext cx="557280" cy="33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6595920" y="217944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6313320" y="240336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6030720" y="2627280"/>
              <a:ext cx="557280" cy="33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6" name=""/>
          <p:cNvSpPr/>
          <p:nvPr/>
        </p:nvSpPr>
        <p:spPr>
          <a:xfrm>
            <a:off x="314280" y="6058080"/>
            <a:ext cx="747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"/>
              </a:rPr>
              <a:t>M</a:t>
            </a:r>
            <a:r>
              <a:rPr b="0" lang="fr-FR" sz="2400" spc="-1" strike="noStrike" baseline="-25000">
                <a:solidFill>
                  <a:srgbClr val="99cc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7" name=""/>
          <p:cNvGrpSpPr/>
          <p:nvPr/>
        </p:nvGrpSpPr>
        <p:grpSpPr>
          <a:xfrm>
            <a:off x="219240" y="5427720"/>
            <a:ext cx="453960" cy="392040"/>
            <a:chOff x="219240" y="5427720"/>
            <a:chExt cx="453960" cy="392040"/>
          </a:xfrm>
        </p:grpSpPr>
        <p:sp>
          <p:nvSpPr>
            <p:cNvPr id="6318" name=""/>
            <p:cNvSpPr/>
            <p:nvPr/>
          </p:nvSpPr>
          <p:spPr>
            <a:xfrm>
              <a:off x="284760" y="542772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19240" y="5691240"/>
              <a:ext cx="453960" cy="12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28960" y="568980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1" name=""/>
          <p:cNvGrpSpPr/>
          <p:nvPr/>
        </p:nvGrpSpPr>
        <p:grpSpPr>
          <a:xfrm>
            <a:off x="457200" y="5108400"/>
            <a:ext cx="3260520" cy="293760"/>
            <a:chOff x="457200" y="5108400"/>
            <a:chExt cx="3260520" cy="293760"/>
          </a:xfrm>
        </p:grpSpPr>
        <p:grpSp>
          <p:nvGrpSpPr>
            <p:cNvPr id="6322" name=""/>
            <p:cNvGrpSpPr/>
            <p:nvPr/>
          </p:nvGrpSpPr>
          <p:grpSpPr>
            <a:xfrm>
              <a:off x="457200" y="5108400"/>
              <a:ext cx="1528200" cy="293760"/>
              <a:chOff x="457200" y="5108400"/>
              <a:chExt cx="1528200" cy="293760"/>
            </a:xfrm>
          </p:grpSpPr>
          <p:grpSp>
            <p:nvGrpSpPr>
              <p:cNvPr id="6323" name=""/>
              <p:cNvGrpSpPr/>
              <p:nvPr/>
            </p:nvGrpSpPr>
            <p:grpSpPr>
              <a:xfrm>
                <a:off x="457200" y="5108400"/>
                <a:ext cx="654840" cy="293760"/>
                <a:chOff x="457200" y="5108400"/>
                <a:chExt cx="654840" cy="293760"/>
              </a:xfrm>
            </p:grpSpPr>
            <p:sp>
              <p:nvSpPr>
                <p:cNvPr id="6324" name=""/>
                <p:cNvSpPr/>
                <p:nvPr/>
              </p:nvSpPr>
              <p:spPr>
                <a:xfrm>
                  <a:off x="45720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68148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88740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111204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8" name=""/>
              <p:cNvGrpSpPr/>
              <p:nvPr/>
            </p:nvGrpSpPr>
            <p:grpSpPr>
              <a:xfrm>
                <a:off x="1330560" y="5108400"/>
                <a:ext cx="654840" cy="293760"/>
                <a:chOff x="1330560" y="5108400"/>
                <a:chExt cx="654840" cy="293760"/>
              </a:xfrm>
            </p:grpSpPr>
            <p:sp>
              <p:nvSpPr>
                <p:cNvPr id="6329" name=""/>
                <p:cNvSpPr/>
                <p:nvPr/>
              </p:nvSpPr>
              <p:spPr>
                <a:xfrm>
                  <a:off x="133056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155484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176076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198540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33" name=""/>
            <p:cNvGrpSpPr/>
            <p:nvPr/>
          </p:nvGrpSpPr>
          <p:grpSpPr>
            <a:xfrm>
              <a:off x="2189520" y="5108400"/>
              <a:ext cx="1528200" cy="293760"/>
              <a:chOff x="2189520" y="5108400"/>
              <a:chExt cx="1528200" cy="293760"/>
            </a:xfrm>
          </p:grpSpPr>
          <p:grpSp>
            <p:nvGrpSpPr>
              <p:cNvPr id="6334" name=""/>
              <p:cNvGrpSpPr/>
              <p:nvPr/>
            </p:nvGrpSpPr>
            <p:grpSpPr>
              <a:xfrm>
                <a:off x="2189520" y="5108400"/>
                <a:ext cx="654840" cy="293760"/>
                <a:chOff x="2189520" y="5108400"/>
                <a:chExt cx="654840" cy="293760"/>
              </a:xfrm>
            </p:grpSpPr>
            <p:sp>
              <p:nvSpPr>
                <p:cNvPr id="6335" name=""/>
                <p:cNvSpPr/>
                <p:nvPr/>
              </p:nvSpPr>
              <p:spPr>
                <a:xfrm>
                  <a:off x="218952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241380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261972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284436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9" name=""/>
              <p:cNvGrpSpPr/>
              <p:nvPr/>
            </p:nvGrpSpPr>
            <p:grpSpPr>
              <a:xfrm>
                <a:off x="3062880" y="5108400"/>
                <a:ext cx="654840" cy="293760"/>
                <a:chOff x="3062880" y="5108400"/>
                <a:chExt cx="654840" cy="293760"/>
              </a:xfrm>
            </p:grpSpPr>
            <p:sp>
              <p:nvSpPr>
                <p:cNvPr id="6340" name=""/>
                <p:cNvSpPr/>
                <p:nvPr/>
              </p:nvSpPr>
              <p:spPr>
                <a:xfrm>
                  <a:off x="306288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328716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349308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3717720" y="5108400"/>
                  <a:ext cx="0" cy="29376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44" name=""/>
          <p:cNvSpPr/>
          <p:nvPr/>
        </p:nvSpPr>
        <p:spPr>
          <a:xfrm>
            <a:off x="434880" y="5397480"/>
            <a:ext cx="37562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441360" y="5394240"/>
            <a:ext cx="3306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441360" y="5397480"/>
            <a:ext cx="0" cy="928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7" name=""/>
          <p:cNvGrpSpPr/>
          <p:nvPr/>
        </p:nvGrpSpPr>
        <p:grpSpPr>
          <a:xfrm>
            <a:off x="3483000" y="5427720"/>
            <a:ext cx="453960" cy="392040"/>
            <a:chOff x="3483000" y="5427720"/>
            <a:chExt cx="453960" cy="392040"/>
          </a:xfrm>
        </p:grpSpPr>
        <p:sp>
          <p:nvSpPr>
            <p:cNvPr id="6348" name=""/>
            <p:cNvSpPr/>
            <p:nvPr/>
          </p:nvSpPr>
          <p:spPr>
            <a:xfrm>
              <a:off x="3548520" y="542772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483000" y="5691240"/>
              <a:ext cx="453960" cy="128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492720" y="568980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1" name=""/>
          <p:cNvSpPr/>
          <p:nvPr/>
        </p:nvSpPr>
        <p:spPr>
          <a:xfrm>
            <a:off x="482760" y="5373720"/>
            <a:ext cx="3225600" cy="717480"/>
          </a:xfrm>
          <a:custGeom>
            <a:avLst/>
            <a:gdLst/>
            <a:ahLst/>
            <a:rect l="l" t="t" r="r" b="b"/>
            <a:pathLst>
              <a:path w="5080" h="1130">
                <a:moveTo>
                  <a:pt x="0" y="60"/>
                </a:moveTo>
                <a:cubicBezTo>
                  <a:pt x="430" y="237"/>
                  <a:pt x="1733" y="1130"/>
                  <a:pt x="2580" y="1120"/>
                </a:cubicBezTo>
                <a:cubicBezTo>
                  <a:pt x="3427" y="1110"/>
                  <a:pt x="4559" y="233"/>
                  <a:pt x="5080" y="0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3768840" y="4935600"/>
            <a:ext cx="571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3" name=""/>
              <p:cNvSpPr txBox="1"/>
              <p:nvPr/>
            </p:nvSpPr>
            <p:spPr>
              <a:xfrm>
                <a:off x="1633680" y="6207120"/>
                <a:ext cx="1001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4" name=""/>
          <p:cNvSpPr/>
          <p:nvPr/>
        </p:nvSpPr>
        <p:spPr>
          <a:xfrm>
            <a:off x="1895400" y="4665600"/>
            <a:ext cx="46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fr-FR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5" name=""/>
          <p:cNvGrpSpPr/>
          <p:nvPr/>
        </p:nvGrpSpPr>
        <p:grpSpPr>
          <a:xfrm>
            <a:off x="4917960" y="5478480"/>
            <a:ext cx="454320" cy="392040"/>
            <a:chOff x="4917960" y="5478480"/>
            <a:chExt cx="454320" cy="392040"/>
          </a:xfrm>
        </p:grpSpPr>
        <p:sp>
          <p:nvSpPr>
            <p:cNvPr id="6356" name=""/>
            <p:cNvSpPr/>
            <p:nvPr/>
          </p:nvSpPr>
          <p:spPr>
            <a:xfrm>
              <a:off x="4983480" y="5478480"/>
              <a:ext cx="31860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4917960" y="5742000"/>
              <a:ext cx="454320" cy="128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4927680" y="5740560"/>
              <a:ext cx="44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9" name=""/>
          <p:cNvGrpSpPr/>
          <p:nvPr/>
        </p:nvGrpSpPr>
        <p:grpSpPr>
          <a:xfrm>
            <a:off x="5156280" y="5159520"/>
            <a:ext cx="3260160" cy="293400"/>
            <a:chOff x="5156280" y="5159520"/>
            <a:chExt cx="3260160" cy="293400"/>
          </a:xfrm>
        </p:grpSpPr>
        <p:grpSp>
          <p:nvGrpSpPr>
            <p:cNvPr id="6360" name=""/>
            <p:cNvGrpSpPr/>
            <p:nvPr/>
          </p:nvGrpSpPr>
          <p:grpSpPr>
            <a:xfrm>
              <a:off x="5156280" y="5159520"/>
              <a:ext cx="1528200" cy="293400"/>
              <a:chOff x="5156280" y="5159520"/>
              <a:chExt cx="1528200" cy="293400"/>
            </a:xfrm>
          </p:grpSpPr>
          <p:grpSp>
            <p:nvGrpSpPr>
              <p:cNvPr id="6361" name=""/>
              <p:cNvGrpSpPr/>
              <p:nvPr/>
            </p:nvGrpSpPr>
            <p:grpSpPr>
              <a:xfrm>
                <a:off x="5156280" y="5159520"/>
                <a:ext cx="654840" cy="293400"/>
                <a:chOff x="5156280" y="5159520"/>
                <a:chExt cx="654840" cy="293400"/>
              </a:xfrm>
            </p:grpSpPr>
            <p:sp>
              <p:nvSpPr>
                <p:cNvPr id="6362" name=""/>
                <p:cNvSpPr/>
                <p:nvPr/>
              </p:nvSpPr>
              <p:spPr>
                <a:xfrm>
                  <a:off x="515628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538056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558648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581112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6" name=""/>
              <p:cNvGrpSpPr/>
              <p:nvPr/>
            </p:nvGrpSpPr>
            <p:grpSpPr>
              <a:xfrm>
                <a:off x="6029640" y="5159520"/>
                <a:ext cx="654840" cy="293400"/>
                <a:chOff x="6029640" y="5159520"/>
                <a:chExt cx="654840" cy="293400"/>
              </a:xfrm>
            </p:grpSpPr>
            <p:sp>
              <p:nvSpPr>
                <p:cNvPr id="6367" name=""/>
                <p:cNvSpPr/>
                <p:nvPr/>
              </p:nvSpPr>
              <p:spPr>
                <a:xfrm>
                  <a:off x="602964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625392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645984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668448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1" name=""/>
            <p:cNvGrpSpPr/>
            <p:nvPr/>
          </p:nvGrpSpPr>
          <p:grpSpPr>
            <a:xfrm>
              <a:off x="6888240" y="5159520"/>
              <a:ext cx="1528200" cy="293400"/>
              <a:chOff x="6888240" y="5159520"/>
              <a:chExt cx="1528200" cy="293400"/>
            </a:xfrm>
          </p:grpSpPr>
          <p:grpSp>
            <p:nvGrpSpPr>
              <p:cNvPr id="6372" name=""/>
              <p:cNvGrpSpPr/>
              <p:nvPr/>
            </p:nvGrpSpPr>
            <p:grpSpPr>
              <a:xfrm>
                <a:off x="6888240" y="5159520"/>
                <a:ext cx="654840" cy="293400"/>
                <a:chOff x="6888240" y="5159520"/>
                <a:chExt cx="654840" cy="293400"/>
              </a:xfrm>
            </p:grpSpPr>
            <p:sp>
              <p:nvSpPr>
                <p:cNvPr id="6373" name=""/>
                <p:cNvSpPr/>
                <p:nvPr/>
              </p:nvSpPr>
              <p:spPr>
                <a:xfrm>
                  <a:off x="688824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711252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731844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754308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7" name=""/>
              <p:cNvGrpSpPr/>
              <p:nvPr/>
            </p:nvGrpSpPr>
            <p:grpSpPr>
              <a:xfrm>
                <a:off x="7761600" y="5159520"/>
                <a:ext cx="654840" cy="293400"/>
                <a:chOff x="7761600" y="5159520"/>
                <a:chExt cx="654840" cy="293400"/>
              </a:xfrm>
            </p:grpSpPr>
            <p:sp>
              <p:nvSpPr>
                <p:cNvPr id="6378" name=""/>
                <p:cNvSpPr/>
                <p:nvPr/>
              </p:nvSpPr>
              <p:spPr>
                <a:xfrm>
                  <a:off x="776160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798588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819180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8416440" y="5159520"/>
                  <a:ext cx="0" cy="2934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82" name=""/>
          <p:cNvSpPr/>
          <p:nvPr/>
        </p:nvSpPr>
        <p:spPr>
          <a:xfrm>
            <a:off x="5087880" y="5448240"/>
            <a:ext cx="372132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5140440" y="5445000"/>
            <a:ext cx="33066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5140440" y="5448240"/>
            <a:ext cx="0" cy="928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5" name=""/>
          <p:cNvGrpSpPr/>
          <p:nvPr/>
        </p:nvGrpSpPr>
        <p:grpSpPr>
          <a:xfrm>
            <a:off x="6556320" y="5478480"/>
            <a:ext cx="453960" cy="392040"/>
            <a:chOff x="6556320" y="5478480"/>
            <a:chExt cx="453960" cy="392040"/>
          </a:xfrm>
        </p:grpSpPr>
        <p:sp>
          <p:nvSpPr>
            <p:cNvPr id="6386" name=""/>
            <p:cNvSpPr/>
            <p:nvPr/>
          </p:nvSpPr>
          <p:spPr>
            <a:xfrm>
              <a:off x="6621840" y="547848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556320" y="5742000"/>
              <a:ext cx="453960" cy="12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566040" y="574056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9" name=""/>
          <p:cNvGrpSpPr/>
          <p:nvPr/>
        </p:nvGrpSpPr>
        <p:grpSpPr>
          <a:xfrm>
            <a:off x="8182080" y="5478480"/>
            <a:ext cx="453960" cy="392040"/>
            <a:chOff x="8182080" y="5478480"/>
            <a:chExt cx="453960" cy="392040"/>
          </a:xfrm>
        </p:grpSpPr>
        <p:sp>
          <p:nvSpPr>
            <p:cNvPr id="6390" name=""/>
            <p:cNvSpPr/>
            <p:nvPr/>
          </p:nvSpPr>
          <p:spPr>
            <a:xfrm>
              <a:off x="8247600" y="5478480"/>
              <a:ext cx="318240" cy="259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8182080" y="5742000"/>
              <a:ext cx="453960" cy="128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8191800" y="574056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3" name=""/>
          <p:cNvSpPr/>
          <p:nvPr/>
        </p:nvSpPr>
        <p:spPr>
          <a:xfrm>
            <a:off x="5181480" y="4853160"/>
            <a:ext cx="3225960" cy="842760"/>
          </a:xfrm>
          <a:custGeom>
            <a:avLst/>
            <a:gdLst/>
            <a:ahLst/>
            <a:rect l="l" t="t" r="r" b="b"/>
            <a:pathLst>
              <a:path w="5080" h="1327">
                <a:moveTo>
                  <a:pt x="0" y="960"/>
                </a:moveTo>
                <a:cubicBezTo>
                  <a:pt x="97" y="1007"/>
                  <a:pt x="387" y="1180"/>
                  <a:pt x="580" y="1240"/>
                </a:cubicBezTo>
                <a:cubicBezTo>
                  <a:pt x="773" y="1300"/>
                  <a:pt x="987" y="1327"/>
                  <a:pt x="1160" y="1320"/>
                </a:cubicBezTo>
                <a:cubicBezTo>
                  <a:pt x="1333" y="1313"/>
                  <a:pt x="1480" y="1257"/>
                  <a:pt x="1620" y="1200"/>
                </a:cubicBezTo>
                <a:cubicBezTo>
                  <a:pt x="1760" y="1143"/>
                  <a:pt x="1893" y="1070"/>
                  <a:pt x="2000" y="980"/>
                </a:cubicBezTo>
                <a:lnTo>
                  <a:pt x="2260" y="660"/>
                </a:lnTo>
                <a:lnTo>
                  <a:pt x="2420" y="360"/>
                </a:lnTo>
                <a:lnTo>
                  <a:pt x="2580" y="0"/>
                </a:lnTo>
                <a:lnTo>
                  <a:pt x="2760" y="420"/>
                </a:lnTo>
                <a:lnTo>
                  <a:pt x="2960" y="800"/>
                </a:lnTo>
                <a:lnTo>
                  <a:pt x="3180" y="1000"/>
                </a:lnTo>
                <a:lnTo>
                  <a:pt x="3520" y="1240"/>
                </a:lnTo>
                <a:lnTo>
                  <a:pt x="4060" y="1320"/>
                </a:lnTo>
                <a:cubicBezTo>
                  <a:pt x="4240" y="1310"/>
                  <a:pt x="4430" y="1250"/>
                  <a:pt x="4600" y="1180"/>
                </a:cubicBezTo>
                <a:cubicBezTo>
                  <a:pt x="4770" y="1110"/>
                  <a:pt x="4980" y="958"/>
                  <a:pt x="5080" y="900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8494560" y="49878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5" name=""/>
              <p:cNvSpPr txBox="1"/>
              <p:nvPr/>
            </p:nvSpPr>
            <p:spPr>
              <a:xfrm>
                <a:off x="6303960" y="4307040"/>
                <a:ext cx="1104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6" name=""/>
              <p:cNvSpPr txBox="1"/>
              <p:nvPr/>
            </p:nvSpPr>
            <p:spPr>
              <a:xfrm>
                <a:off x="5378400" y="5956200"/>
                <a:ext cx="10796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7" name=""/>
              <p:cNvSpPr txBox="1"/>
              <p:nvPr/>
            </p:nvSpPr>
            <p:spPr>
              <a:xfrm>
                <a:off x="7099200" y="5970600"/>
                <a:ext cx="1079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p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8" name=""/>
          <p:cNvSpPr/>
          <p:nvPr/>
        </p:nvSpPr>
        <p:spPr>
          <a:xfrm>
            <a:off x="5543640" y="4748040"/>
            <a:ext cx="46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fr-FR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3954600" y="270000"/>
            <a:ext cx="107136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i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4519440" y="6081840"/>
            <a:ext cx="747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"/>
              </a:rPr>
              <a:t>M</a:t>
            </a:r>
            <a:r>
              <a:rPr b="0" lang="fr-FR" sz="2400" spc="-1" strike="noStrike" baseline="-25000">
                <a:solidFill>
                  <a:srgbClr val="99cc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"/>
          <p:cNvSpPr/>
          <p:nvPr/>
        </p:nvSpPr>
        <p:spPr>
          <a:xfrm>
            <a:off x="3236760" y="2779560"/>
            <a:ext cx="2254320" cy="1008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s ne jouent un rôle que selon l’axe faibl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890880" y="577800"/>
            <a:ext cx="145584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272880" y="4110120"/>
            <a:ext cx="3100320" cy="2482920"/>
            <a:chOff x="272880" y="4110120"/>
            <a:chExt cx="3100320" cy="2482920"/>
          </a:xfrm>
        </p:grpSpPr>
        <p:sp>
          <p:nvSpPr>
            <p:cNvPr id="6407" name=""/>
            <p:cNvSpPr/>
            <p:nvPr/>
          </p:nvSpPr>
          <p:spPr>
            <a:xfrm>
              <a:off x="852480" y="5435640"/>
              <a:ext cx="107928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206440" y="4227480"/>
              <a:ext cx="107964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9" name=""/>
            <p:cNvGrpSpPr/>
            <p:nvPr/>
          </p:nvGrpSpPr>
          <p:grpSpPr>
            <a:xfrm>
              <a:off x="993960" y="4255920"/>
              <a:ext cx="1814040" cy="1519560"/>
              <a:chOff x="993960" y="4255920"/>
              <a:chExt cx="1814040" cy="1519560"/>
            </a:xfrm>
          </p:grpSpPr>
          <p:sp>
            <p:nvSpPr>
              <p:cNvPr id="6410" name=""/>
              <p:cNvSpPr/>
              <p:nvPr/>
            </p:nvSpPr>
            <p:spPr>
              <a:xfrm rot="1818600">
                <a:off x="1050840" y="5503680"/>
                <a:ext cx="9072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1068480" y="4276800"/>
                <a:ext cx="1733400" cy="14986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1100160" y="4255920"/>
                <a:ext cx="1707840" cy="129096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3" name=""/>
            <p:cNvSpPr/>
            <p:nvPr/>
          </p:nvSpPr>
          <p:spPr>
            <a:xfrm>
              <a:off x="1116000" y="4373640"/>
              <a:ext cx="1617480" cy="1245960"/>
            </a:xfrm>
            <a:custGeom>
              <a:avLst/>
              <a:gdLst/>
              <a:ahLst/>
              <a:rect l="l" t="t" r="r" b="b"/>
              <a:pathLst>
                <a:path w="4764" h="3483">
                  <a:moveTo>
                    <a:pt x="0" y="3483"/>
                  </a:moveTo>
                  <a:cubicBezTo>
                    <a:pt x="1075" y="3198"/>
                    <a:pt x="2151" y="2913"/>
                    <a:pt x="2945" y="2333"/>
                  </a:cubicBezTo>
                  <a:cubicBezTo>
                    <a:pt x="3739" y="1753"/>
                    <a:pt x="4459" y="398"/>
                    <a:pt x="4764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825480" y="4121280"/>
              <a:ext cx="2220840" cy="17589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1044360" y="5568840"/>
              <a:ext cx="1351080" cy="83664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41280" y="5965920"/>
              <a:ext cx="4176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539640" y="5002200"/>
              <a:ext cx="906480" cy="15908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72880" y="6124680"/>
              <a:ext cx="3650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995560" y="4110120"/>
              <a:ext cx="37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0" name=""/>
            <p:cNvGrpSpPr/>
            <p:nvPr/>
          </p:nvGrpSpPr>
          <p:grpSpPr>
            <a:xfrm>
              <a:off x="701640" y="4175280"/>
              <a:ext cx="1685880" cy="1231560"/>
              <a:chOff x="701640" y="4175280"/>
              <a:chExt cx="1685880" cy="1231560"/>
            </a:xfrm>
          </p:grpSpPr>
          <p:sp>
            <p:nvSpPr>
              <p:cNvPr id="6421" name=""/>
              <p:cNvSpPr/>
              <p:nvPr/>
            </p:nvSpPr>
            <p:spPr>
              <a:xfrm>
                <a:off x="701640" y="506880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1830240" y="417528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1549440" y="4398840"/>
                <a:ext cx="556920" cy="3384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1266840" y="462276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984240" y="4846680"/>
                <a:ext cx="557280" cy="3380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6" name=""/>
          <p:cNvGrpSpPr/>
          <p:nvPr/>
        </p:nvGrpSpPr>
        <p:grpSpPr>
          <a:xfrm>
            <a:off x="5497560" y="4043520"/>
            <a:ext cx="3100320" cy="2482200"/>
            <a:chOff x="5497560" y="4043520"/>
            <a:chExt cx="3100320" cy="2482200"/>
          </a:xfrm>
        </p:grpSpPr>
        <p:sp>
          <p:nvSpPr>
            <p:cNvPr id="6427" name=""/>
            <p:cNvSpPr/>
            <p:nvPr/>
          </p:nvSpPr>
          <p:spPr>
            <a:xfrm>
              <a:off x="5497560" y="6102360"/>
              <a:ext cx="365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19560" y="4214880"/>
              <a:ext cx="1070280" cy="71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165800" y="4979880"/>
              <a:ext cx="106848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089760" y="5381640"/>
              <a:ext cx="1079280" cy="655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443720" y="4173480"/>
              <a:ext cx="1079640" cy="655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2" name=""/>
            <p:cNvGrpSpPr/>
            <p:nvPr/>
          </p:nvGrpSpPr>
          <p:grpSpPr>
            <a:xfrm>
              <a:off x="6231240" y="4201920"/>
              <a:ext cx="1814040" cy="1519200"/>
              <a:chOff x="6231240" y="4201920"/>
              <a:chExt cx="1814040" cy="1519200"/>
            </a:xfrm>
          </p:grpSpPr>
          <p:sp>
            <p:nvSpPr>
              <p:cNvPr id="6433" name=""/>
              <p:cNvSpPr/>
              <p:nvPr/>
            </p:nvSpPr>
            <p:spPr>
              <a:xfrm rot="1818600">
                <a:off x="6288120" y="5448960"/>
                <a:ext cx="9036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6305760" y="4222800"/>
                <a:ext cx="173304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6337440" y="420192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6" name=""/>
            <p:cNvSpPr/>
            <p:nvPr/>
          </p:nvSpPr>
          <p:spPr>
            <a:xfrm>
              <a:off x="6380280" y="4314960"/>
              <a:ext cx="1618920" cy="124740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049800" y="4053960"/>
              <a:ext cx="2220840" cy="17586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269040" y="5502240"/>
              <a:ext cx="1350720" cy="83628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365960" y="5898960"/>
              <a:ext cx="4176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 flipH="1">
              <a:off x="5763960" y="4935600"/>
              <a:ext cx="906120" cy="15901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8219880" y="4043520"/>
              <a:ext cx="3780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5923080" y="5011560"/>
              <a:ext cx="55692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051680" y="4118040"/>
              <a:ext cx="557280" cy="33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6770520" y="434160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87920" y="456552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6205320" y="4789440"/>
              <a:ext cx="557280" cy="337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8" name=""/>
          <p:cNvGrpSpPr/>
          <p:nvPr/>
        </p:nvGrpSpPr>
        <p:grpSpPr>
          <a:xfrm>
            <a:off x="711360" y="1114560"/>
            <a:ext cx="2387520" cy="2633400"/>
            <a:chOff x="711360" y="1114560"/>
            <a:chExt cx="2387520" cy="2633400"/>
          </a:xfrm>
        </p:grpSpPr>
        <p:sp>
          <p:nvSpPr>
            <p:cNvPr id="6449" name=""/>
            <p:cNvSpPr/>
            <p:nvPr/>
          </p:nvSpPr>
          <p:spPr>
            <a:xfrm flipH="1">
              <a:off x="740880" y="1994040"/>
              <a:ext cx="669960" cy="16221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flipV="1">
              <a:off x="711360" y="1261800"/>
              <a:ext cx="2266920" cy="18097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2760840" y="1341360"/>
              <a:ext cx="338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998640" y="2646360"/>
              <a:ext cx="1206360" cy="7462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66800" y="2498760"/>
              <a:ext cx="965160" cy="5857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04920" y="1457280"/>
              <a:ext cx="965160" cy="58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5" name=""/>
            <p:cNvGrpSpPr/>
            <p:nvPr/>
          </p:nvGrpSpPr>
          <p:grpSpPr>
            <a:xfrm>
              <a:off x="1020600" y="1482840"/>
              <a:ext cx="1622520" cy="1357200"/>
              <a:chOff x="1020600" y="1482840"/>
              <a:chExt cx="1622520" cy="1357200"/>
            </a:xfrm>
          </p:grpSpPr>
          <p:sp>
            <p:nvSpPr>
              <p:cNvPr id="6456" name=""/>
              <p:cNvSpPr/>
              <p:nvPr/>
            </p:nvSpPr>
            <p:spPr>
              <a:xfrm rot="1818600">
                <a:off x="1071360" y="2597400"/>
                <a:ext cx="81000" cy="22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1087200" y="1501560"/>
                <a:ext cx="1549800" cy="13384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1116000" y="1482840"/>
                <a:ext cx="1527120" cy="115308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9" name=""/>
            <p:cNvSpPr/>
            <p:nvPr/>
          </p:nvSpPr>
          <p:spPr>
            <a:xfrm>
              <a:off x="1022400" y="1735200"/>
              <a:ext cx="1444680" cy="1112760"/>
            </a:xfrm>
            <a:custGeom>
              <a:avLst/>
              <a:gdLst/>
              <a:ahLst/>
              <a:rect l="l" t="t" r="r" b="b"/>
              <a:pathLst>
                <a:path w="910" h="701">
                  <a:moveTo>
                    <a:pt x="0" y="701"/>
                  </a:moveTo>
                  <a:lnTo>
                    <a:pt x="279" y="649"/>
                  </a:lnTo>
                  <a:cubicBezTo>
                    <a:pt x="362" y="620"/>
                    <a:pt x="432" y="571"/>
                    <a:pt x="498" y="525"/>
                  </a:cubicBezTo>
                  <a:cubicBezTo>
                    <a:pt x="564" y="479"/>
                    <a:pt x="620" y="431"/>
                    <a:pt x="674" y="371"/>
                  </a:cubicBezTo>
                  <a:cubicBezTo>
                    <a:pt x="728" y="311"/>
                    <a:pt x="781" y="228"/>
                    <a:pt x="820" y="166"/>
                  </a:cubicBezTo>
                  <a:lnTo>
                    <a:pt x="910" y="0"/>
                  </a:ln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031840" y="2952720"/>
              <a:ext cx="373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82640" y="3446640"/>
              <a:ext cx="326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1333440" y="1114560"/>
              <a:ext cx="1253880" cy="1379160"/>
              <a:chOff x="1333440" y="1114560"/>
              <a:chExt cx="1253880" cy="1379160"/>
            </a:xfrm>
          </p:grpSpPr>
          <p:sp>
            <p:nvSpPr>
              <p:cNvPr id="6463" name=""/>
              <p:cNvSpPr/>
              <p:nvPr/>
            </p:nvSpPr>
            <p:spPr>
              <a:xfrm flipH="1">
                <a:off x="1333440" y="190188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2346120" y="111456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2092320" y="131112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 flipH="1">
                <a:off x="1839960" y="150804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H="1">
                <a:off x="1585800" y="170496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8" name=""/>
          <p:cNvGrpSpPr/>
          <p:nvPr/>
        </p:nvGrpSpPr>
        <p:grpSpPr>
          <a:xfrm>
            <a:off x="5959440" y="1130400"/>
            <a:ext cx="2387520" cy="2633400"/>
            <a:chOff x="5959440" y="1130400"/>
            <a:chExt cx="2387520" cy="2633400"/>
          </a:xfrm>
        </p:grpSpPr>
        <p:sp>
          <p:nvSpPr>
            <p:cNvPr id="6469" name=""/>
            <p:cNvSpPr/>
            <p:nvPr/>
          </p:nvSpPr>
          <p:spPr>
            <a:xfrm flipH="1">
              <a:off x="5989320" y="2009880"/>
              <a:ext cx="669960" cy="16221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 flipV="1">
              <a:off x="5959440" y="1277640"/>
              <a:ext cx="2266920" cy="18097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8008920" y="1357200"/>
              <a:ext cx="338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6246720" y="2662200"/>
              <a:ext cx="1206720" cy="7462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6081840" y="1509840"/>
              <a:ext cx="955440" cy="63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104240" y="2192400"/>
              <a:ext cx="955440" cy="6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6014880" y="2514600"/>
              <a:ext cx="965520" cy="5857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353360" y="1473120"/>
              <a:ext cx="965160" cy="58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7" name=""/>
            <p:cNvGrpSpPr/>
            <p:nvPr/>
          </p:nvGrpSpPr>
          <p:grpSpPr>
            <a:xfrm>
              <a:off x="6268680" y="1498680"/>
              <a:ext cx="1622880" cy="1357200"/>
              <a:chOff x="6268680" y="1498680"/>
              <a:chExt cx="1622880" cy="1357200"/>
            </a:xfrm>
          </p:grpSpPr>
          <p:sp>
            <p:nvSpPr>
              <p:cNvPr id="6478" name=""/>
              <p:cNvSpPr/>
              <p:nvPr/>
            </p:nvSpPr>
            <p:spPr>
              <a:xfrm rot="1818600">
                <a:off x="6319440" y="2613240"/>
                <a:ext cx="81000" cy="22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6335640" y="1517400"/>
                <a:ext cx="1550160" cy="133848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6364080" y="1498680"/>
                <a:ext cx="1527480" cy="115308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1" name=""/>
            <p:cNvSpPr/>
            <p:nvPr/>
          </p:nvSpPr>
          <p:spPr>
            <a:xfrm>
              <a:off x="6270480" y="1751040"/>
              <a:ext cx="1444680" cy="1112760"/>
            </a:xfrm>
            <a:custGeom>
              <a:avLst/>
              <a:gdLst/>
              <a:ahLst/>
              <a:rect l="l" t="t" r="r" b="b"/>
              <a:pathLst>
                <a:path w="910" h="701">
                  <a:moveTo>
                    <a:pt x="0" y="701"/>
                  </a:moveTo>
                  <a:lnTo>
                    <a:pt x="279" y="649"/>
                  </a:lnTo>
                  <a:cubicBezTo>
                    <a:pt x="362" y="620"/>
                    <a:pt x="432" y="571"/>
                    <a:pt x="498" y="525"/>
                  </a:cubicBezTo>
                  <a:cubicBezTo>
                    <a:pt x="564" y="479"/>
                    <a:pt x="620" y="431"/>
                    <a:pt x="674" y="371"/>
                  </a:cubicBezTo>
                  <a:cubicBezTo>
                    <a:pt x="728" y="311"/>
                    <a:pt x="781" y="228"/>
                    <a:pt x="820" y="166"/>
                  </a:cubicBezTo>
                  <a:lnTo>
                    <a:pt x="910" y="0"/>
                  </a:ln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280280" y="2968560"/>
              <a:ext cx="372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6031080" y="3462480"/>
              <a:ext cx="326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4" name=""/>
            <p:cNvGrpSpPr/>
            <p:nvPr/>
          </p:nvGrpSpPr>
          <p:grpSpPr>
            <a:xfrm>
              <a:off x="6581880" y="1130400"/>
              <a:ext cx="1253880" cy="1379160"/>
              <a:chOff x="6581880" y="1130400"/>
              <a:chExt cx="1253880" cy="1379160"/>
            </a:xfrm>
          </p:grpSpPr>
          <p:sp>
            <p:nvSpPr>
              <p:cNvPr id="6485" name=""/>
              <p:cNvSpPr/>
              <p:nvPr/>
            </p:nvSpPr>
            <p:spPr>
              <a:xfrm flipH="1">
                <a:off x="6581880" y="191772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594560" y="113040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340760" y="132696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088400" y="152388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6834240" y="172080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3164040" y="542880"/>
            <a:ext cx="267480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CORREC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2" name=""/>
          <p:cNvGrpSpPr/>
          <p:nvPr/>
        </p:nvGrpSpPr>
        <p:grpSpPr>
          <a:xfrm>
            <a:off x="272880" y="4521240"/>
            <a:ext cx="3884400" cy="1422360"/>
            <a:chOff x="272880" y="4521240"/>
            <a:chExt cx="3884400" cy="1422360"/>
          </a:xfrm>
        </p:grpSpPr>
        <p:grpSp>
          <p:nvGrpSpPr>
            <p:cNvPr id="6493" name=""/>
            <p:cNvGrpSpPr/>
            <p:nvPr/>
          </p:nvGrpSpPr>
          <p:grpSpPr>
            <a:xfrm>
              <a:off x="272880" y="4521240"/>
              <a:ext cx="3884400" cy="1422360"/>
              <a:chOff x="272880" y="4521240"/>
              <a:chExt cx="3884400" cy="1422360"/>
            </a:xfrm>
          </p:grpSpPr>
          <p:sp>
            <p:nvSpPr>
              <p:cNvPr id="6494" name=""/>
              <p:cNvSpPr/>
              <p:nvPr/>
            </p:nvSpPr>
            <p:spPr>
              <a:xfrm flipV="1">
                <a:off x="2212560" y="4922640"/>
                <a:ext cx="0" cy="47808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5" name=""/>
              <p:cNvGrpSpPr/>
              <p:nvPr/>
            </p:nvGrpSpPr>
            <p:grpSpPr>
              <a:xfrm>
                <a:off x="529920" y="4959360"/>
                <a:ext cx="407880" cy="352440"/>
                <a:chOff x="529920" y="4959360"/>
                <a:chExt cx="407880" cy="352440"/>
              </a:xfrm>
            </p:grpSpPr>
            <p:sp>
              <p:nvSpPr>
                <p:cNvPr id="6496" name=""/>
                <p:cNvSpPr/>
                <p:nvPr/>
              </p:nvSpPr>
              <p:spPr>
                <a:xfrm>
                  <a:off x="588600" y="4959360"/>
                  <a:ext cx="286200" cy="233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529920" y="5196240"/>
                  <a:ext cx="407880" cy="1155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538560" y="5194800"/>
                  <a:ext cx="39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9" name=""/>
              <p:cNvGrpSpPr/>
              <p:nvPr/>
            </p:nvGrpSpPr>
            <p:grpSpPr>
              <a:xfrm>
                <a:off x="744120" y="4673520"/>
                <a:ext cx="2924280" cy="263520"/>
                <a:chOff x="744120" y="4673520"/>
                <a:chExt cx="2924280" cy="263520"/>
              </a:xfrm>
            </p:grpSpPr>
            <p:grpSp>
              <p:nvGrpSpPr>
                <p:cNvPr id="6500" name=""/>
                <p:cNvGrpSpPr/>
                <p:nvPr/>
              </p:nvGrpSpPr>
              <p:grpSpPr>
                <a:xfrm>
                  <a:off x="744120" y="4673520"/>
                  <a:ext cx="1370880" cy="263520"/>
                  <a:chOff x="744120" y="4673520"/>
                  <a:chExt cx="1370880" cy="263520"/>
                </a:xfrm>
              </p:grpSpPr>
              <p:grpSp>
                <p:nvGrpSpPr>
                  <p:cNvPr id="6501" name=""/>
                  <p:cNvGrpSpPr/>
                  <p:nvPr/>
                </p:nvGrpSpPr>
                <p:grpSpPr>
                  <a:xfrm>
                    <a:off x="744120" y="4673520"/>
                    <a:ext cx="587520" cy="263520"/>
                    <a:chOff x="744120" y="4673520"/>
                    <a:chExt cx="587520" cy="263520"/>
                  </a:xfrm>
                </p:grpSpPr>
                <p:sp>
                  <p:nvSpPr>
                    <p:cNvPr id="6502" name=""/>
                    <p:cNvSpPr/>
                    <p:nvPr/>
                  </p:nvSpPr>
                  <p:spPr>
                    <a:xfrm>
                      <a:off x="7441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3" name=""/>
                    <p:cNvSpPr/>
                    <p:nvPr/>
                  </p:nvSpPr>
                  <p:spPr>
                    <a:xfrm>
                      <a:off x="94536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4" name=""/>
                    <p:cNvSpPr/>
                    <p:nvPr/>
                  </p:nvSpPr>
                  <p:spPr>
                    <a:xfrm>
                      <a:off x="11300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5" name=""/>
                    <p:cNvSpPr/>
                    <p:nvPr/>
                  </p:nvSpPr>
                  <p:spPr>
                    <a:xfrm>
                      <a:off x="13316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06" name=""/>
                  <p:cNvGrpSpPr/>
                  <p:nvPr/>
                </p:nvGrpSpPr>
                <p:grpSpPr>
                  <a:xfrm>
                    <a:off x="1527480" y="4673520"/>
                    <a:ext cx="587520" cy="263520"/>
                    <a:chOff x="1527480" y="4673520"/>
                    <a:chExt cx="587520" cy="263520"/>
                  </a:xfrm>
                </p:grpSpPr>
                <p:sp>
                  <p:nvSpPr>
                    <p:cNvPr id="6507" name=""/>
                    <p:cNvSpPr/>
                    <p:nvPr/>
                  </p:nvSpPr>
                  <p:spPr>
                    <a:xfrm>
                      <a:off x="152748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8" name=""/>
                    <p:cNvSpPr/>
                    <p:nvPr/>
                  </p:nvSpPr>
                  <p:spPr>
                    <a:xfrm>
                      <a:off x="17287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9" name=""/>
                    <p:cNvSpPr/>
                    <p:nvPr/>
                  </p:nvSpPr>
                  <p:spPr>
                    <a:xfrm>
                      <a:off x="19134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0" name=""/>
                    <p:cNvSpPr/>
                    <p:nvPr/>
                  </p:nvSpPr>
                  <p:spPr>
                    <a:xfrm>
                      <a:off x="21150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511" name=""/>
                <p:cNvGrpSpPr/>
                <p:nvPr/>
              </p:nvGrpSpPr>
              <p:grpSpPr>
                <a:xfrm>
                  <a:off x="2297520" y="4673520"/>
                  <a:ext cx="1370880" cy="263520"/>
                  <a:chOff x="2297520" y="4673520"/>
                  <a:chExt cx="1370880" cy="263520"/>
                </a:xfrm>
              </p:grpSpPr>
              <p:grpSp>
                <p:nvGrpSpPr>
                  <p:cNvPr id="6512" name=""/>
                  <p:cNvGrpSpPr/>
                  <p:nvPr/>
                </p:nvGrpSpPr>
                <p:grpSpPr>
                  <a:xfrm>
                    <a:off x="2297520" y="4673520"/>
                    <a:ext cx="587520" cy="263520"/>
                    <a:chOff x="2297520" y="4673520"/>
                    <a:chExt cx="587520" cy="263520"/>
                  </a:xfrm>
                </p:grpSpPr>
                <p:sp>
                  <p:nvSpPr>
                    <p:cNvPr id="6513" name=""/>
                    <p:cNvSpPr/>
                    <p:nvPr/>
                  </p:nvSpPr>
                  <p:spPr>
                    <a:xfrm>
                      <a:off x="22975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4" name=""/>
                    <p:cNvSpPr/>
                    <p:nvPr/>
                  </p:nvSpPr>
                  <p:spPr>
                    <a:xfrm>
                      <a:off x="249876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5" name=""/>
                    <p:cNvSpPr/>
                    <p:nvPr/>
                  </p:nvSpPr>
                  <p:spPr>
                    <a:xfrm>
                      <a:off x="26834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6" name=""/>
                    <p:cNvSpPr/>
                    <p:nvPr/>
                  </p:nvSpPr>
                  <p:spPr>
                    <a:xfrm>
                      <a:off x="288504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7" name=""/>
                  <p:cNvGrpSpPr/>
                  <p:nvPr/>
                </p:nvGrpSpPr>
                <p:grpSpPr>
                  <a:xfrm>
                    <a:off x="3080880" y="4673520"/>
                    <a:ext cx="587520" cy="263520"/>
                    <a:chOff x="3080880" y="4673520"/>
                    <a:chExt cx="587520" cy="263520"/>
                  </a:xfrm>
                </p:grpSpPr>
                <p:sp>
                  <p:nvSpPr>
                    <p:cNvPr id="6518" name=""/>
                    <p:cNvSpPr/>
                    <p:nvPr/>
                  </p:nvSpPr>
                  <p:spPr>
                    <a:xfrm>
                      <a:off x="308088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9" name=""/>
                    <p:cNvSpPr/>
                    <p:nvPr/>
                  </p:nvSpPr>
                  <p:spPr>
                    <a:xfrm>
                      <a:off x="328212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0" name=""/>
                    <p:cNvSpPr/>
                    <p:nvPr/>
                  </p:nvSpPr>
                  <p:spPr>
                    <a:xfrm>
                      <a:off x="34668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1" name=""/>
                    <p:cNvSpPr/>
                    <p:nvPr/>
                  </p:nvSpPr>
                  <p:spPr>
                    <a:xfrm>
                      <a:off x="3668400" y="4673520"/>
                      <a:ext cx="0" cy="263520"/>
                    </a:xfrm>
                    <a:prstGeom prst="line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522" name=""/>
              <p:cNvSpPr/>
              <p:nvPr/>
            </p:nvSpPr>
            <p:spPr>
              <a:xfrm>
                <a:off x="599760" y="4932360"/>
                <a:ext cx="3451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730080" y="4929120"/>
                <a:ext cx="2965320" cy="0"/>
              </a:xfrm>
              <a:prstGeom prst="line">
                <a:avLst/>
              </a:prstGeom>
              <a:ln w="572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30080" y="4932360"/>
                <a:ext cx="0" cy="83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272880" y="5379840"/>
                <a:ext cx="51264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6" name=""/>
              <p:cNvGrpSpPr/>
              <p:nvPr/>
            </p:nvGrpSpPr>
            <p:grpSpPr>
              <a:xfrm>
                <a:off x="3457080" y="4959360"/>
                <a:ext cx="408240" cy="352440"/>
                <a:chOff x="3457080" y="4959360"/>
                <a:chExt cx="408240" cy="352440"/>
              </a:xfrm>
            </p:grpSpPr>
            <p:sp>
              <p:nvSpPr>
                <p:cNvPr id="6527" name=""/>
                <p:cNvSpPr/>
                <p:nvPr/>
              </p:nvSpPr>
              <p:spPr>
                <a:xfrm>
                  <a:off x="3515760" y="4959360"/>
                  <a:ext cx="286200" cy="233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3457080" y="5196240"/>
                  <a:ext cx="408240" cy="115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3465720" y="519480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0" name=""/>
              <p:cNvSpPr/>
              <p:nvPr/>
            </p:nvSpPr>
            <p:spPr>
              <a:xfrm>
                <a:off x="766440" y="4911480"/>
                <a:ext cx="2894040" cy="484200"/>
              </a:xfrm>
              <a:custGeom>
                <a:avLst/>
                <a:gdLst/>
                <a:ahLst/>
                <a:rect l="l" t="t" r="r" b="b"/>
                <a:pathLst>
                  <a:path w="5080" h="1130">
                    <a:moveTo>
                      <a:pt x="0" y="60"/>
                    </a:moveTo>
                    <a:cubicBezTo>
                      <a:pt x="430" y="237"/>
                      <a:pt x="1733" y="1130"/>
                      <a:pt x="2580" y="1120"/>
                    </a:cubicBezTo>
                    <a:cubicBezTo>
                      <a:pt x="3427" y="1110"/>
                      <a:pt x="4559" y="233"/>
                      <a:pt x="5080" y="0"/>
                    </a:cubicBezTo>
                  </a:path>
                </a:pathLst>
              </a:custGeom>
              <a:noFill/>
              <a:ln w="19080">
                <a:solidFill>
                  <a:srgbClr val="66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800160" y="4521240"/>
                <a:ext cx="3571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32" name=""/>
                <p:cNvSpPr txBox="1"/>
                <p:nvPr/>
              </p:nvSpPr>
              <p:spPr>
                <a:xfrm>
                  <a:off x="1780920" y="5459400"/>
                  <a:ext cx="9777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84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l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I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3" name=""/>
          <p:cNvGrpSpPr/>
          <p:nvPr/>
        </p:nvGrpSpPr>
        <p:grpSpPr>
          <a:xfrm>
            <a:off x="4741920" y="4383000"/>
            <a:ext cx="3846600" cy="1332000"/>
            <a:chOff x="4741920" y="4383000"/>
            <a:chExt cx="3846600" cy="1332000"/>
          </a:xfrm>
        </p:grpSpPr>
        <p:grpSp>
          <p:nvGrpSpPr>
            <p:cNvPr id="6534" name=""/>
            <p:cNvGrpSpPr/>
            <p:nvPr/>
          </p:nvGrpSpPr>
          <p:grpSpPr>
            <a:xfrm>
              <a:off x="5843520" y="4784760"/>
              <a:ext cx="1525680" cy="182520"/>
              <a:chOff x="5843520" y="4784760"/>
              <a:chExt cx="1525680" cy="182520"/>
            </a:xfrm>
          </p:grpSpPr>
          <p:sp>
            <p:nvSpPr>
              <p:cNvPr id="6535" name=""/>
              <p:cNvSpPr/>
              <p:nvPr/>
            </p:nvSpPr>
            <p:spPr>
              <a:xfrm flipV="1">
                <a:off x="5843520" y="4784760"/>
                <a:ext cx="0" cy="15984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V="1">
                <a:off x="7369200" y="4807440"/>
                <a:ext cx="0" cy="15984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7" name=""/>
            <p:cNvGrpSpPr/>
            <p:nvPr/>
          </p:nvGrpSpPr>
          <p:grpSpPr>
            <a:xfrm>
              <a:off x="4969080" y="4834080"/>
              <a:ext cx="407880" cy="350640"/>
              <a:chOff x="4969080" y="4834080"/>
              <a:chExt cx="407880" cy="350640"/>
            </a:xfrm>
          </p:grpSpPr>
          <p:sp>
            <p:nvSpPr>
              <p:cNvPr id="6538" name=""/>
              <p:cNvSpPr/>
              <p:nvPr/>
            </p:nvSpPr>
            <p:spPr>
              <a:xfrm>
                <a:off x="5027760" y="4834080"/>
                <a:ext cx="28620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969080" y="5069880"/>
                <a:ext cx="407880" cy="114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977720" y="5068440"/>
                <a:ext cx="39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1" name=""/>
            <p:cNvGrpSpPr/>
            <p:nvPr/>
          </p:nvGrpSpPr>
          <p:grpSpPr>
            <a:xfrm>
              <a:off x="5183280" y="4548240"/>
              <a:ext cx="2924280" cy="263520"/>
              <a:chOff x="5183280" y="4548240"/>
              <a:chExt cx="2924280" cy="263520"/>
            </a:xfrm>
          </p:grpSpPr>
          <p:grpSp>
            <p:nvGrpSpPr>
              <p:cNvPr id="6542" name=""/>
              <p:cNvGrpSpPr/>
              <p:nvPr/>
            </p:nvGrpSpPr>
            <p:grpSpPr>
              <a:xfrm>
                <a:off x="5183280" y="4548240"/>
                <a:ext cx="1370880" cy="263520"/>
                <a:chOff x="5183280" y="4548240"/>
                <a:chExt cx="1370880" cy="263520"/>
              </a:xfrm>
            </p:grpSpPr>
            <p:grpSp>
              <p:nvGrpSpPr>
                <p:cNvPr id="6543" name=""/>
                <p:cNvGrpSpPr/>
                <p:nvPr/>
              </p:nvGrpSpPr>
              <p:grpSpPr>
                <a:xfrm>
                  <a:off x="5183280" y="4548240"/>
                  <a:ext cx="587520" cy="263520"/>
                  <a:chOff x="5183280" y="4548240"/>
                  <a:chExt cx="587520" cy="263520"/>
                </a:xfrm>
              </p:grpSpPr>
              <p:sp>
                <p:nvSpPr>
                  <p:cNvPr id="6544" name=""/>
                  <p:cNvSpPr/>
                  <p:nvPr/>
                </p:nvSpPr>
                <p:spPr>
                  <a:xfrm>
                    <a:off x="51832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5" name=""/>
                  <p:cNvSpPr/>
                  <p:nvPr/>
                </p:nvSpPr>
                <p:spPr>
                  <a:xfrm>
                    <a:off x="53845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6" name=""/>
                  <p:cNvSpPr/>
                  <p:nvPr/>
                </p:nvSpPr>
                <p:spPr>
                  <a:xfrm>
                    <a:off x="55692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7" name=""/>
                  <p:cNvSpPr/>
                  <p:nvPr/>
                </p:nvSpPr>
                <p:spPr>
                  <a:xfrm>
                    <a:off x="57708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8" name=""/>
                <p:cNvGrpSpPr/>
                <p:nvPr/>
              </p:nvGrpSpPr>
              <p:grpSpPr>
                <a:xfrm>
                  <a:off x="5966640" y="4548240"/>
                  <a:ext cx="587520" cy="263520"/>
                  <a:chOff x="5966640" y="4548240"/>
                  <a:chExt cx="587520" cy="263520"/>
                </a:xfrm>
              </p:grpSpPr>
              <p:sp>
                <p:nvSpPr>
                  <p:cNvPr id="6549" name=""/>
                  <p:cNvSpPr/>
                  <p:nvPr/>
                </p:nvSpPr>
                <p:spPr>
                  <a:xfrm>
                    <a:off x="59666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0" name=""/>
                  <p:cNvSpPr/>
                  <p:nvPr/>
                </p:nvSpPr>
                <p:spPr>
                  <a:xfrm>
                    <a:off x="61678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1" name=""/>
                  <p:cNvSpPr/>
                  <p:nvPr/>
                </p:nvSpPr>
                <p:spPr>
                  <a:xfrm>
                    <a:off x="63525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2" name=""/>
                  <p:cNvSpPr/>
                  <p:nvPr/>
                </p:nvSpPr>
                <p:spPr>
                  <a:xfrm>
                    <a:off x="65541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53" name=""/>
              <p:cNvGrpSpPr/>
              <p:nvPr/>
            </p:nvGrpSpPr>
            <p:grpSpPr>
              <a:xfrm>
                <a:off x="6736680" y="4548240"/>
                <a:ext cx="1370880" cy="263520"/>
                <a:chOff x="6736680" y="4548240"/>
                <a:chExt cx="1370880" cy="263520"/>
              </a:xfrm>
            </p:grpSpPr>
            <p:grpSp>
              <p:nvGrpSpPr>
                <p:cNvPr id="6554" name=""/>
                <p:cNvGrpSpPr/>
                <p:nvPr/>
              </p:nvGrpSpPr>
              <p:grpSpPr>
                <a:xfrm>
                  <a:off x="6736680" y="4548240"/>
                  <a:ext cx="587520" cy="263520"/>
                  <a:chOff x="6736680" y="4548240"/>
                  <a:chExt cx="587520" cy="263520"/>
                </a:xfrm>
              </p:grpSpPr>
              <p:sp>
                <p:nvSpPr>
                  <p:cNvPr id="6555" name=""/>
                  <p:cNvSpPr/>
                  <p:nvPr/>
                </p:nvSpPr>
                <p:spPr>
                  <a:xfrm>
                    <a:off x="67366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6" name=""/>
                  <p:cNvSpPr/>
                  <p:nvPr/>
                </p:nvSpPr>
                <p:spPr>
                  <a:xfrm>
                    <a:off x="693792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7" name=""/>
                  <p:cNvSpPr/>
                  <p:nvPr/>
                </p:nvSpPr>
                <p:spPr>
                  <a:xfrm>
                    <a:off x="71226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8" name=""/>
                  <p:cNvSpPr/>
                  <p:nvPr/>
                </p:nvSpPr>
                <p:spPr>
                  <a:xfrm>
                    <a:off x="732420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9" name=""/>
                <p:cNvGrpSpPr/>
                <p:nvPr/>
              </p:nvGrpSpPr>
              <p:grpSpPr>
                <a:xfrm>
                  <a:off x="7520040" y="4548240"/>
                  <a:ext cx="587520" cy="263520"/>
                  <a:chOff x="7520040" y="4548240"/>
                  <a:chExt cx="587520" cy="263520"/>
                </a:xfrm>
              </p:grpSpPr>
              <p:sp>
                <p:nvSpPr>
                  <p:cNvPr id="6560" name=""/>
                  <p:cNvSpPr/>
                  <p:nvPr/>
                </p:nvSpPr>
                <p:spPr>
                  <a:xfrm>
                    <a:off x="752004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1" name=""/>
                  <p:cNvSpPr/>
                  <p:nvPr/>
                </p:nvSpPr>
                <p:spPr>
                  <a:xfrm>
                    <a:off x="772128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2" name=""/>
                  <p:cNvSpPr/>
                  <p:nvPr/>
                </p:nvSpPr>
                <p:spPr>
                  <a:xfrm>
                    <a:off x="79059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3" name=""/>
                  <p:cNvSpPr/>
                  <p:nvPr/>
                </p:nvSpPr>
                <p:spPr>
                  <a:xfrm>
                    <a:off x="8107560" y="4548240"/>
                    <a:ext cx="0" cy="26352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64" name=""/>
            <p:cNvSpPr/>
            <p:nvPr/>
          </p:nvSpPr>
          <p:spPr>
            <a:xfrm>
              <a:off x="5069160" y="4807080"/>
              <a:ext cx="35193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5168880" y="4803840"/>
              <a:ext cx="29656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5168880" y="4807080"/>
              <a:ext cx="0" cy="83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741920" y="528624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8" name=""/>
            <p:cNvGrpSpPr/>
            <p:nvPr/>
          </p:nvGrpSpPr>
          <p:grpSpPr>
            <a:xfrm>
              <a:off x="6438960" y="4834080"/>
              <a:ext cx="406440" cy="350640"/>
              <a:chOff x="6438960" y="4834080"/>
              <a:chExt cx="406440" cy="350640"/>
            </a:xfrm>
          </p:grpSpPr>
          <p:sp>
            <p:nvSpPr>
              <p:cNvPr id="6569" name=""/>
              <p:cNvSpPr/>
              <p:nvPr/>
            </p:nvSpPr>
            <p:spPr>
              <a:xfrm>
                <a:off x="6497640" y="4834080"/>
                <a:ext cx="28512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438960" y="5069880"/>
                <a:ext cx="406440" cy="1148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447600" y="5068440"/>
                <a:ext cx="39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2" name=""/>
            <p:cNvGrpSpPr/>
            <p:nvPr/>
          </p:nvGrpSpPr>
          <p:grpSpPr>
            <a:xfrm>
              <a:off x="7896240" y="4834080"/>
              <a:ext cx="408240" cy="350640"/>
              <a:chOff x="7896240" y="4834080"/>
              <a:chExt cx="408240" cy="350640"/>
            </a:xfrm>
          </p:grpSpPr>
          <p:sp>
            <p:nvSpPr>
              <p:cNvPr id="6573" name=""/>
              <p:cNvSpPr/>
              <p:nvPr/>
            </p:nvSpPr>
            <p:spPr>
              <a:xfrm>
                <a:off x="7954920" y="4834080"/>
                <a:ext cx="286200" cy="2325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896240" y="5069880"/>
                <a:ext cx="408240" cy="114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904880" y="506844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6" name=""/>
            <p:cNvSpPr/>
            <p:nvPr/>
          </p:nvSpPr>
          <p:spPr>
            <a:xfrm>
              <a:off x="5205600" y="4784760"/>
              <a:ext cx="2892240" cy="182520"/>
            </a:xfrm>
            <a:custGeom>
              <a:avLst/>
              <a:gdLst/>
              <a:ahLst/>
              <a:rect l="l" t="t" r="r" b="b"/>
              <a:pathLst>
                <a:path w="2032" h="128">
                  <a:moveTo>
                    <a:pt x="0" y="24"/>
                  </a:moveTo>
                  <a:cubicBezTo>
                    <a:pt x="33" y="35"/>
                    <a:pt x="124" y="72"/>
                    <a:pt x="200" y="88"/>
                  </a:cubicBezTo>
                  <a:cubicBezTo>
                    <a:pt x="276" y="104"/>
                    <a:pt x="379" y="117"/>
                    <a:pt x="456" y="120"/>
                  </a:cubicBezTo>
                  <a:cubicBezTo>
                    <a:pt x="533" y="123"/>
                    <a:pt x="607" y="111"/>
                    <a:pt x="664" y="104"/>
                  </a:cubicBezTo>
                  <a:cubicBezTo>
                    <a:pt x="721" y="97"/>
                    <a:pt x="755" y="90"/>
                    <a:pt x="800" y="80"/>
                  </a:cubicBezTo>
                  <a:lnTo>
                    <a:pt x="933" y="45"/>
                  </a:lnTo>
                  <a:lnTo>
                    <a:pt x="1006" y="38"/>
                  </a:lnTo>
                  <a:lnTo>
                    <a:pt x="1112" y="56"/>
                  </a:lnTo>
                  <a:lnTo>
                    <a:pt x="1216" y="88"/>
                  </a:lnTo>
                  <a:lnTo>
                    <a:pt x="1336" y="112"/>
                  </a:lnTo>
                  <a:lnTo>
                    <a:pt x="1544" y="128"/>
                  </a:lnTo>
                  <a:cubicBezTo>
                    <a:pt x="1629" y="123"/>
                    <a:pt x="1767" y="101"/>
                    <a:pt x="1848" y="80"/>
                  </a:cubicBezTo>
                  <a:cubicBezTo>
                    <a:pt x="1929" y="59"/>
                    <a:pt x="1994" y="17"/>
                    <a:pt x="2032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231400" y="4383000"/>
              <a:ext cx="357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8" name=""/>
                <p:cNvSpPr txBox="1"/>
                <p:nvPr/>
              </p:nvSpPr>
              <p:spPr>
                <a:xfrm>
                  <a:off x="5443560" y="5116680"/>
                  <a:ext cx="889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sSub>
                        <m:e>
                          <m:r>
                            <m:t xml:space="preserve">%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9" name=""/>
                <p:cNvSpPr txBox="1"/>
                <p:nvPr/>
              </p:nvSpPr>
              <p:spPr>
                <a:xfrm>
                  <a:off x="6940800" y="510696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sSub>
                        <m:e>
                          <m:r>
                            <m:t xml:space="preserve">%δ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1" name=""/>
          <p:cNvGrpSpPr/>
          <p:nvPr/>
        </p:nvGrpSpPr>
        <p:grpSpPr>
          <a:xfrm>
            <a:off x="5322960" y="1647720"/>
            <a:ext cx="3100320" cy="2482920"/>
            <a:chOff x="5322960" y="1647720"/>
            <a:chExt cx="3100320" cy="2482920"/>
          </a:xfrm>
        </p:grpSpPr>
        <p:sp>
          <p:nvSpPr>
            <p:cNvPr id="6582" name=""/>
            <p:cNvSpPr/>
            <p:nvPr/>
          </p:nvSpPr>
          <p:spPr>
            <a:xfrm>
              <a:off x="5322960" y="3706920"/>
              <a:ext cx="3650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5845320" y="1819440"/>
              <a:ext cx="10699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6991200" y="2584440"/>
              <a:ext cx="106848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5915160" y="2986200"/>
              <a:ext cx="107928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7269120" y="1778040"/>
              <a:ext cx="1079640" cy="6555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7" name=""/>
            <p:cNvGrpSpPr/>
            <p:nvPr/>
          </p:nvGrpSpPr>
          <p:grpSpPr>
            <a:xfrm>
              <a:off x="6056640" y="1806480"/>
              <a:ext cx="1814040" cy="1519200"/>
              <a:chOff x="6056640" y="1806480"/>
              <a:chExt cx="1814040" cy="1519200"/>
            </a:xfrm>
          </p:grpSpPr>
          <p:sp>
            <p:nvSpPr>
              <p:cNvPr id="6588" name=""/>
              <p:cNvSpPr/>
              <p:nvPr/>
            </p:nvSpPr>
            <p:spPr>
              <a:xfrm rot="1818600">
                <a:off x="6113520" y="3053520"/>
                <a:ext cx="90360" cy="250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131160" y="1827360"/>
                <a:ext cx="1733040" cy="14983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162840" y="1806480"/>
                <a:ext cx="1707840" cy="129060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1" name=""/>
            <p:cNvSpPr/>
            <p:nvPr/>
          </p:nvSpPr>
          <p:spPr>
            <a:xfrm>
              <a:off x="6205680" y="1919160"/>
              <a:ext cx="1619280" cy="1247760"/>
            </a:xfrm>
            <a:custGeom>
              <a:avLst/>
              <a:gdLst/>
              <a:ahLst/>
              <a:rect l="l" t="t" r="r" b="b"/>
              <a:pathLst>
                <a:path w="2550" h="1965">
                  <a:moveTo>
                    <a:pt x="0" y="1965"/>
                  </a:moveTo>
                  <a:cubicBezTo>
                    <a:pt x="122" y="1914"/>
                    <a:pt x="525" y="1813"/>
                    <a:pt x="732" y="1660"/>
                  </a:cubicBezTo>
                  <a:cubicBezTo>
                    <a:pt x="939" y="1507"/>
                    <a:pt x="1032" y="1207"/>
                    <a:pt x="1242" y="1045"/>
                  </a:cubicBezTo>
                  <a:cubicBezTo>
                    <a:pt x="1452" y="883"/>
                    <a:pt x="1774" y="859"/>
                    <a:pt x="1992" y="685"/>
                  </a:cubicBezTo>
                  <a:cubicBezTo>
                    <a:pt x="2210" y="511"/>
                    <a:pt x="2434" y="143"/>
                    <a:pt x="255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 flipV="1">
              <a:off x="5875200" y="1658880"/>
              <a:ext cx="2221200" cy="17589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6094440" y="3106800"/>
              <a:ext cx="1351080" cy="836640"/>
            </a:xfrm>
            <a:prstGeom prst="line">
              <a:avLst/>
            </a:prstGeom>
            <a:ln w="9360">
              <a:solidFill>
                <a:srgbClr val="ffffff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191360" y="3503520"/>
              <a:ext cx="41760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 flipH="1">
              <a:off x="5589720" y="2540160"/>
              <a:ext cx="906480" cy="1590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045280" y="1647720"/>
              <a:ext cx="378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5748480" y="2616120"/>
              <a:ext cx="55692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6877080" y="172260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6595920" y="1946160"/>
              <a:ext cx="557280" cy="338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6313320" y="2170080"/>
              <a:ext cx="55728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6031080" y="2394000"/>
              <a:ext cx="55692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2" name=""/>
          <p:cNvGrpSpPr/>
          <p:nvPr/>
        </p:nvGrpSpPr>
        <p:grpSpPr>
          <a:xfrm>
            <a:off x="1104840" y="1357200"/>
            <a:ext cx="2387520" cy="2633760"/>
            <a:chOff x="1104840" y="1357200"/>
            <a:chExt cx="2387520" cy="2633760"/>
          </a:xfrm>
        </p:grpSpPr>
        <p:sp>
          <p:nvSpPr>
            <p:cNvPr id="6603" name=""/>
            <p:cNvSpPr/>
            <p:nvPr/>
          </p:nvSpPr>
          <p:spPr>
            <a:xfrm flipH="1">
              <a:off x="1134720" y="2236680"/>
              <a:ext cx="669960" cy="16225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V="1">
              <a:off x="1104840" y="1504800"/>
              <a:ext cx="2266920" cy="18100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154320" y="1584360"/>
              <a:ext cx="338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1392120" y="2889360"/>
              <a:ext cx="1206720" cy="745920"/>
            </a:xfrm>
            <a:prstGeom prst="line">
              <a:avLst/>
            </a:prstGeom>
            <a:ln w="9360">
              <a:solidFill>
                <a:srgbClr val="ffff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1227240" y="1736640"/>
              <a:ext cx="955440" cy="6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249640" y="2419200"/>
              <a:ext cx="955440" cy="6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1160640" y="2741760"/>
              <a:ext cx="965160" cy="5857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498760" y="1700280"/>
              <a:ext cx="965160" cy="5842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1" name=""/>
            <p:cNvGrpSpPr/>
            <p:nvPr/>
          </p:nvGrpSpPr>
          <p:grpSpPr>
            <a:xfrm>
              <a:off x="1414080" y="1725480"/>
              <a:ext cx="1622880" cy="1357560"/>
              <a:chOff x="1414080" y="1725480"/>
              <a:chExt cx="1622880" cy="1357560"/>
            </a:xfrm>
          </p:grpSpPr>
          <p:sp>
            <p:nvSpPr>
              <p:cNvPr id="6612" name=""/>
              <p:cNvSpPr/>
              <p:nvPr/>
            </p:nvSpPr>
            <p:spPr>
              <a:xfrm rot="1818600">
                <a:off x="1464840" y="2840400"/>
                <a:ext cx="81000" cy="223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1481040" y="1744200"/>
                <a:ext cx="1550160" cy="133884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1509480" y="1725480"/>
                <a:ext cx="1527480" cy="11534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5" name=""/>
            <p:cNvSpPr/>
            <p:nvPr/>
          </p:nvSpPr>
          <p:spPr>
            <a:xfrm>
              <a:off x="1415880" y="1978200"/>
              <a:ext cx="1444680" cy="1112760"/>
            </a:xfrm>
            <a:custGeom>
              <a:avLst/>
              <a:gdLst/>
              <a:ahLst/>
              <a:rect l="l" t="t" r="r" b="b"/>
              <a:pathLst>
                <a:path w="910" h="701">
                  <a:moveTo>
                    <a:pt x="0" y="701"/>
                  </a:moveTo>
                  <a:lnTo>
                    <a:pt x="279" y="649"/>
                  </a:lnTo>
                  <a:cubicBezTo>
                    <a:pt x="362" y="620"/>
                    <a:pt x="432" y="571"/>
                    <a:pt x="498" y="525"/>
                  </a:cubicBezTo>
                  <a:cubicBezTo>
                    <a:pt x="564" y="479"/>
                    <a:pt x="620" y="431"/>
                    <a:pt x="674" y="371"/>
                  </a:cubicBezTo>
                  <a:cubicBezTo>
                    <a:pt x="728" y="311"/>
                    <a:pt x="781" y="228"/>
                    <a:pt x="820" y="166"/>
                  </a:cubicBezTo>
                  <a:lnTo>
                    <a:pt x="910" y="0"/>
                  </a:lnTo>
                </a:path>
              </a:pathLst>
            </a:custGeom>
            <a:noFill/>
            <a:ln w="57240">
              <a:solidFill>
                <a:srgbClr val="66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425680" y="3195720"/>
              <a:ext cx="372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1176480" y="3689280"/>
              <a:ext cx="3268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8" name=""/>
            <p:cNvGrpSpPr/>
            <p:nvPr/>
          </p:nvGrpSpPr>
          <p:grpSpPr>
            <a:xfrm>
              <a:off x="1727280" y="1357200"/>
              <a:ext cx="1253880" cy="1379160"/>
              <a:chOff x="1727280" y="1357200"/>
              <a:chExt cx="1253880" cy="1379160"/>
            </a:xfrm>
          </p:grpSpPr>
          <p:sp>
            <p:nvSpPr>
              <p:cNvPr id="6619" name=""/>
              <p:cNvSpPr/>
              <p:nvPr/>
            </p:nvSpPr>
            <p:spPr>
              <a:xfrm flipH="1">
                <a:off x="1727280" y="214452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 flipH="1">
                <a:off x="2739960" y="135720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 flipH="1">
                <a:off x="2486160" y="155376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 flipH="1">
                <a:off x="2233800" y="175068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1979640" y="1947600"/>
                <a:ext cx="241200" cy="591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4" name=""/>
          <p:cNvSpPr/>
          <p:nvPr/>
        </p:nvSpPr>
        <p:spPr>
          <a:xfrm>
            <a:off x="5451480" y="1897200"/>
            <a:ext cx="31669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raction est égale à la somme cumulée des réactions d'app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7" name=""/>
          <p:cNvGrpSpPr/>
          <p:nvPr/>
        </p:nvGrpSpPr>
        <p:grpSpPr>
          <a:xfrm>
            <a:off x="1118520" y="1753200"/>
            <a:ext cx="6477840" cy="4641120"/>
            <a:chOff x="1118520" y="1753200"/>
            <a:chExt cx="6477840" cy="4641120"/>
          </a:xfrm>
        </p:grpSpPr>
        <p:sp>
          <p:nvSpPr>
            <p:cNvPr id="6628" name=""/>
            <p:cNvSpPr/>
            <p:nvPr/>
          </p:nvSpPr>
          <p:spPr>
            <a:xfrm>
              <a:off x="1649520" y="3343320"/>
              <a:ext cx="4660920" cy="29113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892600" y="2270160"/>
              <a:ext cx="4703760" cy="29383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0" name=""/>
            <p:cNvGrpSpPr/>
            <p:nvPr/>
          </p:nvGrpSpPr>
          <p:grpSpPr>
            <a:xfrm>
              <a:off x="1514160" y="2160720"/>
              <a:ext cx="1673280" cy="1438200"/>
              <a:chOff x="1514160" y="2160720"/>
              <a:chExt cx="1673280" cy="1438200"/>
            </a:xfrm>
          </p:grpSpPr>
          <p:sp>
            <p:nvSpPr>
              <p:cNvPr id="6631" name=""/>
              <p:cNvSpPr/>
              <p:nvPr/>
            </p:nvSpPr>
            <p:spPr>
              <a:xfrm rot="1818600">
                <a:off x="1568160" y="3341520"/>
                <a:ext cx="8352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1584720" y="2180520"/>
                <a:ext cx="159732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1613880" y="2160720"/>
                <a:ext cx="157356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4" name=""/>
            <p:cNvGrpSpPr/>
            <p:nvPr/>
          </p:nvGrpSpPr>
          <p:grpSpPr>
            <a:xfrm>
              <a:off x="2212560" y="2517840"/>
              <a:ext cx="1673280" cy="1438200"/>
              <a:chOff x="2212560" y="2517840"/>
              <a:chExt cx="1673280" cy="1438200"/>
            </a:xfrm>
          </p:grpSpPr>
          <p:sp>
            <p:nvSpPr>
              <p:cNvPr id="6635" name=""/>
              <p:cNvSpPr/>
              <p:nvPr/>
            </p:nvSpPr>
            <p:spPr>
              <a:xfrm rot="1818600">
                <a:off x="2266560" y="3698640"/>
                <a:ext cx="8352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2283120" y="2537640"/>
                <a:ext cx="159732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2312280" y="2517840"/>
                <a:ext cx="157356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8" name=""/>
            <p:cNvGrpSpPr/>
            <p:nvPr/>
          </p:nvGrpSpPr>
          <p:grpSpPr>
            <a:xfrm>
              <a:off x="2944440" y="3005280"/>
              <a:ext cx="1671480" cy="1438200"/>
              <a:chOff x="2944440" y="3005280"/>
              <a:chExt cx="1671480" cy="1438200"/>
            </a:xfrm>
          </p:grpSpPr>
          <p:sp>
            <p:nvSpPr>
              <p:cNvPr id="6639" name=""/>
              <p:cNvSpPr/>
              <p:nvPr/>
            </p:nvSpPr>
            <p:spPr>
              <a:xfrm rot="1818600">
                <a:off x="2998440" y="4186440"/>
                <a:ext cx="8316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3015000" y="3025080"/>
                <a:ext cx="159552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044160" y="3005280"/>
                <a:ext cx="157176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2" name=""/>
            <p:cNvGrpSpPr/>
            <p:nvPr/>
          </p:nvGrpSpPr>
          <p:grpSpPr>
            <a:xfrm>
              <a:off x="3561840" y="3510000"/>
              <a:ext cx="1671840" cy="1438200"/>
              <a:chOff x="3561840" y="3510000"/>
              <a:chExt cx="1671840" cy="1438200"/>
            </a:xfrm>
          </p:grpSpPr>
          <p:sp>
            <p:nvSpPr>
              <p:cNvPr id="6643" name=""/>
              <p:cNvSpPr/>
              <p:nvPr/>
            </p:nvSpPr>
            <p:spPr>
              <a:xfrm rot="1818600">
                <a:off x="3615840" y="4691160"/>
                <a:ext cx="8316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632400" y="3529800"/>
                <a:ext cx="159588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61560" y="3510000"/>
                <a:ext cx="157212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6" name=""/>
            <p:cNvGrpSpPr/>
            <p:nvPr/>
          </p:nvGrpSpPr>
          <p:grpSpPr>
            <a:xfrm>
              <a:off x="4390560" y="3948120"/>
              <a:ext cx="1671840" cy="1438200"/>
              <a:chOff x="4390560" y="3948120"/>
              <a:chExt cx="1671840" cy="1438200"/>
            </a:xfrm>
          </p:grpSpPr>
          <p:sp>
            <p:nvSpPr>
              <p:cNvPr id="6647" name=""/>
              <p:cNvSpPr/>
              <p:nvPr/>
            </p:nvSpPr>
            <p:spPr>
              <a:xfrm rot="1818600">
                <a:off x="4444560" y="5129280"/>
                <a:ext cx="8316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4461120" y="3967920"/>
                <a:ext cx="159588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4490280" y="3948120"/>
                <a:ext cx="157212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0" name=""/>
            <p:cNvGrpSpPr/>
            <p:nvPr/>
          </p:nvGrpSpPr>
          <p:grpSpPr>
            <a:xfrm>
              <a:off x="5106600" y="4435560"/>
              <a:ext cx="1670400" cy="1438200"/>
              <a:chOff x="5106600" y="4435560"/>
              <a:chExt cx="1670400" cy="1438200"/>
            </a:xfrm>
          </p:grpSpPr>
          <p:sp>
            <p:nvSpPr>
              <p:cNvPr id="6651" name=""/>
              <p:cNvSpPr/>
              <p:nvPr/>
            </p:nvSpPr>
            <p:spPr>
              <a:xfrm rot="1818600">
                <a:off x="5160600" y="5616720"/>
                <a:ext cx="8316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5177160" y="4455360"/>
                <a:ext cx="159408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5206320" y="4435560"/>
                <a:ext cx="157068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4" name=""/>
            <p:cNvSpPr/>
            <p:nvPr/>
          </p:nvSpPr>
          <p:spPr>
            <a:xfrm flipH="1" flipV="1">
              <a:off x="5216400" y="4671720"/>
              <a:ext cx="63504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 flipH="1" flipV="1">
              <a:off x="4421160" y="4184280"/>
              <a:ext cx="698400" cy="45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 flipV="1">
              <a:off x="3722400" y="3745080"/>
              <a:ext cx="633240" cy="39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 flipH="1" flipV="1">
              <a:off x="2975040" y="3257280"/>
              <a:ext cx="682560" cy="45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8" name=""/>
            <p:cNvGrpSpPr/>
            <p:nvPr/>
          </p:nvGrpSpPr>
          <p:grpSpPr>
            <a:xfrm>
              <a:off x="5901840" y="4956120"/>
              <a:ext cx="1671840" cy="1438200"/>
              <a:chOff x="5901840" y="4956120"/>
              <a:chExt cx="1671840" cy="1438200"/>
            </a:xfrm>
          </p:grpSpPr>
          <p:sp>
            <p:nvSpPr>
              <p:cNvPr id="6659" name=""/>
              <p:cNvSpPr/>
              <p:nvPr/>
            </p:nvSpPr>
            <p:spPr>
              <a:xfrm rot="1818600">
                <a:off x="5955840" y="6137280"/>
                <a:ext cx="8316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5972400" y="4975920"/>
                <a:ext cx="1595880" cy="141840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01560" y="4956120"/>
                <a:ext cx="1572120" cy="122184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2" name=""/>
            <p:cNvSpPr/>
            <p:nvPr/>
          </p:nvSpPr>
          <p:spPr>
            <a:xfrm flipH="1" flipV="1">
              <a:off x="5981760" y="5175360"/>
              <a:ext cx="6681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 rot="2127000">
              <a:off x="6124320" y="5311440"/>
              <a:ext cx="417240" cy="206280"/>
            </a:xfrm>
            <a:prstGeom prst="rightArrow">
              <a:avLst>
                <a:gd name="adj1" fmla="val 50000"/>
                <a:gd name="adj2" fmla="val 505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 rot="2127000">
              <a:off x="5324400" y="4779720"/>
              <a:ext cx="479520" cy="23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 rot="2127000">
              <a:off x="3025800" y="3331800"/>
              <a:ext cx="662040" cy="331920"/>
            </a:xfrm>
            <a:prstGeom prst="rightArrow">
              <a:avLst>
                <a:gd name="adj1" fmla="val 50000"/>
                <a:gd name="adj2" fmla="val 4986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 rot="2127000">
              <a:off x="3800160" y="3797280"/>
              <a:ext cx="600120" cy="29988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rot="2127000">
              <a:off x="4568400" y="4303800"/>
              <a:ext cx="544680" cy="269640"/>
            </a:xfrm>
            <a:prstGeom prst="rightArrow">
              <a:avLst>
                <a:gd name="adj1" fmla="val 50000"/>
                <a:gd name="adj2" fmla="val 5050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 rot="16429800">
              <a:off x="2753280" y="1818360"/>
              <a:ext cx="579600" cy="479160"/>
            </a:xfrm>
            <a:prstGeom prst="rightArrow">
              <a:avLst>
                <a:gd name="adj1" fmla="val 50000"/>
                <a:gd name="adj2" fmla="val 3024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rot="10235400">
              <a:off x="1153440" y="3197160"/>
              <a:ext cx="579240" cy="479520"/>
            </a:xfrm>
            <a:prstGeom prst="rightArrow">
              <a:avLst>
                <a:gd name="adj1" fmla="val 50000"/>
                <a:gd name="adj2" fmla="val 30199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flipH="1">
              <a:off x="1722600" y="3241800"/>
              <a:ext cx="1234800" cy="14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 flipV="1">
              <a:off x="2941560" y="2344680"/>
              <a:ext cx="66600" cy="897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 rot="5648400">
              <a:off x="2775960" y="2643120"/>
              <a:ext cx="419400" cy="343080"/>
            </a:xfrm>
            <a:prstGeom prst="rightArrow">
              <a:avLst>
                <a:gd name="adj1" fmla="val 50000"/>
                <a:gd name="adj2" fmla="val 3056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 rot="21276000">
              <a:off x="2190240" y="3143160"/>
              <a:ext cx="417600" cy="346320"/>
            </a:xfrm>
            <a:prstGeom prst="rightArrow">
              <a:avLst>
                <a:gd name="adj1" fmla="val 50000"/>
                <a:gd name="adj2" fmla="val 3014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4" name=""/>
          <p:cNvSpPr/>
          <p:nvPr/>
        </p:nvSpPr>
        <p:spPr>
          <a:xfrm>
            <a:off x="3164040" y="542880"/>
            <a:ext cx="2674800" cy="5205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I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5" name=""/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1649520" y="3343320"/>
            <a:ext cx="4660920" cy="291132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2892600" y="2270160"/>
            <a:ext cx="4703760" cy="293832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8" name=""/>
          <p:cNvGrpSpPr/>
          <p:nvPr/>
        </p:nvGrpSpPr>
        <p:grpSpPr>
          <a:xfrm>
            <a:off x="1514160" y="2160720"/>
            <a:ext cx="1673280" cy="1438200"/>
            <a:chOff x="1514160" y="2160720"/>
            <a:chExt cx="1673280" cy="1438200"/>
          </a:xfrm>
        </p:grpSpPr>
        <p:sp>
          <p:nvSpPr>
            <p:cNvPr id="6679" name=""/>
            <p:cNvSpPr/>
            <p:nvPr/>
          </p:nvSpPr>
          <p:spPr>
            <a:xfrm rot="1818600">
              <a:off x="1568160" y="3341520"/>
              <a:ext cx="8352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1584720" y="2180520"/>
              <a:ext cx="159732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1613880" y="2160720"/>
              <a:ext cx="157356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2" name=""/>
          <p:cNvGrpSpPr/>
          <p:nvPr/>
        </p:nvGrpSpPr>
        <p:grpSpPr>
          <a:xfrm>
            <a:off x="2212560" y="2517840"/>
            <a:ext cx="1673280" cy="1438200"/>
            <a:chOff x="2212560" y="2517840"/>
            <a:chExt cx="1673280" cy="1438200"/>
          </a:xfrm>
        </p:grpSpPr>
        <p:sp>
          <p:nvSpPr>
            <p:cNvPr id="6683" name=""/>
            <p:cNvSpPr/>
            <p:nvPr/>
          </p:nvSpPr>
          <p:spPr>
            <a:xfrm rot="1818600">
              <a:off x="2266560" y="3698640"/>
              <a:ext cx="8352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283120" y="2537640"/>
              <a:ext cx="159732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312280" y="2517840"/>
              <a:ext cx="157356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6" name=""/>
          <p:cNvGrpSpPr/>
          <p:nvPr/>
        </p:nvGrpSpPr>
        <p:grpSpPr>
          <a:xfrm>
            <a:off x="2944440" y="3005280"/>
            <a:ext cx="1671480" cy="1438200"/>
            <a:chOff x="2944440" y="3005280"/>
            <a:chExt cx="1671480" cy="1438200"/>
          </a:xfrm>
        </p:grpSpPr>
        <p:sp>
          <p:nvSpPr>
            <p:cNvPr id="6687" name=""/>
            <p:cNvSpPr/>
            <p:nvPr/>
          </p:nvSpPr>
          <p:spPr>
            <a:xfrm rot="1818600">
              <a:off x="2998440" y="4186440"/>
              <a:ext cx="8316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015000" y="3025080"/>
              <a:ext cx="159552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044160" y="3005280"/>
              <a:ext cx="157176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0" name=""/>
          <p:cNvGrpSpPr/>
          <p:nvPr/>
        </p:nvGrpSpPr>
        <p:grpSpPr>
          <a:xfrm>
            <a:off x="3561840" y="3510000"/>
            <a:ext cx="1671840" cy="1438200"/>
            <a:chOff x="3561840" y="3510000"/>
            <a:chExt cx="1671840" cy="1438200"/>
          </a:xfrm>
        </p:grpSpPr>
        <p:sp>
          <p:nvSpPr>
            <p:cNvPr id="6691" name=""/>
            <p:cNvSpPr/>
            <p:nvPr/>
          </p:nvSpPr>
          <p:spPr>
            <a:xfrm rot="1818600">
              <a:off x="3615840" y="4691160"/>
              <a:ext cx="8316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632400" y="3529800"/>
              <a:ext cx="159588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661560" y="3510000"/>
              <a:ext cx="157212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4" name=""/>
          <p:cNvGrpSpPr/>
          <p:nvPr/>
        </p:nvGrpSpPr>
        <p:grpSpPr>
          <a:xfrm>
            <a:off x="4390560" y="3948120"/>
            <a:ext cx="1671840" cy="1438200"/>
            <a:chOff x="4390560" y="3948120"/>
            <a:chExt cx="1671840" cy="1438200"/>
          </a:xfrm>
        </p:grpSpPr>
        <p:sp>
          <p:nvSpPr>
            <p:cNvPr id="6695" name=""/>
            <p:cNvSpPr/>
            <p:nvPr/>
          </p:nvSpPr>
          <p:spPr>
            <a:xfrm rot="1818600">
              <a:off x="4444560" y="5129280"/>
              <a:ext cx="8316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4461120" y="3967920"/>
              <a:ext cx="159588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4490280" y="3948120"/>
              <a:ext cx="157212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8" name=""/>
          <p:cNvGrpSpPr/>
          <p:nvPr/>
        </p:nvGrpSpPr>
        <p:grpSpPr>
          <a:xfrm>
            <a:off x="5106600" y="4435560"/>
            <a:ext cx="1670400" cy="1438200"/>
            <a:chOff x="5106600" y="4435560"/>
            <a:chExt cx="1670400" cy="1438200"/>
          </a:xfrm>
        </p:grpSpPr>
        <p:sp>
          <p:nvSpPr>
            <p:cNvPr id="6699" name=""/>
            <p:cNvSpPr/>
            <p:nvPr/>
          </p:nvSpPr>
          <p:spPr>
            <a:xfrm rot="1818600">
              <a:off x="5160600" y="5616720"/>
              <a:ext cx="8316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5177160" y="4455360"/>
              <a:ext cx="159408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5206320" y="4435560"/>
              <a:ext cx="157068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2" name=""/>
          <p:cNvSpPr/>
          <p:nvPr/>
        </p:nvSpPr>
        <p:spPr>
          <a:xfrm flipH="1" flipV="1">
            <a:off x="5216400" y="4671720"/>
            <a:ext cx="635040" cy="42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 flipH="1" flipV="1">
            <a:off x="4421160" y="4184280"/>
            <a:ext cx="698400" cy="45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 flipH="1" flipV="1">
            <a:off x="3722400" y="3745080"/>
            <a:ext cx="633240" cy="39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 flipH="1" flipV="1">
            <a:off x="2975040" y="3257280"/>
            <a:ext cx="682560" cy="455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6" name=""/>
          <p:cNvGrpSpPr/>
          <p:nvPr/>
        </p:nvGrpSpPr>
        <p:grpSpPr>
          <a:xfrm>
            <a:off x="5901840" y="4956120"/>
            <a:ext cx="1671840" cy="1438200"/>
            <a:chOff x="5901840" y="4956120"/>
            <a:chExt cx="1671840" cy="1438200"/>
          </a:xfrm>
        </p:grpSpPr>
        <p:sp>
          <p:nvSpPr>
            <p:cNvPr id="6707" name=""/>
            <p:cNvSpPr/>
            <p:nvPr/>
          </p:nvSpPr>
          <p:spPr>
            <a:xfrm rot="1818600">
              <a:off x="5955840" y="6137280"/>
              <a:ext cx="83160" cy="237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5972400" y="4975920"/>
              <a:ext cx="1595880" cy="14184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6001560" y="4956120"/>
              <a:ext cx="1572120" cy="12218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0" name=""/>
          <p:cNvSpPr/>
          <p:nvPr/>
        </p:nvSpPr>
        <p:spPr>
          <a:xfrm flipH="1" flipV="1">
            <a:off x="5981760" y="5175360"/>
            <a:ext cx="66816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1722600" y="3241800"/>
            <a:ext cx="1234800" cy="14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 flipV="1">
            <a:off x="2941560" y="2344680"/>
            <a:ext cx="66600" cy="897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3" name=""/>
          <p:cNvGrpSpPr/>
          <p:nvPr/>
        </p:nvGrpSpPr>
        <p:grpSpPr>
          <a:xfrm>
            <a:off x="2175120" y="2569320"/>
            <a:ext cx="996840" cy="939240"/>
            <a:chOff x="2175120" y="2569320"/>
            <a:chExt cx="996840" cy="939240"/>
          </a:xfrm>
        </p:grpSpPr>
        <p:sp>
          <p:nvSpPr>
            <p:cNvPr id="6714" name=""/>
            <p:cNvSpPr/>
            <p:nvPr/>
          </p:nvSpPr>
          <p:spPr>
            <a:xfrm rot="5648400">
              <a:off x="2775960" y="2619000"/>
              <a:ext cx="419040" cy="343080"/>
            </a:xfrm>
            <a:prstGeom prst="rightArrow">
              <a:avLst>
                <a:gd name="adj1" fmla="val 50000"/>
                <a:gd name="adj2" fmla="val 3053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 rot="21276000">
              <a:off x="2190240" y="3143160"/>
              <a:ext cx="417600" cy="346320"/>
            </a:xfrm>
            <a:prstGeom prst="rightArrow">
              <a:avLst>
                <a:gd name="adj1" fmla="val 50000"/>
                <a:gd name="adj2" fmla="val 3014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6103440" y="5054760"/>
            <a:ext cx="772200" cy="565200"/>
            <a:chOff x="6103440" y="5054760"/>
            <a:chExt cx="772200" cy="565200"/>
          </a:xfrm>
        </p:grpSpPr>
        <p:sp>
          <p:nvSpPr>
            <p:cNvPr id="6717" name=""/>
            <p:cNvSpPr/>
            <p:nvPr/>
          </p:nvSpPr>
          <p:spPr>
            <a:xfrm rot="2127000">
              <a:off x="6124320" y="5311440"/>
              <a:ext cx="417240" cy="206280"/>
            </a:xfrm>
            <a:prstGeom prst="rightArrow">
              <a:avLst>
                <a:gd name="adj1" fmla="val 50000"/>
                <a:gd name="adj2" fmla="val 505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6329520" y="5054760"/>
              <a:ext cx="546120" cy="440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9" name=""/>
          <p:cNvGrpSpPr/>
          <p:nvPr/>
        </p:nvGrpSpPr>
        <p:grpSpPr>
          <a:xfrm>
            <a:off x="5299560" y="4508640"/>
            <a:ext cx="1253520" cy="627840"/>
            <a:chOff x="5299560" y="4508640"/>
            <a:chExt cx="1253520" cy="627840"/>
          </a:xfrm>
        </p:grpSpPr>
        <p:sp>
          <p:nvSpPr>
            <p:cNvPr id="6720" name=""/>
            <p:cNvSpPr/>
            <p:nvPr/>
          </p:nvSpPr>
          <p:spPr>
            <a:xfrm rot="2127000">
              <a:off x="5324400" y="4779720"/>
              <a:ext cx="479520" cy="23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5484960" y="4508640"/>
              <a:ext cx="1068120" cy="440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2" name=""/>
          <p:cNvGrpSpPr/>
          <p:nvPr/>
        </p:nvGrpSpPr>
        <p:grpSpPr>
          <a:xfrm>
            <a:off x="4541040" y="3975120"/>
            <a:ext cx="1944000" cy="731520"/>
            <a:chOff x="4541040" y="3975120"/>
            <a:chExt cx="1944000" cy="731520"/>
          </a:xfrm>
        </p:grpSpPr>
        <p:sp>
          <p:nvSpPr>
            <p:cNvPr id="6723" name=""/>
            <p:cNvSpPr/>
            <p:nvPr/>
          </p:nvSpPr>
          <p:spPr>
            <a:xfrm rot="2127000">
              <a:off x="4568400" y="4303800"/>
              <a:ext cx="544680" cy="269640"/>
            </a:xfrm>
            <a:prstGeom prst="rightArrow">
              <a:avLst>
                <a:gd name="adj1" fmla="val 50000"/>
                <a:gd name="adj2" fmla="val 5050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4741920" y="3975120"/>
              <a:ext cx="1743120" cy="440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5" name=""/>
          <p:cNvGrpSpPr/>
          <p:nvPr/>
        </p:nvGrpSpPr>
        <p:grpSpPr>
          <a:xfrm>
            <a:off x="3769200" y="3513240"/>
            <a:ext cx="2241000" cy="730080"/>
            <a:chOff x="3769200" y="3513240"/>
            <a:chExt cx="2241000" cy="730080"/>
          </a:xfrm>
        </p:grpSpPr>
        <p:sp>
          <p:nvSpPr>
            <p:cNvPr id="6726" name=""/>
            <p:cNvSpPr/>
            <p:nvPr/>
          </p:nvSpPr>
          <p:spPr>
            <a:xfrm rot="2127000">
              <a:off x="3800160" y="3797280"/>
              <a:ext cx="600120" cy="29988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002120" y="3513240"/>
              <a:ext cx="2008080" cy="440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8" name=""/>
          <p:cNvGrpSpPr/>
          <p:nvPr/>
        </p:nvGrpSpPr>
        <p:grpSpPr>
          <a:xfrm>
            <a:off x="2990880" y="3036960"/>
            <a:ext cx="2719440" cy="788400"/>
            <a:chOff x="2990880" y="3036960"/>
            <a:chExt cx="2719440" cy="788400"/>
          </a:xfrm>
        </p:grpSpPr>
        <p:sp>
          <p:nvSpPr>
            <p:cNvPr id="6729" name=""/>
            <p:cNvSpPr/>
            <p:nvPr/>
          </p:nvSpPr>
          <p:spPr>
            <a:xfrm rot="2127000">
              <a:off x="3025800" y="3331800"/>
              <a:ext cx="662040" cy="331920"/>
            </a:xfrm>
            <a:prstGeom prst="rightArrow">
              <a:avLst>
                <a:gd name="adj1" fmla="val 50000"/>
                <a:gd name="adj2" fmla="val 4986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213000" y="3036960"/>
              <a:ext cx="2497320" cy="440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1" name=""/>
          <p:cNvGrpSpPr/>
          <p:nvPr/>
        </p:nvGrpSpPr>
        <p:grpSpPr>
          <a:xfrm>
            <a:off x="1118520" y="1753200"/>
            <a:ext cx="2183400" cy="1967760"/>
            <a:chOff x="1118520" y="1753200"/>
            <a:chExt cx="2183400" cy="1967760"/>
          </a:xfrm>
        </p:grpSpPr>
        <p:sp>
          <p:nvSpPr>
            <p:cNvPr id="6732" name=""/>
            <p:cNvSpPr/>
            <p:nvPr/>
          </p:nvSpPr>
          <p:spPr>
            <a:xfrm rot="16429800">
              <a:off x="2753280" y="1818360"/>
              <a:ext cx="579600" cy="479160"/>
            </a:xfrm>
            <a:prstGeom prst="rightArrow">
              <a:avLst>
                <a:gd name="adj1" fmla="val 50000"/>
                <a:gd name="adj2" fmla="val 3024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 rot="10235400">
              <a:off x="1153440" y="3197160"/>
              <a:ext cx="579240" cy="479520"/>
            </a:xfrm>
            <a:prstGeom prst="rightArrow">
              <a:avLst>
                <a:gd name="adj1" fmla="val 50000"/>
                <a:gd name="adj2" fmla="val 30199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8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2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3233880" y="1611360"/>
            <a:ext cx="2674800" cy="94716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uvaise ré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987480" y="3292560"/>
            <a:ext cx="7169040" cy="161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s sont plus efficaces avec les pannes isostatiques où elles réduisent la flèche selon l’axe de petite iner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c des pannes continues, l’effet de la continuité réduit déjà la flèche d’environ 60 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691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692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698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704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712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720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724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730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735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736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741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746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747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763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765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773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781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789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797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802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809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814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819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824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8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829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837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855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879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883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892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897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898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903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858960" y="2482920"/>
            <a:ext cx="4724280" cy="1693440"/>
            <a:chOff x="858960" y="2482920"/>
            <a:chExt cx="4724280" cy="1693440"/>
          </a:xfrm>
        </p:grpSpPr>
        <p:grpSp>
          <p:nvGrpSpPr>
            <p:cNvPr id="908" name=""/>
            <p:cNvGrpSpPr/>
            <p:nvPr/>
          </p:nvGrpSpPr>
          <p:grpSpPr>
            <a:xfrm>
              <a:off x="858960" y="2755440"/>
              <a:ext cx="4724280" cy="1420920"/>
              <a:chOff x="858960" y="2755440"/>
              <a:chExt cx="4724280" cy="142092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858960" y="2757600"/>
                <a:ext cx="1291320" cy="1418760"/>
                <a:chOff x="858960" y="2757600"/>
                <a:chExt cx="1291320" cy="1418760"/>
              </a:xfrm>
            </p:grpSpPr>
            <p:grpSp>
              <p:nvGrpSpPr>
                <p:cNvPr id="910" name=""/>
                <p:cNvGrpSpPr/>
                <p:nvPr/>
              </p:nvGrpSpPr>
              <p:grpSpPr>
                <a:xfrm>
                  <a:off x="858960" y="3726360"/>
                  <a:ext cx="317160" cy="450000"/>
                  <a:chOff x="858960" y="3726360"/>
                  <a:chExt cx="317160" cy="4500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858960" y="404532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1036080" y="372636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1183680" y="3401640"/>
                  <a:ext cx="318240" cy="450000"/>
                  <a:chOff x="1183680" y="3401640"/>
                  <a:chExt cx="318240" cy="45000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1183680" y="37206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1361520" y="34016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1505520" y="3082320"/>
                  <a:ext cx="318240" cy="450000"/>
                  <a:chOff x="1505520" y="3082320"/>
                  <a:chExt cx="318240" cy="4500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1505520" y="340128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1683360" y="308232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1832040" y="2757600"/>
                  <a:ext cx="318240" cy="450000"/>
                  <a:chOff x="1832040" y="2757600"/>
                  <a:chExt cx="318240" cy="4500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832040" y="307656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2009880" y="275760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2" name=""/>
              <p:cNvGrpSpPr/>
              <p:nvPr/>
            </p:nvGrpSpPr>
            <p:grpSpPr>
              <a:xfrm>
                <a:off x="4291920" y="2755440"/>
                <a:ext cx="1291320" cy="1418760"/>
                <a:chOff x="4291920" y="2755440"/>
                <a:chExt cx="1291320" cy="1418760"/>
              </a:xfrm>
            </p:grpSpPr>
            <p:grpSp>
              <p:nvGrpSpPr>
                <p:cNvPr id="923" name=""/>
                <p:cNvGrpSpPr/>
                <p:nvPr/>
              </p:nvGrpSpPr>
              <p:grpSpPr>
                <a:xfrm>
                  <a:off x="4291920" y="3724200"/>
                  <a:ext cx="317160" cy="450000"/>
                  <a:chOff x="4291920" y="3724200"/>
                  <a:chExt cx="317160" cy="45000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4291920" y="404316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4469040" y="372420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4616640" y="3399480"/>
                  <a:ext cx="318240" cy="450000"/>
                  <a:chOff x="4616640" y="3399480"/>
                  <a:chExt cx="318240" cy="45000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4616640" y="371844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4794480" y="339948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4938480" y="3080160"/>
                  <a:ext cx="318240" cy="450000"/>
                  <a:chOff x="4938480" y="3080160"/>
                  <a:chExt cx="318240" cy="45000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4938480" y="339912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5116320" y="308016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5265000" y="2755440"/>
                  <a:ext cx="318240" cy="450000"/>
                  <a:chOff x="5265000" y="2755440"/>
                  <a:chExt cx="318240" cy="45000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5265000" y="30744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>
                    <a:off x="5442840" y="27554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5" name=""/>
            <p:cNvGrpSpPr/>
            <p:nvPr/>
          </p:nvGrpSpPr>
          <p:grpSpPr>
            <a:xfrm>
              <a:off x="2448360" y="2482920"/>
              <a:ext cx="1569600" cy="1297440"/>
              <a:chOff x="2448360" y="2482920"/>
              <a:chExt cx="1569600" cy="1297440"/>
            </a:xfrm>
          </p:grpSpPr>
          <p:sp>
            <p:nvSpPr>
              <p:cNvPr id="936" name=""/>
              <p:cNvSpPr/>
              <p:nvPr/>
            </p:nvSpPr>
            <p:spPr>
              <a:xfrm flipH="1" flipV="1">
                <a:off x="2888640" y="3456000"/>
                <a:ext cx="157320" cy="191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2563200" y="3646080"/>
                <a:ext cx="48564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2449440" y="3460320"/>
                <a:ext cx="43488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448360" y="3648600"/>
                <a:ext cx="11376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2774520" y="3131280"/>
                <a:ext cx="603360" cy="324360"/>
                <a:chOff x="2774520" y="3131280"/>
                <a:chExt cx="603360" cy="32436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flipV="1">
                  <a:off x="3217680" y="3131280"/>
                  <a:ext cx="157320" cy="19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2892240" y="3321360"/>
                  <a:ext cx="485640" cy="13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2774520" y="3134880"/>
                  <a:ext cx="439200" cy="18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777400" y="3323520"/>
                  <a:ext cx="113760" cy="13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 flipH="1" flipV="1">
                <a:off x="3542760" y="2805840"/>
                <a:ext cx="154440" cy="192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3217320" y="2996280"/>
                <a:ext cx="48132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3106440" y="2810520"/>
                <a:ext cx="43200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3560" y="2998800"/>
                <a:ext cx="11232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3867840" y="2482920"/>
                <a:ext cx="148680" cy="187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3542400" y="2673000"/>
                <a:ext cx="475560" cy="133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3430080" y="2486880"/>
                <a:ext cx="43344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431520" y="2676600"/>
                <a:ext cx="109800" cy="1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3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955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964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163440" y="77616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autre élément est supporté par les liern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9920" y="3477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9" name=""/>
          <p:cNvSpPr/>
          <p:nvPr/>
        </p:nvSpPr>
        <p:spPr>
          <a:xfrm>
            <a:off x="2994120" y="2679840"/>
            <a:ext cx="3489120" cy="1069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rai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s peuvent agir comme un appui intermédi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0" name=""/>
          <p:cNvGrpSpPr/>
          <p:nvPr/>
        </p:nvGrpSpPr>
        <p:grpSpPr>
          <a:xfrm>
            <a:off x="5126040" y="3722040"/>
            <a:ext cx="3279240" cy="2621520"/>
            <a:chOff x="5126040" y="3722040"/>
            <a:chExt cx="3279240" cy="2621520"/>
          </a:xfrm>
        </p:grpSpPr>
        <p:sp>
          <p:nvSpPr>
            <p:cNvPr id="6741" name=""/>
            <p:cNvSpPr/>
            <p:nvPr/>
          </p:nvSpPr>
          <p:spPr>
            <a:xfrm>
              <a:off x="5126040" y="3954600"/>
              <a:ext cx="1399680" cy="93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6625800" y="4957920"/>
              <a:ext cx="1400040" cy="93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5217840" y="5486400"/>
              <a:ext cx="1414080" cy="8571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6992640" y="3900600"/>
              <a:ext cx="1412640" cy="8586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5" name=""/>
            <p:cNvGrpSpPr/>
            <p:nvPr/>
          </p:nvGrpSpPr>
          <p:grpSpPr>
            <a:xfrm>
              <a:off x="5400000" y="3936960"/>
              <a:ext cx="2381040" cy="1991880"/>
              <a:chOff x="5400000" y="3936960"/>
              <a:chExt cx="2381040" cy="1991880"/>
            </a:xfrm>
          </p:grpSpPr>
          <p:sp>
            <p:nvSpPr>
              <p:cNvPr id="6746" name=""/>
              <p:cNvSpPr/>
              <p:nvPr/>
            </p:nvSpPr>
            <p:spPr>
              <a:xfrm rot="1818600">
                <a:off x="5474880" y="5572440"/>
                <a:ext cx="118800" cy="328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5497920" y="3964320"/>
                <a:ext cx="2274840" cy="19645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5539680" y="3936960"/>
                <a:ext cx="2241360" cy="169272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9" name=""/>
            <p:cNvSpPr/>
            <p:nvPr/>
          </p:nvSpPr>
          <p:spPr>
            <a:xfrm flipV="1">
              <a:off x="5141520" y="3889080"/>
              <a:ext cx="2806560" cy="22064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0" name=""/>
            <p:cNvGrpSpPr/>
            <p:nvPr/>
          </p:nvGrpSpPr>
          <p:grpSpPr>
            <a:xfrm>
              <a:off x="5639400" y="3722040"/>
              <a:ext cx="1668960" cy="1719000"/>
              <a:chOff x="5639400" y="3722040"/>
              <a:chExt cx="1668960" cy="1719000"/>
            </a:xfrm>
          </p:grpSpPr>
          <p:sp>
            <p:nvSpPr>
              <p:cNvPr id="6751" name=""/>
              <p:cNvSpPr/>
              <p:nvPr/>
            </p:nvSpPr>
            <p:spPr>
              <a:xfrm flipH="1" flipV="1">
                <a:off x="5639400" y="5026320"/>
                <a:ext cx="49320" cy="41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 flipV="1">
                <a:off x="7259040" y="3722040"/>
                <a:ext cx="49320" cy="41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 flipV="1">
                <a:off x="6496560" y="4365360"/>
                <a:ext cx="48240" cy="415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 flipV="1">
                <a:off x="6884640" y="4034160"/>
                <a:ext cx="48960" cy="415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 flipV="1">
                <a:off x="6036480" y="4709160"/>
                <a:ext cx="48240" cy="415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6" name=""/>
          <p:cNvGrpSpPr/>
          <p:nvPr/>
        </p:nvGrpSpPr>
        <p:grpSpPr>
          <a:xfrm>
            <a:off x="825480" y="1397520"/>
            <a:ext cx="3265560" cy="2555280"/>
            <a:chOff x="825480" y="1397520"/>
            <a:chExt cx="3265560" cy="2555280"/>
          </a:xfrm>
        </p:grpSpPr>
        <p:sp>
          <p:nvSpPr>
            <p:cNvPr id="6757" name=""/>
            <p:cNvSpPr/>
            <p:nvPr/>
          </p:nvSpPr>
          <p:spPr>
            <a:xfrm>
              <a:off x="903240" y="3094200"/>
              <a:ext cx="1413000" cy="8586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678040" y="1509840"/>
              <a:ext cx="1413000" cy="858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9" name=""/>
            <p:cNvGrpSpPr/>
            <p:nvPr/>
          </p:nvGrpSpPr>
          <p:grpSpPr>
            <a:xfrm>
              <a:off x="1086120" y="1548000"/>
              <a:ext cx="2377800" cy="1990080"/>
              <a:chOff x="1086120" y="1548000"/>
              <a:chExt cx="2377800" cy="1990080"/>
            </a:xfrm>
          </p:grpSpPr>
          <p:sp>
            <p:nvSpPr>
              <p:cNvPr id="6760" name=""/>
              <p:cNvSpPr/>
              <p:nvPr/>
            </p:nvSpPr>
            <p:spPr>
              <a:xfrm rot="1818600">
                <a:off x="1160640" y="3182040"/>
                <a:ext cx="118800" cy="3283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1183680" y="1575360"/>
                <a:ext cx="2271600" cy="1962720"/>
              </a:xfrm>
              <a:custGeom>
                <a:avLst/>
                <a:gdLst/>
                <a:ahLst/>
                <a:rect l="l" t="t" r="r" b="b"/>
                <a:pathLst>
                  <a:path w="2730" h="2360">
                    <a:moveTo>
                      <a:pt x="0" y="2360"/>
                    </a:moveTo>
                    <a:lnTo>
                      <a:pt x="2530" y="350"/>
                    </a:lnTo>
                    <a:lnTo>
                      <a:pt x="2730" y="0"/>
                    </a:lnTo>
                    <a:lnTo>
                      <a:pt x="190" y="2003"/>
                    </a:lnTo>
                    <a:lnTo>
                      <a:pt x="0" y="23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1225440" y="1548000"/>
                <a:ext cx="2238480" cy="1690920"/>
              </a:xfrm>
              <a:custGeom>
                <a:avLst/>
                <a:gdLst/>
                <a:ahLst/>
                <a:rect l="l" t="t" r="r" b="b"/>
                <a:pathLst>
                  <a:path w="2690" h="2033">
                    <a:moveTo>
                      <a:pt x="0" y="1983"/>
                    </a:moveTo>
                    <a:lnTo>
                      <a:pt x="2547" y="0"/>
                    </a:lnTo>
                    <a:lnTo>
                      <a:pt x="2690" y="43"/>
                    </a:lnTo>
                    <a:lnTo>
                      <a:pt x="150" y="2033"/>
                    </a:lnTo>
                    <a:lnTo>
                      <a:pt x="0" y="1983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3" name=""/>
            <p:cNvSpPr/>
            <p:nvPr/>
          </p:nvSpPr>
          <p:spPr>
            <a:xfrm flipV="1">
              <a:off x="825480" y="1498680"/>
              <a:ext cx="2805120" cy="22068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4" name=""/>
            <p:cNvGrpSpPr/>
            <p:nvPr/>
          </p:nvGrpSpPr>
          <p:grpSpPr>
            <a:xfrm>
              <a:off x="1359360" y="1397520"/>
              <a:ext cx="1668960" cy="1717560"/>
              <a:chOff x="1359360" y="1397520"/>
              <a:chExt cx="1668960" cy="1717560"/>
            </a:xfrm>
          </p:grpSpPr>
          <p:sp>
            <p:nvSpPr>
              <p:cNvPr id="6765" name=""/>
              <p:cNvSpPr/>
              <p:nvPr/>
            </p:nvSpPr>
            <p:spPr>
              <a:xfrm flipH="1" flipV="1">
                <a:off x="1359360" y="2700720"/>
                <a:ext cx="48600" cy="41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 flipV="1">
                <a:off x="2979720" y="1397520"/>
                <a:ext cx="48600" cy="4143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 flipV="1">
                <a:off x="2215800" y="2040480"/>
                <a:ext cx="48240" cy="415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 flipV="1">
                <a:off x="2603880" y="1709640"/>
                <a:ext cx="48960" cy="415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 flipH="1" flipV="1">
                <a:off x="1755360" y="2383920"/>
                <a:ext cx="48240" cy="415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0" name=""/>
            <p:cNvGrpSpPr/>
            <p:nvPr/>
          </p:nvGrpSpPr>
          <p:grpSpPr>
            <a:xfrm>
              <a:off x="1112040" y="1487520"/>
              <a:ext cx="2369520" cy="2023920"/>
              <a:chOff x="1112040" y="1487520"/>
              <a:chExt cx="2369520" cy="2023920"/>
            </a:xfrm>
          </p:grpSpPr>
          <p:sp>
            <p:nvSpPr>
              <p:cNvPr id="6771" name=""/>
              <p:cNvSpPr/>
              <p:nvPr/>
            </p:nvSpPr>
            <p:spPr>
              <a:xfrm rot="1818600">
                <a:off x="1182600" y="3183120"/>
                <a:ext cx="125640" cy="313560"/>
              </a:xfrm>
              <a:prstGeom prst="rect">
                <a:avLst/>
              </a:prstGeom>
              <a:solidFill>
                <a:srgbClr val="ff00ff"/>
              </a:solidFill>
              <a:ln w="3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1228680" y="1573200"/>
                <a:ext cx="2237760" cy="1938240"/>
              </a:xfrm>
              <a:custGeom>
                <a:avLst/>
                <a:gdLst/>
                <a:ahLst/>
                <a:rect l="l" t="t" r="r" b="b"/>
                <a:pathLst>
                  <a:path w="2685" h="2329">
                    <a:moveTo>
                      <a:pt x="13" y="2329"/>
                    </a:moveTo>
                    <a:lnTo>
                      <a:pt x="414" y="2064"/>
                    </a:lnTo>
                    <a:lnTo>
                      <a:pt x="1041" y="1680"/>
                    </a:lnTo>
                    <a:lnTo>
                      <a:pt x="1613" y="1275"/>
                    </a:lnTo>
                    <a:lnTo>
                      <a:pt x="2123" y="765"/>
                    </a:lnTo>
                    <a:lnTo>
                      <a:pt x="2418" y="458"/>
                    </a:lnTo>
                    <a:lnTo>
                      <a:pt x="2543" y="315"/>
                    </a:lnTo>
                    <a:lnTo>
                      <a:pt x="2685" y="0"/>
                    </a:lnTo>
                    <a:lnTo>
                      <a:pt x="2378" y="397"/>
                    </a:lnTo>
                    <a:lnTo>
                      <a:pt x="2055" y="757"/>
                    </a:lnTo>
                    <a:lnTo>
                      <a:pt x="1650" y="1200"/>
                    </a:lnTo>
                    <a:lnTo>
                      <a:pt x="1260" y="1425"/>
                    </a:lnTo>
                    <a:lnTo>
                      <a:pt x="810" y="1657"/>
                    </a:lnTo>
                    <a:lnTo>
                      <a:pt x="173" y="2020"/>
                    </a:lnTo>
                    <a:lnTo>
                      <a:pt x="0" y="2328"/>
                    </a:lnTo>
                  </a:path>
                </a:pathLst>
              </a:custGeom>
              <a:solidFill>
                <a:srgbClr val="cc00cc"/>
              </a:solidFill>
              <a:ln w="3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1268640" y="1487520"/>
                <a:ext cx="2212920" cy="1756080"/>
              </a:xfrm>
              <a:custGeom>
                <a:avLst/>
                <a:gdLst/>
                <a:ahLst/>
                <a:rect l="l" t="t" r="r" b="b"/>
                <a:pathLst>
                  <a:path w="2655" h="2110">
                    <a:moveTo>
                      <a:pt x="125" y="2110"/>
                    </a:moveTo>
                    <a:lnTo>
                      <a:pt x="1677" y="1262"/>
                    </a:lnTo>
                    <a:lnTo>
                      <a:pt x="2655" y="100"/>
                    </a:lnTo>
                    <a:lnTo>
                      <a:pt x="2589" y="67"/>
                    </a:lnTo>
                    <a:lnTo>
                      <a:pt x="2530" y="0"/>
                    </a:lnTo>
                    <a:lnTo>
                      <a:pt x="1506" y="1205"/>
                    </a:lnTo>
                    <a:lnTo>
                      <a:pt x="0" y="2029"/>
                    </a:lnTo>
                    <a:lnTo>
                      <a:pt x="40" y="2050"/>
                    </a:lnTo>
                    <a:lnTo>
                      <a:pt x="125" y="2110"/>
                    </a:lnTo>
                    <a:close/>
                  </a:path>
                </a:pathLst>
              </a:custGeom>
              <a:solidFill>
                <a:srgbClr val="ff3399"/>
              </a:solidFill>
              <a:ln w="3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1001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1002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1008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1014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1022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030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034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040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045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051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5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056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057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073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074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075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083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091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099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6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107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112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113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119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124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129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134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38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139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140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147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165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190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199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204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205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210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858960" y="2482920"/>
            <a:ext cx="4724280" cy="1693440"/>
            <a:chOff x="858960" y="2482920"/>
            <a:chExt cx="4724280" cy="1693440"/>
          </a:xfrm>
        </p:grpSpPr>
        <p:grpSp>
          <p:nvGrpSpPr>
            <p:cNvPr id="1215" name=""/>
            <p:cNvGrpSpPr/>
            <p:nvPr/>
          </p:nvGrpSpPr>
          <p:grpSpPr>
            <a:xfrm>
              <a:off x="858960" y="2755440"/>
              <a:ext cx="4724280" cy="1420920"/>
              <a:chOff x="858960" y="2755440"/>
              <a:chExt cx="4724280" cy="142092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858960" y="2757600"/>
                <a:ext cx="1291320" cy="1418760"/>
                <a:chOff x="858960" y="2757600"/>
                <a:chExt cx="1291320" cy="1418760"/>
              </a:xfrm>
            </p:grpSpPr>
            <p:grpSp>
              <p:nvGrpSpPr>
                <p:cNvPr id="1217" name=""/>
                <p:cNvGrpSpPr/>
                <p:nvPr/>
              </p:nvGrpSpPr>
              <p:grpSpPr>
                <a:xfrm>
                  <a:off x="858960" y="3726360"/>
                  <a:ext cx="317160" cy="450000"/>
                  <a:chOff x="858960" y="3726360"/>
                  <a:chExt cx="317160" cy="45000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858960" y="404532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H="1">
                    <a:off x="1036080" y="372636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1183680" y="3401640"/>
                  <a:ext cx="318240" cy="450000"/>
                  <a:chOff x="1183680" y="3401640"/>
                  <a:chExt cx="318240" cy="45000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1183680" y="37206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H="1">
                    <a:off x="1361520" y="34016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1505520" y="3082320"/>
                  <a:ext cx="318240" cy="450000"/>
                  <a:chOff x="1505520" y="3082320"/>
                  <a:chExt cx="318240" cy="45000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1505520" y="340128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1683360" y="308232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6" name=""/>
                <p:cNvGrpSpPr/>
                <p:nvPr/>
              </p:nvGrpSpPr>
              <p:grpSpPr>
                <a:xfrm>
                  <a:off x="1832040" y="2757600"/>
                  <a:ext cx="318240" cy="450000"/>
                  <a:chOff x="1832040" y="2757600"/>
                  <a:chExt cx="318240" cy="45000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1832040" y="307656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H="1">
                    <a:off x="2009880" y="275760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9" name=""/>
              <p:cNvGrpSpPr/>
              <p:nvPr/>
            </p:nvGrpSpPr>
            <p:grpSpPr>
              <a:xfrm>
                <a:off x="4291920" y="2755440"/>
                <a:ext cx="1291320" cy="1418760"/>
                <a:chOff x="4291920" y="2755440"/>
                <a:chExt cx="1291320" cy="141876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4291920" y="3724200"/>
                  <a:ext cx="317160" cy="450000"/>
                  <a:chOff x="4291920" y="3724200"/>
                  <a:chExt cx="317160" cy="450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4291920" y="404316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4469040" y="372420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4616640" y="3399480"/>
                  <a:ext cx="318240" cy="450000"/>
                  <a:chOff x="4616640" y="3399480"/>
                  <a:chExt cx="318240" cy="45000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4616640" y="371844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4794480" y="339948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6" name=""/>
                <p:cNvGrpSpPr/>
                <p:nvPr/>
              </p:nvGrpSpPr>
              <p:grpSpPr>
                <a:xfrm>
                  <a:off x="4938480" y="3080160"/>
                  <a:ext cx="318240" cy="450000"/>
                  <a:chOff x="4938480" y="3080160"/>
                  <a:chExt cx="318240" cy="45000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>
                    <a:off x="4938480" y="339912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H="1">
                    <a:off x="5116320" y="308016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9" name=""/>
                <p:cNvGrpSpPr/>
                <p:nvPr/>
              </p:nvGrpSpPr>
              <p:grpSpPr>
                <a:xfrm>
                  <a:off x="5265000" y="2755440"/>
                  <a:ext cx="318240" cy="450000"/>
                  <a:chOff x="5265000" y="2755440"/>
                  <a:chExt cx="318240" cy="45000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5265000" y="30744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5442840" y="27554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2" name=""/>
            <p:cNvGrpSpPr/>
            <p:nvPr/>
          </p:nvGrpSpPr>
          <p:grpSpPr>
            <a:xfrm>
              <a:off x="2448360" y="2482920"/>
              <a:ext cx="1569600" cy="1297440"/>
              <a:chOff x="2448360" y="2482920"/>
              <a:chExt cx="1569600" cy="1297440"/>
            </a:xfrm>
          </p:grpSpPr>
          <p:sp>
            <p:nvSpPr>
              <p:cNvPr id="1243" name=""/>
              <p:cNvSpPr/>
              <p:nvPr/>
            </p:nvSpPr>
            <p:spPr>
              <a:xfrm flipH="1" flipV="1">
                <a:off x="2888640" y="3456000"/>
                <a:ext cx="157320" cy="191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2563200" y="3646080"/>
                <a:ext cx="48564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2449440" y="3460320"/>
                <a:ext cx="43488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448360" y="3648600"/>
                <a:ext cx="11376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2774520" y="3131280"/>
                <a:ext cx="603360" cy="324360"/>
                <a:chOff x="2774520" y="3131280"/>
                <a:chExt cx="603360" cy="324360"/>
              </a:xfrm>
            </p:grpSpPr>
            <p:sp>
              <p:nvSpPr>
                <p:cNvPr id="1248" name=""/>
                <p:cNvSpPr/>
                <p:nvPr/>
              </p:nvSpPr>
              <p:spPr>
                <a:xfrm flipH="1" flipV="1">
                  <a:off x="3217680" y="3131280"/>
                  <a:ext cx="157320" cy="19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2892240" y="3321360"/>
                  <a:ext cx="485640" cy="13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2774520" y="3134880"/>
                  <a:ext cx="439200" cy="18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777400" y="3323520"/>
                  <a:ext cx="113760" cy="13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 flipH="1" flipV="1">
                <a:off x="3542760" y="2805840"/>
                <a:ext cx="154440" cy="192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217320" y="2996280"/>
                <a:ext cx="48132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3106440" y="2810520"/>
                <a:ext cx="43200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03560" y="2998800"/>
                <a:ext cx="11232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flipV="1">
                <a:off x="3867840" y="2482920"/>
                <a:ext cx="148680" cy="187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542400" y="2673000"/>
                <a:ext cx="475560" cy="133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3430080" y="2486880"/>
                <a:ext cx="43344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431520" y="2676600"/>
                <a:ext cx="109800" cy="1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0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1262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271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274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7104240" y="441360"/>
            <a:ext cx="1319040" cy="104292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169920" y="3477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163440" y="6206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supporte les liern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>
            <a:hlinkClick r:id="" action="ppaction://hlinkshowjump?jump=nextslide"/>
          </p:cNvPr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>
            <a:hlinkClick r:id="rId1" action="ppaction://hlinksldjump"/>
          </p:cNvPr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>
            <a:hlinkClick r:id="rId2" action="ppaction://hlinksldjump"/>
          </p:cNvPr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>
            <a:hlinkClick r:id="rId3" action="ppaction://hlinksldjump"/>
          </p:cNvPr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800760" y="3909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>
            <a:hlinkClick r:id="rId4" action="ppaction://hlinksldjump"/>
          </p:cNvPr>
          <p:cNvSpPr/>
          <p:nvPr/>
        </p:nvSpPr>
        <p:spPr>
          <a:xfrm>
            <a:off x="6873840" y="3978360"/>
            <a:ext cx="1798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800760" y="4341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rId5" action="ppaction://hlinksldjump"/>
          </p:cNvPr>
          <p:cNvSpPr/>
          <p:nvPr/>
        </p:nvSpPr>
        <p:spPr>
          <a:xfrm>
            <a:off x="6873840" y="44146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1303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1304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1310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1316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1324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0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332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336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342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347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348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353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358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359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4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375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377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393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401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409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3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414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415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426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431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436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0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441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442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449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467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0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491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494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506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515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520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521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526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858960" y="2482920"/>
            <a:ext cx="4724280" cy="1693440"/>
            <a:chOff x="858960" y="2482920"/>
            <a:chExt cx="4724280" cy="1693440"/>
          </a:xfrm>
        </p:grpSpPr>
        <p:grpSp>
          <p:nvGrpSpPr>
            <p:cNvPr id="1531" name=""/>
            <p:cNvGrpSpPr/>
            <p:nvPr/>
          </p:nvGrpSpPr>
          <p:grpSpPr>
            <a:xfrm>
              <a:off x="858960" y="2755440"/>
              <a:ext cx="4724280" cy="1420920"/>
              <a:chOff x="858960" y="2755440"/>
              <a:chExt cx="4724280" cy="142092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858960" y="2757600"/>
                <a:ext cx="1291320" cy="1418760"/>
                <a:chOff x="858960" y="2757600"/>
                <a:chExt cx="1291320" cy="1418760"/>
              </a:xfrm>
            </p:grpSpPr>
            <p:grpSp>
              <p:nvGrpSpPr>
                <p:cNvPr id="1533" name=""/>
                <p:cNvGrpSpPr/>
                <p:nvPr/>
              </p:nvGrpSpPr>
              <p:grpSpPr>
                <a:xfrm>
                  <a:off x="858960" y="3726360"/>
                  <a:ext cx="317160" cy="450000"/>
                  <a:chOff x="858960" y="3726360"/>
                  <a:chExt cx="317160" cy="450000"/>
                </a:xfrm>
              </p:grpSpPr>
              <p:sp>
                <p:nvSpPr>
                  <p:cNvPr id="1534" name=""/>
                  <p:cNvSpPr/>
                  <p:nvPr/>
                </p:nvSpPr>
                <p:spPr>
                  <a:xfrm>
                    <a:off x="858960" y="404532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H="1">
                    <a:off x="1036080" y="372636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6" name=""/>
                <p:cNvGrpSpPr/>
                <p:nvPr/>
              </p:nvGrpSpPr>
              <p:grpSpPr>
                <a:xfrm>
                  <a:off x="1183680" y="3401640"/>
                  <a:ext cx="318240" cy="450000"/>
                  <a:chOff x="1183680" y="3401640"/>
                  <a:chExt cx="318240" cy="450000"/>
                </a:xfrm>
              </p:grpSpPr>
              <p:sp>
                <p:nvSpPr>
                  <p:cNvPr id="1537" name=""/>
                  <p:cNvSpPr/>
                  <p:nvPr/>
                </p:nvSpPr>
                <p:spPr>
                  <a:xfrm>
                    <a:off x="1183680" y="37206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H="1">
                    <a:off x="1361520" y="34016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9" name=""/>
                <p:cNvGrpSpPr/>
                <p:nvPr/>
              </p:nvGrpSpPr>
              <p:grpSpPr>
                <a:xfrm>
                  <a:off x="1505520" y="3082320"/>
                  <a:ext cx="318240" cy="450000"/>
                  <a:chOff x="1505520" y="3082320"/>
                  <a:chExt cx="318240" cy="45000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1505520" y="340128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flipH="1">
                    <a:off x="1683360" y="308232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2" name=""/>
                <p:cNvGrpSpPr/>
                <p:nvPr/>
              </p:nvGrpSpPr>
              <p:grpSpPr>
                <a:xfrm>
                  <a:off x="1832040" y="2757600"/>
                  <a:ext cx="318240" cy="450000"/>
                  <a:chOff x="1832040" y="2757600"/>
                  <a:chExt cx="318240" cy="450000"/>
                </a:xfrm>
              </p:grpSpPr>
              <p:sp>
                <p:nvSpPr>
                  <p:cNvPr id="1543" name=""/>
                  <p:cNvSpPr/>
                  <p:nvPr/>
                </p:nvSpPr>
                <p:spPr>
                  <a:xfrm>
                    <a:off x="1832040" y="307656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2009880" y="275760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5" name=""/>
              <p:cNvGrpSpPr/>
              <p:nvPr/>
            </p:nvGrpSpPr>
            <p:grpSpPr>
              <a:xfrm>
                <a:off x="4291920" y="2755440"/>
                <a:ext cx="1291320" cy="1418760"/>
                <a:chOff x="4291920" y="2755440"/>
                <a:chExt cx="1291320" cy="1418760"/>
              </a:xfrm>
            </p:grpSpPr>
            <p:grpSp>
              <p:nvGrpSpPr>
                <p:cNvPr id="1546" name=""/>
                <p:cNvGrpSpPr/>
                <p:nvPr/>
              </p:nvGrpSpPr>
              <p:grpSpPr>
                <a:xfrm>
                  <a:off x="4291920" y="3724200"/>
                  <a:ext cx="317160" cy="450000"/>
                  <a:chOff x="4291920" y="3724200"/>
                  <a:chExt cx="317160" cy="45000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4291920" y="4043160"/>
                    <a:ext cx="17604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H="1">
                    <a:off x="4469040" y="3724200"/>
                    <a:ext cx="14004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4616640" y="3399480"/>
                  <a:ext cx="318240" cy="450000"/>
                  <a:chOff x="4616640" y="3399480"/>
                  <a:chExt cx="318240" cy="45000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4616640" y="371844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H="1">
                    <a:off x="4794480" y="339948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4938480" y="3080160"/>
                  <a:ext cx="318240" cy="450000"/>
                  <a:chOff x="4938480" y="3080160"/>
                  <a:chExt cx="318240" cy="45000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4938480" y="339912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H="1">
                    <a:off x="5116320" y="308016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5265000" y="2755440"/>
                  <a:ext cx="318240" cy="450000"/>
                  <a:chOff x="5265000" y="2755440"/>
                  <a:chExt cx="318240" cy="45000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5265000" y="3074400"/>
                    <a:ext cx="176400" cy="129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5442840" y="2755440"/>
                    <a:ext cx="140400" cy="45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8" name=""/>
            <p:cNvGrpSpPr/>
            <p:nvPr/>
          </p:nvGrpSpPr>
          <p:grpSpPr>
            <a:xfrm>
              <a:off x="2448360" y="2482920"/>
              <a:ext cx="1569600" cy="1297440"/>
              <a:chOff x="2448360" y="2482920"/>
              <a:chExt cx="1569600" cy="1297440"/>
            </a:xfrm>
          </p:grpSpPr>
          <p:sp>
            <p:nvSpPr>
              <p:cNvPr id="1559" name=""/>
              <p:cNvSpPr/>
              <p:nvPr/>
            </p:nvSpPr>
            <p:spPr>
              <a:xfrm flipH="1" flipV="1">
                <a:off x="2888640" y="3456000"/>
                <a:ext cx="157320" cy="191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2563200" y="3646080"/>
                <a:ext cx="48564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2449440" y="3460320"/>
                <a:ext cx="43488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448360" y="3648600"/>
                <a:ext cx="11376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2774520" y="3131280"/>
                <a:ext cx="603360" cy="324360"/>
                <a:chOff x="2774520" y="3131280"/>
                <a:chExt cx="603360" cy="324360"/>
              </a:xfrm>
            </p:grpSpPr>
            <p:sp>
              <p:nvSpPr>
                <p:cNvPr id="1564" name=""/>
                <p:cNvSpPr/>
                <p:nvPr/>
              </p:nvSpPr>
              <p:spPr>
                <a:xfrm flipH="1" flipV="1">
                  <a:off x="3217680" y="3131280"/>
                  <a:ext cx="157320" cy="191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>
                  <a:off x="2892240" y="3321360"/>
                  <a:ext cx="485640" cy="13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2774520" y="3134880"/>
                  <a:ext cx="439200" cy="18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777400" y="3323520"/>
                  <a:ext cx="113760" cy="13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8" name=""/>
              <p:cNvSpPr/>
              <p:nvPr/>
            </p:nvSpPr>
            <p:spPr>
              <a:xfrm flipH="1" flipV="1">
                <a:off x="3542760" y="2805840"/>
                <a:ext cx="154440" cy="192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3217320" y="2996280"/>
                <a:ext cx="481320" cy="13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3106440" y="2810520"/>
                <a:ext cx="43200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03560" y="2998800"/>
                <a:ext cx="112320" cy="131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 flipV="1">
                <a:off x="3867840" y="2482920"/>
                <a:ext cx="148680" cy="187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3542400" y="2673000"/>
                <a:ext cx="475560" cy="133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3430080" y="2486880"/>
                <a:ext cx="433440" cy="187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431520" y="2676600"/>
                <a:ext cx="109800" cy="1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6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1578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169920" y="7365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1598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1599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1605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1611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1619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5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627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631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637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642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643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648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2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653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654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662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670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671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672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680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688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696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3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704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709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710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715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716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721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726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731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35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736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737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744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0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762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5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786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789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801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810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815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816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821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5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1826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1827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0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1831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9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1840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3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2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1853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1858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2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1872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7273800" y="538200"/>
            <a:ext cx="1160640" cy="103032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/>
          <p:nvPr/>
        </p:nvSpPr>
        <p:spPr>
          <a:xfrm>
            <a:off x="6800760" y="3909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873840" y="3978360"/>
            <a:ext cx="1798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800760" y="4341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73840" y="44146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>
            <a:hlinkClick r:id="" action="ppaction://hlinkshowjump?jump=nextslide"/>
          </p:cNvPr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>
            <a:hlinkClick r:id="rId1" action="ppaction://hlinksldjump"/>
          </p:cNvPr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854760" y="403236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1895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2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3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1925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1929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1935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1940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1941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1946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0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1960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7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1968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1969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7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5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1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2002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6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2008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2013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2014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8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2019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3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2024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33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2035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1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9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2060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3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2084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2097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2102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7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2108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2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2114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7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0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2121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3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6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2127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3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2134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6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39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2140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9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8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2159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2168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8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2179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0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2181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2182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4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"/>
          <p:cNvSpPr/>
          <p:nvPr/>
        </p:nvSpPr>
        <p:spPr>
          <a:xfrm>
            <a:off x="698508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013520" y="36464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934400" y="358128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962840" y="36464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98508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>
            <a:hlinkClick r:id="rId1" action="ppaction://hlinksldjump"/>
          </p:cNvPr>
          <p:cNvSpPr/>
          <p:nvPr/>
        </p:nvSpPr>
        <p:spPr>
          <a:xfrm>
            <a:off x="701352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934400" y="39765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>
            <a:hlinkClick r:id="" action="ppaction://hlinkshowjump?jump=nextslide"/>
          </p:cNvPr>
          <p:cNvSpPr/>
          <p:nvPr/>
        </p:nvSpPr>
        <p:spPr>
          <a:xfrm>
            <a:off x="7962840" y="40417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38040" y="3201840"/>
            <a:ext cx="4179960" cy="312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-à-vis de pannes courantes isostatiqu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38040" y="3597120"/>
            <a:ext cx="6297840" cy="31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réduisent le moment fléchissant selon l’axe fa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38040" y="3992400"/>
            <a:ext cx="6297840" cy="31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liernes affectent les flèches des pannes suivant l’axe 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5962680" y="573120"/>
            <a:ext cx="2539800" cy="2158920"/>
            <a:chOff x="5962680" y="573120"/>
            <a:chExt cx="2539800" cy="2158920"/>
          </a:xfrm>
        </p:grpSpPr>
        <p:sp>
          <p:nvSpPr>
            <p:cNvPr id="2207" name=""/>
            <p:cNvSpPr/>
            <p:nvPr/>
          </p:nvSpPr>
          <p:spPr>
            <a:xfrm>
              <a:off x="5962680" y="573120"/>
              <a:ext cx="2539800" cy="215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6053400" y="1314000"/>
              <a:ext cx="2364840" cy="1297080"/>
              <a:chOff x="6053400" y="1314000"/>
              <a:chExt cx="2364840" cy="129708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6053400" y="1503000"/>
                <a:ext cx="2364840" cy="1108080"/>
                <a:chOff x="6053400" y="1503000"/>
                <a:chExt cx="2364840" cy="1108080"/>
              </a:xfrm>
            </p:grpSpPr>
            <p:sp>
              <p:nvSpPr>
                <p:cNvPr id="2210" name=""/>
                <p:cNvSpPr/>
                <p:nvPr/>
              </p:nvSpPr>
              <p:spPr>
                <a:xfrm rot="948600">
                  <a:off x="6076800" y="1809000"/>
                  <a:ext cx="2317680" cy="4953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948600">
                  <a:off x="6076800" y="1853640"/>
                  <a:ext cx="2324160" cy="407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 rot="948600">
                <a:off x="7118280" y="13453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"/>
            <p:cNvSpPr/>
            <p:nvPr/>
          </p:nvSpPr>
          <p:spPr>
            <a:xfrm>
              <a:off x="7125480" y="1316160"/>
              <a:ext cx="196920" cy="5076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319880" y="704880"/>
              <a:ext cx="0" cy="65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307280" y="700200"/>
              <a:ext cx="183960" cy="5220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7129440" y="709560"/>
              <a:ext cx="171360" cy="60948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159600" y="1249200"/>
              <a:ext cx="2265120" cy="638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734160" y="223668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099280" y="1506600"/>
              <a:ext cx="324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545160" y="1346040"/>
              <a:ext cx="1467000" cy="412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7000560" y="1136520"/>
              <a:ext cx="385560" cy="1378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332480" y="758880"/>
              <a:ext cx="166680" cy="582480"/>
            </a:xfrm>
            <a:prstGeom prst="line">
              <a:avLst/>
            </a:prstGeom>
            <a:ln w="47520">
              <a:solidFill>
                <a:srgbClr val="ff99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569880" y="201240"/>
            <a:ext cx="4257720" cy="2769120"/>
            <a:chOff x="569880" y="201240"/>
            <a:chExt cx="4257720" cy="2769120"/>
          </a:xfrm>
        </p:grpSpPr>
        <p:grpSp>
          <p:nvGrpSpPr>
            <p:cNvPr id="2224" name=""/>
            <p:cNvGrpSpPr/>
            <p:nvPr/>
          </p:nvGrpSpPr>
          <p:grpSpPr>
            <a:xfrm>
              <a:off x="569880" y="1363680"/>
              <a:ext cx="4257720" cy="1606680"/>
              <a:chOff x="569880" y="1363680"/>
              <a:chExt cx="4257720" cy="1606680"/>
            </a:xfrm>
          </p:grpSpPr>
          <p:grpSp>
            <p:nvGrpSpPr>
              <p:cNvPr id="2225" name=""/>
              <p:cNvGrpSpPr/>
              <p:nvPr/>
            </p:nvGrpSpPr>
            <p:grpSpPr>
              <a:xfrm>
                <a:off x="3461760" y="1608480"/>
                <a:ext cx="1117440" cy="1114920"/>
                <a:chOff x="3461760" y="1608480"/>
                <a:chExt cx="1117440" cy="11149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4456800" y="160848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4211280" y="1851480"/>
                  <a:ext cx="122760" cy="123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3959280" y="2100960"/>
                  <a:ext cx="12276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3711240" y="2347560"/>
                  <a:ext cx="12564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3461760" y="2600640"/>
                  <a:ext cx="12204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824040" y="1607400"/>
                <a:ext cx="1114200" cy="1109520"/>
                <a:chOff x="824040" y="1607400"/>
                <a:chExt cx="1114200" cy="11095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1815840" y="1607400"/>
                  <a:ext cx="122400" cy="122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568880" y="1852200"/>
                  <a:ext cx="122400" cy="123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321560" y="2100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069560" y="2348280"/>
                  <a:ext cx="12312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824040" y="259416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2059920" y="1363680"/>
                <a:ext cx="2767680" cy="124560"/>
                <a:chOff x="2059920" y="1363680"/>
                <a:chExt cx="2767680" cy="12456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4705200" y="136404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2059920" y="136404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836880" y="136368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2499120" y="13654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292212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383280" y="136368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4272840" y="13651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569880" y="2846160"/>
                <a:ext cx="2767320" cy="124200"/>
                <a:chOff x="569880" y="2846160"/>
                <a:chExt cx="2767320" cy="12420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56988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214440" y="2846160"/>
                  <a:ext cx="122760" cy="123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100656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143172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2347200" y="284760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789640" y="2846520"/>
                  <a:ext cx="122400" cy="1227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2" name=""/>
            <p:cNvSpPr/>
            <p:nvPr/>
          </p:nvSpPr>
          <p:spPr>
            <a:xfrm>
              <a:off x="1511280" y="1771560"/>
              <a:ext cx="0" cy="67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3" name=""/>
            <p:cNvGrpSpPr/>
            <p:nvPr/>
          </p:nvGrpSpPr>
          <p:grpSpPr>
            <a:xfrm>
              <a:off x="1511280" y="1762200"/>
              <a:ext cx="910800" cy="376200"/>
              <a:chOff x="1511280" y="1762200"/>
              <a:chExt cx="910800" cy="376200"/>
            </a:xfrm>
          </p:grpSpPr>
          <p:sp>
            <p:nvSpPr>
              <p:cNvPr id="2254" name=""/>
              <p:cNvSpPr/>
              <p:nvPr/>
            </p:nvSpPr>
            <p:spPr>
              <a:xfrm>
                <a:off x="1511280" y="1762200"/>
                <a:ext cx="459360" cy="376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1969560" y="1767240"/>
                <a:ext cx="452520" cy="370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>
              <a:off x="1967040" y="1690560"/>
              <a:ext cx="0" cy="446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2141640" y="404640"/>
              <a:ext cx="2641320" cy="932040"/>
              <a:chOff x="2141640" y="404640"/>
              <a:chExt cx="2641320" cy="932040"/>
            </a:xfrm>
          </p:grpSpPr>
          <p:sp>
            <p:nvSpPr>
              <p:cNvPr id="2258" name=""/>
              <p:cNvSpPr/>
              <p:nvPr/>
            </p:nvSpPr>
            <p:spPr>
              <a:xfrm>
                <a:off x="2141640" y="40464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141640" y="65772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2142360" y="1105200"/>
                <a:ext cx="2636280" cy="10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2143080" y="907200"/>
                <a:ext cx="26323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143800" y="1336680"/>
                <a:ext cx="2639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646200" y="655200"/>
              <a:ext cx="1495080" cy="2163600"/>
              <a:chOff x="646200" y="655200"/>
              <a:chExt cx="1495080" cy="2163600"/>
            </a:xfrm>
          </p:grpSpPr>
          <p:sp>
            <p:nvSpPr>
              <p:cNvPr id="2264" name=""/>
              <p:cNvSpPr/>
              <p:nvPr/>
            </p:nvSpPr>
            <p:spPr>
              <a:xfrm flipV="1">
                <a:off x="649440" y="655200"/>
                <a:ext cx="1491120" cy="1482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646200" y="909720"/>
                <a:ext cx="1494360" cy="1473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46920" y="1114560"/>
                <a:ext cx="1494360" cy="148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646920" y="1334520"/>
                <a:ext cx="1492200" cy="148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642960" y="201240"/>
              <a:ext cx="4131360" cy="2612520"/>
              <a:chOff x="642960" y="201240"/>
              <a:chExt cx="4131360" cy="261252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642960" y="1696320"/>
                <a:ext cx="2643480" cy="1117440"/>
                <a:chOff x="642960" y="1696320"/>
                <a:chExt cx="2643480" cy="1117440"/>
              </a:xfrm>
            </p:grpSpPr>
            <p:sp>
              <p:nvSpPr>
                <p:cNvPr id="2270" name=""/>
                <p:cNvSpPr/>
                <p:nvPr/>
              </p:nvSpPr>
              <p:spPr>
                <a:xfrm flipV="1">
                  <a:off x="644040" y="1696320"/>
                  <a:ext cx="131904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 flipV="1">
                  <a:off x="1966320" y="1696680"/>
                  <a:ext cx="1320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V="1">
                  <a:off x="6429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flipV="1">
                  <a:off x="3283560" y="1897920"/>
                  <a:ext cx="0" cy="915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2139480" y="201240"/>
                <a:ext cx="2634840" cy="1139760"/>
                <a:chOff x="2139480" y="201240"/>
                <a:chExt cx="2634840" cy="1139760"/>
              </a:xfrm>
            </p:grpSpPr>
            <p:sp>
              <p:nvSpPr>
                <p:cNvPr id="2275" name=""/>
                <p:cNvSpPr/>
                <p:nvPr/>
              </p:nvSpPr>
              <p:spPr>
                <a:xfrm flipV="1">
                  <a:off x="2140200" y="404280"/>
                  <a:ext cx="720" cy="93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4774320" y="401760"/>
                  <a:ext cx="0" cy="916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V="1">
                  <a:off x="2139480" y="201240"/>
                  <a:ext cx="13190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 flipV="1">
                  <a:off x="3453840" y="201960"/>
                  <a:ext cx="13201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9" name=""/>
            <p:cNvGrpSpPr/>
            <p:nvPr/>
          </p:nvGrpSpPr>
          <p:grpSpPr>
            <a:xfrm>
              <a:off x="649440" y="204840"/>
              <a:ext cx="4130280" cy="2630160"/>
              <a:chOff x="649440" y="204840"/>
              <a:chExt cx="4130280" cy="2630160"/>
            </a:xfrm>
          </p:grpSpPr>
          <p:grpSp>
            <p:nvGrpSpPr>
              <p:cNvPr id="2280" name=""/>
              <p:cNvGrpSpPr/>
              <p:nvPr/>
            </p:nvGrpSpPr>
            <p:grpSpPr>
              <a:xfrm>
                <a:off x="2140200" y="204840"/>
                <a:ext cx="2639520" cy="1140120"/>
                <a:chOff x="2140200" y="204840"/>
                <a:chExt cx="2639520" cy="114012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4350240" y="343440"/>
                  <a:ext cx="0" cy="996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H="1">
                  <a:off x="4779000" y="405360"/>
                  <a:ext cx="720" cy="939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915000" y="273240"/>
                  <a:ext cx="0" cy="106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458880" y="204840"/>
                  <a:ext cx="0" cy="113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000960" y="276480"/>
                  <a:ext cx="0" cy="1065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H="1">
                  <a:off x="2140200" y="401040"/>
                  <a:ext cx="2160" cy="93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2579400" y="342000"/>
                  <a:ext cx="0" cy="999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8" name=""/>
              <p:cNvGrpSpPr/>
              <p:nvPr/>
            </p:nvGrpSpPr>
            <p:grpSpPr>
              <a:xfrm>
                <a:off x="649440" y="1703880"/>
                <a:ext cx="2642040" cy="1131120"/>
                <a:chOff x="649440" y="1703880"/>
                <a:chExt cx="2642040" cy="1131120"/>
              </a:xfrm>
            </p:grpSpPr>
            <p:sp>
              <p:nvSpPr>
                <p:cNvPr id="2289" name=""/>
                <p:cNvSpPr/>
                <p:nvPr/>
              </p:nvSpPr>
              <p:spPr>
                <a:xfrm flipH="1">
                  <a:off x="1970640" y="1703880"/>
                  <a:ext cx="1080" cy="44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868840" y="1844280"/>
                  <a:ext cx="0" cy="990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291480" y="1906920"/>
                  <a:ext cx="0" cy="919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2428200" y="1777680"/>
                  <a:ext cx="0" cy="105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1513800" y="1771920"/>
                  <a:ext cx="0" cy="1058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649440" y="1909080"/>
                  <a:ext cx="720" cy="920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092240" y="1841040"/>
                  <a:ext cx="0" cy="98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642600" y="401400"/>
              <a:ext cx="4137480" cy="2419560"/>
              <a:chOff x="642600" y="401400"/>
              <a:chExt cx="4137480" cy="2419560"/>
            </a:xfrm>
          </p:grpSpPr>
          <p:grpSp>
            <p:nvGrpSpPr>
              <p:cNvPr id="2297" name=""/>
              <p:cNvGrpSpPr/>
              <p:nvPr/>
            </p:nvGrpSpPr>
            <p:grpSpPr>
              <a:xfrm>
                <a:off x="642600" y="401400"/>
                <a:ext cx="4135680" cy="2419560"/>
                <a:chOff x="642600" y="401400"/>
                <a:chExt cx="4135680" cy="2419560"/>
              </a:xfrm>
            </p:grpSpPr>
            <p:grpSp>
              <p:nvGrpSpPr>
                <p:cNvPr id="2298" name=""/>
                <p:cNvGrpSpPr/>
                <p:nvPr/>
              </p:nvGrpSpPr>
              <p:grpSpPr>
                <a:xfrm>
                  <a:off x="3273840" y="1648800"/>
                  <a:ext cx="259920" cy="1167480"/>
                  <a:chOff x="3273840" y="1648800"/>
                  <a:chExt cx="259920" cy="1167480"/>
                </a:xfrm>
              </p:grpSpPr>
              <p:sp>
                <p:nvSpPr>
                  <p:cNvPr id="2299" name=""/>
                  <p:cNvSpPr/>
                  <p:nvPr/>
                </p:nvSpPr>
                <p:spPr>
                  <a:xfrm flipV="1">
                    <a:off x="3284640" y="2133720"/>
                    <a:ext cx="248760" cy="682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 flipH="1" flipV="1">
                    <a:off x="3279960" y="1893960"/>
                    <a:ext cx="253080" cy="239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 flipH="1" flipV="1">
                    <a:off x="3284280" y="2377080"/>
                    <a:ext cx="24876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 flipV="1">
                    <a:off x="3284640" y="1648800"/>
                    <a:ext cx="248760" cy="723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 flipV="1">
                    <a:off x="3273840" y="1658520"/>
                    <a:ext cx="248760" cy="248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3285000" y="1894320"/>
                    <a:ext cx="0" cy="918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3533760" y="1653480"/>
                    <a:ext cx="0" cy="918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6" name=""/>
                <p:cNvGrpSpPr/>
                <p:nvPr/>
              </p:nvGrpSpPr>
              <p:grpSpPr>
                <a:xfrm>
                  <a:off x="642600" y="1654200"/>
                  <a:ext cx="250200" cy="1166760"/>
                  <a:chOff x="642600" y="1654200"/>
                  <a:chExt cx="250200" cy="1166760"/>
                </a:xfrm>
              </p:grpSpPr>
              <p:sp>
                <p:nvSpPr>
                  <p:cNvPr id="2307" name=""/>
                  <p:cNvSpPr/>
                  <p:nvPr/>
                </p:nvSpPr>
                <p:spPr>
                  <a:xfrm flipV="1">
                    <a:off x="643680" y="2135880"/>
                    <a:ext cx="248760" cy="68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 flipH="1" flipV="1">
                    <a:off x="643320" y="1902960"/>
                    <a:ext cx="246600" cy="229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flipH="1" flipV="1">
                    <a:off x="642600" y="2385000"/>
                    <a:ext cx="248760" cy="185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643680" y="1654560"/>
                    <a:ext cx="247680" cy="72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645480" y="165420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644040" y="1903320"/>
                    <a:ext cx="0" cy="917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H="1">
                    <a:off x="891720" y="1662480"/>
                    <a:ext cx="1080" cy="907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4" name=""/>
                <p:cNvGrpSpPr/>
                <p:nvPr/>
              </p:nvGrpSpPr>
              <p:grpSpPr>
                <a:xfrm>
                  <a:off x="4527360" y="401400"/>
                  <a:ext cx="250920" cy="1183680"/>
                  <a:chOff x="4527360" y="401400"/>
                  <a:chExt cx="250920" cy="118368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 flipV="1">
                    <a:off x="4529160" y="903240"/>
                    <a:ext cx="246600" cy="677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H="1" flipV="1">
                    <a:off x="4527360" y="651600"/>
                    <a:ext cx="247680" cy="25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H="1" flipV="1">
                    <a:off x="4528800" y="1147320"/>
                    <a:ext cx="246600" cy="186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V="1">
                    <a:off x="4528080" y="403200"/>
                    <a:ext cx="24444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V="1">
                    <a:off x="4527360" y="401400"/>
                    <a:ext cx="249840" cy="253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4530960" y="648000"/>
                    <a:ext cx="0" cy="937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flipH="1">
                    <a:off x="4777560" y="406080"/>
                    <a:ext cx="720" cy="92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2" name=""/>
                <p:cNvGrpSpPr/>
                <p:nvPr/>
              </p:nvGrpSpPr>
              <p:grpSpPr>
                <a:xfrm>
                  <a:off x="1888200" y="402840"/>
                  <a:ext cx="249120" cy="1177920"/>
                  <a:chOff x="1888200" y="402840"/>
                  <a:chExt cx="249120" cy="1177920"/>
                </a:xfrm>
              </p:grpSpPr>
              <p:sp>
                <p:nvSpPr>
                  <p:cNvPr id="2323" name=""/>
                  <p:cNvSpPr/>
                  <p:nvPr/>
                </p:nvSpPr>
                <p:spPr>
                  <a:xfrm flipV="1">
                    <a:off x="1888560" y="906480"/>
                    <a:ext cx="247680" cy="67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 flipH="1" flipV="1">
                    <a:off x="1889280" y="654840"/>
                    <a:ext cx="245520" cy="249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 flipH="1" flipV="1">
                    <a:off x="1888200" y="1152000"/>
                    <a:ext cx="248760" cy="180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 flipV="1">
                    <a:off x="1888560" y="403200"/>
                    <a:ext cx="248760" cy="748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 flipV="1">
                    <a:off x="1889640" y="403560"/>
                    <a:ext cx="244440" cy="245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1888560" y="659880"/>
                    <a:ext cx="0" cy="91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2135520" y="402840"/>
                    <a:ext cx="720" cy="929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0" name=""/>
              <p:cNvGrpSpPr/>
              <p:nvPr/>
            </p:nvGrpSpPr>
            <p:grpSpPr>
              <a:xfrm>
                <a:off x="645840" y="902880"/>
                <a:ext cx="4134240" cy="1481760"/>
                <a:chOff x="645840" y="902880"/>
                <a:chExt cx="4134240" cy="1481760"/>
              </a:xfrm>
            </p:grpSpPr>
            <p:sp>
              <p:nvSpPr>
                <p:cNvPr id="2331" name=""/>
                <p:cNvSpPr/>
                <p:nvPr/>
              </p:nvSpPr>
              <p:spPr>
                <a:xfrm flipV="1">
                  <a:off x="3287520" y="213156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V="1">
                  <a:off x="645840" y="2137680"/>
                  <a:ext cx="24876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V="1">
                  <a:off x="4535640" y="90288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V="1">
                  <a:off x="1892520" y="907560"/>
                  <a:ext cx="24660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5" name=""/>
            <p:cNvGrpSpPr/>
            <p:nvPr/>
          </p:nvGrpSpPr>
          <p:grpSpPr>
            <a:xfrm>
              <a:off x="896760" y="452520"/>
              <a:ext cx="3637080" cy="2115720"/>
              <a:chOff x="896760" y="452520"/>
              <a:chExt cx="3637080" cy="2115720"/>
            </a:xfrm>
          </p:grpSpPr>
          <p:grpSp>
            <p:nvGrpSpPr>
              <p:cNvPr id="2336" name=""/>
              <p:cNvGrpSpPr/>
              <p:nvPr/>
            </p:nvGrpSpPr>
            <p:grpSpPr>
              <a:xfrm>
                <a:off x="896760" y="1449360"/>
                <a:ext cx="2641320" cy="1118880"/>
                <a:chOff x="896760" y="1449360"/>
                <a:chExt cx="2641320" cy="1118880"/>
              </a:xfrm>
            </p:grpSpPr>
            <p:sp>
              <p:nvSpPr>
                <p:cNvPr id="2337" name=""/>
                <p:cNvSpPr/>
                <p:nvPr/>
              </p:nvSpPr>
              <p:spPr>
                <a:xfrm flipV="1">
                  <a:off x="89676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V="1">
                  <a:off x="896760" y="1449360"/>
                  <a:ext cx="132084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V="1">
                  <a:off x="3538080" y="1652760"/>
                  <a:ext cx="0" cy="915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flipH="1" flipV="1">
                  <a:off x="2217600" y="1449360"/>
                  <a:ext cx="132048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1" name=""/>
              <p:cNvGrpSpPr/>
              <p:nvPr/>
            </p:nvGrpSpPr>
            <p:grpSpPr>
              <a:xfrm>
                <a:off x="1145520" y="452520"/>
                <a:ext cx="3388320" cy="1875960"/>
                <a:chOff x="1145520" y="452520"/>
                <a:chExt cx="3388320" cy="1875960"/>
              </a:xfrm>
            </p:grpSpPr>
            <p:grpSp>
              <p:nvGrpSpPr>
                <p:cNvPr id="2342" name=""/>
                <p:cNvGrpSpPr/>
                <p:nvPr/>
              </p:nvGrpSpPr>
              <p:grpSpPr>
                <a:xfrm>
                  <a:off x="1145520" y="1200240"/>
                  <a:ext cx="2641680" cy="1128240"/>
                  <a:chOff x="1145520" y="1200240"/>
                  <a:chExt cx="2641680" cy="112824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 flipV="1">
                    <a:off x="1145520" y="1404360"/>
                    <a:ext cx="0" cy="919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 flipV="1">
                    <a:off x="1145520" y="1200240"/>
                    <a:ext cx="132084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 flipV="1">
                    <a:off x="3787200" y="1404720"/>
                    <a:ext cx="0" cy="92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H="1" flipV="1">
                    <a:off x="2466360" y="1200240"/>
                    <a:ext cx="1320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7" name=""/>
                <p:cNvGrpSpPr/>
                <p:nvPr/>
              </p:nvGrpSpPr>
              <p:grpSpPr>
                <a:xfrm>
                  <a:off x="1393200" y="951120"/>
                  <a:ext cx="2642760" cy="1125360"/>
                  <a:chOff x="1393200" y="951120"/>
                  <a:chExt cx="2642760" cy="1125360"/>
                </a:xfrm>
              </p:grpSpPr>
              <p:sp>
                <p:nvSpPr>
                  <p:cNvPr id="2348" name=""/>
                  <p:cNvSpPr/>
                  <p:nvPr/>
                </p:nvSpPr>
                <p:spPr>
                  <a:xfrm flipV="1">
                    <a:off x="139320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V="1">
                    <a:off x="13932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 flipV="1">
                    <a:off x="4035960" y="1155240"/>
                    <a:ext cx="0" cy="921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 flipH="1" flipV="1">
                    <a:off x="2714400" y="951120"/>
                    <a:ext cx="1321200" cy="204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2" name=""/>
                <p:cNvGrpSpPr/>
                <p:nvPr/>
              </p:nvGrpSpPr>
              <p:grpSpPr>
                <a:xfrm>
                  <a:off x="1643400" y="701280"/>
                  <a:ext cx="2641680" cy="1126800"/>
                  <a:chOff x="1643400" y="701280"/>
                  <a:chExt cx="2641680" cy="112680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 flipV="1">
                    <a:off x="164340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V="1">
                    <a:off x="164340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4285080" y="906480"/>
                    <a:ext cx="0" cy="92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 flipH="1" flipV="1">
                    <a:off x="2963880" y="701280"/>
                    <a:ext cx="1320840" cy="204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7" name=""/>
                <p:cNvGrpSpPr/>
                <p:nvPr/>
              </p:nvGrpSpPr>
              <p:grpSpPr>
                <a:xfrm>
                  <a:off x="1892520" y="452520"/>
                  <a:ext cx="2641320" cy="1132560"/>
                  <a:chOff x="1892520" y="452520"/>
                  <a:chExt cx="2641320" cy="1132560"/>
                </a:xfrm>
              </p:grpSpPr>
              <p:sp>
                <p:nvSpPr>
                  <p:cNvPr id="2358" name=""/>
                  <p:cNvSpPr/>
                  <p:nvPr/>
                </p:nvSpPr>
                <p:spPr>
                  <a:xfrm flipV="1">
                    <a:off x="189252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 flipV="1">
                    <a:off x="1892520" y="452520"/>
                    <a:ext cx="132048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 flipV="1">
                    <a:off x="4533840" y="658080"/>
                    <a:ext cx="0" cy="927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 flipH="1" flipV="1">
                    <a:off x="3212640" y="452520"/>
                    <a:ext cx="1320840" cy="20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62" name=""/>
            <p:cNvGrpSpPr/>
            <p:nvPr/>
          </p:nvGrpSpPr>
          <p:grpSpPr>
            <a:xfrm>
              <a:off x="638280" y="202680"/>
              <a:ext cx="4140000" cy="1700640"/>
              <a:chOff x="638280" y="202680"/>
              <a:chExt cx="4140000" cy="1700640"/>
            </a:xfrm>
          </p:grpSpPr>
          <p:grpSp>
            <p:nvGrpSpPr>
              <p:cNvPr id="2363" name=""/>
              <p:cNvGrpSpPr/>
              <p:nvPr/>
            </p:nvGrpSpPr>
            <p:grpSpPr>
              <a:xfrm>
                <a:off x="1890000" y="202680"/>
                <a:ext cx="2888280" cy="453960"/>
                <a:chOff x="1890000" y="202680"/>
                <a:chExt cx="2888280" cy="453960"/>
              </a:xfrm>
            </p:grpSpPr>
            <p:sp>
              <p:nvSpPr>
                <p:cNvPr id="2364" name=""/>
                <p:cNvSpPr/>
                <p:nvPr/>
              </p:nvSpPr>
              <p:spPr>
                <a:xfrm flipV="1">
                  <a:off x="4533840" y="40392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V="1">
                  <a:off x="3211920" y="202680"/>
                  <a:ext cx="247680" cy="249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V="1">
                  <a:off x="3668400" y="27288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1890360" y="406440"/>
                  <a:ext cx="24984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V="1">
                  <a:off x="2330640" y="340200"/>
                  <a:ext cx="244440" cy="244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V="1">
                  <a:off x="2754720" y="275040"/>
                  <a:ext cx="244440" cy="24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0" name=""/>
                <p:cNvGrpSpPr/>
                <p:nvPr/>
              </p:nvGrpSpPr>
              <p:grpSpPr>
                <a:xfrm>
                  <a:off x="1890000" y="202680"/>
                  <a:ext cx="2884680" cy="453960"/>
                  <a:chOff x="1890000" y="202680"/>
                  <a:chExt cx="2884680" cy="45396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 flipH="1" flipV="1">
                    <a:off x="3457440" y="202680"/>
                    <a:ext cx="20484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H="1">
                    <a:off x="2754000" y="203040"/>
                    <a:ext cx="702720" cy="3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H="1" flipV="1">
                    <a:off x="4354920" y="338760"/>
                    <a:ext cx="173520" cy="3171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 flipV="1">
                    <a:off x="4101480" y="404280"/>
                    <a:ext cx="673200" cy="184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 flipH="1" flipV="1">
                    <a:off x="3914280" y="273600"/>
                    <a:ext cx="186840" cy="316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 flipH="1">
                    <a:off x="3665160" y="337320"/>
                    <a:ext cx="690120" cy="185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H="1">
                    <a:off x="3213720" y="270000"/>
                    <a:ext cx="700200" cy="17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H="1" flipV="1">
                    <a:off x="2999160" y="275400"/>
                    <a:ext cx="21996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 flipH="1" flipV="1">
                    <a:off x="2577960" y="336960"/>
                    <a:ext cx="181800" cy="186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 flipH="1">
                    <a:off x="2327760" y="276840"/>
                    <a:ext cx="672480" cy="31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 flipH="1" flipV="1">
                    <a:off x="2142000" y="407520"/>
                    <a:ext cx="184320" cy="180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H="1">
                    <a:off x="1890000" y="338400"/>
                    <a:ext cx="688320" cy="315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flipV="1">
                    <a:off x="2142360" y="204840"/>
                    <a:ext cx="1314720" cy="198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flipV="1">
                    <a:off x="1902240" y="450360"/>
                    <a:ext cx="1312560" cy="203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3212640" y="449280"/>
                    <a:ext cx="1316520" cy="20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3462840" y="203040"/>
                    <a:ext cx="1306800" cy="20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7" name=""/>
                <p:cNvSpPr/>
                <p:nvPr/>
              </p:nvSpPr>
              <p:spPr>
                <a:xfrm flipV="1">
                  <a:off x="4102560" y="338760"/>
                  <a:ext cx="250920" cy="251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638280" y="1449000"/>
                <a:ext cx="2890080" cy="454320"/>
                <a:chOff x="638280" y="1449000"/>
                <a:chExt cx="2890080" cy="454320"/>
              </a:xfrm>
            </p:grpSpPr>
            <p:sp>
              <p:nvSpPr>
                <p:cNvPr id="2389" name=""/>
                <p:cNvSpPr/>
                <p:nvPr/>
              </p:nvSpPr>
              <p:spPr>
                <a:xfrm flipV="1">
                  <a:off x="3279600" y="1652760"/>
                  <a:ext cx="247680" cy="24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V="1">
                  <a:off x="2419560" y="1519920"/>
                  <a:ext cx="246600" cy="246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V="1">
                  <a:off x="1960920" y="1452600"/>
                  <a:ext cx="243360" cy="24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1958400" y="1695960"/>
                  <a:ext cx="1320840" cy="20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2208240" y="1450800"/>
                  <a:ext cx="2059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3106080" y="1588320"/>
                  <a:ext cx="175680" cy="313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V="1">
                  <a:off x="2857320" y="1653480"/>
                  <a:ext cx="666720" cy="183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 flipV="1">
                  <a:off x="2666520" y="1521000"/>
                  <a:ext cx="19116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>
                  <a:off x="2414160" y="1587600"/>
                  <a:ext cx="690120" cy="18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>
                  <a:off x="1959840" y="1520280"/>
                  <a:ext cx="70776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2211840" y="1449720"/>
                  <a:ext cx="13165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V="1">
                  <a:off x="2858400" y="1587600"/>
                  <a:ext cx="246600" cy="24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V="1">
                  <a:off x="1505880" y="1517400"/>
                  <a:ext cx="246600" cy="248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flipV="1">
                  <a:off x="1081800" y="1581840"/>
                  <a:ext cx="248760" cy="250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V="1">
                  <a:off x="645840" y="1695960"/>
                  <a:ext cx="1312560" cy="205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V="1">
                  <a:off x="889200" y="1449360"/>
                  <a:ext cx="1325520" cy="201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>
                  <a:off x="1503720" y="1449000"/>
                  <a:ext cx="70596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H="1" flipV="1">
                  <a:off x="1750320" y="1519920"/>
                  <a:ext cx="207000" cy="17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 flipV="1">
                  <a:off x="1328040" y="1581840"/>
                  <a:ext cx="175320" cy="18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>
                  <a:off x="1083600" y="1523520"/>
                  <a:ext cx="661680" cy="31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889560" y="1651320"/>
                  <a:ext cx="189720" cy="181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>
                  <a:off x="640800" y="1584000"/>
                  <a:ext cx="68508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638280" y="1652400"/>
                  <a:ext cx="250920" cy="250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2" name=""/>
            <p:cNvGrpSpPr/>
            <p:nvPr/>
          </p:nvGrpSpPr>
          <p:grpSpPr>
            <a:xfrm>
              <a:off x="647640" y="404640"/>
              <a:ext cx="4130640" cy="1495440"/>
              <a:chOff x="647640" y="404640"/>
              <a:chExt cx="4130640" cy="1495440"/>
            </a:xfrm>
          </p:grpSpPr>
          <p:sp>
            <p:nvSpPr>
              <p:cNvPr id="2413" name=""/>
              <p:cNvSpPr/>
              <p:nvPr/>
            </p:nvSpPr>
            <p:spPr>
              <a:xfrm flipV="1">
                <a:off x="3280680" y="404640"/>
                <a:ext cx="149760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647640" y="404640"/>
                <a:ext cx="1493280" cy="149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V="1">
              <a:off x="1963800" y="201240"/>
              <a:ext cx="1498680" cy="1490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6" name=""/>
            <p:cNvGrpSpPr/>
            <p:nvPr/>
          </p:nvGrpSpPr>
          <p:grpSpPr>
            <a:xfrm>
              <a:off x="646200" y="1899720"/>
              <a:ext cx="2641680" cy="924120"/>
              <a:chOff x="646200" y="1899720"/>
              <a:chExt cx="2641680" cy="924120"/>
            </a:xfrm>
          </p:grpSpPr>
          <p:sp>
            <p:nvSpPr>
              <p:cNvPr id="2417" name=""/>
              <p:cNvSpPr/>
              <p:nvPr/>
            </p:nvSpPr>
            <p:spPr>
              <a:xfrm flipV="1">
                <a:off x="2425320" y="2823120"/>
                <a:ext cx="8607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646200" y="1899720"/>
                <a:ext cx="2641320" cy="3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46200" y="2139120"/>
                <a:ext cx="26409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423160" y="2600280"/>
                <a:ext cx="86364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646200" y="2386440"/>
                <a:ext cx="8643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425320" y="2379960"/>
                <a:ext cx="8625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46920" y="2603520"/>
                <a:ext cx="8618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48000" y="2822040"/>
                <a:ext cx="8596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3286080" y="658440"/>
              <a:ext cx="1495440" cy="2161800"/>
              <a:chOff x="3286080" y="658440"/>
              <a:chExt cx="1495440" cy="2161800"/>
            </a:xfrm>
          </p:grpSpPr>
          <p:sp>
            <p:nvSpPr>
              <p:cNvPr id="2426" name=""/>
              <p:cNvSpPr/>
              <p:nvPr/>
            </p:nvSpPr>
            <p:spPr>
              <a:xfrm flipV="1">
                <a:off x="3286080" y="1336680"/>
                <a:ext cx="1495440" cy="1483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3289320" y="658440"/>
                <a:ext cx="1491120" cy="148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3287880" y="906120"/>
                <a:ext cx="1492200" cy="1472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3286800" y="1104480"/>
                <a:ext cx="1493280" cy="149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0" name=""/>
            <p:cNvGrpSpPr/>
            <p:nvPr/>
          </p:nvGrpSpPr>
          <p:grpSpPr>
            <a:xfrm>
              <a:off x="1035000" y="1008000"/>
              <a:ext cx="3392640" cy="1427400"/>
              <a:chOff x="1035000" y="1008000"/>
              <a:chExt cx="3392640" cy="1427400"/>
            </a:xfrm>
          </p:grpSpPr>
          <p:grpSp>
            <p:nvGrpSpPr>
              <p:cNvPr id="2431" name=""/>
              <p:cNvGrpSpPr/>
              <p:nvPr/>
            </p:nvGrpSpPr>
            <p:grpSpPr>
              <a:xfrm>
                <a:off x="1035000" y="1009440"/>
                <a:ext cx="748800" cy="1425960"/>
                <a:chOff x="1035000" y="1009440"/>
                <a:chExt cx="748800" cy="142596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1035000" y="175572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1532520" y="125820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1783800" y="100944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1285560" y="150840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3677760" y="1008000"/>
                <a:ext cx="749880" cy="1425960"/>
                <a:chOff x="3677760" y="1008000"/>
                <a:chExt cx="749880" cy="142596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3677760" y="17542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4176360" y="1256760"/>
                  <a:ext cx="0" cy="68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4427640" y="1008000"/>
                  <a:ext cx="0" cy="67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3926160" y="1505880"/>
                  <a:ext cx="0" cy="679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1" name=""/>
            <p:cNvGrpSpPr/>
            <p:nvPr/>
          </p:nvGrpSpPr>
          <p:grpSpPr>
            <a:xfrm>
              <a:off x="898560" y="660240"/>
              <a:ext cx="3633840" cy="1092240"/>
              <a:chOff x="898560" y="660240"/>
              <a:chExt cx="3633840" cy="1092240"/>
            </a:xfrm>
          </p:grpSpPr>
          <p:grpSp>
            <p:nvGrpSpPr>
              <p:cNvPr id="2442" name=""/>
              <p:cNvGrpSpPr/>
              <p:nvPr/>
            </p:nvGrpSpPr>
            <p:grpSpPr>
              <a:xfrm>
                <a:off x="898560" y="662040"/>
                <a:ext cx="993240" cy="1090440"/>
                <a:chOff x="898560" y="662040"/>
                <a:chExt cx="993240" cy="1090440"/>
              </a:xfrm>
            </p:grpSpPr>
            <p:grpSp>
              <p:nvGrpSpPr>
                <p:cNvPr id="2443" name=""/>
                <p:cNvGrpSpPr/>
                <p:nvPr/>
              </p:nvGrpSpPr>
              <p:grpSpPr>
                <a:xfrm>
                  <a:off x="898560" y="1406520"/>
                  <a:ext cx="243720" cy="345960"/>
                  <a:chOff x="898560" y="1406520"/>
                  <a:chExt cx="243720" cy="345960"/>
                </a:xfrm>
              </p:grpSpPr>
              <p:sp>
                <p:nvSpPr>
                  <p:cNvPr id="2444" name=""/>
                  <p:cNvSpPr/>
                  <p:nvPr/>
                </p:nvSpPr>
                <p:spPr>
                  <a:xfrm>
                    <a:off x="898560" y="16520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 flipH="1">
                    <a:off x="1034640" y="14065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6" name=""/>
                <p:cNvGrpSpPr/>
                <p:nvPr/>
              </p:nvGrpSpPr>
              <p:grpSpPr>
                <a:xfrm>
                  <a:off x="1148400" y="1157040"/>
                  <a:ext cx="244800" cy="345960"/>
                  <a:chOff x="1148400" y="1157040"/>
                  <a:chExt cx="244800" cy="345960"/>
                </a:xfrm>
              </p:grpSpPr>
              <p:sp>
                <p:nvSpPr>
                  <p:cNvPr id="2447" name=""/>
                  <p:cNvSpPr/>
                  <p:nvPr/>
                </p:nvSpPr>
                <p:spPr>
                  <a:xfrm>
                    <a:off x="1148400" y="1402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 flipH="1">
                    <a:off x="1285200" y="1157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9" name=""/>
                <p:cNvGrpSpPr/>
                <p:nvPr/>
              </p:nvGrpSpPr>
              <p:grpSpPr>
                <a:xfrm>
                  <a:off x="1396080" y="911520"/>
                  <a:ext cx="244800" cy="345960"/>
                  <a:chOff x="1396080" y="911520"/>
                  <a:chExt cx="244800" cy="345960"/>
                </a:xfrm>
              </p:grpSpPr>
              <p:sp>
                <p:nvSpPr>
                  <p:cNvPr id="2450" name=""/>
                  <p:cNvSpPr/>
                  <p:nvPr/>
                </p:nvSpPr>
                <p:spPr>
                  <a:xfrm>
                    <a:off x="1396080" y="11570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 flipH="1">
                    <a:off x="1532880" y="9115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2" name=""/>
                <p:cNvGrpSpPr/>
                <p:nvPr/>
              </p:nvGrpSpPr>
              <p:grpSpPr>
                <a:xfrm>
                  <a:off x="1647000" y="662040"/>
                  <a:ext cx="244800" cy="345960"/>
                  <a:chOff x="1647000" y="662040"/>
                  <a:chExt cx="244800" cy="345960"/>
                </a:xfrm>
              </p:grpSpPr>
              <p:sp>
                <p:nvSpPr>
                  <p:cNvPr id="2453" name=""/>
                  <p:cNvSpPr/>
                  <p:nvPr/>
                </p:nvSpPr>
                <p:spPr>
                  <a:xfrm>
                    <a:off x="1647000" y="9075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 flipH="1">
                    <a:off x="1783800" y="6620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5" name=""/>
              <p:cNvGrpSpPr/>
              <p:nvPr/>
            </p:nvGrpSpPr>
            <p:grpSpPr>
              <a:xfrm>
                <a:off x="3539160" y="660240"/>
                <a:ext cx="993240" cy="1090440"/>
                <a:chOff x="3539160" y="660240"/>
                <a:chExt cx="993240" cy="1090440"/>
              </a:xfrm>
            </p:grpSpPr>
            <p:grpSp>
              <p:nvGrpSpPr>
                <p:cNvPr id="2456" name=""/>
                <p:cNvGrpSpPr/>
                <p:nvPr/>
              </p:nvGrpSpPr>
              <p:grpSpPr>
                <a:xfrm>
                  <a:off x="3539160" y="1404720"/>
                  <a:ext cx="243720" cy="345960"/>
                  <a:chOff x="3539160" y="1404720"/>
                  <a:chExt cx="243720" cy="34596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>
                    <a:off x="3539160" y="1650240"/>
                    <a:ext cx="13536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>
                    <a:off x="3675240" y="1404720"/>
                    <a:ext cx="10764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3789000" y="1155240"/>
                  <a:ext cx="244800" cy="345960"/>
                  <a:chOff x="3789000" y="1155240"/>
                  <a:chExt cx="244800" cy="3459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>
                    <a:off x="3789000" y="1400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>
                    <a:off x="3925800" y="1155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4036680" y="909720"/>
                  <a:ext cx="244800" cy="345960"/>
                  <a:chOff x="4036680" y="909720"/>
                  <a:chExt cx="244800" cy="34596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>
                    <a:off x="4036680" y="115524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>
                    <a:off x="4173480" y="90972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4287600" y="660240"/>
                  <a:ext cx="244800" cy="345960"/>
                  <a:chOff x="4287600" y="660240"/>
                  <a:chExt cx="244800" cy="34596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>
                    <a:off x="4287600" y="905760"/>
                    <a:ext cx="135720" cy="99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>
                    <a:off x="4424400" y="660240"/>
                    <a:ext cx="108000" cy="345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8" name=""/>
            <p:cNvGrpSpPr/>
            <p:nvPr/>
          </p:nvGrpSpPr>
          <p:grpSpPr>
            <a:xfrm>
              <a:off x="2120760" y="450720"/>
              <a:ext cx="1206000" cy="996840"/>
              <a:chOff x="2120760" y="450720"/>
              <a:chExt cx="1206000" cy="996840"/>
            </a:xfrm>
          </p:grpSpPr>
          <p:sp>
            <p:nvSpPr>
              <p:cNvPr id="2469" name=""/>
              <p:cNvSpPr/>
              <p:nvPr/>
            </p:nvSpPr>
            <p:spPr>
              <a:xfrm flipH="1" flipV="1">
                <a:off x="2459520" y="1198800"/>
                <a:ext cx="120960" cy="146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2209320" y="1344600"/>
                <a:ext cx="37296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2121480" y="1201680"/>
                <a:ext cx="33444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120760" y="1346400"/>
                <a:ext cx="8748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3" name=""/>
              <p:cNvGrpSpPr/>
              <p:nvPr/>
            </p:nvGrpSpPr>
            <p:grpSpPr>
              <a:xfrm>
                <a:off x="2371320" y="948600"/>
                <a:ext cx="463680" cy="249120"/>
                <a:chOff x="2371320" y="948600"/>
                <a:chExt cx="463680" cy="249120"/>
              </a:xfrm>
            </p:grpSpPr>
            <p:sp>
              <p:nvSpPr>
                <p:cNvPr id="2474" name=""/>
                <p:cNvSpPr/>
                <p:nvPr/>
              </p:nvSpPr>
              <p:spPr>
                <a:xfrm flipH="1" flipV="1">
                  <a:off x="2712240" y="948600"/>
                  <a:ext cx="120960" cy="14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>
                  <a:off x="2461680" y="1094760"/>
                  <a:ext cx="373320" cy="102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flipV="1">
                  <a:off x="2371320" y="951480"/>
                  <a:ext cx="337680" cy="144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2373480" y="1096560"/>
                  <a:ext cx="87480" cy="10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8" name=""/>
              <p:cNvSpPr/>
              <p:nvPr/>
            </p:nvSpPr>
            <p:spPr>
              <a:xfrm flipH="1" flipV="1">
                <a:off x="2962080" y="698760"/>
                <a:ext cx="118800" cy="147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2711880" y="845280"/>
                <a:ext cx="37008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2626560" y="702000"/>
                <a:ext cx="33192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624400" y="847080"/>
                <a:ext cx="86400" cy="1004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flipV="1">
                <a:off x="3211920" y="450720"/>
                <a:ext cx="114480" cy="144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2961360" y="596520"/>
                <a:ext cx="365400" cy="1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2875320" y="453600"/>
                <a:ext cx="333360" cy="144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876400" y="599400"/>
                <a:ext cx="84240" cy="99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6" name=""/>
            <p:cNvSpPr/>
            <p:nvPr/>
          </p:nvSpPr>
          <p:spPr>
            <a:xfrm>
              <a:off x="1512720" y="2139840"/>
              <a:ext cx="1775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7" name=""/>
            <p:cNvGrpSpPr/>
            <p:nvPr/>
          </p:nvGrpSpPr>
          <p:grpSpPr>
            <a:xfrm>
              <a:off x="1042920" y="598320"/>
              <a:ext cx="3369960" cy="916920"/>
              <a:chOff x="1042920" y="598320"/>
              <a:chExt cx="3369960" cy="916920"/>
            </a:xfrm>
          </p:grpSpPr>
          <p:sp>
            <p:nvSpPr>
              <p:cNvPr id="2488" name=""/>
              <p:cNvSpPr/>
              <p:nvPr/>
            </p:nvSpPr>
            <p:spPr>
              <a:xfrm flipH="1" flipV="1">
                <a:off x="2581560" y="1347120"/>
                <a:ext cx="1079280" cy="16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1537200" y="848160"/>
                <a:ext cx="1084320" cy="15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288440" y="1093680"/>
                <a:ext cx="1082880" cy="16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1784160" y="599040"/>
                <a:ext cx="1086840" cy="15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1042920" y="1343520"/>
                <a:ext cx="1080720" cy="15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flipV="1">
                <a:off x="3078360" y="844200"/>
                <a:ext cx="1085760" cy="171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flipV="1">
                <a:off x="2833200" y="1095840"/>
                <a:ext cx="108432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3330000" y="598320"/>
                <a:ext cx="1082880" cy="16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836640" y="236160"/>
              <a:ext cx="3732120" cy="1638360"/>
              <a:chOff x="836640" y="236160"/>
              <a:chExt cx="3732120" cy="1638360"/>
            </a:xfrm>
          </p:grpSpPr>
          <p:sp>
            <p:nvSpPr>
              <p:cNvPr id="2497" name=""/>
              <p:cNvSpPr/>
              <p:nvPr/>
            </p:nvSpPr>
            <p:spPr>
              <a:xfrm flipV="1">
                <a:off x="2198520" y="236160"/>
                <a:ext cx="14893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2424240" y="270720"/>
                <a:ext cx="149400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2864160" y="341280"/>
                <a:ext cx="1487520" cy="149580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070440" y="375120"/>
                <a:ext cx="1498320" cy="14968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836640" y="372240"/>
                <a:ext cx="1528560" cy="150228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1085760" y="339120"/>
                <a:ext cx="1492560" cy="14943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1510920" y="269640"/>
                <a:ext cx="149580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1726200" y="236160"/>
                <a:ext cx="1519200" cy="15001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1292400" y="308880"/>
                <a:ext cx="1499760" cy="149472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2641680" y="302400"/>
                <a:ext cx="1494000" cy="1497960"/>
              </a:xfrm>
              <a:prstGeom prst="line">
                <a:avLst/>
              </a:prstGeom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7" name=""/>
          <p:cNvSpPr/>
          <p:nvPr/>
        </p:nvSpPr>
        <p:spPr>
          <a:xfrm>
            <a:off x="6854760" y="4438800"/>
            <a:ext cx="192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03:07Z</dcterms:created>
  <dc:creator>Jean-Pierre Muzeau et Annelise Chopin</dc:creator>
  <dc:description/>
  <dc:language>en-US</dc:language>
  <cp:lastModifiedBy>Muzeau Jean-Pierre</cp:lastModifiedBy>
  <dcterms:modified xsi:type="dcterms:W3CDTF">2003-10-23T07:19:21Z</dcterms:modified>
  <cp:revision>73</cp:revision>
  <dc:subject/>
  <dc:title>Leçon sur les tendeurs de lisse</dc:title>
</cp:coreProperties>
</file>