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455-69F5-4203-99F9-BBC378FA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796-1D61-43DE-AEE4-7290CCD3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D0B-39AA-4DF4-A995-488C177B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334-2171-465E-97F2-9CA8629F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768-8244-4099-A7A9-EE33C44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20753-0A51-4199-8E64-3472906B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27CE-2986-42A9-A855-DB3D201D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86A2E-E7D1-4949-93E2-1DA3C03B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A522F-2B4C-4884-9CD4-FB7BDD6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C51AD-9D7D-4F38-B440-D2057CCD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1A8-B74A-499B-AA6C-3E1F9C64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FDE5-C750-44D0-B109-9058D7BD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59804-1C79-4379-9D9D-4E0B002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011B4-3582-42D2-99E2-614C1332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EA205-33B0-44B0-B579-5BBFCE79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20344-CDF6-4DF5-B6B5-0B84B08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A95BE-7657-4628-8C5A-C8F28511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13A92-6782-42A2-9733-77FF933F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D47-7F56-476E-9616-047E4C5D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749-32A7-4E7E-9215-5E5DE60B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400-0167-4B19-B298-C785817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325-B6BF-43EF-AEBC-19C5381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B69-5FE0-4BA0-8CCD-748CB43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E38-C098-4204-8589-3F4BF35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72A82-5658-42EB-8516-F849B48FAB6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8FEE565-4E87-4916-8661-8B14CAEBF8A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B63ED-C1DF-4F65-8E88-74341C4AE9F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2720B-2B12-471E-A0DD-43D9F681455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81DADC9C-8F1E-4F89-BD3E-1973D673EEA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51B92-9E85-44A3-A567-86D234E9875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7D26B-B450-491D-A4FC-FC18A15B47F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188D2306-E18D-4606-92B2-5887CFCFF115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DBC60-7DBB-4B43-A717-F4A357C2C712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685A5-5C48-4A1D-B013-9AEC989D3D5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C308788-037B-447F-8DDA-D2191F1A56A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1FB93-F766-428F-8111-DA1D5E09D88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40BEA-ADF1-4121-AEF6-0444BC61EDE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1AA3BA1-1BBF-48E4-AF1B-BF011EE5299D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E1EA5-F665-4208-81BB-A120DF77071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B4A3A-262D-4D63-8E0E-3035E3DE23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4DA387E-388E-4213-9D91-C12F196CD7A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5A74C-505D-4C8A-961E-8F7EC575896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33519-AB8B-4309-9F91-EE10855C154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0E618C1C-E83A-4163-AC64-970C8549F099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8FE16-FACC-47C2-9917-D27A65B482E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FC96D-FE6D-4C00-9D22-24ED4B32724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E58153CC-FAC9-49BD-8C5F-D18E95BFA7C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A65C-B45D-49C9-AC93-6B46A2BEFF4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658C0-8CBF-429D-BC00-9378CFC249C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5234C37F-8629-4F77-B536-8D4DEBA8D4A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6CE4A-F251-46FE-80E7-E6026DE43527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F9FDB-3F3A-4ACE-991B-F2FD9AB862B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B0F1C817-607A-4272-A4C5-3767BC6F6C5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34CC7-CFD2-4A4A-B72B-5672F721333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9DD18-048F-419F-B829-EC3CC98E217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1636CD2C-3394-4053-9061-12CAC4FBE38B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76ACB-002E-4DE4-989E-7BEABBCFF51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81987-1FFC-4FE2-B596-D733BC6A16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80499331-E3E8-4044-9F0B-88FAB125F43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B30EC-FFDE-4935-81BE-A23314D8684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DC7C6-5CA7-4396-B380-4B970465A7D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703320"/>
            <a:ext cx="43704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2 Description d’une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662120" y="903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à coins arrondis 10"/>
          <p:cNvSpPr/>
          <p:nvPr/>
        </p:nvSpPr>
        <p:spPr>
          <a:xfrm>
            <a:off x="2181240" y="1941480"/>
            <a:ext cx="2517840" cy="163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l’entreprise met à la disposition de l’opérateur pour effectuer le travail deman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à coins arrondis 15"/>
          <p:cNvSpPr/>
          <p:nvPr/>
        </p:nvSpPr>
        <p:spPr>
          <a:xfrm>
            <a:off x="2093760" y="5033880"/>
            <a:ext cx="251784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à coins arrondis 16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à coins arrondis 20"/>
          <p:cNvSpPr/>
          <p:nvPr/>
        </p:nvSpPr>
        <p:spPr>
          <a:xfrm>
            <a:off x="6568920" y="3897360"/>
            <a:ext cx="147816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3440" y="189000"/>
            <a:ext cx="7756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673280" y="80028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5"/>
          <p:cNvGrpSpPr/>
          <p:nvPr/>
        </p:nvGrpSpPr>
        <p:grpSpPr>
          <a:xfrm>
            <a:off x="317520" y="1222200"/>
            <a:ext cx="4479840" cy="3886200"/>
            <a:chOff x="317520" y="1222200"/>
            <a:chExt cx="4479840" cy="3886200"/>
          </a:xfrm>
        </p:grpSpPr>
        <p:sp>
          <p:nvSpPr>
            <p:cNvPr id="662" name="Text Box 2"/>
            <p:cNvSpPr/>
            <p:nvPr/>
          </p:nvSpPr>
          <p:spPr>
            <a:xfrm rot="16200000">
              <a:off x="-787320" y="29700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DETERMIN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4"/>
            <p:cNvGrpSpPr/>
            <p:nvPr/>
          </p:nvGrpSpPr>
          <p:grpSpPr>
            <a:xfrm>
              <a:off x="919080" y="1222200"/>
              <a:ext cx="3878280" cy="3886200"/>
              <a:chOff x="919080" y="1222200"/>
              <a:chExt cx="3878280" cy="3886200"/>
            </a:xfrm>
          </p:grpSpPr>
          <p:grpSp>
            <p:nvGrpSpPr>
              <p:cNvPr id="664" name="Group 3"/>
              <p:cNvGrpSpPr/>
              <p:nvPr/>
            </p:nvGrpSpPr>
            <p:grpSpPr>
              <a:xfrm>
                <a:off x="919080" y="1222200"/>
                <a:ext cx="3733920" cy="3886200"/>
                <a:chOff x="919080" y="1222200"/>
                <a:chExt cx="3733920" cy="3886200"/>
              </a:xfrm>
            </p:grpSpPr>
            <p:sp>
              <p:nvSpPr>
                <p:cNvPr id="665" name="AutoShape 4"/>
                <p:cNvSpPr/>
                <p:nvPr/>
              </p:nvSpPr>
              <p:spPr>
                <a:xfrm>
                  <a:off x="919080" y="1603440"/>
                  <a:ext cx="3733920" cy="350496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5"/>
                <p:cNvSpPr/>
                <p:nvPr/>
              </p:nvSpPr>
              <p:spPr>
                <a:xfrm>
                  <a:off x="1833480" y="12222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8"/>
              <p:cNvSpPr/>
              <p:nvPr/>
            </p:nvSpPr>
            <p:spPr>
              <a:xfrm>
                <a:off x="1063800" y="1778040"/>
                <a:ext cx="37335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ge, taille, sexe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l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Form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ncienneté dans le mét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ncienneté dans l’entrepri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Objectifs personn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3"/>
          <p:cNvGrpSpPr/>
          <p:nvPr/>
        </p:nvGrpSpPr>
        <p:grpSpPr>
          <a:xfrm>
            <a:off x="5040360" y="1222200"/>
            <a:ext cx="3733920" cy="3886200"/>
            <a:chOff x="5040360" y="1222200"/>
            <a:chExt cx="3733920" cy="3886200"/>
          </a:xfrm>
        </p:grpSpPr>
        <p:sp>
          <p:nvSpPr>
            <p:cNvPr id="669" name="AutoShape 4"/>
            <p:cNvSpPr/>
            <p:nvPr/>
          </p:nvSpPr>
          <p:spPr>
            <a:xfrm>
              <a:off x="5040360" y="1603440"/>
              <a:ext cx="3733920" cy="35049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5"/>
            <p:cNvSpPr/>
            <p:nvPr/>
          </p:nvSpPr>
          <p:spPr>
            <a:xfrm>
              <a:off x="5813640" y="1222200"/>
              <a:ext cx="22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376092"/>
                  </a:solidFill>
                  <a:latin typeface="Arial"/>
                  <a:ea typeface="Tahoma"/>
                </a:rPr>
                <a:t>ENTRE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 Box 8"/>
          <p:cNvSpPr/>
          <p:nvPr/>
        </p:nvSpPr>
        <p:spPr>
          <a:xfrm>
            <a:off x="5184720" y="1778040"/>
            <a:ext cx="3733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Équi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ut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rganisation des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rganisation du temps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mbianc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Bouton d’action : Suivant 1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4880" y="189000"/>
            <a:ext cx="7754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1746360" y="944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à coins arrondis 10"/>
          <p:cNvSpPr/>
          <p:nvPr/>
        </p:nvSpPr>
        <p:spPr>
          <a:xfrm>
            <a:off x="2181240" y="1941480"/>
            <a:ext cx="2517840" cy="163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l’entreprise met à la disposition de l’opérateur pour effectuer le travail deman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à coins arrondis 20"/>
          <p:cNvSpPr/>
          <p:nvPr/>
        </p:nvSpPr>
        <p:spPr>
          <a:xfrm>
            <a:off x="6513480" y="3911760"/>
            <a:ext cx="153360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à coins arrondis 12"/>
          <p:cNvSpPr/>
          <p:nvPr/>
        </p:nvSpPr>
        <p:spPr>
          <a:xfrm>
            <a:off x="2063880" y="5087880"/>
            <a:ext cx="251748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séquences du travail effect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à coins arrondis 14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séquences du travail effect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Bouton d’action : Suivant 1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6240" y="189000"/>
            <a:ext cx="7673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1612800" y="8874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’eff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439560" y="1441440"/>
          <a:ext cx="4992840" cy="4611600"/>
        </p:xfrm>
        <a:graphic>
          <a:graphicData uri="http://schemas.openxmlformats.org/drawingml/2006/table">
            <a:tbl>
              <a:tblPr/>
              <a:tblGrid>
                <a:gridCol w="1757520"/>
                <a:gridCol w="32353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FF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ur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Posi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Relations sociales enrichiss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Reconnaissance individu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Pro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Acquisition de compét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Néga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t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Dé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Mal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l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5451480" y="1441440"/>
          <a:ext cx="3460680" cy="466092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ur l’ENTRE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ugmentation du chiffre d’aff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mélioration de l’image de mar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mbiance de travail stimu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Qualité de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ugmentation de clientè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Malfaç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Absentéis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Désorganisation et coût liés aux accidents du trav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Perte de clientè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Mauvaise image de marqu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92240" y="189000"/>
            <a:ext cx="7727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1662120" y="938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91" name="Ellipse 9"/>
          <p:cNvSpPr/>
          <p:nvPr/>
        </p:nvSpPr>
        <p:spPr>
          <a:xfrm>
            <a:off x="2968560" y="3598920"/>
            <a:ext cx="3487680" cy="1504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12"/>
          <p:cNvSpPr/>
          <p:nvPr/>
        </p:nvSpPr>
        <p:spPr>
          <a:xfrm>
            <a:off x="6513480" y="3911760"/>
            <a:ext cx="153360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Bouton d’action : Suivant 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2755800" y="1590840"/>
            <a:ext cx="5695920" cy="43909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795240" y="1066680"/>
            <a:ext cx="787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 l’observation et le questionnement , recueillir le maximum d’informations su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203040" y="1881360"/>
            <a:ext cx="249732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poste de travail (machines, matériels, matière), nature et caractér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899600" y="1908000"/>
            <a:ext cx="18176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environn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2658960" y="4230720"/>
            <a:ext cx="20257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732360" y="2635200"/>
            <a:ext cx="226548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travail prescri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(ce que l’entrepris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lui demande de f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387360" y="4835520"/>
            <a:ext cx="20034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travail réel : le mode opératoire, les différentes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889440" y="5380200"/>
            <a:ext cx="27511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activités : comment il fait son travail, les gestes, les pos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Bouton d’action : Suivant 1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655560" y="127944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Schéma d’impl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341360" y="2251080"/>
            <a:ext cx="35053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Déplacements 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398760" y="5165640"/>
            <a:ext cx="358164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s dysfonction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2027160" y="322272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Organisation d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2332080" y="370836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Co-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2712960" y="4194000"/>
            <a:ext cx="335304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Ambianc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094200" y="4680000"/>
            <a:ext cx="394308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Variations d’activités dans l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703680" y="5651640"/>
            <a:ext cx="450216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s récupérations de dysfonction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4248000" y="613728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 travail pres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960480" y="176544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Flux mat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1646280" y="2736720"/>
            <a:ext cx="47959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Relation avec les autres situations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Bouton d’action : Suivant 1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60640" y="189000"/>
            <a:ext cx="7659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3820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 premier outil de questionnement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 Q O Q C C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e 48"/>
          <p:cNvGrpSpPr/>
          <p:nvPr/>
        </p:nvGrpSpPr>
        <p:grpSpPr>
          <a:xfrm>
            <a:off x="600120" y="1424160"/>
            <a:ext cx="2347920" cy="1767240"/>
            <a:chOff x="600120" y="1424160"/>
            <a:chExt cx="2347920" cy="1767240"/>
          </a:xfrm>
        </p:grpSpPr>
        <p:sp>
          <p:nvSpPr>
            <p:cNvPr id="563" name="Text Box 1030"/>
            <p:cNvSpPr/>
            <p:nvPr/>
          </p:nvSpPr>
          <p:spPr>
            <a:xfrm>
              <a:off x="702720" y="1506600"/>
              <a:ext cx="2245320" cy="1684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INDIVIDU –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âge, sex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physiqu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qualif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formation, expéri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rcours 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Rectangle 30" descr=""/>
            <p:cNvPicPr/>
            <p:nvPr/>
          </p:nvPicPr>
          <p:blipFill>
            <a:blip r:embed="rId1"/>
            <a:stretch/>
          </p:blipFill>
          <p:spPr>
            <a:xfrm>
              <a:off x="600120" y="1424160"/>
              <a:ext cx="586080" cy="63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Rectangle à coins arrondis 36"/>
          <p:cNvSpPr/>
          <p:nvPr/>
        </p:nvSpPr>
        <p:spPr>
          <a:xfrm>
            <a:off x="3738600" y="3444840"/>
            <a:ext cx="2114640" cy="123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49"/>
          <p:cNvGrpSpPr/>
          <p:nvPr/>
        </p:nvGrpSpPr>
        <p:grpSpPr>
          <a:xfrm>
            <a:off x="268200" y="3333600"/>
            <a:ext cx="2782800" cy="1586160"/>
            <a:chOff x="268200" y="3333600"/>
            <a:chExt cx="2782800" cy="1586160"/>
          </a:xfrm>
        </p:grpSpPr>
        <p:sp>
          <p:nvSpPr>
            <p:cNvPr id="567" name="Text Box 1030"/>
            <p:cNvSpPr/>
            <p:nvPr/>
          </p:nvSpPr>
          <p:spPr>
            <a:xfrm>
              <a:off x="369000" y="3417480"/>
              <a:ext cx="2682000" cy="15022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o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BJE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travail rée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de opératoir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xigences : qualité, quantité,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roduit fini : caractéris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Rectangle 38" descr=""/>
            <p:cNvPicPr/>
            <p:nvPr/>
          </p:nvPicPr>
          <p:blipFill>
            <a:blip r:embed="rId2"/>
            <a:stretch/>
          </p:blipFill>
          <p:spPr>
            <a:xfrm>
              <a:off x="268200" y="3333600"/>
              <a:ext cx="590040" cy="62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e 50"/>
          <p:cNvGrpSpPr/>
          <p:nvPr/>
        </p:nvGrpSpPr>
        <p:grpSpPr>
          <a:xfrm>
            <a:off x="635040" y="5119560"/>
            <a:ext cx="2784600" cy="1951200"/>
            <a:chOff x="635040" y="5119560"/>
            <a:chExt cx="2784600" cy="1951200"/>
          </a:xfrm>
        </p:grpSpPr>
        <p:sp>
          <p:nvSpPr>
            <p:cNvPr id="570" name="Text Box 1030"/>
            <p:cNvSpPr/>
            <p:nvPr/>
          </p:nvSpPr>
          <p:spPr>
            <a:xfrm>
              <a:off x="736560" y="5203440"/>
              <a:ext cx="2683080" cy="186732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ù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ENVIRONNEMENT E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mbiances : bruit, éclairag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circulation, de stockag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du bâtiment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isqu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Rectangle 40" descr=""/>
            <p:cNvPicPr/>
            <p:nvPr/>
          </p:nvPicPr>
          <p:blipFill>
            <a:blip r:embed="rId3"/>
            <a:stretch/>
          </p:blipFill>
          <p:spPr>
            <a:xfrm>
              <a:off x="635040" y="5119560"/>
              <a:ext cx="590040" cy="63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Groupe 51"/>
          <p:cNvGrpSpPr/>
          <p:nvPr/>
        </p:nvGrpSpPr>
        <p:grpSpPr>
          <a:xfrm>
            <a:off x="3587760" y="1170000"/>
            <a:ext cx="2276640" cy="2134440"/>
            <a:chOff x="3587760" y="1170000"/>
            <a:chExt cx="2276640" cy="2134440"/>
          </a:xfrm>
        </p:grpSpPr>
        <p:sp>
          <p:nvSpPr>
            <p:cNvPr id="573" name="Text Box 1030"/>
            <p:cNvSpPr/>
            <p:nvPr/>
          </p:nvSpPr>
          <p:spPr>
            <a:xfrm>
              <a:off x="3690720" y="1254600"/>
              <a:ext cx="2173680" cy="204984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and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AMENAGEMENT DU TE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d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ythme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horair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us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urgenc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Rectangle 42" descr=""/>
            <p:cNvPicPr/>
            <p:nvPr/>
          </p:nvPicPr>
          <p:blipFill>
            <a:blip r:embed="rId4"/>
            <a:stretch/>
          </p:blipFill>
          <p:spPr>
            <a:xfrm>
              <a:off x="3587760" y="1170000"/>
              <a:ext cx="585360" cy="6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Groupe 53"/>
          <p:cNvGrpSpPr/>
          <p:nvPr/>
        </p:nvGrpSpPr>
        <p:grpSpPr>
          <a:xfrm>
            <a:off x="6332400" y="1432080"/>
            <a:ext cx="2414880" cy="4168440"/>
            <a:chOff x="6332400" y="1432080"/>
            <a:chExt cx="2414880" cy="4168440"/>
          </a:xfrm>
        </p:grpSpPr>
        <p:sp>
          <p:nvSpPr>
            <p:cNvPr id="576" name="Text Box 1030"/>
            <p:cNvSpPr/>
            <p:nvPr/>
          </p:nvSpPr>
          <p:spPr>
            <a:xfrm>
              <a:off x="6431400" y="1509840"/>
              <a:ext cx="2315880" cy="40906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épartition des tâch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utonomi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ossibilités d’entra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degré technolog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TIERE PREMI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, vari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T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nature, usure, réglag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ocument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yens de commun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logici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RIS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achines, produ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Rectangle 44" descr=""/>
            <p:cNvPicPr/>
            <p:nvPr/>
          </p:nvPicPr>
          <p:blipFill>
            <a:blip r:embed="rId5"/>
            <a:stretch/>
          </p:blipFill>
          <p:spPr>
            <a:xfrm>
              <a:off x="6332400" y="1432080"/>
              <a:ext cx="56988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Groupe 52"/>
          <p:cNvGrpSpPr/>
          <p:nvPr/>
        </p:nvGrpSpPr>
        <p:grpSpPr>
          <a:xfrm>
            <a:off x="6488280" y="5716440"/>
            <a:ext cx="2655720" cy="757800"/>
            <a:chOff x="6488280" y="5716440"/>
            <a:chExt cx="2655720" cy="757800"/>
          </a:xfrm>
        </p:grpSpPr>
        <p:sp>
          <p:nvSpPr>
            <p:cNvPr id="579" name="Text Box 1030"/>
            <p:cNvSpPr/>
            <p:nvPr/>
          </p:nvSpPr>
          <p:spPr>
            <a:xfrm>
              <a:off x="6573600" y="5797440"/>
              <a:ext cx="2570400" cy="676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rquo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TRAVAIL PRESCR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Rectangle 46" descr=""/>
            <p:cNvPicPr/>
            <p:nvPr/>
          </p:nvPicPr>
          <p:blipFill>
            <a:blip r:embed="rId6"/>
            <a:stretch/>
          </p:blipFill>
          <p:spPr>
            <a:xfrm>
              <a:off x="6488280" y="5716440"/>
              <a:ext cx="55728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Groupe 25"/>
          <p:cNvGrpSpPr/>
          <p:nvPr/>
        </p:nvGrpSpPr>
        <p:grpSpPr>
          <a:xfrm>
            <a:off x="3805200" y="5092560"/>
            <a:ext cx="2347920" cy="1040400"/>
            <a:chOff x="3805200" y="5092560"/>
            <a:chExt cx="2347920" cy="1040400"/>
          </a:xfrm>
        </p:grpSpPr>
        <p:sp>
          <p:nvSpPr>
            <p:cNvPr id="582" name="Text Box 1030"/>
            <p:cNvSpPr/>
            <p:nvPr/>
          </p:nvSpPr>
          <p:spPr>
            <a:xfrm>
              <a:off x="3900960" y="5178240"/>
              <a:ext cx="2252160" cy="95472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mbien 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Producti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nombre d’opérateur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Rectangle 27" descr=""/>
            <p:cNvPicPr/>
            <p:nvPr/>
          </p:nvPicPr>
          <p:blipFill>
            <a:blip r:embed="rId7"/>
            <a:stretch/>
          </p:blipFill>
          <p:spPr>
            <a:xfrm>
              <a:off x="3805200" y="5092560"/>
              <a:ext cx="570240" cy="6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Bouton d’action : Suivant 28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8480" y="189000"/>
            <a:ext cx="77515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562040" y="8049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 second outil de questionnement :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.T.A.Ma.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e 48"/>
          <p:cNvGrpSpPr/>
          <p:nvPr/>
        </p:nvGrpSpPr>
        <p:grpSpPr>
          <a:xfrm>
            <a:off x="290520" y="2324160"/>
            <a:ext cx="2347920" cy="1492920"/>
            <a:chOff x="290520" y="2324160"/>
            <a:chExt cx="2347920" cy="1492920"/>
          </a:xfrm>
        </p:grpSpPr>
        <p:sp>
          <p:nvSpPr>
            <p:cNvPr id="588" name="Text Box 1030"/>
            <p:cNvSpPr/>
            <p:nvPr/>
          </p:nvSpPr>
          <p:spPr>
            <a:xfrm>
              <a:off x="318960" y="2410200"/>
              <a:ext cx="2319480" cy="14068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ndivi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âge, sex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physiqu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qualif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formation, expéri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rcours 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Rectangle 30" descr=""/>
            <p:cNvPicPr/>
            <p:nvPr/>
          </p:nvPicPr>
          <p:blipFill>
            <a:blip r:embed="rId1"/>
            <a:stretch/>
          </p:blipFill>
          <p:spPr>
            <a:xfrm>
              <a:off x="290520" y="2324160"/>
              <a:ext cx="4478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Rectangle à coins arrondis 36"/>
          <p:cNvSpPr/>
          <p:nvPr/>
        </p:nvSpPr>
        <p:spPr>
          <a:xfrm>
            <a:off x="3176640" y="3262320"/>
            <a:ext cx="2114640" cy="123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e 49"/>
          <p:cNvGrpSpPr/>
          <p:nvPr/>
        </p:nvGrpSpPr>
        <p:grpSpPr>
          <a:xfrm>
            <a:off x="2857680" y="1308240"/>
            <a:ext cx="2782800" cy="1584720"/>
            <a:chOff x="2857680" y="1308240"/>
            <a:chExt cx="2782800" cy="1584720"/>
          </a:xfrm>
        </p:grpSpPr>
        <p:sp>
          <p:nvSpPr>
            <p:cNvPr id="592" name="Text Box 1030"/>
            <p:cNvSpPr/>
            <p:nvPr/>
          </p:nvSpPr>
          <p:spPr>
            <a:xfrm>
              <a:off x="2945520" y="1390680"/>
              <a:ext cx="2694960" cy="15022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âche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BJE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travail rée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de opératoir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xigences : qualité, quantité,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roduit fini : caractéris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Rectangle 38" descr=""/>
            <p:cNvPicPr/>
            <p:nvPr/>
          </p:nvPicPr>
          <p:blipFill>
            <a:blip r:embed="rId2"/>
            <a:stretch/>
          </p:blipFill>
          <p:spPr>
            <a:xfrm>
              <a:off x="2857680" y="1308240"/>
              <a:ext cx="5515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e 50"/>
          <p:cNvGrpSpPr/>
          <p:nvPr/>
        </p:nvGrpSpPr>
        <p:grpSpPr>
          <a:xfrm>
            <a:off x="168120" y="4853160"/>
            <a:ext cx="2970360" cy="1770120"/>
            <a:chOff x="168120" y="4853160"/>
            <a:chExt cx="2970360" cy="1770120"/>
          </a:xfrm>
        </p:grpSpPr>
        <p:sp>
          <p:nvSpPr>
            <p:cNvPr id="595" name="Text Box 1030"/>
            <p:cNvSpPr/>
            <p:nvPr/>
          </p:nvSpPr>
          <p:spPr>
            <a:xfrm>
              <a:off x="362520" y="4938480"/>
              <a:ext cx="2775960" cy="1684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lieu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ENVIRONNEMENT E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mbiances : bruit, éclairag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circulation, de stockag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du bâtiment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isqu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Rectangle 40" descr=""/>
            <p:cNvPicPr/>
            <p:nvPr/>
          </p:nvPicPr>
          <p:blipFill>
            <a:blip r:embed="rId3"/>
            <a:stretch/>
          </p:blipFill>
          <p:spPr>
            <a:xfrm>
              <a:off x="168120" y="4853160"/>
              <a:ext cx="89676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Groupe 51"/>
          <p:cNvGrpSpPr/>
          <p:nvPr/>
        </p:nvGrpSpPr>
        <p:grpSpPr>
          <a:xfrm>
            <a:off x="5664240" y="3648240"/>
            <a:ext cx="2595600" cy="3039840"/>
            <a:chOff x="5664240" y="3648240"/>
            <a:chExt cx="2595600" cy="3039840"/>
          </a:xfrm>
        </p:grpSpPr>
        <p:sp>
          <p:nvSpPr>
            <p:cNvPr id="598" name="Text Box 1030"/>
            <p:cNvSpPr/>
            <p:nvPr/>
          </p:nvSpPr>
          <p:spPr>
            <a:xfrm>
              <a:off x="5997240" y="3769200"/>
              <a:ext cx="2262600" cy="29188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chines, Matériel, Matière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degré technolog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TIERE PREMI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, vari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T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nature, usure, réglag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ocument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yens de commun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logici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Rectangle 42" descr=""/>
            <p:cNvPicPr/>
            <p:nvPr/>
          </p:nvPicPr>
          <p:blipFill>
            <a:blip r:embed="rId4"/>
            <a:stretch/>
          </p:blipFill>
          <p:spPr>
            <a:xfrm>
              <a:off x="5664240" y="3648240"/>
              <a:ext cx="792000" cy="6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Groupe 53"/>
          <p:cNvGrpSpPr/>
          <p:nvPr/>
        </p:nvGrpSpPr>
        <p:grpSpPr>
          <a:xfrm>
            <a:off x="6008760" y="1587600"/>
            <a:ext cx="2414520" cy="1955160"/>
            <a:chOff x="6008760" y="1587600"/>
            <a:chExt cx="2414520" cy="1955160"/>
          </a:xfrm>
        </p:grpSpPr>
        <p:sp>
          <p:nvSpPr>
            <p:cNvPr id="601" name="Text Box 1030"/>
            <p:cNvSpPr/>
            <p:nvPr/>
          </p:nvSpPr>
          <p:spPr>
            <a:xfrm>
              <a:off x="6101640" y="1667160"/>
              <a:ext cx="2321640" cy="18756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ctivité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épartition des tâch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utonomi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ossibilités d’entra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RIS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achines, produ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Rectangle 44" descr=""/>
            <p:cNvPicPr/>
            <p:nvPr/>
          </p:nvPicPr>
          <p:blipFill>
            <a:blip r:embed="rId5"/>
            <a:stretch/>
          </p:blipFill>
          <p:spPr>
            <a:xfrm>
              <a:off x="6008760" y="1587600"/>
              <a:ext cx="565560" cy="63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Bouton d’action : Suivant 2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574640" y="701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léter 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607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08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609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612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Bouton d’action : Suivant 2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10960" y="189000"/>
            <a:ext cx="78692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1746360" y="8953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à coins arrondis 10"/>
          <p:cNvSpPr/>
          <p:nvPr/>
        </p:nvSpPr>
        <p:spPr>
          <a:xfrm>
            <a:off x="2195640" y="1981080"/>
            <a:ext cx="251748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à coins arrondis 15"/>
          <p:cNvSpPr/>
          <p:nvPr/>
        </p:nvSpPr>
        <p:spPr>
          <a:xfrm>
            <a:off x="2093760" y="5033880"/>
            <a:ext cx="251784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à coins arrondis 16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à coins arrondis 20"/>
          <p:cNvSpPr/>
          <p:nvPr/>
        </p:nvSpPr>
        <p:spPr>
          <a:xfrm>
            <a:off x="6568920" y="3897360"/>
            <a:ext cx="147816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3440" y="189000"/>
            <a:ext cx="7756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876840" y="108108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e 14"/>
          <p:cNvGrpSpPr/>
          <p:nvPr/>
        </p:nvGrpSpPr>
        <p:grpSpPr>
          <a:xfrm>
            <a:off x="317520" y="1222200"/>
            <a:ext cx="4335480" cy="3886200"/>
            <a:chOff x="317520" y="1222200"/>
            <a:chExt cx="4335480" cy="3886200"/>
          </a:xfrm>
        </p:grpSpPr>
        <p:sp>
          <p:nvSpPr>
            <p:cNvPr id="643" name="Text Box 2"/>
            <p:cNvSpPr/>
            <p:nvPr/>
          </p:nvSpPr>
          <p:spPr>
            <a:xfrm rot="16200000">
              <a:off x="-787320" y="29700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DETERMIN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3"/>
            <p:cNvGrpSpPr/>
            <p:nvPr/>
          </p:nvGrpSpPr>
          <p:grpSpPr>
            <a:xfrm>
              <a:off x="919080" y="1222200"/>
              <a:ext cx="3733920" cy="3886200"/>
              <a:chOff x="919080" y="1222200"/>
              <a:chExt cx="3733920" cy="3886200"/>
            </a:xfrm>
          </p:grpSpPr>
          <p:sp>
            <p:nvSpPr>
              <p:cNvPr id="645" name="AutoShape 4"/>
              <p:cNvSpPr/>
              <p:nvPr/>
            </p:nvSpPr>
            <p:spPr>
              <a:xfrm>
                <a:off x="919080" y="1603440"/>
                <a:ext cx="3733920" cy="35049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"/>
              <p:cNvSpPr/>
              <p:nvPr/>
            </p:nvSpPr>
            <p:spPr>
              <a:xfrm>
                <a:off x="1833480" y="122220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376092"/>
                    </a:solidFill>
                    <a:latin typeface="Arial"/>
                    <a:ea typeface="Tahoma"/>
                  </a:rPr>
                  <a:t>HOM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Text Box 8"/>
          <p:cNvSpPr/>
          <p:nvPr/>
        </p:nvSpPr>
        <p:spPr>
          <a:xfrm>
            <a:off x="1063800" y="1778040"/>
            <a:ext cx="37335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ge, taille, sex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Qua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ncienneté dans le 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ncienneté dans l’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bjectifs pers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Bouton d’action : Suivant 1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11T13:02:42Z</dcterms:modified>
  <cp:revision>25</cp:revision>
  <dc:subject/>
  <dc:title>Diapositive 1</dc:title>
</cp:coreProperties>
</file>