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615-DB3A-4094-9CBC-746A0F2F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497-9870-4996-8CAA-FF56075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7B4-1596-4FE5-9843-8741C58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605-D67E-4768-BB37-9D876533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5BC-D6DE-4AE4-A725-C8975CA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0F581-8398-44A8-B16B-EE34F6B3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6CB0B-9A43-4059-90A3-F143284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68186-001A-4060-A4FD-B7280F8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83708-B63D-42F7-AD2A-04DFA187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155C0-A662-4860-917B-7E19E93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28E-41B8-4F18-BE61-79CF82B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36882-A861-4E5F-8525-72F7714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C38AA-7175-40B9-AAD6-FAE8794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DB806-A9B3-4D23-8520-8EF4D71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86CC6-9773-4303-BC91-DDADDE8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6DA08-0F10-47EF-A3CC-2E9AA0CC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A4522-CB89-4AD7-9762-4858ADD7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FB050-C310-45E1-B9AD-48C29933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602-F6A5-4AF8-B11F-A1F25FA5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3C4-745F-4EB1-B5A9-AAA41EC9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136-9B92-4975-B3F5-D9BCC26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8A4-A42C-414F-B2FC-AB6B808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C22-C5F9-41B1-B87C-54AA0F6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32D-0BF2-41E2-BC74-384EE9B4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196C0-B746-4FFC-BB86-11DFB237E8C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F2C7CED-BA4E-4982-BC73-F395F65D571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D028C-BF47-476E-BBFA-A49C285DF38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FB454-0B53-4E3A-9372-B60D1DF321E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AD67FF2-2651-4B38-8084-640A2D5A071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36C79-6A13-4A30-8BA7-F422AC112C5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A9E13-3E97-4D16-B7E8-7DF59097E9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1E8E4D6F-3C41-4158-AEC1-0C9BAAD339E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098D2-5DCF-474E-B63A-147FA2B2F2B2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46075-C498-470E-A0FF-96884B59446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B0299863-C0EC-4BE5-B54B-23EB3802698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F756F-9FB4-486B-B65A-B27996666D5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DFD43-AABE-4B62-BE76-93B7C9FDFD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9A2B8614-EAE5-4898-8B87-10A26F897AC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E027C-9D00-4EDC-A02C-F3C89803E80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8D036-3E66-418F-824E-43ACC1F021B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3A788E3-C6B0-4258-890D-4C92A3A421C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BF9F-2430-4FC3-B46E-5263F3C5E6B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F3221-0330-4C7F-9F34-EEF65A0FFC0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40587FB-0209-4A7F-8378-9329FCD8E40E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308C0-9A5A-4985-A95B-FD46E0FFCB6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9EBBF-D1FF-4359-9F68-292E9B234D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417A211-C37B-492B-A74E-85F1F691512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D5D9B-903E-4584-A6DD-21B560CECA2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32F7B-C77D-4541-9DAA-3F93BD710C7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9C455B09-EBD7-4A67-AAAB-57E9324C7BD9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75909-60EC-4A51-8952-CAD5AB659A4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5A8A-D6CC-4821-87F2-478A58F7CA9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51BCEABB-6DD5-435D-AB97-9EA9A424DCB5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8EB2E-8E07-4F69-8389-3EC9C445B6E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A9287-E874-47E9-9706-22476183E6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9C639C3-E38B-4D8B-8F6A-3E05963C7A4D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A5F50-19CC-4B49-92D3-03950B949D9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D3A5-FCFA-47AD-905B-F3AA8402C43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DF691CC-7B06-4ACE-A734-477D65F70560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727F6-EC96-4BF9-8C10-63C6A16DE1C7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BE545-EEF5-4185-8EEA-AC809C3D826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622320"/>
            <a:ext cx="437040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3 Analyse d’une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Group 1029"/>
          <p:cNvGrpSpPr/>
          <p:nvPr/>
        </p:nvGrpSpPr>
        <p:grpSpPr>
          <a:xfrm>
            <a:off x="228600" y="1295280"/>
            <a:ext cx="2286000" cy="4572000"/>
            <a:chOff x="228600" y="1295280"/>
            <a:chExt cx="2286000" cy="4572000"/>
          </a:xfrm>
        </p:grpSpPr>
        <p:sp>
          <p:nvSpPr>
            <p:cNvPr id="706" name="Text Box 1030"/>
            <p:cNvSpPr/>
            <p:nvPr/>
          </p:nvSpPr>
          <p:spPr>
            <a:xfrm>
              <a:off x="228600" y="1295280"/>
              <a:ext cx="2286000" cy="642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215968"/>
                  </a:solidFill>
                  <a:latin typeface="Arial"/>
                  <a:ea typeface="Tahoma"/>
                </a:rPr>
                <a:t>METHODE P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31"/>
            <p:cNvSpPr/>
            <p:nvPr/>
          </p:nvSpPr>
          <p:spPr>
            <a:xfrm>
              <a:off x="457200" y="1981080"/>
              <a:ext cx="0" cy="388620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032"/>
          <p:cNvGrpSpPr/>
          <p:nvPr/>
        </p:nvGrpSpPr>
        <p:grpSpPr>
          <a:xfrm>
            <a:off x="685800" y="3886200"/>
            <a:ext cx="3352680" cy="1067400"/>
            <a:chOff x="685800" y="3886200"/>
            <a:chExt cx="3352680" cy="1067400"/>
          </a:xfrm>
        </p:grpSpPr>
        <p:sp>
          <p:nvSpPr>
            <p:cNvPr id="709" name="Text Box 1033"/>
            <p:cNvSpPr/>
            <p:nvPr/>
          </p:nvSpPr>
          <p:spPr>
            <a:xfrm>
              <a:off x="685800" y="3886200"/>
              <a:ext cx="1676520" cy="1067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Amènent l’opérateur à travailler de telle faç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034"/>
            <p:cNvSpPr/>
            <p:nvPr/>
          </p:nvSpPr>
          <p:spPr>
            <a:xfrm>
              <a:off x="2362320" y="4232160"/>
              <a:ext cx="1676160" cy="30816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056" h="194">
                  <a:moveTo>
                    <a:pt x="0" y="118"/>
                  </a:moveTo>
                  <a:cubicBezTo>
                    <a:pt x="92" y="93"/>
                    <a:pt x="184" y="69"/>
                    <a:pt x="240" y="54"/>
                  </a:cubicBezTo>
                  <a:cubicBezTo>
                    <a:pt x="296" y="39"/>
                    <a:pt x="248" y="32"/>
                    <a:pt x="336" y="28"/>
                  </a:cubicBezTo>
                  <a:cubicBezTo>
                    <a:pt x="424" y="24"/>
                    <a:pt x="648" y="0"/>
                    <a:pt x="768" y="28"/>
                  </a:cubicBezTo>
                  <a:cubicBezTo>
                    <a:pt x="888" y="56"/>
                    <a:pt x="1008" y="163"/>
                    <a:pt x="1056" y="194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035"/>
          <p:cNvGrpSpPr/>
          <p:nvPr/>
        </p:nvGrpSpPr>
        <p:grpSpPr>
          <a:xfrm>
            <a:off x="6477120" y="1371600"/>
            <a:ext cx="2590560" cy="4876920"/>
            <a:chOff x="6477120" y="1371600"/>
            <a:chExt cx="2590560" cy="4876920"/>
          </a:xfrm>
        </p:grpSpPr>
        <p:sp>
          <p:nvSpPr>
            <p:cNvPr id="712" name="Text Box 1036"/>
            <p:cNvSpPr/>
            <p:nvPr/>
          </p:nvSpPr>
          <p:spPr>
            <a:xfrm>
              <a:off x="6477120" y="1371600"/>
              <a:ext cx="2590560" cy="6426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f2dcdb"/>
                  </a:solidFill>
                  <a:latin typeface="Arial"/>
                  <a:ea typeface="Tahoma"/>
                </a:rPr>
                <a:t>METHODE RET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037"/>
            <p:cNvSpPr/>
            <p:nvPr/>
          </p:nvSpPr>
          <p:spPr>
            <a:xfrm>
              <a:off x="8991720" y="2133720"/>
              <a:ext cx="0" cy="4114800"/>
            </a:xfrm>
            <a:prstGeom prst="line">
              <a:avLst/>
            </a:prstGeom>
            <a:ln w="76320">
              <a:solidFill>
                <a:srgbClr val="c050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1038"/>
          <p:cNvSpPr/>
          <p:nvPr/>
        </p:nvSpPr>
        <p:spPr>
          <a:xfrm>
            <a:off x="6629400" y="5715000"/>
            <a:ext cx="20574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effets consta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039"/>
          <p:cNvSpPr/>
          <p:nvPr/>
        </p:nvSpPr>
        <p:spPr>
          <a:xfrm>
            <a:off x="6705720" y="3962520"/>
            <a:ext cx="1981080" cy="13107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Nous amènent à supposer qu’il existe un lien entre les effets et le travail ré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40"/>
          <p:cNvSpPr/>
          <p:nvPr/>
        </p:nvSpPr>
        <p:spPr>
          <a:xfrm>
            <a:off x="6705720" y="2286000"/>
            <a:ext cx="1981080" cy="1067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Ce travail réel ayant pour origine tels facteurs détermin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041"/>
          <p:cNvGrpSpPr/>
          <p:nvPr/>
        </p:nvGrpSpPr>
        <p:grpSpPr>
          <a:xfrm>
            <a:off x="685800" y="2006640"/>
            <a:ext cx="4343400" cy="1408320"/>
            <a:chOff x="685800" y="2006640"/>
            <a:chExt cx="4343400" cy="1408320"/>
          </a:xfrm>
        </p:grpSpPr>
        <p:sp>
          <p:nvSpPr>
            <p:cNvPr id="718" name="Text Box 1042"/>
            <p:cNvSpPr/>
            <p:nvPr/>
          </p:nvSpPr>
          <p:spPr>
            <a:xfrm>
              <a:off x="685800" y="2590920"/>
              <a:ext cx="1676520" cy="824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Il semblerait que tels ou tels détermin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043"/>
            <p:cNvSpPr/>
            <p:nvPr/>
          </p:nvSpPr>
          <p:spPr>
            <a:xfrm>
              <a:off x="2057400" y="2209680"/>
              <a:ext cx="1417680" cy="53352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893" h="527">
                  <a:moveTo>
                    <a:pt x="0" y="358"/>
                  </a:moveTo>
                  <a:cubicBezTo>
                    <a:pt x="41" y="262"/>
                    <a:pt x="83" y="167"/>
                    <a:pt x="139" y="118"/>
                  </a:cubicBezTo>
                  <a:cubicBezTo>
                    <a:pt x="195" y="69"/>
                    <a:pt x="255" y="74"/>
                    <a:pt x="336" y="65"/>
                  </a:cubicBezTo>
                  <a:cubicBezTo>
                    <a:pt x="417" y="56"/>
                    <a:pt x="539" y="0"/>
                    <a:pt x="624" y="65"/>
                  </a:cubicBezTo>
                  <a:cubicBezTo>
                    <a:pt x="709" y="130"/>
                    <a:pt x="805" y="381"/>
                    <a:pt x="849" y="454"/>
                  </a:cubicBezTo>
                  <a:cubicBezTo>
                    <a:pt x="893" y="527"/>
                    <a:pt x="878" y="494"/>
                    <a:pt x="889" y="502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44"/>
            <p:cNvSpPr/>
            <p:nvPr/>
          </p:nvSpPr>
          <p:spPr>
            <a:xfrm>
              <a:off x="1625760" y="2006640"/>
              <a:ext cx="3403440" cy="88884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270" h="560">
                  <a:moveTo>
                    <a:pt x="32" y="368"/>
                  </a:moveTo>
                  <a:cubicBezTo>
                    <a:pt x="16" y="248"/>
                    <a:pt x="0" y="128"/>
                    <a:pt x="320" y="80"/>
                  </a:cubicBezTo>
                  <a:cubicBezTo>
                    <a:pt x="640" y="32"/>
                    <a:pt x="1634" y="0"/>
                    <a:pt x="1952" y="80"/>
                  </a:cubicBezTo>
                  <a:cubicBezTo>
                    <a:pt x="2270" y="160"/>
                    <a:pt x="2181" y="480"/>
                    <a:pt x="2229" y="56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045"/>
          <p:cNvGrpSpPr/>
          <p:nvPr/>
        </p:nvGrpSpPr>
        <p:grpSpPr>
          <a:xfrm>
            <a:off x="762120" y="5410080"/>
            <a:ext cx="4419360" cy="956160"/>
            <a:chOff x="762120" y="5410080"/>
            <a:chExt cx="4419360" cy="956160"/>
          </a:xfrm>
        </p:grpSpPr>
        <p:sp>
          <p:nvSpPr>
            <p:cNvPr id="722" name="Text Box 1046"/>
            <p:cNvSpPr/>
            <p:nvPr/>
          </p:nvSpPr>
          <p:spPr>
            <a:xfrm>
              <a:off x="762120" y="5410080"/>
              <a:ext cx="1600200" cy="580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1859c"/>
                  </a:solidFill>
                  <a:latin typeface="Arial"/>
                  <a:ea typeface="Tahoma"/>
                </a:rPr>
                <a:t>Entraînant tels eff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047"/>
            <p:cNvSpPr/>
            <p:nvPr/>
          </p:nvSpPr>
          <p:spPr>
            <a:xfrm rot="20284800">
              <a:off x="2200320" y="5638320"/>
              <a:ext cx="1289160" cy="505080"/>
            </a:xfrm>
            <a:custGeom>
              <a:avLst/>
              <a:gdLst>
                <a:gd name="textAreaLeft" fmla="*/ 0 w 1289160"/>
                <a:gd name="textAreaRight" fmla="*/ 1289160 w 12891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72" h="383">
                  <a:moveTo>
                    <a:pt x="0" y="96"/>
                  </a:moveTo>
                  <a:cubicBezTo>
                    <a:pt x="96" y="159"/>
                    <a:pt x="192" y="222"/>
                    <a:pt x="288" y="262"/>
                  </a:cubicBezTo>
                  <a:cubicBezTo>
                    <a:pt x="384" y="302"/>
                    <a:pt x="495" y="383"/>
                    <a:pt x="576" y="339"/>
                  </a:cubicBezTo>
                  <a:cubicBezTo>
                    <a:pt x="657" y="295"/>
                    <a:pt x="740" y="64"/>
                    <a:pt x="772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048"/>
            <p:cNvSpPr/>
            <p:nvPr/>
          </p:nvSpPr>
          <p:spPr>
            <a:xfrm>
              <a:off x="1371600" y="5410080"/>
              <a:ext cx="3809880" cy="94644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946440"/>
                <a:gd name="textAreaBottom" fmla="*/ 946440 h 946440"/>
              </a:gdLst>
              <a:ahLst/>
              <a:rect l="textAreaLeft" t="textAreaTop" r="textAreaRight" b="textAreaBottom"/>
              <a:pathLst>
                <a:path w="2400" h="596">
                  <a:moveTo>
                    <a:pt x="0" y="361"/>
                  </a:moveTo>
                  <a:cubicBezTo>
                    <a:pt x="44" y="430"/>
                    <a:pt x="88" y="499"/>
                    <a:pt x="336" y="527"/>
                  </a:cubicBezTo>
                  <a:cubicBezTo>
                    <a:pt x="584" y="555"/>
                    <a:pt x="1176" y="596"/>
                    <a:pt x="1488" y="527"/>
                  </a:cubicBezTo>
                  <a:cubicBezTo>
                    <a:pt x="1800" y="458"/>
                    <a:pt x="2056" y="199"/>
                    <a:pt x="2208" y="111"/>
                  </a:cubicBezTo>
                  <a:cubicBezTo>
                    <a:pt x="2360" y="23"/>
                    <a:pt x="2368" y="22"/>
                    <a:pt x="2400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049"/>
          <p:cNvGrpSpPr/>
          <p:nvPr/>
        </p:nvGrpSpPr>
        <p:grpSpPr>
          <a:xfrm>
            <a:off x="2741760" y="2209680"/>
            <a:ext cx="3887640" cy="3934080"/>
            <a:chOff x="2741760" y="2209680"/>
            <a:chExt cx="3887640" cy="3934080"/>
          </a:xfrm>
        </p:grpSpPr>
        <p:grpSp>
          <p:nvGrpSpPr>
            <p:cNvPr id="726" name="Group 1050"/>
            <p:cNvGrpSpPr/>
            <p:nvPr/>
          </p:nvGrpSpPr>
          <p:grpSpPr>
            <a:xfrm>
              <a:off x="2741760" y="2209680"/>
              <a:ext cx="3887640" cy="3934080"/>
              <a:chOff x="2741760" y="2209680"/>
              <a:chExt cx="3887640" cy="3934080"/>
            </a:xfrm>
          </p:grpSpPr>
          <p:sp>
            <p:nvSpPr>
              <p:cNvPr id="727" name="Text Box 1051"/>
              <p:cNvSpPr/>
              <p:nvPr/>
            </p:nvSpPr>
            <p:spPr>
              <a:xfrm>
                <a:off x="4834080" y="5867280"/>
                <a:ext cx="179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Sur l’ENTREPR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052"/>
              <p:cNvSpPr/>
              <p:nvPr/>
            </p:nvSpPr>
            <p:spPr>
              <a:xfrm>
                <a:off x="4946760" y="5262480"/>
                <a:ext cx="1022400" cy="620640"/>
              </a:xfrm>
              <a:prstGeom prst="flowChartAlternateProcess">
                <a:avLst/>
              </a:prstGeom>
              <a:solidFill>
                <a:srgbClr val="ffffcc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053"/>
              <p:cNvSpPr/>
              <p:nvPr/>
            </p:nvSpPr>
            <p:spPr>
              <a:xfrm>
                <a:off x="2747880" y="4589640"/>
                <a:ext cx="343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1054"/>
              <p:cNvSpPr/>
              <p:nvPr/>
            </p:nvSpPr>
            <p:spPr>
              <a:xfrm rot="16200000">
                <a:off x="1992240" y="3045960"/>
                <a:ext cx="181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DETERMINA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055"/>
              <p:cNvSpPr/>
              <p:nvPr/>
            </p:nvSpPr>
            <p:spPr>
              <a:xfrm>
                <a:off x="2989440" y="2468520"/>
                <a:ext cx="1476360" cy="12416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1056"/>
              <p:cNvSpPr/>
              <p:nvPr/>
            </p:nvSpPr>
            <p:spPr>
              <a:xfrm>
                <a:off x="3349800" y="2209680"/>
                <a:ext cx="841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HOM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057"/>
              <p:cNvSpPr/>
              <p:nvPr/>
            </p:nvSpPr>
            <p:spPr>
              <a:xfrm>
                <a:off x="4735440" y="2468520"/>
                <a:ext cx="1354320" cy="12938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058"/>
              <p:cNvSpPr/>
              <p:nvPr/>
            </p:nvSpPr>
            <p:spPr>
              <a:xfrm>
                <a:off x="4886280" y="3606840"/>
                <a:ext cx="1023840" cy="46512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1059"/>
              <p:cNvSpPr/>
              <p:nvPr/>
            </p:nvSpPr>
            <p:spPr>
              <a:xfrm>
                <a:off x="4944960" y="2209680"/>
                <a:ext cx="107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ENTREPRI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1060"/>
              <p:cNvSpPr/>
              <p:nvPr/>
            </p:nvSpPr>
            <p:spPr>
              <a:xfrm>
                <a:off x="3138480" y="5262480"/>
                <a:ext cx="1025640" cy="620640"/>
              </a:xfrm>
              <a:prstGeom prst="flowChartAlternateProcess">
                <a:avLst/>
              </a:prstGeom>
              <a:solidFill>
                <a:srgbClr val="ffffcc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1061"/>
              <p:cNvSpPr/>
              <p:nvPr/>
            </p:nvSpPr>
            <p:spPr>
              <a:xfrm rot="16200000">
                <a:off x="2404800" y="5424480"/>
                <a:ext cx="981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EFFE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062"/>
              <p:cNvSpPr/>
              <p:nvPr/>
            </p:nvSpPr>
            <p:spPr>
              <a:xfrm>
                <a:off x="3151080" y="5867280"/>
                <a:ext cx="119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Sur l’HOM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1063"/>
              <p:cNvSpPr/>
              <p:nvPr/>
            </p:nvSpPr>
            <p:spPr>
              <a:xfrm>
                <a:off x="4978440" y="3578400"/>
                <a:ext cx="888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prescrit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064"/>
              <p:cNvSpPr/>
              <p:nvPr/>
            </p:nvSpPr>
            <p:spPr>
              <a:xfrm>
                <a:off x="3860640" y="4021200"/>
                <a:ext cx="1327320" cy="1085760"/>
              </a:xfrm>
              <a:prstGeom prst="ellipse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065"/>
              <p:cNvSpPr/>
              <p:nvPr/>
            </p:nvSpPr>
            <p:spPr>
              <a:xfrm>
                <a:off x="4094280" y="4057560"/>
                <a:ext cx="1009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066"/>
              <p:cNvSpPr/>
              <p:nvPr/>
            </p:nvSpPr>
            <p:spPr>
              <a:xfrm>
                <a:off x="3952800" y="4278240"/>
                <a:ext cx="1144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067"/>
              <p:cNvSpPr/>
              <p:nvPr/>
            </p:nvSpPr>
            <p:spPr>
              <a:xfrm>
                <a:off x="4025880" y="4267080"/>
                <a:ext cx="57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068"/>
              <p:cNvSpPr/>
              <p:nvPr/>
            </p:nvSpPr>
            <p:spPr>
              <a:xfrm>
                <a:off x="4497480" y="4267080"/>
                <a:ext cx="59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069"/>
              <p:cNvSpPr/>
              <p:nvPr/>
            </p:nvSpPr>
            <p:spPr>
              <a:xfrm>
                <a:off x="3259080" y="5419800"/>
                <a:ext cx="754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utoShape 1070"/>
            <p:cNvSpPr/>
            <p:nvPr/>
          </p:nvSpPr>
          <p:spPr>
            <a:xfrm flipV="1">
              <a:off x="4191120" y="3351960"/>
              <a:ext cx="380880" cy="685800"/>
            </a:xfrm>
            <a:custGeom>
              <a:avLst/>
              <a:gdLst>
                <a:gd name="textAreaLeft" fmla="*/ 0 w 380880"/>
                <a:gd name="textAreaRight" fmla="*/ 326880 w 380880"/>
                <a:gd name="textAreaTop" fmla="*/ 62100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40" y="0"/>
                  </a:moveTo>
                  <a:lnTo>
                    <a:pt x="13679" y="7200"/>
                  </a:lnTo>
                  <a:lnTo>
                    <a:pt x="16765" y="7200"/>
                  </a:lnTo>
                  <a:lnTo>
                    <a:pt x="16765" y="19559"/>
                  </a:lnTo>
                  <a:lnTo>
                    <a:pt x="0" y="19559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64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1071"/>
            <p:cNvSpPr/>
            <p:nvPr/>
          </p:nvSpPr>
          <p:spPr>
            <a:xfrm flipH="1" flipV="1">
              <a:off x="4648320" y="3351960"/>
              <a:ext cx="380880" cy="685800"/>
            </a:xfrm>
            <a:custGeom>
              <a:avLst/>
              <a:gdLst>
                <a:gd name="textAreaLeft" fmla="*/ 0 w 380880"/>
                <a:gd name="textAreaRight" fmla="*/ 355680 w 380880"/>
                <a:gd name="textAreaTop" fmla="*/ 62244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215" y="0"/>
                  </a:moveTo>
                  <a:lnTo>
                    <a:pt x="16830" y="7050"/>
                  </a:lnTo>
                  <a:lnTo>
                    <a:pt x="18270" y="7050"/>
                  </a:lnTo>
                  <a:lnTo>
                    <a:pt x="18270" y="19575"/>
                  </a:lnTo>
                  <a:lnTo>
                    <a:pt x="0" y="19575"/>
                  </a:lnTo>
                  <a:lnTo>
                    <a:pt x="0" y="21600"/>
                  </a:lnTo>
                  <a:lnTo>
                    <a:pt x="20160" y="21600"/>
                  </a:lnTo>
                  <a:lnTo>
                    <a:pt x="20160" y="7050"/>
                  </a:lnTo>
                  <a:lnTo>
                    <a:pt x="21600" y="7050"/>
                  </a:lnTo>
                  <a:lnTo>
                    <a:pt x="1921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1072"/>
            <p:cNvSpPr/>
            <p:nvPr/>
          </p:nvSpPr>
          <p:spPr>
            <a:xfrm flipV="1" rot="5377200">
              <a:off x="4075560" y="5217120"/>
              <a:ext cx="533520" cy="306360"/>
            </a:xfrm>
            <a:custGeom>
              <a:avLst/>
              <a:gdLst>
                <a:gd name="textAreaLeft" fmla="*/ 0 w 533520"/>
                <a:gd name="textAreaRight" fmla="*/ 457560 w 533520"/>
                <a:gd name="textAreaTop" fmla="*/ 242640 h 306360"/>
                <a:gd name="textAreaBottom" fmla="*/ 306000 h 3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17" y="0"/>
                  </a:moveTo>
                  <a:lnTo>
                    <a:pt x="11633" y="8117"/>
                  </a:lnTo>
                  <a:lnTo>
                    <a:pt x="14711" y="8117"/>
                  </a:lnTo>
                  <a:lnTo>
                    <a:pt x="14711" y="17156"/>
                  </a:lnTo>
                  <a:lnTo>
                    <a:pt x="0" y="17156"/>
                  </a:lnTo>
                  <a:lnTo>
                    <a:pt x="0" y="21600"/>
                  </a:lnTo>
                  <a:lnTo>
                    <a:pt x="18522" y="21600"/>
                  </a:lnTo>
                  <a:lnTo>
                    <a:pt x="18522" y="8117"/>
                  </a:lnTo>
                  <a:lnTo>
                    <a:pt x="21600" y="8117"/>
                  </a:lnTo>
                  <a:lnTo>
                    <a:pt x="1661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1073"/>
            <p:cNvSpPr/>
            <p:nvPr/>
          </p:nvSpPr>
          <p:spPr>
            <a:xfrm rot="5376600">
              <a:off x="4457520" y="5219280"/>
              <a:ext cx="533160" cy="304920"/>
            </a:xfrm>
            <a:custGeom>
              <a:avLst/>
              <a:gdLst>
                <a:gd name="textAreaLeft" fmla="*/ 0 w 533160"/>
                <a:gd name="textAreaRight" fmla="*/ 457200 w 533160"/>
                <a:gd name="textAreaTop" fmla="*/ 24156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17" y="0"/>
                  </a:moveTo>
                  <a:lnTo>
                    <a:pt x="11633" y="8117"/>
                  </a:lnTo>
                  <a:lnTo>
                    <a:pt x="14711" y="8117"/>
                  </a:lnTo>
                  <a:lnTo>
                    <a:pt x="14711" y="17156"/>
                  </a:lnTo>
                  <a:lnTo>
                    <a:pt x="0" y="17156"/>
                  </a:lnTo>
                  <a:lnTo>
                    <a:pt x="0" y="21600"/>
                  </a:lnTo>
                  <a:lnTo>
                    <a:pt x="18522" y="21600"/>
                  </a:lnTo>
                  <a:lnTo>
                    <a:pt x="18522" y="8117"/>
                  </a:lnTo>
                  <a:lnTo>
                    <a:pt x="21600" y="8117"/>
                  </a:lnTo>
                  <a:lnTo>
                    <a:pt x="16617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Bouton d’action : Suivant 4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7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11"/>
          <p:cNvSpPr/>
          <p:nvPr/>
        </p:nvSpPr>
        <p:spPr>
          <a:xfrm>
            <a:off x="2917800" y="3494160"/>
            <a:ext cx="3733920" cy="18288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753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754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755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758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9"/>
                <p:cNvSpPr/>
                <p:nvPr/>
              </p:nvSpPr>
              <p:spPr>
                <a:xfrm>
                  <a:off x="5737320" y="2933640"/>
                  <a:ext cx="246528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Changer les drap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21"/>
                <p:cNvSpPr/>
                <p:nvPr/>
              </p:nvSpPr>
              <p:spPr>
                <a:xfrm>
                  <a:off x="3884760" y="3527640"/>
                  <a:ext cx="1676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22"/>
                <p:cNvSpPr/>
                <p:nvPr/>
              </p:nvSpPr>
              <p:spPr>
                <a:xfrm>
                  <a:off x="2919240" y="3888000"/>
                  <a:ext cx="3749760" cy="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23"/>
                <p:cNvSpPr/>
                <p:nvPr/>
              </p:nvSpPr>
              <p:spPr>
                <a:xfrm>
                  <a:off x="3489480" y="388620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24"/>
                <p:cNvSpPr/>
                <p:nvPr/>
              </p:nvSpPr>
              <p:spPr>
                <a:xfrm>
                  <a:off x="5178240" y="389592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3" name="Line 22"/>
            <p:cNvSpPr/>
            <p:nvPr/>
          </p:nvSpPr>
          <p:spPr>
            <a:xfrm>
              <a:off x="4786200" y="3890880"/>
              <a:ext cx="23760" cy="145080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7"/>
          <p:cNvSpPr/>
          <p:nvPr/>
        </p:nvSpPr>
        <p:spPr>
          <a:xfrm>
            <a:off x="1724040" y="6523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1065240" y="1535040"/>
            <a:ext cx="30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1 m 95</a:t>
            </a: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, 35 ans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5592600" y="1554120"/>
            <a:ext cx="300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tel</a:t>
            </a:r>
            <a:br>
              <a:rPr sz="1600"/>
            </a:br>
            <a:r>
              <a:rPr b="1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H = 60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 à refaire par jour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3"/>
          <p:cNvSpPr/>
          <p:nvPr/>
        </p:nvSpPr>
        <p:spPr>
          <a:xfrm>
            <a:off x="2932200" y="49816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Se penche</a:t>
            </a:r>
            <a:r>
              <a:rPr b="1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4805280" y="4981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1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8" name="Connecteur droit avec flèche 70"/>
          <p:cNvCxnSpPr/>
          <p:nvPr/>
        </p:nvCxnSpPr>
        <p:spPr>
          <a:xfrm flipH="1">
            <a:off x="2787120" y="5755320"/>
            <a:ext cx="3255120" cy="151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9" name="Connecteur droit avec flèche 71"/>
          <p:cNvCxnSpPr/>
          <p:nvPr/>
        </p:nvCxnSpPr>
        <p:spPr>
          <a:xfrm flipH="1" flipV="1">
            <a:off x="4643280" y="4343040"/>
            <a:ext cx="27828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0" name="Connecteur droit avec flèche 74"/>
          <p:cNvCxnSpPr/>
          <p:nvPr/>
        </p:nvCxnSpPr>
        <p:spPr>
          <a:xfrm flipV="1">
            <a:off x="2644920" y="4473360"/>
            <a:ext cx="2645280" cy="12816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1" name="Connecteur droit avec flèche 80"/>
          <p:cNvCxnSpPr/>
          <p:nvPr/>
        </p:nvCxnSpPr>
        <p:spPr>
          <a:xfrm flipV="1">
            <a:off x="3163680" y="3467880"/>
            <a:ext cx="2834280" cy="7549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2" name="Connecteur droit avec flèche 83"/>
          <p:cNvCxnSpPr/>
          <p:nvPr/>
        </p:nvCxnSpPr>
        <p:spPr>
          <a:xfrm>
            <a:off x="2322000" y="1846080"/>
            <a:ext cx="3685320" cy="14256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3" name="Connecteur droit avec flèche 86"/>
          <p:cNvCxnSpPr/>
          <p:nvPr/>
        </p:nvCxnSpPr>
        <p:spPr>
          <a:xfrm>
            <a:off x="7574400" y="2116080"/>
            <a:ext cx="181800" cy="12232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4" name="Bouton d’action : Suivant 4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7"/>
          <p:cNvSpPr/>
          <p:nvPr/>
        </p:nvSpPr>
        <p:spPr>
          <a:xfrm>
            <a:off x="1703520" y="81288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e 60"/>
          <p:cNvGrpSpPr/>
          <p:nvPr/>
        </p:nvGrpSpPr>
        <p:grpSpPr>
          <a:xfrm>
            <a:off x="2506680" y="1217520"/>
            <a:ext cx="4965840" cy="3245400"/>
            <a:chOff x="2506680" y="1217520"/>
            <a:chExt cx="4965840" cy="3245400"/>
          </a:xfrm>
        </p:grpSpPr>
        <p:sp>
          <p:nvSpPr>
            <p:cNvPr id="797" name="AutoShape 11"/>
            <p:cNvSpPr/>
            <p:nvPr/>
          </p:nvSpPr>
          <p:spPr>
            <a:xfrm>
              <a:off x="4038840" y="2638080"/>
              <a:ext cx="2134440" cy="1046160"/>
            </a:xfrm>
            <a:prstGeom prst="flowChartAlternateProcess">
              <a:avLst/>
            </a:prstGeom>
            <a:solidFill>
              <a:srgbClr val="ffc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3"/>
            <p:cNvSpPr/>
            <p:nvPr/>
          </p:nvSpPr>
          <p:spPr>
            <a:xfrm>
              <a:off x="4046400" y="348948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800" spc="-1" strike="noStrike">
                  <a:solidFill>
                    <a:srgbClr val="8eb4e3"/>
                  </a:solidFill>
                  <a:latin typeface="Arial"/>
                  <a:ea typeface="Tahoma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23"/>
            <p:cNvSpPr/>
            <p:nvPr/>
          </p:nvSpPr>
          <p:spPr>
            <a:xfrm>
              <a:off x="5118120" y="348948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800" spc="-1" strike="noStrike">
                  <a:solidFill>
                    <a:srgbClr val="376092"/>
                  </a:solidFill>
                  <a:latin typeface="Arial"/>
                  <a:ea typeface="Tahoma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e 59"/>
            <p:cNvGrpSpPr/>
            <p:nvPr/>
          </p:nvGrpSpPr>
          <p:grpSpPr>
            <a:xfrm>
              <a:off x="2506680" y="1217520"/>
              <a:ext cx="4965840" cy="3245400"/>
              <a:chOff x="2506680" y="1217520"/>
              <a:chExt cx="4965840" cy="3245400"/>
            </a:xfrm>
          </p:grpSpPr>
          <p:grpSp>
            <p:nvGrpSpPr>
              <p:cNvPr id="801" name="Groupe 55"/>
              <p:cNvGrpSpPr/>
              <p:nvPr/>
            </p:nvGrpSpPr>
            <p:grpSpPr>
              <a:xfrm>
                <a:off x="2506680" y="1217520"/>
                <a:ext cx="4965840" cy="3245400"/>
                <a:chOff x="2506680" y="1217520"/>
                <a:chExt cx="4965840" cy="3245400"/>
              </a:xfrm>
            </p:grpSpPr>
            <p:grpSp>
              <p:nvGrpSpPr>
                <p:cNvPr id="802" name="Groupe 46"/>
                <p:cNvGrpSpPr/>
                <p:nvPr/>
              </p:nvGrpSpPr>
              <p:grpSpPr>
                <a:xfrm>
                  <a:off x="2506680" y="1217520"/>
                  <a:ext cx="4965840" cy="3245400"/>
                  <a:chOff x="2506680" y="1217520"/>
                  <a:chExt cx="4965840" cy="3245400"/>
                </a:xfrm>
              </p:grpSpPr>
              <p:grpSp>
                <p:nvGrpSpPr>
                  <p:cNvPr id="803" name="Groupe 46"/>
                  <p:cNvGrpSpPr/>
                  <p:nvPr/>
                </p:nvGrpSpPr>
                <p:grpSpPr>
                  <a:xfrm>
                    <a:off x="2506680" y="1217520"/>
                    <a:ext cx="4965840" cy="3245400"/>
                    <a:chOff x="2506680" y="1217520"/>
                    <a:chExt cx="4965840" cy="3245400"/>
                  </a:xfrm>
                </p:grpSpPr>
                <p:grpSp>
                  <p:nvGrpSpPr>
                    <p:cNvPr id="804" name="Group 4"/>
                    <p:cNvGrpSpPr/>
                    <p:nvPr/>
                  </p:nvGrpSpPr>
                  <p:grpSpPr>
                    <a:xfrm>
                      <a:off x="5643000" y="3737520"/>
                      <a:ext cx="1698840" cy="725400"/>
                      <a:chOff x="5643000" y="3737520"/>
                      <a:chExt cx="1698840" cy="725400"/>
                    </a:xfrm>
                  </p:grpSpPr>
                  <p:sp>
                    <p:nvSpPr>
                      <p:cNvPr id="805" name="Text Box 5"/>
                      <p:cNvSpPr/>
                      <p:nvPr/>
                    </p:nvSpPr>
                    <p:spPr>
                      <a:xfrm>
                        <a:off x="5643000" y="4216680"/>
                        <a:ext cx="16988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8eb4e3"/>
                            </a:solidFill>
                            <a:latin typeface="Arial"/>
                            <a:ea typeface="Tahoma"/>
                          </a:rPr>
                          <a:t>Sur l’ENTREPRIS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AutoShape 6"/>
                      <p:cNvSpPr/>
                      <p:nvPr/>
                    </p:nvSpPr>
                    <p:spPr>
                      <a:xfrm>
                        <a:off x="5749920" y="3737520"/>
                        <a:ext cx="1481040" cy="523080"/>
                      </a:xfrm>
                      <a:prstGeom prst="flowChartAlternateProcess">
                        <a:avLst/>
                      </a:prstGeom>
                      <a:solidFill>
                        <a:srgbClr val="ffffcc"/>
                      </a:solidFill>
                      <a:ln w="255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7" name="Group 8"/>
                    <p:cNvGrpSpPr/>
                    <p:nvPr/>
                  </p:nvGrpSpPr>
                  <p:grpSpPr>
                    <a:xfrm>
                      <a:off x="2506680" y="1217520"/>
                      <a:ext cx="4965840" cy="3245400"/>
                      <a:chOff x="2506680" y="1217520"/>
                      <a:chExt cx="4965840" cy="3245400"/>
                    </a:xfrm>
                  </p:grpSpPr>
                  <p:sp>
                    <p:nvSpPr>
                      <p:cNvPr id="808" name="Line 9"/>
                      <p:cNvSpPr/>
                      <p:nvPr/>
                    </p:nvSpPr>
                    <p:spPr>
                      <a:xfrm>
                        <a:off x="2508480" y="3170520"/>
                        <a:ext cx="49640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c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Text Box 10"/>
                      <p:cNvSpPr/>
                      <p:nvPr/>
                    </p:nvSpPr>
                    <p:spPr>
                      <a:xfrm rot="16200000">
                        <a:off x="1866960" y="2125800"/>
                        <a:ext cx="15271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DETERMINANT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AutoShape 11"/>
                      <p:cNvSpPr/>
                      <p:nvPr/>
                    </p:nvSpPr>
                    <p:spPr>
                      <a:xfrm>
                        <a:off x="2856600" y="1453320"/>
                        <a:ext cx="2133720" cy="104616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Text Box 12"/>
                      <p:cNvSpPr/>
                      <p:nvPr/>
                    </p:nvSpPr>
                    <p:spPr>
                      <a:xfrm>
                        <a:off x="3379320" y="1217520"/>
                        <a:ext cx="8708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376092"/>
                            </a:solidFill>
                            <a:latin typeface="Arial"/>
                            <a:ea typeface="Tahoma"/>
                          </a:rPr>
                          <a:t>HOMM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AutoShape 13"/>
                      <p:cNvSpPr/>
                      <p:nvPr/>
                    </p:nvSpPr>
                    <p:spPr>
                      <a:xfrm>
                        <a:off x="5438520" y="1448640"/>
                        <a:ext cx="1959480" cy="105408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AutoShape 14"/>
                      <p:cNvSpPr/>
                      <p:nvPr/>
                    </p:nvSpPr>
                    <p:spPr>
                      <a:xfrm>
                        <a:off x="5600160" y="2342520"/>
                        <a:ext cx="1480320" cy="392040"/>
                      </a:xfrm>
                      <a:prstGeom prst="flowChartAlternateProcess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00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Text Box 15"/>
                      <p:cNvSpPr/>
                      <p:nvPr/>
                    </p:nvSpPr>
                    <p:spPr>
                      <a:xfrm>
                        <a:off x="5687280" y="1217520"/>
                        <a:ext cx="12625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376092"/>
                            </a:solidFill>
                            <a:latin typeface="Arial"/>
                            <a:ea typeface="Tahoma"/>
                          </a:rPr>
                          <a:t>ENTREPRIS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AutoShape 16"/>
                      <p:cNvSpPr/>
                      <p:nvPr/>
                    </p:nvSpPr>
                    <p:spPr>
                      <a:xfrm>
                        <a:off x="3074400" y="3737520"/>
                        <a:ext cx="1480320" cy="523080"/>
                      </a:xfrm>
                      <a:prstGeom prst="flowChartAlternateProcess">
                        <a:avLst/>
                      </a:prstGeom>
                      <a:solidFill>
                        <a:srgbClr val="ffffcc"/>
                      </a:solidFill>
                      <a:ln w="255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6" name="Text Box 17"/>
                      <p:cNvSpPr/>
                      <p:nvPr/>
                    </p:nvSpPr>
                    <p:spPr>
                      <a:xfrm rot="16200000">
                        <a:off x="2214720" y="3681720"/>
                        <a:ext cx="829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EFFET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Text Box 18"/>
                      <p:cNvSpPr/>
                      <p:nvPr/>
                    </p:nvSpPr>
                    <p:spPr>
                      <a:xfrm>
                        <a:off x="3162240" y="4216680"/>
                        <a:ext cx="13060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624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1000" spc="-1" strike="noStrike">
                            <a:solidFill>
                              <a:srgbClr val="8eb4e3"/>
                            </a:solidFill>
                            <a:latin typeface="Arial"/>
                            <a:ea typeface="Tahoma"/>
                          </a:rPr>
                          <a:t>Sur l’HOMM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Text Box 19"/>
                      <p:cNvSpPr/>
                      <p:nvPr/>
                    </p:nvSpPr>
                    <p:spPr>
                      <a:xfrm>
                        <a:off x="5652000" y="2318040"/>
                        <a:ext cx="1408680" cy="400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800" spc="-1" strike="noStrike">
                            <a:solidFill>
                              <a:srgbClr val="000099"/>
                            </a:solidFill>
                            <a:latin typeface="Arial"/>
                            <a:ea typeface="Tahoma"/>
                          </a:rPr>
                          <a:t>Travail prescrit: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ff0000"/>
                            </a:solidFill>
                            <a:latin typeface="Arial"/>
                            <a:ea typeface="Tahoma"/>
                          </a:rPr>
                          <a:t>Changer les draps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Text Box 21"/>
                      <p:cNvSpPr/>
                      <p:nvPr/>
                    </p:nvSpPr>
                    <p:spPr>
                      <a:xfrm>
                        <a:off x="4593240" y="2657520"/>
                        <a:ext cx="9576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TRAVAIL REEL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Line 22"/>
                      <p:cNvSpPr/>
                      <p:nvPr/>
                    </p:nvSpPr>
                    <p:spPr>
                      <a:xfrm>
                        <a:off x="4041360" y="2863800"/>
                        <a:ext cx="21427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376092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1" name="Text Box 23"/>
                      <p:cNvSpPr/>
                      <p:nvPr/>
                    </p:nvSpPr>
                    <p:spPr>
                      <a:xfrm>
                        <a:off x="4367160" y="2862720"/>
                        <a:ext cx="4788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Tâche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Text Box 24"/>
                      <p:cNvSpPr/>
                      <p:nvPr/>
                    </p:nvSpPr>
                    <p:spPr>
                      <a:xfrm>
                        <a:off x="5332320" y="2868480"/>
                        <a:ext cx="56592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fr-FR" sz="800" spc="-1" strike="noStrike">
                            <a:solidFill>
                              <a:srgbClr val="000000"/>
                            </a:solidFill>
                            <a:latin typeface="Arial"/>
                            <a:ea typeface="Tahoma"/>
                          </a:rPr>
                          <a:t>Activité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3" name="Line 22"/>
                  <p:cNvSpPr/>
                  <p:nvPr/>
                </p:nvSpPr>
                <p:spPr>
                  <a:xfrm>
                    <a:off x="5106960" y="2865600"/>
                    <a:ext cx="14040" cy="830160"/>
                  </a:xfrm>
                  <a:prstGeom prst="line">
                    <a:avLst/>
                  </a:prstGeom>
                  <a:ln w="28440">
                    <a:solidFill>
                      <a:srgbClr val="376092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4" name="Text Box 19"/>
                <p:cNvSpPr/>
                <p:nvPr/>
              </p:nvSpPr>
              <p:spPr>
                <a:xfrm>
                  <a:off x="2981160" y="1517400"/>
                  <a:ext cx="1716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Homme </a:t>
                  </a: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1 m 95</a:t>
                  </a: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, 35 ans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Pas de qualification particulière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Peu d’expérience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…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19"/>
                <p:cNvSpPr/>
                <p:nvPr/>
              </p:nvSpPr>
              <p:spPr>
                <a:xfrm>
                  <a:off x="5569200" y="1528560"/>
                  <a:ext cx="171612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Hotel</a:t>
                  </a:r>
                  <a:br>
                    <a:rPr sz="800"/>
                  </a:br>
                  <a:r>
                    <a:rPr b="1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Lit 140 x 190, </a:t>
                  </a: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H = 60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Draps,…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50 chambres à refaire par jour</a:t>
                  </a:r>
                  <a:br>
                    <a:rPr sz="800"/>
                  </a:br>
                  <a:r>
                    <a:rPr b="0" lang="fr-FR" sz="800" spc="-1" strike="noStrike">
                      <a:solidFill>
                        <a:srgbClr val="31859c"/>
                      </a:solidFill>
                      <a:latin typeface="Arial"/>
                      <a:ea typeface="Tahoma"/>
                    </a:rPr>
                    <a:t>…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3"/>
                <p:cNvSpPr/>
                <p:nvPr/>
              </p:nvSpPr>
              <p:spPr>
                <a:xfrm>
                  <a:off x="4047120" y="30168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Enlève les drap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3"/>
                <p:cNvSpPr/>
                <p:nvPr/>
              </p:nvSpPr>
              <p:spPr>
                <a:xfrm>
                  <a:off x="4046400" y="31734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Noue les drap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3"/>
                <p:cNvSpPr/>
                <p:nvPr/>
              </p:nvSpPr>
              <p:spPr>
                <a:xfrm>
                  <a:off x="4046400" y="333216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Pose à la por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23"/>
                <p:cNvSpPr/>
                <p:nvPr/>
              </p:nvSpPr>
              <p:spPr>
                <a:xfrm>
                  <a:off x="5118120" y="301644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800" spc="-1" strike="noStrike">
                      <a:solidFill>
                        <a:srgbClr val="ff0000"/>
                      </a:solidFill>
                      <a:latin typeface="Arial"/>
                      <a:ea typeface="Tahoma"/>
                    </a:rPr>
                    <a:t>Se penche</a:t>
                  </a:r>
                  <a:r>
                    <a:rPr b="1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, ti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23"/>
                <p:cNvSpPr/>
                <p:nvPr/>
              </p:nvSpPr>
              <p:spPr>
                <a:xfrm>
                  <a:off x="5118120" y="317340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Croise les bra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3"/>
                <p:cNvSpPr/>
                <p:nvPr/>
              </p:nvSpPr>
              <p:spPr>
                <a:xfrm>
                  <a:off x="5118120" y="3332160"/>
                  <a:ext cx="105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8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March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e 47"/>
                <p:cNvGrpSpPr/>
                <p:nvPr/>
              </p:nvGrpSpPr>
              <p:grpSpPr>
                <a:xfrm>
                  <a:off x="3698280" y="1695600"/>
                  <a:ext cx="3107160" cy="2323800"/>
                  <a:chOff x="3698280" y="1695600"/>
                  <a:chExt cx="3107160" cy="2323800"/>
                </a:xfrm>
              </p:grpSpPr>
              <p:cxnSp>
                <p:nvCxnSpPr>
                  <p:cNvPr id="833" name="Connecteur droit avec flèche 70"/>
                  <p:cNvCxnSpPr/>
                  <p:nvPr/>
                </p:nvCxnSpPr>
                <p:spPr>
                  <a:xfrm flipH="1">
                    <a:off x="3964680" y="3933360"/>
                    <a:ext cx="1861200" cy="8640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4" name="Connecteur droit avec flèche 71"/>
                  <p:cNvCxnSpPr/>
                  <p:nvPr/>
                </p:nvCxnSpPr>
                <p:spPr>
                  <a:xfrm flipH="1" flipV="1">
                    <a:off x="5025240" y="3123720"/>
                    <a:ext cx="159120" cy="216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5" name="Connecteur droit avec flèche 74"/>
                  <p:cNvCxnSpPr/>
                  <p:nvPr/>
                </p:nvCxnSpPr>
                <p:spPr>
                  <a:xfrm flipV="1">
                    <a:off x="3882600" y="3198240"/>
                    <a:ext cx="1513440" cy="73368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6" name="Connecteur droit avec flèche 80"/>
                  <p:cNvCxnSpPr/>
                  <p:nvPr/>
                </p:nvCxnSpPr>
                <p:spPr>
                  <a:xfrm flipV="1">
                    <a:off x="4179600" y="2623680"/>
                    <a:ext cx="1621440" cy="43056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7" name="Connecteur droit avec flèche 83"/>
                  <p:cNvCxnSpPr/>
                  <p:nvPr/>
                </p:nvCxnSpPr>
                <p:spPr>
                  <a:xfrm>
                    <a:off x="3698280" y="1695600"/>
                    <a:ext cx="2106720" cy="81612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838" name="Connecteur droit avec flèche 86"/>
                  <p:cNvCxnSpPr/>
                  <p:nvPr/>
                </p:nvCxnSpPr>
                <p:spPr>
                  <a:xfrm>
                    <a:off x="6702120" y="1849680"/>
                    <a:ext cx="103680" cy="700200"/>
                  </a:xfrm>
                  <a:prstGeom prst="straightConnector1">
                    <a:avLst/>
                  </a:prstGeom>
                  <a:ln w="50760">
                    <a:solidFill>
                      <a:srgbClr val="ff0000"/>
                    </a:solidFill>
                    <a:miter/>
                    <a:tailEnd len="med" type="arrow" w="med"/>
                  </a:ln>
                </p:spPr>
              </p:cxnSp>
            </p:grpSp>
          </p:grpSp>
          <p:sp>
            <p:nvSpPr>
              <p:cNvPr id="839" name="Text Box 23"/>
              <p:cNvSpPr/>
              <p:nvPr/>
            </p:nvSpPr>
            <p:spPr>
              <a:xfrm>
                <a:off x="3165480" y="3748680"/>
                <a:ext cx="1301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br>
                  <a:rPr sz="800"/>
                </a:br>
                <a:r>
                  <a:rPr b="1" lang="fr-FR" sz="8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Mal au dos</a:t>
                </a:r>
                <a:br>
                  <a:rPr sz="800"/>
                </a:b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23"/>
              <p:cNvSpPr/>
              <p:nvPr/>
            </p:nvSpPr>
            <p:spPr>
              <a:xfrm>
                <a:off x="5830560" y="3748680"/>
                <a:ext cx="133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800" spc="-1" strike="noStrike">
                    <a:solidFill>
                      <a:srgbClr val="ff0000"/>
                    </a:solidFill>
                    <a:latin typeface="Arial"/>
                    <a:ea typeface="Tahoma"/>
                  </a:rPr>
                  <a:t>A.T.</a:t>
                </a:r>
                <a:br>
                  <a:rPr sz="800"/>
                </a:br>
                <a:r>
                  <a:rPr b="1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Insatisfaction clients</a:t>
                </a:r>
                <a:br>
                  <a:rPr sz="800"/>
                </a:br>
                <a:r>
                  <a:rPr b="0" lang="fr-FR" sz="800" spc="-1" strike="noStrike">
                    <a:solidFill>
                      <a:srgbClr val="0033cc"/>
                    </a:solidFill>
                    <a:latin typeface="Arial"/>
                    <a:ea typeface="Tahoma"/>
                  </a:rPr>
                  <a:t>…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92240" y="189000"/>
            <a:ext cx="7727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Formuler d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 Box 1038"/>
          <p:cNvSpPr/>
          <p:nvPr/>
        </p:nvSpPr>
        <p:spPr>
          <a:xfrm>
            <a:off x="441360" y="4721400"/>
            <a:ext cx="8245440" cy="1437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effets constatés sur l’entreprise (arrêts de travail) et sur l’opérateur (mal de dos) semblent liés à son travail réel, lorsqu’il se penche pour enlever les draps afin de réaliser le travail prescr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es déterminants influant sur cette situation semblent la taille de l’opérateur (1m95) et </a:t>
            </a:r>
            <a:br>
              <a:rPr sz="1600"/>
            </a:br>
            <a:r>
              <a:rPr b="0" i="1" lang="fr-FR" sz="1600" spc="-1" strike="noStrike">
                <a:solidFill>
                  <a:srgbClr val="c6d9f1"/>
                </a:solidFill>
                <a:latin typeface="Arial"/>
                <a:ea typeface="Tahoma"/>
              </a:rPr>
              <a:t>la hauteur des lits (H=6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Bouton d’action : Suivant 51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01680" y="189000"/>
            <a:ext cx="7618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1393920" y="1119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Text Box 5"/>
          <p:cNvGrpSpPr/>
          <p:nvPr/>
        </p:nvGrpSpPr>
        <p:grpSpPr>
          <a:xfrm>
            <a:off x="2571840" y="2876400"/>
            <a:ext cx="3530520" cy="1828800"/>
            <a:chOff x="2571840" y="2876400"/>
            <a:chExt cx="3530520" cy="1828800"/>
          </a:xfrm>
        </p:grpSpPr>
        <p:pic>
          <p:nvPicPr>
            <p:cNvPr id="847" name="Text Box 5" descr=""/>
            <p:cNvPicPr/>
            <p:nvPr/>
          </p:nvPicPr>
          <p:blipFill>
            <a:blip r:embed="rId1"/>
            <a:stretch/>
          </p:blipFill>
          <p:spPr>
            <a:xfrm>
              <a:off x="2571840" y="2876400"/>
              <a:ext cx="3530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595600" y="2898720"/>
              <a:ext cx="34876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En fonction d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hypothèses envisagé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utiliser un ou plusieu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« observables 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Rectangle avec flèche vers la droite 16"/>
          <p:cNvSpPr/>
          <p:nvPr/>
        </p:nvSpPr>
        <p:spPr>
          <a:xfrm>
            <a:off x="295200" y="3316320"/>
            <a:ext cx="2197080" cy="95076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77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épla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avec flèche vers le bas 17"/>
          <p:cNvSpPr/>
          <p:nvPr/>
        </p:nvSpPr>
        <p:spPr>
          <a:xfrm>
            <a:off x="2357280" y="1685880"/>
            <a:ext cx="1820880" cy="111132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sur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avec flèche vers la gauche 18"/>
          <p:cNvSpPr/>
          <p:nvPr/>
        </p:nvSpPr>
        <p:spPr>
          <a:xfrm>
            <a:off x="6184800" y="3168720"/>
            <a:ext cx="2824200" cy="1245960"/>
          </a:xfrm>
          <a:prstGeom prst="leftArrowCallout">
            <a:avLst>
              <a:gd name="adj1" fmla="val 25002"/>
              <a:gd name="adj2" fmla="val 25000"/>
              <a:gd name="adj3" fmla="val 25007"/>
              <a:gd name="adj4" fmla="val 77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munications : orale, écrite, ges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avec flèche vers le haut 19"/>
          <p:cNvSpPr/>
          <p:nvPr/>
        </p:nvSpPr>
        <p:spPr>
          <a:xfrm>
            <a:off x="2475000" y="4768920"/>
            <a:ext cx="1487520" cy="1245960"/>
          </a:xfrm>
          <a:prstGeom prst="upArrowCallout">
            <a:avLst>
              <a:gd name="adj1" fmla="val 25007"/>
              <a:gd name="adj2" fmla="val 25005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esures chim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avec flèche vers le bas 20"/>
          <p:cNvSpPr/>
          <p:nvPr/>
        </p:nvSpPr>
        <p:spPr>
          <a:xfrm>
            <a:off x="4508640" y="1685880"/>
            <a:ext cx="1820880" cy="111132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avec flèche vers le haut 21"/>
          <p:cNvSpPr/>
          <p:nvPr/>
        </p:nvSpPr>
        <p:spPr>
          <a:xfrm>
            <a:off x="4768920" y="4768920"/>
            <a:ext cx="1488960" cy="1245960"/>
          </a:xfrm>
          <a:prstGeom prst="upArrowCallout">
            <a:avLst>
              <a:gd name="adj1" fmla="val 25009"/>
              <a:gd name="adj2" fmla="val 25001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irections des reg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Bouton d’action : Suivant 1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55680" y="189000"/>
            <a:ext cx="7564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1738440" y="957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"/>
          <p:cNvSpPr/>
          <p:nvPr/>
        </p:nvSpPr>
        <p:spPr>
          <a:xfrm>
            <a:off x="863640" y="1344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Outils de validation  pour l’enchainement des 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msotw9_temp0"/>
          <p:cNvPicPr/>
          <p:nvPr/>
        </p:nvPicPr>
        <p:blipFill>
          <a:blip r:embed="rId1"/>
          <a:srcRect l="2451" t="6750" r="5533" b="0"/>
          <a:stretch/>
        </p:blipFill>
        <p:spPr>
          <a:xfrm>
            <a:off x="66600" y="1765440"/>
            <a:ext cx="4416480" cy="50004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6" descr="chronogramme"/>
          <p:cNvPicPr/>
          <p:nvPr/>
        </p:nvPicPr>
        <p:blipFill>
          <a:blip r:embed="rId2"/>
          <a:srcRect l="6068" t="8045" r="5276" b="8359"/>
          <a:stretch/>
        </p:blipFill>
        <p:spPr>
          <a:xfrm>
            <a:off x="4430880" y="2357280"/>
            <a:ext cx="4668840" cy="3332160"/>
          </a:xfrm>
          <a:prstGeom prst="rect">
            <a:avLst/>
          </a:prstGeom>
          <a:ln w="0">
            <a:noFill/>
          </a:ln>
        </p:spPr>
      </p:pic>
      <p:sp>
        <p:nvSpPr>
          <p:cNvPr id="861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Valider les hypothè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153036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’observation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816120" y="1158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Outils de validation  pour la répartition des activités et des po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6" descr="activite-posture1"/>
          <p:cNvPicPr/>
          <p:nvPr/>
        </p:nvPicPr>
        <p:blipFill>
          <a:blip r:embed="rId1"/>
          <a:srcRect l="4544" t="18640" r="0" b="0"/>
          <a:stretch/>
        </p:blipFill>
        <p:spPr>
          <a:xfrm>
            <a:off x="165240" y="3879720"/>
            <a:ext cx="5333760" cy="2826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activite-posture2"/>
          <p:cNvPicPr/>
          <p:nvPr/>
        </p:nvPicPr>
        <p:blipFill>
          <a:blip r:embed="rId2"/>
          <a:srcRect l="0" t="18572" r="0" b="0"/>
          <a:stretch/>
        </p:blipFill>
        <p:spPr>
          <a:xfrm>
            <a:off x="3352680" y="1512720"/>
            <a:ext cx="5715000" cy="2891160"/>
          </a:xfrm>
          <a:prstGeom prst="rect">
            <a:avLst/>
          </a:prstGeom>
          <a:ln w="0">
            <a:noFill/>
          </a:ln>
        </p:spPr>
      </p:pic>
      <p:sp>
        <p:nvSpPr>
          <p:cNvPr id="867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5120" y="13064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éliorer les pratiques de son mét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Améliorer"/>
          <p:cNvPicPr/>
          <p:nvPr/>
        </p:nvPicPr>
        <p:blipFill>
          <a:blip r:embed="rId1"/>
          <a:stretch/>
        </p:blipFill>
        <p:spPr>
          <a:xfrm>
            <a:off x="1116000" y="3284640"/>
            <a:ext cx="2716200" cy="33130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4551480" y="4019400"/>
            <a:ext cx="40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Formuler une hypothèse et justifier sa validation pour ensuite, proposer des mesures de prévention hiérarch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Bouton d’action : Suivant 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387440" y="695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54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545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546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549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5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Bouton d’action : Suivant 2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01680" y="189000"/>
            <a:ext cx="76183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816120" y="1311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de mettre en relation les déterminants et les effets. Ils sont de deux typ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85800" y="8874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de caus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816120" y="2871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déterminants conduisent l'opérateur à travailler d’une certaine manière,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e qui induit des effets sur l'homme et/ou sur l'entreprise.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’est la </a:t>
            </a:r>
            <a:r>
              <a:rPr b="1" i="1" lang="fr-FR" sz="1800" spc="-1" strike="noStrike">
                <a:solidFill>
                  <a:srgbClr val="002060"/>
                </a:solidFill>
                <a:latin typeface="Arial"/>
              </a:rPr>
              <a:t>méthode prospective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981000" y="2316240"/>
            <a:ext cx="2811600" cy="39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éter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lèche droite 39"/>
          <p:cNvSpPr/>
          <p:nvPr/>
        </p:nvSpPr>
        <p:spPr>
          <a:xfrm>
            <a:off x="4106880" y="2340000"/>
            <a:ext cx="996840" cy="352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419800" y="2316240"/>
            <a:ext cx="2800440" cy="3988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215968"/>
                </a:solidFill>
                <a:latin typeface="Arial"/>
              </a:rPr>
              <a:t>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816120" y="479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effets constatés sur l'homme ou sur l'entreprise laissent supposer que l'opérateur a agi en raison de tels détermin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C’est la </a:t>
            </a:r>
            <a:r>
              <a:rPr b="1" i="1" lang="fr-FR" sz="1800" spc="-1" strike="noStrike">
                <a:solidFill>
                  <a:srgbClr val="002060"/>
                </a:solidFill>
                <a:latin typeface="Arial"/>
              </a:rPr>
              <a:t>méthode retrospective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5419800" y="4221000"/>
            <a:ext cx="2809800" cy="398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éter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lèche droite 44"/>
          <p:cNvSpPr/>
          <p:nvPr/>
        </p:nvSpPr>
        <p:spPr>
          <a:xfrm>
            <a:off x="4106880" y="4245120"/>
            <a:ext cx="996840" cy="352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981000" y="4221000"/>
            <a:ext cx="2801880" cy="3988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215968"/>
                </a:solidFill>
                <a:latin typeface="Arial"/>
              </a:rPr>
              <a:t>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Bouton d’action : Suivant 12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6240" y="189000"/>
            <a:ext cx="7673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816120" y="11588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de mettre en relation les déterminants et les effets. Ils sont de deux typ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141300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liens de caus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e 47"/>
          <p:cNvGrpSpPr/>
          <p:nvPr/>
        </p:nvGrpSpPr>
        <p:grpSpPr>
          <a:xfrm>
            <a:off x="981000" y="1868400"/>
            <a:ext cx="7239240" cy="398880"/>
            <a:chOff x="981000" y="1868400"/>
            <a:chExt cx="7239240" cy="398880"/>
          </a:xfrm>
        </p:grpSpPr>
        <p:sp>
          <p:nvSpPr>
            <p:cNvPr id="583" name="Text Box 5"/>
            <p:cNvSpPr/>
            <p:nvPr/>
          </p:nvSpPr>
          <p:spPr>
            <a:xfrm>
              <a:off x="981000" y="1868400"/>
              <a:ext cx="2809800" cy="3988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Détermin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lèche droite 39"/>
            <p:cNvSpPr/>
            <p:nvPr/>
          </p:nvSpPr>
          <p:spPr>
            <a:xfrm>
              <a:off x="4106880" y="1892160"/>
              <a:ext cx="996840" cy="35244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5"/>
            <p:cNvSpPr/>
            <p:nvPr/>
          </p:nvSpPr>
          <p:spPr>
            <a:xfrm>
              <a:off x="5418360" y="1868400"/>
              <a:ext cx="2801880" cy="3988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7"/>
          <p:cNvSpPr/>
          <p:nvPr/>
        </p:nvSpPr>
        <p:spPr>
          <a:xfrm>
            <a:off x="816120" y="323856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s liens de causalité permett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premier temps de formuler les hypothèses, étape incontournable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de l'approche par l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second temps, quantifier les observables liés aux 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dans un troisième temps de valider ou non les hypothèses  à parti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des résultats du second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puis de formuler des propositions d'améliorations pour l'opérateu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   et pour l'entrep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e 46"/>
          <p:cNvGrpSpPr/>
          <p:nvPr/>
        </p:nvGrpSpPr>
        <p:grpSpPr>
          <a:xfrm>
            <a:off x="981000" y="2500200"/>
            <a:ext cx="7248600" cy="398880"/>
            <a:chOff x="981000" y="2500200"/>
            <a:chExt cx="7248600" cy="398880"/>
          </a:xfrm>
        </p:grpSpPr>
        <p:sp>
          <p:nvSpPr>
            <p:cNvPr id="588" name="Text Box 5"/>
            <p:cNvSpPr/>
            <p:nvPr/>
          </p:nvSpPr>
          <p:spPr>
            <a:xfrm>
              <a:off x="5418000" y="2500200"/>
              <a:ext cx="2811600" cy="398880"/>
            </a:xfrm>
            <a:prstGeom prst="rect">
              <a:avLst/>
            </a:pr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Détermin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lèche droite 44"/>
            <p:cNvSpPr/>
            <p:nvPr/>
          </p:nvSpPr>
          <p:spPr>
            <a:xfrm>
              <a:off x="4106880" y="2523960"/>
              <a:ext cx="996840" cy="352800"/>
            </a:xfrm>
            <a:prstGeom prst="rightArrow">
              <a:avLst>
                <a:gd name="adj1" fmla="val 50000"/>
                <a:gd name="adj2" fmla="val 4995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5"/>
            <p:cNvSpPr/>
            <p:nvPr/>
          </p:nvSpPr>
          <p:spPr>
            <a:xfrm>
              <a:off x="981000" y="2500200"/>
              <a:ext cx="2801880" cy="3988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593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594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595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70c0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598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70c0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539720" y="6811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s l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rme libre 55"/>
          <p:cNvSpPr/>
          <p:nvPr/>
        </p:nvSpPr>
        <p:spPr>
          <a:xfrm>
            <a:off x="2454120" y="2411280"/>
            <a:ext cx="908280" cy="1944720"/>
          </a:xfrm>
          <a:custGeom>
            <a:avLst/>
            <a:gdLst/>
            <a:ahLst/>
            <a:rect l="l" t="t" r="r" b="b"/>
            <a:pathLst>
              <a:path w="907983" h="1945341">
                <a:moveTo>
                  <a:pt x="110124" y="0"/>
                </a:moveTo>
                <a:cubicBezTo>
                  <a:pt x="107136" y="8965"/>
                  <a:pt x="104881" y="18208"/>
                  <a:pt x="101159" y="26894"/>
                </a:cubicBezTo>
                <a:cubicBezTo>
                  <a:pt x="95895" y="39177"/>
                  <a:pt x="87922" y="50240"/>
                  <a:pt x="83230" y="62753"/>
                </a:cubicBezTo>
                <a:cubicBezTo>
                  <a:pt x="78904" y="74289"/>
                  <a:pt x="79004" y="87239"/>
                  <a:pt x="74265" y="98612"/>
                </a:cubicBezTo>
                <a:cubicBezTo>
                  <a:pt x="63985" y="123284"/>
                  <a:pt x="38406" y="170330"/>
                  <a:pt x="38406" y="170330"/>
                </a:cubicBezTo>
                <a:cubicBezTo>
                  <a:pt x="0" y="400770"/>
                  <a:pt x="13620" y="277856"/>
                  <a:pt x="29442" y="681318"/>
                </a:cubicBezTo>
                <a:cubicBezTo>
                  <a:pt x="31737" y="739839"/>
                  <a:pt x="36933" y="720247"/>
                  <a:pt x="47371" y="762000"/>
                </a:cubicBezTo>
                <a:cubicBezTo>
                  <a:pt x="51067" y="776782"/>
                  <a:pt x="52910" y="791977"/>
                  <a:pt x="56336" y="806824"/>
                </a:cubicBezTo>
                <a:cubicBezTo>
                  <a:pt x="61877" y="830834"/>
                  <a:pt x="68289" y="854635"/>
                  <a:pt x="74265" y="878541"/>
                </a:cubicBezTo>
                <a:lnTo>
                  <a:pt x="83230" y="914400"/>
                </a:lnTo>
                <a:cubicBezTo>
                  <a:pt x="86218" y="947271"/>
                  <a:pt x="86112" y="980571"/>
                  <a:pt x="92195" y="1013012"/>
                </a:cubicBezTo>
                <a:cubicBezTo>
                  <a:pt x="95161" y="1028828"/>
                  <a:pt x="104474" y="1042768"/>
                  <a:pt x="110124" y="1057835"/>
                </a:cubicBezTo>
                <a:cubicBezTo>
                  <a:pt x="113442" y="1066683"/>
                  <a:pt x="116101" y="1075765"/>
                  <a:pt x="119089" y="1084730"/>
                </a:cubicBezTo>
                <a:cubicBezTo>
                  <a:pt x="121522" y="1099328"/>
                  <a:pt x="126508" y="1146494"/>
                  <a:pt x="137018" y="1165412"/>
                </a:cubicBezTo>
                <a:cubicBezTo>
                  <a:pt x="147483" y="1184249"/>
                  <a:pt x="166063" y="1198757"/>
                  <a:pt x="172877" y="1219200"/>
                </a:cubicBezTo>
                <a:cubicBezTo>
                  <a:pt x="175865" y="1228165"/>
                  <a:pt x="177154" y="1237889"/>
                  <a:pt x="181842" y="1246094"/>
                </a:cubicBezTo>
                <a:cubicBezTo>
                  <a:pt x="189255" y="1259067"/>
                  <a:pt x="201208" y="1269047"/>
                  <a:pt x="208736" y="1281953"/>
                </a:cubicBezTo>
                <a:cubicBezTo>
                  <a:pt x="222203" y="1305040"/>
                  <a:pt x="232642" y="1329765"/>
                  <a:pt x="244595" y="1353671"/>
                </a:cubicBezTo>
                <a:cubicBezTo>
                  <a:pt x="250571" y="1365624"/>
                  <a:pt x="253074" y="1380080"/>
                  <a:pt x="262524" y="1389530"/>
                </a:cubicBezTo>
                <a:cubicBezTo>
                  <a:pt x="373869" y="1500872"/>
                  <a:pt x="255103" y="1377883"/>
                  <a:pt x="334242" y="1470212"/>
                </a:cubicBezTo>
                <a:cubicBezTo>
                  <a:pt x="362731" y="1503450"/>
                  <a:pt x="361565" y="1494474"/>
                  <a:pt x="396995" y="1524000"/>
                </a:cubicBezTo>
                <a:cubicBezTo>
                  <a:pt x="403488" y="1529411"/>
                  <a:pt x="408324" y="1536650"/>
                  <a:pt x="414924" y="1541930"/>
                </a:cubicBezTo>
                <a:cubicBezTo>
                  <a:pt x="423337" y="1548661"/>
                  <a:pt x="433710" y="1552764"/>
                  <a:pt x="441818" y="1559859"/>
                </a:cubicBezTo>
                <a:cubicBezTo>
                  <a:pt x="457720" y="1573773"/>
                  <a:pt x="469060" y="1592962"/>
                  <a:pt x="486642" y="1604683"/>
                </a:cubicBezTo>
                <a:cubicBezTo>
                  <a:pt x="495607" y="1610659"/>
                  <a:pt x="504769" y="1616350"/>
                  <a:pt x="513536" y="1622612"/>
                </a:cubicBezTo>
                <a:cubicBezTo>
                  <a:pt x="532781" y="1636358"/>
                  <a:pt x="555159" y="1655361"/>
                  <a:pt x="576289" y="1667435"/>
                </a:cubicBezTo>
                <a:cubicBezTo>
                  <a:pt x="587892" y="1674065"/>
                  <a:pt x="600195" y="1679388"/>
                  <a:pt x="612148" y="1685365"/>
                </a:cubicBezTo>
                <a:cubicBezTo>
                  <a:pt x="618124" y="1694330"/>
                  <a:pt x="622459" y="1704641"/>
                  <a:pt x="630077" y="1712259"/>
                </a:cubicBezTo>
                <a:cubicBezTo>
                  <a:pt x="647454" y="1729636"/>
                  <a:pt x="661993" y="1731862"/>
                  <a:pt x="683865" y="1739153"/>
                </a:cubicBezTo>
                <a:cubicBezTo>
                  <a:pt x="689842" y="1745130"/>
                  <a:pt x="696515" y="1750483"/>
                  <a:pt x="701795" y="1757083"/>
                </a:cubicBezTo>
                <a:cubicBezTo>
                  <a:pt x="708526" y="1765496"/>
                  <a:pt x="712106" y="1776359"/>
                  <a:pt x="719724" y="1783977"/>
                </a:cubicBezTo>
                <a:cubicBezTo>
                  <a:pt x="727342" y="1791595"/>
                  <a:pt x="738205" y="1795176"/>
                  <a:pt x="746618" y="1801906"/>
                </a:cubicBezTo>
                <a:cubicBezTo>
                  <a:pt x="753218" y="1807186"/>
                  <a:pt x="757210" y="1815642"/>
                  <a:pt x="764548" y="1819835"/>
                </a:cubicBezTo>
                <a:cubicBezTo>
                  <a:pt x="825391" y="1854603"/>
                  <a:pt x="791953" y="1820245"/>
                  <a:pt x="836265" y="1855694"/>
                </a:cubicBezTo>
                <a:cubicBezTo>
                  <a:pt x="876033" y="1887509"/>
                  <a:pt x="832677" y="1870039"/>
                  <a:pt x="890053" y="1927412"/>
                </a:cubicBezTo>
                <a:lnTo>
                  <a:pt x="907983" y="1945341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rme libre 59"/>
          <p:cNvSpPr/>
          <p:nvPr/>
        </p:nvSpPr>
        <p:spPr>
          <a:xfrm>
            <a:off x="3478320" y="2232000"/>
            <a:ext cx="2985840" cy="2079720"/>
          </a:xfrm>
          <a:custGeom>
            <a:avLst/>
            <a:gdLst/>
            <a:ahLst/>
            <a:rect l="l" t="t" r="r" b="b"/>
            <a:pathLst>
              <a:path w="2985247" h="2079812">
                <a:moveTo>
                  <a:pt x="0" y="2079812"/>
                </a:moveTo>
                <a:cubicBezTo>
                  <a:pt x="2988" y="2067859"/>
                  <a:pt x="6940" y="2056106"/>
                  <a:pt x="8965" y="2043953"/>
                </a:cubicBezTo>
                <a:cubicBezTo>
                  <a:pt x="20591" y="1974197"/>
                  <a:pt x="22948" y="1897859"/>
                  <a:pt x="26894" y="1828800"/>
                </a:cubicBezTo>
                <a:cubicBezTo>
                  <a:pt x="30138" y="1772037"/>
                  <a:pt x="32077" y="1715199"/>
                  <a:pt x="35859" y="1658470"/>
                </a:cubicBezTo>
                <a:cubicBezTo>
                  <a:pt x="38054" y="1625537"/>
                  <a:pt x="39087" y="1592363"/>
                  <a:pt x="44823" y="1559859"/>
                </a:cubicBezTo>
                <a:cubicBezTo>
                  <a:pt x="44824" y="1559853"/>
                  <a:pt x="67235" y="1492626"/>
                  <a:pt x="71718" y="1479176"/>
                </a:cubicBezTo>
                <a:lnTo>
                  <a:pt x="89647" y="1425388"/>
                </a:lnTo>
                <a:lnTo>
                  <a:pt x="143435" y="1371600"/>
                </a:lnTo>
                <a:cubicBezTo>
                  <a:pt x="149412" y="1365623"/>
                  <a:pt x="153805" y="1357450"/>
                  <a:pt x="161365" y="1353670"/>
                </a:cubicBezTo>
                <a:cubicBezTo>
                  <a:pt x="241534" y="1313586"/>
                  <a:pt x="207726" y="1326264"/>
                  <a:pt x="259976" y="1308847"/>
                </a:cubicBezTo>
                <a:cubicBezTo>
                  <a:pt x="276653" y="1292170"/>
                  <a:pt x="282181" y="1284297"/>
                  <a:pt x="304800" y="1272988"/>
                </a:cubicBezTo>
                <a:cubicBezTo>
                  <a:pt x="313252" y="1268762"/>
                  <a:pt x="323242" y="1268249"/>
                  <a:pt x="331694" y="1264023"/>
                </a:cubicBezTo>
                <a:cubicBezTo>
                  <a:pt x="421710" y="1219015"/>
                  <a:pt x="284449" y="1275306"/>
                  <a:pt x="394447" y="1228164"/>
                </a:cubicBezTo>
                <a:cubicBezTo>
                  <a:pt x="417870" y="1218125"/>
                  <a:pt x="431939" y="1217813"/>
                  <a:pt x="457200" y="1210235"/>
                </a:cubicBezTo>
                <a:cubicBezTo>
                  <a:pt x="546694" y="1183387"/>
                  <a:pt x="474770" y="1197480"/>
                  <a:pt x="573741" y="1183341"/>
                </a:cubicBezTo>
                <a:cubicBezTo>
                  <a:pt x="661377" y="1154128"/>
                  <a:pt x="566033" y="1183236"/>
                  <a:pt x="779929" y="1165412"/>
                </a:cubicBezTo>
                <a:cubicBezTo>
                  <a:pt x="955601" y="1150773"/>
                  <a:pt x="598970" y="1159131"/>
                  <a:pt x="878541" y="1147482"/>
                </a:cubicBezTo>
                <a:cubicBezTo>
                  <a:pt x="1000989" y="1142380"/>
                  <a:pt x="1123576" y="1141505"/>
                  <a:pt x="1246094" y="1138517"/>
                </a:cubicBezTo>
                <a:cubicBezTo>
                  <a:pt x="1341584" y="1106689"/>
                  <a:pt x="1259752" y="1131211"/>
                  <a:pt x="1488141" y="1120588"/>
                </a:cubicBezTo>
                <a:lnTo>
                  <a:pt x="1658470" y="1111623"/>
                </a:lnTo>
                <a:cubicBezTo>
                  <a:pt x="1685364" y="1108635"/>
                  <a:pt x="1712140" y="1104248"/>
                  <a:pt x="1739153" y="1102659"/>
                </a:cubicBezTo>
                <a:cubicBezTo>
                  <a:pt x="1813789" y="1098269"/>
                  <a:pt x="1888682" y="1098838"/>
                  <a:pt x="1963270" y="1093694"/>
                </a:cubicBezTo>
                <a:cubicBezTo>
                  <a:pt x="1969935" y="1093234"/>
                  <a:pt x="2016862" y="1080344"/>
                  <a:pt x="2026023" y="1075764"/>
                </a:cubicBezTo>
                <a:cubicBezTo>
                  <a:pt x="2035660" y="1070946"/>
                  <a:pt x="2042598" y="1060931"/>
                  <a:pt x="2052918" y="1057835"/>
                </a:cubicBezTo>
                <a:cubicBezTo>
                  <a:pt x="2073157" y="1051763"/>
                  <a:pt x="2094828" y="1052344"/>
                  <a:pt x="2115670" y="1048870"/>
                </a:cubicBezTo>
                <a:cubicBezTo>
                  <a:pt x="2130700" y="1046365"/>
                  <a:pt x="2145647" y="1043332"/>
                  <a:pt x="2160494" y="1039906"/>
                </a:cubicBezTo>
                <a:cubicBezTo>
                  <a:pt x="2184505" y="1034365"/>
                  <a:pt x="2210172" y="1032996"/>
                  <a:pt x="2232212" y="1021976"/>
                </a:cubicBezTo>
                <a:cubicBezTo>
                  <a:pt x="2292326" y="991919"/>
                  <a:pt x="2242903" y="1013390"/>
                  <a:pt x="2303929" y="995082"/>
                </a:cubicBezTo>
                <a:cubicBezTo>
                  <a:pt x="2303976" y="995068"/>
                  <a:pt x="2371142" y="972678"/>
                  <a:pt x="2384612" y="968188"/>
                </a:cubicBezTo>
                <a:lnTo>
                  <a:pt x="2411506" y="959223"/>
                </a:lnTo>
                <a:cubicBezTo>
                  <a:pt x="2504764" y="865965"/>
                  <a:pt x="2377927" y="989286"/>
                  <a:pt x="2465294" y="914400"/>
                </a:cubicBezTo>
                <a:cubicBezTo>
                  <a:pt x="2478129" y="903399"/>
                  <a:pt x="2489200" y="890494"/>
                  <a:pt x="2501153" y="878541"/>
                </a:cubicBezTo>
                <a:cubicBezTo>
                  <a:pt x="2510118" y="869576"/>
                  <a:pt x="2520440" y="861789"/>
                  <a:pt x="2528047" y="851647"/>
                </a:cubicBezTo>
                <a:cubicBezTo>
                  <a:pt x="2537012" y="839694"/>
                  <a:pt x="2545217" y="827132"/>
                  <a:pt x="2554941" y="815788"/>
                </a:cubicBezTo>
                <a:cubicBezTo>
                  <a:pt x="2563192" y="806162"/>
                  <a:pt x="2573719" y="798633"/>
                  <a:pt x="2581835" y="788894"/>
                </a:cubicBezTo>
                <a:cubicBezTo>
                  <a:pt x="2644240" y="714009"/>
                  <a:pt x="2548088" y="813677"/>
                  <a:pt x="2626659" y="735106"/>
                </a:cubicBezTo>
                <a:cubicBezTo>
                  <a:pt x="2647261" y="673299"/>
                  <a:pt x="2631224" y="694681"/>
                  <a:pt x="2662518" y="663388"/>
                </a:cubicBezTo>
                <a:cubicBezTo>
                  <a:pt x="2671233" y="637241"/>
                  <a:pt x="2673584" y="625959"/>
                  <a:pt x="2689412" y="600635"/>
                </a:cubicBezTo>
                <a:cubicBezTo>
                  <a:pt x="2697331" y="587965"/>
                  <a:pt x="2708387" y="577446"/>
                  <a:pt x="2716306" y="564776"/>
                </a:cubicBezTo>
                <a:cubicBezTo>
                  <a:pt x="2752486" y="506886"/>
                  <a:pt x="2715632" y="547519"/>
                  <a:pt x="2752165" y="510988"/>
                </a:cubicBezTo>
                <a:cubicBezTo>
                  <a:pt x="2784853" y="412917"/>
                  <a:pt x="2732722" y="561458"/>
                  <a:pt x="2779059" y="457200"/>
                </a:cubicBezTo>
                <a:cubicBezTo>
                  <a:pt x="2786735" y="439930"/>
                  <a:pt x="2786505" y="419137"/>
                  <a:pt x="2796988" y="403412"/>
                </a:cubicBezTo>
                <a:cubicBezTo>
                  <a:pt x="2808941" y="385482"/>
                  <a:pt x="2826032" y="370066"/>
                  <a:pt x="2832847" y="349623"/>
                </a:cubicBezTo>
                <a:cubicBezTo>
                  <a:pt x="2835835" y="340658"/>
                  <a:pt x="2837287" y="331025"/>
                  <a:pt x="2841812" y="322729"/>
                </a:cubicBezTo>
                <a:cubicBezTo>
                  <a:pt x="2855311" y="297981"/>
                  <a:pt x="2877720" y="277756"/>
                  <a:pt x="2886635" y="251012"/>
                </a:cubicBezTo>
                <a:cubicBezTo>
                  <a:pt x="2889623" y="242047"/>
                  <a:pt x="2891374" y="232569"/>
                  <a:pt x="2895600" y="224117"/>
                </a:cubicBezTo>
                <a:cubicBezTo>
                  <a:pt x="2903392" y="208532"/>
                  <a:pt x="2915284" y="195156"/>
                  <a:pt x="2922494" y="179294"/>
                </a:cubicBezTo>
                <a:cubicBezTo>
                  <a:pt x="2930314" y="162089"/>
                  <a:pt x="2934447" y="143435"/>
                  <a:pt x="2940423" y="125506"/>
                </a:cubicBezTo>
                <a:lnTo>
                  <a:pt x="2958353" y="71717"/>
                </a:lnTo>
                <a:lnTo>
                  <a:pt x="2967318" y="44823"/>
                </a:lnTo>
                <a:cubicBezTo>
                  <a:pt x="2970306" y="35858"/>
                  <a:pt x="2972056" y="26381"/>
                  <a:pt x="2976282" y="17929"/>
                </a:cubicBezTo>
                <a:lnTo>
                  <a:pt x="2985247" y="0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rme libre 60"/>
          <p:cNvSpPr/>
          <p:nvPr/>
        </p:nvSpPr>
        <p:spPr>
          <a:xfrm>
            <a:off x="3146400" y="4724280"/>
            <a:ext cx="2044800" cy="1209960"/>
          </a:xfrm>
          <a:custGeom>
            <a:avLst/>
            <a:gdLst/>
            <a:ahLst/>
            <a:rect l="l" t="t" r="r" b="b"/>
            <a:pathLst>
              <a:path w="2043953" h="1210235">
                <a:moveTo>
                  <a:pt x="2017059" y="0"/>
                </a:moveTo>
                <a:cubicBezTo>
                  <a:pt x="2020047" y="11953"/>
                  <a:pt x="2022639" y="24011"/>
                  <a:pt x="2026024" y="35858"/>
                </a:cubicBezTo>
                <a:cubicBezTo>
                  <a:pt x="2028620" y="44944"/>
                  <a:pt x="2032696" y="53585"/>
                  <a:pt x="2034988" y="62753"/>
                </a:cubicBezTo>
                <a:cubicBezTo>
                  <a:pt x="2038683" y="77535"/>
                  <a:pt x="2040965" y="92635"/>
                  <a:pt x="2043953" y="107576"/>
                </a:cubicBezTo>
                <a:cubicBezTo>
                  <a:pt x="2040965" y="251011"/>
                  <a:pt x="2039613" y="394490"/>
                  <a:pt x="2034988" y="537882"/>
                </a:cubicBezTo>
                <a:cubicBezTo>
                  <a:pt x="2033636" y="579802"/>
                  <a:pt x="2030924" y="621733"/>
                  <a:pt x="2026024" y="663388"/>
                </a:cubicBezTo>
                <a:cubicBezTo>
                  <a:pt x="2022746" y="691252"/>
                  <a:pt x="2006266" y="703600"/>
                  <a:pt x="1990165" y="726141"/>
                </a:cubicBezTo>
                <a:cubicBezTo>
                  <a:pt x="1983903" y="734908"/>
                  <a:pt x="1979133" y="744758"/>
                  <a:pt x="1972235" y="753035"/>
                </a:cubicBezTo>
                <a:cubicBezTo>
                  <a:pt x="1946334" y="784116"/>
                  <a:pt x="1941862" y="779839"/>
                  <a:pt x="1909482" y="806823"/>
                </a:cubicBezTo>
                <a:cubicBezTo>
                  <a:pt x="1848326" y="857787"/>
                  <a:pt x="1956054" y="779962"/>
                  <a:pt x="1855694" y="851647"/>
                </a:cubicBezTo>
                <a:cubicBezTo>
                  <a:pt x="1846927" y="857909"/>
                  <a:pt x="1837419" y="863112"/>
                  <a:pt x="1828800" y="869576"/>
                </a:cubicBezTo>
                <a:cubicBezTo>
                  <a:pt x="1813493" y="881056"/>
                  <a:pt x="1800703" y="896143"/>
                  <a:pt x="1783977" y="905435"/>
                </a:cubicBezTo>
                <a:cubicBezTo>
                  <a:pt x="1773207" y="911419"/>
                  <a:pt x="1760071" y="911412"/>
                  <a:pt x="1748118" y="914400"/>
                </a:cubicBezTo>
                <a:cubicBezTo>
                  <a:pt x="1707891" y="954625"/>
                  <a:pt x="1755665" y="912199"/>
                  <a:pt x="1703294" y="941294"/>
                </a:cubicBezTo>
                <a:cubicBezTo>
                  <a:pt x="1610823" y="992667"/>
                  <a:pt x="1683464" y="965834"/>
                  <a:pt x="1622612" y="986117"/>
                </a:cubicBezTo>
                <a:cubicBezTo>
                  <a:pt x="1613647" y="992094"/>
                  <a:pt x="1603995" y="997149"/>
                  <a:pt x="1595718" y="1004047"/>
                </a:cubicBezTo>
                <a:cubicBezTo>
                  <a:pt x="1551715" y="1040716"/>
                  <a:pt x="1586678" y="1024265"/>
                  <a:pt x="1532965" y="1057835"/>
                </a:cubicBezTo>
                <a:cubicBezTo>
                  <a:pt x="1521632" y="1064918"/>
                  <a:pt x="1508709" y="1069134"/>
                  <a:pt x="1497106" y="1075764"/>
                </a:cubicBezTo>
                <a:cubicBezTo>
                  <a:pt x="1487751" y="1081110"/>
                  <a:pt x="1480058" y="1089318"/>
                  <a:pt x="1470212" y="1093694"/>
                </a:cubicBezTo>
                <a:cubicBezTo>
                  <a:pt x="1426335" y="1113195"/>
                  <a:pt x="1420677" y="1108554"/>
                  <a:pt x="1380565" y="1120588"/>
                </a:cubicBezTo>
                <a:cubicBezTo>
                  <a:pt x="1362463" y="1126019"/>
                  <a:pt x="1326777" y="1138517"/>
                  <a:pt x="1326777" y="1138517"/>
                </a:cubicBezTo>
                <a:cubicBezTo>
                  <a:pt x="1320800" y="1144494"/>
                  <a:pt x="1316616" y="1153117"/>
                  <a:pt x="1308847" y="1156447"/>
                </a:cubicBezTo>
                <a:cubicBezTo>
                  <a:pt x="1294842" y="1162449"/>
                  <a:pt x="1278898" y="1162106"/>
                  <a:pt x="1264024" y="1165411"/>
                </a:cubicBezTo>
                <a:cubicBezTo>
                  <a:pt x="1251996" y="1168084"/>
                  <a:pt x="1240012" y="1170991"/>
                  <a:pt x="1228165" y="1174376"/>
                </a:cubicBezTo>
                <a:cubicBezTo>
                  <a:pt x="1151088" y="1196399"/>
                  <a:pt x="1280856" y="1169410"/>
                  <a:pt x="1120588" y="1192305"/>
                </a:cubicBezTo>
                <a:cubicBezTo>
                  <a:pt x="1105504" y="1194460"/>
                  <a:pt x="1090957" y="1200101"/>
                  <a:pt x="1075765" y="1201270"/>
                </a:cubicBezTo>
                <a:cubicBezTo>
                  <a:pt x="1013126" y="1206089"/>
                  <a:pt x="950259" y="1207247"/>
                  <a:pt x="887506" y="1210235"/>
                </a:cubicBezTo>
                <a:lnTo>
                  <a:pt x="591671" y="1201270"/>
                </a:lnTo>
                <a:cubicBezTo>
                  <a:pt x="564642" y="1199983"/>
                  <a:pt x="537974" y="1194304"/>
                  <a:pt x="510988" y="1192305"/>
                </a:cubicBezTo>
                <a:cubicBezTo>
                  <a:pt x="457264" y="1188326"/>
                  <a:pt x="403412" y="1186329"/>
                  <a:pt x="349624" y="1183341"/>
                </a:cubicBezTo>
                <a:cubicBezTo>
                  <a:pt x="322730" y="1180353"/>
                  <a:pt x="296001" y="1174376"/>
                  <a:pt x="268941" y="1174376"/>
                </a:cubicBezTo>
                <a:cubicBezTo>
                  <a:pt x="179244" y="1174376"/>
                  <a:pt x="89697" y="1183341"/>
                  <a:pt x="0" y="1183341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rme libre 61"/>
          <p:cNvSpPr/>
          <p:nvPr/>
        </p:nvSpPr>
        <p:spPr>
          <a:xfrm>
            <a:off x="5656320" y="4653000"/>
            <a:ext cx="985680" cy="1149480"/>
          </a:xfrm>
          <a:custGeom>
            <a:avLst/>
            <a:gdLst/>
            <a:ahLst/>
            <a:rect l="l" t="t" r="r" b="b"/>
            <a:pathLst>
              <a:path w="986118" h="1149596">
                <a:moveTo>
                  <a:pt x="0" y="0"/>
                </a:moveTo>
                <a:cubicBezTo>
                  <a:pt x="2988" y="8965"/>
                  <a:pt x="5243" y="18208"/>
                  <a:pt x="8965" y="26894"/>
                </a:cubicBezTo>
                <a:cubicBezTo>
                  <a:pt x="14229" y="39177"/>
                  <a:pt x="22203" y="50240"/>
                  <a:pt x="26895" y="62753"/>
                </a:cubicBezTo>
                <a:cubicBezTo>
                  <a:pt x="30805" y="73180"/>
                  <a:pt x="37596" y="113460"/>
                  <a:pt x="44824" y="125506"/>
                </a:cubicBezTo>
                <a:cubicBezTo>
                  <a:pt x="49172" y="132754"/>
                  <a:pt x="56777" y="137459"/>
                  <a:pt x="62753" y="143436"/>
                </a:cubicBezTo>
                <a:cubicBezTo>
                  <a:pt x="65741" y="152401"/>
                  <a:pt x="69122" y="161244"/>
                  <a:pt x="71718" y="170330"/>
                </a:cubicBezTo>
                <a:cubicBezTo>
                  <a:pt x="76983" y="188756"/>
                  <a:pt x="81383" y="214902"/>
                  <a:pt x="89647" y="233083"/>
                </a:cubicBezTo>
                <a:cubicBezTo>
                  <a:pt x="100707" y="257415"/>
                  <a:pt x="113553" y="280894"/>
                  <a:pt x="125506" y="304800"/>
                </a:cubicBezTo>
                <a:cubicBezTo>
                  <a:pt x="131483" y="316753"/>
                  <a:pt x="136023" y="329540"/>
                  <a:pt x="143436" y="340659"/>
                </a:cubicBezTo>
                <a:lnTo>
                  <a:pt x="179295" y="394447"/>
                </a:lnTo>
                <a:cubicBezTo>
                  <a:pt x="185272" y="403412"/>
                  <a:pt x="189605" y="413723"/>
                  <a:pt x="197224" y="421342"/>
                </a:cubicBezTo>
                <a:cubicBezTo>
                  <a:pt x="234339" y="458456"/>
                  <a:pt x="231169" y="451905"/>
                  <a:pt x="259977" y="493059"/>
                </a:cubicBezTo>
                <a:cubicBezTo>
                  <a:pt x="272334" y="510712"/>
                  <a:pt x="295836" y="546847"/>
                  <a:pt x="295836" y="546847"/>
                </a:cubicBezTo>
                <a:cubicBezTo>
                  <a:pt x="298824" y="558800"/>
                  <a:pt x="298687" y="572009"/>
                  <a:pt x="304800" y="582706"/>
                </a:cubicBezTo>
                <a:cubicBezTo>
                  <a:pt x="324380" y="616970"/>
                  <a:pt x="333838" y="602778"/>
                  <a:pt x="358589" y="627530"/>
                </a:cubicBezTo>
                <a:cubicBezTo>
                  <a:pt x="425302" y="694244"/>
                  <a:pt x="348999" y="639067"/>
                  <a:pt x="412377" y="681318"/>
                </a:cubicBezTo>
                <a:cubicBezTo>
                  <a:pt x="449319" y="736733"/>
                  <a:pt x="408304" y="682679"/>
                  <a:pt x="457200" y="726142"/>
                </a:cubicBezTo>
                <a:cubicBezTo>
                  <a:pt x="487748" y="753296"/>
                  <a:pt x="503004" y="780419"/>
                  <a:pt x="537883" y="797859"/>
                </a:cubicBezTo>
                <a:cubicBezTo>
                  <a:pt x="546335" y="802085"/>
                  <a:pt x="555812" y="803836"/>
                  <a:pt x="564777" y="806824"/>
                </a:cubicBezTo>
                <a:cubicBezTo>
                  <a:pt x="570753" y="815789"/>
                  <a:pt x="575975" y="825305"/>
                  <a:pt x="582706" y="833718"/>
                </a:cubicBezTo>
                <a:cubicBezTo>
                  <a:pt x="595104" y="849215"/>
                  <a:pt x="610367" y="859770"/>
                  <a:pt x="627530" y="869577"/>
                </a:cubicBezTo>
                <a:cubicBezTo>
                  <a:pt x="639133" y="876207"/>
                  <a:pt x="651436" y="881530"/>
                  <a:pt x="663389" y="887506"/>
                </a:cubicBezTo>
                <a:cubicBezTo>
                  <a:pt x="669365" y="893483"/>
                  <a:pt x="674718" y="900156"/>
                  <a:pt x="681318" y="905436"/>
                </a:cubicBezTo>
                <a:cubicBezTo>
                  <a:pt x="689731" y="912167"/>
                  <a:pt x="701481" y="914952"/>
                  <a:pt x="708212" y="923365"/>
                </a:cubicBezTo>
                <a:cubicBezTo>
                  <a:pt x="714115" y="930744"/>
                  <a:pt x="711274" y="942880"/>
                  <a:pt x="717177" y="950259"/>
                </a:cubicBezTo>
                <a:cubicBezTo>
                  <a:pt x="729817" y="966059"/>
                  <a:pt x="753246" y="971247"/>
                  <a:pt x="770965" y="977153"/>
                </a:cubicBezTo>
                <a:cubicBezTo>
                  <a:pt x="788894" y="989106"/>
                  <a:pt x="807514" y="1000083"/>
                  <a:pt x="824753" y="1013012"/>
                </a:cubicBezTo>
                <a:cubicBezTo>
                  <a:pt x="831515" y="1018083"/>
                  <a:pt x="835650" y="1026254"/>
                  <a:pt x="842683" y="1030942"/>
                </a:cubicBezTo>
                <a:cubicBezTo>
                  <a:pt x="880837" y="1056378"/>
                  <a:pt x="873341" y="1039291"/>
                  <a:pt x="905436" y="1066800"/>
                </a:cubicBezTo>
                <a:cubicBezTo>
                  <a:pt x="918271" y="1077801"/>
                  <a:pt x="929342" y="1090706"/>
                  <a:pt x="941295" y="1102659"/>
                </a:cubicBezTo>
                <a:cubicBezTo>
                  <a:pt x="947271" y="1108636"/>
                  <a:pt x="954536" y="1113556"/>
                  <a:pt x="959224" y="1120589"/>
                </a:cubicBezTo>
                <a:cubicBezTo>
                  <a:pt x="965200" y="1129554"/>
                  <a:pt x="969535" y="1139865"/>
                  <a:pt x="977153" y="1147483"/>
                </a:cubicBezTo>
                <a:cubicBezTo>
                  <a:pt x="979266" y="1149596"/>
                  <a:pt x="983130" y="1147483"/>
                  <a:pt x="986118" y="1147483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Bouton d’action : Suivant 3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e 55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sp>
          <p:nvSpPr>
            <p:cNvPr id="623" name="AutoShape 11"/>
            <p:cNvSpPr/>
            <p:nvPr/>
          </p:nvSpPr>
          <p:spPr>
            <a:xfrm>
              <a:off x="2916720" y="3493440"/>
              <a:ext cx="3733920" cy="1828800"/>
            </a:xfrm>
            <a:prstGeom prst="flowChartAlternateProcess">
              <a:avLst/>
            </a:prstGeom>
            <a:solidFill>
              <a:srgbClr val="ffc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25" name="Groupe 46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grpSp>
              <p:nvGrpSpPr>
                <p:cNvPr id="626" name="Group 4"/>
                <p:cNvGrpSpPr/>
                <p:nvPr/>
              </p:nvGrpSpPr>
              <p:grpSpPr>
                <a:xfrm>
                  <a:off x="5722920" y="5415120"/>
                  <a:ext cx="2971800" cy="1297800"/>
                  <a:chOff x="5722920" y="5415120"/>
                  <a:chExt cx="2971800" cy="1297800"/>
                </a:xfrm>
              </p:grpSpPr>
              <p:sp>
                <p:nvSpPr>
                  <p:cNvPr id="627" name="Text Box 5"/>
                  <p:cNvSpPr/>
                  <p:nvPr/>
                </p:nvSpPr>
                <p:spPr>
                  <a:xfrm>
                    <a:off x="5722920" y="6253200"/>
                    <a:ext cx="2971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8eb4e3"/>
                        </a:solidFill>
                        <a:latin typeface="Arial"/>
                        <a:ea typeface="Tahoma"/>
                      </a:rPr>
                      <a:t>Sur l’ENTREPRI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AutoShape 6"/>
                  <p:cNvSpPr/>
                  <p:nvPr/>
                </p:nvSpPr>
                <p:spPr>
                  <a:xfrm>
                    <a:off x="5913360" y="5415120"/>
                    <a:ext cx="2590920" cy="914400"/>
                  </a:xfrm>
                  <a:prstGeom prst="flowChartAlternateProcess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Group 8"/>
                <p:cNvGrpSpPr/>
                <p:nvPr/>
              </p:nvGrpSpPr>
              <p:grpSpPr>
                <a:xfrm>
                  <a:off x="236520" y="1009800"/>
                  <a:ext cx="8686800" cy="5703120"/>
                  <a:chOff x="236520" y="1009800"/>
                  <a:chExt cx="8686800" cy="5703120"/>
                </a:xfrm>
              </p:grpSpPr>
              <p:sp>
                <p:nvSpPr>
                  <p:cNvPr id="630" name="Line 9"/>
                  <p:cNvSpPr/>
                  <p:nvPr/>
                </p:nvSpPr>
                <p:spPr>
                  <a:xfrm>
                    <a:off x="236520" y="4424400"/>
                    <a:ext cx="8686800" cy="0"/>
                  </a:xfrm>
                  <a:prstGeom prst="line">
                    <a:avLst/>
                  </a:prstGeom>
                  <a:ln w="28440">
                    <a:solidFill>
                      <a:srgbClr val="ffc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Text Box 10"/>
                  <p:cNvSpPr/>
                  <p:nvPr/>
                </p:nvSpPr>
                <p:spPr>
                  <a:xfrm rot="16200000">
                    <a:off x="-868320" y="2584440"/>
                    <a:ext cx="2670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DETERMINANT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AutoShape 11"/>
                  <p:cNvSpPr/>
                  <p:nvPr/>
                </p:nvSpPr>
                <p:spPr>
                  <a:xfrm>
                    <a:off x="846000" y="1422360"/>
                    <a:ext cx="3733920" cy="182880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Text Box 12"/>
                  <p:cNvSpPr/>
                  <p:nvPr/>
                </p:nvSpPr>
                <p:spPr>
                  <a:xfrm>
                    <a:off x="1760400" y="1009800"/>
                    <a:ext cx="1524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376092"/>
                        </a:solidFill>
                        <a:latin typeface="Arial"/>
                        <a:ea typeface="Tahoma"/>
                      </a:rPr>
                      <a:t>HOMM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13"/>
                  <p:cNvSpPr/>
                  <p:nvPr/>
                </p:nvSpPr>
                <p:spPr>
                  <a:xfrm>
                    <a:off x="5364000" y="1414440"/>
                    <a:ext cx="3429000" cy="184320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AutoShape 14"/>
                  <p:cNvSpPr/>
                  <p:nvPr/>
                </p:nvSpPr>
                <p:spPr>
                  <a:xfrm>
                    <a:off x="5646600" y="2976480"/>
                    <a:ext cx="2590920" cy="77976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Text Box 15"/>
                  <p:cNvSpPr/>
                  <p:nvPr/>
                </p:nvSpPr>
                <p:spPr>
                  <a:xfrm>
                    <a:off x="5799240" y="1009800"/>
                    <a:ext cx="2209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376092"/>
                        </a:solidFill>
                        <a:latin typeface="Arial"/>
                        <a:ea typeface="Tahoma"/>
                      </a:rPr>
                      <a:t>ENTREPRI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AutoShape 16"/>
                  <p:cNvSpPr/>
                  <p:nvPr/>
                </p:nvSpPr>
                <p:spPr>
                  <a:xfrm>
                    <a:off x="1227240" y="5415120"/>
                    <a:ext cx="2590560" cy="914400"/>
                  </a:xfrm>
                  <a:prstGeom prst="flowChartAlternateProcess">
                    <a:avLst/>
                  </a:prstGeom>
                  <a:solidFill>
                    <a:srgbClr val="ffffcc"/>
                  </a:solidFill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Text Box 17"/>
                  <p:cNvSpPr/>
                  <p:nvPr/>
                </p:nvSpPr>
                <p:spPr>
                  <a:xfrm rot="16200000">
                    <a:off x="-258840" y="530568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EFFET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18"/>
                  <p:cNvSpPr/>
                  <p:nvPr/>
                </p:nvSpPr>
                <p:spPr>
                  <a:xfrm>
                    <a:off x="1379520" y="6253200"/>
                    <a:ext cx="2286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2400" spc="-1" strike="noStrike">
                        <a:solidFill>
                          <a:srgbClr val="8eb4e3"/>
                        </a:solidFill>
                        <a:latin typeface="Arial"/>
                        <a:ea typeface="Tahoma"/>
                      </a:rPr>
                      <a:t>Sur l’HOMM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Text Box 19"/>
                  <p:cNvSpPr/>
                  <p:nvPr/>
                </p:nvSpPr>
                <p:spPr>
                  <a:xfrm>
                    <a:off x="5653080" y="2933640"/>
                    <a:ext cx="256860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Travail prescrit: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Changer les draps</a:t>
                    </a:r>
                    <a:br>
                      <a:rPr sz="1600"/>
                    </a:br>
                    <a:r>
                      <a:rPr b="0" lang="fr-FR" sz="1600" spc="-1" strike="noStrike">
                        <a:solidFill>
                          <a:srgbClr val="000099"/>
                        </a:solidFill>
                        <a:latin typeface="Arial"/>
                        <a:ea typeface="Tahoma"/>
                      </a:rPr>
                      <a:t>de 50 chambres par jou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Text Box 21"/>
                  <p:cNvSpPr/>
                  <p:nvPr/>
                </p:nvSpPr>
                <p:spPr>
                  <a:xfrm>
                    <a:off x="3884760" y="3527640"/>
                    <a:ext cx="1676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TRAVAIL REE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2"/>
                  <p:cNvSpPr/>
                  <p:nvPr/>
                </p:nvSpPr>
                <p:spPr>
                  <a:xfrm>
                    <a:off x="2919240" y="3888000"/>
                    <a:ext cx="3749760" cy="0"/>
                  </a:xfrm>
                  <a:prstGeom prst="line">
                    <a:avLst/>
                  </a:prstGeom>
                  <a:ln w="28440">
                    <a:solidFill>
                      <a:srgbClr val="37609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Text Box 23"/>
                  <p:cNvSpPr/>
                  <p:nvPr/>
                </p:nvSpPr>
                <p:spPr>
                  <a:xfrm>
                    <a:off x="3489480" y="3886200"/>
                    <a:ext cx="838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Tâch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Text Box 24"/>
                  <p:cNvSpPr/>
                  <p:nvPr/>
                </p:nvSpPr>
                <p:spPr>
                  <a:xfrm>
                    <a:off x="5178240" y="3895920"/>
                    <a:ext cx="990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Arial"/>
                        <a:ea typeface="Tahoma"/>
                      </a:rPr>
                      <a:t>Activité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5" name="Line 22"/>
              <p:cNvSpPr/>
              <p:nvPr/>
            </p:nvSpPr>
            <p:spPr>
              <a:xfrm>
                <a:off x="4786200" y="3890880"/>
                <a:ext cx="23760" cy="14508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1676520" y="701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1065240" y="153504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1 m 95, 35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5592600" y="148896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ô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H =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Se penche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e 59"/>
          <p:cNvGrpSpPr/>
          <p:nvPr/>
        </p:nvGrpSpPr>
        <p:grpSpPr>
          <a:xfrm>
            <a:off x="2932200" y="4981680"/>
            <a:ext cx="3719520" cy="337320"/>
            <a:chOff x="2932200" y="4981680"/>
            <a:chExt cx="3719520" cy="337320"/>
          </a:xfrm>
        </p:grpSpPr>
        <p:sp>
          <p:nvSpPr>
            <p:cNvPr id="657" name="Text Box 23"/>
            <p:cNvSpPr/>
            <p:nvPr/>
          </p:nvSpPr>
          <p:spPr>
            <a:xfrm>
              <a:off x="2932200" y="49816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8eb4e3"/>
                  </a:solidFill>
                  <a:latin typeface="Arial"/>
                  <a:ea typeface="Tahom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3"/>
            <p:cNvSpPr/>
            <p:nvPr/>
          </p:nvSpPr>
          <p:spPr>
            <a:xfrm>
              <a:off x="4805280" y="49816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376092"/>
                  </a:solidFill>
                  <a:latin typeface="Arial"/>
                  <a:ea typeface="Tahom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Bouton d’action : Suivant 4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0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11"/>
          <p:cNvSpPr/>
          <p:nvPr/>
        </p:nvSpPr>
        <p:spPr>
          <a:xfrm>
            <a:off x="2917800" y="3494160"/>
            <a:ext cx="3733920" cy="18288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664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65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666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669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AutoShape 14"/>
                <p:cNvSpPr/>
                <p:nvPr/>
              </p:nvSpPr>
              <p:spPr>
                <a:xfrm>
                  <a:off x="5646600" y="2976480"/>
                  <a:ext cx="2590920" cy="77976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19"/>
                <p:cNvSpPr/>
                <p:nvPr/>
              </p:nvSpPr>
              <p:spPr>
                <a:xfrm>
                  <a:off x="5653080" y="2933640"/>
                  <a:ext cx="2585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Changer les draps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 50 chambres par jou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21"/>
                <p:cNvSpPr/>
                <p:nvPr/>
              </p:nvSpPr>
              <p:spPr>
                <a:xfrm>
                  <a:off x="3884760" y="3527640"/>
                  <a:ext cx="1676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22"/>
                <p:cNvSpPr/>
                <p:nvPr/>
              </p:nvSpPr>
              <p:spPr>
                <a:xfrm>
                  <a:off x="2919240" y="3888000"/>
                  <a:ext cx="3749760" cy="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23"/>
                <p:cNvSpPr/>
                <p:nvPr/>
              </p:nvSpPr>
              <p:spPr>
                <a:xfrm>
                  <a:off x="3489480" y="388620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24"/>
                <p:cNvSpPr/>
                <p:nvPr/>
              </p:nvSpPr>
              <p:spPr>
                <a:xfrm>
                  <a:off x="5178240" y="389592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4" name="Line 22"/>
            <p:cNvSpPr/>
            <p:nvPr/>
          </p:nvSpPr>
          <p:spPr>
            <a:xfrm>
              <a:off x="4786200" y="3890880"/>
              <a:ext cx="23760" cy="145080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83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nalyser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1576440" y="6825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vail prescrit «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ger les dra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1065240" y="1535040"/>
            <a:ext cx="3005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mme 1 m 95, 35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as de qualification particul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Peu d’expérience</a:t>
            </a:r>
            <a:br>
              <a:rPr sz="1600"/>
            </a:b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2932200" y="4156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Enlèv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2932200" y="44308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ue les dr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2932200" y="470520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ose à la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2932200" y="4981680"/>
            <a:ext cx="18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8eb4e3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805280" y="4156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Se penche,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805280" y="44308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Croise les 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4805280" y="470520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805280" y="49816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76092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1389240" y="5435640"/>
            <a:ext cx="22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Mal au do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6051600" y="543564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A.T.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Insatisfaction clients</a:t>
            </a:r>
            <a:br>
              <a:rPr sz="1600"/>
            </a:br>
            <a:r>
              <a:rPr b="0" lang="fr-FR" sz="1600" spc="-1" strike="noStrike">
                <a:solidFill>
                  <a:srgbClr val="0033cc"/>
                </a:solidFill>
                <a:latin typeface="Arial"/>
                <a:ea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rme libre 55"/>
          <p:cNvSpPr/>
          <p:nvPr/>
        </p:nvSpPr>
        <p:spPr>
          <a:xfrm>
            <a:off x="2095560" y="1862280"/>
            <a:ext cx="1168200" cy="2306520"/>
          </a:xfrm>
          <a:custGeom>
            <a:avLst/>
            <a:gdLst/>
            <a:ahLst/>
            <a:rect l="l" t="t" r="r" b="b"/>
            <a:pathLst>
              <a:path w="907983" h="1945341">
                <a:moveTo>
                  <a:pt x="110124" y="0"/>
                </a:moveTo>
                <a:cubicBezTo>
                  <a:pt x="107136" y="8965"/>
                  <a:pt x="104881" y="18208"/>
                  <a:pt x="101159" y="26894"/>
                </a:cubicBezTo>
                <a:cubicBezTo>
                  <a:pt x="95895" y="39177"/>
                  <a:pt x="87922" y="50240"/>
                  <a:pt x="83230" y="62753"/>
                </a:cubicBezTo>
                <a:cubicBezTo>
                  <a:pt x="78904" y="74289"/>
                  <a:pt x="79004" y="87239"/>
                  <a:pt x="74265" y="98612"/>
                </a:cubicBezTo>
                <a:cubicBezTo>
                  <a:pt x="63985" y="123284"/>
                  <a:pt x="38406" y="170330"/>
                  <a:pt x="38406" y="170330"/>
                </a:cubicBezTo>
                <a:cubicBezTo>
                  <a:pt x="0" y="400770"/>
                  <a:pt x="13620" y="277856"/>
                  <a:pt x="29442" y="681318"/>
                </a:cubicBezTo>
                <a:cubicBezTo>
                  <a:pt x="31737" y="739839"/>
                  <a:pt x="36933" y="720247"/>
                  <a:pt x="47371" y="762000"/>
                </a:cubicBezTo>
                <a:cubicBezTo>
                  <a:pt x="51067" y="776782"/>
                  <a:pt x="52910" y="791977"/>
                  <a:pt x="56336" y="806824"/>
                </a:cubicBezTo>
                <a:cubicBezTo>
                  <a:pt x="61877" y="830834"/>
                  <a:pt x="68289" y="854635"/>
                  <a:pt x="74265" y="878541"/>
                </a:cubicBezTo>
                <a:lnTo>
                  <a:pt x="83230" y="914400"/>
                </a:lnTo>
                <a:cubicBezTo>
                  <a:pt x="86218" y="947271"/>
                  <a:pt x="86112" y="980571"/>
                  <a:pt x="92195" y="1013012"/>
                </a:cubicBezTo>
                <a:cubicBezTo>
                  <a:pt x="95161" y="1028828"/>
                  <a:pt x="104474" y="1042768"/>
                  <a:pt x="110124" y="1057835"/>
                </a:cubicBezTo>
                <a:cubicBezTo>
                  <a:pt x="113442" y="1066683"/>
                  <a:pt x="116101" y="1075765"/>
                  <a:pt x="119089" y="1084730"/>
                </a:cubicBezTo>
                <a:cubicBezTo>
                  <a:pt x="121522" y="1099328"/>
                  <a:pt x="126508" y="1146494"/>
                  <a:pt x="137018" y="1165412"/>
                </a:cubicBezTo>
                <a:cubicBezTo>
                  <a:pt x="147483" y="1184249"/>
                  <a:pt x="166063" y="1198757"/>
                  <a:pt x="172877" y="1219200"/>
                </a:cubicBezTo>
                <a:cubicBezTo>
                  <a:pt x="175865" y="1228165"/>
                  <a:pt x="177154" y="1237889"/>
                  <a:pt x="181842" y="1246094"/>
                </a:cubicBezTo>
                <a:cubicBezTo>
                  <a:pt x="189255" y="1259067"/>
                  <a:pt x="201208" y="1269047"/>
                  <a:pt x="208736" y="1281953"/>
                </a:cubicBezTo>
                <a:cubicBezTo>
                  <a:pt x="222203" y="1305040"/>
                  <a:pt x="232642" y="1329765"/>
                  <a:pt x="244595" y="1353671"/>
                </a:cubicBezTo>
                <a:cubicBezTo>
                  <a:pt x="250571" y="1365624"/>
                  <a:pt x="253074" y="1380080"/>
                  <a:pt x="262524" y="1389530"/>
                </a:cubicBezTo>
                <a:cubicBezTo>
                  <a:pt x="373869" y="1500872"/>
                  <a:pt x="255103" y="1377883"/>
                  <a:pt x="334242" y="1470212"/>
                </a:cubicBezTo>
                <a:cubicBezTo>
                  <a:pt x="362731" y="1503450"/>
                  <a:pt x="361565" y="1494474"/>
                  <a:pt x="396995" y="1524000"/>
                </a:cubicBezTo>
                <a:cubicBezTo>
                  <a:pt x="403488" y="1529411"/>
                  <a:pt x="408324" y="1536650"/>
                  <a:pt x="414924" y="1541930"/>
                </a:cubicBezTo>
                <a:cubicBezTo>
                  <a:pt x="423337" y="1548661"/>
                  <a:pt x="433710" y="1552764"/>
                  <a:pt x="441818" y="1559859"/>
                </a:cubicBezTo>
                <a:cubicBezTo>
                  <a:pt x="457720" y="1573773"/>
                  <a:pt x="469060" y="1592962"/>
                  <a:pt x="486642" y="1604683"/>
                </a:cubicBezTo>
                <a:cubicBezTo>
                  <a:pt x="495607" y="1610659"/>
                  <a:pt x="504769" y="1616350"/>
                  <a:pt x="513536" y="1622612"/>
                </a:cubicBezTo>
                <a:cubicBezTo>
                  <a:pt x="532781" y="1636358"/>
                  <a:pt x="555159" y="1655361"/>
                  <a:pt x="576289" y="1667435"/>
                </a:cubicBezTo>
                <a:cubicBezTo>
                  <a:pt x="587892" y="1674065"/>
                  <a:pt x="600195" y="1679388"/>
                  <a:pt x="612148" y="1685365"/>
                </a:cubicBezTo>
                <a:cubicBezTo>
                  <a:pt x="618124" y="1694330"/>
                  <a:pt x="622459" y="1704641"/>
                  <a:pt x="630077" y="1712259"/>
                </a:cubicBezTo>
                <a:cubicBezTo>
                  <a:pt x="647454" y="1729636"/>
                  <a:pt x="661993" y="1731862"/>
                  <a:pt x="683865" y="1739153"/>
                </a:cubicBezTo>
                <a:cubicBezTo>
                  <a:pt x="689842" y="1745130"/>
                  <a:pt x="696515" y="1750483"/>
                  <a:pt x="701795" y="1757083"/>
                </a:cubicBezTo>
                <a:cubicBezTo>
                  <a:pt x="708526" y="1765496"/>
                  <a:pt x="712106" y="1776359"/>
                  <a:pt x="719724" y="1783977"/>
                </a:cubicBezTo>
                <a:cubicBezTo>
                  <a:pt x="727342" y="1791595"/>
                  <a:pt x="738205" y="1795176"/>
                  <a:pt x="746618" y="1801906"/>
                </a:cubicBezTo>
                <a:cubicBezTo>
                  <a:pt x="753218" y="1807186"/>
                  <a:pt x="757210" y="1815642"/>
                  <a:pt x="764548" y="1819835"/>
                </a:cubicBezTo>
                <a:cubicBezTo>
                  <a:pt x="825391" y="1854603"/>
                  <a:pt x="791953" y="1820245"/>
                  <a:pt x="836265" y="1855694"/>
                </a:cubicBezTo>
                <a:cubicBezTo>
                  <a:pt x="876033" y="1887509"/>
                  <a:pt x="832677" y="1870039"/>
                  <a:pt x="890053" y="1927412"/>
                </a:cubicBezTo>
                <a:lnTo>
                  <a:pt x="907983" y="1945341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rme libre 59"/>
          <p:cNvSpPr/>
          <p:nvPr/>
        </p:nvSpPr>
        <p:spPr>
          <a:xfrm>
            <a:off x="3522600" y="2151000"/>
            <a:ext cx="2986200" cy="2079720"/>
          </a:xfrm>
          <a:custGeom>
            <a:avLst/>
            <a:gdLst/>
            <a:ahLst/>
            <a:rect l="l" t="t" r="r" b="b"/>
            <a:pathLst>
              <a:path w="2985247" h="2079812">
                <a:moveTo>
                  <a:pt x="0" y="2079812"/>
                </a:moveTo>
                <a:cubicBezTo>
                  <a:pt x="2988" y="2067859"/>
                  <a:pt x="6940" y="2056106"/>
                  <a:pt x="8965" y="2043953"/>
                </a:cubicBezTo>
                <a:cubicBezTo>
                  <a:pt x="20591" y="1974197"/>
                  <a:pt x="22948" y="1897859"/>
                  <a:pt x="26894" y="1828800"/>
                </a:cubicBezTo>
                <a:cubicBezTo>
                  <a:pt x="30138" y="1772037"/>
                  <a:pt x="32077" y="1715199"/>
                  <a:pt x="35859" y="1658470"/>
                </a:cubicBezTo>
                <a:cubicBezTo>
                  <a:pt x="38054" y="1625537"/>
                  <a:pt x="39087" y="1592363"/>
                  <a:pt x="44823" y="1559859"/>
                </a:cubicBezTo>
                <a:cubicBezTo>
                  <a:pt x="44824" y="1559853"/>
                  <a:pt x="67235" y="1492626"/>
                  <a:pt x="71718" y="1479176"/>
                </a:cubicBezTo>
                <a:lnTo>
                  <a:pt x="89647" y="1425388"/>
                </a:lnTo>
                <a:lnTo>
                  <a:pt x="143435" y="1371600"/>
                </a:lnTo>
                <a:cubicBezTo>
                  <a:pt x="149412" y="1365623"/>
                  <a:pt x="153805" y="1357450"/>
                  <a:pt x="161365" y="1353670"/>
                </a:cubicBezTo>
                <a:cubicBezTo>
                  <a:pt x="241534" y="1313586"/>
                  <a:pt x="207726" y="1326264"/>
                  <a:pt x="259976" y="1308847"/>
                </a:cubicBezTo>
                <a:cubicBezTo>
                  <a:pt x="276653" y="1292170"/>
                  <a:pt x="282181" y="1284297"/>
                  <a:pt x="304800" y="1272988"/>
                </a:cubicBezTo>
                <a:cubicBezTo>
                  <a:pt x="313252" y="1268762"/>
                  <a:pt x="323242" y="1268249"/>
                  <a:pt x="331694" y="1264023"/>
                </a:cubicBezTo>
                <a:cubicBezTo>
                  <a:pt x="421710" y="1219015"/>
                  <a:pt x="284449" y="1275306"/>
                  <a:pt x="394447" y="1228164"/>
                </a:cubicBezTo>
                <a:cubicBezTo>
                  <a:pt x="417870" y="1218125"/>
                  <a:pt x="431939" y="1217813"/>
                  <a:pt x="457200" y="1210235"/>
                </a:cubicBezTo>
                <a:cubicBezTo>
                  <a:pt x="546694" y="1183387"/>
                  <a:pt x="474770" y="1197480"/>
                  <a:pt x="573741" y="1183341"/>
                </a:cubicBezTo>
                <a:cubicBezTo>
                  <a:pt x="661377" y="1154128"/>
                  <a:pt x="566033" y="1183236"/>
                  <a:pt x="779929" y="1165412"/>
                </a:cubicBezTo>
                <a:cubicBezTo>
                  <a:pt x="955601" y="1150773"/>
                  <a:pt x="598970" y="1159131"/>
                  <a:pt x="878541" y="1147482"/>
                </a:cubicBezTo>
                <a:cubicBezTo>
                  <a:pt x="1000989" y="1142380"/>
                  <a:pt x="1123576" y="1141505"/>
                  <a:pt x="1246094" y="1138517"/>
                </a:cubicBezTo>
                <a:cubicBezTo>
                  <a:pt x="1341584" y="1106689"/>
                  <a:pt x="1259752" y="1131211"/>
                  <a:pt x="1488141" y="1120588"/>
                </a:cubicBezTo>
                <a:lnTo>
                  <a:pt x="1658470" y="1111623"/>
                </a:lnTo>
                <a:cubicBezTo>
                  <a:pt x="1685364" y="1108635"/>
                  <a:pt x="1712140" y="1104248"/>
                  <a:pt x="1739153" y="1102659"/>
                </a:cubicBezTo>
                <a:cubicBezTo>
                  <a:pt x="1813789" y="1098269"/>
                  <a:pt x="1888682" y="1098838"/>
                  <a:pt x="1963270" y="1093694"/>
                </a:cubicBezTo>
                <a:cubicBezTo>
                  <a:pt x="1969935" y="1093234"/>
                  <a:pt x="2016862" y="1080344"/>
                  <a:pt x="2026023" y="1075764"/>
                </a:cubicBezTo>
                <a:cubicBezTo>
                  <a:pt x="2035660" y="1070946"/>
                  <a:pt x="2042598" y="1060931"/>
                  <a:pt x="2052918" y="1057835"/>
                </a:cubicBezTo>
                <a:cubicBezTo>
                  <a:pt x="2073157" y="1051763"/>
                  <a:pt x="2094828" y="1052344"/>
                  <a:pt x="2115670" y="1048870"/>
                </a:cubicBezTo>
                <a:cubicBezTo>
                  <a:pt x="2130700" y="1046365"/>
                  <a:pt x="2145647" y="1043332"/>
                  <a:pt x="2160494" y="1039906"/>
                </a:cubicBezTo>
                <a:cubicBezTo>
                  <a:pt x="2184505" y="1034365"/>
                  <a:pt x="2210172" y="1032996"/>
                  <a:pt x="2232212" y="1021976"/>
                </a:cubicBezTo>
                <a:cubicBezTo>
                  <a:pt x="2292326" y="991919"/>
                  <a:pt x="2242903" y="1013390"/>
                  <a:pt x="2303929" y="995082"/>
                </a:cubicBezTo>
                <a:cubicBezTo>
                  <a:pt x="2303976" y="995068"/>
                  <a:pt x="2371142" y="972678"/>
                  <a:pt x="2384612" y="968188"/>
                </a:cubicBezTo>
                <a:lnTo>
                  <a:pt x="2411506" y="959223"/>
                </a:lnTo>
                <a:cubicBezTo>
                  <a:pt x="2504764" y="865965"/>
                  <a:pt x="2377927" y="989286"/>
                  <a:pt x="2465294" y="914400"/>
                </a:cubicBezTo>
                <a:cubicBezTo>
                  <a:pt x="2478129" y="903399"/>
                  <a:pt x="2489200" y="890494"/>
                  <a:pt x="2501153" y="878541"/>
                </a:cubicBezTo>
                <a:cubicBezTo>
                  <a:pt x="2510118" y="869576"/>
                  <a:pt x="2520440" y="861789"/>
                  <a:pt x="2528047" y="851647"/>
                </a:cubicBezTo>
                <a:cubicBezTo>
                  <a:pt x="2537012" y="839694"/>
                  <a:pt x="2545217" y="827132"/>
                  <a:pt x="2554941" y="815788"/>
                </a:cubicBezTo>
                <a:cubicBezTo>
                  <a:pt x="2563192" y="806162"/>
                  <a:pt x="2573719" y="798633"/>
                  <a:pt x="2581835" y="788894"/>
                </a:cubicBezTo>
                <a:cubicBezTo>
                  <a:pt x="2644240" y="714009"/>
                  <a:pt x="2548088" y="813677"/>
                  <a:pt x="2626659" y="735106"/>
                </a:cubicBezTo>
                <a:cubicBezTo>
                  <a:pt x="2647261" y="673299"/>
                  <a:pt x="2631224" y="694681"/>
                  <a:pt x="2662518" y="663388"/>
                </a:cubicBezTo>
                <a:cubicBezTo>
                  <a:pt x="2671233" y="637241"/>
                  <a:pt x="2673584" y="625959"/>
                  <a:pt x="2689412" y="600635"/>
                </a:cubicBezTo>
                <a:cubicBezTo>
                  <a:pt x="2697331" y="587965"/>
                  <a:pt x="2708387" y="577446"/>
                  <a:pt x="2716306" y="564776"/>
                </a:cubicBezTo>
                <a:cubicBezTo>
                  <a:pt x="2752486" y="506886"/>
                  <a:pt x="2715632" y="547519"/>
                  <a:pt x="2752165" y="510988"/>
                </a:cubicBezTo>
                <a:cubicBezTo>
                  <a:pt x="2784853" y="412917"/>
                  <a:pt x="2732722" y="561458"/>
                  <a:pt x="2779059" y="457200"/>
                </a:cubicBezTo>
                <a:cubicBezTo>
                  <a:pt x="2786735" y="439930"/>
                  <a:pt x="2786505" y="419137"/>
                  <a:pt x="2796988" y="403412"/>
                </a:cubicBezTo>
                <a:cubicBezTo>
                  <a:pt x="2808941" y="385482"/>
                  <a:pt x="2826032" y="370066"/>
                  <a:pt x="2832847" y="349623"/>
                </a:cubicBezTo>
                <a:cubicBezTo>
                  <a:pt x="2835835" y="340658"/>
                  <a:pt x="2837287" y="331025"/>
                  <a:pt x="2841812" y="322729"/>
                </a:cubicBezTo>
                <a:cubicBezTo>
                  <a:pt x="2855311" y="297981"/>
                  <a:pt x="2877720" y="277756"/>
                  <a:pt x="2886635" y="251012"/>
                </a:cubicBezTo>
                <a:cubicBezTo>
                  <a:pt x="2889623" y="242047"/>
                  <a:pt x="2891374" y="232569"/>
                  <a:pt x="2895600" y="224117"/>
                </a:cubicBezTo>
                <a:cubicBezTo>
                  <a:pt x="2903392" y="208532"/>
                  <a:pt x="2915284" y="195156"/>
                  <a:pt x="2922494" y="179294"/>
                </a:cubicBezTo>
                <a:cubicBezTo>
                  <a:pt x="2930314" y="162089"/>
                  <a:pt x="2934447" y="143435"/>
                  <a:pt x="2940423" y="125506"/>
                </a:cubicBezTo>
                <a:lnTo>
                  <a:pt x="2958353" y="71717"/>
                </a:lnTo>
                <a:lnTo>
                  <a:pt x="2967318" y="44823"/>
                </a:lnTo>
                <a:cubicBezTo>
                  <a:pt x="2970306" y="35858"/>
                  <a:pt x="2972056" y="26381"/>
                  <a:pt x="2976282" y="17929"/>
                </a:cubicBezTo>
                <a:lnTo>
                  <a:pt x="2985247" y="0"/>
                </a:lnTo>
              </a:path>
            </a:pathLst>
          </a:custGeom>
          <a:noFill/>
          <a:ln w="50760">
            <a:solidFill>
              <a:srgbClr val="00b05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rme libre 60"/>
          <p:cNvSpPr/>
          <p:nvPr/>
        </p:nvSpPr>
        <p:spPr>
          <a:xfrm>
            <a:off x="3156120" y="4535640"/>
            <a:ext cx="2241360" cy="1398600"/>
          </a:xfrm>
          <a:custGeom>
            <a:avLst/>
            <a:gdLst/>
            <a:ahLst/>
            <a:rect l="l" t="t" r="r" b="b"/>
            <a:pathLst>
              <a:path w="2043953" h="1210235">
                <a:moveTo>
                  <a:pt x="2017059" y="0"/>
                </a:moveTo>
                <a:cubicBezTo>
                  <a:pt x="2020047" y="11953"/>
                  <a:pt x="2022639" y="24011"/>
                  <a:pt x="2026024" y="35858"/>
                </a:cubicBezTo>
                <a:cubicBezTo>
                  <a:pt x="2028620" y="44944"/>
                  <a:pt x="2032696" y="53585"/>
                  <a:pt x="2034988" y="62753"/>
                </a:cubicBezTo>
                <a:cubicBezTo>
                  <a:pt x="2038683" y="77535"/>
                  <a:pt x="2040965" y="92635"/>
                  <a:pt x="2043953" y="107576"/>
                </a:cubicBezTo>
                <a:cubicBezTo>
                  <a:pt x="2040965" y="251011"/>
                  <a:pt x="2039613" y="394490"/>
                  <a:pt x="2034988" y="537882"/>
                </a:cubicBezTo>
                <a:cubicBezTo>
                  <a:pt x="2033636" y="579802"/>
                  <a:pt x="2030924" y="621733"/>
                  <a:pt x="2026024" y="663388"/>
                </a:cubicBezTo>
                <a:cubicBezTo>
                  <a:pt x="2022746" y="691252"/>
                  <a:pt x="2006266" y="703600"/>
                  <a:pt x="1990165" y="726141"/>
                </a:cubicBezTo>
                <a:cubicBezTo>
                  <a:pt x="1983903" y="734908"/>
                  <a:pt x="1979133" y="744758"/>
                  <a:pt x="1972235" y="753035"/>
                </a:cubicBezTo>
                <a:cubicBezTo>
                  <a:pt x="1946334" y="784116"/>
                  <a:pt x="1941862" y="779839"/>
                  <a:pt x="1909482" y="806823"/>
                </a:cubicBezTo>
                <a:cubicBezTo>
                  <a:pt x="1848326" y="857787"/>
                  <a:pt x="1956054" y="779962"/>
                  <a:pt x="1855694" y="851647"/>
                </a:cubicBezTo>
                <a:cubicBezTo>
                  <a:pt x="1846927" y="857909"/>
                  <a:pt x="1837419" y="863112"/>
                  <a:pt x="1828800" y="869576"/>
                </a:cubicBezTo>
                <a:cubicBezTo>
                  <a:pt x="1813493" y="881056"/>
                  <a:pt x="1800703" y="896143"/>
                  <a:pt x="1783977" y="905435"/>
                </a:cubicBezTo>
                <a:cubicBezTo>
                  <a:pt x="1773207" y="911419"/>
                  <a:pt x="1760071" y="911412"/>
                  <a:pt x="1748118" y="914400"/>
                </a:cubicBezTo>
                <a:cubicBezTo>
                  <a:pt x="1707891" y="954625"/>
                  <a:pt x="1755665" y="912199"/>
                  <a:pt x="1703294" y="941294"/>
                </a:cubicBezTo>
                <a:cubicBezTo>
                  <a:pt x="1610823" y="992667"/>
                  <a:pt x="1683464" y="965834"/>
                  <a:pt x="1622612" y="986117"/>
                </a:cubicBezTo>
                <a:cubicBezTo>
                  <a:pt x="1613647" y="992094"/>
                  <a:pt x="1603995" y="997149"/>
                  <a:pt x="1595718" y="1004047"/>
                </a:cubicBezTo>
                <a:cubicBezTo>
                  <a:pt x="1551715" y="1040716"/>
                  <a:pt x="1586678" y="1024265"/>
                  <a:pt x="1532965" y="1057835"/>
                </a:cubicBezTo>
                <a:cubicBezTo>
                  <a:pt x="1521632" y="1064918"/>
                  <a:pt x="1508709" y="1069134"/>
                  <a:pt x="1497106" y="1075764"/>
                </a:cubicBezTo>
                <a:cubicBezTo>
                  <a:pt x="1487751" y="1081110"/>
                  <a:pt x="1480058" y="1089318"/>
                  <a:pt x="1470212" y="1093694"/>
                </a:cubicBezTo>
                <a:cubicBezTo>
                  <a:pt x="1426335" y="1113195"/>
                  <a:pt x="1420677" y="1108554"/>
                  <a:pt x="1380565" y="1120588"/>
                </a:cubicBezTo>
                <a:cubicBezTo>
                  <a:pt x="1362463" y="1126019"/>
                  <a:pt x="1326777" y="1138517"/>
                  <a:pt x="1326777" y="1138517"/>
                </a:cubicBezTo>
                <a:cubicBezTo>
                  <a:pt x="1320800" y="1144494"/>
                  <a:pt x="1316616" y="1153117"/>
                  <a:pt x="1308847" y="1156447"/>
                </a:cubicBezTo>
                <a:cubicBezTo>
                  <a:pt x="1294842" y="1162449"/>
                  <a:pt x="1278898" y="1162106"/>
                  <a:pt x="1264024" y="1165411"/>
                </a:cubicBezTo>
                <a:cubicBezTo>
                  <a:pt x="1251996" y="1168084"/>
                  <a:pt x="1240012" y="1170991"/>
                  <a:pt x="1228165" y="1174376"/>
                </a:cubicBezTo>
                <a:cubicBezTo>
                  <a:pt x="1151088" y="1196399"/>
                  <a:pt x="1280856" y="1169410"/>
                  <a:pt x="1120588" y="1192305"/>
                </a:cubicBezTo>
                <a:cubicBezTo>
                  <a:pt x="1105504" y="1194460"/>
                  <a:pt x="1090957" y="1200101"/>
                  <a:pt x="1075765" y="1201270"/>
                </a:cubicBezTo>
                <a:cubicBezTo>
                  <a:pt x="1013126" y="1206089"/>
                  <a:pt x="950259" y="1207247"/>
                  <a:pt x="887506" y="1210235"/>
                </a:cubicBezTo>
                <a:lnTo>
                  <a:pt x="591671" y="1201270"/>
                </a:lnTo>
                <a:cubicBezTo>
                  <a:pt x="564642" y="1199983"/>
                  <a:pt x="537974" y="1194304"/>
                  <a:pt x="510988" y="1192305"/>
                </a:cubicBezTo>
                <a:cubicBezTo>
                  <a:pt x="457264" y="1188326"/>
                  <a:pt x="403412" y="1186329"/>
                  <a:pt x="349624" y="1183341"/>
                </a:cubicBezTo>
                <a:cubicBezTo>
                  <a:pt x="322730" y="1180353"/>
                  <a:pt x="296001" y="1174376"/>
                  <a:pt x="268941" y="1174376"/>
                </a:cubicBezTo>
                <a:cubicBezTo>
                  <a:pt x="179244" y="1174376"/>
                  <a:pt x="89697" y="1183341"/>
                  <a:pt x="0" y="1183341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rme libre 61"/>
          <p:cNvSpPr/>
          <p:nvPr/>
        </p:nvSpPr>
        <p:spPr>
          <a:xfrm rot="18940200">
            <a:off x="3512880" y="4993920"/>
            <a:ext cx="2187360" cy="1946160"/>
          </a:xfrm>
          <a:custGeom>
            <a:avLst/>
            <a:gdLst/>
            <a:ahLst/>
            <a:rect l="l" t="t" r="r" b="b"/>
            <a:pathLst>
              <a:path w="986118" h="1149596">
                <a:moveTo>
                  <a:pt x="0" y="0"/>
                </a:moveTo>
                <a:cubicBezTo>
                  <a:pt x="2988" y="8965"/>
                  <a:pt x="5243" y="18208"/>
                  <a:pt x="8965" y="26894"/>
                </a:cubicBezTo>
                <a:cubicBezTo>
                  <a:pt x="14229" y="39177"/>
                  <a:pt x="22203" y="50240"/>
                  <a:pt x="26895" y="62753"/>
                </a:cubicBezTo>
                <a:cubicBezTo>
                  <a:pt x="30805" y="73180"/>
                  <a:pt x="37596" y="113460"/>
                  <a:pt x="44824" y="125506"/>
                </a:cubicBezTo>
                <a:cubicBezTo>
                  <a:pt x="49172" y="132754"/>
                  <a:pt x="56777" y="137459"/>
                  <a:pt x="62753" y="143436"/>
                </a:cubicBezTo>
                <a:cubicBezTo>
                  <a:pt x="65741" y="152401"/>
                  <a:pt x="69122" y="161244"/>
                  <a:pt x="71718" y="170330"/>
                </a:cubicBezTo>
                <a:cubicBezTo>
                  <a:pt x="76983" y="188756"/>
                  <a:pt x="81383" y="214902"/>
                  <a:pt x="89647" y="233083"/>
                </a:cubicBezTo>
                <a:cubicBezTo>
                  <a:pt x="100707" y="257415"/>
                  <a:pt x="113553" y="280894"/>
                  <a:pt x="125506" y="304800"/>
                </a:cubicBezTo>
                <a:cubicBezTo>
                  <a:pt x="131483" y="316753"/>
                  <a:pt x="136023" y="329540"/>
                  <a:pt x="143436" y="340659"/>
                </a:cubicBezTo>
                <a:lnTo>
                  <a:pt x="179295" y="394447"/>
                </a:lnTo>
                <a:cubicBezTo>
                  <a:pt x="185272" y="403412"/>
                  <a:pt x="189605" y="413723"/>
                  <a:pt x="197224" y="421342"/>
                </a:cubicBezTo>
                <a:cubicBezTo>
                  <a:pt x="234339" y="458456"/>
                  <a:pt x="231169" y="451905"/>
                  <a:pt x="259977" y="493059"/>
                </a:cubicBezTo>
                <a:cubicBezTo>
                  <a:pt x="272334" y="510712"/>
                  <a:pt x="295836" y="546847"/>
                  <a:pt x="295836" y="546847"/>
                </a:cubicBezTo>
                <a:cubicBezTo>
                  <a:pt x="298824" y="558800"/>
                  <a:pt x="298687" y="572009"/>
                  <a:pt x="304800" y="582706"/>
                </a:cubicBezTo>
                <a:cubicBezTo>
                  <a:pt x="324380" y="616970"/>
                  <a:pt x="333838" y="602778"/>
                  <a:pt x="358589" y="627530"/>
                </a:cubicBezTo>
                <a:cubicBezTo>
                  <a:pt x="425302" y="694244"/>
                  <a:pt x="348999" y="639067"/>
                  <a:pt x="412377" y="681318"/>
                </a:cubicBezTo>
                <a:cubicBezTo>
                  <a:pt x="449319" y="736733"/>
                  <a:pt x="408304" y="682679"/>
                  <a:pt x="457200" y="726142"/>
                </a:cubicBezTo>
                <a:cubicBezTo>
                  <a:pt x="487748" y="753296"/>
                  <a:pt x="503004" y="780419"/>
                  <a:pt x="537883" y="797859"/>
                </a:cubicBezTo>
                <a:cubicBezTo>
                  <a:pt x="546335" y="802085"/>
                  <a:pt x="555812" y="803836"/>
                  <a:pt x="564777" y="806824"/>
                </a:cubicBezTo>
                <a:cubicBezTo>
                  <a:pt x="570753" y="815789"/>
                  <a:pt x="575975" y="825305"/>
                  <a:pt x="582706" y="833718"/>
                </a:cubicBezTo>
                <a:cubicBezTo>
                  <a:pt x="595104" y="849215"/>
                  <a:pt x="610367" y="859770"/>
                  <a:pt x="627530" y="869577"/>
                </a:cubicBezTo>
                <a:cubicBezTo>
                  <a:pt x="639133" y="876207"/>
                  <a:pt x="651436" y="881530"/>
                  <a:pt x="663389" y="887506"/>
                </a:cubicBezTo>
                <a:cubicBezTo>
                  <a:pt x="669365" y="893483"/>
                  <a:pt x="674718" y="900156"/>
                  <a:pt x="681318" y="905436"/>
                </a:cubicBezTo>
                <a:cubicBezTo>
                  <a:pt x="689731" y="912167"/>
                  <a:pt x="701481" y="914952"/>
                  <a:pt x="708212" y="923365"/>
                </a:cubicBezTo>
                <a:cubicBezTo>
                  <a:pt x="714115" y="930744"/>
                  <a:pt x="711274" y="942880"/>
                  <a:pt x="717177" y="950259"/>
                </a:cubicBezTo>
                <a:cubicBezTo>
                  <a:pt x="729817" y="966059"/>
                  <a:pt x="753246" y="971247"/>
                  <a:pt x="770965" y="977153"/>
                </a:cubicBezTo>
                <a:cubicBezTo>
                  <a:pt x="788894" y="989106"/>
                  <a:pt x="807514" y="1000083"/>
                  <a:pt x="824753" y="1013012"/>
                </a:cubicBezTo>
                <a:cubicBezTo>
                  <a:pt x="831515" y="1018083"/>
                  <a:pt x="835650" y="1026254"/>
                  <a:pt x="842683" y="1030942"/>
                </a:cubicBezTo>
                <a:cubicBezTo>
                  <a:pt x="880837" y="1056378"/>
                  <a:pt x="873341" y="1039291"/>
                  <a:pt x="905436" y="1066800"/>
                </a:cubicBezTo>
                <a:cubicBezTo>
                  <a:pt x="918271" y="1077801"/>
                  <a:pt x="929342" y="1090706"/>
                  <a:pt x="941295" y="1102659"/>
                </a:cubicBezTo>
                <a:cubicBezTo>
                  <a:pt x="947271" y="1108636"/>
                  <a:pt x="954536" y="1113556"/>
                  <a:pt x="959224" y="1120589"/>
                </a:cubicBezTo>
                <a:cubicBezTo>
                  <a:pt x="965200" y="1129554"/>
                  <a:pt x="969535" y="1139865"/>
                  <a:pt x="977153" y="1147483"/>
                </a:cubicBezTo>
                <a:cubicBezTo>
                  <a:pt x="979266" y="1149596"/>
                  <a:pt x="983130" y="1147483"/>
                  <a:pt x="986118" y="1147483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592600" y="1488960"/>
            <a:ext cx="30052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Ho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Lit 140 x 190, H =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Draps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31859c"/>
                </a:solidFill>
                <a:latin typeface="Arial"/>
                <a:ea typeface="Tahoma"/>
              </a:rPr>
              <a:t>50 cham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Bouton d’action : Suivant 4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11T14:01:26Z</dcterms:modified>
  <cp:revision>25</cp:revision>
  <dc:subject/>
  <dc:title>Diapositive 1</dc:title>
</cp:coreProperties>
</file>