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E688-F420-4272-A30C-82D5400B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7358-9B87-4293-BEB6-D8DA7E03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8421-36A2-4CFF-BB9E-21D14D05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60C2-3857-4437-B43F-BF185950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79C3-B091-40C5-A131-FB458138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FA61-3F50-4929-9EA4-1338FF5F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095A-47C0-4BA6-A187-FDD8230B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DF52-F28A-4DD7-B42D-6963A7E4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5C2A-8B8A-4FEE-ABF5-DBE043E5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649F-EFA4-4B0C-BAB6-4D410E49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8D3-A901-444D-9EE9-AA7379C8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4992-9786-4628-A0D8-EBC23A77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4C0E-BB29-4C19-913F-E980242B3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4706" t="10636" r="14706" b="29320"/>
          <a:stretch/>
        </p:blipFill>
        <p:spPr>
          <a:xfrm>
            <a:off x="0" y="549360"/>
            <a:ext cx="9144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1:09:44Z</dcterms:created>
  <dc:creator>pboineau</dc:creator>
  <dc:description/>
  <dc:language>en-US</dc:language>
  <cp:lastModifiedBy>pboineau</cp:lastModifiedBy>
  <dcterms:modified xsi:type="dcterms:W3CDTF">2012-03-23T11:10:25Z</dcterms:modified>
  <cp:revision>1</cp:revision>
  <dc:subject/>
  <dc:title>Diapositive 1</dc:title>
</cp:coreProperties>
</file>