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8E8-B585-4D3F-8D65-4C9D4ECB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006-AA8C-4C51-9AB7-B42F4729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89D-16F2-4BE5-9736-1B33EF94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DBA-786D-4ECE-9A97-B1B03694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F9C-04BB-4FA6-87F0-18393D86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C11-4D1A-4033-B6C4-156B691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94E-117D-4297-981A-31973462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E44-100E-473A-A9CD-B7E95659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DE7-66CC-4AAB-9B4D-D2A1D540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076-518A-49B5-A703-30481E4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747-7669-4F69-BD22-C4A6D3A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643-6A5B-469A-9E04-1C41D0A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C1E2-520C-4B62-88AE-A193E657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3120" y="476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444"/>
                </a:solidFill>
                <a:latin typeface="Bradley Hand ITC"/>
              </a:rPr>
              <a:t>La PêcheL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echerie,pornic"/>
          <p:cNvPicPr/>
          <p:nvPr/>
        </p:nvPicPr>
        <p:blipFill>
          <a:blip r:embed="rId1"/>
          <a:stretch/>
        </p:blipFill>
        <p:spPr>
          <a:xfrm>
            <a:off x="684360" y="1773360"/>
            <a:ext cx="3166920" cy="226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852720" cy="249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3205080" cy="227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18921" t="29244" r="21605" b="30208"/>
          <a:stretch/>
        </p:blipFill>
        <p:spPr>
          <a:xfrm>
            <a:off x="4716360" y="4365720"/>
            <a:ext cx="3168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1:53:59Z</dcterms:created>
  <dc:creator>pboineau</dc:creator>
  <dc:description/>
  <dc:language>en-US</dc:language>
  <cp:lastModifiedBy>pboineau</cp:lastModifiedBy>
  <dcterms:modified xsi:type="dcterms:W3CDTF">2012-03-11T22:14:29Z</dcterms:modified>
  <cp:revision>3</cp:revision>
  <dc:subject/>
  <dc:title>Diapositive 1</dc:title>
</cp:coreProperties>
</file>